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5BC-DA04-4CE6-9A34-85562143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CEE-8079-478A-A671-C1912F05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4294-6895-4D40-B3E3-693509A6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52D5-3333-479D-8028-BA45B6CE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DFA6-A49B-4206-8D55-8CA53015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1CC0-6C03-425D-84F1-3C0F5581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08B-D8EA-4504-8258-B3BF2564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55E-B43B-4583-A04C-DC2E9D29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B721-4507-4741-8E31-F894A0D4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4BF-DBEB-4441-8B8F-8E80A187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43D2-6850-44E0-94A8-33A839AC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FC66-0347-404E-A59C-2B91487A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0216-FDBE-4B9C-8551-6EEB85DD38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2285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armacogenetics: General Consider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2600" y="388620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imal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lated Respo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TL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71480" y="60948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TERIALS VS QUESTIONS III:  INBRED STRA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148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ions of genetics, environment and (potentially) geneticXenvironment interaction to phen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edness among phenotypes b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enetic correla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i.e. using strain means) analy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71480" y="60948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OMBINANT INBRED STRA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148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ndation stock of two inbred stra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crossing of the two strains, F1, F2, F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breeding of new families from intercrosses for 20 gen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ant strains have all the allelic differences that existed in foundation stocks, now distributed among many stra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s power for genetic corre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93960" y="789120"/>
            <a:ext cx="243000" cy="113004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79880" y="789120"/>
            <a:ext cx="243000" cy="1130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94320" y="789120"/>
            <a:ext cx="243000" cy="1130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40720" y="1790640"/>
            <a:ext cx="6768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7040" y="2770200"/>
            <a:ext cx="243000" cy="1130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51480" y="2770200"/>
            <a:ext cx="242640" cy="11304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720" y="4152960"/>
            <a:ext cx="6768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65560" y="789120"/>
            <a:ext cx="242640" cy="113004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50880" y="5437080"/>
            <a:ext cx="243000" cy="3682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50880" y="5208480"/>
            <a:ext cx="243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50760" y="5818320"/>
            <a:ext cx="243000" cy="21564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50760" y="6046920"/>
            <a:ext cx="243000" cy="21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50760" y="5208480"/>
            <a:ext cx="243000" cy="3682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50760" y="5589720"/>
            <a:ext cx="243000" cy="21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50880" y="5818320"/>
            <a:ext cx="243000" cy="21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50880" y="6046920"/>
            <a:ext cx="243000" cy="21564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94080" y="5284800"/>
            <a:ext cx="2426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94080" y="5742000"/>
            <a:ext cx="242640" cy="633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94080" y="5208480"/>
            <a:ext cx="242640" cy="63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94080" y="5818320"/>
            <a:ext cx="242640" cy="21564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94080" y="6046920"/>
            <a:ext cx="242640" cy="21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94200" y="5208480"/>
            <a:ext cx="242640" cy="216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4200" y="5361120"/>
            <a:ext cx="242640" cy="21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4200" y="5589720"/>
            <a:ext cx="242640" cy="6336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94200" y="5665680"/>
            <a:ext cx="242640" cy="444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94200" y="6046920"/>
            <a:ext cx="242640" cy="21564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720" y="5208480"/>
            <a:ext cx="24300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22720" y="5742000"/>
            <a:ext cx="243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22720" y="5970600"/>
            <a:ext cx="243000" cy="6336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22720" y="6046920"/>
            <a:ext cx="243000" cy="21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37160" y="5208480"/>
            <a:ext cx="242640" cy="444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37160" y="5665680"/>
            <a:ext cx="242640" cy="216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37160" y="5894280"/>
            <a:ext cx="242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37160" y="6046920"/>
            <a:ext cx="242640" cy="21564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92560" y="46080"/>
            <a:ext cx="6112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08320" y="0"/>
            <a:ext cx="65556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22520" y="2971800"/>
            <a:ext cx="65556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2040" y="5410080"/>
            <a:ext cx="65556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83920" y="5257800"/>
            <a:ext cx="13777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79400" y="2216160"/>
            <a:ext cx="243000" cy="29196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3840" y="2063880"/>
            <a:ext cx="24300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9400" y="2521080"/>
            <a:ext cx="243000" cy="2919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36680" y="2063880"/>
            <a:ext cx="243000" cy="29196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9400" y="2825640"/>
            <a:ext cx="243000" cy="2923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3840" y="2216160"/>
            <a:ext cx="243000" cy="29196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3840" y="2521080"/>
            <a:ext cx="243000" cy="2919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3840" y="2825640"/>
            <a:ext cx="243000" cy="2923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79400" y="2063880"/>
            <a:ext cx="24300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36680" y="2978280"/>
            <a:ext cx="24300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36800" y="2978280"/>
            <a:ext cx="24300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6680" y="2673360"/>
            <a:ext cx="243000" cy="29196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36800" y="2673360"/>
            <a:ext cx="243000" cy="29196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36680" y="2368440"/>
            <a:ext cx="243000" cy="292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36800" y="2368440"/>
            <a:ext cx="243000" cy="292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36800" y="2063880"/>
            <a:ext cx="243000" cy="29196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65680" y="2978280"/>
            <a:ext cx="2426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51480" y="2978280"/>
            <a:ext cx="2426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65680" y="2825640"/>
            <a:ext cx="24264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65680" y="2673360"/>
            <a:ext cx="2426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65680" y="2521080"/>
            <a:ext cx="24264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65680" y="2368440"/>
            <a:ext cx="2426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65680" y="2216160"/>
            <a:ext cx="24264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65680" y="2063880"/>
            <a:ext cx="2426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1480" y="2825640"/>
            <a:ext cx="24264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51480" y="2673360"/>
            <a:ext cx="2426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51480" y="2521080"/>
            <a:ext cx="24264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51480" y="2368440"/>
            <a:ext cx="2426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51480" y="2216160"/>
            <a:ext cx="24264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51480" y="2063880"/>
            <a:ext cx="2426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90000" y="2112840"/>
            <a:ext cx="3214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8520" y="2112840"/>
            <a:ext cx="3214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18400" y="2112840"/>
            <a:ext cx="3214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94680" y="2978280"/>
            <a:ext cx="2426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94680" y="2673360"/>
            <a:ext cx="242640" cy="2919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94680" y="2368440"/>
            <a:ext cx="242640" cy="2923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94680" y="2139840"/>
            <a:ext cx="242640" cy="292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94680" y="1987560"/>
            <a:ext cx="2426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94800" y="2978280"/>
            <a:ext cx="2426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94800" y="2673360"/>
            <a:ext cx="242640" cy="2919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94800" y="2444760"/>
            <a:ext cx="242640" cy="29196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94800" y="2139840"/>
            <a:ext cx="242640" cy="292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94800" y="1987560"/>
            <a:ext cx="2426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240" y="3332160"/>
            <a:ext cx="90396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I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4200" y="3332160"/>
            <a:ext cx="90396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I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08880" y="3332160"/>
            <a:ext cx="90396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I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37880" y="3332160"/>
            <a:ext cx="90396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I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3960" y="609480"/>
            <a:ext cx="983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vantages of Recombinant Inbred Stra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3960" y="1981080"/>
            <a:ext cx="9836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it variability in one phenotype to discover relationships to other phenotypes, ideal for study of complex tra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, 2-allele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ification of identified QTLs in parental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ybrids OR verification by marker-assisted selective bree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typic data are strain means, i.e. cumul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828800" y="542880"/>
          <a:ext cx="5477040" cy="57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42880"/>
                    <a:ext cx="5477040" cy="57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013120" y="663480"/>
          <a:ext cx="4968720" cy="553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3120" y="663480"/>
                    <a:ext cx="4968720" cy="55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3960" y="2286000"/>
            <a:ext cx="983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tic Analysis of Cocaine-Related Behaviors and Neurochemistry in BXD/Ty Recombinant Inbred M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22280" y="3886200"/>
            <a:ext cx="8101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4800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this particular panel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3960" y="152280"/>
            <a:ext cx="983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caine Protoc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3960" y="1219320"/>
            <a:ext cx="9836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havioral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y 1 Saline Day 2 Cocaine 5,15,30,45 mg k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aviors measured for 15 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ance travel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sepokes (explor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reoty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gin time (thigmotax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rochemical measures, Densities of 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DA transporter, NAc, CS, VMB, FC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801880" y="122400"/>
          <a:ext cx="5929200" cy="658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1880" y="122400"/>
                    <a:ext cx="5929200" cy="65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71480" y="60948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ANIMAL MODEL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148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with other research areas, animals can help us approach basic research questions that are out of reach with human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over environmental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the use of genetically-defined animals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ntrol over biological make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649600" y="304920"/>
          <a:ext cx="5316480" cy="60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0" y="304920"/>
                    <a:ext cx="53164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117960" y="304920"/>
          <a:ext cx="416376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7960" y="304920"/>
                    <a:ext cx="4163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901960" y="1835280"/>
            <a:ext cx="1141560" cy="520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05480" y="1911240"/>
            <a:ext cx="1141560" cy="520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13600" y="1911240"/>
            <a:ext cx="1141560" cy="520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71840" y="24382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75360" y="24382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583480" y="24382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89360" y="814320"/>
            <a:ext cx="24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moso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03000" y="12589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16520" y="1300320"/>
            <a:ext cx="78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30400" y="129852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4296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rot="16200000">
            <a:off x="-322920" y="3380400"/>
            <a:ext cx="160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le,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03040" y="1900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8800" y="251136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76680" y="314172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76680" y="383868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32040" y="4505400"/>
            <a:ext cx="620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72640" y="5194440"/>
            <a:ext cx="64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93280" y="46972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96800" y="28306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90880" y="35416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59960" y="4714920"/>
            <a:ext cx="57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12560" y="4681440"/>
            <a:ext cx="8740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89000" y="5691240"/>
            <a:ext cx="11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apls2-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47200" y="2843280"/>
            <a:ext cx="69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43720" y="46080"/>
            <a:ext cx="5686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caine Co-localized QT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38800" y="3522600"/>
            <a:ext cx="965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r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17920" y="5691240"/>
            <a:ext cx="160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12Mit1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085680" y="3571920"/>
            <a:ext cx="985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7680" y="5675400"/>
            <a:ext cx="1640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15Ncvs2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45920" y="6121440"/>
            <a:ext cx="1878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k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16360" y="2827440"/>
            <a:ext cx="941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608280" y="387360"/>
            <a:ext cx="2643120" cy="21207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9280" y="4578480"/>
            <a:ext cx="2643120" cy="21207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37280" y="4349880"/>
            <a:ext cx="2643120" cy="21207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1096920"/>
            <a:ext cx="1931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OC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4440" y="5249880"/>
            <a:ext cx="2057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C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4983120"/>
            <a:ext cx="1929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BEHAV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773440" y="2857680"/>
            <a:ext cx="1654200" cy="175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851280" y="2832120"/>
            <a:ext cx="528480" cy="203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787120" y="4495680"/>
            <a:ext cx="59724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57760" y="5334120"/>
            <a:ext cx="257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7760" y="5334120"/>
            <a:ext cx="5140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6000480" y="5028840"/>
            <a:ext cx="51444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51600" y="2530440"/>
            <a:ext cx="1785960" cy="1644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86520" y="2536920"/>
            <a:ext cx="171360" cy="488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7745040" y="3614760"/>
            <a:ext cx="111240" cy="54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Study Pharmacogenetic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th 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ly Small Research Eff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ed to the Study of Inborn Errors of Metabol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igins of Pharmacogenetic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tradi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rmacokine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rmacodynam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armacokinetic Trad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of absorption, distribution, and disposal of dru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42  Keller made first description of a detoxification mechanism, i.e. biotransformation of a dr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zoic acid-------&gt;hippuric ac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02 Garrod described alkaptonuria, perhaps first example of inborn error of metabol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cursors to Pharmacogenetic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43  -- Sawin and Glick first demonstration that biotransformation of drug to be under genetic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47 -- landmark book by Sawin &amp; Glick, “Detoxification Mechanism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46 Takahara described three phenotypes of acatalasia under control of an autosomal recessive ge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Precursors to Pharmacokinetic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52  Hockwald showed 10% of African-Americans, fewer caucasians, develop haemolytic anemia when given primaquine or sulfanilam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53 Bonicke &amp; Reif -- described “fast and slow acetylator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ven More Precursors to Pharmacokinetic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56 Carson showed the primaquine sensitivity to be related to a deficiency in glucose-6-phosphate dehydrogenase, perhaps the most common hereditary enzyme deficiency in hum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71480" y="60948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EARCH QUES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148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he pharmacological phenotype influenced by gen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so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different phenotypes related and under common genetic influence? (correlated trai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role of the environment in behavioral neurogenetic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Pharmacokinetic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56 Prolonged apnea under anesthesia described by Kalow and found to be related to low levels of pseudocholinester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59  Friedrich Vogel introduced the term, “pharmacogenetics” into the literature.  Defined as “the study in animal species of genetically determined variations that are revealed by the effects of drug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st of the Pharmacokinetics 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60s biotransformation of drugs by hydroxylation shown to be under genetic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70s genetic polymorphic hydroxylation of sparteine and debrisoquine under control of same locus, also hydroxylation of (S)-mephenyto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st of Pharmacokinetics 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80s  genetic polymorphisms of cytochrome P450 -- enzymes responsible for oxidative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90s  development and rise of molecular gene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harmacodynamic Trad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beginn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cohol consumption studies in genetically defined anim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iams (1949) 2 groups of rats, 3 groups of m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ed (1951) six groups of ra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dones (1950) selective breeding of rats for ethanol consum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harmacodynamic Trad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of effects of drugs at their target t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59 McClearn and Rodgers described differences in alcohol consumption among inbred strains of m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60s-1970s  Demonstrations of drug sensitivity to respond to selective breeding, e.g., McClearn &amp; Kakihana’s Long Sleep and Short Sleep mice -- more than 400 research papers generated to d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armacodynamic Research Tod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inbred strains, selected lines and other genetically defined rats and m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focus is on drugs which are prone to frequent use and misuse by hum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coho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phencyclid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opi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phetami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nicot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ffei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benzodiazep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armacodynamics--Selecting the Right Phenotyp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of LS and 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on criterion of sleep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it pharmacodynamic or pharmacokinetics?   How can we te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lated responses can help i.e. blood ethanol concentration at regain of righ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Isolate Housing and EtOH Sensitiv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study was conducted to test the hypothesis that isolate housing in LS and SS mice would alter their sensitivity to the hypnotic effects of alcoh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, 2 groups each of LS and SS m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red in isolation from weaning to 60 d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red in unisex groups from wea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co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he LS mice, isolation reduced sleep time and increased blood ethanol concentration (20%) at wa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he SS mice, isolation reduced sleep time but had no effect on blood ethanol concen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he LS mice, isolation housing reduced the pharmodynamic sensitivity to ethanol -- i.e. they woke up at a higher BEC (therefore brain concentration).   Kinetics were not changed -- it just took less time to clear to wake-up concen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he SS mice, isolation caused increased alcohol clearance but no change in brain sensitivity-woke up faster but at same B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71480" y="60948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CONSIDER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71480" y="1600200"/>
            <a:ext cx="87440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P=G+E+(GxE)+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Most phenotypes of interest are influenced by several genes (polygen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Genetic influence can be direct or indirect or a combination of b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Environment can be internal or exter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GxE --easier described than studi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 Variances -- as informative as mea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caine and Locomotor Activ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57BL/6 mice vs. DBA/2 m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BA more highly activated (locomo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e reasons -- greater target tissue sensitivity or difference in pharmacokine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838080" y="838080"/>
          <a:ext cx="845820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84582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990720" y="430200"/>
            <a:ext cx="81532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71480" y="30492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INDS OF MATERI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7160" y="1219320"/>
            <a:ext cx="8744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Genetically heterogeneous stock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Selected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Inbred stra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-the-shelf str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binant inbred str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genic str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 Genetically altere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radi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ed” (transgenic, targeted delet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71480" y="60948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INDS OF MATERIALS I:  HETEROGENEOUS ST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148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bred stocks available from suppliers or from laboratory viva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d popu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nstituted HS st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71480" y="60948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TERIALS VS QUESTIONS I: HETEROGENOUS ST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148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range of variation (i.e. individual differences) in the phenotyp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what extent are different phenotypes rela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enotypic vs genetic corre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71480" y="30492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TERIALS II: SELECTED LI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1480" y="1295280"/>
            <a:ext cx="8744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we selecting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:  aggression, learning, drug respo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ortance of defining the phen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S/SS Mice -- what was the selected phenotyp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proce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 of sel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of selection (selection criter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on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ance of inbreeding, Tolman and Try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71480" y="60948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TERIALS III: INBRED STRA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148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ived by mating close relatives -- fastest route is by brother-sister ma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 is allelic fixation of all animals within sex within stra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the genotypes really fix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typic differences between strains is mostly genetic while differences within strains is environmen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31T12:24:42Z</dcterms:created>
  <dc:creator>Byron C. Jones</dc:creator>
  <dc:description/>
  <dc:language>en-US</dc:language>
  <cp:lastModifiedBy>bc jones</cp:lastModifiedBy>
  <cp:lastPrinted>2000-07-31T16:29:05Z</cp:lastPrinted>
  <dcterms:modified xsi:type="dcterms:W3CDTF">2003-07-27T17:07:33Z</dcterms:modified>
  <cp:revision>15</cp:revision>
  <dc:subject/>
  <dc:title>Animal Models I</dc:title>
</cp:coreProperties>
</file>