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0.png" ContentType="image/png"/>
  <Override PartName="/ppt/media/image9.png" ContentType="image/png"/>
  <Override PartName="/ppt/media/image8.png" ContentType="image/png"/>
  <Override PartName="/ppt/media/image16.wmf" ContentType="image/x-wmf"/>
  <Override PartName="/ppt/media/image7.png" ContentType="image/png"/>
  <Override PartName="/ppt/media/image11.png" ContentType="image/png"/>
  <Override PartName="/ppt/media/image21.jpeg" ContentType="image/jpe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782820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a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0080" y="1521000"/>
            <a:ext cx="670536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70080" y="3740760"/>
            <a:ext cx="670536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782820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a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0080" y="1521000"/>
            <a:ext cx="327204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6280" y="1521000"/>
            <a:ext cx="327204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0080" y="3740760"/>
            <a:ext cx="327204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6280" y="3740760"/>
            <a:ext cx="327204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782820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a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0080" y="1521000"/>
            <a:ext cx="215892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7360" y="1521000"/>
            <a:ext cx="215892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04640" y="1521000"/>
            <a:ext cx="215892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70080" y="3740760"/>
            <a:ext cx="215892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7360" y="3740760"/>
            <a:ext cx="215892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04640" y="3740760"/>
            <a:ext cx="215892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782820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a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70080" y="1521000"/>
            <a:ext cx="6705360" cy="42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782820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a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70080" y="1521000"/>
            <a:ext cx="670536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782820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a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0080" y="1521000"/>
            <a:ext cx="327204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6280" y="1521000"/>
            <a:ext cx="327204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782820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a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920" y="304560"/>
            <a:ext cx="7828200" cy="27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782820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a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0080" y="1521000"/>
            <a:ext cx="327204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6280" y="1521000"/>
            <a:ext cx="327204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70080" y="3740760"/>
            <a:ext cx="327204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782820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a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0080" y="1521000"/>
            <a:ext cx="327204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6280" y="1521000"/>
            <a:ext cx="327204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6280" y="3740760"/>
            <a:ext cx="327204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782820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a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0080" y="1521000"/>
            <a:ext cx="327204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6280" y="1521000"/>
            <a:ext cx="327204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70080" y="3740760"/>
            <a:ext cx="670536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89640"/>
            <a:ext cx="9144000" cy="468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782820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a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270080" y="1521000"/>
            <a:ext cx="670536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347760">
              <a:spcBef>
                <a:spcPts val="4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987480" indent="-293760">
              <a:spcBef>
                <a:spcPts val="4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281240" indent="-292320">
              <a:spcBef>
                <a:spcPts val="400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4" marL="1598760" indent="-316080">
              <a:spcBef>
                <a:spcPts val="400"/>
              </a:spcBef>
              <a:buClr>
                <a:srgbClr val="00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5" marL="1598760" indent="-31608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6" marL="1598760" indent="-31608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299440" y="76320"/>
            <a:ext cx="692280" cy="99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nlm.nih.gov/mesh/MBrowser.html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ncbi.nlm.nih.gov/entrez/" TargetMode="External"/><Relationship Id="rId2" Type="http://schemas.openxmlformats.org/officeDocument/2006/relationships/hyperlink" Target="http://array.ucsd.edu/hapi/" TargetMode="External"/><Relationship Id="rId3" Type="http://schemas.openxmlformats.org/officeDocument/2006/relationships/hyperlink" Target="http://arrowsmith.psych.uic.edu/" TargetMode="External"/><Relationship Id="rId4" Type="http://schemas.openxmlformats.org/officeDocument/2006/relationships/hyperlink" Target="http://www.esat.kuleuven.ac.be/txtgate/" TargetMode="External"/><Relationship Id="rId5" Type="http://schemas.openxmlformats.org/officeDocument/2006/relationships/hyperlink" Target="http://www.esat.kuleuven.ac.be/txtgate/" TargetMode="External"/><Relationship Id="rId6" Type="http://schemas.openxmlformats.org/officeDocument/2006/relationships/hyperlink" Target="http://www.esat.kuleuven.ac.be/txtgate/" TargetMode="External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genereg.ornl.gov/gotm/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array.ucsd.edu/hapi/" TargetMode="External"/><Relationship Id="rId2" Type="http://schemas.openxmlformats.org/officeDocument/2006/relationships/hyperlink" Target="http://array.ucsd.edu/hapi/" TargetMode="External"/><Relationship Id="rId3" Type="http://schemas.openxmlformats.org/officeDocument/2006/relationships/hyperlink" Target="http://array.ucsd.edu/hapi/" TargetMode="Externa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gif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wmf"/><Relationship Id="rId3" Type="http://schemas.openxmlformats.org/officeDocument/2006/relationships/image" Target="../media/image15.jpeg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eneontology.org/" TargetMode="External"/><Relationship Id="rId2" Type="http://schemas.openxmlformats.org/officeDocument/2006/relationships/hyperlink" Target="http://flybase.bio.indiana.edu/" TargetMode="External"/><Relationship Id="rId3" Type="http://schemas.openxmlformats.org/officeDocument/2006/relationships/hyperlink" Target="http://www.yeastgenome.org/" TargetMode="External"/><Relationship Id="rId4" Type="http://schemas.openxmlformats.org/officeDocument/2006/relationships/hyperlink" Target="http://www.yeastgenome.org/" TargetMode="External"/><Relationship Id="rId5" Type="http://schemas.openxmlformats.org/officeDocument/2006/relationships/hyperlink" Target="http://www.informatics.jax.org/" TargetMode="External"/><Relationship Id="rId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ncbi.nlm.nih.gov/entrez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ncbi.nlm.nih.gov/entrez/query.fcgi?db=PubMed" TargetMode="External"/><Relationship Id="rId2" Type="http://schemas.openxmlformats.org/officeDocument/2006/relationships/hyperlink" Target="http://www.ncbi.nlm.nih.gov/entrez/query.fcgi?CMD=Display&amp;DB=pubmed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nlm.nih.gov/mesh/meshhome.html" TargetMode="External"/><Relationship Id="rId2" Type="http://schemas.openxmlformats.org/officeDocument/2006/relationships/hyperlink" Target="http://www.nlm.nih.gov/mesh/meshhome.html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nlm.nih.gov/cgi/mesh/2004/MB_cgi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0520" y="-76320"/>
            <a:ext cx="77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a0000"/>
                </a:solidFill>
                <a:latin typeface="Arial"/>
              </a:rPr>
              <a:t>UM/UT Behavioral Neurogenetics Course </a:t>
            </a:r>
            <a:br>
              <a:rPr sz="2400"/>
            </a:br>
            <a:r>
              <a:rPr b="0" lang="en-US" sz="2400" spc="-1" strike="noStrike">
                <a:solidFill>
                  <a:srgbClr val="ba0000"/>
                </a:solidFill>
                <a:latin typeface="Arial"/>
              </a:rPr>
              <a:t>August 8-14, 2004</a:t>
            </a:r>
            <a:endParaRPr b="0" lang="en-US" sz="2400" spc="-1" strike="noStrike">
              <a:solidFill>
                <a:srgbClr val="ba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1581120"/>
            <a:ext cx="8839080" cy="34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Gene clustering and annotation us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GO classifications, MeSH terms and MEDLINE abstra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amin Homayouni, Ph.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epartment of Neur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niversity of Tennessee Health Science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505320" y="5334120"/>
            <a:ext cx="2133360" cy="912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057400" y="5334120"/>
            <a:ext cx="585720" cy="838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791320" y="5257800"/>
            <a:ext cx="1218960" cy="914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524280" y="573408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8000"/>
                </a:solidFill>
                <a:latin typeface="Times New Roman"/>
              </a:rPr>
              <a:t>Center </a:t>
            </a:r>
            <a:r>
              <a:rPr b="1" i="1" lang="en-US" sz="800" spc="-1" strike="noStrike">
                <a:solidFill>
                  <a:srgbClr val="008000"/>
                </a:solidFill>
                <a:latin typeface="Times New Roman"/>
              </a:rPr>
              <a:t>for</a:t>
            </a:r>
            <a:r>
              <a:rPr b="1" lang="en-US" sz="800" spc="-1" strike="noStrike">
                <a:solidFill>
                  <a:srgbClr val="008000"/>
                </a:solidFill>
                <a:latin typeface="Times New Roman"/>
              </a:rPr>
              <a:t> Neurobiolog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i="1" lang="en-US" sz="800" spc="-1" strike="noStrike">
                <a:solidFill>
                  <a:srgbClr val="008000"/>
                </a:solidFill>
                <a:latin typeface="Times New Roman"/>
              </a:rPr>
              <a:t>of</a:t>
            </a:r>
            <a:r>
              <a:rPr b="1" lang="en-US" sz="800" spc="-1" strike="noStrike">
                <a:solidFill>
                  <a:srgbClr val="008000"/>
                </a:solidFill>
                <a:latin typeface="Times New Roman"/>
              </a:rPr>
              <a:t> Brain Diseas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39840" y="262080"/>
            <a:ext cx="598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a0000"/>
                </a:solidFill>
                <a:latin typeface="Arial"/>
              </a:rPr>
              <a:t>MeSH Hierarch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97960" y="6095880"/>
            <a:ext cx="421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e9ce8"/>
                </a:solidFill>
                <a:latin typeface="Arial"/>
              </a:rPr>
              <a:t>From </a:t>
            </a:r>
            <a:r>
              <a:rPr b="0" lang="en-US" sz="14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www.nlm.nih.gov/mesh/MBrowser.html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rcRect l="0" t="19527" r="49286" b="23333"/>
          <a:stretch/>
        </p:blipFill>
        <p:spPr>
          <a:xfrm>
            <a:off x="1523880" y="1219320"/>
            <a:ext cx="54104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782820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a0000"/>
                </a:solidFill>
                <a:latin typeface="Arial"/>
              </a:rPr>
              <a:t>Useful Links</a:t>
            </a:r>
            <a:endParaRPr b="0" lang="en-US" sz="3200" spc="-1" strike="noStrike">
              <a:solidFill>
                <a:srgbClr val="ba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Databases: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347760">
              <a:spcBef>
                <a:spcPts val="4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GO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http://www.geneontology.org/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eSH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http://www.nlm.nih.gov/mesh/meshhome.html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347760">
              <a:spcBef>
                <a:spcPts val="4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EDLINE: </a:t>
            </a:r>
            <a:r>
              <a:rPr b="1" lang="en-US" sz="2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www.ncbi.nlm.nih.gov/entrez/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Programs: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347760">
              <a:spcBef>
                <a:spcPts val="349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GOTM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GO):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genereg.ornl.gov/gotm/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347760">
              <a:spcBef>
                <a:spcPts val="4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HAPI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MeSH):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http://array.ucsd.edu/hapi/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347760">
              <a:spcBef>
                <a:spcPts val="349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ubGene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MEDLINE):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ttp://www.pubgene.org/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347760">
              <a:spcBef>
                <a:spcPts val="349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hilibot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MEDLINE):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chilibot.net/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347760">
              <a:spcBef>
                <a:spcPts val="349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rrowsmith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MEDLINE):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7e9ce8"/>
                </a:solidFill>
                <a:uFillTx/>
                <a:latin typeface="Arial"/>
                <a:hlinkClick r:id="rId3"/>
              </a:rPr>
              <a:t>http://arrowsmith.psych.uic.edu/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347760">
              <a:spcBef>
                <a:spcPts val="349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ubMatrix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MEDLINE)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http://pubmatrix.grc.nia.nih.gov/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347760">
              <a:spcBef>
                <a:spcPts val="349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XTGate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MEDLINE):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7e9ce8"/>
                </a:solidFill>
                <a:uFillTx/>
                <a:latin typeface="Arial"/>
                <a:hlinkClick r:id="rId4"/>
              </a:rPr>
              <a:t>http://</a:t>
            </a:r>
            <a:r>
              <a:rPr b="1" lang="en-US" sz="2000" spc="-1" strike="noStrike" u="sng">
                <a:solidFill>
                  <a:srgbClr val="7e9ce8"/>
                </a:solidFill>
                <a:uFillTx/>
                <a:latin typeface="Arial"/>
                <a:hlinkClick r:id="rId5"/>
              </a:rPr>
              <a:t>www.esat.kuleuven.ac.be/txtgate</a:t>
            </a:r>
            <a:r>
              <a:rPr b="1" lang="en-US" sz="2000" spc="-1" strike="noStrike" u="sng">
                <a:solidFill>
                  <a:srgbClr val="7e9ce8"/>
                </a:solidFill>
                <a:uFillTx/>
                <a:latin typeface="Arial"/>
                <a:hlinkClick r:id="rId6"/>
              </a:rPr>
              <a:t>/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11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315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1981440" y="1523880"/>
            <a:ext cx="4940280" cy="4314960"/>
            <a:chOff x="1981440" y="1523880"/>
            <a:chExt cx="4940280" cy="4314960"/>
          </a:xfrm>
        </p:grpSpPr>
        <p:sp>
          <p:nvSpPr>
            <p:cNvPr id="77" name="_s91144"/>
            <p:cNvSpPr/>
            <p:nvPr/>
          </p:nvSpPr>
          <p:spPr>
            <a:xfrm>
              <a:off x="3268800" y="2020680"/>
              <a:ext cx="2340000" cy="2398680"/>
            </a:xfrm>
            <a:prstGeom prst="ellipse">
              <a:avLst/>
            </a:prstGeom>
            <a:noFill/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91145"/>
            <p:cNvSpPr/>
            <p:nvPr/>
          </p:nvSpPr>
          <p:spPr>
            <a:xfrm>
              <a:off x="3733920" y="1523880"/>
              <a:ext cx="1359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91146"/>
            <p:cNvSpPr/>
            <p:nvPr/>
          </p:nvSpPr>
          <p:spPr>
            <a:xfrm>
              <a:off x="3984840" y="3124080"/>
              <a:ext cx="2340000" cy="2398680"/>
            </a:xfrm>
            <a:prstGeom prst="ellipse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91147"/>
            <p:cNvSpPr/>
            <p:nvPr/>
          </p:nvSpPr>
          <p:spPr>
            <a:xfrm>
              <a:off x="5562720" y="5410080"/>
              <a:ext cx="1359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nc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91148"/>
            <p:cNvSpPr/>
            <p:nvPr/>
          </p:nvSpPr>
          <p:spPr>
            <a:xfrm>
              <a:off x="2460600" y="3124080"/>
              <a:ext cx="2340000" cy="2398680"/>
            </a:xfrm>
            <a:prstGeom prst="ellipse">
              <a:avLst/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91149"/>
            <p:cNvSpPr/>
            <p:nvPr/>
          </p:nvSpPr>
          <p:spPr>
            <a:xfrm>
              <a:off x="1981440" y="5410080"/>
              <a:ext cx="13586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lzheim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336280" y="45100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958120" y="45100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262760" y="23619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4802760" y="32004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83440" y="3200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78282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a0000"/>
                </a:solidFill>
                <a:latin typeface="Arial"/>
              </a:rPr>
              <a:t>50 Gene Test Set</a:t>
            </a:r>
            <a:br>
              <a:rPr sz="3600"/>
            </a:br>
            <a:r>
              <a:rPr b="0" lang="en-US" sz="2800" spc="-1" strike="noStrike">
                <a:solidFill>
                  <a:srgbClr val="ba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ba0000"/>
                </a:solidFill>
                <a:latin typeface="Arial"/>
              </a:rPr>
              <a:t>Development, Alzheimer’s, &amp; Cancer</a:t>
            </a:r>
            <a:endParaRPr b="0" lang="en-US" sz="2400" spc="-1" strike="noStrike">
              <a:solidFill>
                <a:srgbClr val="ba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2280" y="0"/>
            <a:ext cx="8602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a0000"/>
                </a:solidFill>
                <a:latin typeface="Arial"/>
              </a:rPr>
              <a:t>Reelin Signaling Path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90920" y="3657600"/>
            <a:ext cx="1455480" cy="576360"/>
          </a:xfrm>
          <a:prstGeom prst="ellipse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45"/>
                </a:solidFill>
                <a:latin typeface="Arial"/>
              </a:rPr>
              <a:t>Da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20308800">
            <a:off x="2627280" y="2108160"/>
            <a:ext cx="317520" cy="300240"/>
          </a:xfrm>
          <a:custGeom>
            <a:avLst/>
            <a:gdLst/>
            <a:ahLst/>
            <a:rect l="l" t="t" r="r" b="b"/>
            <a:pathLst>
              <a:path w="220" h="200">
                <a:moveTo>
                  <a:pt x="0" y="172"/>
                </a:moveTo>
                <a:cubicBezTo>
                  <a:pt x="7" y="168"/>
                  <a:pt x="13" y="162"/>
                  <a:pt x="22" y="162"/>
                </a:cubicBezTo>
                <a:cubicBezTo>
                  <a:pt x="48" y="162"/>
                  <a:pt x="74" y="177"/>
                  <a:pt x="100" y="184"/>
                </a:cubicBezTo>
                <a:cubicBezTo>
                  <a:pt x="109" y="190"/>
                  <a:pt x="119" y="192"/>
                  <a:pt x="130" y="196"/>
                </a:cubicBezTo>
                <a:cubicBezTo>
                  <a:pt x="134" y="197"/>
                  <a:pt x="142" y="200"/>
                  <a:pt x="142" y="200"/>
                </a:cubicBezTo>
                <a:cubicBezTo>
                  <a:pt x="153" y="196"/>
                  <a:pt x="153" y="194"/>
                  <a:pt x="158" y="182"/>
                </a:cubicBezTo>
                <a:cubicBezTo>
                  <a:pt x="159" y="178"/>
                  <a:pt x="162" y="170"/>
                  <a:pt x="162" y="170"/>
                </a:cubicBezTo>
                <a:cubicBezTo>
                  <a:pt x="158" y="160"/>
                  <a:pt x="145" y="157"/>
                  <a:pt x="136" y="154"/>
                </a:cubicBezTo>
                <a:cubicBezTo>
                  <a:pt x="113" y="146"/>
                  <a:pt x="91" y="133"/>
                  <a:pt x="68" y="128"/>
                </a:cubicBezTo>
                <a:cubicBezTo>
                  <a:pt x="61" y="126"/>
                  <a:pt x="54" y="125"/>
                  <a:pt x="48" y="124"/>
                </a:cubicBezTo>
                <a:cubicBezTo>
                  <a:pt x="42" y="122"/>
                  <a:pt x="32" y="120"/>
                  <a:pt x="32" y="120"/>
                </a:cubicBezTo>
                <a:cubicBezTo>
                  <a:pt x="24" y="114"/>
                  <a:pt x="19" y="102"/>
                  <a:pt x="28" y="94"/>
                </a:cubicBezTo>
                <a:cubicBezTo>
                  <a:pt x="34" y="87"/>
                  <a:pt x="52" y="82"/>
                  <a:pt x="52" y="82"/>
                </a:cubicBezTo>
                <a:cubicBezTo>
                  <a:pt x="76" y="88"/>
                  <a:pt x="99" y="93"/>
                  <a:pt x="124" y="102"/>
                </a:cubicBezTo>
                <a:cubicBezTo>
                  <a:pt x="133" y="105"/>
                  <a:pt x="142" y="106"/>
                  <a:pt x="152" y="110"/>
                </a:cubicBezTo>
                <a:cubicBezTo>
                  <a:pt x="156" y="111"/>
                  <a:pt x="164" y="114"/>
                  <a:pt x="164" y="114"/>
                </a:cubicBezTo>
                <a:cubicBezTo>
                  <a:pt x="172" y="113"/>
                  <a:pt x="180" y="115"/>
                  <a:pt x="188" y="112"/>
                </a:cubicBezTo>
                <a:cubicBezTo>
                  <a:pt x="195" y="108"/>
                  <a:pt x="172" y="84"/>
                  <a:pt x="168" y="82"/>
                </a:cubicBezTo>
                <a:cubicBezTo>
                  <a:pt x="144" y="46"/>
                  <a:pt x="95" y="58"/>
                  <a:pt x="64" y="38"/>
                </a:cubicBezTo>
                <a:cubicBezTo>
                  <a:pt x="57" y="19"/>
                  <a:pt x="76" y="16"/>
                  <a:pt x="90" y="12"/>
                </a:cubicBezTo>
                <a:cubicBezTo>
                  <a:pt x="113" y="15"/>
                  <a:pt x="137" y="20"/>
                  <a:pt x="160" y="28"/>
                </a:cubicBezTo>
                <a:cubicBezTo>
                  <a:pt x="166" y="30"/>
                  <a:pt x="172" y="32"/>
                  <a:pt x="178" y="34"/>
                </a:cubicBezTo>
                <a:cubicBezTo>
                  <a:pt x="182" y="35"/>
                  <a:pt x="190" y="38"/>
                  <a:pt x="190" y="38"/>
                </a:cubicBezTo>
                <a:cubicBezTo>
                  <a:pt x="196" y="37"/>
                  <a:pt x="202" y="38"/>
                  <a:pt x="208" y="36"/>
                </a:cubicBezTo>
                <a:cubicBezTo>
                  <a:pt x="220" y="31"/>
                  <a:pt x="198" y="11"/>
                  <a:pt x="194" y="10"/>
                </a:cubicBezTo>
                <a:cubicBezTo>
                  <a:pt x="178" y="4"/>
                  <a:pt x="166" y="0"/>
                  <a:pt x="150" y="0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 rot="1291200">
            <a:off x="2755800" y="3179880"/>
            <a:ext cx="198360" cy="228600"/>
          </a:xfrm>
          <a:custGeom>
            <a:avLst/>
            <a:gdLst/>
            <a:ahLst/>
            <a:rect l="l" t="t" r="r" b="b"/>
            <a:pathLst>
              <a:path w="137" h="152">
                <a:moveTo>
                  <a:pt x="113" y="152"/>
                </a:moveTo>
                <a:cubicBezTo>
                  <a:pt x="95" y="116"/>
                  <a:pt x="85" y="108"/>
                  <a:pt x="49" y="96"/>
                </a:cubicBezTo>
                <a:cubicBezTo>
                  <a:pt x="13" y="119"/>
                  <a:pt x="0" y="125"/>
                  <a:pt x="41" y="152"/>
                </a:cubicBezTo>
                <a:cubicBezTo>
                  <a:pt x="91" y="135"/>
                  <a:pt x="70" y="98"/>
                  <a:pt x="65" y="48"/>
                </a:cubicBezTo>
                <a:cubicBezTo>
                  <a:pt x="79" y="5"/>
                  <a:pt x="61" y="32"/>
                  <a:pt x="97" y="32"/>
                </a:cubicBezTo>
                <a:cubicBezTo>
                  <a:pt x="107" y="32"/>
                  <a:pt x="118" y="26"/>
                  <a:pt x="129" y="24"/>
                </a:cubicBezTo>
                <a:cubicBezTo>
                  <a:pt x="131" y="16"/>
                  <a:pt x="137" y="0"/>
                  <a:pt x="137" y="0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20308800">
            <a:off x="2754000" y="2455560"/>
            <a:ext cx="92160" cy="8424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20308800">
            <a:off x="2685960" y="2406600"/>
            <a:ext cx="55800" cy="87480"/>
          </a:xfrm>
          <a:custGeom>
            <a:avLst/>
            <a:gdLst/>
            <a:ahLst/>
            <a:rect l="l" t="t" r="r" b="b"/>
            <a:pathLst>
              <a:path w="38" h="58">
                <a:moveTo>
                  <a:pt x="38" y="58"/>
                </a:moveTo>
                <a:cubicBezTo>
                  <a:pt x="30" y="50"/>
                  <a:pt x="21" y="44"/>
                  <a:pt x="12" y="38"/>
                </a:cubicBezTo>
                <a:cubicBezTo>
                  <a:pt x="9" y="34"/>
                  <a:pt x="5" y="30"/>
                  <a:pt x="4" y="26"/>
                </a:cubicBezTo>
                <a:cubicBezTo>
                  <a:pt x="2" y="22"/>
                  <a:pt x="0" y="14"/>
                  <a:pt x="0" y="14"/>
                </a:cubicBezTo>
                <a:cubicBezTo>
                  <a:pt x="4" y="1"/>
                  <a:pt x="1" y="4"/>
                  <a:pt x="6" y="0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0308800">
            <a:off x="2720520" y="2020680"/>
            <a:ext cx="92160" cy="8388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0308800">
            <a:off x="2784600" y="1930320"/>
            <a:ext cx="91800" cy="8424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2809800" y="1437480"/>
            <a:ext cx="2880" cy="4834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20308800">
            <a:off x="2746440" y="1855800"/>
            <a:ext cx="66600" cy="698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20308800">
            <a:off x="2812680" y="1800360"/>
            <a:ext cx="68400" cy="698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20308800">
            <a:off x="2742840" y="1728720"/>
            <a:ext cx="68400" cy="716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20308800">
            <a:off x="2812680" y="1668600"/>
            <a:ext cx="68400" cy="698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20308800">
            <a:off x="2741400" y="1601280"/>
            <a:ext cx="68040" cy="716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20308800">
            <a:off x="2819160" y="1541520"/>
            <a:ext cx="66600" cy="712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20308800">
            <a:off x="2741400" y="1476000"/>
            <a:ext cx="68040" cy="698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20308800">
            <a:off x="2819160" y="1422000"/>
            <a:ext cx="68040" cy="698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806400" y="1493640"/>
            <a:ext cx="1725840" cy="181800"/>
            <a:chOff x="806400" y="1493640"/>
            <a:chExt cx="1725840" cy="181800"/>
          </a:xfrm>
        </p:grpSpPr>
        <p:sp>
          <p:nvSpPr>
            <p:cNvPr id="107" name=""/>
            <p:cNvSpPr/>
            <p:nvPr/>
          </p:nvSpPr>
          <p:spPr>
            <a:xfrm>
              <a:off x="2512440" y="1593720"/>
              <a:ext cx="19800" cy="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94960" y="1585080"/>
              <a:ext cx="406080" cy="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1320840" y="1493640"/>
              <a:ext cx="123840" cy="181800"/>
              <a:chOff x="1320840" y="1493640"/>
              <a:chExt cx="123840" cy="181800"/>
            </a:xfrm>
          </p:grpSpPr>
          <p:sp>
            <p:nvSpPr>
              <p:cNvPr id="110" name=""/>
              <p:cNvSpPr/>
              <p:nvPr/>
            </p:nvSpPr>
            <p:spPr>
              <a:xfrm>
                <a:off x="1320840" y="1556280"/>
                <a:ext cx="43200" cy="79200"/>
              </a:xfrm>
              <a:prstGeom prst="ellipse">
                <a:avLst/>
              </a:prstGeom>
              <a:solidFill>
                <a:srgbClr val="993366"/>
              </a:solidFill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401480" y="1556280"/>
                <a:ext cx="43200" cy="79200"/>
              </a:xfrm>
              <a:prstGeom prst="ellipse">
                <a:avLst/>
              </a:prstGeom>
              <a:solidFill>
                <a:srgbClr val="993366"/>
              </a:solidFill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1382760" y="1493640"/>
                <a:ext cx="0" cy="18180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1458720" y="1493640"/>
              <a:ext cx="124200" cy="181800"/>
              <a:chOff x="1458720" y="1493640"/>
              <a:chExt cx="124200" cy="181800"/>
            </a:xfrm>
          </p:grpSpPr>
          <p:sp>
            <p:nvSpPr>
              <p:cNvPr id="114" name=""/>
              <p:cNvSpPr/>
              <p:nvPr/>
            </p:nvSpPr>
            <p:spPr>
              <a:xfrm>
                <a:off x="1458720" y="1556280"/>
                <a:ext cx="43560" cy="79200"/>
              </a:xfrm>
              <a:prstGeom prst="ellipse">
                <a:avLst/>
              </a:prstGeom>
              <a:solidFill>
                <a:srgbClr val="993366"/>
              </a:solidFill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539360" y="1556280"/>
                <a:ext cx="43560" cy="79200"/>
              </a:xfrm>
              <a:prstGeom prst="ellipse">
                <a:avLst/>
              </a:prstGeom>
              <a:solidFill>
                <a:srgbClr val="993366"/>
              </a:solidFill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1521000" y="1493640"/>
                <a:ext cx="0" cy="18180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1612800" y="1493640"/>
              <a:ext cx="122760" cy="181800"/>
              <a:chOff x="1612800" y="1493640"/>
              <a:chExt cx="122760" cy="181800"/>
            </a:xfrm>
          </p:grpSpPr>
          <p:sp>
            <p:nvSpPr>
              <p:cNvPr id="118" name=""/>
              <p:cNvSpPr/>
              <p:nvPr/>
            </p:nvSpPr>
            <p:spPr>
              <a:xfrm>
                <a:off x="1612800" y="1556280"/>
                <a:ext cx="42120" cy="79200"/>
              </a:xfrm>
              <a:prstGeom prst="ellipse">
                <a:avLst/>
              </a:prstGeom>
              <a:solidFill>
                <a:srgbClr val="993366"/>
              </a:solidFill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693440" y="1556280"/>
                <a:ext cx="42120" cy="79200"/>
              </a:xfrm>
              <a:prstGeom prst="ellipse">
                <a:avLst/>
              </a:prstGeom>
              <a:solidFill>
                <a:srgbClr val="993366"/>
              </a:solidFill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V="1">
                <a:off x="1674720" y="1493640"/>
                <a:ext cx="0" cy="18180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1757160" y="1493640"/>
              <a:ext cx="124200" cy="181800"/>
              <a:chOff x="1757160" y="1493640"/>
              <a:chExt cx="124200" cy="181800"/>
            </a:xfrm>
          </p:grpSpPr>
          <p:sp>
            <p:nvSpPr>
              <p:cNvPr id="122" name=""/>
              <p:cNvSpPr/>
              <p:nvPr/>
            </p:nvSpPr>
            <p:spPr>
              <a:xfrm>
                <a:off x="1757160" y="1556280"/>
                <a:ext cx="43560" cy="79200"/>
              </a:xfrm>
              <a:prstGeom prst="ellipse">
                <a:avLst/>
              </a:prstGeom>
              <a:solidFill>
                <a:srgbClr val="993366"/>
              </a:solidFill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839240" y="1556280"/>
                <a:ext cx="42120" cy="79200"/>
              </a:xfrm>
              <a:prstGeom prst="ellipse">
                <a:avLst/>
              </a:prstGeom>
              <a:solidFill>
                <a:srgbClr val="993366"/>
              </a:solidFill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>
                <a:off x="1819440" y="1493640"/>
                <a:ext cx="0" cy="18180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1903320" y="1493640"/>
              <a:ext cx="123840" cy="181800"/>
              <a:chOff x="1903320" y="1493640"/>
              <a:chExt cx="123840" cy="181800"/>
            </a:xfrm>
          </p:grpSpPr>
          <p:sp>
            <p:nvSpPr>
              <p:cNvPr id="126" name=""/>
              <p:cNvSpPr/>
              <p:nvPr/>
            </p:nvSpPr>
            <p:spPr>
              <a:xfrm>
                <a:off x="1903320" y="1556280"/>
                <a:ext cx="43200" cy="79200"/>
              </a:xfrm>
              <a:prstGeom prst="ellipse">
                <a:avLst/>
              </a:prstGeom>
              <a:solidFill>
                <a:srgbClr val="993366"/>
              </a:solidFill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983960" y="1556280"/>
                <a:ext cx="43200" cy="79200"/>
              </a:xfrm>
              <a:prstGeom prst="ellipse">
                <a:avLst/>
              </a:prstGeom>
              <a:solidFill>
                <a:srgbClr val="993366"/>
              </a:solidFill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>
                <a:off x="1965240" y="1493640"/>
                <a:ext cx="0" cy="18180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2057040" y="1493640"/>
              <a:ext cx="122760" cy="181800"/>
              <a:chOff x="2057040" y="1493640"/>
              <a:chExt cx="122760" cy="181800"/>
            </a:xfrm>
          </p:grpSpPr>
          <p:sp>
            <p:nvSpPr>
              <p:cNvPr id="130" name=""/>
              <p:cNvSpPr/>
              <p:nvPr/>
            </p:nvSpPr>
            <p:spPr>
              <a:xfrm>
                <a:off x="2057040" y="1556280"/>
                <a:ext cx="42120" cy="79200"/>
              </a:xfrm>
              <a:prstGeom prst="ellipse">
                <a:avLst/>
              </a:prstGeom>
              <a:solidFill>
                <a:srgbClr val="993366"/>
              </a:solidFill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137680" y="1556280"/>
                <a:ext cx="42120" cy="79200"/>
              </a:xfrm>
              <a:prstGeom prst="ellipse">
                <a:avLst/>
              </a:prstGeom>
              <a:solidFill>
                <a:srgbClr val="993366"/>
              </a:solidFill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>
                <a:off x="2117880" y="1493640"/>
                <a:ext cx="0" cy="18180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2209680" y="1493640"/>
              <a:ext cx="124200" cy="181800"/>
              <a:chOff x="2209680" y="1493640"/>
              <a:chExt cx="124200" cy="181800"/>
            </a:xfrm>
          </p:grpSpPr>
          <p:sp>
            <p:nvSpPr>
              <p:cNvPr id="134" name=""/>
              <p:cNvSpPr/>
              <p:nvPr/>
            </p:nvSpPr>
            <p:spPr>
              <a:xfrm>
                <a:off x="2209680" y="1556280"/>
                <a:ext cx="43560" cy="79200"/>
              </a:xfrm>
              <a:prstGeom prst="ellipse">
                <a:avLst/>
              </a:prstGeom>
              <a:solidFill>
                <a:srgbClr val="993366"/>
              </a:solidFill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290320" y="1556280"/>
                <a:ext cx="43560" cy="79200"/>
              </a:xfrm>
              <a:prstGeom prst="ellipse">
                <a:avLst/>
              </a:prstGeom>
              <a:solidFill>
                <a:srgbClr val="993366"/>
              </a:solidFill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V="1">
                <a:off x="2271960" y="1493640"/>
                <a:ext cx="0" cy="18180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2363760" y="1493640"/>
              <a:ext cx="122760" cy="181800"/>
              <a:chOff x="2363760" y="1493640"/>
              <a:chExt cx="122760" cy="181800"/>
            </a:xfrm>
          </p:grpSpPr>
          <p:sp>
            <p:nvSpPr>
              <p:cNvPr id="138" name=""/>
              <p:cNvSpPr/>
              <p:nvPr/>
            </p:nvSpPr>
            <p:spPr>
              <a:xfrm>
                <a:off x="2363760" y="1556280"/>
                <a:ext cx="42120" cy="79200"/>
              </a:xfrm>
              <a:prstGeom prst="ellipse">
                <a:avLst/>
              </a:prstGeom>
              <a:solidFill>
                <a:srgbClr val="993366"/>
              </a:solidFill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444400" y="1556280"/>
                <a:ext cx="42120" cy="79200"/>
              </a:xfrm>
              <a:prstGeom prst="ellipse">
                <a:avLst/>
              </a:prstGeom>
              <a:solidFill>
                <a:srgbClr val="993366"/>
              </a:solidFill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V="1">
                <a:off x="2424600" y="1493640"/>
                <a:ext cx="0" cy="18180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806400" y="1547280"/>
              <a:ext cx="127080" cy="727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3420000" y="17002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78000" y="1749600"/>
            <a:ext cx="358920" cy="384120"/>
          </a:xfrm>
          <a:prstGeom prst="sun">
            <a:avLst>
              <a:gd name="adj" fmla="val 25000"/>
            </a:avLst>
          </a:prstGeom>
          <a:solidFill>
            <a:srgbClr val="ff9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79360" y="119232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e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78680" y="220968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DL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oER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20308800">
            <a:off x="4989600" y="2527200"/>
            <a:ext cx="317520" cy="300240"/>
          </a:xfrm>
          <a:custGeom>
            <a:avLst/>
            <a:gdLst/>
            <a:ahLst/>
            <a:rect l="l" t="t" r="r" b="b"/>
            <a:pathLst>
              <a:path w="220" h="200">
                <a:moveTo>
                  <a:pt x="0" y="172"/>
                </a:moveTo>
                <a:cubicBezTo>
                  <a:pt x="7" y="168"/>
                  <a:pt x="13" y="162"/>
                  <a:pt x="22" y="162"/>
                </a:cubicBezTo>
                <a:cubicBezTo>
                  <a:pt x="48" y="162"/>
                  <a:pt x="74" y="177"/>
                  <a:pt x="100" y="184"/>
                </a:cubicBezTo>
                <a:cubicBezTo>
                  <a:pt x="109" y="190"/>
                  <a:pt x="119" y="192"/>
                  <a:pt x="130" y="196"/>
                </a:cubicBezTo>
                <a:cubicBezTo>
                  <a:pt x="134" y="197"/>
                  <a:pt x="142" y="200"/>
                  <a:pt x="142" y="200"/>
                </a:cubicBezTo>
                <a:cubicBezTo>
                  <a:pt x="153" y="196"/>
                  <a:pt x="153" y="194"/>
                  <a:pt x="158" y="182"/>
                </a:cubicBezTo>
                <a:cubicBezTo>
                  <a:pt x="159" y="178"/>
                  <a:pt x="162" y="170"/>
                  <a:pt x="162" y="170"/>
                </a:cubicBezTo>
                <a:cubicBezTo>
                  <a:pt x="158" y="160"/>
                  <a:pt x="145" y="157"/>
                  <a:pt x="136" y="154"/>
                </a:cubicBezTo>
                <a:cubicBezTo>
                  <a:pt x="113" y="146"/>
                  <a:pt x="91" y="133"/>
                  <a:pt x="68" y="128"/>
                </a:cubicBezTo>
                <a:cubicBezTo>
                  <a:pt x="61" y="126"/>
                  <a:pt x="54" y="125"/>
                  <a:pt x="48" y="124"/>
                </a:cubicBezTo>
                <a:cubicBezTo>
                  <a:pt x="42" y="122"/>
                  <a:pt x="32" y="120"/>
                  <a:pt x="32" y="120"/>
                </a:cubicBezTo>
                <a:cubicBezTo>
                  <a:pt x="24" y="114"/>
                  <a:pt x="19" y="102"/>
                  <a:pt x="28" y="94"/>
                </a:cubicBezTo>
                <a:cubicBezTo>
                  <a:pt x="34" y="87"/>
                  <a:pt x="52" y="82"/>
                  <a:pt x="52" y="82"/>
                </a:cubicBezTo>
                <a:cubicBezTo>
                  <a:pt x="76" y="88"/>
                  <a:pt x="99" y="93"/>
                  <a:pt x="124" y="102"/>
                </a:cubicBezTo>
                <a:cubicBezTo>
                  <a:pt x="133" y="105"/>
                  <a:pt x="142" y="106"/>
                  <a:pt x="152" y="110"/>
                </a:cubicBezTo>
                <a:cubicBezTo>
                  <a:pt x="156" y="111"/>
                  <a:pt x="164" y="114"/>
                  <a:pt x="164" y="114"/>
                </a:cubicBezTo>
                <a:cubicBezTo>
                  <a:pt x="172" y="113"/>
                  <a:pt x="180" y="115"/>
                  <a:pt x="188" y="112"/>
                </a:cubicBezTo>
                <a:cubicBezTo>
                  <a:pt x="195" y="108"/>
                  <a:pt x="172" y="84"/>
                  <a:pt x="168" y="82"/>
                </a:cubicBezTo>
                <a:cubicBezTo>
                  <a:pt x="144" y="46"/>
                  <a:pt x="95" y="58"/>
                  <a:pt x="64" y="38"/>
                </a:cubicBezTo>
                <a:cubicBezTo>
                  <a:pt x="57" y="19"/>
                  <a:pt x="76" y="16"/>
                  <a:pt x="90" y="12"/>
                </a:cubicBezTo>
                <a:cubicBezTo>
                  <a:pt x="113" y="15"/>
                  <a:pt x="137" y="20"/>
                  <a:pt x="160" y="28"/>
                </a:cubicBezTo>
                <a:cubicBezTo>
                  <a:pt x="166" y="30"/>
                  <a:pt x="172" y="32"/>
                  <a:pt x="178" y="34"/>
                </a:cubicBezTo>
                <a:cubicBezTo>
                  <a:pt x="182" y="35"/>
                  <a:pt x="190" y="38"/>
                  <a:pt x="190" y="38"/>
                </a:cubicBezTo>
                <a:cubicBezTo>
                  <a:pt x="196" y="37"/>
                  <a:pt x="202" y="38"/>
                  <a:pt x="208" y="36"/>
                </a:cubicBezTo>
                <a:cubicBezTo>
                  <a:pt x="220" y="31"/>
                  <a:pt x="198" y="11"/>
                  <a:pt x="194" y="10"/>
                </a:cubicBezTo>
                <a:cubicBezTo>
                  <a:pt x="178" y="4"/>
                  <a:pt x="166" y="0"/>
                  <a:pt x="150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103720" y="1427040"/>
            <a:ext cx="184320" cy="1081080"/>
          </a:xfrm>
          <a:prstGeom prst="rect">
            <a:avLst/>
          </a:prstGeom>
          <a:solidFill>
            <a:srgbClr val="ff33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61120" y="12574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48280" y="3397320"/>
            <a:ext cx="1033200" cy="431640"/>
          </a:xfrm>
          <a:custGeom>
            <a:avLst/>
            <a:gdLst/>
            <a:ahLst/>
            <a:rect l="l" t="t" r="r" b="b"/>
            <a:pathLst>
              <a:path w="688" h="288">
                <a:moveTo>
                  <a:pt x="0" y="288"/>
                </a:moveTo>
                <a:cubicBezTo>
                  <a:pt x="232" y="288"/>
                  <a:pt x="464" y="288"/>
                  <a:pt x="576" y="240"/>
                </a:cubicBezTo>
                <a:cubicBezTo>
                  <a:pt x="688" y="192"/>
                  <a:pt x="656" y="40"/>
                  <a:pt x="672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2089800">
            <a:off x="4711680" y="4943520"/>
            <a:ext cx="466920" cy="482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307" y="3052"/>
                  <a:pt x="17014" y="5080"/>
                  <a:pt x="17014" y="10800"/>
                </a:cubicBezTo>
                <a:cubicBezTo>
                  <a:pt x="17014" y="16520"/>
                  <a:pt x="19307" y="18548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66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911840" y="5092560"/>
            <a:ext cx="801720" cy="576360"/>
          </a:xfrm>
          <a:prstGeom prst="ellipse">
            <a:avLst/>
          </a:prstGeom>
          <a:solidFill>
            <a:srgbClr val="9933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50120" y="493704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3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955040" y="51814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k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168800" y="4151160"/>
            <a:ext cx="579240" cy="7066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872320" y="5365800"/>
            <a:ext cx="896760" cy="9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983280" y="1427040"/>
            <a:ext cx="1363680" cy="1000080"/>
          </a:xfrm>
          <a:custGeom>
            <a:avLst/>
            <a:gdLst>
              <a:gd name="textAreaLeft" fmla="*/ 311040 w 1363680"/>
              <a:gd name="textAreaRight" fmla="*/ 1052640 w 1363680"/>
              <a:gd name="textAreaTop" fmla="*/ 228240 h 1000080"/>
              <a:gd name="textAreaBottom" fmla="*/ 771840 h 1000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a8a8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119720" y="1595520"/>
            <a:ext cx="10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yl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969240" y="4956120"/>
            <a:ext cx="1100160" cy="817560"/>
          </a:xfrm>
          <a:custGeom>
            <a:avLst/>
            <a:gdLst>
              <a:gd name="textAreaLeft" fmla="*/ 250920 w 1100160"/>
              <a:gd name="textAreaRight" fmla="*/ 849240 w 1100160"/>
              <a:gd name="textAreaTop" fmla="*/ 186480 h 817560"/>
              <a:gd name="textAreaBottom" fmla="*/ 631080 h 817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a8a8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164000" y="517680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668920" y="2004480"/>
            <a:ext cx="1046160" cy="3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602080" y="3703680"/>
            <a:ext cx="420480" cy="48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937" y="1843"/>
                  <a:pt x="10273" y="5080"/>
                  <a:pt x="10273" y="10800"/>
                </a:cubicBezTo>
                <a:cubicBezTo>
                  <a:pt x="10273" y="16520"/>
                  <a:pt x="15937" y="1975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2805120" y="2546640"/>
            <a:ext cx="4680" cy="60516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0680" y="2581200"/>
            <a:ext cx="8196120" cy="5114880"/>
          </a:xfrm>
          <a:prstGeom prst="blockArc">
            <a:avLst>
              <a:gd name="adj1" fmla="val 9352522"/>
              <a:gd name="adj2" fmla="val 1447478"/>
              <a:gd name="adj3" fmla="val 1329"/>
            </a:avLst>
          </a:prstGeom>
          <a:solidFill>
            <a:srgbClr val="cf8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2895480"/>
            <a:ext cx="739800" cy="433440"/>
          </a:xfrm>
          <a:prstGeom prst="plus">
            <a:avLst>
              <a:gd name="adj" fmla="val 25000"/>
            </a:avLst>
          </a:prstGeom>
          <a:gradFill rotWithShape="0">
            <a:gsLst>
              <a:gs pos="0">
                <a:srgbClr val="ff0000"/>
              </a:gs>
              <a:gs pos="100000">
                <a:srgbClr val="b3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y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782820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a0000"/>
                </a:solidFill>
                <a:latin typeface="Arial"/>
              </a:rPr>
              <a:t>WebQTL: APP Correlated Genes</a:t>
            </a:r>
            <a:endParaRPr b="0" lang="en-US" sz="3200" spc="-1" strike="noStrike">
              <a:solidFill>
                <a:srgbClr val="ba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rcRect l="2143" t="9997" r="4285" b="7145"/>
          <a:stretch/>
        </p:blipFill>
        <p:spPr>
          <a:xfrm>
            <a:off x="762120" y="1295280"/>
            <a:ext cx="7619760" cy="50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83822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a0000"/>
                </a:solidFill>
                <a:latin typeface="Arial"/>
              </a:rPr>
              <a:t>GO Tree Machine (GOTM)</a:t>
            </a:r>
            <a:r>
              <a:rPr b="1" lang="en-US" sz="3200" spc="-1" strike="noStrike">
                <a:solidFill>
                  <a:srgbClr val="ba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genereg.ornl.gov/gotm/</a:t>
            </a:r>
            <a:r>
              <a:rPr b="1" lang="en-US" sz="3600" spc="-1" strike="noStrike">
                <a:solidFill>
                  <a:srgbClr val="ba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ba0000"/>
                </a:solidFill>
                <a:latin typeface="Arial"/>
              </a:rPr>
              <a:t>   Bing Zhang &amp; Jay Snoddy, UTORNL</a:t>
            </a:r>
            <a:endParaRPr b="0" lang="en-US" sz="2400" spc="-1" strike="noStrike">
              <a:solidFill>
                <a:srgbClr val="ba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rcRect l="7144" t="13808" r="10002" b="7145"/>
          <a:stretch/>
        </p:blipFill>
        <p:spPr>
          <a:xfrm>
            <a:off x="990720" y="1069920"/>
            <a:ext cx="7238880" cy="51786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95560" y="6461280"/>
            <a:ext cx="52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Zhang et al., BMC Bioinformatics. 2004 Feb 18;5(1):16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176040"/>
            <a:ext cx="4495680" cy="5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a0000"/>
                </a:solidFill>
                <a:latin typeface="Arial"/>
              </a:rPr>
              <a:t>GO Tree Machine</a:t>
            </a:r>
            <a:endParaRPr b="0" lang="en-US" sz="3200" spc="-1" strike="noStrike">
              <a:solidFill>
                <a:srgbClr val="ba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828800" y="2057400"/>
            <a:ext cx="5283360" cy="19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Demo 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GOTM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genereg.ornl.gov/gotm/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1920" y="480960"/>
            <a:ext cx="78282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a0000"/>
                </a:solidFill>
                <a:latin typeface="Arial"/>
              </a:rPr>
              <a:t>High Density Array Interpreter (HAPI)</a:t>
            </a:r>
            <a:br>
              <a:rPr sz="2800"/>
            </a:br>
            <a:r>
              <a:rPr b="1" lang="en-US" sz="2800" spc="-1" strike="noStrike">
                <a:solidFill>
                  <a:srgbClr val="ba0000"/>
                </a:solidFill>
                <a:latin typeface="Arial"/>
              </a:rPr>
              <a:t>   </a:t>
            </a:r>
            <a:r>
              <a:rPr b="1" lang="en-US" sz="24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</a:t>
            </a:r>
            <a:r>
              <a:rPr b="1" lang="en-US" sz="24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array.ucsd.edu/hapi</a:t>
            </a:r>
            <a:r>
              <a:rPr b="1" lang="en-US" sz="2400" spc="-1" strike="noStrike" u="sng">
                <a:solidFill>
                  <a:srgbClr val="7e9ce8"/>
                </a:solidFill>
                <a:uFillTx/>
                <a:latin typeface="Arial"/>
                <a:hlinkClick r:id="rId3"/>
              </a:rPr>
              <a:t>/</a:t>
            </a:r>
            <a:r>
              <a:rPr b="0" lang="en-US" sz="2400" spc="-1" strike="noStrike">
                <a:solidFill>
                  <a:srgbClr val="ba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ba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219320" y="4419720"/>
          <a:ext cx="7086600" cy="1752480"/>
        </p:xfrm>
        <a:graphic>
          <a:graphicData uri="http://schemas.openxmlformats.org/drawingml/2006/table">
            <a:tbl>
              <a:tblPr/>
              <a:tblGrid>
                <a:gridCol w="7086600"/>
              </a:tblGrid>
              <a:tr h="175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Finds similarities between genes based on co-occurrence of MeSH terms in manually assigned gene abstract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1600200" y="1447920"/>
            <a:ext cx="5334120" cy="11811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3733920" y="2743200"/>
            <a:ext cx="1562040" cy="15526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6"/>
          <a:stretch/>
        </p:blipFill>
        <p:spPr>
          <a:xfrm>
            <a:off x="5029200" y="3962520"/>
            <a:ext cx="571680" cy="2379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18160" y="6429240"/>
            <a:ext cx="4435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asys et al., 2001, Bioinformatics 7(4):319-26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30120" y="307800"/>
            <a:ext cx="8128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a0000"/>
                </a:solidFill>
                <a:latin typeface="Arial"/>
              </a:rPr>
              <a:t>PubGene</a:t>
            </a:r>
            <a:r>
              <a:rPr b="0" lang="en-US" sz="2800" spc="-1" strike="noStrike">
                <a:solidFill>
                  <a:srgbClr val="ba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ba0000"/>
                </a:solidFill>
                <a:latin typeface="Arial"/>
              </a:rPr>
              <a:t>http://www.pubgene.org/</a:t>
            </a:r>
            <a:r>
              <a:rPr b="0" lang="en-US" sz="2800" spc="-1" strike="noStrike">
                <a:solidFill>
                  <a:srgbClr val="ba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PubGene network for Dab1"/>
          <p:cNvPicPr/>
          <p:nvPr/>
        </p:nvPicPr>
        <p:blipFill>
          <a:blip r:embed="rId1"/>
          <a:stretch/>
        </p:blipFill>
        <p:spPr>
          <a:xfrm>
            <a:off x="1638360" y="2695680"/>
            <a:ext cx="2368440" cy="2130480"/>
          </a:xfrm>
          <a:prstGeom prst="rect">
            <a:avLst/>
          </a:prstGeom>
          <a:ln w="0">
            <a:noFill/>
          </a:ln>
        </p:spPr>
      </p:pic>
      <p:pic>
        <p:nvPicPr>
          <p:cNvPr id="180" name="HTMLSelect1" descr=""/>
          <p:cNvPicPr/>
          <p:nvPr/>
        </p:nvPicPr>
        <p:blipFill>
          <a:blip r:embed="rId2"/>
          <a:stretch/>
        </p:blipFill>
        <p:spPr>
          <a:xfrm>
            <a:off x="150840" y="1751040"/>
            <a:ext cx="1533600" cy="4395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81" name=""/>
          <p:cNvGraphicFramePr/>
          <p:nvPr/>
        </p:nvGraphicFramePr>
        <p:xfrm>
          <a:off x="4114800" y="439560"/>
          <a:ext cx="326880" cy="303120"/>
        </p:xfrm>
        <a:graphic>
          <a:graphicData uri="http://schemas.openxmlformats.org/drawingml/2006/table">
            <a:tbl>
              <a:tblPr/>
              <a:tblGrid>
                <a:gridCol w="3268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2162160" y="127476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M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PubGene network for DAB1"/>
          <p:cNvPicPr/>
          <p:nvPr/>
        </p:nvPicPr>
        <p:blipFill>
          <a:blip r:embed="rId3"/>
          <a:stretch/>
        </p:blipFill>
        <p:spPr>
          <a:xfrm>
            <a:off x="4575240" y="2790720"/>
            <a:ext cx="2162160" cy="186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5799240" y="127476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Hu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DefaultOcx" descr=""/>
          <p:cNvPicPr/>
          <p:nvPr/>
        </p:nvPicPr>
        <p:blipFill>
          <a:blip r:embed="rId4"/>
          <a:stretch/>
        </p:blipFill>
        <p:spPr>
          <a:xfrm>
            <a:off x="6935760" y="2665440"/>
            <a:ext cx="1698480" cy="1625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6" name=""/>
          <p:cNvSpPr/>
          <p:nvPr/>
        </p:nvSpPr>
        <p:spPr>
          <a:xfrm>
            <a:off x="4038480" y="5257800"/>
            <a:ext cx="449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ubGene Query: Da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ubMed Query: Dab1 AND Reln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ubMed Query: Dab1 AND reelin =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57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94120" y="6445080"/>
            <a:ext cx="407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1600" spc="-1" strike="noStrike">
                <a:solidFill>
                  <a:srgbClr val="000000"/>
                </a:solidFill>
                <a:latin typeface="Arial"/>
              </a:rPr>
              <a:t>Jenssen et. al., Nature Genetics, May 2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3160" y="75960"/>
            <a:ext cx="782784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a0000"/>
                </a:solidFill>
                <a:latin typeface="Arial"/>
              </a:rPr>
              <a:t>Chilibo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chilibot.net/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3600"/>
            </a:br>
            <a:r>
              <a:rPr b="1" lang="en-US" sz="3600" spc="-1" strike="noStrike">
                <a:solidFill>
                  <a:srgbClr val="ba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ba0000"/>
                </a:solidFill>
                <a:latin typeface="Arial"/>
              </a:rPr>
              <a:t>H. Chen &amp; B. Sharp, UTHSC Pharmacology</a:t>
            </a:r>
            <a:endParaRPr b="0" lang="en-US" sz="2400" spc="-1" strike="noStrike">
              <a:solidFill>
                <a:srgbClr val="ba0000"/>
              </a:solidFill>
              <a:latin typeface="Arial"/>
            </a:endParaRPr>
          </a:p>
        </p:txBody>
      </p:sp>
      <p:pic>
        <p:nvPicPr>
          <p:cNvPr id="189" name="" descr="The image “http://www.chilibot.net/chilibot/images/front.png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5791320" y="1143000"/>
            <a:ext cx="2895480" cy="50576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533520" y="1703520"/>
            <a:ext cx="48164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tracts term-term relationship from Medline abstrac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ifferentiates interactive (e.g. stimulation or inhibition) and non-interactive (e.g. homology, co-existence, etc.) interac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lor-codes gene expression values when data are provi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utomatically suggests new hypothesis based on the literatu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8760" y="380880"/>
            <a:ext cx="7828200" cy="5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a0000"/>
                </a:solidFill>
                <a:latin typeface="Arial"/>
              </a:rPr>
              <a:t>Gene Expression Profiling</a:t>
            </a:r>
            <a:endParaRPr b="0" lang="en-US" sz="3600" spc="-1" strike="noStrike">
              <a:solidFill>
                <a:srgbClr val="ba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92280" y="5638680"/>
            <a:ext cx="372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izadeh, et al., (2000) Nature 403:50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4648320" cy="4392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019920" y="2841480"/>
            <a:ext cx="327636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a0000"/>
                </a:solidFill>
                <a:latin typeface="Arial"/>
              </a:rPr>
              <a:t>Now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952880" y="3656160"/>
            <a:ext cx="8384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782820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a0000"/>
                </a:solidFill>
                <a:latin typeface="Arial"/>
              </a:rPr>
              <a:t>Chilibot</a:t>
            </a:r>
            <a:endParaRPr b="0" lang="en-US" sz="3200" spc="-1" strike="noStrike">
              <a:solidFill>
                <a:srgbClr val="ba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828800" y="2057400"/>
            <a:ext cx="5283360" cy="19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Demo 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Chilibot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chilibot.net/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04920" y="304920"/>
            <a:ext cx="812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a0000"/>
                </a:solidFill>
                <a:latin typeface="Arial"/>
              </a:rPr>
              <a:t>Defining Gene Relation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4640" y="2438280"/>
            <a:ext cx="81313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66"/>
              </a:buClr>
              <a:buFont typeface="Arial"/>
              <a:buAutoNum type="arabicParenR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Direct 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Gene relationships already known (e.g., A-B or B-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704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rm co-occur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Gene symbol: PubGene (</a:t>
            </a:r>
            <a:r>
              <a:rPr b="1" i="1" lang="en-US" sz="1400" spc="-1" strike="noStrike">
                <a:solidFill>
                  <a:srgbClr val="000066"/>
                </a:solidFill>
                <a:latin typeface="Arial"/>
              </a:rPr>
              <a:t>Jenssen et al., Nature Genetics 2001 28:2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Gene names (synonyms and aliases) – biochemic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>
              <a:lnSpc>
                <a:spcPct val="100000"/>
              </a:lnSpc>
              <a:tabLst>
                <a:tab algn="l" pos="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Indirect 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Gene relationships unknown (e.g., such as A-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7040">
              <a:lnSpc>
                <a:spcPct val="100000"/>
              </a:lnSpc>
              <a:buClr>
                <a:srgbClr val="000066"/>
              </a:buClr>
              <a:buFont typeface="Arial"/>
              <a:buAutoNum type="arabicParenR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70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6824160" y="1676160"/>
            <a:ext cx="4748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6892560" y="2057400"/>
            <a:ext cx="406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045120" y="2057400"/>
            <a:ext cx="914400" cy="762120"/>
          </a:xfrm>
          <a:prstGeom prst="ellipse">
            <a:avLst/>
          </a:prstGeom>
          <a:gradFill rotWithShape="0">
            <a:gsLst>
              <a:gs pos="0">
                <a:srgbClr val="fee2a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162920" y="1600200"/>
            <a:ext cx="914400" cy="762120"/>
          </a:xfrm>
          <a:prstGeom prst="ellipse">
            <a:avLst/>
          </a:prstGeom>
          <a:gradFill rotWithShape="0">
            <a:gsLst>
              <a:gs pos="0">
                <a:srgbClr val="fee2a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012000" y="1219320"/>
            <a:ext cx="914400" cy="761760"/>
          </a:xfrm>
          <a:prstGeom prst="ellipse">
            <a:avLst/>
          </a:prstGeom>
          <a:gradFill rotWithShape="0">
            <a:gsLst>
              <a:gs pos="0">
                <a:srgbClr val="fee2a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52280" y="0"/>
            <a:ext cx="8602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a0000"/>
                </a:solidFill>
                <a:latin typeface="Arial"/>
              </a:rPr>
              <a:t>Reelin Signaling Path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90920" y="3657600"/>
            <a:ext cx="1455480" cy="576360"/>
          </a:xfrm>
          <a:prstGeom prst="ellipse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45"/>
                </a:solidFill>
                <a:latin typeface="Arial"/>
              </a:rPr>
              <a:t>Da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20308800">
            <a:off x="2627280" y="2108160"/>
            <a:ext cx="317520" cy="300240"/>
          </a:xfrm>
          <a:custGeom>
            <a:avLst/>
            <a:gdLst/>
            <a:ahLst/>
            <a:rect l="l" t="t" r="r" b="b"/>
            <a:pathLst>
              <a:path w="220" h="200">
                <a:moveTo>
                  <a:pt x="0" y="172"/>
                </a:moveTo>
                <a:cubicBezTo>
                  <a:pt x="7" y="168"/>
                  <a:pt x="13" y="162"/>
                  <a:pt x="22" y="162"/>
                </a:cubicBezTo>
                <a:cubicBezTo>
                  <a:pt x="48" y="162"/>
                  <a:pt x="74" y="177"/>
                  <a:pt x="100" y="184"/>
                </a:cubicBezTo>
                <a:cubicBezTo>
                  <a:pt x="109" y="190"/>
                  <a:pt x="119" y="192"/>
                  <a:pt x="130" y="196"/>
                </a:cubicBezTo>
                <a:cubicBezTo>
                  <a:pt x="134" y="197"/>
                  <a:pt x="142" y="200"/>
                  <a:pt x="142" y="200"/>
                </a:cubicBezTo>
                <a:cubicBezTo>
                  <a:pt x="153" y="196"/>
                  <a:pt x="153" y="194"/>
                  <a:pt x="158" y="182"/>
                </a:cubicBezTo>
                <a:cubicBezTo>
                  <a:pt x="159" y="178"/>
                  <a:pt x="162" y="170"/>
                  <a:pt x="162" y="170"/>
                </a:cubicBezTo>
                <a:cubicBezTo>
                  <a:pt x="158" y="160"/>
                  <a:pt x="145" y="157"/>
                  <a:pt x="136" y="154"/>
                </a:cubicBezTo>
                <a:cubicBezTo>
                  <a:pt x="113" y="146"/>
                  <a:pt x="91" y="133"/>
                  <a:pt x="68" y="128"/>
                </a:cubicBezTo>
                <a:cubicBezTo>
                  <a:pt x="61" y="126"/>
                  <a:pt x="54" y="125"/>
                  <a:pt x="48" y="124"/>
                </a:cubicBezTo>
                <a:cubicBezTo>
                  <a:pt x="42" y="122"/>
                  <a:pt x="32" y="120"/>
                  <a:pt x="32" y="120"/>
                </a:cubicBezTo>
                <a:cubicBezTo>
                  <a:pt x="24" y="114"/>
                  <a:pt x="19" y="102"/>
                  <a:pt x="28" y="94"/>
                </a:cubicBezTo>
                <a:cubicBezTo>
                  <a:pt x="34" y="87"/>
                  <a:pt x="52" y="82"/>
                  <a:pt x="52" y="82"/>
                </a:cubicBezTo>
                <a:cubicBezTo>
                  <a:pt x="76" y="88"/>
                  <a:pt x="99" y="93"/>
                  <a:pt x="124" y="102"/>
                </a:cubicBezTo>
                <a:cubicBezTo>
                  <a:pt x="133" y="105"/>
                  <a:pt x="142" y="106"/>
                  <a:pt x="152" y="110"/>
                </a:cubicBezTo>
                <a:cubicBezTo>
                  <a:pt x="156" y="111"/>
                  <a:pt x="164" y="114"/>
                  <a:pt x="164" y="114"/>
                </a:cubicBezTo>
                <a:cubicBezTo>
                  <a:pt x="172" y="113"/>
                  <a:pt x="180" y="115"/>
                  <a:pt x="188" y="112"/>
                </a:cubicBezTo>
                <a:cubicBezTo>
                  <a:pt x="195" y="108"/>
                  <a:pt x="172" y="84"/>
                  <a:pt x="168" y="82"/>
                </a:cubicBezTo>
                <a:cubicBezTo>
                  <a:pt x="144" y="46"/>
                  <a:pt x="95" y="58"/>
                  <a:pt x="64" y="38"/>
                </a:cubicBezTo>
                <a:cubicBezTo>
                  <a:pt x="57" y="19"/>
                  <a:pt x="76" y="16"/>
                  <a:pt x="90" y="12"/>
                </a:cubicBezTo>
                <a:cubicBezTo>
                  <a:pt x="113" y="15"/>
                  <a:pt x="137" y="20"/>
                  <a:pt x="160" y="28"/>
                </a:cubicBezTo>
                <a:cubicBezTo>
                  <a:pt x="166" y="30"/>
                  <a:pt x="172" y="32"/>
                  <a:pt x="178" y="34"/>
                </a:cubicBezTo>
                <a:cubicBezTo>
                  <a:pt x="182" y="35"/>
                  <a:pt x="190" y="38"/>
                  <a:pt x="190" y="38"/>
                </a:cubicBezTo>
                <a:cubicBezTo>
                  <a:pt x="196" y="37"/>
                  <a:pt x="202" y="38"/>
                  <a:pt x="208" y="36"/>
                </a:cubicBezTo>
                <a:cubicBezTo>
                  <a:pt x="220" y="31"/>
                  <a:pt x="198" y="11"/>
                  <a:pt x="194" y="10"/>
                </a:cubicBezTo>
                <a:cubicBezTo>
                  <a:pt x="178" y="4"/>
                  <a:pt x="166" y="0"/>
                  <a:pt x="150" y="0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 rot="1291200">
            <a:off x="2755800" y="3179880"/>
            <a:ext cx="198360" cy="228600"/>
          </a:xfrm>
          <a:custGeom>
            <a:avLst/>
            <a:gdLst/>
            <a:ahLst/>
            <a:rect l="l" t="t" r="r" b="b"/>
            <a:pathLst>
              <a:path w="137" h="152">
                <a:moveTo>
                  <a:pt x="113" y="152"/>
                </a:moveTo>
                <a:cubicBezTo>
                  <a:pt x="95" y="116"/>
                  <a:pt x="85" y="108"/>
                  <a:pt x="49" y="96"/>
                </a:cubicBezTo>
                <a:cubicBezTo>
                  <a:pt x="13" y="119"/>
                  <a:pt x="0" y="125"/>
                  <a:pt x="41" y="152"/>
                </a:cubicBezTo>
                <a:cubicBezTo>
                  <a:pt x="91" y="135"/>
                  <a:pt x="70" y="98"/>
                  <a:pt x="65" y="48"/>
                </a:cubicBezTo>
                <a:cubicBezTo>
                  <a:pt x="79" y="5"/>
                  <a:pt x="61" y="32"/>
                  <a:pt x="97" y="32"/>
                </a:cubicBezTo>
                <a:cubicBezTo>
                  <a:pt x="107" y="32"/>
                  <a:pt x="118" y="26"/>
                  <a:pt x="129" y="24"/>
                </a:cubicBezTo>
                <a:cubicBezTo>
                  <a:pt x="131" y="16"/>
                  <a:pt x="137" y="0"/>
                  <a:pt x="137" y="0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20308800">
            <a:off x="2754000" y="2455560"/>
            <a:ext cx="92160" cy="8424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20308800">
            <a:off x="2685960" y="2406600"/>
            <a:ext cx="55800" cy="87480"/>
          </a:xfrm>
          <a:custGeom>
            <a:avLst/>
            <a:gdLst/>
            <a:ahLst/>
            <a:rect l="l" t="t" r="r" b="b"/>
            <a:pathLst>
              <a:path w="38" h="58">
                <a:moveTo>
                  <a:pt x="38" y="58"/>
                </a:moveTo>
                <a:cubicBezTo>
                  <a:pt x="30" y="50"/>
                  <a:pt x="21" y="44"/>
                  <a:pt x="12" y="38"/>
                </a:cubicBezTo>
                <a:cubicBezTo>
                  <a:pt x="9" y="34"/>
                  <a:pt x="5" y="30"/>
                  <a:pt x="4" y="26"/>
                </a:cubicBezTo>
                <a:cubicBezTo>
                  <a:pt x="2" y="22"/>
                  <a:pt x="0" y="14"/>
                  <a:pt x="0" y="14"/>
                </a:cubicBezTo>
                <a:cubicBezTo>
                  <a:pt x="4" y="1"/>
                  <a:pt x="1" y="4"/>
                  <a:pt x="6" y="0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20308800">
            <a:off x="2720520" y="2020680"/>
            <a:ext cx="92160" cy="8388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20308800">
            <a:off x="2784600" y="1930320"/>
            <a:ext cx="91800" cy="8424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2809800" y="1437480"/>
            <a:ext cx="2880" cy="4834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20308800">
            <a:off x="2746440" y="1855800"/>
            <a:ext cx="66600" cy="698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20308800">
            <a:off x="2812680" y="1800360"/>
            <a:ext cx="68400" cy="698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20308800">
            <a:off x="2742840" y="1728720"/>
            <a:ext cx="68400" cy="716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rot="20308800">
            <a:off x="2812680" y="1668600"/>
            <a:ext cx="68400" cy="698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rot="20308800">
            <a:off x="2741400" y="1601280"/>
            <a:ext cx="68040" cy="716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20308800">
            <a:off x="2819160" y="1541520"/>
            <a:ext cx="66600" cy="712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rot="20308800">
            <a:off x="2741400" y="1476000"/>
            <a:ext cx="68040" cy="698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20308800">
            <a:off x="2819160" y="1422000"/>
            <a:ext cx="68040" cy="698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806400" y="1493640"/>
            <a:ext cx="1725840" cy="181800"/>
            <a:chOff x="806400" y="1493640"/>
            <a:chExt cx="1725840" cy="181800"/>
          </a:xfrm>
        </p:grpSpPr>
        <p:sp>
          <p:nvSpPr>
            <p:cNvPr id="218" name=""/>
            <p:cNvSpPr/>
            <p:nvPr/>
          </p:nvSpPr>
          <p:spPr>
            <a:xfrm>
              <a:off x="2512440" y="1593720"/>
              <a:ext cx="19800" cy="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94960" y="1585080"/>
              <a:ext cx="406080" cy="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1320840" y="1493640"/>
              <a:ext cx="123840" cy="181800"/>
              <a:chOff x="1320840" y="1493640"/>
              <a:chExt cx="123840" cy="181800"/>
            </a:xfrm>
          </p:grpSpPr>
          <p:sp>
            <p:nvSpPr>
              <p:cNvPr id="221" name=""/>
              <p:cNvSpPr/>
              <p:nvPr/>
            </p:nvSpPr>
            <p:spPr>
              <a:xfrm>
                <a:off x="1320840" y="1556280"/>
                <a:ext cx="43200" cy="79200"/>
              </a:xfrm>
              <a:prstGeom prst="ellipse">
                <a:avLst/>
              </a:prstGeom>
              <a:solidFill>
                <a:srgbClr val="993366"/>
              </a:solidFill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401480" y="1556280"/>
                <a:ext cx="43200" cy="79200"/>
              </a:xfrm>
              <a:prstGeom prst="ellipse">
                <a:avLst/>
              </a:prstGeom>
              <a:solidFill>
                <a:srgbClr val="993366"/>
              </a:solidFill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V="1">
                <a:off x="1382760" y="1493640"/>
                <a:ext cx="0" cy="18180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1458720" y="1493640"/>
              <a:ext cx="124200" cy="181800"/>
              <a:chOff x="1458720" y="1493640"/>
              <a:chExt cx="124200" cy="181800"/>
            </a:xfrm>
          </p:grpSpPr>
          <p:sp>
            <p:nvSpPr>
              <p:cNvPr id="225" name=""/>
              <p:cNvSpPr/>
              <p:nvPr/>
            </p:nvSpPr>
            <p:spPr>
              <a:xfrm>
                <a:off x="1458720" y="1556280"/>
                <a:ext cx="43560" cy="79200"/>
              </a:xfrm>
              <a:prstGeom prst="ellipse">
                <a:avLst/>
              </a:prstGeom>
              <a:solidFill>
                <a:srgbClr val="993366"/>
              </a:solidFill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539360" y="1556280"/>
                <a:ext cx="43560" cy="79200"/>
              </a:xfrm>
              <a:prstGeom prst="ellipse">
                <a:avLst/>
              </a:prstGeom>
              <a:solidFill>
                <a:srgbClr val="993366"/>
              </a:solidFill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V="1">
                <a:off x="1521000" y="1493640"/>
                <a:ext cx="0" cy="18180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1612800" y="1493640"/>
              <a:ext cx="122760" cy="181800"/>
              <a:chOff x="1612800" y="1493640"/>
              <a:chExt cx="122760" cy="181800"/>
            </a:xfrm>
          </p:grpSpPr>
          <p:sp>
            <p:nvSpPr>
              <p:cNvPr id="229" name=""/>
              <p:cNvSpPr/>
              <p:nvPr/>
            </p:nvSpPr>
            <p:spPr>
              <a:xfrm>
                <a:off x="1612800" y="1556280"/>
                <a:ext cx="42120" cy="79200"/>
              </a:xfrm>
              <a:prstGeom prst="ellipse">
                <a:avLst/>
              </a:prstGeom>
              <a:solidFill>
                <a:srgbClr val="993366"/>
              </a:solidFill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693440" y="1556280"/>
                <a:ext cx="42120" cy="79200"/>
              </a:xfrm>
              <a:prstGeom prst="ellipse">
                <a:avLst/>
              </a:prstGeom>
              <a:solidFill>
                <a:srgbClr val="993366"/>
              </a:solidFill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V="1">
                <a:off x="1674720" y="1493640"/>
                <a:ext cx="0" cy="18180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1757160" y="1493640"/>
              <a:ext cx="124200" cy="181800"/>
              <a:chOff x="1757160" y="1493640"/>
              <a:chExt cx="124200" cy="181800"/>
            </a:xfrm>
          </p:grpSpPr>
          <p:sp>
            <p:nvSpPr>
              <p:cNvPr id="233" name=""/>
              <p:cNvSpPr/>
              <p:nvPr/>
            </p:nvSpPr>
            <p:spPr>
              <a:xfrm>
                <a:off x="1757160" y="1556280"/>
                <a:ext cx="43560" cy="79200"/>
              </a:xfrm>
              <a:prstGeom prst="ellipse">
                <a:avLst/>
              </a:prstGeom>
              <a:solidFill>
                <a:srgbClr val="993366"/>
              </a:solidFill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839240" y="1556280"/>
                <a:ext cx="42120" cy="79200"/>
              </a:xfrm>
              <a:prstGeom prst="ellipse">
                <a:avLst/>
              </a:prstGeom>
              <a:solidFill>
                <a:srgbClr val="993366"/>
              </a:solidFill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1819440" y="1493640"/>
                <a:ext cx="0" cy="18180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1903320" y="1493640"/>
              <a:ext cx="123840" cy="181800"/>
              <a:chOff x="1903320" y="1493640"/>
              <a:chExt cx="123840" cy="181800"/>
            </a:xfrm>
          </p:grpSpPr>
          <p:sp>
            <p:nvSpPr>
              <p:cNvPr id="237" name=""/>
              <p:cNvSpPr/>
              <p:nvPr/>
            </p:nvSpPr>
            <p:spPr>
              <a:xfrm>
                <a:off x="1903320" y="1556280"/>
                <a:ext cx="43200" cy="79200"/>
              </a:xfrm>
              <a:prstGeom prst="ellipse">
                <a:avLst/>
              </a:prstGeom>
              <a:solidFill>
                <a:srgbClr val="993366"/>
              </a:solidFill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983960" y="1556280"/>
                <a:ext cx="43200" cy="79200"/>
              </a:xfrm>
              <a:prstGeom prst="ellipse">
                <a:avLst/>
              </a:prstGeom>
              <a:solidFill>
                <a:srgbClr val="993366"/>
              </a:solidFill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V="1">
                <a:off x="1965240" y="1493640"/>
                <a:ext cx="0" cy="18180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2057040" y="1493640"/>
              <a:ext cx="122760" cy="181800"/>
              <a:chOff x="2057040" y="1493640"/>
              <a:chExt cx="122760" cy="181800"/>
            </a:xfrm>
          </p:grpSpPr>
          <p:sp>
            <p:nvSpPr>
              <p:cNvPr id="241" name=""/>
              <p:cNvSpPr/>
              <p:nvPr/>
            </p:nvSpPr>
            <p:spPr>
              <a:xfrm>
                <a:off x="2057040" y="1556280"/>
                <a:ext cx="42120" cy="79200"/>
              </a:xfrm>
              <a:prstGeom prst="ellipse">
                <a:avLst/>
              </a:prstGeom>
              <a:solidFill>
                <a:srgbClr val="993366"/>
              </a:solidFill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137680" y="1556280"/>
                <a:ext cx="42120" cy="79200"/>
              </a:xfrm>
              <a:prstGeom prst="ellipse">
                <a:avLst/>
              </a:prstGeom>
              <a:solidFill>
                <a:srgbClr val="993366"/>
              </a:solidFill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V="1">
                <a:off x="2117880" y="1493640"/>
                <a:ext cx="0" cy="18180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2209680" y="1493640"/>
              <a:ext cx="124200" cy="181800"/>
              <a:chOff x="2209680" y="1493640"/>
              <a:chExt cx="124200" cy="181800"/>
            </a:xfrm>
          </p:grpSpPr>
          <p:sp>
            <p:nvSpPr>
              <p:cNvPr id="245" name=""/>
              <p:cNvSpPr/>
              <p:nvPr/>
            </p:nvSpPr>
            <p:spPr>
              <a:xfrm>
                <a:off x="2209680" y="1556280"/>
                <a:ext cx="43560" cy="79200"/>
              </a:xfrm>
              <a:prstGeom prst="ellipse">
                <a:avLst/>
              </a:prstGeom>
              <a:solidFill>
                <a:srgbClr val="993366"/>
              </a:solidFill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290320" y="1556280"/>
                <a:ext cx="43560" cy="79200"/>
              </a:xfrm>
              <a:prstGeom prst="ellipse">
                <a:avLst/>
              </a:prstGeom>
              <a:solidFill>
                <a:srgbClr val="993366"/>
              </a:solidFill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V="1">
                <a:off x="2271960" y="1493640"/>
                <a:ext cx="0" cy="18180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2363760" y="1493640"/>
              <a:ext cx="122760" cy="181800"/>
              <a:chOff x="2363760" y="1493640"/>
              <a:chExt cx="122760" cy="181800"/>
            </a:xfrm>
          </p:grpSpPr>
          <p:sp>
            <p:nvSpPr>
              <p:cNvPr id="249" name=""/>
              <p:cNvSpPr/>
              <p:nvPr/>
            </p:nvSpPr>
            <p:spPr>
              <a:xfrm>
                <a:off x="2363760" y="1556280"/>
                <a:ext cx="42120" cy="79200"/>
              </a:xfrm>
              <a:prstGeom prst="ellipse">
                <a:avLst/>
              </a:prstGeom>
              <a:solidFill>
                <a:srgbClr val="993366"/>
              </a:solidFill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444400" y="1556280"/>
                <a:ext cx="42120" cy="79200"/>
              </a:xfrm>
              <a:prstGeom prst="ellipse">
                <a:avLst/>
              </a:prstGeom>
              <a:solidFill>
                <a:srgbClr val="993366"/>
              </a:solidFill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2424600" y="1493640"/>
                <a:ext cx="0" cy="18180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" name=""/>
            <p:cNvSpPr/>
            <p:nvPr/>
          </p:nvSpPr>
          <p:spPr>
            <a:xfrm>
              <a:off x="806400" y="1547280"/>
              <a:ext cx="127080" cy="727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3420000" y="17002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078000" y="1749600"/>
            <a:ext cx="358920" cy="384120"/>
          </a:xfrm>
          <a:prstGeom prst="sun">
            <a:avLst>
              <a:gd name="adj" fmla="val 25000"/>
            </a:avLst>
          </a:prstGeom>
          <a:solidFill>
            <a:srgbClr val="ff9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179360" y="119232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e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678680" y="220968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DL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oER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rot="20308800">
            <a:off x="4989600" y="2527200"/>
            <a:ext cx="317520" cy="300240"/>
          </a:xfrm>
          <a:custGeom>
            <a:avLst/>
            <a:gdLst/>
            <a:ahLst/>
            <a:rect l="l" t="t" r="r" b="b"/>
            <a:pathLst>
              <a:path w="220" h="200">
                <a:moveTo>
                  <a:pt x="0" y="172"/>
                </a:moveTo>
                <a:cubicBezTo>
                  <a:pt x="7" y="168"/>
                  <a:pt x="13" y="162"/>
                  <a:pt x="22" y="162"/>
                </a:cubicBezTo>
                <a:cubicBezTo>
                  <a:pt x="48" y="162"/>
                  <a:pt x="74" y="177"/>
                  <a:pt x="100" y="184"/>
                </a:cubicBezTo>
                <a:cubicBezTo>
                  <a:pt x="109" y="190"/>
                  <a:pt x="119" y="192"/>
                  <a:pt x="130" y="196"/>
                </a:cubicBezTo>
                <a:cubicBezTo>
                  <a:pt x="134" y="197"/>
                  <a:pt x="142" y="200"/>
                  <a:pt x="142" y="200"/>
                </a:cubicBezTo>
                <a:cubicBezTo>
                  <a:pt x="153" y="196"/>
                  <a:pt x="153" y="194"/>
                  <a:pt x="158" y="182"/>
                </a:cubicBezTo>
                <a:cubicBezTo>
                  <a:pt x="159" y="178"/>
                  <a:pt x="162" y="170"/>
                  <a:pt x="162" y="170"/>
                </a:cubicBezTo>
                <a:cubicBezTo>
                  <a:pt x="158" y="160"/>
                  <a:pt x="145" y="157"/>
                  <a:pt x="136" y="154"/>
                </a:cubicBezTo>
                <a:cubicBezTo>
                  <a:pt x="113" y="146"/>
                  <a:pt x="91" y="133"/>
                  <a:pt x="68" y="128"/>
                </a:cubicBezTo>
                <a:cubicBezTo>
                  <a:pt x="61" y="126"/>
                  <a:pt x="54" y="125"/>
                  <a:pt x="48" y="124"/>
                </a:cubicBezTo>
                <a:cubicBezTo>
                  <a:pt x="42" y="122"/>
                  <a:pt x="32" y="120"/>
                  <a:pt x="32" y="120"/>
                </a:cubicBezTo>
                <a:cubicBezTo>
                  <a:pt x="24" y="114"/>
                  <a:pt x="19" y="102"/>
                  <a:pt x="28" y="94"/>
                </a:cubicBezTo>
                <a:cubicBezTo>
                  <a:pt x="34" y="87"/>
                  <a:pt x="52" y="82"/>
                  <a:pt x="52" y="82"/>
                </a:cubicBezTo>
                <a:cubicBezTo>
                  <a:pt x="76" y="88"/>
                  <a:pt x="99" y="93"/>
                  <a:pt x="124" y="102"/>
                </a:cubicBezTo>
                <a:cubicBezTo>
                  <a:pt x="133" y="105"/>
                  <a:pt x="142" y="106"/>
                  <a:pt x="152" y="110"/>
                </a:cubicBezTo>
                <a:cubicBezTo>
                  <a:pt x="156" y="111"/>
                  <a:pt x="164" y="114"/>
                  <a:pt x="164" y="114"/>
                </a:cubicBezTo>
                <a:cubicBezTo>
                  <a:pt x="172" y="113"/>
                  <a:pt x="180" y="115"/>
                  <a:pt x="188" y="112"/>
                </a:cubicBezTo>
                <a:cubicBezTo>
                  <a:pt x="195" y="108"/>
                  <a:pt x="172" y="84"/>
                  <a:pt x="168" y="82"/>
                </a:cubicBezTo>
                <a:cubicBezTo>
                  <a:pt x="144" y="46"/>
                  <a:pt x="95" y="58"/>
                  <a:pt x="64" y="38"/>
                </a:cubicBezTo>
                <a:cubicBezTo>
                  <a:pt x="57" y="19"/>
                  <a:pt x="76" y="16"/>
                  <a:pt x="90" y="12"/>
                </a:cubicBezTo>
                <a:cubicBezTo>
                  <a:pt x="113" y="15"/>
                  <a:pt x="137" y="20"/>
                  <a:pt x="160" y="28"/>
                </a:cubicBezTo>
                <a:cubicBezTo>
                  <a:pt x="166" y="30"/>
                  <a:pt x="172" y="32"/>
                  <a:pt x="178" y="34"/>
                </a:cubicBezTo>
                <a:cubicBezTo>
                  <a:pt x="182" y="35"/>
                  <a:pt x="190" y="38"/>
                  <a:pt x="190" y="38"/>
                </a:cubicBezTo>
                <a:cubicBezTo>
                  <a:pt x="196" y="37"/>
                  <a:pt x="202" y="38"/>
                  <a:pt x="208" y="36"/>
                </a:cubicBezTo>
                <a:cubicBezTo>
                  <a:pt x="220" y="31"/>
                  <a:pt x="198" y="11"/>
                  <a:pt x="194" y="10"/>
                </a:cubicBezTo>
                <a:cubicBezTo>
                  <a:pt x="178" y="4"/>
                  <a:pt x="166" y="0"/>
                  <a:pt x="150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103720" y="1427040"/>
            <a:ext cx="184320" cy="1081080"/>
          </a:xfrm>
          <a:prstGeom prst="rect">
            <a:avLst/>
          </a:prstGeom>
          <a:solidFill>
            <a:srgbClr val="ff33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361120" y="12574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48280" y="3397320"/>
            <a:ext cx="1033200" cy="431640"/>
          </a:xfrm>
          <a:custGeom>
            <a:avLst/>
            <a:gdLst/>
            <a:ahLst/>
            <a:rect l="l" t="t" r="r" b="b"/>
            <a:pathLst>
              <a:path w="688" h="288">
                <a:moveTo>
                  <a:pt x="0" y="288"/>
                </a:moveTo>
                <a:cubicBezTo>
                  <a:pt x="232" y="288"/>
                  <a:pt x="464" y="288"/>
                  <a:pt x="576" y="240"/>
                </a:cubicBezTo>
                <a:cubicBezTo>
                  <a:pt x="688" y="192"/>
                  <a:pt x="656" y="40"/>
                  <a:pt x="672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rot="2089800">
            <a:off x="4711680" y="4943520"/>
            <a:ext cx="466920" cy="482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307" y="3052"/>
                  <a:pt x="17014" y="5080"/>
                  <a:pt x="17014" y="10800"/>
                </a:cubicBezTo>
                <a:cubicBezTo>
                  <a:pt x="17014" y="16520"/>
                  <a:pt x="19307" y="18548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66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911840" y="5092560"/>
            <a:ext cx="801720" cy="576360"/>
          </a:xfrm>
          <a:prstGeom prst="ellipse">
            <a:avLst/>
          </a:prstGeom>
          <a:solidFill>
            <a:srgbClr val="9933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650120" y="493704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3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955040" y="51814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k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168800" y="4151160"/>
            <a:ext cx="579240" cy="7066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872320" y="5365800"/>
            <a:ext cx="896760" cy="9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983280" y="1427040"/>
            <a:ext cx="1363680" cy="1000080"/>
          </a:xfrm>
          <a:custGeom>
            <a:avLst/>
            <a:gdLst>
              <a:gd name="textAreaLeft" fmla="*/ 311040 w 1363680"/>
              <a:gd name="textAreaRight" fmla="*/ 1052640 w 1363680"/>
              <a:gd name="textAreaTop" fmla="*/ 228240 h 1000080"/>
              <a:gd name="textAreaBottom" fmla="*/ 771840 h 1000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a8a8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119720" y="1595520"/>
            <a:ext cx="10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yl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969240" y="4956120"/>
            <a:ext cx="1100160" cy="817560"/>
          </a:xfrm>
          <a:custGeom>
            <a:avLst/>
            <a:gdLst>
              <a:gd name="textAreaLeft" fmla="*/ 250920 w 1100160"/>
              <a:gd name="textAreaRight" fmla="*/ 849240 w 1100160"/>
              <a:gd name="textAreaTop" fmla="*/ 186480 h 817560"/>
              <a:gd name="textAreaBottom" fmla="*/ 631080 h 817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a8a8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164000" y="517680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5668920" y="2004480"/>
            <a:ext cx="1046160" cy="3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602080" y="3703680"/>
            <a:ext cx="420480" cy="48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937" y="1843"/>
                  <a:pt x="10273" y="5080"/>
                  <a:pt x="10273" y="10800"/>
                </a:cubicBezTo>
                <a:cubicBezTo>
                  <a:pt x="10273" y="16520"/>
                  <a:pt x="15937" y="1975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 flipV="1">
            <a:off x="2805120" y="2546640"/>
            <a:ext cx="4680" cy="60516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90680" y="2581200"/>
            <a:ext cx="8196120" cy="5114880"/>
          </a:xfrm>
          <a:prstGeom prst="blockArc">
            <a:avLst>
              <a:gd name="adj1" fmla="val 9352522"/>
              <a:gd name="adj2" fmla="val 1447478"/>
              <a:gd name="adj3" fmla="val 1329"/>
            </a:avLst>
          </a:prstGeom>
          <a:solidFill>
            <a:srgbClr val="cf8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124080" y="2895480"/>
            <a:ext cx="739800" cy="433440"/>
          </a:xfrm>
          <a:prstGeom prst="plus">
            <a:avLst>
              <a:gd name="adj" fmla="val 25000"/>
            </a:avLst>
          </a:prstGeom>
          <a:gradFill rotWithShape="0">
            <a:gsLst>
              <a:gs pos="0">
                <a:srgbClr val="ff0000"/>
              </a:gs>
              <a:gs pos="100000">
                <a:srgbClr val="b3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y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25440" y="152280"/>
            <a:ext cx="782784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a0000"/>
                </a:solidFill>
                <a:latin typeface="Arial"/>
              </a:rPr>
              <a:t>Arrowsmith</a:t>
            </a:r>
            <a:r>
              <a:rPr b="0" lang="en-US" sz="1200" spc="-1" strike="noStrike">
                <a:solidFill>
                  <a:srgbClr val="ba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ba0000"/>
                </a:solidFill>
                <a:latin typeface="Arial"/>
              </a:rPr>
              <a:t>http://arrowsmith.psych.uic.edu/ </a:t>
            </a:r>
            <a:br>
              <a:rPr sz="1400"/>
            </a:br>
            <a:r>
              <a:rPr b="1" lang="en-US" sz="1400" spc="-1" strike="noStrike">
                <a:solidFill>
                  <a:srgbClr val="ba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ba0000"/>
                </a:solidFill>
                <a:latin typeface="Arial"/>
              </a:rPr>
              <a:t>Smalheiser and Swanson, UIC </a:t>
            </a:r>
            <a:r>
              <a:rPr b="0" lang="en-US" sz="3200" spc="-1" strike="noStrike">
                <a:solidFill>
                  <a:srgbClr val="ba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ba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ba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1577880" y="1417680"/>
            <a:ext cx="5989680" cy="402264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156960" y="6445080"/>
            <a:ext cx="88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mallheiser and Swanson, 1998, Computer Methods and Programs in Biomedicine 57: 149-153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25440" y="-360"/>
            <a:ext cx="782784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a0000"/>
                </a:solidFill>
                <a:latin typeface="Arial"/>
              </a:rPr>
              <a:t>PubMatrix  </a:t>
            </a:r>
            <a:r>
              <a:rPr b="1" lang="en-US" sz="1600" spc="-1" strike="noStrike">
                <a:solidFill>
                  <a:srgbClr val="ba0000"/>
                </a:solidFill>
                <a:latin typeface="Arial"/>
              </a:rPr>
              <a:t>http://pubmatrix.grc.nia.nih.gov/</a:t>
            </a:r>
            <a:r>
              <a:rPr b="1" lang="en-US" sz="3200" spc="-1" strike="noStrike">
                <a:solidFill>
                  <a:srgbClr val="ba0000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ba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ba0000"/>
                </a:solidFill>
                <a:latin typeface="Arial"/>
              </a:rPr>
              <a:t>Becker &amp; Engle,  NIH</a:t>
            </a:r>
            <a:endParaRPr b="0" lang="en-US" sz="2400" spc="-1" strike="noStrike">
              <a:solidFill>
                <a:srgbClr val="ba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824120"/>
            <a:ext cx="4130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1240" indent="-11124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apid comparison of any list of terms against any other list of terms in PubM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ists of terms may be gene names, diseases, gene functions, author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eports back the frequency of co-occurrence between all pairwise comparisons between the two lists as a matrix tab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4512" t="11730" r="40941" b="34343"/>
          <a:stretch/>
        </p:blipFill>
        <p:spPr>
          <a:xfrm>
            <a:off x="4572000" y="1905120"/>
            <a:ext cx="4419720" cy="327636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223200" y="6445080"/>
            <a:ext cx="403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MC Bioinformatics. 2003 Dec 10;4(1):61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782820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a0000"/>
                </a:solidFill>
                <a:latin typeface="Arial"/>
              </a:rPr>
              <a:t>PubMatrix</a:t>
            </a:r>
            <a:endParaRPr b="0" lang="en-US" sz="3200" spc="-1" strike="noStrike">
              <a:solidFill>
                <a:srgbClr val="ba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828800" y="2057400"/>
            <a:ext cx="5283360" cy="19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Demo 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PubMatrix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a0000"/>
                </a:solidFill>
                <a:latin typeface="Arial"/>
              </a:rPr>
              <a:t>http://pubmatrix.grc.nia.nih.gov/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25440" y="-228960"/>
            <a:ext cx="782784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a0000"/>
                </a:solidFill>
                <a:latin typeface="Arial"/>
              </a:rPr>
              <a:t>TXTGate  </a:t>
            </a:r>
            <a:r>
              <a:rPr b="0" lang="en-US" sz="1800" spc="-1" strike="noStrike">
                <a:solidFill>
                  <a:srgbClr val="ba0000"/>
                </a:solidFill>
                <a:latin typeface="Arial"/>
              </a:rPr>
              <a:t>http://www.esat.kuleuven.ac.be/txtgate/</a:t>
            </a:r>
            <a:r>
              <a:rPr b="0" lang="en-US" sz="3600" spc="-1" strike="noStrike">
                <a:solidFill>
                  <a:srgbClr val="ba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a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ba0000"/>
              </a:solidFill>
              <a:latin typeface="Arial"/>
            </a:endParaRPr>
          </a:p>
        </p:txBody>
      </p:sp>
      <p:pic>
        <p:nvPicPr>
          <p:cNvPr id="286" name="" descr="The image “http://www.esat.kuleuven.ac.be/txtgate/images/txtgate_overview.png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1905120" y="1143000"/>
            <a:ext cx="5051160" cy="518148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311760" y="6445080"/>
            <a:ext cx="744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lenisson P,Coessens B, Van Vooren S, Mathys J, Moreau Y, De Moor B (200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73160" y="533160"/>
            <a:ext cx="7827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a0000"/>
                </a:solidFill>
                <a:latin typeface="Arial"/>
              </a:rPr>
              <a:t>Vector Space Model</a:t>
            </a:r>
            <a:r>
              <a:rPr b="0" lang="en-US" sz="3200" spc="-1" strike="noStrike">
                <a:solidFill>
                  <a:srgbClr val="ba0000"/>
                </a:solidFill>
                <a:latin typeface="Arial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a0000"/>
                </a:solidFill>
                <a:latin typeface="Arial"/>
              </a:rPr>
              <a:t>Latent Semantic Indexing</a:t>
            </a:r>
            <a:endParaRPr b="0" lang="en-US" sz="2800" spc="-1" strike="noStrike">
              <a:solidFill>
                <a:srgbClr val="ba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891040" y="2301840"/>
            <a:ext cx="0" cy="18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5891040" y="367344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891040" y="4130640"/>
            <a:ext cx="121932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517720" y="193500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803720" y="329256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636960" y="510372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196400" y="23162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ba0000"/>
                </a:solidFill>
                <a:latin typeface="Arial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073520" y="2468520"/>
            <a:ext cx="47016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631880" y="24224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631880" y="242244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rot="18962400">
            <a:off x="3234240" y="190332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a0000"/>
                </a:solidFill>
                <a:latin typeface="Arial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775160" y="2025720"/>
            <a:ext cx="144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621ff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3621ff"/>
                </a:solidFill>
                <a:latin typeface="Arial"/>
              </a:rPr>
              <a:t>1    </a:t>
            </a:r>
            <a:r>
              <a:rPr b="0" i="1" lang="en-US" sz="1800" spc="-1" strike="noStrike">
                <a:solidFill>
                  <a:srgbClr val="3621ff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3621ff"/>
                </a:solidFill>
                <a:latin typeface="Arial"/>
              </a:rPr>
              <a:t>2    ...   </a:t>
            </a:r>
            <a:r>
              <a:rPr b="0" i="1" lang="en-US" sz="1800" spc="-1" strike="noStrike">
                <a:solidFill>
                  <a:srgbClr val="3621ff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3621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752480" y="2468520"/>
            <a:ext cx="163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095880" y="3916440"/>
            <a:ext cx="152640" cy="304560"/>
          </a:xfrm>
          <a:custGeom>
            <a:avLst/>
            <a:gdLst/>
            <a:ahLst/>
            <a:rect l="l" t="t" r="r" b="b"/>
            <a:pathLst>
              <a:path w="48" h="144">
                <a:moveTo>
                  <a:pt x="0" y="0"/>
                </a:moveTo>
                <a:cubicBezTo>
                  <a:pt x="24" y="12"/>
                  <a:pt x="48" y="24"/>
                  <a:pt x="48" y="48"/>
                </a:cubicBezTo>
                <a:cubicBezTo>
                  <a:pt x="48" y="72"/>
                  <a:pt x="24" y="108"/>
                  <a:pt x="0" y="144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174000" y="368784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ba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317000" y="4265640"/>
            <a:ext cx="48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621ff"/>
                </a:solidFill>
                <a:latin typeface="Arial"/>
              </a:rPr>
              <a:t>G</a:t>
            </a:r>
            <a:r>
              <a:rPr b="1" lang="en-US" sz="1800" spc="-1" strike="noStrike">
                <a:solidFill>
                  <a:srgbClr val="3621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845000" y="5103720"/>
            <a:ext cx="959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429000" y="2620800"/>
            <a:ext cx="152280" cy="2362320"/>
          </a:xfrm>
          <a:prstGeom prst="downArrow">
            <a:avLst>
              <a:gd name="adj1" fmla="val 50000"/>
              <a:gd name="adj2" fmla="val 181416"/>
            </a:avLst>
          </a:prstGeom>
          <a:solidFill>
            <a:srgbClr val="ff57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971800" y="2620800"/>
            <a:ext cx="152280" cy="2362320"/>
          </a:xfrm>
          <a:prstGeom prst="downArrow">
            <a:avLst>
              <a:gd name="adj1" fmla="val 50000"/>
              <a:gd name="adj2" fmla="val 181416"/>
            </a:avLst>
          </a:prstGeom>
          <a:solidFill>
            <a:srgbClr val="867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17317800">
            <a:off x="6665760" y="3546000"/>
            <a:ext cx="127080" cy="1752480"/>
          </a:xfrm>
          <a:prstGeom prst="downArrow">
            <a:avLst>
              <a:gd name="adj1" fmla="val 50000"/>
              <a:gd name="adj2" fmla="val 161271"/>
            </a:avLst>
          </a:prstGeom>
          <a:solidFill>
            <a:srgbClr val="867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13053600">
            <a:off x="6587640" y="2022120"/>
            <a:ext cx="112680" cy="2362320"/>
          </a:xfrm>
          <a:prstGeom prst="downArrow">
            <a:avLst>
              <a:gd name="adj1" fmla="val 50000"/>
              <a:gd name="adj2" fmla="val 245172"/>
            </a:avLst>
          </a:prstGeom>
          <a:solidFill>
            <a:srgbClr val="ff57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311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315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782820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a0000"/>
                </a:solidFill>
                <a:latin typeface="Arial"/>
              </a:rPr>
              <a:t>TXTGate</a:t>
            </a:r>
            <a:endParaRPr b="0" lang="en-US" sz="3200" spc="-1" strike="noStrike">
              <a:solidFill>
                <a:srgbClr val="ba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828800" y="2057400"/>
            <a:ext cx="5283360" cy="19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Demo 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TXTGate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http://www.esat.kuleuven.ac.be/txtgate/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73160" y="533160"/>
            <a:ext cx="7827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a0000"/>
                </a:solidFill>
                <a:latin typeface="Arial"/>
              </a:rPr>
              <a:t>Vector Space Model</a:t>
            </a:r>
            <a:r>
              <a:rPr b="0" lang="en-US" sz="3200" spc="-1" strike="noStrike">
                <a:solidFill>
                  <a:srgbClr val="ba0000"/>
                </a:solidFill>
                <a:latin typeface="Arial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a0000"/>
                </a:solidFill>
                <a:latin typeface="Arial"/>
              </a:rPr>
              <a:t>Latent Semantic Indexing</a:t>
            </a:r>
            <a:endParaRPr b="0" lang="en-US" sz="2800" spc="-1" strike="noStrike">
              <a:solidFill>
                <a:srgbClr val="ba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891040" y="2301840"/>
            <a:ext cx="0" cy="18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5891040" y="367344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891040" y="4130640"/>
            <a:ext cx="121932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517720" y="193500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803720" y="329256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636960" y="510372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196400" y="23162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ba0000"/>
                </a:solidFill>
                <a:latin typeface="Arial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073520" y="2468520"/>
            <a:ext cx="47016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631880" y="24224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631880" y="242244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rot="18962400">
            <a:off x="3234240" y="190332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a0000"/>
                </a:solidFill>
                <a:latin typeface="Arial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775160" y="2025720"/>
            <a:ext cx="144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621ff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3621ff"/>
                </a:solidFill>
                <a:latin typeface="Arial"/>
              </a:rPr>
              <a:t>1    </a:t>
            </a:r>
            <a:r>
              <a:rPr b="0" i="1" lang="en-US" sz="1800" spc="-1" strike="noStrike">
                <a:solidFill>
                  <a:srgbClr val="3621ff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3621ff"/>
                </a:solidFill>
                <a:latin typeface="Arial"/>
              </a:rPr>
              <a:t>2    ...   </a:t>
            </a:r>
            <a:r>
              <a:rPr b="0" i="1" lang="en-US" sz="1800" spc="-1" strike="noStrike">
                <a:solidFill>
                  <a:srgbClr val="3621ff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3621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752480" y="2468520"/>
            <a:ext cx="163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095880" y="3916440"/>
            <a:ext cx="152640" cy="304560"/>
          </a:xfrm>
          <a:custGeom>
            <a:avLst/>
            <a:gdLst/>
            <a:ahLst/>
            <a:rect l="l" t="t" r="r" b="b"/>
            <a:pathLst>
              <a:path w="48" h="144">
                <a:moveTo>
                  <a:pt x="0" y="0"/>
                </a:moveTo>
                <a:cubicBezTo>
                  <a:pt x="24" y="12"/>
                  <a:pt x="48" y="24"/>
                  <a:pt x="48" y="48"/>
                </a:cubicBezTo>
                <a:cubicBezTo>
                  <a:pt x="48" y="72"/>
                  <a:pt x="24" y="108"/>
                  <a:pt x="0" y="144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174000" y="368784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ba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317000" y="4265640"/>
            <a:ext cx="48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621ff"/>
                </a:solidFill>
                <a:latin typeface="Arial"/>
              </a:rPr>
              <a:t>G</a:t>
            </a:r>
            <a:r>
              <a:rPr b="1" lang="en-US" sz="1800" spc="-1" strike="noStrike">
                <a:solidFill>
                  <a:srgbClr val="3621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845000" y="5103720"/>
            <a:ext cx="959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429000" y="2620800"/>
            <a:ext cx="152280" cy="2362320"/>
          </a:xfrm>
          <a:prstGeom prst="downArrow">
            <a:avLst>
              <a:gd name="adj1" fmla="val 50000"/>
              <a:gd name="adj2" fmla="val 181416"/>
            </a:avLst>
          </a:prstGeom>
          <a:solidFill>
            <a:srgbClr val="ff57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971800" y="2620800"/>
            <a:ext cx="152280" cy="2362320"/>
          </a:xfrm>
          <a:prstGeom prst="downArrow">
            <a:avLst>
              <a:gd name="adj1" fmla="val 50000"/>
              <a:gd name="adj2" fmla="val 181416"/>
            </a:avLst>
          </a:prstGeom>
          <a:solidFill>
            <a:srgbClr val="867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rot="17317800">
            <a:off x="6665760" y="3546000"/>
            <a:ext cx="127080" cy="1752480"/>
          </a:xfrm>
          <a:prstGeom prst="downArrow">
            <a:avLst>
              <a:gd name="adj1" fmla="val 50000"/>
              <a:gd name="adj2" fmla="val 161271"/>
            </a:avLst>
          </a:prstGeom>
          <a:solidFill>
            <a:srgbClr val="867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rot="13053600">
            <a:off x="6587640" y="2022120"/>
            <a:ext cx="112680" cy="2362320"/>
          </a:xfrm>
          <a:prstGeom prst="downArrow">
            <a:avLst>
              <a:gd name="adj1" fmla="val 50000"/>
              <a:gd name="adj2" fmla="val 245172"/>
            </a:avLst>
          </a:prstGeom>
          <a:solidFill>
            <a:srgbClr val="ff57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311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315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1760" y="-360"/>
            <a:ext cx="782784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0000"/>
                </a:solidFill>
                <a:latin typeface="Arial"/>
              </a:rPr>
              <a:t>Gene Ontology Consortium</a:t>
            </a:r>
            <a:br>
              <a:rPr sz="1800"/>
            </a:br>
            <a:r>
              <a:rPr b="0" lang="en-US" sz="1800" spc="-1" strike="noStrike">
                <a:solidFill>
                  <a:srgbClr val="ba0000"/>
                </a:solidFill>
                <a:latin typeface="Arial"/>
              </a:rPr>
              <a:t>   </a:t>
            </a:r>
            <a:r>
              <a:rPr b="0" lang="en-US" sz="18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www.geneontology.org/</a:t>
            </a:r>
            <a:r>
              <a:rPr b="0" lang="en-US" sz="3200" spc="-1" strike="noStrike">
                <a:solidFill>
                  <a:srgbClr val="ba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ba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34076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 controlled vocabulary applied to genes in a variety of organisms; updated every 30 minutes!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Established in 1998 as a collaboration betwee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987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FlyBase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Drosophila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3"/>
              </a:rPr>
              <a:t>Saccharomyces</a:t>
            </a: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4"/>
              </a:rPr>
              <a:t> Genome Database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(SGD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5"/>
              </a:rPr>
              <a:t>Mouse Genome Database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(MGD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ree main classifications: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987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olecular Function (7385 terms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87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Biological Process (8822 terms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87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ellular Component (1430 terms)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01520" y="-47520"/>
            <a:ext cx="812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0000"/>
                </a:solidFill>
                <a:latin typeface="Arial"/>
              </a:rPr>
              <a:t>Hierarchical Tree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0000"/>
                </a:solidFill>
                <a:latin typeface="Arial"/>
              </a:rPr>
              <a:t>Semantic Gene Organizer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609480" y="1320840"/>
            <a:ext cx="7772400" cy="447048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685800" y="5867280"/>
            <a:ext cx="2590920" cy="30708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276720" y="5867280"/>
            <a:ext cx="2057400" cy="307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nc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781680" y="5867280"/>
            <a:ext cx="1524240" cy="307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zhei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334120" y="5867280"/>
            <a:ext cx="1447560" cy="30708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41480" y="6477120"/>
            <a:ext cx="541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omayouni R, Heinrich K, Wei R, Berry M (2004), in p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90520" y="-360"/>
            <a:ext cx="77868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a0000"/>
                </a:solidFill>
                <a:latin typeface="Arial"/>
              </a:rPr>
              <a:t>Acknowledgments</a:t>
            </a:r>
            <a:endParaRPr b="0" lang="en-US" sz="3200" spc="-1" strike="noStrike">
              <a:solidFill>
                <a:srgbClr val="ba0000"/>
              </a:solidFill>
              <a:latin typeface="Arial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1600200" y="1828800"/>
          <a:ext cx="6095880" cy="327672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26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73160"/>
                          <a:tab algn="l" pos="345960"/>
                          <a:tab algn="l" pos="519120"/>
                          <a:tab algn="l" pos="692280"/>
                          <a:tab algn="l" pos="865080"/>
                          <a:tab algn="l" pos="1038240"/>
                          <a:tab algn="l" pos="1211400"/>
                          <a:tab algn="l" pos="1384200"/>
                          <a:tab algn="l" pos="1557360"/>
                          <a:tab algn="l" pos="1730520"/>
                          <a:tab algn="l" pos="1903320"/>
                          <a:tab algn="l" pos="2076480"/>
                          <a:tab algn="l" pos="2249640"/>
                          <a:tab algn="l" pos="2422440"/>
                          <a:tab algn="l" pos="2595600"/>
                          <a:tab algn="l" pos="2768760"/>
                          <a:tab algn="l" pos="2941560"/>
                          <a:tab algn="l" pos="3114720"/>
                          <a:tab algn="l" pos="3287880"/>
                          <a:tab algn="l" pos="3460680"/>
                        </a:tabLst>
                      </a:pPr>
                      <a:r>
                        <a:rPr b="0" lang="en-US" sz="2400" spc="-1" strike="noStrike">
                          <a:solidFill>
                            <a:srgbClr val="ba0000"/>
                          </a:solidFill>
                          <a:latin typeface="Arial"/>
                        </a:rPr>
                        <a:t>UT Memph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73160"/>
                          <a:tab algn="l" pos="345960"/>
                          <a:tab algn="l" pos="519120"/>
                          <a:tab algn="l" pos="692280"/>
                          <a:tab algn="l" pos="865080"/>
                          <a:tab algn="l" pos="1038240"/>
                          <a:tab algn="l" pos="1211400"/>
                          <a:tab algn="l" pos="1384200"/>
                          <a:tab algn="l" pos="1557360"/>
                          <a:tab algn="l" pos="1730520"/>
                          <a:tab algn="l" pos="1903320"/>
                          <a:tab algn="l" pos="2076480"/>
                          <a:tab algn="l" pos="2249640"/>
                          <a:tab algn="l" pos="2422440"/>
                          <a:tab algn="l" pos="2595600"/>
                          <a:tab algn="l" pos="2768760"/>
                          <a:tab algn="l" pos="2941560"/>
                          <a:tab algn="l" pos="3114720"/>
                          <a:tab algn="l" pos="3287880"/>
                          <a:tab algn="l" pos="346068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66"/>
                          </a:solidFill>
                          <a:uFillTx/>
                          <a:latin typeface="Arial"/>
                        </a:rPr>
                        <a:t>Neurolo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73160"/>
                          <a:tab algn="l" pos="345960"/>
                          <a:tab algn="l" pos="519120"/>
                          <a:tab algn="l" pos="692280"/>
                          <a:tab algn="l" pos="865080"/>
                          <a:tab algn="l" pos="1038240"/>
                          <a:tab algn="l" pos="1211400"/>
                          <a:tab algn="l" pos="1384200"/>
                          <a:tab algn="l" pos="1557360"/>
                          <a:tab algn="l" pos="1730520"/>
                          <a:tab algn="l" pos="1903320"/>
                          <a:tab algn="l" pos="2076480"/>
                          <a:tab algn="l" pos="2249640"/>
                          <a:tab algn="l" pos="2422440"/>
                          <a:tab algn="l" pos="2595600"/>
                          <a:tab algn="l" pos="2768760"/>
                          <a:tab algn="l" pos="2941560"/>
                          <a:tab algn="l" pos="3114720"/>
                          <a:tab algn="l" pos="3287880"/>
                          <a:tab algn="l" pos="346068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ijing Xu, M.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73160"/>
                          <a:tab algn="l" pos="345960"/>
                          <a:tab algn="l" pos="519120"/>
                          <a:tab algn="l" pos="692280"/>
                          <a:tab algn="l" pos="865080"/>
                          <a:tab algn="l" pos="1038240"/>
                          <a:tab algn="l" pos="1211400"/>
                          <a:tab algn="l" pos="1384200"/>
                          <a:tab algn="l" pos="1557360"/>
                          <a:tab algn="l" pos="1730520"/>
                          <a:tab algn="l" pos="1903320"/>
                          <a:tab algn="l" pos="2076480"/>
                          <a:tab algn="l" pos="2249640"/>
                          <a:tab algn="l" pos="2422440"/>
                          <a:tab algn="l" pos="2595600"/>
                          <a:tab algn="l" pos="2768760"/>
                          <a:tab algn="l" pos="2941560"/>
                          <a:tab algn="l" pos="3114720"/>
                          <a:tab algn="l" pos="3287880"/>
                          <a:tab algn="l" pos="346068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ai Wei, M.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73160"/>
                          <a:tab algn="l" pos="345960"/>
                          <a:tab algn="l" pos="519120"/>
                          <a:tab algn="l" pos="692280"/>
                          <a:tab algn="l" pos="865080"/>
                          <a:tab algn="l" pos="1038240"/>
                          <a:tab algn="l" pos="1211400"/>
                          <a:tab algn="l" pos="1384200"/>
                          <a:tab algn="l" pos="1557360"/>
                          <a:tab algn="l" pos="1730520"/>
                          <a:tab algn="l" pos="1903320"/>
                          <a:tab algn="l" pos="2076480"/>
                          <a:tab algn="l" pos="2249640"/>
                          <a:tab algn="l" pos="2422440"/>
                          <a:tab algn="l" pos="2595600"/>
                          <a:tab algn="l" pos="2768760"/>
                          <a:tab algn="l" pos="2941560"/>
                          <a:tab algn="l" pos="3114720"/>
                          <a:tab algn="l" pos="3287880"/>
                          <a:tab algn="l" pos="346068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73160"/>
                          <a:tab algn="l" pos="345960"/>
                          <a:tab algn="l" pos="519120"/>
                          <a:tab algn="l" pos="692280"/>
                          <a:tab algn="l" pos="865080"/>
                          <a:tab algn="l" pos="1038240"/>
                          <a:tab algn="l" pos="1211400"/>
                          <a:tab algn="l" pos="1384200"/>
                          <a:tab algn="l" pos="1557360"/>
                          <a:tab algn="l" pos="1730520"/>
                          <a:tab algn="l" pos="1903320"/>
                          <a:tab algn="l" pos="2076480"/>
                          <a:tab algn="l" pos="2249640"/>
                          <a:tab algn="l" pos="2422440"/>
                          <a:tab algn="l" pos="2595600"/>
                          <a:tab algn="l" pos="2768760"/>
                          <a:tab algn="l" pos="2941560"/>
                          <a:tab algn="l" pos="3114720"/>
                          <a:tab algn="l" pos="3287880"/>
                          <a:tab algn="l" pos="346068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66"/>
                          </a:solidFill>
                          <a:uFillTx/>
                          <a:latin typeface="Arial"/>
                        </a:rPr>
                        <a:t>Molecular Sc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73160"/>
                          <a:tab algn="l" pos="345960"/>
                          <a:tab algn="l" pos="519120"/>
                          <a:tab algn="l" pos="692280"/>
                          <a:tab algn="l" pos="865080"/>
                          <a:tab algn="l" pos="1038240"/>
                          <a:tab algn="l" pos="1211400"/>
                          <a:tab algn="l" pos="1384200"/>
                          <a:tab algn="l" pos="1557360"/>
                          <a:tab algn="l" pos="1730520"/>
                          <a:tab algn="l" pos="1903320"/>
                          <a:tab algn="l" pos="2076480"/>
                          <a:tab algn="l" pos="2249640"/>
                          <a:tab algn="l" pos="2422440"/>
                          <a:tab algn="l" pos="2595600"/>
                          <a:tab algn="l" pos="2768760"/>
                          <a:tab algn="l" pos="2941560"/>
                          <a:tab algn="l" pos="3114720"/>
                          <a:tab algn="l" pos="3287880"/>
                          <a:tab algn="l" pos="346068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an Cui, Ph.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73160"/>
                          <a:tab algn="l" pos="345960"/>
                          <a:tab algn="l" pos="519120"/>
                          <a:tab algn="l" pos="692280"/>
                          <a:tab algn="l" pos="865080"/>
                          <a:tab algn="l" pos="1038240"/>
                          <a:tab algn="l" pos="1211400"/>
                          <a:tab algn="l" pos="1384200"/>
                          <a:tab algn="l" pos="1557360"/>
                          <a:tab algn="l" pos="1730520"/>
                          <a:tab algn="l" pos="1903320"/>
                          <a:tab algn="l" pos="2076480"/>
                          <a:tab algn="l" pos="2249640"/>
                          <a:tab algn="l" pos="2422440"/>
                          <a:tab algn="l" pos="2595600"/>
                          <a:tab algn="l" pos="2768760"/>
                          <a:tab algn="l" pos="2941560"/>
                          <a:tab algn="l" pos="3114720"/>
                          <a:tab algn="l" pos="3287880"/>
                          <a:tab algn="l" pos="346068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Mi Zhou, M.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73160"/>
                          <a:tab algn="l" pos="345960"/>
                          <a:tab algn="l" pos="519120"/>
                          <a:tab algn="l" pos="692280"/>
                          <a:tab algn="l" pos="865080"/>
                          <a:tab algn="l" pos="1038240"/>
                          <a:tab algn="l" pos="1211400"/>
                          <a:tab algn="l" pos="1384200"/>
                          <a:tab algn="l" pos="1557360"/>
                          <a:tab algn="l" pos="1730520"/>
                          <a:tab algn="l" pos="1903320"/>
                          <a:tab algn="l" pos="2076480"/>
                          <a:tab algn="l" pos="2249640"/>
                          <a:tab algn="l" pos="2422440"/>
                          <a:tab algn="l" pos="2595600"/>
                          <a:tab algn="l" pos="2768760"/>
                          <a:tab algn="l" pos="2941560"/>
                          <a:tab algn="l" pos="3114720"/>
                          <a:tab algn="l" pos="3287880"/>
                          <a:tab algn="l" pos="3460680"/>
                        </a:tabLst>
                      </a:pPr>
                      <a:r>
                        <a:rPr b="0" lang="en-US" sz="2400" spc="-1" strike="noStrike">
                          <a:solidFill>
                            <a:srgbClr val="ba0000"/>
                          </a:solidFill>
                          <a:latin typeface="Arial"/>
                        </a:rPr>
                        <a:t>UT Knoxvil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73160"/>
                          <a:tab algn="l" pos="345960"/>
                          <a:tab algn="l" pos="519120"/>
                          <a:tab algn="l" pos="692280"/>
                          <a:tab algn="l" pos="865080"/>
                          <a:tab algn="l" pos="1038240"/>
                          <a:tab algn="l" pos="1211400"/>
                          <a:tab algn="l" pos="1384200"/>
                          <a:tab algn="l" pos="1557360"/>
                          <a:tab algn="l" pos="1730520"/>
                          <a:tab algn="l" pos="1903320"/>
                          <a:tab algn="l" pos="2076480"/>
                          <a:tab algn="l" pos="2249640"/>
                          <a:tab algn="l" pos="2422440"/>
                          <a:tab algn="l" pos="2595600"/>
                          <a:tab algn="l" pos="2768760"/>
                          <a:tab algn="l" pos="2941560"/>
                          <a:tab algn="l" pos="3114720"/>
                          <a:tab algn="l" pos="3287880"/>
                          <a:tab algn="l" pos="346068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66"/>
                          </a:solidFill>
                          <a:uFillTx/>
                          <a:latin typeface="Arial"/>
                        </a:rPr>
                        <a:t>Computer Sci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73160"/>
                          <a:tab algn="l" pos="345960"/>
                          <a:tab algn="l" pos="519120"/>
                          <a:tab algn="l" pos="692280"/>
                          <a:tab algn="l" pos="865080"/>
                          <a:tab algn="l" pos="1038240"/>
                          <a:tab algn="l" pos="1211400"/>
                          <a:tab algn="l" pos="1384200"/>
                          <a:tab algn="l" pos="1557360"/>
                          <a:tab algn="l" pos="1730520"/>
                          <a:tab algn="l" pos="1903320"/>
                          <a:tab algn="l" pos="2076480"/>
                          <a:tab algn="l" pos="2249640"/>
                          <a:tab algn="l" pos="2422440"/>
                          <a:tab algn="l" pos="2595600"/>
                          <a:tab algn="l" pos="2768760"/>
                          <a:tab algn="l" pos="2941560"/>
                          <a:tab algn="l" pos="3114720"/>
                          <a:tab algn="l" pos="3287880"/>
                          <a:tab algn="l" pos="346068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Michael Berry, Ph.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73160"/>
                          <a:tab algn="l" pos="345960"/>
                          <a:tab algn="l" pos="519120"/>
                          <a:tab algn="l" pos="692280"/>
                          <a:tab algn="l" pos="865080"/>
                          <a:tab algn="l" pos="1038240"/>
                          <a:tab algn="l" pos="1211400"/>
                          <a:tab algn="l" pos="1384200"/>
                          <a:tab algn="l" pos="1557360"/>
                          <a:tab algn="l" pos="1730520"/>
                          <a:tab algn="l" pos="1903320"/>
                          <a:tab algn="l" pos="2076480"/>
                          <a:tab algn="l" pos="2249640"/>
                          <a:tab algn="l" pos="2422440"/>
                          <a:tab algn="l" pos="2595600"/>
                          <a:tab algn="l" pos="2768760"/>
                          <a:tab algn="l" pos="2941560"/>
                          <a:tab algn="l" pos="3114720"/>
                          <a:tab algn="l" pos="3287880"/>
                          <a:tab algn="l" pos="346068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Kevin Heinri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3505320" y="5334120"/>
            <a:ext cx="2133360" cy="91260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2057400" y="5334120"/>
            <a:ext cx="585720" cy="838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3"/>
          <a:stretch/>
        </p:blipFill>
        <p:spPr>
          <a:xfrm>
            <a:off x="5791320" y="5257800"/>
            <a:ext cx="1218960" cy="91440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6524280" y="573408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8000"/>
                </a:solidFill>
                <a:latin typeface="Times New Roman"/>
              </a:rPr>
              <a:t>Center </a:t>
            </a:r>
            <a:r>
              <a:rPr b="1" i="1" lang="en-US" sz="800" spc="-1" strike="noStrike">
                <a:solidFill>
                  <a:srgbClr val="008000"/>
                </a:solidFill>
                <a:latin typeface="Times New Roman"/>
              </a:rPr>
              <a:t>for</a:t>
            </a:r>
            <a:r>
              <a:rPr b="1" lang="en-US" sz="800" spc="-1" strike="noStrike">
                <a:solidFill>
                  <a:srgbClr val="008000"/>
                </a:solidFill>
                <a:latin typeface="Times New Roman"/>
              </a:rPr>
              <a:t> Neurobiolog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i="1" lang="en-US" sz="800" spc="-1" strike="noStrike">
                <a:solidFill>
                  <a:srgbClr val="008000"/>
                </a:solidFill>
                <a:latin typeface="Times New Roman"/>
              </a:rPr>
              <a:t>of</a:t>
            </a:r>
            <a:r>
              <a:rPr b="1" lang="en-US" sz="800" spc="-1" strike="noStrike">
                <a:solidFill>
                  <a:srgbClr val="008000"/>
                </a:solidFill>
                <a:latin typeface="Times New Roman"/>
              </a:rPr>
              <a:t> Brain Diseas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diagram of GO terms and annotated gene product"/>
          <p:cNvPicPr/>
          <p:nvPr/>
        </p:nvPicPr>
        <p:blipFill>
          <a:blip r:embed="rId1"/>
          <a:stretch/>
        </p:blipFill>
        <p:spPr>
          <a:xfrm>
            <a:off x="2127240" y="1066680"/>
            <a:ext cx="4883040" cy="51818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1760" y="-360"/>
            <a:ext cx="782784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0000"/>
                </a:solidFill>
                <a:latin typeface="Arial"/>
              </a:rPr>
              <a:t>Gene Ontology Consortium</a:t>
            </a:r>
            <a:br>
              <a:rPr sz="3200"/>
            </a:br>
            <a:r>
              <a:rPr b="0" lang="en-US" sz="3200" spc="-1" strike="noStrike">
                <a:solidFill>
                  <a:srgbClr val="ba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ba0000"/>
                </a:solidFill>
                <a:latin typeface="Arial"/>
              </a:rPr>
              <a:t>http://www.geneontology.org/</a:t>
            </a:r>
            <a:r>
              <a:rPr b="0" lang="en-US" sz="3200" spc="-1" strike="noStrike">
                <a:solidFill>
                  <a:srgbClr val="ba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ba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1760" y="-360"/>
            <a:ext cx="782784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0000"/>
                </a:solidFill>
                <a:latin typeface="Arial"/>
              </a:rPr>
              <a:t>Products of the </a:t>
            </a:r>
            <a:br>
              <a:rPr sz="3200"/>
            </a:br>
            <a:r>
              <a:rPr b="0" lang="en-US" sz="3200" spc="-1" strike="noStrike">
                <a:solidFill>
                  <a:srgbClr val="ba0000"/>
                </a:solidFill>
                <a:latin typeface="Arial"/>
              </a:rPr>
              <a:t>National Library of Medicine</a:t>
            </a:r>
            <a:endParaRPr b="0" lang="en-US" sz="3200" spc="-1" strike="noStrike">
              <a:solidFill>
                <a:srgbClr val="ba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670536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Databas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9874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GenBank, UniGene, LocusLink (Gene)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9874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EDLINE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9874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OMIM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rvices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9874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HealthSTAR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9874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Health Services Research Projects in Progres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9874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HSTAT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Vocabulary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9874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edical Subject Headings (MeSH)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9874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NLM Classification 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9874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Unified Medical language System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1760" y="-360"/>
            <a:ext cx="782784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a0000"/>
                </a:solidFill>
                <a:latin typeface="Arial"/>
              </a:rPr>
              <a:t>NCBI’s </a:t>
            </a:r>
            <a:r>
              <a:rPr b="0" i="1" lang="en-US" sz="4000" spc="-1" strike="noStrike">
                <a:solidFill>
                  <a:srgbClr val="ba0000"/>
                </a:solidFill>
                <a:latin typeface="Arial"/>
              </a:rPr>
              <a:t>Entrez</a:t>
            </a:r>
            <a:r>
              <a:rPr b="0" lang="en-US" sz="3600" spc="-1" strike="noStrike">
                <a:solidFill>
                  <a:srgbClr val="ba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www.ncbi.nlm.nih.gov/entrez/</a:t>
            </a:r>
            <a:r>
              <a:rPr b="0" lang="en-US" sz="1800" spc="-1" strike="noStrike">
                <a:solidFill>
                  <a:srgbClr val="ba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ba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ba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rcRect l="-1940" t="25889" r="38836" b="6798"/>
          <a:stretch/>
        </p:blipFill>
        <p:spPr>
          <a:xfrm>
            <a:off x="1371600" y="1371600"/>
            <a:ext cx="601992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1760" y="-360"/>
            <a:ext cx="782784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ba0000"/>
                </a:solidFill>
                <a:latin typeface="Arial"/>
              </a:rPr>
              <a:t>MEDLINE</a:t>
            </a:r>
            <a:br>
              <a:rPr sz="3200"/>
            </a:br>
            <a:r>
              <a:rPr b="0" lang="en-US" sz="3200" spc="-1" strike="noStrike">
                <a:solidFill>
                  <a:srgbClr val="ba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ba0000"/>
                </a:solidFill>
                <a:latin typeface="Arial"/>
              </a:rPr>
              <a:t>Pubmed:</a:t>
            </a:r>
            <a:r>
              <a:rPr b="0" lang="en-US" sz="3200" spc="-1" strike="noStrike">
                <a:solidFill>
                  <a:srgbClr val="ba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www.ncbi.nlm.nih.gov/entrez/query.fcgi?db=PubMed</a:t>
            </a:r>
            <a:r>
              <a:rPr b="0" lang="en-US" sz="2400" spc="-1" strike="noStrike">
                <a:solidFill>
                  <a:srgbClr val="ba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ba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670572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edical literature, analysis and retrieval system onlin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Over 12 million citations from over 4,600 international journals (89% are in English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overs basic biomedical research and clinical sciences dated back to 1966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itations have defined structure. (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Example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an be searched through PubMED® using MeSH terms, author names, title words, journal names, phrase, or any combination of these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8600" y="19080"/>
            <a:ext cx="769608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a0000"/>
                </a:solidFill>
                <a:latin typeface="Arial"/>
              </a:rPr>
              <a:t>Medical Subject Heading (MeSH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18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www.nlm.nih.gov/mesh/meshhome.html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600200"/>
            <a:ext cx="670572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irst edition 19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ontrolled vocabulary – A Thesau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Used for indexing MEDLINE and Index Medi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22,568 descriptors in hierarchical and alphabetical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30120" y="76320"/>
            <a:ext cx="812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0000"/>
                </a:solidFill>
                <a:latin typeface="Arial"/>
              </a:rPr>
              <a:t>MeSH Keywords are organized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0000"/>
                </a:solidFill>
                <a:latin typeface="Arial"/>
              </a:rPr>
              <a:t>15 Concept Hierarch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8880" y="1525320"/>
            <a:ext cx="8080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tomy [A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sms [B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eases [C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micals and Drugs [D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lytical, Diagnostic and Therapeutic Techniques and Equipment [E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sychiatry and Psychology [F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ological Sciences [G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al Sciences [H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thropology, Education, Sociology and Social Phenomena [I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ology and Food and Beverages [J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manities [K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tion Science [L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ons [M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lth Care [N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ographic Locations [Z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49160" y="6019920"/>
            <a:ext cx="434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e9ce8"/>
                </a:solidFill>
                <a:latin typeface="Arial"/>
              </a:rPr>
              <a:t>From </a:t>
            </a:r>
            <a:r>
              <a:rPr b="0" lang="en-US" sz="14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www.nlm.nih.gov/cgi/mesh/2004/MB_cgi</a:t>
            </a:r>
            <a:r>
              <a:rPr b="0" lang="en-US" sz="1400" spc="-1" strike="noStrike" u="sng">
                <a:solidFill>
                  <a:srgbClr val="7e9ce8"/>
                </a:solidFill>
                <a:uFillTx/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3T17:24:23Z</dcterms:created>
  <dc:creator>Ramin Homayouni</dc:creator>
  <dc:description/>
  <dc:language>en-US</dc:language>
  <cp:lastModifiedBy>Ramin Homayouni</cp:lastModifiedBy>
  <dcterms:modified xsi:type="dcterms:W3CDTF">2004-08-11T23:38:27Z</dcterms:modified>
  <cp:revision>219</cp:revision>
  <dc:subject/>
  <dc:title>Slide 1</dc:title>
</cp:coreProperties>
</file>