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240-2398-469A-B50A-DA33373A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98E-B256-4B93-9229-BBE5992A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1F9-C9C4-4EE6-A579-97E2CD7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970-3023-4F28-8569-004F7290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D70-1655-48CF-A216-5BD3D32C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C7A-E362-4CA8-BA37-B11DD7B4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079-68A1-4492-9BC8-F1DDF6D6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51D-4180-4142-8D95-7A976767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5CC-D50C-4778-B729-31E11B55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EC6-562E-4A0A-9E16-64D9417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70A-08A6-43BE-A005-3BDB077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DCF-38A0-478D-A95A-75307847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3E0-A79F-4315-A560-E6C67860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quarterhorses.com/gallery/display.html?id=5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mouse-genome.bcm.tmc.edu/images/ENUimage/ENU.JPG" TargetMode="External"/><Relationship Id="rId2" Type="http://schemas.openxmlformats.org/officeDocument/2006/relationships/hyperlink" Target="http://www.mouse-genome.bcm.tmc.edu/images/ENUimage/ENU.JPG" TargetMode="External"/><Relationship Id="rId3" Type="http://schemas.openxmlformats.org/officeDocument/2006/relationships/hyperlink" Target="http://www.mouse-genome.bcm.tmc.edu/images/ENUimage/ENU.JPG" TargetMode="External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What’s it all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ron C.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nnsylvania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48752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15240" y="3429000"/>
            <a:ext cx="222876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37040"/>
            <a:ext cx="3505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Cau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=G+E  -- additi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not all genotypes (genes) work the same in different environments – 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=G+E+(GX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 the story of the serotonin transporter gene and depression (forthcoming l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Conditions Attributable to Singl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ndel’s law of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recessive or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vely uncommon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Slide 1, Introduction"/>
          <p:cNvPicPr/>
          <p:nvPr/>
        </p:nvPicPr>
        <p:blipFill>
          <a:blip r:embed="rId1"/>
          <a:stretch/>
        </p:blipFill>
        <p:spPr>
          <a:xfrm>
            <a:off x="457200" y="193680"/>
            <a:ext cx="830592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Historical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gor Mendel – gave us the basic tools for quantitative genet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les Darwin – defined “fitness” as the propensity to transmit one’s genetic material from one generation to the next.  Considered behavior as one component lending fit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Slide 1, Introdu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Phenylketonuria as Prototype of Recessively Transmitted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,000 individuals of N. European Descent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with Phenylalanine Hydroxy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buildup of Phenylalanine and Phenylpyruvic acid, toxic to catecho-laminergic neurons – severe mental retar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with phenylalanine-free d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Slide 1, Introduction"/>
          <p:cNvPicPr/>
          <p:nvPr/>
        </p:nvPicPr>
        <p:blipFill>
          <a:blip r:embed="rId1"/>
          <a:stretch/>
        </p:blipFill>
        <p:spPr>
          <a:xfrm>
            <a:off x="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09480" y="2438280"/>
          <a:ext cx="7876800" cy="1983960"/>
        </p:xfrm>
        <a:graphic>
          <a:graphicData uri="http://schemas.openxmlformats.org/drawingml/2006/table">
            <a:tbl>
              <a:tblPr/>
              <a:tblGrid>
                <a:gridCol w="1220040"/>
                <a:gridCol w="1271520"/>
                <a:gridCol w="2057040"/>
                <a:gridCol w="332820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pl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261 to G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hyperphenylalani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408 to T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 P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S12DS, G-A, 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 P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158 to G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d P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66"/>
                      </a:solidFill>
                    </a:lnL>
                    <a:lnR w="4320">
                      <a:solidFill>
                        <a:srgbClr val="000066"/>
                      </a:solidFill>
                    </a:lnR>
                    <a:lnT w="4320">
                      <a:solidFill>
                        <a:srgbClr val="000066"/>
                      </a:solidFill>
                    </a:lnT>
                    <a:lnB w="4320">
                      <a:solidFill>
                        <a:srgbClr val="000066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85800" y="754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KU is based on 4 mutations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a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ed on Chromosome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Diagram showing the metabolic block in &#10;PKU"/>
          <p:cNvPicPr/>
          <p:nvPr/>
        </p:nvPicPr>
        <p:blipFill>
          <a:blip r:embed="rId1"/>
          <a:stretch/>
        </p:blipFill>
        <p:spPr>
          <a:xfrm>
            <a:off x="219240" y="1905120"/>
            <a:ext cx="8924760" cy="450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457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eiotropic effects of P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69960" y="0"/>
            <a:ext cx="56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6840" y="395280"/>
            <a:ext cx="48103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Diagram showing inheritance of PKU"/>
          <p:cNvPicPr/>
          <p:nvPr/>
        </p:nvPicPr>
        <p:blipFill>
          <a:blip r:embed="rId1"/>
          <a:stretch/>
        </p:blipFill>
        <p:spPr>
          <a:xfrm>
            <a:off x="838080" y="676440"/>
            <a:ext cx="74678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Environmental Control of the Pheno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t  - most direct way to show how non genetic interventions can modify an otherwise “determined” genetic dis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Huntington’s Disease as Example of Dominant Genetic Con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in 1872 by Physician George Hunt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essive neurodegeneration of basal forebrain, cognitive, affective and motor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ed to be a late-expressed dominant leth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 is on Chromosome 4 – protein huntingtin – discovered in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nown effective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Historical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ctional Psychology seized upon evolution and described fitness in terms of biologically determined behaviors – i.e., instin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ologists also began to look at some behaviors as being primarily biologically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Slide 1, Introdu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Historical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volt by American Behavioral Psychologists, notably J. B. 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nly thing inherited is structure.  Behaviors do not evolve, nor are in any way affected by biological makeup other than structure.  This why birds can fly and humans can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ccessors, Skinner and the Epi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Genetics is still looked upon with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Philosophical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tic determinists.  All behavior is largely influenced by genes – more so than by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ism.  Recognizes the complex interplay between genes and environment.  Claim is that they are so intricately intertwined that study is beyond empirical me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 behavioral neurogenetics.  Recognizes the complex interplay between genes and environment.  Newly emerging discipline of Complex Traits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Complex Trai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gnizes the complex interplay between genes and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rts that most phenotypes of interest are influenced by multiple genes in an algebraically additive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s on and is in the forefront of development of bioinformational systems and models capable of dealing with the 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191120"/>
            <a:ext cx="9903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7524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5812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62320"/>
            <a:ext cx="9903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828800"/>
            <a:ext cx="533160" cy="304920"/>
          </a:xfrm>
          <a:prstGeom prst="ellipse">
            <a:avLst/>
          </a:prstGeom>
          <a:solidFill>
            <a:srgbClr val="f9c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2362320"/>
            <a:ext cx="533160" cy="304560"/>
          </a:xfrm>
          <a:prstGeom prst="ellipse">
            <a:avLst/>
          </a:prstGeom>
          <a:solidFill>
            <a:srgbClr val="f9c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971800"/>
            <a:ext cx="533160" cy="304920"/>
          </a:xfrm>
          <a:prstGeom prst="ellipse">
            <a:avLst/>
          </a:prstGeom>
          <a:solidFill>
            <a:srgbClr val="f9c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581280"/>
            <a:ext cx="533160" cy="304920"/>
          </a:xfrm>
          <a:prstGeom prst="ellipse">
            <a:avLst/>
          </a:prstGeom>
          <a:solidFill>
            <a:srgbClr val="f9c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91120"/>
            <a:ext cx="533160" cy="304560"/>
          </a:xfrm>
          <a:prstGeom prst="ellipse">
            <a:avLst/>
          </a:prstGeom>
          <a:solidFill>
            <a:srgbClr val="f9c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343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19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990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990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981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838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mone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9144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7524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362320"/>
            <a:ext cx="685800" cy="380880"/>
          </a:xfrm>
          <a:prstGeom prst="hexagon">
            <a:avLst>
              <a:gd name="adj" fmla="val 4501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8954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505320"/>
            <a:ext cx="685800" cy="380880"/>
          </a:xfrm>
          <a:prstGeom prst="hexagon">
            <a:avLst>
              <a:gd name="adj" fmla="val 4501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114800"/>
            <a:ext cx="685800" cy="380880"/>
          </a:xfrm>
          <a:prstGeom prst="hexagon">
            <a:avLst>
              <a:gd name="adj" fmla="val 4501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057400" y="21337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057400" y="388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133720"/>
            <a:ext cx="1676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75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3623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umm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35053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arma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24852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114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095880" y="27432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720" y="2666880"/>
            <a:ext cx="2133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80360" y="1981080"/>
            <a:ext cx="863640" cy="1765440"/>
          </a:xfrm>
          <a:custGeom>
            <a:avLst/>
            <a:gdLst/>
            <a:ahLst/>
            <a:rect l="l" t="t" r="r" b="b"/>
            <a:pathLst>
              <a:path w="544" h="1112">
                <a:moveTo>
                  <a:pt x="0" y="8"/>
                </a:moveTo>
                <a:cubicBezTo>
                  <a:pt x="148" y="4"/>
                  <a:pt x="296" y="0"/>
                  <a:pt x="384" y="56"/>
                </a:cubicBezTo>
                <a:cubicBezTo>
                  <a:pt x="472" y="112"/>
                  <a:pt x="512" y="224"/>
                  <a:pt x="528" y="344"/>
                </a:cubicBezTo>
                <a:cubicBezTo>
                  <a:pt x="544" y="464"/>
                  <a:pt x="520" y="648"/>
                  <a:pt x="480" y="776"/>
                </a:cubicBezTo>
                <a:cubicBezTo>
                  <a:pt x="440" y="904"/>
                  <a:pt x="320" y="1056"/>
                  <a:pt x="288" y="1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45784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19760" y="40384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57240"/>
            <a:ext cx="739152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Behavioral Neurogenetics: A New Way of Looking at Brain-behavio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uch variation is there in my phenotype, i.e. what causes individual dif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possible sources of var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-Environment Inter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can genetic-based variability in one phenotype tell me about other pheno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genes that influence my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Who are the subjects of stu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mat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What are the “Fit Materials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huma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o- and heter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red together and reared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What are the “Fit Materials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, genetically segregating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ed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bred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b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genic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 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 nul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 genetic-based variability in one phenotype to explore variability in other phenotypes wit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mm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tic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genes and gene products that affect phenotype primarily or through gene-gene interactions targeted ph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Research Questions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nature of genetic influence affecting the phenotype of inte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gen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ygen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ng the many indices of alcohol and cocaine sensitivity are there phenotypes which are related and also under common genetic influ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-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in-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Research Questions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752480"/>
            <a:ext cx="6858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location of genes tha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fl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phenotyp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re indications of genes in common whic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fl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rain-behavior sys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How Do We Find Out?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aterials Available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tically heterogeneous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pe of distribution of mea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3475080"/>
            <a:ext cx="2363760" cy="869760"/>
          </a:xfrm>
          <a:custGeom>
            <a:avLst/>
            <a:gdLst/>
            <a:ahLst/>
            <a:rect l="l" t="t" r="r" b="b"/>
            <a:pathLst>
              <a:path w="1489" h="548">
                <a:moveTo>
                  <a:pt x="0" y="451"/>
                </a:moveTo>
                <a:lnTo>
                  <a:pt x="53" y="454"/>
                </a:lnTo>
                <a:lnTo>
                  <a:pt x="97" y="469"/>
                </a:lnTo>
                <a:lnTo>
                  <a:pt x="155" y="439"/>
                </a:lnTo>
                <a:lnTo>
                  <a:pt x="199" y="395"/>
                </a:lnTo>
                <a:lnTo>
                  <a:pt x="228" y="351"/>
                </a:lnTo>
                <a:lnTo>
                  <a:pt x="272" y="308"/>
                </a:lnTo>
                <a:lnTo>
                  <a:pt x="316" y="264"/>
                </a:lnTo>
                <a:lnTo>
                  <a:pt x="345" y="205"/>
                </a:lnTo>
                <a:lnTo>
                  <a:pt x="389" y="147"/>
                </a:lnTo>
                <a:lnTo>
                  <a:pt x="419" y="103"/>
                </a:lnTo>
                <a:lnTo>
                  <a:pt x="462" y="59"/>
                </a:lnTo>
                <a:lnTo>
                  <a:pt x="506" y="30"/>
                </a:lnTo>
                <a:lnTo>
                  <a:pt x="550" y="0"/>
                </a:lnTo>
                <a:lnTo>
                  <a:pt x="594" y="0"/>
                </a:lnTo>
                <a:lnTo>
                  <a:pt x="682" y="0"/>
                </a:lnTo>
                <a:lnTo>
                  <a:pt x="770" y="0"/>
                </a:lnTo>
                <a:lnTo>
                  <a:pt x="828" y="0"/>
                </a:lnTo>
                <a:lnTo>
                  <a:pt x="887" y="44"/>
                </a:lnTo>
                <a:lnTo>
                  <a:pt x="931" y="73"/>
                </a:lnTo>
                <a:lnTo>
                  <a:pt x="989" y="117"/>
                </a:lnTo>
                <a:lnTo>
                  <a:pt x="1033" y="161"/>
                </a:lnTo>
                <a:lnTo>
                  <a:pt x="1062" y="205"/>
                </a:lnTo>
                <a:lnTo>
                  <a:pt x="1092" y="249"/>
                </a:lnTo>
                <a:lnTo>
                  <a:pt x="1150" y="308"/>
                </a:lnTo>
                <a:lnTo>
                  <a:pt x="1194" y="366"/>
                </a:lnTo>
                <a:lnTo>
                  <a:pt x="1238" y="410"/>
                </a:lnTo>
                <a:lnTo>
                  <a:pt x="1282" y="454"/>
                </a:lnTo>
                <a:lnTo>
                  <a:pt x="1326" y="469"/>
                </a:lnTo>
                <a:lnTo>
                  <a:pt x="1370" y="498"/>
                </a:lnTo>
                <a:lnTo>
                  <a:pt x="1428" y="498"/>
                </a:lnTo>
                <a:lnTo>
                  <a:pt x="1392" y="499"/>
                </a:lnTo>
                <a:lnTo>
                  <a:pt x="1440" y="499"/>
                </a:lnTo>
                <a:lnTo>
                  <a:pt x="1440" y="499"/>
                </a:lnTo>
                <a:lnTo>
                  <a:pt x="1392" y="499"/>
                </a:lnTo>
                <a:lnTo>
                  <a:pt x="1488" y="5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276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419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6320" y="3641760"/>
            <a:ext cx="57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3429000"/>
            <a:ext cx="3059280" cy="839880"/>
          </a:xfrm>
          <a:custGeom>
            <a:avLst/>
            <a:gdLst/>
            <a:ahLst/>
            <a:rect l="l" t="t" r="r" b="b"/>
            <a:pathLst>
              <a:path w="1927" h="529">
                <a:moveTo>
                  <a:pt x="0" y="528"/>
                </a:moveTo>
                <a:lnTo>
                  <a:pt x="53" y="527"/>
                </a:lnTo>
                <a:lnTo>
                  <a:pt x="82" y="483"/>
                </a:lnTo>
                <a:lnTo>
                  <a:pt x="97" y="439"/>
                </a:lnTo>
                <a:lnTo>
                  <a:pt x="97" y="395"/>
                </a:lnTo>
                <a:lnTo>
                  <a:pt x="111" y="307"/>
                </a:lnTo>
                <a:lnTo>
                  <a:pt x="111" y="249"/>
                </a:lnTo>
                <a:lnTo>
                  <a:pt x="111" y="205"/>
                </a:lnTo>
                <a:lnTo>
                  <a:pt x="140" y="161"/>
                </a:lnTo>
                <a:lnTo>
                  <a:pt x="170" y="117"/>
                </a:lnTo>
                <a:lnTo>
                  <a:pt x="214" y="88"/>
                </a:lnTo>
                <a:lnTo>
                  <a:pt x="258" y="102"/>
                </a:lnTo>
                <a:lnTo>
                  <a:pt x="316" y="146"/>
                </a:lnTo>
                <a:lnTo>
                  <a:pt x="360" y="190"/>
                </a:lnTo>
                <a:lnTo>
                  <a:pt x="375" y="234"/>
                </a:lnTo>
                <a:lnTo>
                  <a:pt x="375" y="278"/>
                </a:lnTo>
                <a:lnTo>
                  <a:pt x="404" y="322"/>
                </a:lnTo>
                <a:lnTo>
                  <a:pt x="404" y="366"/>
                </a:lnTo>
                <a:lnTo>
                  <a:pt x="448" y="424"/>
                </a:lnTo>
                <a:lnTo>
                  <a:pt x="550" y="468"/>
                </a:lnTo>
                <a:lnTo>
                  <a:pt x="594" y="498"/>
                </a:lnTo>
                <a:lnTo>
                  <a:pt x="697" y="512"/>
                </a:lnTo>
                <a:lnTo>
                  <a:pt x="755" y="512"/>
                </a:lnTo>
                <a:lnTo>
                  <a:pt x="814" y="483"/>
                </a:lnTo>
                <a:lnTo>
                  <a:pt x="843" y="439"/>
                </a:lnTo>
                <a:lnTo>
                  <a:pt x="843" y="380"/>
                </a:lnTo>
                <a:lnTo>
                  <a:pt x="843" y="263"/>
                </a:lnTo>
                <a:lnTo>
                  <a:pt x="843" y="205"/>
                </a:lnTo>
                <a:lnTo>
                  <a:pt x="858" y="161"/>
                </a:lnTo>
                <a:lnTo>
                  <a:pt x="901" y="117"/>
                </a:lnTo>
                <a:lnTo>
                  <a:pt x="945" y="102"/>
                </a:lnTo>
                <a:lnTo>
                  <a:pt x="989" y="117"/>
                </a:lnTo>
                <a:lnTo>
                  <a:pt x="1106" y="146"/>
                </a:lnTo>
                <a:lnTo>
                  <a:pt x="1136" y="190"/>
                </a:lnTo>
                <a:lnTo>
                  <a:pt x="1150" y="234"/>
                </a:lnTo>
                <a:lnTo>
                  <a:pt x="1180" y="278"/>
                </a:lnTo>
                <a:lnTo>
                  <a:pt x="1194" y="322"/>
                </a:lnTo>
                <a:lnTo>
                  <a:pt x="1209" y="366"/>
                </a:lnTo>
                <a:lnTo>
                  <a:pt x="1223" y="410"/>
                </a:lnTo>
                <a:lnTo>
                  <a:pt x="1238" y="454"/>
                </a:lnTo>
                <a:lnTo>
                  <a:pt x="1326" y="498"/>
                </a:lnTo>
                <a:lnTo>
                  <a:pt x="1370" y="512"/>
                </a:lnTo>
                <a:lnTo>
                  <a:pt x="1428" y="512"/>
                </a:lnTo>
                <a:lnTo>
                  <a:pt x="1472" y="498"/>
                </a:lnTo>
                <a:lnTo>
                  <a:pt x="1516" y="454"/>
                </a:lnTo>
                <a:lnTo>
                  <a:pt x="1575" y="395"/>
                </a:lnTo>
                <a:lnTo>
                  <a:pt x="1589" y="351"/>
                </a:lnTo>
                <a:lnTo>
                  <a:pt x="1604" y="307"/>
                </a:lnTo>
                <a:lnTo>
                  <a:pt x="1604" y="249"/>
                </a:lnTo>
                <a:lnTo>
                  <a:pt x="1604" y="205"/>
                </a:lnTo>
                <a:lnTo>
                  <a:pt x="1604" y="161"/>
                </a:lnTo>
                <a:lnTo>
                  <a:pt x="1619" y="117"/>
                </a:lnTo>
                <a:lnTo>
                  <a:pt x="1619" y="73"/>
                </a:lnTo>
                <a:lnTo>
                  <a:pt x="1677" y="29"/>
                </a:lnTo>
                <a:lnTo>
                  <a:pt x="1721" y="0"/>
                </a:lnTo>
                <a:lnTo>
                  <a:pt x="1838" y="15"/>
                </a:lnTo>
                <a:lnTo>
                  <a:pt x="1882" y="59"/>
                </a:lnTo>
                <a:lnTo>
                  <a:pt x="1897" y="117"/>
                </a:lnTo>
                <a:lnTo>
                  <a:pt x="1897" y="161"/>
                </a:lnTo>
                <a:lnTo>
                  <a:pt x="1911" y="220"/>
                </a:lnTo>
                <a:lnTo>
                  <a:pt x="1911" y="278"/>
                </a:lnTo>
                <a:lnTo>
                  <a:pt x="1911" y="322"/>
                </a:lnTo>
                <a:lnTo>
                  <a:pt x="1926" y="366"/>
                </a:lnTo>
                <a:lnTo>
                  <a:pt x="1926" y="410"/>
                </a:lnTo>
                <a:lnTo>
                  <a:pt x="1926" y="4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276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441972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How Do We Find Out?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aterials Available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ed 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s of her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number of gen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lated respo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-selected responses -- genetically associated or fortuitous?  With 2 lines, df for 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icate lines one approach to solution, still, few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How Do We Find Out?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aterials Available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bred strains.  Produced by 20+ generations of brother-sister inbr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s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metric analysis for heritability, mechanism of transmission, number of genes involv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lated responses; df limited by number of inbred strains stu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behavior inheri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behavior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unctionalis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How Do We Find Out?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aterials Available</a:t>
            </a:r>
            <a:br>
              <a:rPr sz="44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binant Inbred St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rived from 2 inbred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lleles as parental strains, but rearr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lated responses, number of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arentals are genotyped, </a:t>
            </a: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quantitative trait loc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sion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82840" y="789120"/>
            <a:ext cx="21600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5840" y="789120"/>
            <a:ext cx="216000" cy="11300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83040" y="789120"/>
            <a:ext cx="216000" cy="11300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42840" y="1790640"/>
            <a:ext cx="676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7760" y="2770200"/>
            <a:ext cx="216000" cy="113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770200"/>
            <a:ext cx="216000" cy="11304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42840" y="4152960"/>
            <a:ext cx="676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01960" y="789120"/>
            <a:ext cx="21600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8080" y="5437080"/>
            <a:ext cx="21564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8080" y="5208480"/>
            <a:ext cx="215640" cy="2160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" y="5818320"/>
            <a:ext cx="216000" cy="215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4560" y="6046920"/>
            <a:ext cx="21600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4560" y="5208480"/>
            <a:ext cx="21600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4560" y="5589720"/>
            <a:ext cx="21600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8080" y="5818320"/>
            <a:ext cx="21564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8080" y="6046920"/>
            <a:ext cx="215640" cy="215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16160" y="5284800"/>
            <a:ext cx="216000" cy="44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5742000"/>
            <a:ext cx="216000" cy="633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16160" y="5208480"/>
            <a:ext cx="216000" cy="63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6160" y="5818320"/>
            <a:ext cx="216000" cy="215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6160" y="6046920"/>
            <a:ext cx="21600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9680" y="5208480"/>
            <a:ext cx="215640" cy="216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9680" y="5361120"/>
            <a:ext cx="21564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9680" y="5589720"/>
            <a:ext cx="215640" cy="6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9680" y="5665680"/>
            <a:ext cx="215640" cy="4446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9680" y="6046920"/>
            <a:ext cx="215640" cy="215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64080" y="5208480"/>
            <a:ext cx="215640" cy="520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64080" y="5742000"/>
            <a:ext cx="215640" cy="2160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64080" y="5970600"/>
            <a:ext cx="215640" cy="6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64080" y="6046920"/>
            <a:ext cx="215640" cy="215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21280" y="5208480"/>
            <a:ext cx="215640" cy="4446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21280" y="5665680"/>
            <a:ext cx="215640" cy="216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1280" y="5894280"/>
            <a:ext cx="215640" cy="2160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21280" y="6046920"/>
            <a:ext cx="215640" cy="215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2960" y="46080"/>
            <a:ext cx="611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5400" y="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5720" y="297180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00" y="541008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2680" y="5257800"/>
            <a:ext cx="1377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92280" y="2216160"/>
            <a:ext cx="21564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9480" y="206388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2280" y="2521080"/>
            <a:ext cx="215640" cy="291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7560" y="2063880"/>
            <a:ext cx="21600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2280" y="2825640"/>
            <a:ext cx="21564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9480" y="2216160"/>
            <a:ext cx="21564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215640" cy="291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2825640"/>
            <a:ext cx="21564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2280" y="206388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7560" y="2978280"/>
            <a:ext cx="21600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21080" y="297828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7560" y="2673360"/>
            <a:ext cx="21600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21080" y="2673360"/>
            <a:ext cx="21564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7560" y="2368440"/>
            <a:ext cx="216000" cy="2923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21080" y="2368440"/>
            <a:ext cx="215640" cy="2923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21080" y="2063880"/>
            <a:ext cx="21564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35480" y="2978280"/>
            <a:ext cx="21564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44960" y="297828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35480" y="282564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35480" y="2673360"/>
            <a:ext cx="21564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5480" y="252108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5480" y="2368440"/>
            <a:ext cx="21564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35480" y="2216160"/>
            <a:ext cx="21564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5480" y="2063880"/>
            <a:ext cx="21564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44960" y="2825640"/>
            <a:ext cx="21600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44960" y="267336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2521080"/>
            <a:ext cx="21600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44960" y="236844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44960" y="2216160"/>
            <a:ext cx="216000" cy="1396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44960" y="206388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180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620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4304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3240" y="297828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3240" y="2673360"/>
            <a:ext cx="216000" cy="291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3240" y="2368440"/>
            <a:ext cx="21600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83240" y="2139840"/>
            <a:ext cx="216000" cy="2923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83240" y="198756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6760" y="297828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16760" y="2673360"/>
            <a:ext cx="216000" cy="291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16760" y="2444760"/>
            <a:ext cx="216000" cy="2919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6760" y="2139840"/>
            <a:ext cx="216000" cy="2923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16760" y="1987560"/>
            <a:ext cx="216000" cy="139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884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044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468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7244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Advantages of Recombinant Inbred St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 variability in one phenotype to discover relationships to other phenotypes, ideal for study of complex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, 2-alle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ication of identified QTLs in parental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brids OR verification by marker-assisted 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enotypic data are strain means, i.e. cum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Ethanol Consumption in BXD/Ty Recombinant Inbred M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anel of RI mice is the most densely mapped, &gt; 1500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anol consumption measure reported here is acceptance of 10% v/v EtOH as sole source of fluid following 24 h fluid depri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sional QTLs identified on chromosomes 1, 4, 7, 11, 12,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Genetic Correlations Between Alcohol Acceptance and Regional D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 Receptor Den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ntal cortex, r=-0.48, p &lt;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L for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 Iapls2-4, Chromoso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cleus Accumbens r=-0.50, p&lt;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L for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c D16Byu2 , Chromosome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date-Putamen r=-0.66, p&lt;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L Colocalized, Eif4e, Chromosom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tic correlational analysis using RI strains  is an  efficient first step toward understanding brain-behavior mechanisms and other complex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Ls identified using RI strains must be considered provisional and requires independent confirmation because of the high number of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06880" y="387360"/>
            <a:ext cx="2349360" cy="21207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8760" y="4578480"/>
            <a:ext cx="2349360" cy="21207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54640" y="4349880"/>
            <a:ext cx="2349720" cy="21207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096920"/>
            <a:ext cx="1931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5249880"/>
            <a:ext cx="182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63080" y="4983120"/>
            <a:ext cx="1929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HA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465280" y="2857680"/>
            <a:ext cx="147024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422520" y="2832120"/>
            <a:ext cx="4701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478240" y="4495680"/>
            <a:ext cx="5299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5334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3341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334120" y="502884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8400" y="2530440"/>
            <a:ext cx="1587600" cy="16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536920"/>
            <a:ext cx="15264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884640" y="3614760"/>
            <a:ext cx="9828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How do we find out?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aterials Available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ations that have had the genome manipulated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How May the </a:t>
            </a: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Genome</a:t>
            </a: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evolution (Nature’s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in the frequency of an allele in a population (or new allele by mu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selective breeding (man-mad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direct manipulation of the genome – genetic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enotypes – how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otypes – how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ne you’re born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ne working at this particular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ironment – how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Genetic Manipulation of Complex 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Traits -- App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ive breeding of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fun – “fancy r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981080" y="2954160"/>
            <a:ext cx="4876920" cy="34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Genetic Manipulation of Complex 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Traits --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ive breeding of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828800" y="2678040"/>
            <a:ext cx="44197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Genetic Manipulation of Complex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Traits --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ive breeding of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809800"/>
            <a:ext cx="4648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Genetic Manipulation of Complex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Traits --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ive breeding of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knowledge – laboratory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Lab Rat with DNA"/>
          <p:cNvPicPr/>
          <p:nvPr/>
        </p:nvPicPr>
        <p:blipFill>
          <a:blip r:embed="rId1"/>
          <a:stretch/>
        </p:blipFill>
        <p:spPr>
          <a:xfrm>
            <a:off x="609480" y="2781360"/>
            <a:ext cx="59436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But – Selective Breeding is too Slow!  Are There Faster Meth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uction of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-ray ir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mutagenes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N-ethyl-N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nitrosoure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 (ENU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BUT – These methods subject the entire genome to mutations – there is no specifi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Are There More Precise Meth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 Gene Targeting – Transgen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plification of a specific gene (adding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llification of a gene (so-called Knockouts or Null Mut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ondi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678168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at Can Knockout Mice Tell Us About Behavi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to start, what should we dis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rotransmiter synthetic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rotransmitter degrading enzy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rotransmitter recep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work is currently focused on the receptors and reuptake trans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at Can Specific Neurotransmitter Receptor Knockouts Tell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an help us tes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echanistic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otheses about the role of specific receptors and systems in complex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more advanced work, they can tell us about how different receptors co-op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Some Specific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of the earliest work was conducted on serotonin (5-HT) receptor subtypes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otonin is associated with depression, anxiety, alcohol drinking and ag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tion of the receptor subtypes may reveal what (if any) role they play in these complex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usality – how a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=G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=G+E+(GX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entral Do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 genes vs. multiple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“Fit Mater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And…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e that lack a functional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eptor show less “anxiety-like” behavior but show increased aggression toward other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e that lack a functional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eptor show increased “anxiety-like” behavior but show markedly decreased aggression toward other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types of receptors are inhibitory autoreceptors but are found in different areas of neu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eliminating the function of each of the receptor types, we can determine what behaviors they influence and in the case of anxiety, perhaps give a clue to kinds of medication for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at are the Limitations of Knockou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mit the view to single gene effects.  In fact, most behavioral disorders are influenced by multipl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knockout is impaired throughout development – maybe the gene has a role in development that influences the behavior phenotype. (There are new techniques to avoid this – conditional knockouts that are expressed when the animal is given a certain chemical – antibiotic– that shuts down the gene’s fun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More Limit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now, mice are the only mammals for which this technology a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may be compensating mechanisms that “rescue” the phenotype  -- many behaviors are “overdetermin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ffect of the knockout can vary depending on the genetic background on which it is pl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Forward” and “Reverse” Gen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 genetics starts with the phenotype and then works toward the genome to identif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 genetics starts with the genome – i.e. let’s amplify or knock out gene X and let’s see what happens to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approaches are complementary to the discovery of mechanisms that influenc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So…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 knockout and amplification are transgenic, “reverse” genetic approa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ive breeding is an example of “forward” genetic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le gene engineering helps identify how discrete entities, e.g. neurotransmitter receptors, work somewhat in isolation from the rest of the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titative genetic techniques help us understand complex traits within the context of the rest of the gen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Slide 1, Introduction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8600" y="289080"/>
            <a:ext cx="891540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Ph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characteristic of the individual that can be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re basic, the more amenable to genet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be reliable in the strictest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ssion, intelligence “G” vs latency to attack, score on a particular part of an intelligenc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idity can be e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irns’ aggressive mice.  Is it aggression or reacti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ne you’re born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ne that is operating at a particular moment (momentary effective genotype, McClear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ne that has been manip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genesis --  Oak Ridg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genesis --  Targ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lified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ll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ad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bien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ten defined as absence of genetic effect – definition by what is ab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2:06:57Z</dcterms:created>
  <dc:creator>bcj</dc:creator>
  <dc:description/>
  <dc:language>en-US</dc:language>
  <cp:lastModifiedBy>bc jones</cp:lastModifiedBy>
  <dcterms:modified xsi:type="dcterms:W3CDTF">2004-08-07T14:45:26Z</dcterms:modified>
  <cp:revision>17</cp:revision>
  <dc:subject/>
  <dc:title>What’s it all about?</dc:title>
</cp:coreProperties>
</file>