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832-FC35-436C-9018-ED12B38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64F-5417-4FB4-B1DD-BC34273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A4D-D88E-4A97-ACCF-888CAC54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CA5-29C6-4F27-8B4A-C42704A2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4A0-E056-4433-A391-1E488C6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CA4-8821-40B4-9EB1-F5FA9D1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BFE-99D5-408B-8BB7-4BE89E2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EDD-F706-48AF-8752-153642E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4CA-7438-45CE-9691-033BE5DD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069-244A-4ECB-8925-B1F9D08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FA3-6DD5-42D6-AC99-C45952EE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63E-4366-4566-B1DD-451FF74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7FA-F9B8-4875-8C02-03382CBBBF4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853920"/>
            <a:ext cx="874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havioral Consequences of Hereditary Neuroanatomical Variations in the Mouse Hippocampu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080" y="4073040"/>
            <a:ext cx="92581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m E. Crus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Brudnick Neuropsychiatric Research Institute, Dept. of Psychiatry, University of Massachusetts Medical School, Worcester, MA 01604, 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117440" y="369720"/>
            <a:ext cx="8075880" cy="6167520"/>
            <a:chOff x="1117440" y="369720"/>
            <a:chExt cx="8075880" cy="6167520"/>
          </a:xfrm>
        </p:grpSpPr>
        <p:sp>
          <p:nvSpPr>
            <p:cNvPr id="172" name=""/>
            <p:cNvSpPr/>
            <p:nvPr/>
          </p:nvSpPr>
          <p:spPr>
            <a:xfrm>
              <a:off x="1117440" y="369720"/>
              <a:ext cx="8075880" cy="6167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43320" y="1181160"/>
              <a:ext cx="6186240" cy="466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3320" y="1181160"/>
              <a:ext cx="1440" cy="4667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70240" y="5848200"/>
              <a:ext cx="730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70240" y="5062680"/>
              <a:ext cx="730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70240" y="4300560"/>
              <a:ext cx="730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0240" y="3514680"/>
              <a:ext cx="730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70240" y="2728800"/>
              <a:ext cx="730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67040"/>
              <a:ext cx="730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70240" y="1181160"/>
              <a:ext cx="730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3320" y="5848200"/>
              <a:ext cx="61862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443320" y="5848200"/>
              <a:ext cx="144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70200" y="5848200"/>
              <a:ext cx="180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923000" y="5848200"/>
              <a:ext cx="144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149880" y="5848200"/>
              <a:ext cx="180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400880" y="5848200"/>
              <a:ext cx="180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29560" y="5848200"/>
              <a:ext cx="1800" cy="74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4360" y="3833640"/>
              <a:ext cx="17172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26080" y="376092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02320" y="4572000"/>
              <a:ext cx="9828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449748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48160" y="3981600"/>
              <a:ext cx="7308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0852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26440" y="5332320"/>
              <a:ext cx="3189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5400" y="5259240"/>
              <a:ext cx="144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1600" y="5184720"/>
              <a:ext cx="9828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19880" y="5111640"/>
              <a:ext cx="144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15040" y="4694400"/>
              <a:ext cx="1476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2640" y="462132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7120" y="3638520"/>
              <a:ext cx="9828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65400" y="3564000"/>
              <a:ext cx="180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32320" y="4227480"/>
              <a:ext cx="9684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29160" y="415440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98840" y="2236680"/>
              <a:ext cx="9828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97120" y="2163600"/>
              <a:ext cx="180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83000" y="383364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3000" y="3760920"/>
              <a:ext cx="180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603680" y="4572000"/>
              <a:ext cx="9864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3680" y="4497480"/>
              <a:ext cx="180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449520" y="3981600"/>
              <a:ext cx="9864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49520" y="3908520"/>
              <a:ext cx="180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130520" y="5332320"/>
              <a:ext cx="2955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30880" y="5259240"/>
              <a:ext cx="180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22960" y="5184720"/>
              <a:ext cx="9864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22960" y="5111640"/>
              <a:ext cx="180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43680" y="469440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43680" y="462132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744720" y="3638520"/>
              <a:ext cx="12204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5080" y="356400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33680" y="4227480"/>
              <a:ext cx="9828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040" y="415440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400200" y="2236680"/>
              <a:ext cx="9828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0560" y="2163600"/>
              <a:ext cx="1440" cy="17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54360" y="3638520"/>
              <a:ext cx="1800" cy="1951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81640" y="363852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702320" y="4325760"/>
              <a:ext cx="1440" cy="2462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27440" y="4325760"/>
              <a:ext cx="1731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548160" y="3784320"/>
              <a:ext cx="1440" cy="1969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75080" y="378468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426440" y="5160960"/>
              <a:ext cx="1440" cy="1713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53360" y="516096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321600" y="4963680"/>
              <a:ext cx="1440" cy="2206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8520" y="496404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315040" y="4398480"/>
              <a:ext cx="1440" cy="2955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41960" y="439884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67120" y="3317400"/>
              <a:ext cx="1440" cy="3207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4040" y="331776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432320" y="3833640"/>
              <a:ext cx="1440" cy="3938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57800" y="383364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498840" y="1450440"/>
              <a:ext cx="1440" cy="7858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25760" y="145080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4360" y="3833640"/>
              <a:ext cx="1800" cy="1969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81640" y="403056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02320" y="4572000"/>
              <a:ext cx="1440" cy="2206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27440" y="4792680"/>
              <a:ext cx="1731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8160" y="3981600"/>
              <a:ext cx="1440" cy="1965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75080" y="417816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26440" y="5332320"/>
              <a:ext cx="1440" cy="1969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3360" y="552924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21600" y="5184720"/>
              <a:ext cx="1440" cy="2462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8520" y="543096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15040" y="4694400"/>
              <a:ext cx="1440" cy="2696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41960" y="496404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67120" y="3638520"/>
              <a:ext cx="1440" cy="29376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4040" y="393228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32320" y="4227480"/>
              <a:ext cx="1440" cy="3682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7800" y="4595760"/>
              <a:ext cx="1713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98840" y="2236680"/>
              <a:ext cx="1440" cy="7621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5760" y="2998800"/>
              <a:ext cx="1713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81640" y="3760920"/>
              <a:ext cx="122040" cy="12204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7440" y="4497480"/>
              <a:ext cx="123840" cy="12384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5080" y="3908520"/>
              <a:ext cx="122040" cy="12204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53360" y="5259240"/>
              <a:ext cx="122040" cy="12240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5111640"/>
              <a:ext cx="122040" cy="12240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41960" y="4621320"/>
              <a:ext cx="122040" cy="12204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94040" y="3564000"/>
              <a:ext cx="122400" cy="12204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57800" y="4154400"/>
              <a:ext cx="123840" cy="12240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5760" y="2163600"/>
              <a:ext cx="122400" cy="12240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67360" y="566640"/>
              <a:ext cx="377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patial 8-arm confin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60720" y="5676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720" y="48909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720" y="41292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60720" y="3343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720" y="2557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3120" y="17953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13120" y="10098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072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760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0860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3728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8828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15520" y="6070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65000" y="6070680"/>
              <a:ext cx="71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IIPMF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842400" y="3306600"/>
              <a:ext cx="155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Errors day 5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62600" y="1598760"/>
              <a:ext cx="149868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13080" y="1623960"/>
              <a:ext cx="1296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rho = -0.9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12360" y="1992240"/>
              <a:ext cx="1149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P &lt; 0.001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05160" y="2360520"/>
              <a:ext cx="601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n = 9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480" y="1427040"/>
              <a:ext cx="1693800" cy="142416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440560" y="122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1440" y="1735200"/>
            <a:ext cx="948960" cy="64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ho = 0.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 = 0.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 = 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66960" y="488880"/>
            <a:ext cx="8265960" cy="5897880"/>
            <a:chOff x="966960" y="488880"/>
            <a:chExt cx="8265960" cy="5897880"/>
          </a:xfrm>
        </p:grpSpPr>
        <p:sp>
          <p:nvSpPr>
            <p:cNvPr id="294" name=""/>
            <p:cNvSpPr/>
            <p:nvPr/>
          </p:nvSpPr>
          <p:spPr>
            <a:xfrm>
              <a:off x="966960" y="488880"/>
              <a:ext cx="8265960" cy="5897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1080" y="1482840"/>
              <a:ext cx="6924960" cy="378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1482840"/>
              <a:ext cx="1800" cy="378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1240" y="527220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11240" y="46371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11240" y="400392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1240" y="338616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1240" y="275112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11240" y="211788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11240" y="148284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81080" y="5272200"/>
              <a:ext cx="6924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981080" y="5272200"/>
              <a:ext cx="180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046320" y="5272200"/>
              <a:ext cx="180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111560" y="5272200"/>
              <a:ext cx="180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176800" y="5272200"/>
              <a:ext cx="180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242040" y="5272200"/>
              <a:ext cx="144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307280" y="5272200"/>
              <a:ext cx="144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372520" y="5272200"/>
              <a:ext cx="1440" cy="68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54800" y="3625920"/>
              <a:ext cx="48096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5760" y="3575160"/>
              <a:ext cx="144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78400" y="4226040"/>
              <a:ext cx="91116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89560" y="4175280"/>
              <a:ext cx="144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0040" y="3764160"/>
              <a:ext cx="18558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75840" y="3711600"/>
              <a:ext cx="1440" cy="1206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8680" y="4861080"/>
              <a:ext cx="17136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0040" y="4808520"/>
              <a:ext cx="1440" cy="1206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45080" y="4740480"/>
              <a:ext cx="90972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54800" y="4689720"/>
              <a:ext cx="1440" cy="118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5080" y="4329360"/>
              <a:ext cx="32544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70520" y="4278240"/>
              <a:ext cx="144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42040" y="3471840"/>
              <a:ext cx="12207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2800" y="342108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2040" y="2340000"/>
              <a:ext cx="9111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53200" y="228924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073120" y="3625920"/>
              <a:ext cx="48132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73480" y="357516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668320" y="4226040"/>
              <a:ext cx="90972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8680" y="4175280"/>
              <a:ext cx="144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748040" y="3764160"/>
              <a:ext cx="18720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8040" y="3711600"/>
              <a:ext cx="1800" cy="1206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513160" y="4861080"/>
              <a:ext cx="15552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3160" y="4808520"/>
              <a:ext cx="1440" cy="1206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733560" y="4740480"/>
              <a:ext cx="91116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3920" y="4689720"/>
              <a:ext cx="1440" cy="118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317480" y="4329360"/>
              <a:ext cx="32724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17840" y="427824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022360" y="3471840"/>
              <a:ext cx="12193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22720" y="342108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331960" y="2340000"/>
              <a:ext cx="9097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32320" y="2289240"/>
              <a:ext cx="1800" cy="11916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554800" y="3471840"/>
              <a:ext cx="1440" cy="1540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04040" y="3471840"/>
              <a:ext cx="12060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578400" y="4036680"/>
              <a:ext cx="1440" cy="1890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27280" y="4037040"/>
              <a:ext cx="1209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620040" y="3592080"/>
              <a:ext cx="1440" cy="17172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68920" y="3592440"/>
              <a:ext cx="1209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668680" y="4707000"/>
              <a:ext cx="1440" cy="1540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16120" y="470700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645080" y="4551120"/>
              <a:ext cx="1440" cy="1890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2520" y="455148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645080" y="4106880"/>
              <a:ext cx="1440" cy="2224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2520" y="4106880"/>
              <a:ext cx="12060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42040" y="3214800"/>
              <a:ext cx="1440" cy="2570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91280" y="321480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2040" y="1706400"/>
              <a:ext cx="1440" cy="6332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91280" y="170676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4800" y="3625920"/>
              <a:ext cx="1440" cy="1540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04040" y="378000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8400" y="4226040"/>
              <a:ext cx="1440" cy="1890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27280" y="4415040"/>
              <a:ext cx="12096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0040" y="3764160"/>
              <a:ext cx="1440" cy="15372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68920" y="3917880"/>
              <a:ext cx="1209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68680" y="4861080"/>
              <a:ext cx="1440" cy="1540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16120" y="501516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5080" y="4740480"/>
              <a:ext cx="1440" cy="1886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92520" y="4929120"/>
              <a:ext cx="12060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45080" y="4329360"/>
              <a:ext cx="1440" cy="22212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92520" y="455148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42040" y="3471840"/>
              <a:ext cx="1440" cy="2574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91280" y="372924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2040" y="2340000"/>
              <a:ext cx="1440" cy="6350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91280" y="2975040"/>
              <a:ext cx="120600" cy="144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4040" y="357516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2" y="0"/>
                  </a:moveTo>
                  <a:lnTo>
                    <a:pt x="65" y="32"/>
                  </a:lnTo>
                  <a:lnTo>
                    <a:pt x="32" y="65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27280" y="4175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2" y="0"/>
                  </a:moveTo>
                  <a:lnTo>
                    <a:pt x="65" y="32"/>
                  </a:lnTo>
                  <a:lnTo>
                    <a:pt x="32" y="65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8920" y="37116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2" y="0"/>
                  </a:moveTo>
                  <a:lnTo>
                    <a:pt x="65" y="33"/>
                  </a:lnTo>
                  <a:lnTo>
                    <a:pt x="32" y="65"/>
                  </a:lnTo>
                  <a:lnTo>
                    <a:pt x="0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16120" y="48085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0"/>
                  </a:moveTo>
                  <a:lnTo>
                    <a:pt x="65" y="33"/>
                  </a:lnTo>
                  <a:lnTo>
                    <a:pt x="33" y="65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92520" y="468972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0"/>
                  </a:moveTo>
                  <a:lnTo>
                    <a:pt x="65" y="32"/>
                  </a:lnTo>
                  <a:lnTo>
                    <a:pt x="33" y="65"/>
                  </a:lnTo>
                  <a:lnTo>
                    <a:pt x="0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92520" y="427824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33" y="0"/>
                  </a:moveTo>
                  <a:lnTo>
                    <a:pt x="65" y="32"/>
                  </a:lnTo>
                  <a:lnTo>
                    <a:pt x="33" y="64"/>
                  </a:lnTo>
                  <a:lnTo>
                    <a:pt x="0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91280" y="34210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32" y="0"/>
                  </a:moveTo>
                  <a:lnTo>
                    <a:pt x="65" y="32"/>
                  </a:lnTo>
                  <a:lnTo>
                    <a:pt x="32" y="64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1280" y="22892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2" y="0"/>
                  </a:moveTo>
                  <a:lnTo>
                    <a:pt x="65" y="32"/>
                  </a:lnTo>
                  <a:lnTo>
                    <a:pt x="32" y="65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6840" y="660600"/>
              <a:ext cx="624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8-arm Maze: Confined vs Unconfin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28720" y="513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8720" y="450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8720" y="3865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8720" y="324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8720" y="2614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04880" y="1979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04880" y="1346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8480" y="54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3720" y="54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0400" y="54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65640" y="54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30880" y="54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24840" y="54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90080" y="54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56760" y="585468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confin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828000" y="3194640"/>
              <a:ext cx="99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fin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74520" y="0"/>
            <a:ext cx="5146560" cy="6858000"/>
            <a:chOff x="74520" y="0"/>
            <a:chExt cx="5146560" cy="6858000"/>
          </a:xfrm>
        </p:grpSpPr>
        <p:graphicFrame>
          <p:nvGraphicFramePr>
            <p:cNvPr id="402" name=""/>
            <p:cNvGraphicFramePr/>
            <p:nvPr/>
          </p:nvGraphicFramePr>
          <p:xfrm>
            <a:off x="74520" y="0"/>
            <a:ext cx="5146560" cy="3564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520" y="0"/>
                      <a:ext cx="5146560" cy="35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74520" y="3294000"/>
            <a:ext cx="5146560" cy="3564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4520" y="3294000"/>
                      <a:ext cx="5146560" cy="35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5140440" y="2270160"/>
            <a:ext cx="5146560" cy="4048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537160" y="431640"/>
            <a:ext cx="450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97400" y="539640"/>
            <a:ext cx="49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ly postnatal thyroxine increases the size of the IIPMF and improves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3696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66960" y="338040"/>
            <a:ext cx="835488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1640" y="0"/>
            <a:ext cx="942372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5520" y="225360"/>
            <a:ext cx="943452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38480" y="284040"/>
          <a:ext cx="5811840" cy="62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84040"/>
                    <a:ext cx="58118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43080" y="330120"/>
          <a:ext cx="96012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330120"/>
                    <a:ext cx="96012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335240" y="531720"/>
            <a:ext cx="7616520" cy="5816520"/>
            <a:chOff x="1335240" y="531720"/>
            <a:chExt cx="7616520" cy="5816520"/>
          </a:xfrm>
        </p:grpSpPr>
        <p:sp>
          <p:nvSpPr>
            <p:cNvPr id="53" name=""/>
            <p:cNvSpPr/>
            <p:nvPr/>
          </p:nvSpPr>
          <p:spPr>
            <a:xfrm>
              <a:off x="1335240" y="531720"/>
              <a:ext cx="7616520" cy="5816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81200" y="1754280"/>
              <a:ext cx="5840640" cy="323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81200" y="1754280"/>
              <a:ext cx="1800" cy="3232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11360" y="49863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1360" y="452448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1360" y="406224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1360" y="36021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1360" y="313992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1360" y="267804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1360" y="22161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1360" y="175428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81200" y="4986360"/>
              <a:ext cx="5840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581200" y="4986360"/>
              <a:ext cx="180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59120" y="4986360"/>
              <a:ext cx="180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913280" y="4986360"/>
              <a:ext cx="180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89760" y="4986360"/>
              <a:ext cx="144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243920" y="4986360"/>
              <a:ext cx="144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421840" y="4986360"/>
              <a:ext cx="1440" cy="69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9640" y="3440160"/>
              <a:ext cx="16164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1280" y="3370320"/>
              <a:ext cx="180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7520" y="4294080"/>
              <a:ext cx="921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19680" y="422424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19440" y="2978280"/>
              <a:ext cx="921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11600" y="2908440"/>
              <a:ext cx="1440" cy="1616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89640" y="4686480"/>
              <a:ext cx="30024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89880" y="461628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1400" y="3832200"/>
              <a:ext cx="921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43560" y="3762360"/>
              <a:ext cx="180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1560" y="3832200"/>
              <a:ext cx="1620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43560" y="376236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9680" y="3139920"/>
              <a:ext cx="11592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5600" y="307008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97120" y="3139920"/>
              <a:ext cx="921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89280" y="3070080"/>
              <a:ext cx="180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405320" y="3440160"/>
              <a:ext cx="18432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5320" y="337032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635360" y="4294080"/>
              <a:ext cx="921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35360" y="4224240"/>
              <a:ext cx="180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527280" y="2978280"/>
              <a:ext cx="9216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7280" y="2908440"/>
              <a:ext cx="1800" cy="1616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989400" y="4686480"/>
              <a:ext cx="29988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89760" y="461628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159240" y="3832200"/>
              <a:ext cx="918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59600" y="376236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143320" y="3832200"/>
              <a:ext cx="13788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3680" y="376236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827520" y="3139920"/>
              <a:ext cx="921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27520" y="307008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481200" y="3139920"/>
              <a:ext cx="11556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1560" y="3070080"/>
              <a:ext cx="1440" cy="1620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589640" y="3232080"/>
              <a:ext cx="1440" cy="2080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9440" y="3232080"/>
              <a:ext cx="1620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727520" y="3901680"/>
              <a:ext cx="1800" cy="3920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9480" y="390204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619440" y="2169720"/>
              <a:ext cx="1800" cy="8082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51400" y="217008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89640" y="4615920"/>
              <a:ext cx="1800" cy="702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1600" y="461628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251400" y="3439800"/>
              <a:ext cx="1800" cy="3920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81560" y="3440160"/>
              <a:ext cx="1620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281560" y="3693960"/>
              <a:ext cx="1800" cy="1382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13520" y="369396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919680" y="2607840"/>
              <a:ext cx="1440" cy="53172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51280" y="260820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97120" y="2747520"/>
              <a:ext cx="1800" cy="3920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7280" y="2747880"/>
              <a:ext cx="1620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89640" y="3440160"/>
              <a:ext cx="1440" cy="2080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19440" y="3648240"/>
              <a:ext cx="1620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520" y="4294080"/>
              <a:ext cx="1800" cy="3924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59480" y="4686480"/>
              <a:ext cx="1602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19440" y="2978280"/>
              <a:ext cx="1800" cy="8078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1400" y="378612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89640" y="4686480"/>
              <a:ext cx="1800" cy="698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1600" y="4756320"/>
              <a:ext cx="1602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51400" y="3832200"/>
              <a:ext cx="1800" cy="3920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81560" y="4224240"/>
              <a:ext cx="1620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81560" y="3832200"/>
              <a:ext cx="1800" cy="1382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3520" y="3970440"/>
              <a:ext cx="1602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9680" y="3139920"/>
              <a:ext cx="1440" cy="53028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51280" y="3670200"/>
              <a:ext cx="160200" cy="18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97120" y="3139920"/>
              <a:ext cx="1800" cy="39240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532320"/>
              <a:ext cx="162000" cy="1440"/>
            </a:xfrm>
            <a:prstGeom prst="line">
              <a:avLst/>
            </a:prstGeom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9440" y="3370320"/>
              <a:ext cx="1159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59480" y="4224240"/>
              <a:ext cx="1141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51400" y="2908440"/>
              <a:ext cx="1141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1600" y="4616280"/>
              <a:ext cx="1141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1560" y="3762360"/>
              <a:ext cx="1159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3520" y="3762360"/>
              <a:ext cx="1141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51280" y="3070080"/>
              <a:ext cx="1141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27280" y="3070080"/>
              <a:ext cx="115920" cy="11592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6120" y="716040"/>
              <a:ext cx="442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patial 8-arm not confin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13000" y="482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13000" y="436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13000" y="39020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13000" y="3440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13000" y="2978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3320" y="2516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3320" y="2054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3320" y="1593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6716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508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9924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7716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132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07440" y="519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0720" y="5678640"/>
              <a:ext cx="67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IPM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065600" y="3181320"/>
              <a:ext cx="148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rrors day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7560" y="1754280"/>
              <a:ext cx="140796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84920" y="1778040"/>
              <a:ext cx="123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ho = -0.8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89240" y="2124000"/>
              <a:ext cx="95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 &lt; 0.0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640" y="2470320"/>
              <a:ext cx="57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 =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81800" y="1593720"/>
              <a:ext cx="1593720" cy="129240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714760" y="365040"/>
          <a:ext cx="485748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65040"/>
                    <a:ext cx="48574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9000" y="3613320"/>
          <a:ext cx="4857840" cy="28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3613320"/>
                    <a:ext cx="4857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240160" y="3613320"/>
          <a:ext cx="4857840" cy="287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0160" y="3613320"/>
                    <a:ext cx="4857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13:36:28Z</dcterms:created>
  <dc:creator>Wim E. Crusio</dc:creator>
  <dc:description/>
  <dc:language>en-US</dc:language>
  <cp:lastModifiedBy>Wim E. Crusio</cp:lastModifiedBy>
  <dcterms:modified xsi:type="dcterms:W3CDTF">2004-08-08T02:48:14Z</dcterms:modified>
  <cp:revision>41</cp:revision>
  <dc:subject/>
  <dc:title>Hippocampal regulation of spatial and non-spatial strategies used by inbred mice to solve radial maze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98992</vt:r8>
  </property>
  <property fmtid="{D5CDD505-2E9C-101B-9397-08002B2CF9AE}" pid="3" name="_AuthorEmail">
    <vt:lpwstr>Wim.Crusio@umassmed.edu</vt:lpwstr>
  </property>
  <property fmtid="{D5CDD505-2E9C-101B-9397-08002B2CF9AE}" pid="4" name="_AuthorEmailDisplayName">
    <vt:lpwstr>Crusio, Wim</vt:lpwstr>
  </property>
  <property fmtid="{D5CDD505-2E9C-101B-9397-08002B2CF9AE}" pid="5" name="_EmailSubject">
    <vt:lpwstr>The Tenth International Summer School on Behavioral Neurogenetics</vt:lpwstr>
  </property>
</Properties>
</file>