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13"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4"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1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7"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8"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9"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21"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2"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3"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4"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5"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6"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292"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29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296"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297"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0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2"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3"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0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7"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09"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1"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0" y="6445080"/>
            <a:ext cx="9144000" cy="1800"/>
          </a:xfrm>
          <a:prstGeom prst="line">
            <a:avLst/>
          </a:prstGeom>
          <a:ln w="2844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Click to edit the title text format</a:t>
            </a:r>
            <a:endParaRPr b="0" lang="en-US" sz="3200" spc="-1" strike="noStrike">
              <a:solidFill>
                <a:srgbClr val="ff3300"/>
              </a:solidFill>
              <a:latin typeface="Comic Sans MS"/>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Click to edit the outline text format</a:t>
            </a:r>
            <a:endParaRPr b="1" lang="en-US" sz="2400" spc="-1" strike="noStrike">
              <a:solidFill>
                <a:srgbClr val="0066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Second Outline Level</a:t>
            </a:r>
            <a:endParaRPr b="1" lang="en-US" sz="2400" spc="-1" strike="noStrike">
              <a:solidFill>
                <a:srgbClr val="006600"/>
              </a:solidFill>
              <a:latin typeface="Comic Sans MS"/>
            </a:endParaRPr>
          </a:p>
          <a:p>
            <a:pPr lvl="2" marL="1143000" indent="-228600">
              <a:spcBef>
                <a:spcPts val="601"/>
              </a:spcBef>
              <a:buClr>
                <a:srgbClr val="33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Third Outline Level</a:t>
            </a:r>
            <a:endParaRPr b="1" lang="en-US" sz="2400" spc="-1" strike="noStrike">
              <a:solidFill>
                <a:srgbClr val="0066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Fourth Outline Level</a:t>
            </a:r>
            <a:endParaRPr b="1" lang="en-US" sz="2400" spc="-1" strike="noStrike">
              <a:solidFill>
                <a:srgbClr val="0066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Fifth Outline Level</a:t>
            </a:r>
            <a:endParaRPr b="1" lang="en-US" sz="2400" spc="-1" strike="noStrike">
              <a:solidFill>
                <a:srgbClr val="0066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Sixth Outline Level</a:t>
            </a:r>
            <a:endParaRPr b="1" lang="en-US" sz="2400" spc="-1" strike="noStrike">
              <a:solidFill>
                <a:srgbClr val="0066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Seventh Outline Level</a:t>
            </a:r>
            <a:endParaRPr b="1" lang="en-US" sz="2400" spc="-1" strike="noStrike">
              <a:solidFill>
                <a:srgbClr val="006600"/>
              </a:solidFill>
              <a:latin typeface="Comic Sans MS"/>
            </a:endParaRPr>
          </a:p>
        </p:txBody>
      </p:sp>
      <p:grpSp>
        <p:nvGrpSpPr>
          <p:cNvPr id="3" name=""/>
          <p:cNvGrpSpPr/>
          <p:nvPr/>
        </p:nvGrpSpPr>
        <p:grpSpPr>
          <a:xfrm>
            <a:off x="6881400" y="6072120"/>
            <a:ext cx="2255760" cy="785160"/>
            <a:chOff x="6881400" y="6072120"/>
            <a:chExt cx="2255760" cy="785160"/>
          </a:xfrm>
        </p:grpSpPr>
        <p:sp>
          <p:nvSpPr>
            <p:cNvPr id="4" name=""/>
            <p:cNvSpPr/>
            <p:nvPr/>
          </p:nvSpPr>
          <p:spPr>
            <a:xfrm flipH="1">
              <a:off x="6945120" y="6315120"/>
              <a:ext cx="6768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5" name=""/>
            <p:cNvSpPr/>
            <p:nvPr/>
          </p:nvSpPr>
          <p:spPr>
            <a:xfrm flipH="1" flipV="1">
              <a:off x="6963840" y="6390360"/>
              <a:ext cx="7740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6" name=""/>
            <p:cNvSpPr/>
            <p:nvPr/>
          </p:nvSpPr>
          <p:spPr>
            <a:xfrm flipH="1">
              <a:off x="6881400" y="6179760"/>
              <a:ext cx="982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 name=""/>
            <p:cNvSpPr/>
            <p:nvPr/>
          </p:nvSpPr>
          <p:spPr>
            <a:xfrm flipH="1">
              <a:off x="6921000" y="636372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 name=""/>
            <p:cNvSpPr/>
            <p:nvPr/>
          </p:nvSpPr>
          <p:spPr>
            <a:xfrm flipH="1">
              <a:off x="6949800" y="6509160"/>
              <a:ext cx="58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 name=""/>
            <p:cNvSpPr/>
            <p:nvPr/>
          </p:nvSpPr>
          <p:spPr>
            <a:xfrm>
              <a:off x="702396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 name=""/>
            <p:cNvSpPr/>
            <p:nvPr/>
          </p:nvSpPr>
          <p:spPr>
            <a:xfrm>
              <a:off x="6962400" y="6619320"/>
              <a:ext cx="313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 name=""/>
            <p:cNvSpPr/>
            <p:nvPr/>
          </p:nvSpPr>
          <p:spPr>
            <a:xfrm>
              <a:off x="6894360" y="6707880"/>
              <a:ext cx="72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2" name=""/>
            <p:cNvSpPr/>
            <p:nvPr/>
          </p:nvSpPr>
          <p:spPr>
            <a:xfrm flipV="1">
              <a:off x="7084440" y="6447600"/>
              <a:ext cx="72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3" name=""/>
            <p:cNvSpPr/>
            <p:nvPr/>
          </p:nvSpPr>
          <p:spPr>
            <a:xfrm>
              <a:off x="7104960" y="648000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 name=""/>
            <p:cNvSpPr/>
            <p:nvPr/>
          </p:nvSpPr>
          <p:spPr>
            <a:xfrm>
              <a:off x="7079400" y="6344280"/>
              <a:ext cx="3636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5" name=""/>
            <p:cNvSpPr/>
            <p:nvPr/>
          </p:nvSpPr>
          <p:spPr>
            <a:xfrm flipH="1">
              <a:off x="7020720" y="6285600"/>
              <a:ext cx="568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 name=""/>
            <p:cNvSpPr/>
            <p:nvPr/>
          </p:nvSpPr>
          <p:spPr>
            <a:xfrm>
              <a:off x="7079400" y="6110280"/>
              <a:ext cx="60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 name=""/>
            <p:cNvSpPr/>
            <p:nvPr/>
          </p:nvSpPr>
          <p:spPr>
            <a:xfrm>
              <a:off x="7084440" y="6204960"/>
              <a:ext cx="7092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8" name=""/>
            <p:cNvSpPr/>
            <p:nvPr/>
          </p:nvSpPr>
          <p:spPr>
            <a:xfrm>
              <a:off x="7106400" y="6633720"/>
              <a:ext cx="806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9" name=""/>
            <p:cNvSpPr/>
            <p:nvPr/>
          </p:nvSpPr>
          <p:spPr>
            <a:xfrm>
              <a:off x="6962400" y="6200640"/>
              <a:ext cx="313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0" name=""/>
            <p:cNvSpPr/>
            <p:nvPr/>
          </p:nvSpPr>
          <p:spPr>
            <a:xfrm flipH="1">
              <a:off x="6903360" y="6258240"/>
              <a:ext cx="536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 name=""/>
            <p:cNvSpPr/>
            <p:nvPr/>
          </p:nvSpPr>
          <p:spPr>
            <a:xfrm flipH="1">
              <a:off x="6882840" y="6477480"/>
              <a:ext cx="946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2" name=""/>
            <p:cNvSpPr/>
            <p:nvPr/>
          </p:nvSpPr>
          <p:spPr>
            <a:xfrm flipH="1">
              <a:off x="6917760" y="652824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 name=""/>
            <p:cNvSpPr/>
            <p:nvPr/>
          </p:nvSpPr>
          <p:spPr>
            <a:xfrm>
              <a:off x="6913080" y="6093360"/>
              <a:ext cx="586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4" name=""/>
            <p:cNvSpPr/>
            <p:nvPr/>
          </p:nvSpPr>
          <p:spPr>
            <a:xfrm>
              <a:off x="7007040" y="6093360"/>
              <a:ext cx="360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5" name=""/>
            <p:cNvSpPr/>
            <p:nvPr/>
          </p:nvSpPr>
          <p:spPr>
            <a:xfrm>
              <a:off x="7016040" y="6395040"/>
              <a:ext cx="6624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6" name=""/>
            <p:cNvSpPr/>
            <p:nvPr/>
          </p:nvSpPr>
          <p:spPr>
            <a:xfrm flipH="1">
              <a:off x="7008120" y="6522120"/>
              <a:ext cx="8208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7" name=""/>
            <p:cNvSpPr/>
            <p:nvPr/>
          </p:nvSpPr>
          <p:spPr>
            <a:xfrm>
              <a:off x="7084440" y="6579000"/>
              <a:ext cx="788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8" name=""/>
            <p:cNvSpPr/>
            <p:nvPr/>
          </p:nvSpPr>
          <p:spPr>
            <a:xfrm>
              <a:off x="7079400" y="6230520"/>
              <a:ext cx="363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 name=""/>
            <p:cNvSpPr/>
            <p:nvPr/>
          </p:nvSpPr>
          <p:spPr>
            <a:xfrm flipH="1">
              <a:off x="7106040" y="6126840"/>
              <a:ext cx="7740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30" name=""/>
            <p:cNvSpPr/>
            <p:nvPr/>
          </p:nvSpPr>
          <p:spPr>
            <a:xfrm flipH="1" flipV="1">
              <a:off x="7030080" y="6616800"/>
              <a:ext cx="85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1" name=""/>
            <p:cNvSpPr/>
            <p:nvPr/>
          </p:nvSpPr>
          <p:spPr>
            <a:xfrm flipH="1">
              <a:off x="7134480" y="6279120"/>
              <a:ext cx="219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32" name=""/>
            <p:cNvSpPr/>
            <p:nvPr/>
          </p:nvSpPr>
          <p:spPr>
            <a:xfrm>
              <a:off x="6991200" y="6595920"/>
              <a:ext cx="72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3" name=""/>
            <p:cNvSpPr/>
            <p:nvPr/>
          </p:nvSpPr>
          <p:spPr>
            <a:xfrm flipH="1" flipV="1">
              <a:off x="7023600" y="6694920"/>
              <a:ext cx="9828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34" name=""/>
            <p:cNvSpPr/>
            <p:nvPr/>
          </p:nvSpPr>
          <p:spPr>
            <a:xfrm flipH="1">
              <a:off x="7179120" y="6388920"/>
              <a:ext cx="252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5" name=""/>
            <p:cNvSpPr/>
            <p:nvPr/>
          </p:nvSpPr>
          <p:spPr>
            <a:xfrm>
              <a:off x="7175880" y="617328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6" name=""/>
            <p:cNvSpPr/>
            <p:nvPr/>
          </p:nvSpPr>
          <p:spPr>
            <a:xfrm>
              <a:off x="7179120" y="6317280"/>
              <a:ext cx="74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 name=""/>
            <p:cNvSpPr/>
            <p:nvPr/>
          </p:nvSpPr>
          <p:spPr>
            <a:xfrm>
              <a:off x="7175880" y="650916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8" name=""/>
            <p:cNvSpPr/>
            <p:nvPr/>
          </p:nvSpPr>
          <p:spPr>
            <a:xfrm flipH="1">
              <a:off x="7254000" y="6315120"/>
              <a:ext cx="6768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39" name=""/>
            <p:cNvSpPr/>
            <p:nvPr/>
          </p:nvSpPr>
          <p:spPr>
            <a:xfrm flipH="1" flipV="1">
              <a:off x="7270920" y="6390360"/>
              <a:ext cx="806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40" name=""/>
            <p:cNvSpPr/>
            <p:nvPr/>
          </p:nvSpPr>
          <p:spPr>
            <a:xfrm flipH="1">
              <a:off x="7192080" y="6179760"/>
              <a:ext cx="979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1" name=""/>
            <p:cNvSpPr/>
            <p:nvPr/>
          </p:nvSpPr>
          <p:spPr>
            <a:xfrm flipH="1">
              <a:off x="7229880" y="636372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2" name=""/>
            <p:cNvSpPr/>
            <p:nvPr/>
          </p:nvSpPr>
          <p:spPr>
            <a:xfrm flipH="1">
              <a:off x="7258320" y="6509160"/>
              <a:ext cx="59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3" name=""/>
            <p:cNvSpPr/>
            <p:nvPr/>
          </p:nvSpPr>
          <p:spPr>
            <a:xfrm>
              <a:off x="73342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4" name=""/>
            <p:cNvSpPr/>
            <p:nvPr/>
          </p:nvSpPr>
          <p:spPr>
            <a:xfrm>
              <a:off x="7270920" y="661932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5" name=""/>
            <p:cNvSpPr/>
            <p:nvPr/>
          </p:nvSpPr>
          <p:spPr>
            <a:xfrm flipV="1">
              <a:off x="7209360" y="6673680"/>
              <a:ext cx="601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46" name=""/>
            <p:cNvSpPr/>
            <p:nvPr/>
          </p:nvSpPr>
          <p:spPr>
            <a:xfrm flipV="1">
              <a:off x="7392960" y="6447600"/>
              <a:ext cx="72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7" name=""/>
            <p:cNvSpPr/>
            <p:nvPr/>
          </p:nvSpPr>
          <p:spPr>
            <a:xfrm>
              <a:off x="7411680" y="6480000"/>
              <a:ext cx="363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8" name=""/>
            <p:cNvSpPr/>
            <p:nvPr/>
          </p:nvSpPr>
          <p:spPr>
            <a:xfrm>
              <a:off x="7389720" y="6344280"/>
              <a:ext cx="3456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49" name=""/>
            <p:cNvSpPr/>
            <p:nvPr/>
          </p:nvSpPr>
          <p:spPr>
            <a:xfrm flipH="1">
              <a:off x="7329600" y="6285600"/>
              <a:ext cx="568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0" name=""/>
            <p:cNvSpPr/>
            <p:nvPr/>
          </p:nvSpPr>
          <p:spPr>
            <a:xfrm>
              <a:off x="7389720" y="6110280"/>
              <a:ext cx="583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1" name=""/>
            <p:cNvSpPr/>
            <p:nvPr/>
          </p:nvSpPr>
          <p:spPr>
            <a:xfrm>
              <a:off x="7394400" y="6204960"/>
              <a:ext cx="7092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52" name=""/>
            <p:cNvSpPr/>
            <p:nvPr/>
          </p:nvSpPr>
          <p:spPr>
            <a:xfrm>
              <a:off x="7418160" y="6633720"/>
              <a:ext cx="774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53" name=""/>
            <p:cNvSpPr/>
            <p:nvPr/>
          </p:nvSpPr>
          <p:spPr>
            <a:xfrm>
              <a:off x="7270920" y="6200640"/>
              <a:ext cx="345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54" name=""/>
            <p:cNvSpPr/>
            <p:nvPr/>
          </p:nvSpPr>
          <p:spPr>
            <a:xfrm flipH="1">
              <a:off x="7212240" y="6228360"/>
              <a:ext cx="550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5" name=""/>
            <p:cNvSpPr/>
            <p:nvPr/>
          </p:nvSpPr>
          <p:spPr>
            <a:xfrm flipH="1">
              <a:off x="7193160" y="6477480"/>
              <a:ext cx="9324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56" name=""/>
            <p:cNvSpPr/>
            <p:nvPr/>
          </p:nvSpPr>
          <p:spPr>
            <a:xfrm flipH="1">
              <a:off x="7226640" y="652824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57" name=""/>
            <p:cNvSpPr/>
            <p:nvPr/>
          </p:nvSpPr>
          <p:spPr>
            <a:xfrm>
              <a:off x="7223760" y="6093360"/>
              <a:ext cx="583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58" name=""/>
            <p:cNvSpPr/>
            <p:nvPr/>
          </p:nvSpPr>
          <p:spPr>
            <a:xfrm>
              <a:off x="7318440" y="6093360"/>
              <a:ext cx="3456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59" name=""/>
            <p:cNvSpPr/>
            <p:nvPr/>
          </p:nvSpPr>
          <p:spPr>
            <a:xfrm>
              <a:off x="7324920" y="6395040"/>
              <a:ext cx="6804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60" name=""/>
            <p:cNvSpPr/>
            <p:nvPr/>
          </p:nvSpPr>
          <p:spPr>
            <a:xfrm flipH="1">
              <a:off x="7317000" y="6522120"/>
              <a:ext cx="8208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61" name=""/>
            <p:cNvSpPr/>
            <p:nvPr/>
          </p:nvSpPr>
          <p:spPr>
            <a:xfrm>
              <a:off x="7394400" y="6579000"/>
              <a:ext cx="774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62" name=""/>
            <p:cNvSpPr/>
            <p:nvPr/>
          </p:nvSpPr>
          <p:spPr>
            <a:xfrm>
              <a:off x="7389720" y="623052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3" name=""/>
            <p:cNvSpPr/>
            <p:nvPr/>
          </p:nvSpPr>
          <p:spPr>
            <a:xfrm flipH="1">
              <a:off x="7414560" y="6126840"/>
              <a:ext cx="7740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64" name=""/>
            <p:cNvSpPr/>
            <p:nvPr/>
          </p:nvSpPr>
          <p:spPr>
            <a:xfrm flipH="1" flipV="1">
              <a:off x="7340400" y="6616800"/>
              <a:ext cx="83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65" name=""/>
            <p:cNvSpPr/>
            <p:nvPr/>
          </p:nvSpPr>
          <p:spPr>
            <a:xfrm flipH="1">
              <a:off x="7443720" y="6279120"/>
              <a:ext cx="201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66" name=""/>
            <p:cNvSpPr/>
            <p:nvPr/>
          </p:nvSpPr>
          <p:spPr>
            <a:xfrm>
              <a:off x="7299360" y="6595920"/>
              <a:ext cx="712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67" name=""/>
            <p:cNvSpPr/>
            <p:nvPr/>
          </p:nvSpPr>
          <p:spPr>
            <a:xfrm flipH="1" flipV="1">
              <a:off x="7337160" y="6679800"/>
              <a:ext cx="9180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68" name=""/>
            <p:cNvSpPr/>
            <p:nvPr/>
          </p:nvSpPr>
          <p:spPr>
            <a:xfrm flipH="1">
              <a:off x="7490880" y="638892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69" name=""/>
            <p:cNvSpPr/>
            <p:nvPr/>
          </p:nvSpPr>
          <p:spPr>
            <a:xfrm>
              <a:off x="7484760" y="617328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0" name=""/>
            <p:cNvSpPr/>
            <p:nvPr/>
          </p:nvSpPr>
          <p:spPr>
            <a:xfrm>
              <a:off x="7489800" y="6346800"/>
              <a:ext cx="74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1" name=""/>
            <p:cNvSpPr/>
            <p:nvPr/>
          </p:nvSpPr>
          <p:spPr>
            <a:xfrm>
              <a:off x="7484760" y="650916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2" name=""/>
            <p:cNvSpPr/>
            <p:nvPr/>
          </p:nvSpPr>
          <p:spPr>
            <a:xfrm flipH="1">
              <a:off x="7587360" y="6315120"/>
              <a:ext cx="6804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73" name=""/>
            <p:cNvSpPr/>
            <p:nvPr/>
          </p:nvSpPr>
          <p:spPr>
            <a:xfrm flipH="1" flipV="1">
              <a:off x="7605000" y="6390360"/>
              <a:ext cx="7920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74" name=""/>
            <p:cNvSpPr/>
            <p:nvPr/>
          </p:nvSpPr>
          <p:spPr>
            <a:xfrm flipH="1">
              <a:off x="7522200" y="6179760"/>
              <a:ext cx="982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5" name=""/>
            <p:cNvSpPr/>
            <p:nvPr/>
          </p:nvSpPr>
          <p:spPr>
            <a:xfrm flipH="1" flipV="1">
              <a:off x="7522200" y="6416280"/>
              <a:ext cx="982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76" name=""/>
            <p:cNvSpPr/>
            <p:nvPr/>
          </p:nvSpPr>
          <p:spPr>
            <a:xfrm flipH="1">
              <a:off x="7592400" y="6509160"/>
              <a:ext cx="58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7" name=""/>
            <p:cNvSpPr/>
            <p:nvPr/>
          </p:nvSpPr>
          <p:spPr>
            <a:xfrm>
              <a:off x="766836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78" name=""/>
            <p:cNvSpPr/>
            <p:nvPr/>
          </p:nvSpPr>
          <p:spPr>
            <a:xfrm>
              <a:off x="7605000" y="661932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9" name=""/>
            <p:cNvSpPr/>
            <p:nvPr/>
          </p:nvSpPr>
          <p:spPr>
            <a:xfrm>
              <a:off x="7541640" y="6693120"/>
              <a:ext cx="601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80" name=""/>
            <p:cNvSpPr/>
            <p:nvPr/>
          </p:nvSpPr>
          <p:spPr>
            <a:xfrm flipV="1">
              <a:off x="7727040" y="6447600"/>
              <a:ext cx="72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81" name=""/>
            <p:cNvSpPr/>
            <p:nvPr/>
          </p:nvSpPr>
          <p:spPr>
            <a:xfrm>
              <a:off x="7746120" y="648000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2" name=""/>
            <p:cNvSpPr/>
            <p:nvPr/>
          </p:nvSpPr>
          <p:spPr>
            <a:xfrm>
              <a:off x="7720560" y="6344280"/>
              <a:ext cx="3636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83" name=""/>
            <p:cNvSpPr/>
            <p:nvPr/>
          </p:nvSpPr>
          <p:spPr>
            <a:xfrm flipH="1">
              <a:off x="7663320" y="6285600"/>
              <a:ext cx="550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4" name=""/>
            <p:cNvSpPr/>
            <p:nvPr/>
          </p:nvSpPr>
          <p:spPr>
            <a:xfrm>
              <a:off x="7720560" y="6110280"/>
              <a:ext cx="60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5" name=""/>
            <p:cNvSpPr/>
            <p:nvPr/>
          </p:nvSpPr>
          <p:spPr>
            <a:xfrm>
              <a:off x="7728480" y="6204960"/>
              <a:ext cx="694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86" name=""/>
            <p:cNvSpPr/>
            <p:nvPr/>
          </p:nvSpPr>
          <p:spPr>
            <a:xfrm>
              <a:off x="7750800" y="6633720"/>
              <a:ext cx="7596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87" name=""/>
            <p:cNvSpPr/>
            <p:nvPr/>
          </p:nvSpPr>
          <p:spPr>
            <a:xfrm>
              <a:off x="7605000" y="6200640"/>
              <a:ext cx="331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88" name=""/>
            <p:cNvSpPr/>
            <p:nvPr/>
          </p:nvSpPr>
          <p:spPr>
            <a:xfrm flipH="1">
              <a:off x="7544520" y="6258240"/>
              <a:ext cx="550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9" name=""/>
            <p:cNvSpPr/>
            <p:nvPr/>
          </p:nvSpPr>
          <p:spPr>
            <a:xfrm flipH="1">
              <a:off x="7525440" y="6477480"/>
              <a:ext cx="9324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90" name=""/>
            <p:cNvSpPr/>
            <p:nvPr/>
          </p:nvSpPr>
          <p:spPr>
            <a:xfrm flipH="1">
              <a:off x="7559280" y="6528240"/>
              <a:ext cx="266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91" name=""/>
            <p:cNvSpPr/>
            <p:nvPr/>
          </p:nvSpPr>
          <p:spPr>
            <a:xfrm>
              <a:off x="7554240" y="6093360"/>
              <a:ext cx="60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92" name=""/>
            <p:cNvSpPr/>
            <p:nvPr/>
          </p:nvSpPr>
          <p:spPr>
            <a:xfrm>
              <a:off x="7650720" y="6093360"/>
              <a:ext cx="3456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93" name=""/>
            <p:cNvSpPr/>
            <p:nvPr/>
          </p:nvSpPr>
          <p:spPr>
            <a:xfrm>
              <a:off x="7660440" y="6395040"/>
              <a:ext cx="6480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94" name=""/>
            <p:cNvSpPr/>
            <p:nvPr/>
          </p:nvSpPr>
          <p:spPr>
            <a:xfrm flipH="1">
              <a:off x="7650360" y="6522120"/>
              <a:ext cx="8244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95" name=""/>
            <p:cNvSpPr/>
            <p:nvPr/>
          </p:nvSpPr>
          <p:spPr>
            <a:xfrm>
              <a:off x="7727040" y="6579000"/>
              <a:ext cx="774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96" name=""/>
            <p:cNvSpPr/>
            <p:nvPr/>
          </p:nvSpPr>
          <p:spPr>
            <a:xfrm>
              <a:off x="7720560" y="6230520"/>
              <a:ext cx="363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7" name=""/>
            <p:cNvSpPr/>
            <p:nvPr/>
          </p:nvSpPr>
          <p:spPr>
            <a:xfrm flipH="1">
              <a:off x="7747560" y="6126840"/>
              <a:ext cx="7920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98" name=""/>
            <p:cNvSpPr/>
            <p:nvPr/>
          </p:nvSpPr>
          <p:spPr>
            <a:xfrm flipH="1" flipV="1">
              <a:off x="7673040" y="6616800"/>
              <a:ext cx="871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99" name=""/>
            <p:cNvSpPr/>
            <p:nvPr/>
          </p:nvSpPr>
          <p:spPr>
            <a:xfrm flipH="1">
              <a:off x="7775640" y="6279120"/>
              <a:ext cx="2340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00" name=""/>
            <p:cNvSpPr/>
            <p:nvPr/>
          </p:nvSpPr>
          <p:spPr>
            <a:xfrm>
              <a:off x="7632000" y="6595920"/>
              <a:ext cx="72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01" name=""/>
            <p:cNvSpPr/>
            <p:nvPr/>
          </p:nvSpPr>
          <p:spPr>
            <a:xfrm flipH="1" flipV="1">
              <a:off x="7668360" y="6694920"/>
              <a:ext cx="9648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02" name=""/>
            <p:cNvSpPr/>
            <p:nvPr/>
          </p:nvSpPr>
          <p:spPr>
            <a:xfrm flipH="1">
              <a:off x="7821720" y="638892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03" name=""/>
            <p:cNvSpPr/>
            <p:nvPr/>
          </p:nvSpPr>
          <p:spPr>
            <a:xfrm>
              <a:off x="7817040" y="617328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4" name=""/>
            <p:cNvSpPr/>
            <p:nvPr/>
          </p:nvSpPr>
          <p:spPr>
            <a:xfrm>
              <a:off x="7823520" y="6317280"/>
              <a:ext cx="72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05" name=""/>
            <p:cNvSpPr/>
            <p:nvPr/>
          </p:nvSpPr>
          <p:spPr>
            <a:xfrm>
              <a:off x="7817040" y="650916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6" name=""/>
            <p:cNvSpPr/>
            <p:nvPr/>
          </p:nvSpPr>
          <p:spPr>
            <a:xfrm flipH="1">
              <a:off x="7505280" y="6671880"/>
              <a:ext cx="40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07" name=""/>
            <p:cNvSpPr/>
            <p:nvPr/>
          </p:nvSpPr>
          <p:spPr>
            <a:xfrm flipH="1">
              <a:off x="7943400" y="6346800"/>
              <a:ext cx="680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08" name=""/>
            <p:cNvSpPr/>
            <p:nvPr/>
          </p:nvSpPr>
          <p:spPr>
            <a:xfrm flipH="1" flipV="1">
              <a:off x="7962480" y="6416280"/>
              <a:ext cx="77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9" name=""/>
            <p:cNvSpPr/>
            <p:nvPr/>
          </p:nvSpPr>
          <p:spPr>
            <a:xfrm flipH="1">
              <a:off x="7880400" y="6204960"/>
              <a:ext cx="99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10" name=""/>
            <p:cNvSpPr/>
            <p:nvPr/>
          </p:nvSpPr>
          <p:spPr>
            <a:xfrm flipH="1">
              <a:off x="7920000" y="638892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1" name=""/>
            <p:cNvSpPr/>
            <p:nvPr/>
          </p:nvSpPr>
          <p:spPr>
            <a:xfrm flipH="1">
              <a:off x="7946640" y="6534360"/>
              <a:ext cx="61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2" name=""/>
            <p:cNvSpPr/>
            <p:nvPr/>
          </p:nvSpPr>
          <p:spPr>
            <a:xfrm>
              <a:off x="802440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13" name=""/>
            <p:cNvSpPr/>
            <p:nvPr/>
          </p:nvSpPr>
          <p:spPr>
            <a:xfrm>
              <a:off x="7959600" y="664668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4" name=""/>
            <p:cNvSpPr/>
            <p:nvPr/>
          </p:nvSpPr>
          <p:spPr>
            <a:xfrm>
              <a:off x="7893000" y="6735240"/>
              <a:ext cx="74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15" name=""/>
            <p:cNvSpPr/>
            <p:nvPr/>
          </p:nvSpPr>
          <p:spPr>
            <a:xfrm>
              <a:off x="8083080" y="6486120"/>
              <a:ext cx="72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6" name=""/>
            <p:cNvSpPr/>
            <p:nvPr/>
          </p:nvSpPr>
          <p:spPr>
            <a:xfrm>
              <a:off x="8103960" y="650916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7" name=""/>
            <p:cNvSpPr/>
            <p:nvPr/>
          </p:nvSpPr>
          <p:spPr>
            <a:xfrm>
              <a:off x="8076960" y="6369840"/>
              <a:ext cx="374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8" name=""/>
            <p:cNvSpPr/>
            <p:nvPr/>
          </p:nvSpPr>
          <p:spPr>
            <a:xfrm flipH="1">
              <a:off x="8019720" y="6312960"/>
              <a:ext cx="568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9" name=""/>
            <p:cNvSpPr/>
            <p:nvPr/>
          </p:nvSpPr>
          <p:spPr>
            <a:xfrm>
              <a:off x="8030880" y="6110280"/>
              <a:ext cx="597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0" name=""/>
            <p:cNvSpPr/>
            <p:nvPr/>
          </p:nvSpPr>
          <p:spPr>
            <a:xfrm>
              <a:off x="8084880" y="6232680"/>
              <a:ext cx="7092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21" name=""/>
            <p:cNvSpPr/>
            <p:nvPr/>
          </p:nvSpPr>
          <p:spPr>
            <a:xfrm>
              <a:off x="8108640" y="6657120"/>
              <a:ext cx="74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22" name=""/>
            <p:cNvSpPr/>
            <p:nvPr/>
          </p:nvSpPr>
          <p:spPr>
            <a:xfrm>
              <a:off x="7959600" y="623052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3" name=""/>
            <p:cNvSpPr/>
            <p:nvPr/>
          </p:nvSpPr>
          <p:spPr>
            <a:xfrm flipH="1">
              <a:off x="7904160" y="6285600"/>
              <a:ext cx="518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24" name=""/>
            <p:cNvSpPr/>
            <p:nvPr/>
          </p:nvSpPr>
          <p:spPr>
            <a:xfrm flipH="1">
              <a:off x="7883640" y="6504840"/>
              <a:ext cx="9324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25" name=""/>
            <p:cNvSpPr/>
            <p:nvPr/>
          </p:nvSpPr>
          <p:spPr>
            <a:xfrm flipH="1">
              <a:off x="7918200" y="655812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26" name=""/>
            <p:cNvSpPr/>
            <p:nvPr/>
          </p:nvSpPr>
          <p:spPr>
            <a:xfrm>
              <a:off x="7910640" y="6118920"/>
              <a:ext cx="6156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27" name=""/>
            <p:cNvSpPr/>
            <p:nvPr/>
          </p:nvSpPr>
          <p:spPr>
            <a:xfrm>
              <a:off x="7985160" y="6093360"/>
              <a:ext cx="3276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28" name=""/>
            <p:cNvSpPr/>
            <p:nvPr/>
          </p:nvSpPr>
          <p:spPr>
            <a:xfrm>
              <a:off x="8016480" y="6420600"/>
              <a:ext cx="662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29" name=""/>
            <p:cNvSpPr/>
            <p:nvPr/>
          </p:nvSpPr>
          <p:spPr>
            <a:xfrm flipH="1">
              <a:off x="8008560" y="6549480"/>
              <a:ext cx="788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30" name=""/>
            <p:cNvSpPr/>
            <p:nvPr/>
          </p:nvSpPr>
          <p:spPr>
            <a:xfrm>
              <a:off x="8083080" y="6606360"/>
              <a:ext cx="792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31" name=""/>
            <p:cNvSpPr/>
            <p:nvPr/>
          </p:nvSpPr>
          <p:spPr>
            <a:xfrm>
              <a:off x="8076960" y="6258240"/>
              <a:ext cx="374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32" name=""/>
            <p:cNvSpPr/>
            <p:nvPr/>
          </p:nvSpPr>
          <p:spPr>
            <a:xfrm flipH="1">
              <a:off x="8150760" y="6099840"/>
              <a:ext cx="788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33" name=""/>
            <p:cNvSpPr/>
            <p:nvPr/>
          </p:nvSpPr>
          <p:spPr>
            <a:xfrm flipH="1" flipV="1">
              <a:off x="8031960" y="6644520"/>
              <a:ext cx="83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34" name=""/>
            <p:cNvSpPr/>
            <p:nvPr/>
          </p:nvSpPr>
          <p:spPr>
            <a:xfrm flipH="1">
              <a:off x="8132040" y="6304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35" name=""/>
            <p:cNvSpPr/>
            <p:nvPr/>
          </p:nvSpPr>
          <p:spPr>
            <a:xfrm>
              <a:off x="7988400" y="6625440"/>
              <a:ext cx="72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36" name=""/>
            <p:cNvSpPr/>
            <p:nvPr/>
          </p:nvSpPr>
          <p:spPr>
            <a:xfrm flipH="1">
              <a:off x="8179560" y="6416280"/>
              <a:ext cx="252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37" name=""/>
            <p:cNvSpPr/>
            <p:nvPr/>
          </p:nvSpPr>
          <p:spPr>
            <a:xfrm>
              <a:off x="8174880" y="6230520"/>
              <a:ext cx="33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38" name=""/>
            <p:cNvSpPr/>
            <p:nvPr/>
          </p:nvSpPr>
          <p:spPr>
            <a:xfrm>
              <a:off x="8179560" y="6346800"/>
              <a:ext cx="72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39" name=""/>
            <p:cNvSpPr/>
            <p:nvPr/>
          </p:nvSpPr>
          <p:spPr>
            <a:xfrm>
              <a:off x="8174880" y="65343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0" name=""/>
            <p:cNvSpPr/>
            <p:nvPr/>
          </p:nvSpPr>
          <p:spPr>
            <a:xfrm flipH="1">
              <a:off x="8252280" y="6346800"/>
              <a:ext cx="680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41" name=""/>
            <p:cNvSpPr/>
            <p:nvPr/>
          </p:nvSpPr>
          <p:spPr>
            <a:xfrm flipH="1" flipV="1">
              <a:off x="8271000" y="6416280"/>
              <a:ext cx="788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2" name=""/>
            <p:cNvSpPr/>
            <p:nvPr/>
          </p:nvSpPr>
          <p:spPr>
            <a:xfrm flipH="1">
              <a:off x="8190720" y="6204960"/>
              <a:ext cx="96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43" name=""/>
            <p:cNvSpPr/>
            <p:nvPr/>
          </p:nvSpPr>
          <p:spPr>
            <a:xfrm flipH="1">
              <a:off x="8228880" y="638892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4" name=""/>
            <p:cNvSpPr/>
            <p:nvPr/>
          </p:nvSpPr>
          <p:spPr>
            <a:xfrm flipH="1">
              <a:off x="8256960" y="6534360"/>
              <a:ext cx="60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5" name=""/>
            <p:cNvSpPr/>
            <p:nvPr/>
          </p:nvSpPr>
          <p:spPr>
            <a:xfrm>
              <a:off x="833328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46" name=""/>
            <p:cNvSpPr/>
            <p:nvPr/>
          </p:nvSpPr>
          <p:spPr>
            <a:xfrm>
              <a:off x="8269920" y="664668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7" name=""/>
            <p:cNvSpPr/>
            <p:nvPr/>
          </p:nvSpPr>
          <p:spPr>
            <a:xfrm flipV="1">
              <a:off x="8209800" y="6701760"/>
              <a:ext cx="583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8" name=""/>
            <p:cNvSpPr/>
            <p:nvPr/>
          </p:nvSpPr>
          <p:spPr>
            <a:xfrm>
              <a:off x="8393400" y="6486120"/>
              <a:ext cx="72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9" name=""/>
            <p:cNvSpPr/>
            <p:nvPr/>
          </p:nvSpPr>
          <p:spPr>
            <a:xfrm>
              <a:off x="8412120" y="650916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0" name=""/>
            <p:cNvSpPr/>
            <p:nvPr/>
          </p:nvSpPr>
          <p:spPr>
            <a:xfrm>
              <a:off x="8386920" y="636984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1" name=""/>
            <p:cNvSpPr/>
            <p:nvPr/>
          </p:nvSpPr>
          <p:spPr>
            <a:xfrm flipH="1">
              <a:off x="8331480" y="6312960"/>
              <a:ext cx="550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2" name=""/>
            <p:cNvSpPr/>
            <p:nvPr/>
          </p:nvSpPr>
          <p:spPr>
            <a:xfrm>
              <a:off x="8293680" y="6084720"/>
              <a:ext cx="56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3" name=""/>
            <p:cNvSpPr/>
            <p:nvPr/>
          </p:nvSpPr>
          <p:spPr>
            <a:xfrm>
              <a:off x="8393400" y="6232680"/>
              <a:ext cx="7092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54" name=""/>
            <p:cNvSpPr/>
            <p:nvPr/>
          </p:nvSpPr>
          <p:spPr>
            <a:xfrm>
              <a:off x="8415360" y="6661440"/>
              <a:ext cx="7920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55" name=""/>
            <p:cNvSpPr/>
            <p:nvPr/>
          </p:nvSpPr>
          <p:spPr>
            <a:xfrm>
              <a:off x="8269920" y="623052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6" name=""/>
            <p:cNvSpPr/>
            <p:nvPr/>
          </p:nvSpPr>
          <p:spPr>
            <a:xfrm flipH="1">
              <a:off x="8211240" y="6258240"/>
              <a:ext cx="554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7" name=""/>
            <p:cNvSpPr/>
            <p:nvPr/>
          </p:nvSpPr>
          <p:spPr>
            <a:xfrm flipH="1">
              <a:off x="8192160" y="6504840"/>
              <a:ext cx="9504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58" name=""/>
            <p:cNvSpPr/>
            <p:nvPr/>
          </p:nvSpPr>
          <p:spPr>
            <a:xfrm flipH="1">
              <a:off x="8225640" y="6558120"/>
              <a:ext cx="252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9" name=""/>
            <p:cNvSpPr/>
            <p:nvPr/>
          </p:nvSpPr>
          <p:spPr>
            <a:xfrm>
              <a:off x="8244720" y="6118920"/>
              <a:ext cx="583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60" name=""/>
            <p:cNvSpPr/>
            <p:nvPr/>
          </p:nvSpPr>
          <p:spPr>
            <a:xfrm>
              <a:off x="8315640" y="6118920"/>
              <a:ext cx="3456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61" name=""/>
            <p:cNvSpPr/>
            <p:nvPr/>
          </p:nvSpPr>
          <p:spPr>
            <a:xfrm>
              <a:off x="8325360" y="6420600"/>
              <a:ext cx="662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2" name=""/>
            <p:cNvSpPr/>
            <p:nvPr/>
          </p:nvSpPr>
          <p:spPr>
            <a:xfrm flipH="1">
              <a:off x="8317080" y="6549480"/>
              <a:ext cx="8388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63" name=""/>
            <p:cNvSpPr/>
            <p:nvPr/>
          </p:nvSpPr>
          <p:spPr>
            <a:xfrm>
              <a:off x="8393400" y="6606360"/>
              <a:ext cx="774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64" name=""/>
            <p:cNvSpPr/>
            <p:nvPr/>
          </p:nvSpPr>
          <p:spPr>
            <a:xfrm>
              <a:off x="8386920" y="6258240"/>
              <a:ext cx="360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5" name=""/>
            <p:cNvSpPr/>
            <p:nvPr/>
          </p:nvSpPr>
          <p:spPr>
            <a:xfrm flipH="1">
              <a:off x="8417160" y="6099840"/>
              <a:ext cx="74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6" name=""/>
            <p:cNvSpPr/>
            <p:nvPr/>
          </p:nvSpPr>
          <p:spPr>
            <a:xfrm flipH="1" flipV="1">
              <a:off x="8339400" y="6644520"/>
              <a:ext cx="8532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67" name=""/>
            <p:cNvSpPr/>
            <p:nvPr/>
          </p:nvSpPr>
          <p:spPr>
            <a:xfrm flipH="1">
              <a:off x="8440560" y="6304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68" name=""/>
            <p:cNvSpPr/>
            <p:nvPr/>
          </p:nvSpPr>
          <p:spPr>
            <a:xfrm>
              <a:off x="8298360" y="6625440"/>
              <a:ext cx="70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9" name=""/>
            <p:cNvSpPr/>
            <p:nvPr/>
          </p:nvSpPr>
          <p:spPr>
            <a:xfrm flipH="1" flipV="1">
              <a:off x="8336160" y="6712200"/>
              <a:ext cx="932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70" name=""/>
            <p:cNvSpPr/>
            <p:nvPr/>
          </p:nvSpPr>
          <p:spPr>
            <a:xfrm flipH="1">
              <a:off x="8488080" y="641628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71" name=""/>
            <p:cNvSpPr/>
            <p:nvPr/>
          </p:nvSpPr>
          <p:spPr>
            <a:xfrm>
              <a:off x="8483760" y="617328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2" name=""/>
            <p:cNvSpPr/>
            <p:nvPr/>
          </p:nvSpPr>
          <p:spPr>
            <a:xfrm>
              <a:off x="8488440" y="6374160"/>
              <a:ext cx="72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3" name=""/>
            <p:cNvSpPr/>
            <p:nvPr/>
          </p:nvSpPr>
          <p:spPr>
            <a:xfrm>
              <a:off x="8483760" y="653436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4" name=""/>
            <p:cNvSpPr/>
            <p:nvPr/>
          </p:nvSpPr>
          <p:spPr>
            <a:xfrm flipH="1">
              <a:off x="8584560" y="6346800"/>
              <a:ext cx="6948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75" name=""/>
            <p:cNvSpPr/>
            <p:nvPr/>
          </p:nvSpPr>
          <p:spPr>
            <a:xfrm flipH="1" flipV="1">
              <a:off x="8603640" y="6416280"/>
              <a:ext cx="788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76" name=""/>
            <p:cNvSpPr/>
            <p:nvPr/>
          </p:nvSpPr>
          <p:spPr>
            <a:xfrm flipH="1">
              <a:off x="8521560" y="6179760"/>
              <a:ext cx="979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77" name=""/>
            <p:cNvSpPr/>
            <p:nvPr/>
          </p:nvSpPr>
          <p:spPr>
            <a:xfrm flipH="1" flipV="1">
              <a:off x="8521560" y="6445800"/>
              <a:ext cx="9792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78" name=""/>
            <p:cNvSpPr/>
            <p:nvPr/>
          </p:nvSpPr>
          <p:spPr>
            <a:xfrm flipH="1">
              <a:off x="8589240" y="6534360"/>
              <a:ext cx="60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9" name=""/>
            <p:cNvSpPr/>
            <p:nvPr/>
          </p:nvSpPr>
          <p:spPr>
            <a:xfrm>
              <a:off x="866556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80" name=""/>
            <p:cNvSpPr/>
            <p:nvPr/>
          </p:nvSpPr>
          <p:spPr>
            <a:xfrm>
              <a:off x="8602560" y="664668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1" name=""/>
            <p:cNvSpPr/>
            <p:nvPr/>
          </p:nvSpPr>
          <p:spPr>
            <a:xfrm>
              <a:off x="8540640" y="6720120"/>
              <a:ext cx="615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82" name=""/>
            <p:cNvSpPr/>
            <p:nvPr/>
          </p:nvSpPr>
          <p:spPr>
            <a:xfrm>
              <a:off x="8726040" y="6486120"/>
              <a:ext cx="72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3" name=""/>
            <p:cNvSpPr/>
            <p:nvPr/>
          </p:nvSpPr>
          <p:spPr>
            <a:xfrm>
              <a:off x="8744760" y="650916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4" name=""/>
            <p:cNvSpPr/>
            <p:nvPr/>
          </p:nvSpPr>
          <p:spPr>
            <a:xfrm>
              <a:off x="8721000" y="636984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5" name=""/>
            <p:cNvSpPr/>
            <p:nvPr/>
          </p:nvSpPr>
          <p:spPr>
            <a:xfrm flipH="1">
              <a:off x="8662320" y="6312960"/>
              <a:ext cx="568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6" name=""/>
            <p:cNvSpPr/>
            <p:nvPr/>
          </p:nvSpPr>
          <p:spPr>
            <a:xfrm>
              <a:off x="8604000" y="6078600"/>
              <a:ext cx="5508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187" name=""/>
            <p:cNvSpPr/>
            <p:nvPr/>
          </p:nvSpPr>
          <p:spPr>
            <a:xfrm>
              <a:off x="8728920" y="6232680"/>
              <a:ext cx="6804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88" name=""/>
            <p:cNvSpPr/>
            <p:nvPr/>
          </p:nvSpPr>
          <p:spPr>
            <a:xfrm>
              <a:off x="8748000" y="6661440"/>
              <a:ext cx="7920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89" name=""/>
            <p:cNvSpPr/>
            <p:nvPr/>
          </p:nvSpPr>
          <p:spPr>
            <a:xfrm>
              <a:off x="8602560" y="623052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0" name=""/>
            <p:cNvSpPr/>
            <p:nvPr/>
          </p:nvSpPr>
          <p:spPr>
            <a:xfrm flipH="1">
              <a:off x="8544960" y="6285600"/>
              <a:ext cx="550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1" name=""/>
            <p:cNvSpPr/>
            <p:nvPr/>
          </p:nvSpPr>
          <p:spPr>
            <a:xfrm flipH="1">
              <a:off x="8524440" y="6504840"/>
              <a:ext cx="9324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92" name=""/>
            <p:cNvSpPr/>
            <p:nvPr/>
          </p:nvSpPr>
          <p:spPr>
            <a:xfrm flipH="1">
              <a:off x="8559720" y="6558120"/>
              <a:ext cx="266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93" name=""/>
            <p:cNvSpPr/>
            <p:nvPr/>
          </p:nvSpPr>
          <p:spPr>
            <a:xfrm>
              <a:off x="8507520" y="6093360"/>
              <a:ext cx="60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94" name=""/>
            <p:cNvSpPr/>
            <p:nvPr/>
          </p:nvSpPr>
          <p:spPr>
            <a:xfrm>
              <a:off x="8649720" y="6118920"/>
              <a:ext cx="3456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95" name=""/>
            <p:cNvSpPr/>
            <p:nvPr/>
          </p:nvSpPr>
          <p:spPr>
            <a:xfrm>
              <a:off x="8657640" y="6420600"/>
              <a:ext cx="662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96" name=""/>
            <p:cNvSpPr/>
            <p:nvPr/>
          </p:nvSpPr>
          <p:spPr>
            <a:xfrm flipH="1">
              <a:off x="8649720" y="6549480"/>
              <a:ext cx="8208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97" name=""/>
            <p:cNvSpPr/>
            <p:nvPr/>
          </p:nvSpPr>
          <p:spPr>
            <a:xfrm>
              <a:off x="8728920" y="6606360"/>
              <a:ext cx="72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98" name=""/>
            <p:cNvSpPr/>
            <p:nvPr/>
          </p:nvSpPr>
          <p:spPr>
            <a:xfrm>
              <a:off x="8721000" y="6258240"/>
              <a:ext cx="345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9" name=""/>
            <p:cNvSpPr/>
            <p:nvPr/>
          </p:nvSpPr>
          <p:spPr>
            <a:xfrm flipH="1">
              <a:off x="8676360" y="6099840"/>
              <a:ext cx="759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00" name=""/>
            <p:cNvSpPr/>
            <p:nvPr/>
          </p:nvSpPr>
          <p:spPr>
            <a:xfrm flipH="1" flipV="1">
              <a:off x="8673120" y="6644520"/>
              <a:ext cx="83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01" name=""/>
            <p:cNvSpPr/>
            <p:nvPr/>
          </p:nvSpPr>
          <p:spPr>
            <a:xfrm flipH="1">
              <a:off x="8773200" y="6304680"/>
              <a:ext cx="266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02" name=""/>
            <p:cNvSpPr/>
            <p:nvPr/>
          </p:nvSpPr>
          <p:spPr>
            <a:xfrm>
              <a:off x="8632440" y="6625440"/>
              <a:ext cx="71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 name=""/>
            <p:cNvSpPr/>
            <p:nvPr/>
          </p:nvSpPr>
          <p:spPr>
            <a:xfrm flipH="1" flipV="1">
              <a:off x="8664120" y="6724080"/>
              <a:ext cx="9936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204" name=""/>
            <p:cNvSpPr/>
            <p:nvPr/>
          </p:nvSpPr>
          <p:spPr>
            <a:xfrm flipH="1">
              <a:off x="8820360" y="641628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05" name=""/>
            <p:cNvSpPr/>
            <p:nvPr/>
          </p:nvSpPr>
          <p:spPr>
            <a:xfrm>
              <a:off x="8768520" y="614808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6" name=""/>
            <p:cNvSpPr/>
            <p:nvPr/>
          </p:nvSpPr>
          <p:spPr>
            <a:xfrm>
              <a:off x="8773200" y="6125040"/>
              <a:ext cx="72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7" name=""/>
            <p:cNvSpPr/>
            <p:nvPr/>
          </p:nvSpPr>
          <p:spPr>
            <a:xfrm>
              <a:off x="8814600" y="653436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8" name=""/>
            <p:cNvSpPr/>
            <p:nvPr/>
          </p:nvSpPr>
          <p:spPr>
            <a:xfrm flipH="1">
              <a:off x="8502840" y="6642360"/>
              <a:ext cx="439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209" name=""/>
            <p:cNvSpPr/>
            <p:nvPr/>
          </p:nvSpPr>
          <p:spPr>
            <a:xfrm>
              <a:off x="7864920" y="6165360"/>
              <a:ext cx="597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 name=""/>
            <p:cNvSpPr/>
            <p:nvPr/>
          </p:nvSpPr>
          <p:spPr>
            <a:xfrm>
              <a:off x="8127720" y="6192720"/>
              <a:ext cx="583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1" name=""/>
            <p:cNvSpPr/>
            <p:nvPr/>
          </p:nvSpPr>
          <p:spPr>
            <a:xfrm flipV="1">
              <a:off x="7847280" y="6663240"/>
              <a:ext cx="457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2" name=""/>
            <p:cNvSpPr/>
            <p:nvPr/>
          </p:nvSpPr>
          <p:spPr>
            <a:xfrm>
              <a:off x="8081640" y="6072120"/>
              <a:ext cx="504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13" name=""/>
            <p:cNvSpPr/>
            <p:nvPr/>
          </p:nvSpPr>
          <p:spPr>
            <a:xfrm>
              <a:off x="7839360" y="6638040"/>
              <a:ext cx="583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 name=""/>
            <p:cNvSpPr/>
            <p:nvPr/>
          </p:nvSpPr>
          <p:spPr>
            <a:xfrm>
              <a:off x="8483760" y="6304680"/>
              <a:ext cx="568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 name=""/>
            <p:cNvSpPr/>
            <p:nvPr/>
          </p:nvSpPr>
          <p:spPr>
            <a:xfrm flipV="1">
              <a:off x="8814600" y="6230520"/>
              <a:ext cx="154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216" name=""/>
            <p:cNvSpPr/>
            <p:nvPr/>
          </p:nvSpPr>
          <p:spPr>
            <a:xfrm flipH="1">
              <a:off x="7854840" y="6450120"/>
              <a:ext cx="5364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217" name=""/>
            <p:cNvSpPr/>
            <p:nvPr/>
          </p:nvSpPr>
          <p:spPr>
            <a:xfrm flipH="1">
              <a:off x="8762040" y="6393240"/>
              <a:ext cx="9504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218" name=""/>
            <p:cNvSpPr/>
            <p:nvPr/>
          </p:nvSpPr>
          <p:spPr>
            <a:xfrm flipH="1">
              <a:off x="7834680" y="6086880"/>
              <a:ext cx="964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19" name=""/>
            <p:cNvSpPr/>
            <p:nvPr/>
          </p:nvSpPr>
          <p:spPr>
            <a:xfrm flipH="1">
              <a:off x="8047800" y="6143760"/>
              <a:ext cx="9324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20" name=""/>
            <p:cNvSpPr/>
            <p:nvPr/>
          </p:nvSpPr>
          <p:spPr>
            <a:xfrm flipH="1">
              <a:off x="8894520" y="6315120"/>
              <a:ext cx="6804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21" name=""/>
            <p:cNvSpPr/>
            <p:nvPr/>
          </p:nvSpPr>
          <p:spPr>
            <a:xfrm flipH="1" flipV="1">
              <a:off x="8915760" y="6390360"/>
              <a:ext cx="7560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22" name=""/>
            <p:cNvSpPr/>
            <p:nvPr/>
          </p:nvSpPr>
          <p:spPr>
            <a:xfrm flipH="1">
              <a:off x="8872920" y="6363720"/>
              <a:ext cx="169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23" name=""/>
            <p:cNvSpPr/>
            <p:nvPr/>
          </p:nvSpPr>
          <p:spPr>
            <a:xfrm flipH="1">
              <a:off x="8897760" y="6509160"/>
              <a:ext cx="61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4" name=""/>
            <p:cNvSpPr/>
            <p:nvPr/>
          </p:nvSpPr>
          <p:spPr>
            <a:xfrm>
              <a:off x="89758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25" name=""/>
            <p:cNvSpPr/>
            <p:nvPr/>
          </p:nvSpPr>
          <p:spPr>
            <a:xfrm>
              <a:off x="8863560" y="6678000"/>
              <a:ext cx="3456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26" name=""/>
            <p:cNvSpPr/>
            <p:nvPr/>
          </p:nvSpPr>
          <p:spPr>
            <a:xfrm flipV="1">
              <a:off x="9036000" y="6447600"/>
              <a:ext cx="709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27" name=""/>
            <p:cNvSpPr/>
            <p:nvPr/>
          </p:nvSpPr>
          <p:spPr>
            <a:xfrm>
              <a:off x="9051840" y="6480000"/>
              <a:ext cx="37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8" name=""/>
            <p:cNvSpPr/>
            <p:nvPr/>
          </p:nvSpPr>
          <p:spPr>
            <a:xfrm>
              <a:off x="9031320" y="6344280"/>
              <a:ext cx="3276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29" name=""/>
            <p:cNvSpPr/>
            <p:nvPr/>
          </p:nvSpPr>
          <p:spPr>
            <a:xfrm flipH="1">
              <a:off x="8972640" y="6285600"/>
              <a:ext cx="554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0" name=""/>
            <p:cNvSpPr/>
            <p:nvPr/>
          </p:nvSpPr>
          <p:spPr>
            <a:xfrm>
              <a:off x="9031320" y="6110280"/>
              <a:ext cx="583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1" name=""/>
            <p:cNvSpPr/>
            <p:nvPr/>
          </p:nvSpPr>
          <p:spPr>
            <a:xfrm>
              <a:off x="9037440" y="6204960"/>
              <a:ext cx="680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32" name=""/>
            <p:cNvSpPr/>
            <p:nvPr/>
          </p:nvSpPr>
          <p:spPr>
            <a:xfrm>
              <a:off x="8910720" y="6200640"/>
              <a:ext cx="363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33" name=""/>
            <p:cNvSpPr/>
            <p:nvPr/>
          </p:nvSpPr>
          <p:spPr>
            <a:xfrm flipH="1">
              <a:off x="8853840" y="6258240"/>
              <a:ext cx="536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4" name=""/>
            <p:cNvSpPr/>
            <p:nvPr/>
          </p:nvSpPr>
          <p:spPr>
            <a:xfrm flipH="1">
              <a:off x="8868240" y="6528240"/>
              <a:ext cx="252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5" name=""/>
            <p:cNvSpPr/>
            <p:nvPr/>
          </p:nvSpPr>
          <p:spPr>
            <a:xfrm>
              <a:off x="8863560" y="6093360"/>
              <a:ext cx="60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36" name=""/>
            <p:cNvSpPr/>
            <p:nvPr/>
          </p:nvSpPr>
          <p:spPr>
            <a:xfrm>
              <a:off x="8960040" y="6093360"/>
              <a:ext cx="3456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37" name=""/>
            <p:cNvSpPr/>
            <p:nvPr/>
          </p:nvSpPr>
          <p:spPr>
            <a:xfrm>
              <a:off x="8966520" y="6395040"/>
              <a:ext cx="6624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8" name=""/>
            <p:cNvSpPr/>
            <p:nvPr/>
          </p:nvSpPr>
          <p:spPr>
            <a:xfrm flipH="1">
              <a:off x="8958600" y="6522120"/>
              <a:ext cx="8064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39" name=""/>
            <p:cNvSpPr/>
            <p:nvPr/>
          </p:nvSpPr>
          <p:spPr>
            <a:xfrm>
              <a:off x="9036000" y="6579000"/>
              <a:ext cx="7596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40" name=""/>
            <p:cNvSpPr/>
            <p:nvPr/>
          </p:nvSpPr>
          <p:spPr>
            <a:xfrm>
              <a:off x="9031320" y="623052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1" name=""/>
            <p:cNvSpPr/>
            <p:nvPr/>
          </p:nvSpPr>
          <p:spPr>
            <a:xfrm flipH="1">
              <a:off x="9054720" y="6126840"/>
              <a:ext cx="788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42" name=""/>
            <p:cNvSpPr/>
            <p:nvPr/>
          </p:nvSpPr>
          <p:spPr>
            <a:xfrm flipH="1" flipV="1">
              <a:off x="8982000" y="6616800"/>
              <a:ext cx="83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43" name=""/>
            <p:cNvSpPr/>
            <p:nvPr/>
          </p:nvSpPr>
          <p:spPr>
            <a:xfrm flipH="1">
              <a:off x="9083520" y="6279120"/>
              <a:ext cx="2520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44" name=""/>
            <p:cNvSpPr/>
            <p:nvPr/>
          </p:nvSpPr>
          <p:spPr>
            <a:xfrm>
              <a:off x="8942760" y="6595920"/>
              <a:ext cx="694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45" name=""/>
            <p:cNvSpPr/>
            <p:nvPr/>
          </p:nvSpPr>
          <p:spPr>
            <a:xfrm flipH="1" flipV="1">
              <a:off x="8974440" y="6694920"/>
              <a:ext cx="9792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46" name=""/>
            <p:cNvSpPr/>
            <p:nvPr/>
          </p:nvSpPr>
          <p:spPr>
            <a:xfrm>
              <a:off x="8925120" y="6638040"/>
              <a:ext cx="612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47" name=""/>
            <p:cNvSpPr/>
            <p:nvPr/>
          </p:nvSpPr>
          <p:spPr>
            <a:xfrm>
              <a:off x="7104960" y="6779520"/>
              <a:ext cx="583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8" name=""/>
            <p:cNvSpPr/>
            <p:nvPr/>
          </p:nvSpPr>
          <p:spPr>
            <a:xfrm>
              <a:off x="6935400" y="6758640"/>
              <a:ext cx="583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49" name=""/>
            <p:cNvSpPr/>
            <p:nvPr/>
          </p:nvSpPr>
          <p:spPr>
            <a:xfrm>
              <a:off x="7030440" y="675864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0" name=""/>
            <p:cNvSpPr/>
            <p:nvPr/>
          </p:nvSpPr>
          <p:spPr>
            <a:xfrm flipH="1">
              <a:off x="7130160" y="6794640"/>
              <a:ext cx="77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51" name=""/>
            <p:cNvSpPr/>
            <p:nvPr/>
          </p:nvSpPr>
          <p:spPr>
            <a:xfrm>
              <a:off x="7411680" y="6779520"/>
              <a:ext cx="60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2" name=""/>
            <p:cNvSpPr/>
            <p:nvPr/>
          </p:nvSpPr>
          <p:spPr>
            <a:xfrm>
              <a:off x="7244280" y="6758640"/>
              <a:ext cx="61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3" name=""/>
            <p:cNvSpPr/>
            <p:nvPr/>
          </p:nvSpPr>
          <p:spPr>
            <a:xfrm>
              <a:off x="7340760" y="675864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4" name=""/>
            <p:cNvSpPr/>
            <p:nvPr/>
          </p:nvSpPr>
          <p:spPr>
            <a:xfrm flipH="1">
              <a:off x="7440120" y="6794640"/>
              <a:ext cx="77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55" name=""/>
            <p:cNvSpPr/>
            <p:nvPr/>
          </p:nvSpPr>
          <p:spPr>
            <a:xfrm>
              <a:off x="9101160" y="661932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6" name=""/>
            <p:cNvSpPr/>
            <p:nvPr/>
          </p:nvSpPr>
          <p:spPr>
            <a:xfrm>
              <a:off x="7746120" y="6779520"/>
              <a:ext cx="583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7" name=""/>
            <p:cNvSpPr/>
            <p:nvPr/>
          </p:nvSpPr>
          <p:spPr>
            <a:xfrm>
              <a:off x="7578360" y="6758640"/>
              <a:ext cx="597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8" name=""/>
            <p:cNvSpPr/>
            <p:nvPr/>
          </p:nvSpPr>
          <p:spPr>
            <a:xfrm>
              <a:off x="7674840" y="675864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9" name=""/>
            <p:cNvSpPr/>
            <p:nvPr/>
          </p:nvSpPr>
          <p:spPr>
            <a:xfrm flipH="1">
              <a:off x="7770960" y="6794640"/>
              <a:ext cx="7776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60" name=""/>
            <p:cNvSpPr/>
            <p:nvPr/>
          </p:nvSpPr>
          <p:spPr>
            <a:xfrm>
              <a:off x="8054640" y="6779520"/>
              <a:ext cx="597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1" name=""/>
            <p:cNvSpPr/>
            <p:nvPr/>
          </p:nvSpPr>
          <p:spPr>
            <a:xfrm>
              <a:off x="7937640" y="6787800"/>
              <a:ext cx="5652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62" name=""/>
            <p:cNvSpPr/>
            <p:nvPr/>
          </p:nvSpPr>
          <p:spPr>
            <a:xfrm>
              <a:off x="8007480" y="6758640"/>
              <a:ext cx="345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63" name=""/>
            <p:cNvSpPr/>
            <p:nvPr/>
          </p:nvSpPr>
          <p:spPr>
            <a:xfrm flipH="1">
              <a:off x="8175960" y="6769080"/>
              <a:ext cx="759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64" name=""/>
            <p:cNvSpPr/>
            <p:nvPr/>
          </p:nvSpPr>
          <p:spPr>
            <a:xfrm>
              <a:off x="8315640" y="6750000"/>
              <a:ext cx="58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5" name=""/>
            <p:cNvSpPr/>
            <p:nvPr/>
          </p:nvSpPr>
          <p:spPr>
            <a:xfrm>
              <a:off x="8269920" y="6787800"/>
              <a:ext cx="5652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66" name=""/>
            <p:cNvSpPr/>
            <p:nvPr/>
          </p:nvSpPr>
          <p:spPr>
            <a:xfrm>
              <a:off x="8339760" y="678780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67" name=""/>
            <p:cNvSpPr/>
            <p:nvPr/>
          </p:nvSpPr>
          <p:spPr>
            <a:xfrm flipH="1">
              <a:off x="8437320" y="6769080"/>
              <a:ext cx="774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68" name=""/>
            <p:cNvSpPr/>
            <p:nvPr/>
          </p:nvSpPr>
          <p:spPr>
            <a:xfrm>
              <a:off x="8629560" y="6743880"/>
              <a:ext cx="5184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69" name=""/>
            <p:cNvSpPr/>
            <p:nvPr/>
          </p:nvSpPr>
          <p:spPr>
            <a:xfrm>
              <a:off x="8529480" y="6758640"/>
              <a:ext cx="597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70" name=""/>
            <p:cNvSpPr/>
            <p:nvPr/>
          </p:nvSpPr>
          <p:spPr>
            <a:xfrm>
              <a:off x="8672040" y="678780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1" name=""/>
            <p:cNvSpPr/>
            <p:nvPr/>
          </p:nvSpPr>
          <p:spPr>
            <a:xfrm flipH="1">
              <a:off x="8701560" y="6769080"/>
              <a:ext cx="74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72" name=""/>
            <p:cNvSpPr/>
            <p:nvPr/>
          </p:nvSpPr>
          <p:spPr>
            <a:xfrm>
              <a:off x="8792280" y="6787800"/>
              <a:ext cx="34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3" name=""/>
            <p:cNvSpPr/>
            <p:nvPr/>
          </p:nvSpPr>
          <p:spPr>
            <a:xfrm>
              <a:off x="8871480" y="6819840"/>
              <a:ext cx="69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4" name=""/>
            <p:cNvSpPr/>
            <p:nvPr/>
          </p:nvSpPr>
          <p:spPr>
            <a:xfrm>
              <a:off x="8105400" y="6741360"/>
              <a:ext cx="518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75" name=""/>
            <p:cNvSpPr/>
            <p:nvPr/>
          </p:nvSpPr>
          <p:spPr>
            <a:xfrm flipH="1">
              <a:off x="8071920" y="6813000"/>
              <a:ext cx="950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76" name=""/>
            <p:cNvSpPr/>
            <p:nvPr/>
          </p:nvSpPr>
          <p:spPr>
            <a:xfrm>
              <a:off x="9051840" y="6806880"/>
              <a:ext cx="60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7" name=""/>
            <p:cNvSpPr/>
            <p:nvPr/>
          </p:nvSpPr>
          <p:spPr>
            <a:xfrm>
              <a:off x="8839800" y="6758640"/>
              <a:ext cx="583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78" name=""/>
            <p:cNvSpPr/>
            <p:nvPr/>
          </p:nvSpPr>
          <p:spPr>
            <a:xfrm>
              <a:off x="8982360" y="675864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9" name=""/>
            <p:cNvSpPr/>
            <p:nvPr/>
          </p:nvSpPr>
          <p:spPr>
            <a:xfrm flipH="1">
              <a:off x="9032400" y="6712200"/>
              <a:ext cx="774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80" name=""/>
            <p:cNvSpPr/>
            <p:nvPr/>
          </p:nvSpPr>
          <p:spPr>
            <a:xfrm>
              <a:off x="9110520" y="6477480"/>
              <a:ext cx="154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81" name=""/>
            <p:cNvSpPr/>
            <p:nvPr/>
          </p:nvSpPr>
          <p:spPr>
            <a:xfrm>
              <a:off x="7554240" y="6815520"/>
              <a:ext cx="60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82" name=""/>
            <p:cNvSpPr/>
            <p:nvPr/>
          </p:nvSpPr>
          <p:spPr>
            <a:xfrm>
              <a:off x="7864920" y="6834240"/>
              <a:ext cx="597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 name=""/>
            <p:cNvSpPr/>
            <p:nvPr/>
          </p:nvSpPr>
          <p:spPr>
            <a:xfrm flipV="1">
              <a:off x="6906960" y="6819480"/>
              <a:ext cx="72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284" name=""/>
            <p:cNvSpPr/>
            <p:nvPr/>
          </p:nvSpPr>
          <p:spPr>
            <a:xfrm flipH="1">
              <a:off x="8573400" y="6813000"/>
              <a:ext cx="9180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85" name=""/>
            <p:cNvSpPr/>
            <p:nvPr/>
          </p:nvSpPr>
          <p:spPr>
            <a:xfrm flipH="1" flipV="1">
              <a:off x="7221600" y="6781320"/>
              <a:ext cx="838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86" name=""/>
            <p:cNvSpPr/>
            <p:nvPr/>
          </p:nvSpPr>
          <p:spPr>
            <a:xfrm flipH="1" flipV="1">
              <a:off x="8363520" y="6781320"/>
              <a:ext cx="820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87" name=""/>
            <p:cNvSpPr/>
            <p:nvPr/>
          </p:nvSpPr>
          <p:spPr>
            <a:xfrm flipH="1" flipV="1">
              <a:off x="8483760" y="6781320"/>
              <a:ext cx="820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288" name=""/>
          <p:cNvSpPr/>
          <p:nvPr/>
        </p:nvSpPr>
        <p:spPr>
          <a:xfrm>
            <a:off x="6765840" y="6145200"/>
            <a:ext cx="237816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ENETIC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AND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289" name="PlaceHolder 3"/>
          <p:cNvSpPr>
            <a:spLocks noGrp="1"/>
          </p:cNvSpPr>
          <p:nvPr>
            <p:ph type="dt" idx="1"/>
          </p:nvPr>
        </p:nvSpPr>
        <p:spPr>
          <a:xfrm>
            <a:off x="1473120" y="6444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4A0C-1968-4BCC-98D8-597E66447F53}"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290" name="PlaceHolder 4"/>
          <p:cNvSpPr>
            <a:spLocks noGrp="1"/>
          </p:cNvSpPr>
          <p:nvPr>
            <p:ph type="ftr" idx="2"/>
          </p:nvPr>
        </p:nvSpPr>
        <p:spPr>
          <a:xfrm>
            <a:off x="685440" y="6443280"/>
            <a:ext cx="725400" cy="230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9.png"/><Relationship Id="rId50" Type="http://schemas.openxmlformats.org/officeDocument/2006/relationships/image" Target="../media/image9.png"/><Relationship Id="rId51" Type="http://schemas.openxmlformats.org/officeDocument/2006/relationships/image" Target="../media/image10.png"/><Relationship Id="rId52" Type="http://schemas.openxmlformats.org/officeDocument/2006/relationships/image" Target="../media/image10.png"/><Relationship Id="rId53" Type="http://schemas.openxmlformats.org/officeDocument/2006/relationships/image" Target="../media/image10.png"/><Relationship Id="rId54" Type="http://schemas.openxmlformats.org/officeDocument/2006/relationships/image" Target="../media/image10.png"/><Relationship Id="rId55" Type="http://schemas.openxmlformats.org/officeDocument/2006/relationships/image" Target="../media/image10.png"/><Relationship Id="rId56" Type="http://schemas.openxmlformats.org/officeDocument/2006/relationships/image" Target="../media/image10.png"/><Relationship Id="rId57" Type="http://schemas.openxmlformats.org/officeDocument/2006/relationships/image" Target="../media/image10.png"/><Relationship Id="rId58" Type="http://schemas.openxmlformats.org/officeDocument/2006/relationships/image" Target="../media/image10.png"/><Relationship Id="rId59" Type="http://schemas.openxmlformats.org/officeDocument/2006/relationships/image" Target="../media/image10.png"/><Relationship Id="rId60" Type="http://schemas.openxmlformats.org/officeDocument/2006/relationships/image" Target="../media/image10.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2.png"/><Relationship Id="rId67" Type="http://schemas.openxmlformats.org/officeDocument/2006/relationships/image" Target="../media/image12.png"/><Relationship Id="rId68" Type="http://schemas.openxmlformats.org/officeDocument/2006/relationships/image" Target="../media/image12.png"/><Relationship Id="rId69" Type="http://schemas.openxmlformats.org/officeDocument/2006/relationships/image" Target="../media/image12.png"/><Relationship Id="rId70" Type="http://schemas.openxmlformats.org/officeDocument/2006/relationships/image" Target="../media/image12.png"/><Relationship Id="rId71" Type="http://schemas.openxmlformats.org/officeDocument/2006/relationships/image" Target="../media/image12.png"/><Relationship Id="rId72" Type="http://schemas.openxmlformats.org/officeDocument/2006/relationships/image" Target="../media/image12.png"/><Relationship Id="rId73" Type="http://schemas.openxmlformats.org/officeDocument/2006/relationships/image" Target="../media/image12.png"/><Relationship Id="rId74" Type="http://schemas.openxmlformats.org/officeDocument/2006/relationships/image" Target="../media/image13.png"/><Relationship Id="rId75" Type="http://schemas.openxmlformats.org/officeDocument/2006/relationships/image" Target="../media/image13.png"/><Relationship Id="rId76" Type="http://schemas.openxmlformats.org/officeDocument/2006/relationships/image" Target="../media/image13.png"/><Relationship Id="rId77" Type="http://schemas.openxmlformats.org/officeDocument/2006/relationships/image" Target="../media/image13.png"/><Relationship Id="rId78" Type="http://schemas.openxmlformats.org/officeDocument/2006/relationships/image" Target="../media/image13.png"/><Relationship Id="rId79" Type="http://schemas.openxmlformats.org/officeDocument/2006/relationships/image" Target="../media/image13.png"/><Relationship Id="rId80" Type="http://schemas.openxmlformats.org/officeDocument/2006/relationships/image" Target="../media/image13.png"/><Relationship Id="rId81" Type="http://schemas.openxmlformats.org/officeDocument/2006/relationships/image" Target="../media/image13.png"/><Relationship Id="rId8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3240"/>
            <a:ext cx="9144000" cy="6854760"/>
          </a:xfrm>
          <a:prstGeom prst="rect">
            <a:avLst/>
          </a:prstGeom>
          <a:ln w="0">
            <a:noFill/>
          </a:ln>
        </p:spPr>
      </p:pic>
      <p:sp>
        <p:nvSpPr>
          <p:cNvPr id="328" name=""/>
          <p:cNvSpPr/>
          <p:nvPr/>
        </p:nvSpPr>
        <p:spPr>
          <a:xfrm>
            <a:off x="736560" y="566640"/>
            <a:ext cx="7772400" cy="155412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Stress-related behaviors</a:t>
            </a:r>
            <a:br>
              <a:rPr sz="3600"/>
            </a:br>
            <a:r>
              <a:rPr b="0" lang="en-US" sz="3200" spc="-1" strike="noStrike">
                <a:solidFill>
                  <a:srgbClr val="ff3300"/>
                </a:solidFill>
                <a:latin typeface="Comic Sans MS"/>
              </a:rPr>
              <a:t>Phenotype - genotype shuttle</a:t>
            </a:r>
            <a:endParaRPr b="0" lang="en-US" sz="3200" spc="-1" strike="noStrike">
              <a:solidFill>
                <a:srgbClr val="000000"/>
              </a:solidFill>
              <a:latin typeface="Comic Sans MS"/>
            </a:endParaRPr>
          </a:p>
        </p:txBody>
      </p:sp>
      <p:sp>
        <p:nvSpPr>
          <p:cNvPr id="329" name=""/>
          <p:cNvSpPr/>
          <p:nvPr/>
        </p:nvSpPr>
        <p:spPr>
          <a:xfrm>
            <a:off x="282600" y="2416320"/>
            <a:ext cx="8520120" cy="301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Pierre Mormède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Hélène Courvoisier, André Ramos, Olivier Berton,</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Evguenia Moneva, Melloni Cook</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Francis Chaouloff, Marie-Pierre Moisan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Laboratory for Neurogenetics and Stress</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INSERM - INRA - Université Victor Segalen Bordeaux 2</a:t>
            </a:r>
            <a:endParaRPr b="0" lang="en-US" sz="2400" spc="-1" strike="noStrike">
              <a:solidFill>
                <a:srgbClr val="000000"/>
              </a:solidFill>
              <a:latin typeface="Comic Sans MS"/>
            </a:endParaRPr>
          </a:p>
        </p:txBody>
      </p:sp>
      <p:sp>
        <p:nvSpPr>
          <p:cNvPr id="330" name=""/>
          <p:cNvSpPr/>
          <p:nvPr/>
        </p:nvSpPr>
        <p:spPr>
          <a:xfrm>
            <a:off x="797760" y="5737320"/>
            <a:ext cx="451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el +33 557 573753  fax +33 557 573752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ail mormede@bordeaux.inserm.fr</a:t>
            </a:r>
            <a:endParaRPr b="0" lang="en-US" sz="1800" spc="-1" strike="noStrike">
              <a:solidFill>
                <a:srgbClr val="000000"/>
              </a:solidFill>
              <a:latin typeface="Comic Sans MS"/>
            </a:endParaRPr>
          </a:p>
        </p:txBody>
      </p:sp>
      <p:sp>
        <p:nvSpPr>
          <p:cNvPr id="331" name=""/>
          <p:cNvSpPr/>
          <p:nvPr/>
        </p:nvSpPr>
        <p:spPr>
          <a:xfrm>
            <a:off x="0" y="6445080"/>
            <a:ext cx="9144000" cy="1800"/>
          </a:xfrm>
          <a:prstGeom prst="line">
            <a:avLst/>
          </a:prstGeom>
          <a:ln w="2844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grpSp>
        <p:nvGrpSpPr>
          <p:cNvPr id="332" name=""/>
          <p:cNvGrpSpPr/>
          <p:nvPr/>
        </p:nvGrpSpPr>
        <p:grpSpPr>
          <a:xfrm>
            <a:off x="7156080" y="6072120"/>
            <a:ext cx="1981080" cy="785160"/>
            <a:chOff x="7156080" y="6072120"/>
            <a:chExt cx="1981080" cy="785160"/>
          </a:xfrm>
        </p:grpSpPr>
        <p:sp>
          <p:nvSpPr>
            <p:cNvPr id="333" name=""/>
            <p:cNvSpPr/>
            <p:nvPr/>
          </p:nvSpPr>
          <p:spPr>
            <a:xfrm flipH="1">
              <a:off x="7211880" y="631512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334" name=""/>
            <p:cNvSpPr/>
            <p:nvPr/>
          </p:nvSpPr>
          <p:spPr>
            <a:xfrm flipH="1" flipV="1">
              <a:off x="7228440" y="639036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335" name=""/>
            <p:cNvSpPr/>
            <p:nvPr/>
          </p:nvSpPr>
          <p:spPr>
            <a:xfrm flipH="1">
              <a:off x="7156080" y="617976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36" name=""/>
            <p:cNvSpPr/>
            <p:nvPr/>
          </p:nvSpPr>
          <p:spPr>
            <a:xfrm flipH="1">
              <a:off x="7191000" y="636372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37" name=""/>
            <p:cNvSpPr/>
            <p:nvPr/>
          </p:nvSpPr>
          <p:spPr>
            <a:xfrm flipH="1">
              <a:off x="7216200" y="650916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38" name=""/>
            <p:cNvSpPr/>
            <p:nvPr/>
          </p:nvSpPr>
          <p:spPr>
            <a:xfrm>
              <a:off x="728136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39" name=""/>
            <p:cNvSpPr/>
            <p:nvPr/>
          </p:nvSpPr>
          <p:spPr>
            <a:xfrm>
              <a:off x="7227360" y="661932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40" name=""/>
            <p:cNvSpPr/>
            <p:nvPr/>
          </p:nvSpPr>
          <p:spPr>
            <a:xfrm>
              <a:off x="7167600" y="670788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341" name=""/>
            <p:cNvSpPr/>
            <p:nvPr/>
          </p:nvSpPr>
          <p:spPr>
            <a:xfrm flipV="1">
              <a:off x="7334280" y="644760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342" name=""/>
            <p:cNvSpPr/>
            <p:nvPr/>
          </p:nvSpPr>
          <p:spPr>
            <a:xfrm>
              <a:off x="7352280" y="64800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43" name=""/>
            <p:cNvSpPr/>
            <p:nvPr/>
          </p:nvSpPr>
          <p:spPr>
            <a:xfrm>
              <a:off x="7329960" y="634428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344" name=""/>
            <p:cNvSpPr/>
            <p:nvPr/>
          </p:nvSpPr>
          <p:spPr>
            <a:xfrm flipH="1">
              <a:off x="7278120" y="628560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345" name=""/>
            <p:cNvSpPr/>
            <p:nvPr/>
          </p:nvSpPr>
          <p:spPr>
            <a:xfrm>
              <a:off x="7329960" y="6110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6" name=""/>
            <p:cNvSpPr/>
            <p:nvPr/>
          </p:nvSpPr>
          <p:spPr>
            <a:xfrm>
              <a:off x="7334280" y="620496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347" name=""/>
            <p:cNvSpPr/>
            <p:nvPr/>
          </p:nvSpPr>
          <p:spPr>
            <a:xfrm>
              <a:off x="7353720" y="663372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348" name=""/>
            <p:cNvSpPr/>
            <p:nvPr/>
          </p:nvSpPr>
          <p:spPr>
            <a:xfrm>
              <a:off x="7227360" y="620064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349" name=""/>
            <p:cNvSpPr/>
            <p:nvPr/>
          </p:nvSpPr>
          <p:spPr>
            <a:xfrm flipH="1">
              <a:off x="7175520" y="625824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350" name=""/>
            <p:cNvSpPr/>
            <p:nvPr/>
          </p:nvSpPr>
          <p:spPr>
            <a:xfrm flipH="1">
              <a:off x="7157520" y="647748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51" name=""/>
            <p:cNvSpPr/>
            <p:nvPr/>
          </p:nvSpPr>
          <p:spPr>
            <a:xfrm flipH="1">
              <a:off x="7188120" y="652824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52" name=""/>
            <p:cNvSpPr/>
            <p:nvPr/>
          </p:nvSpPr>
          <p:spPr>
            <a:xfrm>
              <a:off x="7184160" y="609336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353" name=""/>
            <p:cNvSpPr/>
            <p:nvPr/>
          </p:nvSpPr>
          <p:spPr>
            <a:xfrm>
              <a:off x="7266240" y="609336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354" name=""/>
            <p:cNvSpPr/>
            <p:nvPr/>
          </p:nvSpPr>
          <p:spPr>
            <a:xfrm>
              <a:off x="7274520" y="639504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55" name=""/>
            <p:cNvSpPr/>
            <p:nvPr/>
          </p:nvSpPr>
          <p:spPr>
            <a:xfrm flipH="1">
              <a:off x="7267680" y="652212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356" name=""/>
            <p:cNvSpPr/>
            <p:nvPr/>
          </p:nvSpPr>
          <p:spPr>
            <a:xfrm>
              <a:off x="7334280" y="657900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357" name=""/>
            <p:cNvSpPr/>
            <p:nvPr/>
          </p:nvSpPr>
          <p:spPr>
            <a:xfrm>
              <a:off x="7329960" y="623052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58" name=""/>
            <p:cNvSpPr/>
            <p:nvPr/>
          </p:nvSpPr>
          <p:spPr>
            <a:xfrm flipH="1">
              <a:off x="7353360" y="612684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359" name=""/>
            <p:cNvSpPr/>
            <p:nvPr/>
          </p:nvSpPr>
          <p:spPr>
            <a:xfrm flipH="1" flipV="1">
              <a:off x="7287120" y="661680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60" name=""/>
            <p:cNvSpPr/>
            <p:nvPr/>
          </p:nvSpPr>
          <p:spPr>
            <a:xfrm flipH="1">
              <a:off x="7378920" y="627912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361" name=""/>
            <p:cNvSpPr/>
            <p:nvPr/>
          </p:nvSpPr>
          <p:spPr>
            <a:xfrm>
              <a:off x="7252560" y="659592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62" name=""/>
            <p:cNvSpPr/>
            <p:nvPr/>
          </p:nvSpPr>
          <p:spPr>
            <a:xfrm flipH="1" flipV="1">
              <a:off x="7281000" y="669492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363" name=""/>
            <p:cNvSpPr/>
            <p:nvPr/>
          </p:nvSpPr>
          <p:spPr>
            <a:xfrm flipH="1">
              <a:off x="7417440" y="638892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64" name=""/>
            <p:cNvSpPr/>
            <p:nvPr/>
          </p:nvSpPr>
          <p:spPr>
            <a:xfrm>
              <a:off x="7414920" y="61732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65" name=""/>
            <p:cNvSpPr/>
            <p:nvPr/>
          </p:nvSpPr>
          <p:spPr>
            <a:xfrm>
              <a:off x="7417440" y="631728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 name=""/>
            <p:cNvSpPr/>
            <p:nvPr/>
          </p:nvSpPr>
          <p:spPr>
            <a:xfrm>
              <a:off x="7414920" y="65091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67" name=""/>
            <p:cNvSpPr/>
            <p:nvPr/>
          </p:nvSpPr>
          <p:spPr>
            <a:xfrm flipH="1">
              <a:off x="7482960" y="631512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368" name=""/>
            <p:cNvSpPr/>
            <p:nvPr/>
          </p:nvSpPr>
          <p:spPr>
            <a:xfrm flipH="1" flipV="1">
              <a:off x="7498080" y="639036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369" name=""/>
            <p:cNvSpPr/>
            <p:nvPr/>
          </p:nvSpPr>
          <p:spPr>
            <a:xfrm flipH="1">
              <a:off x="7428600" y="617976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70" name=""/>
            <p:cNvSpPr/>
            <p:nvPr/>
          </p:nvSpPr>
          <p:spPr>
            <a:xfrm flipH="1">
              <a:off x="7462080" y="636372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71" name=""/>
            <p:cNvSpPr/>
            <p:nvPr/>
          </p:nvSpPr>
          <p:spPr>
            <a:xfrm flipH="1">
              <a:off x="7487280" y="650916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72" name=""/>
            <p:cNvSpPr/>
            <p:nvPr/>
          </p:nvSpPr>
          <p:spPr>
            <a:xfrm>
              <a:off x="75538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73" name=""/>
            <p:cNvSpPr/>
            <p:nvPr/>
          </p:nvSpPr>
          <p:spPr>
            <a:xfrm>
              <a:off x="7498440" y="661932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74" name=""/>
            <p:cNvSpPr/>
            <p:nvPr/>
          </p:nvSpPr>
          <p:spPr>
            <a:xfrm flipV="1">
              <a:off x="7444080" y="667368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75" name=""/>
            <p:cNvSpPr/>
            <p:nvPr/>
          </p:nvSpPr>
          <p:spPr>
            <a:xfrm flipV="1">
              <a:off x="7605360" y="644760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376" name=""/>
            <p:cNvSpPr/>
            <p:nvPr/>
          </p:nvSpPr>
          <p:spPr>
            <a:xfrm>
              <a:off x="7621920" y="648000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77" name=""/>
            <p:cNvSpPr/>
            <p:nvPr/>
          </p:nvSpPr>
          <p:spPr>
            <a:xfrm>
              <a:off x="7602840" y="634428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378" name=""/>
            <p:cNvSpPr/>
            <p:nvPr/>
          </p:nvSpPr>
          <p:spPr>
            <a:xfrm flipH="1">
              <a:off x="7549200" y="628560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379" name=""/>
            <p:cNvSpPr/>
            <p:nvPr/>
          </p:nvSpPr>
          <p:spPr>
            <a:xfrm>
              <a:off x="7602840" y="6110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0" name=""/>
            <p:cNvSpPr/>
            <p:nvPr/>
          </p:nvSpPr>
          <p:spPr>
            <a:xfrm>
              <a:off x="7606800" y="620496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381" name=""/>
            <p:cNvSpPr/>
            <p:nvPr/>
          </p:nvSpPr>
          <p:spPr>
            <a:xfrm>
              <a:off x="7627680" y="663372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382" name=""/>
            <p:cNvSpPr/>
            <p:nvPr/>
          </p:nvSpPr>
          <p:spPr>
            <a:xfrm>
              <a:off x="7498440" y="620064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383" name=""/>
            <p:cNvSpPr/>
            <p:nvPr/>
          </p:nvSpPr>
          <p:spPr>
            <a:xfrm flipH="1">
              <a:off x="7446960" y="622836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84" name=""/>
            <p:cNvSpPr/>
            <p:nvPr/>
          </p:nvSpPr>
          <p:spPr>
            <a:xfrm flipH="1">
              <a:off x="7430040" y="647748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85" name=""/>
            <p:cNvSpPr/>
            <p:nvPr/>
          </p:nvSpPr>
          <p:spPr>
            <a:xfrm flipH="1">
              <a:off x="7459200" y="652824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86" name=""/>
            <p:cNvSpPr/>
            <p:nvPr/>
          </p:nvSpPr>
          <p:spPr>
            <a:xfrm>
              <a:off x="7456680" y="609336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387" name=""/>
            <p:cNvSpPr/>
            <p:nvPr/>
          </p:nvSpPr>
          <p:spPr>
            <a:xfrm>
              <a:off x="7539840" y="60933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388" name=""/>
            <p:cNvSpPr/>
            <p:nvPr/>
          </p:nvSpPr>
          <p:spPr>
            <a:xfrm>
              <a:off x="7545600" y="639504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89" name=""/>
            <p:cNvSpPr/>
            <p:nvPr/>
          </p:nvSpPr>
          <p:spPr>
            <a:xfrm flipH="1">
              <a:off x="7538760" y="652212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390" name=""/>
            <p:cNvSpPr/>
            <p:nvPr/>
          </p:nvSpPr>
          <p:spPr>
            <a:xfrm>
              <a:off x="7606800" y="657900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391" name=""/>
            <p:cNvSpPr/>
            <p:nvPr/>
          </p:nvSpPr>
          <p:spPr>
            <a:xfrm>
              <a:off x="7602840" y="62305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92" name=""/>
            <p:cNvSpPr/>
            <p:nvPr/>
          </p:nvSpPr>
          <p:spPr>
            <a:xfrm flipH="1">
              <a:off x="7624440" y="612684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393" name=""/>
            <p:cNvSpPr/>
            <p:nvPr/>
          </p:nvSpPr>
          <p:spPr>
            <a:xfrm flipH="1" flipV="1">
              <a:off x="7559640" y="661680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94" name=""/>
            <p:cNvSpPr/>
            <p:nvPr/>
          </p:nvSpPr>
          <p:spPr>
            <a:xfrm flipH="1">
              <a:off x="7649640" y="627912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395" name=""/>
            <p:cNvSpPr/>
            <p:nvPr/>
          </p:nvSpPr>
          <p:spPr>
            <a:xfrm>
              <a:off x="7523280" y="659592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96" name=""/>
            <p:cNvSpPr/>
            <p:nvPr/>
          </p:nvSpPr>
          <p:spPr>
            <a:xfrm flipH="1" flipV="1">
              <a:off x="7556760" y="667980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397" name=""/>
            <p:cNvSpPr/>
            <p:nvPr/>
          </p:nvSpPr>
          <p:spPr>
            <a:xfrm flipH="1">
              <a:off x="7691040" y="638892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98" name=""/>
            <p:cNvSpPr/>
            <p:nvPr/>
          </p:nvSpPr>
          <p:spPr>
            <a:xfrm>
              <a:off x="7686000" y="61732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99" name=""/>
            <p:cNvSpPr/>
            <p:nvPr/>
          </p:nvSpPr>
          <p:spPr>
            <a:xfrm>
              <a:off x="7690320" y="634680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 name=""/>
            <p:cNvSpPr/>
            <p:nvPr/>
          </p:nvSpPr>
          <p:spPr>
            <a:xfrm>
              <a:off x="7686000" y="65091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01" name=""/>
            <p:cNvSpPr/>
            <p:nvPr/>
          </p:nvSpPr>
          <p:spPr>
            <a:xfrm flipH="1">
              <a:off x="7776360" y="631512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402" name=""/>
            <p:cNvSpPr/>
            <p:nvPr/>
          </p:nvSpPr>
          <p:spPr>
            <a:xfrm flipH="1" flipV="1">
              <a:off x="7791120" y="639036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403" name=""/>
            <p:cNvSpPr/>
            <p:nvPr/>
          </p:nvSpPr>
          <p:spPr>
            <a:xfrm flipH="1">
              <a:off x="7719120" y="617976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04" name=""/>
            <p:cNvSpPr/>
            <p:nvPr/>
          </p:nvSpPr>
          <p:spPr>
            <a:xfrm flipH="1" flipV="1">
              <a:off x="7719120" y="641628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405" name=""/>
            <p:cNvSpPr/>
            <p:nvPr/>
          </p:nvSpPr>
          <p:spPr>
            <a:xfrm flipH="1">
              <a:off x="7780320" y="650916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06" name=""/>
            <p:cNvSpPr/>
            <p:nvPr/>
          </p:nvSpPr>
          <p:spPr>
            <a:xfrm>
              <a:off x="78472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07" name=""/>
            <p:cNvSpPr/>
            <p:nvPr/>
          </p:nvSpPr>
          <p:spPr>
            <a:xfrm>
              <a:off x="7791480" y="66193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08" name=""/>
            <p:cNvSpPr/>
            <p:nvPr/>
          </p:nvSpPr>
          <p:spPr>
            <a:xfrm>
              <a:off x="7736040" y="669312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409" name=""/>
            <p:cNvSpPr/>
            <p:nvPr/>
          </p:nvSpPr>
          <p:spPr>
            <a:xfrm flipV="1">
              <a:off x="7898760" y="644760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10" name=""/>
            <p:cNvSpPr/>
            <p:nvPr/>
          </p:nvSpPr>
          <p:spPr>
            <a:xfrm>
              <a:off x="7915320" y="64800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11" name=""/>
            <p:cNvSpPr/>
            <p:nvPr/>
          </p:nvSpPr>
          <p:spPr>
            <a:xfrm>
              <a:off x="7893000" y="634428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412" name=""/>
            <p:cNvSpPr/>
            <p:nvPr/>
          </p:nvSpPr>
          <p:spPr>
            <a:xfrm flipH="1">
              <a:off x="7843320" y="62856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13" name=""/>
            <p:cNvSpPr/>
            <p:nvPr/>
          </p:nvSpPr>
          <p:spPr>
            <a:xfrm>
              <a:off x="7893000" y="6110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 name=""/>
            <p:cNvSpPr/>
            <p:nvPr/>
          </p:nvSpPr>
          <p:spPr>
            <a:xfrm>
              <a:off x="7899840" y="620496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415" name=""/>
            <p:cNvSpPr/>
            <p:nvPr/>
          </p:nvSpPr>
          <p:spPr>
            <a:xfrm>
              <a:off x="7919640" y="663372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416" name=""/>
            <p:cNvSpPr/>
            <p:nvPr/>
          </p:nvSpPr>
          <p:spPr>
            <a:xfrm>
              <a:off x="7791480" y="620064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417" name=""/>
            <p:cNvSpPr/>
            <p:nvPr/>
          </p:nvSpPr>
          <p:spPr>
            <a:xfrm flipH="1">
              <a:off x="7738920" y="625824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18" name=""/>
            <p:cNvSpPr/>
            <p:nvPr/>
          </p:nvSpPr>
          <p:spPr>
            <a:xfrm flipH="1">
              <a:off x="7721640" y="647748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419" name=""/>
            <p:cNvSpPr/>
            <p:nvPr/>
          </p:nvSpPr>
          <p:spPr>
            <a:xfrm flipH="1">
              <a:off x="7751160" y="65282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20" name=""/>
            <p:cNvSpPr/>
            <p:nvPr/>
          </p:nvSpPr>
          <p:spPr>
            <a:xfrm>
              <a:off x="7747200" y="609336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421" name=""/>
            <p:cNvSpPr/>
            <p:nvPr/>
          </p:nvSpPr>
          <p:spPr>
            <a:xfrm>
              <a:off x="7831800" y="60933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422" name=""/>
            <p:cNvSpPr/>
            <p:nvPr/>
          </p:nvSpPr>
          <p:spPr>
            <a:xfrm>
              <a:off x="7840440" y="639504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423" name=""/>
            <p:cNvSpPr/>
            <p:nvPr/>
          </p:nvSpPr>
          <p:spPr>
            <a:xfrm flipH="1">
              <a:off x="7831440" y="652212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424" name=""/>
            <p:cNvSpPr/>
            <p:nvPr/>
          </p:nvSpPr>
          <p:spPr>
            <a:xfrm>
              <a:off x="7898760" y="657900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25" name=""/>
            <p:cNvSpPr/>
            <p:nvPr/>
          </p:nvSpPr>
          <p:spPr>
            <a:xfrm>
              <a:off x="7893000" y="623052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26" name=""/>
            <p:cNvSpPr/>
            <p:nvPr/>
          </p:nvSpPr>
          <p:spPr>
            <a:xfrm flipH="1">
              <a:off x="7916400" y="612684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427" name=""/>
            <p:cNvSpPr/>
            <p:nvPr/>
          </p:nvSpPr>
          <p:spPr>
            <a:xfrm flipH="1" flipV="1">
              <a:off x="7851240" y="661680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428" name=""/>
            <p:cNvSpPr/>
            <p:nvPr/>
          </p:nvSpPr>
          <p:spPr>
            <a:xfrm flipH="1">
              <a:off x="7941600" y="627912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429" name=""/>
            <p:cNvSpPr/>
            <p:nvPr/>
          </p:nvSpPr>
          <p:spPr>
            <a:xfrm>
              <a:off x="7815240" y="659592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30" name=""/>
            <p:cNvSpPr/>
            <p:nvPr/>
          </p:nvSpPr>
          <p:spPr>
            <a:xfrm flipH="1" flipV="1">
              <a:off x="7846920" y="669492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431" name=""/>
            <p:cNvSpPr/>
            <p:nvPr/>
          </p:nvSpPr>
          <p:spPr>
            <a:xfrm flipH="1">
              <a:off x="7981920" y="638892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32" name=""/>
            <p:cNvSpPr/>
            <p:nvPr/>
          </p:nvSpPr>
          <p:spPr>
            <a:xfrm>
              <a:off x="7977960" y="61732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33" name=""/>
            <p:cNvSpPr/>
            <p:nvPr/>
          </p:nvSpPr>
          <p:spPr>
            <a:xfrm>
              <a:off x="7983360" y="63172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34" name=""/>
            <p:cNvSpPr/>
            <p:nvPr/>
          </p:nvSpPr>
          <p:spPr>
            <a:xfrm>
              <a:off x="7977960" y="65091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35" name=""/>
            <p:cNvSpPr/>
            <p:nvPr/>
          </p:nvSpPr>
          <p:spPr>
            <a:xfrm flipH="1">
              <a:off x="7704000" y="667188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436" name=""/>
            <p:cNvSpPr/>
            <p:nvPr/>
          </p:nvSpPr>
          <p:spPr>
            <a:xfrm flipH="1">
              <a:off x="8089200" y="634680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437" name=""/>
            <p:cNvSpPr/>
            <p:nvPr/>
          </p:nvSpPr>
          <p:spPr>
            <a:xfrm flipH="1" flipV="1">
              <a:off x="8105400" y="641628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38" name=""/>
            <p:cNvSpPr/>
            <p:nvPr/>
          </p:nvSpPr>
          <p:spPr>
            <a:xfrm flipH="1">
              <a:off x="8033400" y="620496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39" name=""/>
            <p:cNvSpPr/>
            <p:nvPr/>
          </p:nvSpPr>
          <p:spPr>
            <a:xfrm flipH="1">
              <a:off x="8068320" y="638892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40" name=""/>
            <p:cNvSpPr/>
            <p:nvPr/>
          </p:nvSpPr>
          <p:spPr>
            <a:xfrm flipH="1">
              <a:off x="8092080" y="653436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41" name=""/>
            <p:cNvSpPr/>
            <p:nvPr/>
          </p:nvSpPr>
          <p:spPr>
            <a:xfrm>
              <a:off x="816012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442" name=""/>
            <p:cNvSpPr/>
            <p:nvPr/>
          </p:nvSpPr>
          <p:spPr>
            <a:xfrm>
              <a:off x="8102880" y="66466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43" name=""/>
            <p:cNvSpPr/>
            <p:nvPr/>
          </p:nvSpPr>
          <p:spPr>
            <a:xfrm>
              <a:off x="8044560" y="673524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44" name=""/>
            <p:cNvSpPr/>
            <p:nvPr/>
          </p:nvSpPr>
          <p:spPr>
            <a:xfrm>
              <a:off x="8211600" y="64861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45" name=""/>
            <p:cNvSpPr/>
            <p:nvPr/>
          </p:nvSpPr>
          <p:spPr>
            <a:xfrm>
              <a:off x="8229600" y="650916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46" name=""/>
            <p:cNvSpPr/>
            <p:nvPr/>
          </p:nvSpPr>
          <p:spPr>
            <a:xfrm>
              <a:off x="8206200" y="636984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47" name=""/>
            <p:cNvSpPr/>
            <p:nvPr/>
          </p:nvSpPr>
          <p:spPr>
            <a:xfrm flipH="1">
              <a:off x="8155440" y="631296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48" name=""/>
            <p:cNvSpPr/>
            <p:nvPr/>
          </p:nvSpPr>
          <p:spPr>
            <a:xfrm>
              <a:off x="8165880" y="6110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49" name=""/>
            <p:cNvSpPr/>
            <p:nvPr/>
          </p:nvSpPr>
          <p:spPr>
            <a:xfrm>
              <a:off x="8213040" y="623268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450" name=""/>
            <p:cNvSpPr/>
            <p:nvPr/>
          </p:nvSpPr>
          <p:spPr>
            <a:xfrm>
              <a:off x="8233920" y="665712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451" name=""/>
            <p:cNvSpPr/>
            <p:nvPr/>
          </p:nvSpPr>
          <p:spPr>
            <a:xfrm>
              <a:off x="8102880" y="62305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52" name=""/>
            <p:cNvSpPr/>
            <p:nvPr/>
          </p:nvSpPr>
          <p:spPr>
            <a:xfrm flipH="1">
              <a:off x="8054280" y="628560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53" name=""/>
            <p:cNvSpPr/>
            <p:nvPr/>
          </p:nvSpPr>
          <p:spPr>
            <a:xfrm flipH="1">
              <a:off x="8036280" y="650484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454" name=""/>
            <p:cNvSpPr/>
            <p:nvPr/>
          </p:nvSpPr>
          <p:spPr>
            <a:xfrm flipH="1">
              <a:off x="8066880" y="655812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55" name=""/>
            <p:cNvSpPr/>
            <p:nvPr/>
          </p:nvSpPr>
          <p:spPr>
            <a:xfrm>
              <a:off x="8060040" y="611892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456" name=""/>
            <p:cNvSpPr/>
            <p:nvPr/>
          </p:nvSpPr>
          <p:spPr>
            <a:xfrm>
              <a:off x="8125560" y="609336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457" name=""/>
            <p:cNvSpPr/>
            <p:nvPr/>
          </p:nvSpPr>
          <p:spPr>
            <a:xfrm>
              <a:off x="8153280" y="642060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58" name=""/>
            <p:cNvSpPr/>
            <p:nvPr/>
          </p:nvSpPr>
          <p:spPr>
            <a:xfrm flipH="1">
              <a:off x="8146080" y="654948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459" name=""/>
            <p:cNvSpPr/>
            <p:nvPr/>
          </p:nvSpPr>
          <p:spPr>
            <a:xfrm>
              <a:off x="8211600" y="660636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60" name=""/>
            <p:cNvSpPr/>
            <p:nvPr/>
          </p:nvSpPr>
          <p:spPr>
            <a:xfrm>
              <a:off x="8206200" y="625824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61" name=""/>
            <p:cNvSpPr/>
            <p:nvPr/>
          </p:nvSpPr>
          <p:spPr>
            <a:xfrm flipH="1">
              <a:off x="8271360" y="609984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462" name=""/>
            <p:cNvSpPr/>
            <p:nvPr/>
          </p:nvSpPr>
          <p:spPr>
            <a:xfrm flipH="1" flipV="1">
              <a:off x="8166960" y="664452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463" name=""/>
            <p:cNvSpPr/>
            <p:nvPr/>
          </p:nvSpPr>
          <p:spPr>
            <a:xfrm flipH="1">
              <a:off x="8254440" y="6304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64" name=""/>
            <p:cNvSpPr/>
            <p:nvPr/>
          </p:nvSpPr>
          <p:spPr>
            <a:xfrm>
              <a:off x="8128080" y="662544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65" name=""/>
            <p:cNvSpPr/>
            <p:nvPr/>
          </p:nvSpPr>
          <p:spPr>
            <a:xfrm flipH="1">
              <a:off x="8296200" y="641628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466" name=""/>
            <p:cNvSpPr/>
            <p:nvPr/>
          </p:nvSpPr>
          <p:spPr>
            <a:xfrm>
              <a:off x="8292240" y="623052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67" name=""/>
            <p:cNvSpPr/>
            <p:nvPr/>
          </p:nvSpPr>
          <p:spPr>
            <a:xfrm>
              <a:off x="8296200" y="6346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68" name=""/>
            <p:cNvSpPr/>
            <p:nvPr/>
          </p:nvSpPr>
          <p:spPr>
            <a:xfrm>
              <a:off x="8292240" y="653436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69" name=""/>
            <p:cNvSpPr/>
            <p:nvPr/>
          </p:nvSpPr>
          <p:spPr>
            <a:xfrm flipH="1">
              <a:off x="8360280" y="634680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470" name=""/>
            <p:cNvSpPr/>
            <p:nvPr/>
          </p:nvSpPr>
          <p:spPr>
            <a:xfrm flipH="1" flipV="1">
              <a:off x="8376840" y="641628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71" name=""/>
            <p:cNvSpPr/>
            <p:nvPr/>
          </p:nvSpPr>
          <p:spPr>
            <a:xfrm flipH="1">
              <a:off x="8305560" y="620496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72" name=""/>
            <p:cNvSpPr/>
            <p:nvPr/>
          </p:nvSpPr>
          <p:spPr>
            <a:xfrm flipH="1">
              <a:off x="8339400" y="638892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73" name=""/>
            <p:cNvSpPr/>
            <p:nvPr/>
          </p:nvSpPr>
          <p:spPr>
            <a:xfrm flipH="1">
              <a:off x="8363880" y="653436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74" name=""/>
            <p:cNvSpPr/>
            <p:nvPr/>
          </p:nvSpPr>
          <p:spPr>
            <a:xfrm>
              <a:off x="843120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475" name=""/>
            <p:cNvSpPr/>
            <p:nvPr/>
          </p:nvSpPr>
          <p:spPr>
            <a:xfrm>
              <a:off x="8375760" y="664668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76" name=""/>
            <p:cNvSpPr/>
            <p:nvPr/>
          </p:nvSpPr>
          <p:spPr>
            <a:xfrm flipV="1">
              <a:off x="8322840" y="670176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77" name=""/>
            <p:cNvSpPr/>
            <p:nvPr/>
          </p:nvSpPr>
          <p:spPr>
            <a:xfrm>
              <a:off x="8484120" y="648612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78" name=""/>
            <p:cNvSpPr/>
            <p:nvPr/>
          </p:nvSpPr>
          <p:spPr>
            <a:xfrm>
              <a:off x="8500680" y="65091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79" name=""/>
            <p:cNvSpPr/>
            <p:nvPr/>
          </p:nvSpPr>
          <p:spPr>
            <a:xfrm>
              <a:off x="8478360" y="636984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80" name=""/>
            <p:cNvSpPr/>
            <p:nvPr/>
          </p:nvSpPr>
          <p:spPr>
            <a:xfrm flipH="1">
              <a:off x="8429760" y="631296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81" name=""/>
            <p:cNvSpPr/>
            <p:nvPr/>
          </p:nvSpPr>
          <p:spPr>
            <a:xfrm>
              <a:off x="8396640" y="608472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82" name=""/>
            <p:cNvSpPr/>
            <p:nvPr/>
          </p:nvSpPr>
          <p:spPr>
            <a:xfrm>
              <a:off x="8484120" y="623268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483" name=""/>
            <p:cNvSpPr/>
            <p:nvPr/>
          </p:nvSpPr>
          <p:spPr>
            <a:xfrm>
              <a:off x="8503560" y="666144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484" name=""/>
            <p:cNvSpPr/>
            <p:nvPr/>
          </p:nvSpPr>
          <p:spPr>
            <a:xfrm>
              <a:off x="8375760" y="62305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85" name=""/>
            <p:cNvSpPr/>
            <p:nvPr/>
          </p:nvSpPr>
          <p:spPr>
            <a:xfrm flipH="1">
              <a:off x="8323560" y="625824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86" name=""/>
            <p:cNvSpPr/>
            <p:nvPr/>
          </p:nvSpPr>
          <p:spPr>
            <a:xfrm flipH="1">
              <a:off x="8307360" y="650484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487" name=""/>
            <p:cNvSpPr/>
            <p:nvPr/>
          </p:nvSpPr>
          <p:spPr>
            <a:xfrm flipH="1">
              <a:off x="8336520" y="655812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88" name=""/>
            <p:cNvSpPr/>
            <p:nvPr/>
          </p:nvSpPr>
          <p:spPr>
            <a:xfrm>
              <a:off x="8353440" y="61189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489" name=""/>
            <p:cNvSpPr/>
            <p:nvPr/>
          </p:nvSpPr>
          <p:spPr>
            <a:xfrm>
              <a:off x="8415720" y="611892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490" name=""/>
            <p:cNvSpPr/>
            <p:nvPr/>
          </p:nvSpPr>
          <p:spPr>
            <a:xfrm>
              <a:off x="8424360" y="642060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91" name=""/>
            <p:cNvSpPr/>
            <p:nvPr/>
          </p:nvSpPr>
          <p:spPr>
            <a:xfrm flipH="1">
              <a:off x="8417160" y="654948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492" name=""/>
            <p:cNvSpPr/>
            <p:nvPr/>
          </p:nvSpPr>
          <p:spPr>
            <a:xfrm>
              <a:off x="8484120" y="66063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93" name=""/>
            <p:cNvSpPr/>
            <p:nvPr/>
          </p:nvSpPr>
          <p:spPr>
            <a:xfrm>
              <a:off x="8478360" y="625824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94" name=""/>
            <p:cNvSpPr/>
            <p:nvPr/>
          </p:nvSpPr>
          <p:spPr>
            <a:xfrm flipH="1">
              <a:off x="8504640" y="609984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495" name=""/>
            <p:cNvSpPr/>
            <p:nvPr/>
          </p:nvSpPr>
          <p:spPr>
            <a:xfrm flipH="1" flipV="1">
              <a:off x="8436960" y="664452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496" name=""/>
            <p:cNvSpPr/>
            <p:nvPr/>
          </p:nvSpPr>
          <p:spPr>
            <a:xfrm flipH="1">
              <a:off x="8525520" y="6304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97" name=""/>
            <p:cNvSpPr/>
            <p:nvPr/>
          </p:nvSpPr>
          <p:spPr>
            <a:xfrm>
              <a:off x="8400600" y="662544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98" name=""/>
            <p:cNvSpPr/>
            <p:nvPr/>
          </p:nvSpPr>
          <p:spPr>
            <a:xfrm flipH="1" flipV="1">
              <a:off x="8433720" y="671220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499" name=""/>
            <p:cNvSpPr/>
            <p:nvPr/>
          </p:nvSpPr>
          <p:spPr>
            <a:xfrm flipH="1">
              <a:off x="8566920" y="641628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500" name=""/>
            <p:cNvSpPr/>
            <p:nvPr/>
          </p:nvSpPr>
          <p:spPr>
            <a:xfrm>
              <a:off x="8563320" y="617328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01" name=""/>
            <p:cNvSpPr/>
            <p:nvPr/>
          </p:nvSpPr>
          <p:spPr>
            <a:xfrm>
              <a:off x="8567280" y="63741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02" name=""/>
            <p:cNvSpPr/>
            <p:nvPr/>
          </p:nvSpPr>
          <p:spPr>
            <a:xfrm>
              <a:off x="8563320" y="653436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03" name=""/>
            <p:cNvSpPr/>
            <p:nvPr/>
          </p:nvSpPr>
          <p:spPr>
            <a:xfrm flipH="1">
              <a:off x="8651880" y="634680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504" name=""/>
            <p:cNvSpPr/>
            <p:nvPr/>
          </p:nvSpPr>
          <p:spPr>
            <a:xfrm flipH="1" flipV="1">
              <a:off x="8668800" y="641628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05" name=""/>
            <p:cNvSpPr/>
            <p:nvPr/>
          </p:nvSpPr>
          <p:spPr>
            <a:xfrm flipH="1">
              <a:off x="8596440" y="617976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506" name=""/>
            <p:cNvSpPr/>
            <p:nvPr/>
          </p:nvSpPr>
          <p:spPr>
            <a:xfrm flipH="1" flipV="1">
              <a:off x="8596440" y="644580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507" name=""/>
            <p:cNvSpPr/>
            <p:nvPr/>
          </p:nvSpPr>
          <p:spPr>
            <a:xfrm flipH="1">
              <a:off x="8655840" y="653436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08" name=""/>
            <p:cNvSpPr/>
            <p:nvPr/>
          </p:nvSpPr>
          <p:spPr>
            <a:xfrm>
              <a:off x="872316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509" name=""/>
            <p:cNvSpPr/>
            <p:nvPr/>
          </p:nvSpPr>
          <p:spPr>
            <a:xfrm>
              <a:off x="8667720" y="66466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10" name=""/>
            <p:cNvSpPr/>
            <p:nvPr/>
          </p:nvSpPr>
          <p:spPr>
            <a:xfrm>
              <a:off x="8613360" y="672012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511" name=""/>
            <p:cNvSpPr/>
            <p:nvPr/>
          </p:nvSpPr>
          <p:spPr>
            <a:xfrm>
              <a:off x="8776080" y="648612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12" name=""/>
            <p:cNvSpPr/>
            <p:nvPr/>
          </p:nvSpPr>
          <p:spPr>
            <a:xfrm>
              <a:off x="8792640" y="65091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13" name=""/>
            <p:cNvSpPr/>
            <p:nvPr/>
          </p:nvSpPr>
          <p:spPr>
            <a:xfrm>
              <a:off x="8771760" y="636984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14" name=""/>
            <p:cNvSpPr/>
            <p:nvPr/>
          </p:nvSpPr>
          <p:spPr>
            <a:xfrm flipH="1">
              <a:off x="8719920" y="631296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15" name=""/>
            <p:cNvSpPr/>
            <p:nvPr/>
          </p:nvSpPr>
          <p:spPr>
            <a:xfrm>
              <a:off x="8668800" y="607860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516" name=""/>
            <p:cNvSpPr/>
            <p:nvPr/>
          </p:nvSpPr>
          <p:spPr>
            <a:xfrm>
              <a:off x="8778600" y="623268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517" name=""/>
            <p:cNvSpPr/>
            <p:nvPr/>
          </p:nvSpPr>
          <p:spPr>
            <a:xfrm>
              <a:off x="8795160" y="666144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518" name=""/>
            <p:cNvSpPr/>
            <p:nvPr/>
          </p:nvSpPr>
          <p:spPr>
            <a:xfrm>
              <a:off x="8667720" y="62305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19" name=""/>
            <p:cNvSpPr/>
            <p:nvPr/>
          </p:nvSpPr>
          <p:spPr>
            <a:xfrm flipH="1">
              <a:off x="8617680" y="62856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20" name=""/>
            <p:cNvSpPr/>
            <p:nvPr/>
          </p:nvSpPr>
          <p:spPr>
            <a:xfrm flipH="1">
              <a:off x="8599320" y="650484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521" name=""/>
            <p:cNvSpPr/>
            <p:nvPr/>
          </p:nvSpPr>
          <p:spPr>
            <a:xfrm flipH="1">
              <a:off x="8629920" y="655812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22" name=""/>
            <p:cNvSpPr/>
            <p:nvPr/>
          </p:nvSpPr>
          <p:spPr>
            <a:xfrm>
              <a:off x="8584200" y="609336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523" name=""/>
            <p:cNvSpPr/>
            <p:nvPr/>
          </p:nvSpPr>
          <p:spPr>
            <a:xfrm>
              <a:off x="8709120" y="611892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524" name=""/>
            <p:cNvSpPr/>
            <p:nvPr/>
          </p:nvSpPr>
          <p:spPr>
            <a:xfrm>
              <a:off x="8716320" y="642060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25" name=""/>
            <p:cNvSpPr/>
            <p:nvPr/>
          </p:nvSpPr>
          <p:spPr>
            <a:xfrm flipH="1">
              <a:off x="8709120" y="654948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526" name=""/>
            <p:cNvSpPr/>
            <p:nvPr/>
          </p:nvSpPr>
          <p:spPr>
            <a:xfrm>
              <a:off x="8778600" y="660636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527" name=""/>
            <p:cNvSpPr/>
            <p:nvPr/>
          </p:nvSpPr>
          <p:spPr>
            <a:xfrm>
              <a:off x="8771760" y="625824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28" name=""/>
            <p:cNvSpPr/>
            <p:nvPr/>
          </p:nvSpPr>
          <p:spPr>
            <a:xfrm flipH="1">
              <a:off x="8732520" y="6099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529" name=""/>
            <p:cNvSpPr/>
            <p:nvPr/>
          </p:nvSpPr>
          <p:spPr>
            <a:xfrm flipH="1" flipV="1">
              <a:off x="8730000" y="664452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530" name=""/>
            <p:cNvSpPr/>
            <p:nvPr/>
          </p:nvSpPr>
          <p:spPr>
            <a:xfrm flipH="1">
              <a:off x="8817480" y="6304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531" name=""/>
            <p:cNvSpPr/>
            <p:nvPr/>
          </p:nvSpPr>
          <p:spPr>
            <a:xfrm>
              <a:off x="8693640" y="662544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32" name=""/>
            <p:cNvSpPr/>
            <p:nvPr/>
          </p:nvSpPr>
          <p:spPr>
            <a:xfrm flipH="1" flipV="1">
              <a:off x="8721720" y="672408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533" name=""/>
            <p:cNvSpPr/>
            <p:nvPr/>
          </p:nvSpPr>
          <p:spPr>
            <a:xfrm flipH="1">
              <a:off x="8858880" y="641628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534" name=""/>
            <p:cNvSpPr/>
            <p:nvPr/>
          </p:nvSpPr>
          <p:spPr>
            <a:xfrm>
              <a:off x="8813520" y="61480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35" name=""/>
            <p:cNvSpPr/>
            <p:nvPr/>
          </p:nvSpPr>
          <p:spPr>
            <a:xfrm>
              <a:off x="8817840" y="6125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36" name=""/>
            <p:cNvSpPr/>
            <p:nvPr/>
          </p:nvSpPr>
          <p:spPr>
            <a:xfrm>
              <a:off x="8853840" y="653436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37" name=""/>
            <p:cNvSpPr/>
            <p:nvPr/>
          </p:nvSpPr>
          <p:spPr>
            <a:xfrm flipH="1">
              <a:off x="8579520" y="664236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538" name=""/>
            <p:cNvSpPr/>
            <p:nvPr/>
          </p:nvSpPr>
          <p:spPr>
            <a:xfrm>
              <a:off x="8019720" y="616536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39" name=""/>
            <p:cNvSpPr/>
            <p:nvPr/>
          </p:nvSpPr>
          <p:spPr>
            <a:xfrm>
              <a:off x="8250480" y="619272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40" name=""/>
            <p:cNvSpPr/>
            <p:nvPr/>
          </p:nvSpPr>
          <p:spPr>
            <a:xfrm flipV="1">
              <a:off x="8004240" y="666324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41" name=""/>
            <p:cNvSpPr/>
            <p:nvPr/>
          </p:nvSpPr>
          <p:spPr>
            <a:xfrm>
              <a:off x="8210160" y="607212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42" name=""/>
            <p:cNvSpPr/>
            <p:nvPr/>
          </p:nvSpPr>
          <p:spPr>
            <a:xfrm>
              <a:off x="7997400" y="6638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43" name=""/>
            <p:cNvSpPr/>
            <p:nvPr/>
          </p:nvSpPr>
          <p:spPr>
            <a:xfrm>
              <a:off x="8563320" y="630468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44" name=""/>
            <p:cNvSpPr/>
            <p:nvPr/>
          </p:nvSpPr>
          <p:spPr>
            <a:xfrm flipV="1">
              <a:off x="8853840" y="623052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545" name=""/>
            <p:cNvSpPr/>
            <p:nvPr/>
          </p:nvSpPr>
          <p:spPr>
            <a:xfrm flipH="1">
              <a:off x="8010720" y="645012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546" name=""/>
            <p:cNvSpPr/>
            <p:nvPr/>
          </p:nvSpPr>
          <p:spPr>
            <a:xfrm flipH="1">
              <a:off x="8807760" y="639324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547" name=""/>
            <p:cNvSpPr/>
            <p:nvPr/>
          </p:nvSpPr>
          <p:spPr>
            <a:xfrm flipH="1">
              <a:off x="7993080" y="608688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48" name=""/>
            <p:cNvSpPr/>
            <p:nvPr/>
          </p:nvSpPr>
          <p:spPr>
            <a:xfrm flipH="1">
              <a:off x="8180640" y="614376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549" name=""/>
            <p:cNvSpPr/>
            <p:nvPr/>
          </p:nvSpPr>
          <p:spPr>
            <a:xfrm flipH="1">
              <a:off x="8924760" y="631512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550" name=""/>
            <p:cNvSpPr/>
            <p:nvPr/>
          </p:nvSpPr>
          <p:spPr>
            <a:xfrm flipH="1" flipV="1">
              <a:off x="8942760" y="639036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551" name=""/>
            <p:cNvSpPr/>
            <p:nvPr/>
          </p:nvSpPr>
          <p:spPr>
            <a:xfrm flipH="1">
              <a:off x="8905320" y="636372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52" name=""/>
            <p:cNvSpPr/>
            <p:nvPr/>
          </p:nvSpPr>
          <p:spPr>
            <a:xfrm flipH="1">
              <a:off x="8927280" y="650916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53" name=""/>
            <p:cNvSpPr/>
            <p:nvPr/>
          </p:nvSpPr>
          <p:spPr>
            <a:xfrm>
              <a:off x="89956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54" name=""/>
            <p:cNvSpPr/>
            <p:nvPr/>
          </p:nvSpPr>
          <p:spPr>
            <a:xfrm>
              <a:off x="8896680" y="667800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555" name=""/>
            <p:cNvSpPr/>
            <p:nvPr/>
          </p:nvSpPr>
          <p:spPr>
            <a:xfrm flipV="1">
              <a:off x="9048600" y="644760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56" name=""/>
            <p:cNvSpPr/>
            <p:nvPr/>
          </p:nvSpPr>
          <p:spPr>
            <a:xfrm>
              <a:off x="9062280" y="648000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57" name=""/>
            <p:cNvSpPr/>
            <p:nvPr/>
          </p:nvSpPr>
          <p:spPr>
            <a:xfrm>
              <a:off x="9044280" y="634428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558" name=""/>
            <p:cNvSpPr/>
            <p:nvPr/>
          </p:nvSpPr>
          <p:spPr>
            <a:xfrm flipH="1">
              <a:off x="8992440" y="62856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59" name=""/>
            <p:cNvSpPr/>
            <p:nvPr/>
          </p:nvSpPr>
          <p:spPr>
            <a:xfrm>
              <a:off x="9044280" y="6110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60" name=""/>
            <p:cNvSpPr/>
            <p:nvPr/>
          </p:nvSpPr>
          <p:spPr>
            <a:xfrm>
              <a:off x="9049680" y="620496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561" name=""/>
            <p:cNvSpPr/>
            <p:nvPr/>
          </p:nvSpPr>
          <p:spPr>
            <a:xfrm>
              <a:off x="8938440" y="620064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562" name=""/>
            <p:cNvSpPr/>
            <p:nvPr/>
          </p:nvSpPr>
          <p:spPr>
            <a:xfrm flipH="1">
              <a:off x="8888400" y="625824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63" name=""/>
            <p:cNvSpPr/>
            <p:nvPr/>
          </p:nvSpPr>
          <p:spPr>
            <a:xfrm flipH="1">
              <a:off x="8901000" y="652824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564" name=""/>
            <p:cNvSpPr/>
            <p:nvPr/>
          </p:nvSpPr>
          <p:spPr>
            <a:xfrm>
              <a:off x="8896680" y="609336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565" name=""/>
            <p:cNvSpPr/>
            <p:nvPr/>
          </p:nvSpPr>
          <p:spPr>
            <a:xfrm>
              <a:off x="8981640" y="60933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566" name=""/>
            <p:cNvSpPr/>
            <p:nvPr/>
          </p:nvSpPr>
          <p:spPr>
            <a:xfrm>
              <a:off x="8987400" y="639504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567" name=""/>
            <p:cNvSpPr/>
            <p:nvPr/>
          </p:nvSpPr>
          <p:spPr>
            <a:xfrm flipH="1">
              <a:off x="8980200" y="652212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568" name=""/>
            <p:cNvSpPr/>
            <p:nvPr/>
          </p:nvSpPr>
          <p:spPr>
            <a:xfrm>
              <a:off x="9048600" y="657900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569" name=""/>
            <p:cNvSpPr/>
            <p:nvPr/>
          </p:nvSpPr>
          <p:spPr>
            <a:xfrm>
              <a:off x="9044280" y="62305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70" name=""/>
            <p:cNvSpPr/>
            <p:nvPr/>
          </p:nvSpPr>
          <p:spPr>
            <a:xfrm flipH="1">
              <a:off x="9065160" y="612684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571" name=""/>
            <p:cNvSpPr/>
            <p:nvPr/>
          </p:nvSpPr>
          <p:spPr>
            <a:xfrm flipH="1" flipV="1">
              <a:off x="9001080" y="661680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572" name=""/>
            <p:cNvSpPr/>
            <p:nvPr/>
          </p:nvSpPr>
          <p:spPr>
            <a:xfrm flipH="1">
              <a:off x="9090000" y="627912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573" name=""/>
            <p:cNvSpPr/>
            <p:nvPr/>
          </p:nvSpPr>
          <p:spPr>
            <a:xfrm>
              <a:off x="8966520" y="659592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574" name=""/>
            <p:cNvSpPr/>
            <p:nvPr/>
          </p:nvSpPr>
          <p:spPr>
            <a:xfrm flipH="1" flipV="1">
              <a:off x="8993880" y="669492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575" name=""/>
            <p:cNvSpPr/>
            <p:nvPr/>
          </p:nvSpPr>
          <p:spPr>
            <a:xfrm>
              <a:off x="8951040" y="663804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576" name=""/>
            <p:cNvSpPr/>
            <p:nvPr/>
          </p:nvSpPr>
          <p:spPr>
            <a:xfrm>
              <a:off x="7352280" y="677952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77" name=""/>
            <p:cNvSpPr/>
            <p:nvPr/>
          </p:nvSpPr>
          <p:spPr>
            <a:xfrm>
              <a:off x="7203600" y="675864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78" name=""/>
            <p:cNvSpPr/>
            <p:nvPr/>
          </p:nvSpPr>
          <p:spPr>
            <a:xfrm>
              <a:off x="7287120" y="675864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79" name=""/>
            <p:cNvSpPr/>
            <p:nvPr/>
          </p:nvSpPr>
          <p:spPr>
            <a:xfrm flipH="1">
              <a:off x="7374240" y="679464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580" name=""/>
            <p:cNvSpPr/>
            <p:nvPr/>
          </p:nvSpPr>
          <p:spPr>
            <a:xfrm>
              <a:off x="7621920" y="677952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1" name=""/>
            <p:cNvSpPr/>
            <p:nvPr/>
          </p:nvSpPr>
          <p:spPr>
            <a:xfrm>
              <a:off x="7474680" y="675864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82" name=""/>
            <p:cNvSpPr/>
            <p:nvPr/>
          </p:nvSpPr>
          <p:spPr>
            <a:xfrm>
              <a:off x="7559640" y="675864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83" name=""/>
            <p:cNvSpPr/>
            <p:nvPr/>
          </p:nvSpPr>
          <p:spPr>
            <a:xfrm flipH="1">
              <a:off x="7646760" y="679464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584" name=""/>
            <p:cNvSpPr/>
            <p:nvPr/>
          </p:nvSpPr>
          <p:spPr>
            <a:xfrm>
              <a:off x="9105480" y="66193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85" name=""/>
            <p:cNvSpPr/>
            <p:nvPr/>
          </p:nvSpPr>
          <p:spPr>
            <a:xfrm>
              <a:off x="7915320" y="677952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6" name=""/>
            <p:cNvSpPr/>
            <p:nvPr/>
          </p:nvSpPr>
          <p:spPr>
            <a:xfrm>
              <a:off x="7768080" y="675864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87" name=""/>
            <p:cNvSpPr/>
            <p:nvPr/>
          </p:nvSpPr>
          <p:spPr>
            <a:xfrm>
              <a:off x="7853040" y="67586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88" name=""/>
            <p:cNvSpPr/>
            <p:nvPr/>
          </p:nvSpPr>
          <p:spPr>
            <a:xfrm flipH="1">
              <a:off x="7937640" y="679464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589" name=""/>
            <p:cNvSpPr/>
            <p:nvPr/>
          </p:nvSpPr>
          <p:spPr>
            <a:xfrm>
              <a:off x="8186400" y="67795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90" name=""/>
            <p:cNvSpPr/>
            <p:nvPr/>
          </p:nvSpPr>
          <p:spPr>
            <a:xfrm>
              <a:off x="8083800" y="678780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591" name=""/>
            <p:cNvSpPr/>
            <p:nvPr/>
          </p:nvSpPr>
          <p:spPr>
            <a:xfrm>
              <a:off x="8145000" y="67586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92" name=""/>
            <p:cNvSpPr/>
            <p:nvPr/>
          </p:nvSpPr>
          <p:spPr>
            <a:xfrm flipH="1">
              <a:off x="8292960" y="676908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593" name=""/>
            <p:cNvSpPr/>
            <p:nvPr/>
          </p:nvSpPr>
          <p:spPr>
            <a:xfrm>
              <a:off x="8415720" y="675000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94" name=""/>
            <p:cNvSpPr/>
            <p:nvPr/>
          </p:nvSpPr>
          <p:spPr>
            <a:xfrm>
              <a:off x="8375760" y="678780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595" name=""/>
            <p:cNvSpPr/>
            <p:nvPr/>
          </p:nvSpPr>
          <p:spPr>
            <a:xfrm>
              <a:off x="8436960" y="67878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96" name=""/>
            <p:cNvSpPr/>
            <p:nvPr/>
          </p:nvSpPr>
          <p:spPr>
            <a:xfrm flipH="1">
              <a:off x="8522640" y="676908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597" name=""/>
            <p:cNvSpPr/>
            <p:nvPr/>
          </p:nvSpPr>
          <p:spPr>
            <a:xfrm>
              <a:off x="8691120" y="674388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598" name=""/>
            <p:cNvSpPr/>
            <p:nvPr/>
          </p:nvSpPr>
          <p:spPr>
            <a:xfrm>
              <a:off x="8603640" y="675864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99" name=""/>
            <p:cNvSpPr/>
            <p:nvPr/>
          </p:nvSpPr>
          <p:spPr>
            <a:xfrm>
              <a:off x="8728920" y="67878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00" name=""/>
            <p:cNvSpPr/>
            <p:nvPr/>
          </p:nvSpPr>
          <p:spPr>
            <a:xfrm flipH="1">
              <a:off x="8754840" y="676908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601" name=""/>
            <p:cNvSpPr/>
            <p:nvPr/>
          </p:nvSpPr>
          <p:spPr>
            <a:xfrm>
              <a:off x="8834400" y="67878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02" name=""/>
            <p:cNvSpPr/>
            <p:nvPr/>
          </p:nvSpPr>
          <p:spPr>
            <a:xfrm>
              <a:off x="8903880" y="681984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03" name=""/>
            <p:cNvSpPr/>
            <p:nvPr/>
          </p:nvSpPr>
          <p:spPr>
            <a:xfrm>
              <a:off x="8231040" y="674136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604" name=""/>
            <p:cNvSpPr/>
            <p:nvPr/>
          </p:nvSpPr>
          <p:spPr>
            <a:xfrm flipH="1">
              <a:off x="8201520" y="681300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605" name=""/>
            <p:cNvSpPr/>
            <p:nvPr/>
          </p:nvSpPr>
          <p:spPr>
            <a:xfrm>
              <a:off x="9062280" y="68068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06" name=""/>
            <p:cNvSpPr/>
            <p:nvPr/>
          </p:nvSpPr>
          <p:spPr>
            <a:xfrm>
              <a:off x="8876160" y="675864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607" name=""/>
            <p:cNvSpPr/>
            <p:nvPr/>
          </p:nvSpPr>
          <p:spPr>
            <a:xfrm>
              <a:off x="9001080" y="675864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608" name=""/>
            <p:cNvSpPr/>
            <p:nvPr/>
          </p:nvSpPr>
          <p:spPr>
            <a:xfrm flipH="1">
              <a:off x="9045360" y="671220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609" name=""/>
            <p:cNvSpPr/>
            <p:nvPr/>
          </p:nvSpPr>
          <p:spPr>
            <a:xfrm>
              <a:off x="9113760" y="647748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610" name=""/>
            <p:cNvSpPr/>
            <p:nvPr/>
          </p:nvSpPr>
          <p:spPr>
            <a:xfrm>
              <a:off x="7747200" y="68155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611" name=""/>
            <p:cNvSpPr/>
            <p:nvPr/>
          </p:nvSpPr>
          <p:spPr>
            <a:xfrm>
              <a:off x="8019720" y="68342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12" name=""/>
            <p:cNvSpPr/>
            <p:nvPr/>
          </p:nvSpPr>
          <p:spPr>
            <a:xfrm flipV="1">
              <a:off x="7178760" y="681948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613" name=""/>
            <p:cNvSpPr/>
            <p:nvPr/>
          </p:nvSpPr>
          <p:spPr>
            <a:xfrm flipH="1">
              <a:off x="8642520" y="681300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614" name=""/>
            <p:cNvSpPr/>
            <p:nvPr/>
          </p:nvSpPr>
          <p:spPr>
            <a:xfrm flipH="1" flipV="1">
              <a:off x="7455240" y="678132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615" name=""/>
            <p:cNvSpPr/>
            <p:nvPr/>
          </p:nvSpPr>
          <p:spPr>
            <a:xfrm flipH="1" flipV="1">
              <a:off x="8457840" y="678132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616" name=""/>
            <p:cNvSpPr/>
            <p:nvPr/>
          </p:nvSpPr>
          <p:spPr>
            <a:xfrm flipH="1" flipV="1">
              <a:off x="8563320" y="678132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617" name=""/>
          <p:cNvSpPr/>
          <p:nvPr/>
        </p:nvSpPr>
        <p:spPr>
          <a:xfrm>
            <a:off x="7157880" y="6145200"/>
            <a:ext cx="198612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ENETIC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AND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618" name=""/>
          <p:cNvSpPr/>
          <p:nvPr/>
        </p:nvSpPr>
        <p:spPr>
          <a:xfrm>
            <a:off x="1473120" y="644508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7FD6-AF51-46A5-AD9D-D8B14D1FD0AF}"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619" name=""/>
          <p:cNvSpPr/>
          <p:nvPr/>
        </p:nvSpPr>
        <p:spPr>
          <a:xfrm>
            <a:off x="685800" y="6443640"/>
            <a:ext cx="725400" cy="230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1971534D-DE79-4544-95C8-C9B8CEBBC378}" type="datetime1">
              <a:rPr lang="en-US"/>
              <a:t>07/30/26</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4296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Facial expression of emotions in rats</a:t>
            </a:r>
            <a:endParaRPr b="0" lang="en-US" sz="3200" spc="-1" strike="noStrike">
              <a:solidFill>
                <a:srgbClr val="ff3300"/>
              </a:solidFill>
              <a:latin typeface="Comic Sans MS"/>
            </a:endParaRPr>
          </a:p>
        </p:txBody>
      </p:sp>
      <p:grpSp>
        <p:nvGrpSpPr>
          <p:cNvPr id="961" name=""/>
          <p:cNvGrpSpPr/>
          <p:nvPr/>
        </p:nvGrpSpPr>
        <p:grpSpPr>
          <a:xfrm>
            <a:off x="1015560" y="906480"/>
            <a:ext cx="1289520" cy="1670760"/>
            <a:chOff x="1015560" y="906480"/>
            <a:chExt cx="1289520" cy="1670760"/>
          </a:xfrm>
        </p:grpSpPr>
        <p:pic>
          <p:nvPicPr>
            <p:cNvPr id="962" name="" descr=""/>
            <p:cNvPicPr/>
            <p:nvPr/>
          </p:nvPicPr>
          <p:blipFill>
            <a:blip r:embed="rId1"/>
            <a:stretch/>
          </p:blipFill>
          <p:spPr>
            <a:xfrm>
              <a:off x="1044720" y="906480"/>
              <a:ext cx="1260360" cy="1380960"/>
            </a:xfrm>
            <a:prstGeom prst="rect">
              <a:avLst/>
            </a:prstGeom>
            <a:ln w="0">
              <a:noFill/>
            </a:ln>
          </p:spPr>
        </p:pic>
        <p:sp>
          <p:nvSpPr>
            <p:cNvPr id="963" name=""/>
            <p:cNvSpPr/>
            <p:nvPr/>
          </p:nvSpPr>
          <p:spPr>
            <a:xfrm>
              <a:off x="1015560" y="223992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cceptance</a:t>
              </a:r>
              <a:endParaRPr b="0" lang="en-US" sz="1600" spc="-1" strike="noStrike">
                <a:solidFill>
                  <a:srgbClr val="000000"/>
                </a:solidFill>
                <a:latin typeface="Comic Sans MS"/>
              </a:endParaRPr>
            </a:p>
          </p:txBody>
        </p:sp>
      </p:grpSp>
      <p:grpSp>
        <p:nvGrpSpPr>
          <p:cNvPr id="964" name=""/>
          <p:cNvGrpSpPr/>
          <p:nvPr/>
        </p:nvGrpSpPr>
        <p:grpSpPr>
          <a:xfrm>
            <a:off x="2562120" y="906480"/>
            <a:ext cx="1260720" cy="1670760"/>
            <a:chOff x="2562120" y="906480"/>
            <a:chExt cx="1260720" cy="1670760"/>
          </a:xfrm>
        </p:grpSpPr>
        <p:pic>
          <p:nvPicPr>
            <p:cNvPr id="965" name="" descr=""/>
            <p:cNvPicPr/>
            <p:nvPr/>
          </p:nvPicPr>
          <p:blipFill>
            <a:blip r:embed="rId2"/>
            <a:stretch/>
          </p:blipFill>
          <p:spPr>
            <a:xfrm>
              <a:off x="2562120" y="906480"/>
              <a:ext cx="1260720" cy="1380960"/>
            </a:xfrm>
            <a:prstGeom prst="rect">
              <a:avLst/>
            </a:prstGeom>
            <a:ln w="0">
              <a:noFill/>
            </a:ln>
          </p:spPr>
        </p:pic>
        <p:sp>
          <p:nvSpPr>
            <p:cNvPr id="966" name=""/>
            <p:cNvSpPr/>
            <p:nvPr/>
          </p:nvSpPr>
          <p:spPr>
            <a:xfrm>
              <a:off x="2883960" y="22399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fear</a:t>
              </a:r>
              <a:endParaRPr b="0" lang="en-US" sz="1600" spc="-1" strike="noStrike">
                <a:solidFill>
                  <a:srgbClr val="000000"/>
                </a:solidFill>
                <a:latin typeface="Comic Sans MS"/>
              </a:endParaRPr>
            </a:p>
          </p:txBody>
        </p:sp>
      </p:grpSp>
      <p:grpSp>
        <p:nvGrpSpPr>
          <p:cNvPr id="967" name=""/>
          <p:cNvGrpSpPr/>
          <p:nvPr/>
        </p:nvGrpSpPr>
        <p:grpSpPr>
          <a:xfrm>
            <a:off x="4083120" y="906480"/>
            <a:ext cx="1258920" cy="1670760"/>
            <a:chOff x="4083120" y="906480"/>
            <a:chExt cx="1258920" cy="1670760"/>
          </a:xfrm>
        </p:grpSpPr>
        <p:pic>
          <p:nvPicPr>
            <p:cNvPr id="968" name="" descr=""/>
            <p:cNvPicPr/>
            <p:nvPr/>
          </p:nvPicPr>
          <p:blipFill>
            <a:blip r:embed="rId3"/>
            <a:stretch/>
          </p:blipFill>
          <p:spPr>
            <a:xfrm>
              <a:off x="4083120" y="906480"/>
              <a:ext cx="1258920" cy="1380960"/>
            </a:xfrm>
            <a:prstGeom prst="rect">
              <a:avLst/>
            </a:prstGeom>
            <a:ln w="0">
              <a:noFill/>
            </a:ln>
          </p:spPr>
        </p:pic>
        <p:sp>
          <p:nvSpPr>
            <p:cNvPr id="969" name=""/>
            <p:cNvSpPr/>
            <p:nvPr/>
          </p:nvSpPr>
          <p:spPr>
            <a:xfrm>
              <a:off x="4163760" y="223992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surprise</a:t>
              </a:r>
              <a:endParaRPr b="0" lang="en-US" sz="1600" spc="-1" strike="noStrike">
                <a:solidFill>
                  <a:srgbClr val="000000"/>
                </a:solidFill>
                <a:latin typeface="Comic Sans MS"/>
              </a:endParaRPr>
            </a:p>
          </p:txBody>
        </p:sp>
      </p:grpSp>
      <p:grpSp>
        <p:nvGrpSpPr>
          <p:cNvPr id="970" name=""/>
          <p:cNvGrpSpPr/>
          <p:nvPr/>
        </p:nvGrpSpPr>
        <p:grpSpPr>
          <a:xfrm>
            <a:off x="5613480" y="906480"/>
            <a:ext cx="1260360" cy="1670760"/>
            <a:chOff x="5613480" y="906480"/>
            <a:chExt cx="1260360" cy="1670760"/>
          </a:xfrm>
        </p:grpSpPr>
        <p:pic>
          <p:nvPicPr>
            <p:cNvPr id="971" name="" descr=""/>
            <p:cNvPicPr/>
            <p:nvPr/>
          </p:nvPicPr>
          <p:blipFill>
            <a:blip r:embed="rId4"/>
            <a:stretch/>
          </p:blipFill>
          <p:spPr>
            <a:xfrm>
              <a:off x="5613480" y="906480"/>
              <a:ext cx="1260360" cy="1380960"/>
            </a:xfrm>
            <a:prstGeom prst="rect">
              <a:avLst/>
            </a:prstGeom>
            <a:ln w="0">
              <a:noFill/>
            </a:ln>
          </p:spPr>
        </p:pic>
        <p:sp>
          <p:nvSpPr>
            <p:cNvPr id="972" name=""/>
            <p:cNvSpPr/>
            <p:nvPr/>
          </p:nvSpPr>
          <p:spPr>
            <a:xfrm>
              <a:off x="5707800" y="2239920"/>
              <a:ext cx="9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sadness</a:t>
              </a:r>
              <a:endParaRPr b="0" lang="en-US" sz="1600" spc="-1" strike="noStrike">
                <a:solidFill>
                  <a:srgbClr val="000000"/>
                </a:solidFill>
                <a:latin typeface="Comic Sans MS"/>
              </a:endParaRPr>
            </a:p>
          </p:txBody>
        </p:sp>
      </p:grpSp>
      <p:grpSp>
        <p:nvGrpSpPr>
          <p:cNvPr id="973" name=""/>
          <p:cNvGrpSpPr/>
          <p:nvPr/>
        </p:nvGrpSpPr>
        <p:grpSpPr>
          <a:xfrm>
            <a:off x="7120080" y="906480"/>
            <a:ext cx="1260360" cy="1670760"/>
            <a:chOff x="7120080" y="906480"/>
            <a:chExt cx="1260360" cy="1670760"/>
          </a:xfrm>
        </p:grpSpPr>
        <p:pic>
          <p:nvPicPr>
            <p:cNvPr id="974" name="" descr=""/>
            <p:cNvPicPr/>
            <p:nvPr/>
          </p:nvPicPr>
          <p:blipFill>
            <a:blip r:embed="rId5"/>
            <a:stretch/>
          </p:blipFill>
          <p:spPr>
            <a:xfrm>
              <a:off x="7120080" y="906480"/>
              <a:ext cx="1260360" cy="1380960"/>
            </a:xfrm>
            <a:prstGeom prst="rect">
              <a:avLst/>
            </a:prstGeom>
            <a:ln w="0">
              <a:noFill/>
            </a:ln>
          </p:spPr>
        </p:pic>
        <p:sp>
          <p:nvSpPr>
            <p:cNvPr id="975" name=""/>
            <p:cNvSpPr/>
            <p:nvPr/>
          </p:nvSpPr>
          <p:spPr>
            <a:xfrm>
              <a:off x="7239600" y="223992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disgust</a:t>
              </a:r>
              <a:endParaRPr b="0" lang="en-US" sz="1600" spc="-1" strike="noStrike">
                <a:solidFill>
                  <a:srgbClr val="000000"/>
                </a:solidFill>
                <a:latin typeface="Comic Sans MS"/>
              </a:endParaRPr>
            </a:p>
          </p:txBody>
        </p:sp>
      </p:grpSp>
      <p:grpSp>
        <p:nvGrpSpPr>
          <p:cNvPr id="976" name=""/>
          <p:cNvGrpSpPr/>
          <p:nvPr/>
        </p:nvGrpSpPr>
        <p:grpSpPr>
          <a:xfrm>
            <a:off x="1044720" y="2570040"/>
            <a:ext cx="1260360" cy="1704240"/>
            <a:chOff x="1044720" y="2570040"/>
            <a:chExt cx="1260360" cy="1704240"/>
          </a:xfrm>
        </p:grpSpPr>
        <p:pic>
          <p:nvPicPr>
            <p:cNvPr id="977" name="" descr=""/>
            <p:cNvPicPr/>
            <p:nvPr/>
          </p:nvPicPr>
          <p:blipFill>
            <a:blip r:embed="rId6"/>
            <a:stretch/>
          </p:blipFill>
          <p:spPr>
            <a:xfrm>
              <a:off x="1044720" y="2570040"/>
              <a:ext cx="1260360" cy="1381320"/>
            </a:xfrm>
            <a:prstGeom prst="rect">
              <a:avLst/>
            </a:prstGeom>
            <a:ln w="0">
              <a:noFill/>
            </a:ln>
          </p:spPr>
        </p:pic>
        <p:sp>
          <p:nvSpPr>
            <p:cNvPr id="978" name=""/>
            <p:cNvSpPr/>
            <p:nvPr/>
          </p:nvSpPr>
          <p:spPr>
            <a:xfrm>
              <a:off x="1311840" y="393696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nger</a:t>
              </a:r>
              <a:endParaRPr b="0" lang="en-US" sz="1600" spc="-1" strike="noStrike">
                <a:solidFill>
                  <a:srgbClr val="000000"/>
                </a:solidFill>
                <a:latin typeface="Comic Sans MS"/>
              </a:endParaRPr>
            </a:p>
          </p:txBody>
        </p:sp>
      </p:grpSp>
      <p:grpSp>
        <p:nvGrpSpPr>
          <p:cNvPr id="979" name=""/>
          <p:cNvGrpSpPr/>
          <p:nvPr/>
        </p:nvGrpSpPr>
        <p:grpSpPr>
          <a:xfrm>
            <a:off x="2542320" y="2570040"/>
            <a:ext cx="1305360" cy="1704240"/>
            <a:chOff x="2542320" y="2570040"/>
            <a:chExt cx="1305360" cy="1704240"/>
          </a:xfrm>
        </p:grpSpPr>
        <p:pic>
          <p:nvPicPr>
            <p:cNvPr id="980" name="" descr=""/>
            <p:cNvPicPr/>
            <p:nvPr/>
          </p:nvPicPr>
          <p:blipFill>
            <a:blip r:embed="rId7"/>
            <a:stretch/>
          </p:blipFill>
          <p:spPr>
            <a:xfrm>
              <a:off x="2562120" y="2570040"/>
              <a:ext cx="1260720" cy="1382760"/>
            </a:xfrm>
            <a:prstGeom prst="rect">
              <a:avLst/>
            </a:prstGeom>
            <a:ln w="0">
              <a:noFill/>
            </a:ln>
          </p:spPr>
        </p:pic>
        <p:sp>
          <p:nvSpPr>
            <p:cNvPr id="981" name=""/>
            <p:cNvSpPr/>
            <p:nvPr/>
          </p:nvSpPr>
          <p:spPr>
            <a:xfrm>
              <a:off x="2542320" y="3936960"/>
              <a:ext cx="130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nticipation</a:t>
              </a:r>
              <a:endParaRPr b="0" lang="en-US" sz="1600" spc="-1" strike="noStrike">
                <a:solidFill>
                  <a:srgbClr val="000000"/>
                </a:solidFill>
                <a:latin typeface="Comic Sans MS"/>
              </a:endParaRPr>
            </a:p>
          </p:txBody>
        </p:sp>
      </p:grpSp>
      <p:grpSp>
        <p:nvGrpSpPr>
          <p:cNvPr id="982" name=""/>
          <p:cNvGrpSpPr/>
          <p:nvPr/>
        </p:nvGrpSpPr>
        <p:grpSpPr>
          <a:xfrm>
            <a:off x="4069080" y="2570040"/>
            <a:ext cx="1284120" cy="1704240"/>
            <a:chOff x="4069080" y="2570040"/>
            <a:chExt cx="1284120" cy="1704240"/>
          </a:xfrm>
        </p:grpSpPr>
        <p:pic>
          <p:nvPicPr>
            <p:cNvPr id="983" name="" descr=""/>
            <p:cNvPicPr/>
            <p:nvPr/>
          </p:nvPicPr>
          <p:blipFill>
            <a:blip r:embed="rId8"/>
            <a:stretch/>
          </p:blipFill>
          <p:spPr>
            <a:xfrm>
              <a:off x="4083120" y="2570040"/>
              <a:ext cx="1258920" cy="1382760"/>
            </a:xfrm>
            <a:prstGeom prst="rect">
              <a:avLst/>
            </a:prstGeom>
            <a:ln w="0">
              <a:noFill/>
            </a:ln>
          </p:spPr>
        </p:pic>
        <p:sp>
          <p:nvSpPr>
            <p:cNvPr id="984" name=""/>
            <p:cNvSpPr/>
            <p:nvPr/>
          </p:nvSpPr>
          <p:spPr>
            <a:xfrm>
              <a:off x="4069080" y="3936960"/>
              <a:ext cx="128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joy (or love)</a:t>
              </a:r>
              <a:endParaRPr b="0" lang="en-US" sz="1600" spc="-1" strike="noStrike">
                <a:solidFill>
                  <a:srgbClr val="000000"/>
                </a:solidFill>
                <a:latin typeface="Comic Sans MS"/>
              </a:endParaRPr>
            </a:p>
          </p:txBody>
        </p:sp>
      </p:grpSp>
      <p:grpSp>
        <p:nvGrpSpPr>
          <p:cNvPr id="985" name=""/>
          <p:cNvGrpSpPr/>
          <p:nvPr/>
        </p:nvGrpSpPr>
        <p:grpSpPr>
          <a:xfrm>
            <a:off x="5611320" y="2570040"/>
            <a:ext cx="1262880" cy="1704240"/>
            <a:chOff x="5611320" y="2570040"/>
            <a:chExt cx="1262880" cy="1704240"/>
          </a:xfrm>
        </p:grpSpPr>
        <p:pic>
          <p:nvPicPr>
            <p:cNvPr id="986" name="" descr=""/>
            <p:cNvPicPr/>
            <p:nvPr/>
          </p:nvPicPr>
          <p:blipFill>
            <a:blip r:embed="rId9"/>
            <a:stretch/>
          </p:blipFill>
          <p:spPr>
            <a:xfrm>
              <a:off x="5613480" y="2570040"/>
              <a:ext cx="1260360" cy="1381320"/>
            </a:xfrm>
            <a:prstGeom prst="rect">
              <a:avLst/>
            </a:prstGeom>
            <a:ln w="0">
              <a:noFill/>
            </a:ln>
          </p:spPr>
        </p:pic>
        <p:sp>
          <p:nvSpPr>
            <p:cNvPr id="987" name=""/>
            <p:cNvSpPr/>
            <p:nvPr/>
          </p:nvSpPr>
          <p:spPr>
            <a:xfrm>
              <a:off x="5611320" y="3936960"/>
              <a:ext cx="126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submission</a:t>
              </a:r>
              <a:endParaRPr b="0" lang="en-US" sz="1600" spc="-1" strike="noStrike">
                <a:solidFill>
                  <a:srgbClr val="000000"/>
                </a:solidFill>
                <a:latin typeface="Comic Sans MS"/>
              </a:endParaRPr>
            </a:p>
          </p:txBody>
        </p:sp>
      </p:grpSp>
      <p:grpSp>
        <p:nvGrpSpPr>
          <p:cNvPr id="988" name=""/>
          <p:cNvGrpSpPr/>
          <p:nvPr/>
        </p:nvGrpSpPr>
        <p:grpSpPr>
          <a:xfrm>
            <a:off x="7120080" y="2570040"/>
            <a:ext cx="1260360" cy="1704240"/>
            <a:chOff x="7120080" y="2570040"/>
            <a:chExt cx="1260360" cy="1704240"/>
          </a:xfrm>
        </p:grpSpPr>
        <p:pic>
          <p:nvPicPr>
            <p:cNvPr id="989" name="" descr=""/>
            <p:cNvPicPr/>
            <p:nvPr/>
          </p:nvPicPr>
          <p:blipFill>
            <a:blip r:embed="rId10"/>
            <a:stretch/>
          </p:blipFill>
          <p:spPr>
            <a:xfrm>
              <a:off x="7120080" y="2570040"/>
              <a:ext cx="1260360" cy="1382760"/>
            </a:xfrm>
            <a:prstGeom prst="rect">
              <a:avLst/>
            </a:prstGeom>
            <a:ln w="0">
              <a:noFill/>
            </a:ln>
          </p:spPr>
        </p:pic>
        <p:sp>
          <p:nvSpPr>
            <p:cNvPr id="990" name=""/>
            <p:cNvSpPr/>
            <p:nvPr/>
          </p:nvSpPr>
          <p:spPr>
            <a:xfrm>
              <a:off x="7426800" y="3936960"/>
              <a:ext cx="56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we</a:t>
              </a:r>
              <a:endParaRPr b="0" lang="en-US" sz="1600" spc="-1" strike="noStrike">
                <a:solidFill>
                  <a:srgbClr val="000000"/>
                </a:solidFill>
                <a:latin typeface="Comic Sans MS"/>
              </a:endParaRPr>
            </a:p>
          </p:txBody>
        </p:sp>
      </p:grpSp>
      <p:grpSp>
        <p:nvGrpSpPr>
          <p:cNvPr id="991" name=""/>
          <p:cNvGrpSpPr/>
          <p:nvPr/>
        </p:nvGrpSpPr>
        <p:grpSpPr>
          <a:xfrm>
            <a:off x="804960" y="4235400"/>
            <a:ext cx="1692360" cy="1656720"/>
            <a:chOff x="804960" y="4235400"/>
            <a:chExt cx="1692360" cy="1656720"/>
          </a:xfrm>
        </p:grpSpPr>
        <p:pic>
          <p:nvPicPr>
            <p:cNvPr id="992" name="" descr=""/>
            <p:cNvPicPr/>
            <p:nvPr/>
          </p:nvPicPr>
          <p:blipFill>
            <a:blip r:embed="rId11"/>
            <a:stretch/>
          </p:blipFill>
          <p:spPr>
            <a:xfrm>
              <a:off x="1054440" y="4235400"/>
              <a:ext cx="1259640" cy="1381320"/>
            </a:xfrm>
            <a:prstGeom prst="rect">
              <a:avLst/>
            </a:prstGeom>
            <a:ln w="0">
              <a:noFill/>
            </a:ln>
          </p:spPr>
        </p:pic>
        <p:sp>
          <p:nvSpPr>
            <p:cNvPr id="993" name=""/>
            <p:cNvSpPr/>
            <p:nvPr/>
          </p:nvSpPr>
          <p:spPr>
            <a:xfrm>
              <a:off x="804960" y="5554800"/>
              <a:ext cx="169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disappointment</a:t>
              </a:r>
              <a:endParaRPr b="0" lang="en-US" sz="1600" spc="-1" strike="noStrike">
                <a:solidFill>
                  <a:srgbClr val="000000"/>
                </a:solidFill>
                <a:latin typeface="Comic Sans MS"/>
              </a:endParaRPr>
            </a:p>
          </p:txBody>
        </p:sp>
      </p:grpSp>
      <p:grpSp>
        <p:nvGrpSpPr>
          <p:cNvPr id="994" name=""/>
          <p:cNvGrpSpPr/>
          <p:nvPr/>
        </p:nvGrpSpPr>
        <p:grpSpPr>
          <a:xfrm>
            <a:off x="2573280" y="4235400"/>
            <a:ext cx="1260360" cy="1656720"/>
            <a:chOff x="2573280" y="4235400"/>
            <a:chExt cx="1260360" cy="1656720"/>
          </a:xfrm>
        </p:grpSpPr>
        <p:pic>
          <p:nvPicPr>
            <p:cNvPr id="995" name="" descr=""/>
            <p:cNvPicPr/>
            <p:nvPr/>
          </p:nvPicPr>
          <p:blipFill>
            <a:blip r:embed="rId12"/>
            <a:stretch/>
          </p:blipFill>
          <p:spPr>
            <a:xfrm>
              <a:off x="2573280" y="4235400"/>
              <a:ext cx="1260360" cy="1381320"/>
            </a:xfrm>
            <a:prstGeom prst="rect">
              <a:avLst/>
            </a:prstGeom>
            <a:ln w="0">
              <a:noFill/>
            </a:ln>
          </p:spPr>
        </p:pic>
        <p:sp>
          <p:nvSpPr>
            <p:cNvPr id="996" name=""/>
            <p:cNvSpPr/>
            <p:nvPr/>
          </p:nvSpPr>
          <p:spPr>
            <a:xfrm>
              <a:off x="2711160" y="5554800"/>
              <a:ext cx="98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remorse</a:t>
              </a:r>
              <a:endParaRPr b="0" lang="en-US" sz="1600" spc="-1" strike="noStrike">
                <a:solidFill>
                  <a:srgbClr val="000000"/>
                </a:solidFill>
                <a:latin typeface="Comic Sans MS"/>
              </a:endParaRPr>
            </a:p>
          </p:txBody>
        </p:sp>
      </p:grpSp>
      <p:grpSp>
        <p:nvGrpSpPr>
          <p:cNvPr id="997" name=""/>
          <p:cNvGrpSpPr/>
          <p:nvPr/>
        </p:nvGrpSpPr>
        <p:grpSpPr>
          <a:xfrm>
            <a:off x="4094280" y="4235400"/>
            <a:ext cx="1258920" cy="1656720"/>
            <a:chOff x="4094280" y="4235400"/>
            <a:chExt cx="1258920" cy="1656720"/>
          </a:xfrm>
        </p:grpSpPr>
        <p:pic>
          <p:nvPicPr>
            <p:cNvPr id="998" name="" descr=""/>
            <p:cNvPicPr/>
            <p:nvPr/>
          </p:nvPicPr>
          <p:blipFill>
            <a:blip r:embed="rId13"/>
            <a:stretch/>
          </p:blipFill>
          <p:spPr>
            <a:xfrm>
              <a:off x="4094280" y="4235400"/>
              <a:ext cx="1258920" cy="1381320"/>
            </a:xfrm>
            <a:prstGeom prst="rect">
              <a:avLst/>
            </a:prstGeom>
            <a:ln w="0">
              <a:noFill/>
            </a:ln>
          </p:spPr>
        </p:pic>
        <p:sp>
          <p:nvSpPr>
            <p:cNvPr id="999" name=""/>
            <p:cNvSpPr/>
            <p:nvPr/>
          </p:nvSpPr>
          <p:spPr>
            <a:xfrm>
              <a:off x="4134240" y="5554800"/>
              <a:ext cx="109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contempt</a:t>
              </a:r>
              <a:endParaRPr b="0" lang="en-US" sz="1600" spc="-1" strike="noStrike">
                <a:solidFill>
                  <a:srgbClr val="000000"/>
                </a:solidFill>
                <a:latin typeface="Comic Sans MS"/>
              </a:endParaRPr>
            </a:p>
          </p:txBody>
        </p:sp>
      </p:grpSp>
      <p:grpSp>
        <p:nvGrpSpPr>
          <p:cNvPr id="1000" name=""/>
          <p:cNvGrpSpPr/>
          <p:nvPr/>
        </p:nvGrpSpPr>
        <p:grpSpPr>
          <a:xfrm>
            <a:off x="5497200" y="4235400"/>
            <a:ext cx="1642320" cy="1656720"/>
            <a:chOff x="5497200" y="4235400"/>
            <a:chExt cx="1642320" cy="1656720"/>
          </a:xfrm>
        </p:grpSpPr>
        <p:pic>
          <p:nvPicPr>
            <p:cNvPr id="1001" name="" descr=""/>
            <p:cNvPicPr/>
            <p:nvPr/>
          </p:nvPicPr>
          <p:blipFill>
            <a:blip r:embed="rId14"/>
            <a:stretch/>
          </p:blipFill>
          <p:spPr>
            <a:xfrm>
              <a:off x="5624280" y="4235400"/>
              <a:ext cx="1260360" cy="1381320"/>
            </a:xfrm>
            <a:prstGeom prst="rect">
              <a:avLst/>
            </a:prstGeom>
            <a:ln w="0">
              <a:noFill/>
            </a:ln>
          </p:spPr>
        </p:pic>
        <p:sp>
          <p:nvSpPr>
            <p:cNvPr id="1002" name=""/>
            <p:cNvSpPr/>
            <p:nvPr/>
          </p:nvSpPr>
          <p:spPr>
            <a:xfrm>
              <a:off x="5497200" y="5554800"/>
              <a:ext cx="164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ggressiveness</a:t>
              </a:r>
              <a:endParaRPr b="0" lang="en-US" sz="1600" spc="-1" strike="noStrike">
                <a:solidFill>
                  <a:srgbClr val="000000"/>
                </a:solidFill>
                <a:latin typeface="Comic Sans MS"/>
              </a:endParaRPr>
            </a:p>
          </p:txBody>
        </p:sp>
      </p:grpSp>
      <p:grpSp>
        <p:nvGrpSpPr>
          <p:cNvPr id="1003" name=""/>
          <p:cNvGrpSpPr/>
          <p:nvPr/>
        </p:nvGrpSpPr>
        <p:grpSpPr>
          <a:xfrm>
            <a:off x="7130880" y="4235400"/>
            <a:ext cx="1260720" cy="1656720"/>
            <a:chOff x="7130880" y="4235400"/>
            <a:chExt cx="1260720" cy="1656720"/>
          </a:xfrm>
        </p:grpSpPr>
        <p:pic>
          <p:nvPicPr>
            <p:cNvPr id="1004" name="" descr=""/>
            <p:cNvPicPr/>
            <p:nvPr/>
          </p:nvPicPr>
          <p:blipFill>
            <a:blip r:embed="rId15"/>
            <a:stretch/>
          </p:blipFill>
          <p:spPr>
            <a:xfrm>
              <a:off x="7130880" y="4235400"/>
              <a:ext cx="1260720" cy="1381320"/>
            </a:xfrm>
            <a:prstGeom prst="rect">
              <a:avLst/>
            </a:prstGeom>
            <a:ln w="0">
              <a:noFill/>
            </a:ln>
          </p:spPr>
        </p:pic>
        <p:sp>
          <p:nvSpPr>
            <p:cNvPr id="1005" name=""/>
            <p:cNvSpPr/>
            <p:nvPr/>
          </p:nvSpPr>
          <p:spPr>
            <a:xfrm>
              <a:off x="7212240" y="555480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optimism</a:t>
              </a:r>
              <a:endParaRPr b="0" lang="en-US" sz="1600" spc="-1" strike="noStrike">
                <a:solidFill>
                  <a:srgbClr val="000000"/>
                </a:solidFill>
                <a:latin typeface="Comic Sans MS"/>
              </a:endParaRPr>
            </a:p>
          </p:txBody>
        </p:sp>
      </p:grpSp>
      <p:sp>
        <p:nvSpPr>
          <p:cNvPr id="1006" name=""/>
          <p:cNvSpPr/>
          <p:nvPr/>
        </p:nvSpPr>
        <p:spPr>
          <a:xfrm>
            <a:off x="307440" y="5927760"/>
            <a:ext cx="494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apted from the Plutchik ’s wheel of emotions</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d Davis &amp; Simmons, Worm Runner Digest, 21:81, 1979.</a:t>
            </a:r>
            <a:endParaRPr b="0" lang="en-US" sz="14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24D08218-D9B3-45CA-B12F-42A599AB39DA}" type="datetime1">
              <a:rPr lang="en-US"/>
              <a:t>07/30/26</a:t>
            </a:fld>
          </a:p>
        </p:txBody>
      </p:sp>
    </p:spTree>
  </p:cSld>
  <p:transition spd="med">
    <p:wipe dir="r"/>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961"/>
                                        </p:tgtEl>
                                        <p:attrNameLst>
                                          <p:attrName>style.visibility</p:attrName>
                                        </p:attrNameLst>
                                      </p:cBhvr>
                                      <p:to>
                                        <p:strVal val="visible"/>
                                      </p:to>
                                    </p:set>
                                    <p:anim calcmode="lin" valueType="num">
                                      <p:cBhvr additive="repl">
                                        <p:cTn id="146" dur="500" fill="hold"/>
                                        <p:tgtEl>
                                          <p:spTgt spid="961"/>
                                        </p:tgtEl>
                                        <p:attrNameLst>
                                          <p:attrName>ppt_w</p:attrName>
                                        </p:attrNameLst>
                                      </p:cBhvr>
                                      <p:tavLst>
                                        <p:tav tm="0">
                                          <p:val>
                                            <p:fltVal val="0"/>
                                          </p:val>
                                        </p:tav>
                                        <p:tav tm="100000">
                                          <p:val>
                                            <p:strVal val="#ppt_w"/>
                                          </p:val>
                                        </p:tav>
                                      </p:tavLst>
                                    </p:anim>
                                    <p:anim calcmode="lin" valueType="num">
                                      <p:cBhvr additive="repl">
                                        <p:cTn id="147" dur="500" fill="hold"/>
                                        <p:tgtEl>
                                          <p:spTgt spid="961"/>
                                        </p:tgtEl>
                                        <p:attrNameLst>
                                          <p:attrName>ppt_h</p:attrName>
                                        </p:attrNameLst>
                                      </p:cBhvr>
                                      <p:tavLst>
                                        <p:tav tm="0">
                                          <p:val>
                                            <p:fltVal val="0"/>
                                          </p:val>
                                        </p:tav>
                                        <p:tav tm="100000">
                                          <p:val>
                                            <p:strVal val="#ppt_h"/>
                                          </p:val>
                                        </p:tav>
                                      </p:tavLst>
                                    </p:anim>
                                  </p:childTnLst>
                                </p:cTn>
                              </p:par>
                            </p:childTnLst>
                          </p:cTn>
                        </p:par>
                        <p:par>
                          <p:cTn id="148" fill="hold">
                            <p:stCondLst>
                              <p:cond delay="500"/>
                            </p:stCondLst>
                            <p:childTnLst>
                              <p:par>
                                <p:cTn id="149" nodeType="afterEffect" fill="hold" presetClass="entr" presetID="23" presetSubtype="16">
                                  <p:stCondLst>
                                    <p:cond delay="0"/>
                                  </p:stCondLst>
                                  <p:childTnLst>
                                    <p:set>
                                      <p:cBhvr>
                                        <p:cTn id="150" dur="1" fill="hold">
                                          <p:stCondLst>
                                            <p:cond delay="0"/>
                                          </p:stCondLst>
                                        </p:cTn>
                                        <p:tgtEl>
                                          <p:spTgt spid="964"/>
                                        </p:tgtEl>
                                        <p:attrNameLst>
                                          <p:attrName>style.visibility</p:attrName>
                                        </p:attrNameLst>
                                      </p:cBhvr>
                                      <p:to>
                                        <p:strVal val="visible"/>
                                      </p:to>
                                    </p:set>
                                    <p:anim calcmode="lin" valueType="num">
                                      <p:cBhvr additive="repl">
                                        <p:cTn id="151" dur="500" fill="hold"/>
                                        <p:tgtEl>
                                          <p:spTgt spid="964"/>
                                        </p:tgtEl>
                                        <p:attrNameLst>
                                          <p:attrName>ppt_w</p:attrName>
                                        </p:attrNameLst>
                                      </p:cBhvr>
                                      <p:tavLst>
                                        <p:tav tm="0">
                                          <p:val>
                                            <p:fltVal val="0"/>
                                          </p:val>
                                        </p:tav>
                                        <p:tav tm="100000">
                                          <p:val>
                                            <p:strVal val="#ppt_w"/>
                                          </p:val>
                                        </p:tav>
                                      </p:tavLst>
                                    </p:anim>
                                    <p:anim calcmode="lin" valueType="num">
                                      <p:cBhvr additive="repl">
                                        <p:cTn id="152" dur="500" fill="hold"/>
                                        <p:tgtEl>
                                          <p:spTgt spid="964"/>
                                        </p:tgtEl>
                                        <p:attrNameLst>
                                          <p:attrName>ppt_h</p:attrName>
                                        </p:attrNameLst>
                                      </p:cBhvr>
                                      <p:tavLst>
                                        <p:tav tm="0">
                                          <p:val>
                                            <p:fltVal val="0"/>
                                          </p:val>
                                        </p:tav>
                                        <p:tav tm="100000">
                                          <p:val>
                                            <p:strVal val="#ppt_h"/>
                                          </p:val>
                                        </p:tav>
                                      </p:tavLst>
                                    </p:anim>
                                  </p:childTnLst>
                                </p:cTn>
                              </p:par>
                            </p:childTnLst>
                          </p:cTn>
                        </p:par>
                        <p:par>
                          <p:cTn id="153" fill="hold">
                            <p:stCondLst>
                              <p:cond delay="1000"/>
                            </p:stCondLst>
                            <p:childTnLst>
                              <p:par>
                                <p:cTn id="154" nodeType="afterEffect" fill="hold" presetClass="entr" presetID="23" presetSubtype="16">
                                  <p:stCondLst>
                                    <p:cond delay="0"/>
                                  </p:stCondLst>
                                  <p:childTnLst>
                                    <p:set>
                                      <p:cBhvr>
                                        <p:cTn id="155" dur="1" fill="hold">
                                          <p:stCondLst>
                                            <p:cond delay="0"/>
                                          </p:stCondLst>
                                        </p:cTn>
                                        <p:tgtEl>
                                          <p:spTgt spid="967"/>
                                        </p:tgtEl>
                                        <p:attrNameLst>
                                          <p:attrName>style.visibility</p:attrName>
                                        </p:attrNameLst>
                                      </p:cBhvr>
                                      <p:to>
                                        <p:strVal val="visible"/>
                                      </p:to>
                                    </p:set>
                                    <p:anim calcmode="lin" valueType="num">
                                      <p:cBhvr additive="repl">
                                        <p:cTn id="156" dur="500" fill="hold"/>
                                        <p:tgtEl>
                                          <p:spTgt spid="967"/>
                                        </p:tgtEl>
                                        <p:attrNameLst>
                                          <p:attrName>ppt_w</p:attrName>
                                        </p:attrNameLst>
                                      </p:cBhvr>
                                      <p:tavLst>
                                        <p:tav tm="0">
                                          <p:val>
                                            <p:fltVal val="0"/>
                                          </p:val>
                                        </p:tav>
                                        <p:tav tm="100000">
                                          <p:val>
                                            <p:strVal val="#ppt_w"/>
                                          </p:val>
                                        </p:tav>
                                      </p:tavLst>
                                    </p:anim>
                                    <p:anim calcmode="lin" valueType="num">
                                      <p:cBhvr additive="repl">
                                        <p:cTn id="157" dur="500" fill="hold"/>
                                        <p:tgtEl>
                                          <p:spTgt spid="967"/>
                                        </p:tgtEl>
                                        <p:attrNameLst>
                                          <p:attrName>ppt_h</p:attrName>
                                        </p:attrNameLst>
                                      </p:cBhvr>
                                      <p:tavLst>
                                        <p:tav tm="0">
                                          <p:val>
                                            <p:fltVal val="0"/>
                                          </p:val>
                                        </p:tav>
                                        <p:tav tm="100000">
                                          <p:val>
                                            <p:strVal val="#ppt_h"/>
                                          </p:val>
                                        </p:tav>
                                      </p:tavLst>
                                    </p:anim>
                                  </p:childTnLst>
                                </p:cTn>
                              </p:par>
                            </p:childTnLst>
                          </p:cTn>
                        </p:par>
                        <p:par>
                          <p:cTn id="158" fill="hold">
                            <p:stCondLst>
                              <p:cond delay="1500"/>
                            </p:stCondLst>
                            <p:childTnLst>
                              <p:par>
                                <p:cTn id="159" nodeType="afterEffect" fill="hold" presetClass="entr" presetID="23" presetSubtype="16">
                                  <p:stCondLst>
                                    <p:cond delay="0"/>
                                  </p:stCondLst>
                                  <p:childTnLst>
                                    <p:set>
                                      <p:cBhvr>
                                        <p:cTn id="160" dur="1" fill="hold">
                                          <p:stCondLst>
                                            <p:cond delay="0"/>
                                          </p:stCondLst>
                                        </p:cTn>
                                        <p:tgtEl>
                                          <p:spTgt spid="970"/>
                                        </p:tgtEl>
                                        <p:attrNameLst>
                                          <p:attrName>style.visibility</p:attrName>
                                        </p:attrNameLst>
                                      </p:cBhvr>
                                      <p:to>
                                        <p:strVal val="visible"/>
                                      </p:to>
                                    </p:set>
                                    <p:anim calcmode="lin" valueType="num">
                                      <p:cBhvr additive="repl">
                                        <p:cTn id="161" dur="500" fill="hold"/>
                                        <p:tgtEl>
                                          <p:spTgt spid="970"/>
                                        </p:tgtEl>
                                        <p:attrNameLst>
                                          <p:attrName>ppt_w</p:attrName>
                                        </p:attrNameLst>
                                      </p:cBhvr>
                                      <p:tavLst>
                                        <p:tav tm="0">
                                          <p:val>
                                            <p:fltVal val="0"/>
                                          </p:val>
                                        </p:tav>
                                        <p:tav tm="100000">
                                          <p:val>
                                            <p:strVal val="#ppt_w"/>
                                          </p:val>
                                        </p:tav>
                                      </p:tavLst>
                                    </p:anim>
                                    <p:anim calcmode="lin" valueType="num">
                                      <p:cBhvr additive="repl">
                                        <p:cTn id="162" dur="500" fill="hold"/>
                                        <p:tgtEl>
                                          <p:spTgt spid="970"/>
                                        </p:tgtEl>
                                        <p:attrNameLst>
                                          <p:attrName>ppt_h</p:attrName>
                                        </p:attrNameLst>
                                      </p:cBhvr>
                                      <p:tavLst>
                                        <p:tav tm="0">
                                          <p:val>
                                            <p:fltVal val="0"/>
                                          </p:val>
                                        </p:tav>
                                        <p:tav tm="100000">
                                          <p:val>
                                            <p:strVal val="#ppt_h"/>
                                          </p:val>
                                        </p:tav>
                                      </p:tavLst>
                                    </p:anim>
                                  </p:childTnLst>
                                </p:cTn>
                              </p:par>
                            </p:childTnLst>
                          </p:cTn>
                        </p:par>
                        <p:par>
                          <p:cTn id="163" fill="hold">
                            <p:stCondLst>
                              <p:cond delay="2000"/>
                            </p:stCondLst>
                            <p:childTnLst>
                              <p:par>
                                <p:cTn id="164" nodeType="afterEffect" fill="hold" presetClass="entr" presetID="23" presetSubtype="16">
                                  <p:stCondLst>
                                    <p:cond delay="0"/>
                                  </p:stCondLst>
                                  <p:childTnLst>
                                    <p:set>
                                      <p:cBhvr>
                                        <p:cTn id="165" dur="1" fill="hold">
                                          <p:stCondLst>
                                            <p:cond delay="0"/>
                                          </p:stCondLst>
                                        </p:cTn>
                                        <p:tgtEl>
                                          <p:spTgt spid="973"/>
                                        </p:tgtEl>
                                        <p:attrNameLst>
                                          <p:attrName>style.visibility</p:attrName>
                                        </p:attrNameLst>
                                      </p:cBhvr>
                                      <p:to>
                                        <p:strVal val="visible"/>
                                      </p:to>
                                    </p:set>
                                    <p:anim calcmode="lin" valueType="num">
                                      <p:cBhvr additive="repl">
                                        <p:cTn id="166" dur="500" fill="hold"/>
                                        <p:tgtEl>
                                          <p:spTgt spid="973"/>
                                        </p:tgtEl>
                                        <p:attrNameLst>
                                          <p:attrName>ppt_w</p:attrName>
                                        </p:attrNameLst>
                                      </p:cBhvr>
                                      <p:tavLst>
                                        <p:tav tm="0">
                                          <p:val>
                                            <p:fltVal val="0"/>
                                          </p:val>
                                        </p:tav>
                                        <p:tav tm="100000">
                                          <p:val>
                                            <p:strVal val="#ppt_w"/>
                                          </p:val>
                                        </p:tav>
                                      </p:tavLst>
                                    </p:anim>
                                    <p:anim calcmode="lin" valueType="num">
                                      <p:cBhvr additive="repl">
                                        <p:cTn id="167" dur="500" fill="hold"/>
                                        <p:tgtEl>
                                          <p:spTgt spid="973"/>
                                        </p:tgtEl>
                                        <p:attrNameLst>
                                          <p:attrName>ppt_h</p:attrName>
                                        </p:attrNameLst>
                                      </p:cBhvr>
                                      <p:tavLst>
                                        <p:tav tm="0">
                                          <p:val>
                                            <p:fltVal val="0"/>
                                          </p:val>
                                        </p:tav>
                                        <p:tav tm="100000">
                                          <p:val>
                                            <p:strVal val="#ppt_h"/>
                                          </p:val>
                                        </p:tav>
                                      </p:tavLst>
                                    </p:anim>
                                  </p:childTnLst>
                                </p:cTn>
                              </p:par>
                            </p:childTnLst>
                          </p:cTn>
                        </p:par>
                        <p:par>
                          <p:cTn id="168" fill="hold">
                            <p:stCondLst>
                              <p:cond delay="2500"/>
                            </p:stCondLst>
                            <p:childTnLst>
                              <p:par>
                                <p:cTn id="169" nodeType="afterEffect" fill="hold" presetClass="entr" presetID="23" presetSubtype="16">
                                  <p:stCondLst>
                                    <p:cond delay="0"/>
                                  </p:stCondLst>
                                  <p:childTnLst>
                                    <p:set>
                                      <p:cBhvr>
                                        <p:cTn id="170" dur="1" fill="hold">
                                          <p:stCondLst>
                                            <p:cond delay="0"/>
                                          </p:stCondLst>
                                        </p:cTn>
                                        <p:tgtEl>
                                          <p:spTgt spid="976"/>
                                        </p:tgtEl>
                                        <p:attrNameLst>
                                          <p:attrName>style.visibility</p:attrName>
                                        </p:attrNameLst>
                                      </p:cBhvr>
                                      <p:to>
                                        <p:strVal val="visible"/>
                                      </p:to>
                                    </p:set>
                                    <p:anim calcmode="lin" valueType="num">
                                      <p:cBhvr additive="repl">
                                        <p:cTn id="171" dur="500" fill="hold"/>
                                        <p:tgtEl>
                                          <p:spTgt spid="976"/>
                                        </p:tgtEl>
                                        <p:attrNameLst>
                                          <p:attrName>ppt_w</p:attrName>
                                        </p:attrNameLst>
                                      </p:cBhvr>
                                      <p:tavLst>
                                        <p:tav tm="0">
                                          <p:val>
                                            <p:fltVal val="0"/>
                                          </p:val>
                                        </p:tav>
                                        <p:tav tm="100000">
                                          <p:val>
                                            <p:strVal val="#ppt_w"/>
                                          </p:val>
                                        </p:tav>
                                      </p:tavLst>
                                    </p:anim>
                                    <p:anim calcmode="lin" valueType="num">
                                      <p:cBhvr additive="repl">
                                        <p:cTn id="172" dur="500" fill="hold"/>
                                        <p:tgtEl>
                                          <p:spTgt spid="976"/>
                                        </p:tgtEl>
                                        <p:attrNameLst>
                                          <p:attrName>ppt_h</p:attrName>
                                        </p:attrNameLst>
                                      </p:cBhvr>
                                      <p:tavLst>
                                        <p:tav tm="0">
                                          <p:val>
                                            <p:fltVal val="0"/>
                                          </p:val>
                                        </p:tav>
                                        <p:tav tm="100000">
                                          <p:val>
                                            <p:strVal val="#ppt_h"/>
                                          </p:val>
                                        </p:tav>
                                      </p:tavLst>
                                    </p:anim>
                                  </p:childTnLst>
                                </p:cTn>
                              </p:par>
                            </p:childTnLst>
                          </p:cTn>
                        </p:par>
                        <p:par>
                          <p:cTn id="173" fill="hold">
                            <p:stCondLst>
                              <p:cond delay="3000"/>
                            </p:stCondLst>
                            <p:childTnLst>
                              <p:par>
                                <p:cTn id="174" nodeType="afterEffect" fill="hold" presetClass="entr" presetID="23" presetSubtype="16">
                                  <p:stCondLst>
                                    <p:cond delay="0"/>
                                  </p:stCondLst>
                                  <p:childTnLst>
                                    <p:set>
                                      <p:cBhvr>
                                        <p:cTn id="175" dur="1" fill="hold">
                                          <p:stCondLst>
                                            <p:cond delay="0"/>
                                          </p:stCondLst>
                                        </p:cTn>
                                        <p:tgtEl>
                                          <p:spTgt spid="979"/>
                                        </p:tgtEl>
                                        <p:attrNameLst>
                                          <p:attrName>style.visibility</p:attrName>
                                        </p:attrNameLst>
                                      </p:cBhvr>
                                      <p:to>
                                        <p:strVal val="visible"/>
                                      </p:to>
                                    </p:set>
                                    <p:anim calcmode="lin" valueType="num">
                                      <p:cBhvr additive="repl">
                                        <p:cTn id="176" dur="500" fill="hold"/>
                                        <p:tgtEl>
                                          <p:spTgt spid="979"/>
                                        </p:tgtEl>
                                        <p:attrNameLst>
                                          <p:attrName>ppt_w</p:attrName>
                                        </p:attrNameLst>
                                      </p:cBhvr>
                                      <p:tavLst>
                                        <p:tav tm="0">
                                          <p:val>
                                            <p:fltVal val="0"/>
                                          </p:val>
                                        </p:tav>
                                        <p:tav tm="100000">
                                          <p:val>
                                            <p:strVal val="#ppt_w"/>
                                          </p:val>
                                        </p:tav>
                                      </p:tavLst>
                                    </p:anim>
                                    <p:anim calcmode="lin" valueType="num">
                                      <p:cBhvr additive="repl">
                                        <p:cTn id="177" dur="500" fill="hold"/>
                                        <p:tgtEl>
                                          <p:spTgt spid="979"/>
                                        </p:tgtEl>
                                        <p:attrNameLst>
                                          <p:attrName>ppt_h</p:attrName>
                                        </p:attrNameLst>
                                      </p:cBhvr>
                                      <p:tavLst>
                                        <p:tav tm="0">
                                          <p:val>
                                            <p:fltVal val="0"/>
                                          </p:val>
                                        </p:tav>
                                        <p:tav tm="100000">
                                          <p:val>
                                            <p:strVal val="#ppt_h"/>
                                          </p:val>
                                        </p:tav>
                                      </p:tavLst>
                                    </p:anim>
                                  </p:childTnLst>
                                </p:cTn>
                              </p:par>
                            </p:childTnLst>
                          </p:cTn>
                        </p:par>
                        <p:par>
                          <p:cTn id="178" fill="hold">
                            <p:stCondLst>
                              <p:cond delay="3500"/>
                            </p:stCondLst>
                            <p:childTnLst>
                              <p:par>
                                <p:cTn id="179" nodeType="afterEffect" fill="hold" presetClass="entr" presetID="23" presetSubtype="16">
                                  <p:stCondLst>
                                    <p:cond delay="0"/>
                                  </p:stCondLst>
                                  <p:childTnLst>
                                    <p:set>
                                      <p:cBhvr>
                                        <p:cTn id="180" dur="1" fill="hold">
                                          <p:stCondLst>
                                            <p:cond delay="0"/>
                                          </p:stCondLst>
                                        </p:cTn>
                                        <p:tgtEl>
                                          <p:spTgt spid="982"/>
                                        </p:tgtEl>
                                        <p:attrNameLst>
                                          <p:attrName>style.visibility</p:attrName>
                                        </p:attrNameLst>
                                      </p:cBhvr>
                                      <p:to>
                                        <p:strVal val="visible"/>
                                      </p:to>
                                    </p:set>
                                    <p:anim calcmode="lin" valueType="num">
                                      <p:cBhvr additive="repl">
                                        <p:cTn id="181" dur="500" fill="hold"/>
                                        <p:tgtEl>
                                          <p:spTgt spid="982"/>
                                        </p:tgtEl>
                                        <p:attrNameLst>
                                          <p:attrName>ppt_w</p:attrName>
                                        </p:attrNameLst>
                                      </p:cBhvr>
                                      <p:tavLst>
                                        <p:tav tm="0">
                                          <p:val>
                                            <p:fltVal val="0"/>
                                          </p:val>
                                        </p:tav>
                                        <p:tav tm="100000">
                                          <p:val>
                                            <p:strVal val="#ppt_w"/>
                                          </p:val>
                                        </p:tav>
                                      </p:tavLst>
                                    </p:anim>
                                    <p:anim calcmode="lin" valueType="num">
                                      <p:cBhvr additive="repl">
                                        <p:cTn id="182" dur="500" fill="hold"/>
                                        <p:tgtEl>
                                          <p:spTgt spid="982"/>
                                        </p:tgtEl>
                                        <p:attrNameLst>
                                          <p:attrName>ppt_h</p:attrName>
                                        </p:attrNameLst>
                                      </p:cBhvr>
                                      <p:tavLst>
                                        <p:tav tm="0">
                                          <p:val>
                                            <p:fltVal val="0"/>
                                          </p:val>
                                        </p:tav>
                                        <p:tav tm="100000">
                                          <p:val>
                                            <p:strVal val="#ppt_h"/>
                                          </p:val>
                                        </p:tav>
                                      </p:tavLst>
                                    </p:anim>
                                  </p:childTnLst>
                                </p:cTn>
                              </p:par>
                            </p:childTnLst>
                          </p:cTn>
                        </p:par>
                        <p:par>
                          <p:cTn id="183" fill="hold">
                            <p:stCondLst>
                              <p:cond delay="4000"/>
                            </p:stCondLst>
                            <p:childTnLst>
                              <p:par>
                                <p:cTn id="184" nodeType="afterEffect" fill="hold" presetClass="entr" presetID="23" presetSubtype="16">
                                  <p:stCondLst>
                                    <p:cond delay="0"/>
                                  </p:stCondLst>
                                  <p:childTnLst>
                                    <p:set>
                                      <p:cBhvr>
                                        <p:cTn id="185" dur="1" fill="hold">
                                          <p:stCondLst>
                                            <p:cond delay="0"/>
                                          </p:stCondLst>
                                        </p:cTn>
                                        <p:tgtEl>
                                          <p:spTgt spid="985"/>
                                        </p:tgtEl>
                                        <p:attrNameLst>
                                          <p:attrName>style.visibility</p:attrName>
                                        </p:attrNameLst>
                                      </p:cBhvr>
                                      <p:to>
                                        <p:strVal val="visible"/>
                                      </p:to>
                                    </p:set>
                                    <p:anim calcmode="lin" valueType="num">
                                      <p:cBhvr additive="repl">
                                        <p:cTn id="186" dur="500" fill="hold"/>
                                        <p:tgtEl>
                                          <p:spTgt spid="985"/>
                                        </p:tgtEl>
                                        <p:attrNameLst>
                                          <p:attrName>ppt_w</p:attrName>
                                        </p:attrNameLst>
                                      </p:cBhvr>
                                      <p:tavLst>
                                        <p:tav tm="0">
                                          <p:val>
                                            <p:fltVal val="0"/>
                                          </p:val>
                                        </p:tav>
                                        <p:tav tm="100000">
                                          <p:val>
                                            <p:strVal val="#ppt_w"/>
                                          </p:val>
                                        </p:tav>
                                      </p:tavLst>
                                    </p:anim>
                                    <p:anim calcmode="lin" valueType="num">
                                      <p:cBhvr additive="repl">
                                        <p:cTn id="187" dur="500" fill="hold"/>
                                        <p:tgtEl>
                                          <p:spTgt spid="985"/>
                                        </p:tgtEl>
                                        <p:attrNameLst>
                                          <p:attrName>ppt_h</p:attrName>
                                        </p:attrNameLst>
                                      </p:cBhvr>
                                      <p:tavLst>
                                        <p:tav tm="0">
                                          <p:val>
                                            <p:fltVal val="0"/>
                                          </p:val>
                                        </p:tav>
                                        <p:tav tm="100000">
                                          <p:val>
                                            <p:strVal val="#ppt_h"/>
                                          </p:val>
                                        </p:tav>
                                      </p:tavLst>
                                    </p:anim>
                                  </p:childTnLst>
                                </p:cTn>
                              </p:par>
                            </p:childTnLst>
                          </p:cTn>
                        </p:par>
                        <p:par>
                          <p:cTn id="188" fill="hold">
                            <p:stCondLst>
                              <p:cond delay="4500"/>
                            </p:stCondLst>
                            <p:childTnLst>
                              <p:par>
                                <p:cTn id="189" nodeType="afterEffect" fill="hold" presetClass="entr" presetID="23" presetSubtype="16">
                                  <p:stCondLst>
                                    <p:cond delay="0"/>
                                  </p:stCondLst>
                                  <p:childTnLst>
                                    <p:set>
                                      <p:cBhvr>
                                        <p:cTn id="190" dur="1" fill="hold">
                                          <p:stCondLst>
                                            <p:cond delay="0"/>
                                          </p:stCondLst>
                                        </p:cTn>
                                        <p:tgtEl>
                                          <p:spTgt spid="988"/>
                                        </p:tgtEl>
                                        <p:attrNameLst>
                                          <p:attrName>style.visibility</p:attrName>
                                        </p:attrNameLst>
                                      </p:cBhvr>
                                      <p:to>
                                        <p:strVal val="visible"/>
                                      </p:to>
                                    </p:set>
                                    <p:anim calcmode="lin" valueType="num">
                                      <p:cBhvr additive="repl">
                                        <p:cTn id="191" dur="500" fill="hold"/>
                                        <p:tgtEl>
                                          <p:spTgt spid="988"/>
                                        </p:tgtEl>
                                        <p:attrNameLst>
                                          <p:attrName>ppt_w</p:attrName>
                                        </p:attrNameLst>
                                      </p:cBhvr>
                                      <p:tavLst>
                                        <p:tav tm="0">
                                          <p:val>
                                            <p:fltVal val="0"/>
                                          </p:val>
                                        </p:tav>
                                        <p:tav tm="100000">
                                          <p:val>
                                            <p:strVal val="#ppt_w"/>
                                          </p:val>
                                        </p:tav>
                                      </p:tavLst>
                                    </p:anim>
                                    <p:anim calcmode="lin" valueType="num">
                                      <p:cBhvr additive="repl">
                                        <p:cTn id="192" dur="500" fill="hold"/>
                                        <p:tgtEl>
                                          <p:spTgt spid="988"/>
                                        </p:tgtEl>
                                        <p:attrNameLst>
                                          <p:attrName>ppt_h</p:attrName>
                                        </p:attrNameLst>
                                      </p:cBhvr>
                                      <p:tavLst>
                                        <p:tav tm="0">
                                          <p:val>
                                            <p:fltVal val="0"/>
                                          </p:val>
                                        </p:tav>
                                        <p:tav tm="100000">
                                          <p:val>
                                            <p:strVal val="#ppt_h"/>
                                          </p:val>
                                        </p:tav>
                                      </p:tavLst>
                                    </p:anim>
                                  </p:childTnLst>
                                </p:cTn>
                              </p:par>
                            </p:childTnLst>
                          </p:cTn>
                        </p:par>
                        <p:par>
                          <p:cTn id="193" fill="hold">
                            <p:stCondLst>
                              <p:cond delay="5000"/>
                            </p:stCondLst>
                            <p:childTnLst>
                              <p:par>
                                <p:cTn id="194" nodeType="afterEffect" fill="hold" presetClass="entr" presetID="23" presetSubtype="16">
                                  <p:stCondLst>
                                    <p:cond delay="0"/>
                                  </p:stCondLst>
                                  <p:childTnLst>
                                    <p:set>
                                      <p:cBhvr>
                                        <p:cTn id="195" dur="1" fill="hold">
                                          <p:stCondLst>
                                            <p:cond delay="0"/>
                                          </p:stCondLst>
                                        </p:cTn>
                                        <p:tgtEl>
                                          <p:spTgt spid="991"/>
                                        </p:tgtEl>
                                        <p:attrNameLst>
                                          <p:attrName>style.visibility</p:attrName>
                                        </p:attrNameLst>
                                      </p:cBhvr>
                                      <p:to>
                                        <p:strVal val="visible"/>
                                      </p:to>
                                    </p:set>
                                    <p:anim calcmode="lin" valueType="num">
                                      <p:cBhvr additive="repl">
                                        <p:cTn id="196" dur="500" fill="hold"/>
                                        <p:tgtEl>
                                          <p:spTgt spid="991"/>
                                        </p:tgtEl>
                                        <p:attrNameLst>
                                          <p:attrName>ppt_w</p:attrName>
                                        </p:attrNameLst>
                                      </p:cBhvr>
                                      <p:tavLst>
                                        <p:tav tm="0">
                                          <p:val>
                                            <p:fltVal val="0"/>
                                          </p:val>
                                        </p:tav>
                                        <p:tav tm="100000">
                                          <p:val>
                                            <p:strVal val="#ppt_w"/>
                                          </p:val>
                                        </p:tav>
                                      </p:tavLst>
                                    </p:anim>
                                    <p:anim calcmode="lin" valueType="num">
                                      <p:cBhvr additive="repl">
                                        <p:cTn id="197" dur="500" fill="hold"/>
                                        <p:tgtEl>
                                          <p:spTgt spid="991"/>
                                        </p:tgtEl>
                                        <p:attrNameLst>
                                          <p:attrName>ppt_h</p:attrName>
                                        </p:attrNameLst>
                                      </p:cBhvr>
                                      <p:tavLst>
                                        <p:tav tm="0">
                                          <p:val>
                                            <p:fltVal val="0"/>
                                          </p:val>
                                        </p:tav>
                                        <p:tav tm="100000">
                                          <p:val>
                                            <p:strVal val="#ppt_h"/>
                                          </p:val>
                                        </p:tav>
                                      </p:tavLst>
                                    </p:anim>
                                  </p:childTnLst>
                                </p:cTn>
                              </p:par>
                            </p:childTnLst>
                          </p:cTn>
                        </p:par>
                        <p:par>
                          <p:cTn id="198" fill="hold">
                            <p:stCondLst>
                              <p:cond delay="5500"/>
                            </p:stCondLst>
                            <p:childTnLst>
                              <p:par>
                                <p:cTn id="199" nodeType="afterEffect" fill="hold" presetClass="entr" presetID="23" presetSubtype="16">
                                  <p:stCondLst>
                                    <p:cond delay="0"/>
                                  </p:stCondLst>
                                  <p:childTnLst>
                                    <p:set>
                                      <p:cBhvr>
                                        <p:cTn id="200" dur="1" fill="hold">
                                          <p:stCondLst>
                                            <p:cond delay="0"/>
                                          </p:stCondLst>
                                        </p:cTn>
                                        <p:tgtEl>
                                          <p:spTgt spid="994"/>
                                        </p:tgtEl>
                                        <p:attrNameLst>
                                          <p:attrName>style.visibility</p:attrName>
                                        </p:attrNameLst>
                                      </p:cBhvr>
                                      <p:to>
                                        <p:strVal val="visible"/>
                                      </p:to>
                                    </p:set>
                                    <p:anim calcmode="lin" valueType="num">
                                      <p:cBhvr additive="repl">
                                        <p:cTn id="201" dur="500" fill="hold"/>
                                        <p:tgtEl>
                                          <p:spTgt spid="994"/>
                                        </p:tgtEl>
                                        <p:attrNameLst>
                                          <p:attrName>ppt_w</p:attrName>
                                        </p:attrNameLst>
                                      </p:cBhvr>
                                      <p:tavLst>
                                        <p:tav tm="0">
                                          <p:val>
                                            <p:fltVal val="0"/>
                                          </p:val>
                                        </p:tav>
                                        <p:tav tm="100000">
                                          <p:val>
                                            <p:strVal val="#ppt_w"/>
                                          </p:val>
                                        </p:tav>
                                      </p:tavLst>
                                    </p:anim>
                                    <p:anim calcmode="lin" valueType="num">
                                      <p:cBhvr additive="repl">
                                        <p:cTn id="202" dur="500" fill="hold"/>
                                        <p:tgtEl>
                                          <p:spTgt spid="994"/>
                                        </p:tgtEl>
                                        <p:attrNameLst>
                                          <p:attrName>ppt_h</p:attrName>
                                        </p:attrNameLst>
                                      </p:cBhvr>
                                      <p:tavLst>
                                        <p:tav tm="0">
                                          <p:val>
                                            <p:fltVal val="0"/>
                                          </p:val>
                                        </p:tav>
                                        <p:tav tm="100000">
                                          <p:val>
                                            <p:strVal val="#ppt_h"/>
                                          </p:val>
                                        </p:tav>
                                      </p:tavLst>
                                    </p:anim>
                                  </p:childTnLst>
                                </p:cTn>
                              </p:par>
                            </p:childTnLst>
                          </p:cTn>
                        </p:par>
                        <p:par>
                          <p:cTn id="203" fill="hold">
                            <p:stCondLst>
                              <p:cond delay="6000"/>
                            </p:stCondLst>
                            <p:childTnLst>
                              <p:par>
                                <p:cTn id="204" nodeType="afterEffect" fill="hold" presetClass="entr" presetID="23" presetSubtype="16">
                                  <p:stCondLst>
                                    <p:cond delay="0"/>
                                  </p:stCondLst>
                                  <p:childTnLst>
                                    <p:set>
                                      <p:cBhvr>
                                        <p:cTn id="205" dur="1" fill="hold">
                                          <p:stCondLst>
                                            <p:cond delay="0"/>
                                          </p:stCondLst>
                                        </p:cTn>
                                        <p:tgtEl>
                                          <p:spTgt spid="997"/>
                                        </p:tgtEl>
                                        <p:attrNameLst>
                                          <p:attrName>style.visibility</p:attrName>
                                        </p:attrNameLst>
                                      </p:cBhvr>
                                      <p:to>
                                        <p:strVal val="visible"/>
                                      </p:to>
                                    </p:set>
                                    <p:anim calcmode="lin" valueType="num">
                                      <p:cBhvr additive="repl">
                                        <p:cTn id="206" dur="500" fill="hold"/>
                                        <p:tgtEl>
                                          <p:spTgt spid="997"/>
                                        </p:tgtEl>
                                        <p:attrNameLst>
                                          <p:attrName>ppt_w</p:attrName>
                                        </p:attrNameLst>
                                      </p:cBhvr>
                                      <p:tavLst>
                                        <p:tav tm="0">
                                          <p:val>
                                            <p:fltVal val="0"/>
                                          </p:val>
                                        </p:tav>
                                        <p:tav tm="100000">
                                          <p:val>
                                            <p:strVal val="#ppt_w"/>
                                          </p:val>
                                        </p:tav>
                                      </p:tavLst>
                                    </p:anim>
                                    <p:anim calcmode="lin" valueType="num">
                                      <p:cBhvr additive="repl">
                                        <p:cTn id="207" dur="500" fill="hold"/>
                                        <p:tgtEl>
                                          <p:spTgt spid="997"/>
                                        </p:tgtEl>
                                        <p:attrNameLst>
                                          <p:attrName>ppt_h</p:attrName>
                                        </p:attrNameLst>
                                      </p:cBhvr>
                                      <p:tavLst>
                                        <p:tav tm="0">
                                          <p:val>
                                            <p:fltVal val="0"/>
                                          </p:val>
                                        </p:tav>
                                        <p:tav tm="100000">
                                          <p:val>
                                            <p:strVal val="#ppt_h"/>
                                          </p:val>
                                        </p:tav>
                                      </p:tavLst>
                                    </p:anim>
                                  </p:childTnLst>
                                </p:cTn>
                              </p:par>
                            </p:childTnLst>
                          </p:cTn>
                        </p:par>
                        <p:par>
                          <p:cTn id="208" fill="hold">
                            <p:stCondLst>
                              <p:cond delay="6500"/>
                            </p:stCondLst>
                            <p:childTnLst>
                              <p:par>
                                <p:cTn id="209" nodeType="afterEffect" fill="hold" presetClass="entr" presetID="23" presetSubtype="16">
                                  <p:stCondLst>
                                    <p:cond delay="0"/>
                                  </p:stCondLst>
                                  <p:childTnLst>
                                    <p:set>
                                      <p:cBhvr>
                                        <p:cTn id="210" dur="1" fill="hold">
                                          <p:stCondLst>
                                            <p:cond delay="0"/>
                                          </p:stCondLst>
                                        </p:cTn>
                                        <p:tgtEl>
                                          <p:spTgt spid="1000"/>
                                        </p:tgtEl>
                                        <p:attrNameLst>
                                          <p:attrName>style.visibility</p:attrName>
                                        </p:attrNameLst>
                                      </p:cBhvr>
                                      <p:to>
                                        <p:strVal val="visible"/>
                                      </p:to>
                                    </p:set>
                                    <p:anim calcmode="lin" valueType="num">
                                      <p:cBhvr additive="repl">
                                        <p:cTn id="211" dur="500" fill="hold"/>
                                        <p:tgtEl>
                                          <p:spTgt spid="1000"/>
                                        </p:tgtEl>
                                        <p:attrNameLst>
                                          <p:attrName>ppt_w</p:attrName>
                                        </p:attrNameLst>
                                      </p:cBhvr>
                                      <p:tavLst>
                                        <p:tav tm="0">
                                          <p:val>
                                            <p:fltVal val="0"/>
                                          </p:val>
                                        </p:tav>
                                        <p:tav tm="100000">
                                          <p:val>
                                            <p:strVal val="#ppt_w"/>
                                          </p:val>
                                        </p:tav>
                                      </p:tavLst>
                                    </p:anim>
                                    <p:anim calcmode="lin" valueType="num">
                                      <p:cBhvr additive="repl">
                                        <p:cTn id="212" dur="500" fill="hold"/>
                                        <p:tgtEl>
                                          <p:spTgt spid="1000"/>
                                        </p:tgtEl>
                                        <p:attrNameLst>
                                          <p:attrName>ppt_h</p:attrName>
                                        </p:attrNameLst>
                                      </p:cBhvr>
                                      <p:tavLst>
                                        <p:tav tm="0">
                                          <p:val>
                                            <p:fltVal val="0"/>
                                          </p:val>
                                        </p:tav>
                                        <p:tav tm="100000">
                                          <p:val>
                                            <p:strVal val="#ppt_h"/>
                                          </p:val>
                                        </p:tav>
                                      </p:tavLst>
                                    </p:anim>
                                  </p:childTnLst>
                                </p:cTn>
                              </p:par>
                            </p:childTnLst>
                          </p:cTn>
                        </p:par>
                        <p:par>
                          <p:cTn id="213" fill="hold">
                            <p:stCondLst>
                              <p:cond delay="7000"/>
                            </p:stCondLst>
                            <p:childTnLst>
                              <p:par>
                                <p:cTn id="214" nodeType="afterEffect" fill="hold" presetClass="entr" presetID="23" presetSubtype="16">
                                  <p:stCondLst>
                                    <p:cond delay="0"/>
                                  </p:stCondLst>
                                  <p:childTnLst>
                                    <p:set>
                                      <p:cBhvr>
                                        <p:cTn id="215" dur="1" fill="hold">
                                          <p:stCondLst>
                                            <p:cond delay="0"/>
                                          </p:stCondLst>
                                        </p:cTn>
                                        <p:tgtEl>
                                          <p:spTgt spid="1003"/>
                                        </p:tgtEl>
                                        <p:attrNameLst>
                                          <p:attrName>style.visibility</p:attrName>
                                        </p:attrNameLst>
                                      </p:cBhvr>
                                      <p:to>
                                        <p:strVal val="visible"/>
                                      </p:to>
                                    </p:set>
                                    <p:anim calcmode="lin" valueType="num">
                                      <p:cBhvr additive="repl">
                                        <p:cTn id="216" dur="500" fill="hold"/>
                                        <p:tgtEl>
                                          <p:spTgt spid="1003"/>
                                        </p:tgtEl>
                                        <p:attrNameLst>
                                          <p:attrName>ppt_w</p:attrName>
                                        </p:attrNameLst>
                                      </p:cBhvr>
                                      <p:tavLst>
                                        <p:tav tm="0">
                                          <p:val>
                                            <p:fltVal val="0"/>
                                          </p:val>
                                        </p:tav>
                                        <p:tav tm="100000">
                                          <p:val>
                                            <p:strVal val="#ppt_w"/>
                                          </p:val>
                                        </p:tav>
                                      </p:tavLst>
                                    </p:anim>
                                    <p:anim calcmode="lin" valueType="num">
                                      <p:cBhvr additive="repl">
                                        <p:cTn id="217" dur="500" fill="hold"/>
                                        <p:tgtEl>
                                          <p:spTgt spid="10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7" name=""/>
          <p:cNvSpPr/>
          <p:nvPr/>
        </p:nvSpPr>
        <p:spPr>
          <a:xfrm>
            <a:off x="579600" y="419040"/>
            <a:ext cx="80326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How can we measure emotions?</a:t>
            </a:r>
            <a:endParaRPr b="0" lang="en-US" sz="3200" spc="-1" strike="noStrike">
              <a:solidFill>
                <a:srgbClr val="000000"/>
              </a:solidFill>
              <a:latin typeface="Comic Sans MS"/>
            </a:endParaRPr>
          </a:p>
        </p:txBody>
      </p:sp>
      <p:sp>
        <p:nvSpPr>
          <p:cNvPr id="1008" name=""/>
          <p:cNvSpPr/>
          <p:nvPr/>
        </p:nvSpPr>
        <p:spPr>
          <a:xfrm>
            <a:off x="723960" y="1795320"/>
            <a:ext cx="7772400" cy="3946680"/>
          </a:xfrm>
          <a:prstGeom prst="rect">
            <a:avLst/>
          </a:prstGeom>
          <a:solidFill>
            <a:srgbClr val="ccccff"/>
          </a:solid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Comic Sans MS"/>
              </a:rPr>
              <a:t>Questionnaires and interview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Comic Sans MS"/>
              </a:rPr>
              <a:t>Neuroendocrine responses</a:t>
            </a:r>
            <a:endParaRPr b="0" lang="en-US" sz="24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Comic Sans MS"/>
              </a:rPr>
              <a:t>variation within the neuroendocrine system </a:t>
            </a:r>
            <a:br>
              <a:rPr sz="2000"/>
            </a:br>
            <a:r>
              <a:rPr b="0" i="1" lang="en-US" sz="2000" spc="-1" strike="noStrike">
                <a:solidFill>
                  <a:srgbClr val="ccccff"/>
                </a:solidFill>
                <a:latin typeface="Comic Sans MS"/>
              </a:rPr>
              <a:t>vs.</a:t>
            </a:r>
            <a:r>
              <a:rPr b="0" lang="en-US" sz="2000" spc="-1" strike="noStrike">
                <a:solidFill>
                  <a:srgbClr val="ccccff"/>
                </a:solidFill>
                <a:latin typeface="Comic Sans MS"/>
              </a:rPr>
              <a:t> variation in the input to the system (psychoneuroendocrine reactivity)</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Comic Sans MS"/>
              </a:rPr>
              <a:t>actual difference of basic functioning</a:t>
            </a:r>
            <a:br>
              <a:rPr sz="2000"/>
            </a:br>
            <a:r>
              <a:rPr b="0" i="1" lang="en-US" sz="2000" spc="-1" strike="noStrike">
                <a:solidFill>
                  <a:srgbClr val="ccccff"/>
                </a:solidFill>
                <a:latin typeface="Comic Sans MS"/>
              </a:rPr>
              <a:t>vs</a:t>
            </a:r>
            <a:r>
              <a:rPr b="0" lang="en-US" sz="2000" spc="-1" strike="noStrike">
                <a:solidFill>
                  <a:srgbClr val="ccccff"/>
                </a:solidFill>
                <a:latin typeface="Comic Sans MS"/>
              </a:rPr>
              <a:t>. sequelae of previous/chronic hyperstimulation</a:t>
            </a:r>
            <a:endParaRPr b="0" lang="en-US" sz="20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ehavioural changes</a:t>
            </a:r>
            <a:endParaRPr b="0" lang="en-US" sz="24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acial expressions</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ight and flight</a:t>
            </a:r>
            <a:endParaRPr b="0" lang="en-US" sz="20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C17374BA-36EC-42DA-8198-A7EF0AE9B065}" type="datetime1">
              <a:rPr lang="en-US"/>
              <a:t>07/30/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09" name="" descr=""/>
          <p:cNvPicPr/>
          <p:nvPr/>
        </p:nvPicPr>
        <p:blipFill>
          <a:blip r:embed="rId1"/>
          <a:stretch/>
        </p:blipFill>
        <p:spPr>
          <a:xfrm>
            <a:off x="0" y="0"/>
            <a:ext cx="9144000" cy="6858000"/>
          </a:xfrm>
          <a:prstGeom prst="rect">
            <a:avLst/>
          </a:prstGeom>
          <a:ln w="19080">
            <a:solidFill>
              <a:srgbClr val="000000"/>
            </a:solidFill>
            <a:miter/>
          </a:ln>
        </p:spPr>
      </p:pic>
      <p:sp>
        <p:nvSpPr>
          <p:cNvPr id="10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ff3300"/>
              </a:solidFill>
              <a:latin typeface="Comic Sans MS"/>
            </a:endParaRPr>
          </a:p>
        </p:txBody>
      </p:sp>
      <p:sp>
        <p:nvSpPr>
          <p:cNvPr id="1011" name=""/>
          <p:cNvSpPr/>
          <p:nvPr/>
        </p:nvSpPr>
        <p:spPr>
          <a:xfrm>
            <a:off x="547560" y="1630440"/>
            <a:ext cx="8124840" cy="4287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012" name="PlaceHolder 2"/>
          <p:cNvSpPr>
            <a:spLocks noGrp="1"/>
          </p:cNvSpPr>
          <p:nvPr>
            <p:ph/>
          </p:nvPr>
        </p:nvSpPr>
        <p:spPr>
          <a:xfrm>
            <a:off x="685800" y="1752480"/>
            <a:ext cx="7772400" cy="3391200"/>
          </a:xfrm>
          <a:prstGeom prst="rect">
            <a:avLst/>
          </a:prstGeom>
          <a:noFill/>
          <a:ln w="0">
            <a:noFill/>
          </a:ln>
        </p:spPr>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Unconditioned responses</a:t>
            </a:r>
            <a:endParaRPr b="1" lang="en-US" sz="2800" spc="-1" strike="noStrike">
              <a:solidFill>
                <a:srgbClr val="0066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orced exposure</a:t>
            </a:r>
            <a:endParaRPr b="1" lang="en-US" sz="2400" spc="-1" strike="noStrike">
              <a:solidFill>
                <a:srgbClr val="000066"/>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open field</a:t>
            </a:r>
            <a:endParaRPr b="1" lang="en-US" sz="2000" spc="-1" strike="noStrike">
              <a:solidFill>
                <a:srgbClr val="3366ff"/>
              </a:solidFill>
              <a:latin typeface="Comic Sans MS"/>
            </a:endParaRPr>
          </a:p>
        </p:txBody>
      </p:sp>
      <p:grpSp>
        <p:nvGrpSpPr>
          <p:cNvPr id="1013" name=""/>
          <p:cNvGrpSpPr/>
          <p:nvPr/>
        </p:nvGrpSpPr>
        <p:grpSpPr>
          <a:xfrm>
            <a:off x="7156080" y="6068880"/>
            <a:ext cx="1981080" cy="785160"/>
            <a:chOff x="7156080" y="6068880"/>
            <a:chExt cx="1981080" cy="785160"/>
          </a:xfrm>
        </p:grpSpPr>
        <p:sp>
          <p:nvSpPr>
            <p:cNvPr id="1014" name=""/>
            <p:cNvSpPr/>
            <p:nvPr/>
          </p:nvSpPr>
          <p:spPr>
            <a:xfrm flipH="1">
              <a:off x="721188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015" name=""/>
            <p:cNvSpPr/>
            <p:nvPr/>
          </p:nvSpPr>
          <p:spPr>
            <a:xfrm flipH="1" flipV="1">
              <a:off x="7228440" y="638712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016" name=""/>
            <p:cNvSpPr/>
            <p:nvPr/>
          </p:nvSpPr>
          <p:spPr>
            <a:xfrm flipH="1">
              <a:off x="715608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017" name=""/>
            <p:cNvSpPr/>
            <p:nvPr/>
          </p:nvSpPr>
          <p:spPr>
            <a:xfrm flipH="1">
              <a:off x="719100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18" name=""/>
            <p:cNvSpPr/>
            <p:nvPr/>
          </p:nvSpPr>
          <p:spPr>
            <a:xfrm flipH="1">
              <a:off x="721620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19" name=""/>
            <p:cNvSpPr/>
            <p:nvPr/>
          </p:nvSpPr>
          <p:spPr>
            <a:xfrm>
              <a:off x="728136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20" name=""/>
            <p:cNvSpPr/>
            <p:nvPr/>
          </p:nvSpPr>
          <p:spPr>
            <a:xfrm>
              <a:off x="7227360" y="661608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21" name=""/>
            <p:cNvSpPr/>
            <p:nvPr/>
          </p:nvSpPr>
          <p:spPr>
            <a:xfrm>
              <a:off x="7167600" y="670464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022" name=""/>
            <p:cNvSpPr/>
            <p:nvPr/>
          </p:nvSpPr>
          <p:spPr>
            <a:xfrm flipV="1">
              <a:off x="733428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023" name=""/>
            <p:cNvSpPr/>
            <p:nvPr/>
          </p:nvSpPr>
          <p:spPr>
            <a:xfrm>
              <a:off x="735228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24" name=""/>
            <p:cNvSpPr/>
            <p:nvPr/>
          </p:nvSpPr>
          <p:spPr>
            <a:xfrm>
              <a:off x="732996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025" name=""/>
            <p:cNvSpPr/>
            <p:nvPr/>
          </p:nvSpPr>
          <p:spPr>
            <a:xfrm flipH="1">
              <a:off x="727812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026" name=""/>
            <p:cNvSpPr/>
            <p:nvPr/>
          </p:nvSpPr>
          <p:spPr>
            <a:xfrm>
              <a:off x="732996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027" name=""/>
            <p:cNvSpPr/>
            <p:nvPr/>
          </p:nvSpPr>
          <p:spPr>
            <a:xfrm>
              <a:off x="733428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028" name=""/>
            <p:cNvSpPr/>
            <p:nvPr/>
          </p:nvSpPr>
          <p:spPr>
            <a:xfrm>
              <a:off x="7353720" y="663048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029" name=""/>
            <p:cNvSpPr/>
            <p:nvPr/>
          </p:nvSpPr>
          <p:spPr>
            <a:xfrm>
              <a:off x="7227360" y="619740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030" name=""/>
            <p:cNvSpPr/>
            <p:nvPr/>
          </p:nvSpPr>
          <p:spPr>
            <a:xfrm flipH="1">
              <a:off x="717552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031" name=""/>
            <p:cNvSpPr/>
            <p:nvPr/>
          </p:nvSpPr>
          <p:spPr>
            <a:xfrm flipH="1">
              <a:off x="7157520" y="647424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032" name=""/>
            <p:cNvSpPr/>
            <p:nvPr/>
          </p:nvSpPr>
          <p:spPr>
            <a:xfrm flipH="1">
              <a:off x="718812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033" name=""/>
            <p:cNvSpPr/>
            <p:nvPr/>
          </p:nvSpPr>
          <p:spPr>
            <a:xfrm>
              <a:off x="7184160" y="609012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034" name=""/>
            <p:cNvSpPr/>
            <p:nvPr/>
          </p:nvSpPr>
          <p:spPr>
            <a:xfrm>
              <a:off x="7266240" y="609012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035" name=""/>
            <p:cNvSpPr/>
            <p:nvPr/>
          </p:nvSpPr>
          <p:spPr>
            <a:xfrm>
              <a:off x="727452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036" name=""/>
            <p:cNvSpPr/>
            <p:nvPr/>
          </p:nvSpPr>
          <p:spPr>
            <a:xfrm flipH="1">
              <a:off x="726768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037" name=""/>
            <p:cNvSpPr/>
            <p:nvPr/>
          </p:nvSpPr>
          <p:spPr>
            <a:xfrm>
              <a:off x="7334280" y="657576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038" name=""/>
            <p:cNvSpPr/>
            <p:nvPr/>
          </p:nvSpPr>
          <p:spPr>
            <a:xfrm>
              <a:off x="732996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39" name=""/>
            <p:cNvSpPr/>
            <p:nvPr/>
          </p:nvSpPr>
          <p:spPr>
            <a:xfrm flipH="1">
              <a:off x="735336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040" name=""/>
            <p:cNvSpPr/>
            <p:nvPr/>
          </p:nvSpPr>
          <p:spPr>
            <a:xfrm flipH="1" flipV="1">
              <a:off x="7287120" y="661356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041" name=""/>
            <p:cNvSpPr/>
            <p:nvPr/>
          </p:nvSpPr>
          <p:spPr>
            <a:xfrm flipH="1">
              <a:off x="7378920" y="627588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042" name=""/>
            <p:cNvSpPr/>
            <p:nvPr/>
          </p:nvSpPr>
          <p:spPr>
            <a:xfrm>
              <a:off x="7252560" y="659268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043" name=""/>
            <p:cNvSpPr/>
            <p:nvPr/>
          </p:nvSpPr>
          <p:spPr>
            <a:xfrm flipH="1" flipV="1">
              <a:off x="728100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044" name=""/>
            <p:cNvSpPr/>
            <p:nvPr/>
          </p:nvSpPr>
          <p:spPr>
            <a:xfrm flipH="1">
              <a:off x="7417440" y="638568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045" name=""/>
            <p:cNvSpPr/>
            <p:nvPr/>
          </p:nvSpPr>
          <p:spPr>
            <a:xfrm>
              <a:off x="741492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46" name=""/>
            <p:cNvSpPr/>
            <p:nvPr/>
          </p:nvSpPr>
          <p:spPr>
            <a:xfrm>
              <a:off x="7417440" y="631404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047" name=""/>
            <p:cNvSpPr/>
            <p:nvPr/>
          </p:nvSpPr>
          <p:spPr>
            <a:xfrm>
              <a:off x="741492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48" name=""/>
            <p:cNvSpPr/>
            <p:nvPr/>
          </p:nvSpPr>
          <p:spPr>
            <a:xfrm flipH="1">
              <a:off x="748296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049" name=""/>
            <p:cNvSpPr/>
            <p:nvPr/>
          </p:nvSpPr>
          <p:spPr>
            <a:xfrm flipH="1" flipV="1">
              <a:off x="7498080" y="638712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050" name=""/>
            <p:cNvSpPr/>
            <p:nvPr/>
          </p:nvSpPr>
          <p:spPr>
            <a:xfrm flipH="1">
              <a:off x="742860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051" name=""/>
            <p:cNvSpPr/>
            <p:nvPr/>
          </p:nvSpPr>
          <p:spPr>
            <a:xfrm flipH="1">
              <a:off x="746208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52" name=""/>
            <p:cNvSpPr/>
            <p:nvPr/>
          </p:nvSpPr>
          <p:spPr>
            <a:xfrm flipH="1">
              <a:off x="7487280" y="650592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53" name=""/>
            <p:cNvSpPr/>
            <p:nvPr/>
          </p:nvSpPr>
          <p:spPr>
            <a:xfrm>
              <a:off x="7553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54" name=""/>
            <p:cNvSpPr/>
            <p:nvPr/>
          </p:nvSpPr>
          <p:spPr>
            <a:xfrm>
              <a:off x="7498440" y="66160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55" name=""/>
            <p:cNvSpPr/>
            <p:nvPr/>
          </p:nvSpPr>
          <p:spPr>
            <a:xfrm flipV="1">
              <a:off x="7444080" y="667044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056" name=""/>
            <p:cNvSpPr/>
            <p:nvPr/>
          </p:nvSpPr>
          <p:spPr>
            <a:xfrm flipV="1">
              <a:off x="7605360" y="644436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057" name=""/>
            <p:cNvSpPr/>
            <p:nvPr/>
          </p:nvSpPr>
          <p:spPr>
            <a:xfrm>
              <a:off x="7621920" y="647676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58" name=""/>
            <p:cNvSpPr/>
            <p:nvPr/>
          </p:nvSpPr>
          <p:spPr>
            <a:xfrm>
              <a:off x="7602840" y="634104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059" name=""/>
            <p:cNvSpPr/>
            <p:nvPr/>
          </p:nvSpPr>
          <p:spPr>
            <a:xfrm flipH="1">
              <a:off x="754920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060" name=""/>
            <p:cNvSpPr/>
            <p:nvPr/>
          </p:nvSpPr>
          <p:spPr>
            <a:xfrm>
              <a:off x="760284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061" name=""/>
            <p:cNvSpPr/>
            <p:nvPr/>
          </p:nvSpPr>
          <p:spPr>
            <a:xfrm>
              <a:off x="760680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062" name=""/>
            <p:cNvSpPr/>
            <p:nvPr/>
          </p:nvSpPr>
          <p:spPr>
            <a:xfrm>
              <a:off x="7627680" y="663048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063" name=""/>
            <p:cNvSpPr/>
            <p:nvPr/>
          </p:nvSpPr>
          <p:spPr>
            <a:xfrm>
              <a:off x="7498440" y="619740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064" name=""/>
            <p:cNvSpPr/>
            <p:nvPr/>
          </p:nvSpPr>
          <p:spPr>
            <a:xfrm flipH="1">
              <a:off x="7446960" y="62251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65" name=""/>
            <p:cNvSpPr/>
            <p:nvPr/>
          </p:nvSpPr>
          <p:spPr>
            <a:xfrm flipH="1">
              <a:off x="74300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066" name=""/>
            <p:cNvSpPr/>
            <p:nvPr/>
          </p:nvSpPr>
          <p:spPr>
            <a:xfrm flipH="1">
              <a:off x="745920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067" name=""/>
            <p:cNvSpPr/>
            <p:nvPr/>
          </p:nvSpPr>
          <p:spPr>
            <a:xfrm>
              <a:off x="7456680" y="60901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068" name=""/>
            <p:cNvSpPr/>
            <p:nvPr/>
          </p:nvSpPr>
          <p:spPr>
            <a:xfrm>
              <a:off x="75398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069" name=""/>
            <p:cNvSpPr/>
            <p:nvPr/>
          </p:nvSpPr>
          <p:spPr>
            <a:xfrm>
              <a:off x="7545600" y="639180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070" name=""/>
            <p:cNvSpPr/>
            <p:nvPr/>
          </p:nvSpPr>
          <p:spPr>
            <a:xfrm flipH="1">
              <a:off x="753876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071" name=""/>
            <p:cNvSpPr/>
            <p:nvPr/>
          </p:nvSpPr>
          <p:spPr>
            <a:xfrm>
              <a:off x="760680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072" name=""/>
            <p:cNvSpPr/>
            <p:nvPr/>
          </p:nvSpPr>
          <p:spPr>
            <a:xfrm>
              <a:off x="760284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73" name=""/>
            <p:cNvSpPr/>
            <p:nvPr/>
          </p:nvSpPr>
          <p:spPr>
            <a:xfrm flipH="1">
              <a:off x="762444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074" name=""/>
            <p:cNvSpPr/>
            <p:nvPr/>
          </p:nvSpPr>
          <p:spPr>
            <a:xfrm flipH="1" flipV="1">
              <a:off x="755964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075" name=""/>
            <p:cNvSpPr/>
            <p:nvPr/>
          </p:nvSpPr>
          <p:spPr>
            <a:xfrm flipH="1">
              <a:off x="7649640" y="627588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076" name=""/>
            <p:cNvSpPr/>
            <p:nvPr/>
          </p:nvSpPr>
          <p:spPr>
            <a:xfrm>
              <a:off x="7523280" y="659268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077" name=""/>
            <p:cNvSpPr/>
            <p:nvPr/>
          </p:nvSpPr>
          <p:spPr>
            <a:xfrm flipH="1" flipV="1">
              <a:off x="7556760" y="667656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1078" name=""/>
            <p:cNvSpPr/>
            <p:nvPr/>
          </p:nvSpPr>
          <p:spPr>
            <a:xfrm flipH="1">
              <a:off x="769104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079" name=""/>
            <p:cNvSpPr/>
            <p:nvPr/>
          </p:nvSpPr>
          <p:spPr>
            <a:xfrm>
              <a:off x="768600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80" name=""/>
            <p:cNvSpPr/>
            <p:nvPr/>
          </p:nvSpPr>
          <p:spPr>
            <a:xfrm>
              <a:off x="7690320" y="634356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081" name=""/>
            <p:cNvSpPr/>
            <p:nvPr/>
          </p:nvSpPr>
          <p:spPr>
            <a:xfrm>
              <a:off x="768600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82" name=""/>
            <p:cNvSpPr/>
            <p:nvPr/>
          </p:nvSpPr>
          <p:spPr>
            <a:xfrm flipH="1">
              <a:off x="77763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083" name=""/>
            <p:cNvSpPr/>
            <p:nvPr/>
          </p:nvSpPr>
          <p:spPr>
            <a:xfrm flipH="1" flipV="1">
              <a:off x="7791120" y="638712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084" name=""/>
            <p:cNvSpPr/>
            <p:nvPr/>
          </p:nvSpPr>
          <p:spPr>
            <a:xfrm flipH="1">
              <a:off x="771912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085" name=""/>
            <p:cNvSpPr/>
            <p:nvPr/>
          </p:nvSpPr>
          <p:spPr>
            <a:xfrm flipH="1" flipV="1">
              <a:off x="7719120" y="641304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086" name=""/>
            <p:cNvSpPr/>
            <p:nvPr/>
          </p:nvSpPr>
          <p:spPr>
            <a:xfrm flipH="1">
              <a:off x="778032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87" name=""/>
            <p:cNvSpPr/>
            <p:nvPr/>
          </p:nvSpPr>
          <p:spPr>
            <a:xfrm>
              <a:off x="78472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88" name=""/>
            <p:cNvSpPr/>
            <p:nvPr/>
          </p:nvSpPr>
          <p:spPr>
            <a:xfrm>
              <a:off x="7791480" y="661608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89" name=""/>
            <p:cNvSpPr/>
            <p:nvPr/>
          </p:nvSpPr>
          <p:spPr>
            <a:xfrm>
              <a:off x="7736040" y="668988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090" name=""/>
            <p:cNvSpPr/>
            <p:nvPr/>
          </p:nvSpPr>
          <p:spPr>
            <a:xfrm flipV="1">
              <a:off x="789876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091" name=""/>
            <p:cNvSpPr/>
            <p:nvPr/>
          </p:nvSpPr>
          <p:spPr>
            <a:xfrm>
              <a:off x="791532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92" name=""/>
            <p:cNvSpPr/>
            <p:nvPr/>
          </p:nvSpPr>
          <p:spPr>
            <a:xfrm>
              <a:off x="789300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093" name=""/>
            <p:cNvSpPr/>
            <p:nvPr/>
          </p:nvSpPr>
          <p:spPr>
            <a:xfrm flipH="1">
              <a:off x="784332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094" name=""/>
            <p:cNvSpPr/>
            <p:nvPr/>
          </p:nvSpPr>
          <p:spPr>
            <a:xfrm>
              <a:off x="789300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095" name=""/>
            <p:cNvSpPr/>
            <p:nvPr/>
          </p:nvSpPr>
          <p:spPr>
            <a:xfrm>
              <a:off x="7899840" y="620172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096" name=""/>
            <p:cNvSpPr/>
            <p:nvPr/>
          </p:nvSpPr>
          <p:spPr>
            <a:xfrm>
              <a:off x="7919640" y="663048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097" name=""/>
            <p:cNvSpPr/>
            <p:nvPr/>
          </p:nvSpPr>
          <p:spPr>
            <a:xfrm>
              <a:off x="7791480" y="619740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098" name=""/>
            <p:cNvSpPr/>
            <p:nvPr/>
          </p:nvSpPr>
          <p:spPr>
            <a:xfrm flipH="1">
              <a:off x="7738920" y="62550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099" name=""/>
            <p:cNvSpPr/>
            <p:nvPr/>
          </p:nvSpPr>
          <p:spPr>
            <a:xfrm flipH="1">
              <a:off x="77216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100" name=""/>
            <p:cNvSpPr/>
            <p:nvPr/>
          </p:nvSpPr>
          <p:spPr>
            <a:xfrm flipH="1">
              <a:off x="7751160" y="652500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01" name=""/>
            <p:cNvSpPr/>
            <p:nvPr/>
          </p:nvSpPr>
          <p:spPr>
            <a:xfrm>
              <a:off x="7747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102" name=""/>
            <p:cNvSpPr/>
            <p:nvPr/>
          </p:nvSpPr>
          <p:spPr>
            <a:xfrm>
              <a:off x="783180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103" name=""/>
            <p:cNvSpPr/>
            <p:nvPr/>
          </p:nvSpPr>
          <p:spPr>
            <a:xfrm>
              <a:off x="7840440" y="639180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104" name=""/>
            <p:cNvSpPr/>
            <p:nvPr/>
          </p:nvSpPr>
          <p:spPr>
            <a:xfrm flipH="1">
              <a:off x="7831440" y="651888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105" name=""/>
            <p:cNvSpPr/>
            <p:nvPr/>
          </p:nvSpPr>
          <p:spPr>
            <a:xfrm>
              <a:off x="789876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106" name=""/>
            <p:cNvSpPr/>
            <p:nvPr/>
          </p:nvSpPr>
          <p:spPr>
            <a:xfrm>
              <a:off x="789300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07" name=""/>
            <p:cNvSpPr/>
            <p:nvPr/>
          </p:nvSpPr>
          <p:spPr>
            <a:xfrm flipH="1">
              <a:off x="7916400" y="612360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108" name=""/>
            <p:cNvSpPr/>
            <p:nvPr/>
          </p:nvSpPr>
          <p:spPr>
            <a:xfrm flipH="1" flipV="1">
              <a:off x="7851240" y="661356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109" name=""/>
            <p:cNvSpPr/>
            <p:nvPr/>
          </p:nvSpPr>
          <p:spPr>
            <a:xfrm flipH="1">
              <a:off x="7941600" y="627588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110" name=""/>
            <p:cNvSpPr/>
            <p:nvPr/>
          </p:nvSpPr>
          <p:spPr>
            <a:xfrm>
              <a:off x="7815240" y="659268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111" name=""/>
            <p:cNvSpPr/>
            <p:nvPr/>
          </p:nvSpPr>
          <p:spPr>
            <a:xfrm flipH="1" flipV="1">
              <a:off x="7846920" y="669168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112" name=""/>
            <p:cNvSpPr/>
            <p:nvPr/>
          </p:nvSpPr>
          <p:spPr>
            <a:xfrm flipH="1">
              <a:off x="798192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13" name=""/>
            <p:cNvSpPr/>
            <p:nvPr/>
          </p:nvSpPr>
          <p:spPr>
            <a:xfrm>
              <a:off x="797796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14" name=""/>
            <p:cNvSpPr/>
            <p:nvPr/>
          </p:nvSpPr>
          <p:spPr>
            <a:xfrm>
              <a:off x="7983360" y="6314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15" name=""/>
            <p:cNvSpPr/>
            <p:nvPr/>
          </p:nvSpPr>
          <p:spPr>
            <a:xfrm>
              <a:off x="797796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16" name=""/>
            <p:cNvSpPr/>
            <p:nvPr/>
          </p:nvSpPr>
          <p:spPr>
            <a:xfrm flipH="1">
              <a:off x="7704000" y="666864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117" name=""/>
            <p:cNvSpPr/>
            <p:nvPr/>
          </p:nvSpPr>
          <p:spPr>
            <a:xfrm flipH="1">
              <a:off x="808920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118" name=""/>
            <p:cNvSpPr/>
            <p:nvPr/>
          </p:nvSpPr>
          <p:spPr>
            <a:xfrm flipH="1" flipV="1">
              <a:off x="8105400" y="641304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119" name=""/>
            <p:cNvSpPr/>
            <p:nvPr/>
          </p:nvSpPr>
          <p:spPr>
            <a:xfrm flipH="1">
              <a:off x="8033400" y="620172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120" name=""/>
            <p:cNvSpPr/>
            <p:nvPr/>
          </p:nvSpPr>
          <p:spPr>
            <a:xfrm flipH="1">
              <a:off x="806832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21" name=""/>
            <p:cNvSpPr/>
            <p:nvPr/>
          </p:nvSpPr>
          <p:spPr>
            <a:xfrm flipH="1">
              <a:off x="8092080" y="653112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22" name=""/>
            <p:cNvSpPr/>
            <p:nvPr/>
          </p:nvSpPr>
          <p:spPr>
            <a:xfrm>
              <a:off x="81601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123" name=""/>
            <p:cNvSpPr/>
            <p:nvPr/>
          </p:nvSpPr>
          <p:spPr>
            <a:xfrm>
              <a:off x="810288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24" name=""/>
            <p:cNvSpPr/>
            <p:nvPr/>
          </p:nvSpPr>
          <p:spPr>
            <a:xfrm>
              <a:off x="8044560" y="673200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125" name=""/>
            <p:cNvSpPr/>
            <p:nvPr/>
          </p:nvSpPr>
          <p:spPr>
            <a:xfrm>
              <a:off x="8211600" y="64828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26" name=""/>
            <p:cNvSpPr/>
            <p:nvPr/>
          </p:nvSpPr>
          <p:spPr>
            <a:xfrm>
              <a:off x="8229600" y="65059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27" name=""/>
            <p:cNvSpPr/>
            <p:nvPr/>
          </p:nvSpPr>
          <p:spPr>
            <a:xfrm>
              <a:off x="8206200" y="636660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28" name=""/>
            <p:cNvSpPr/>
            <p:nvPr/>
          </p:nvSpPr>
          <p:spPr>
            <a:xfrm flipH="1">
              <a:off x="815544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29" name=""/>
            <p:cNvSpPr/>
            <p:nvPr/>
          </p:nvSpPr>
          <p:spPr>
            <a:xfrm>
              <a:off x="8165880" y="61070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30" name=""/>
            <p:cNvSpPr/>
            <p:nvPr/>
          </p:nvSpPr>
          <p:spPr>
            <a:xfrm>
              <a:off x="821304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131" name=""/>
            <p:cNvSpPr/>
            <p:nvPr/>
          </p:nvSpPr>
          <p:spPr>
            <a:xfrm>
              <a:off x="8233920" y="665388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132" name=""/>
            <p:cNvSpPr/>
            <p:nvPr/>
          </p:nvSpPr>
          <p:spPr>
            <a:xfrm>
              <a:off x="810288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33" name=""/>
            <p:cNvSpPr/>
            <p:nvPr/>
          </p:nvSpPr>
          <p:spPr>
            <a:xfrm flipH="1">
              <a:off x="8054280" y="628236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134" name=""/>
            <p:cNvSpPr/>
            <p:nvPr/>
          </p:nvSpPr>
          <p:spPr>
            <a:xfrm flipH="1">
              <a:off x="803628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135" name=""/>
            <p:cNvSpPr/>
            <p:nvPr/>
          </p:nvSpPr>
          <p:spPr>
            <a:xfrm flipH="1">
              <a:off x="8066880" y="655488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136" name=""/>
            <p:cNvSpPr/>
            <p:nvPr/>
          </p:nvSpPr>
          <p:spPr>
            <a:xfrm>
              <a:off x="8060040" y="611568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137" name=""/>
            <p:cNvSpPr/>
            <p:nvPr/>
          </p:nvSpPr>
          <p:spPr>
            <a:xfrm>
              <a:off x="8125560" y="609012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138" name=""/>
            <p:cNvSpPr/>
            <p:nvPr/>
          </p:nvSpPr>
          <p:spPr>
            <a:xfrm>
              <a:off x="815328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139" name=""/>
            <p:cNvSpPr/>
            <p:nvPr/>
          </p:nvSpPr>
          <p:spPr>
            <a:xfrm flipH="1">
              <a:off x="8146080" y="654624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140" name=""/>
            <p:cNvSpPr/>
            <p:nvPr/>
          </p:nvSpPr>
          <p:spPr>
            <a:xfrm>
              <a:off x="8211600" y="660312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141" name=""/>
            <p:cNvSpPr/>
            <p:nvPr/>
          </p:nvSpPr>
          <p:spPr>
            <a:xfrm>
              <a:off x="8206200" y="625500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142" name=""/>
            <p:cNvSpPr/>
            <p:nvPr/>
          </p:nvSpPr>
          <p:spPr>
            <a:xfrm flipH="1">
              <a:off x="8271360" y="609660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143" name=""/>
            <p:cNvSpPr/>
            <p:nvPr/>
          </p:nvSpPr>
          <p:spPr>
            <a:xfrm flipH="1" flipV="1">
              <a:off x="816696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144" name=""/>
            <p:cNvSpPr/>
            <p:nvPr/>
          </p:nvSpPr>
          <p:spPr>
            <a:xfrm flipH="1">
              <a:off x="825444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45" name=""/>
            <p:cNvSpPr/>
            <p:nvPr/>
          </p:nvSpPr>
          <p:spPr>
            <a:xfrm>
              <a:off x="8128080" y="662220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46" name=""/>
            <p:cNvSpPr/>
            <p:nvPr/>
          </p:nvSpPr>
          <p:spPr>
            <a:xfrm flipH="1">
              <a:off x="8296200" y="641304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147" name=""/>
            <p:cNvSpPr/>
            <p:nvPr/>
          </p:nvSpPr>
          <p:spPr>
            <a:xfrm>
              <a:off x="8292240" y="622728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48" name=""/>
            <p:cNvSpPr/>
            <p:nvPr/>
          </p:nvSpPr>
          <p:spPr>
            <a:xfrm>
              <a:off x="8296200" y="63435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49" name=""/>
            <p:cNvSpPr/>
            <p:nvPr/>
          </p:nvSpPr>
          <p:spPr>
            <a:xfrm>
              <a:off x="8292240" y="65311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50" name=""/>
            <p:cNvSpPr/>
            <p:nvPr/>
          </p:nvSpPr>
          <p:spPr>
            <a:xfrm flipH="1">
              <a:off x="836028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151" name=""/>
            <p:cNvSpPr/>
            <p:nvPr/>
          </p:nvSpPr>
          <p:spPr>
            <a:xfrm flipH="1" flipV="1">
              <a:off x="837684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152" name=""/>
            <p:cNvSpPr/>
            <p:nvPr/>
          </p:nvSpPr>
          <p:spPr>
            <a:xfrm flipH="1">
              <a:off x="8305560" y="620172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153" name=""/>
            <p:cNvSpPr/>
            <p:nvPr/>
          </p:nvSpPr>
          <p:spPr>
            <a:xfrm flipH="1">
              <a:off x="833940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54" name=""/>
            <p:cNvSpPr/>
            <p:nvPr/>
          </p:nvSpPr>
          <p:spPr>
            <a:xfrm flipH="1">
              <a:off x="836388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55" name=""/>
            <p:cNvSpPr/>
            <p:nvPr/>
          </p:nvSpPr>
          <p:spPr>
            <a:xfrm>
              <a:off x="84312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156" name=""/>
            <p:cNvSpPr/>
            <p:nvPr/>
          </p:nvSpPr>
          <p:spPr>
            <a:xfrm>
              <a:off x="8375760" y="66434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57" name=""/>
            <p:cNvSpPr/>
            <p:nvPr/>
          </p:nvSpPr>
          <p:spPr>
            <a:xfrm flipV="1">
              <a:off x="8322840" y="669852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158" name=""/>
            <p:cNvSpPr/>
            <p:nvPr/>
          </p:nvSpPr>
          <p:spPr>
            <a:xfrm>
              <a:off x="848412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59" name=""/>
            <p:cNvSpPr/>
            <p:nvPr/>
          </p:nvSpPr>
          <p:spPr>
            <a:xfrm>
              <a:off x="850068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60" name=""/>
            <p:cNvSpPr/>
            <p:nvPr/>
          </p:nvSpPr>
          <p:spPr>
            <a:xfrm>
              <a:off x="8478360" y="63666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61" name=""/>
            <p:cNvSpPr/>
            <p:nvPr/>
          </p:nvSpPr>
          <p:spPr>
            <a:xfrm flipH="1">
              <a:off x="8429760" y="63097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62" name=""/>
            <p:cNvSpPr/>
            <p:nvPr/>
          </p:nvSpPr>
          <p:spPr>
            <a:xfrm>
              <a:off x="8396640" y="608148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63" name=""/>
            <p:cNvSpPr/>
            <p:nvPr/>
          </p:nvSpPr>
          <p:spPr>
            <a:xfrm>
              <a:off x="848412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164" name=""/>
            <p:cNvSpPr/>
            <p:nvPr/>
          </p:nvSpPr>
          <p:spPr>
            <a:xfrm>
              <a:off x="85035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165" name=""/>
            <p:cNvSpPr/>
            <p:nvPr/>
          </p:nvSpPr>
          <p:spPr>
            <a:xfrm>
              <a:off x="837576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66" name=""/>
            <p:cNvSpPr/>
            <p:nvPr/>
          </p:nvSpPr>
          <p:spPr>
            <a:xfrm flipH="1">
              <a:off x="8323560" y="62550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167" name=""/>
            <p:cNvSpPr/>
            <p:nvPr/>
          </p:nvSpPr>
          <p:spPr>
            <a:xfrm flipH="1">
              <a:off x="8307360" y="650160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168" name=""/>
            <p:cNvSpPr/>
            <p:nvPr/>
          </p:nvSpPr>
          <p:spPr>
            <a:xfrm flipH="1">
              <a:off x="8336520" y="655488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169" name=""/>
            <p:cNvSpPr/>
            <p:nvPr/>
          </p:nvSpPr>
          <p:spPr>
            <a:xfrm>
              <a:off x="8353440" y="611568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170" name=""/>
            <p:cNvSpPr/>
            <p:nvPr/>
          </p:nvSpPr>
          <p:spPr>
            <a:xfrm>
              <a:off x="84157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171" name=""/>
            <p:cNvSpPr/>
            <p:nvPr/>
          </p:nvSpPr>
          <p:spPr>
            <a:xfrm>
              <a:off x="842436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172" name=""/>
            <p:cNvSpPr/>
            <p:nvPr/>
          </p:nvSpPr>
          <p:spPr>
            <a:xfrm flipH="1">
              <a:off x="8417160" y="654624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173" name=""/>
            <p:cNvSpPr/>
            <p:nvPr/>
          </p:nvSpPr>
          <p:spPr>
            <a:xfrm>
              <a:off x="8484120" y="660312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174" name=""/>
            <p:cNvSpPr/>
            <p:nvPr/>
          </p:nvSpPr>
          <p:spPr>
            <a:xfrm>
              <a:off x="8478360" y="625500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175" name=""/>
            <p:cNvSpPr/>
            <p:nvPr/>
          </p:nvSpPr>
          <p:spPr>
            <a:xfrm flipH="1">
              <a:off x="8504640" y="609660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176" name=""/>
            <p:cNvSpPr/>
            <p:nvPr/>
          </p:nvSpPr>
          <p:spPr>
            <a:xfrm flipH="1" flipV="1">
              <a:off x="8436960" y="664128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177" name=""/>
            <p:cNvSpPr/>
            <p:nvPr/>
          </p:nvSpPr>
          <p:spPr>
            <a:xfrm flipH="1">
              <a:off x="852552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78" name=""/>
            <p:cNvSpPr/>
            <p:nvPr/>
          </p:nvSpPr>
          <p:spPr>
            <a:xfrm>
              <a:off x="8400600" y="662220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79" name=""/>
            <p:cNvSpPr/>
            <p:nvPr/>
          </p:nvSpPr>
          <p:spPr>
            <a:xfrm flipH="1" flipV="1">
              <a:off x="8433720" y="670896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180" name=""/>
            <p:cNvSpPr/>
            <p:nvPr/>
          </p:nvSpPr>
          <p:spPr>
            <a:xfrm flipH="1">
              <a:off x="856692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181" name=""/>
            <p:cNvSpPr/>
            <p:nvPr/>
          </p:nvSpPr>
          <p:spPr>
            <a:xfrm>
              <a:off x="8563320" y="61700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82" name=""/>
            <p:cNvSpPr/>
            <p:nvPr/>
          </p:nvSpPr>
          <p:spPr>
            <a:xfrm>
              <a:off x="8567280" y="63709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83" name=""/>
            <p:cNvSpPr/>
            <p:nvPr/>
          </p:nvSpPr>
          <p:spPr>
            <a:xfrm>
              <a:off x="8563320" y="653112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84" name=""/>
            <p:cNvSpPr/>
            <p:nvPr/>
          </p:nvSpPr>
          <p:spPr>
            <a:xfrm flipH="1">
              <a:off x="8651880" y="634356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185" name=""/>
            <p:cNvSpPr/>
            <p:nvPr/>
          </p:nvSpPr>
          <p:spPr>
            <a:xfrm flipH="1" flipV="1">
              <a:off x="866880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186" name=""/>
            <p:cNvSpPr/>
            <p:nvPr/>
          </p:nvSpPr>
          <p:spPr>
            <a:xfrm flipH="1">
              <a:off x="859644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187" name=""/>
            <p:cNvSpPr/>
            <p:nvPr/>
          </p:nvSpPr>
          <p:spPr>
            <a:xfrm flipH="1" flipV="1">
              <a:off x="8596440" y="644256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188" name=""/>
            <p:cNvSpPr/>
            <p:nvPr/>
          </p:nvSpPr>
          <p:spPr>
            <a:xfrm flipH="1">
              <a:off x="865584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89" name=""/>
            <p:cNvSpPr/>
            <p:nvPr/>
          </p:nvSpPr>
          <p:spPr>
            <a:xfrm>
              <a:off x="872316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190" name=""/>
            <p:cNvSpPr/>
            <p:nvPr/>
          </p:nvSpPr>
          <p:spPr>
            <a:xfrm>
              <a:off x="866772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91" name=""/>
            <p:cNvSpPr/>
            <p:nvPr/>
          </p:nvSpPr>
          <p:spPr>
            <a:xfrm>
              <a:off x="8613360" y="671688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192" name=""/>
            <p:cNvSpPr/>
            <p:nvPr/>
          </p:nvSpPr>
          <p:spPr>
            <a:xfrm>
              <a:off x="877608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93" name=""/>
            <p:cNvSpPr/>
            <p:nvPr/>
          </p:nvSpPr>
          <p:spPr>
            <a:xfrm>
              <a:off x="879264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94" name=""/>
            <p:cNvSpPr/>
            <p:nvPr/>
          </p:nvSpPr>
          <p:spPr>
            <a:xfrm>
              <a:off x="8771760" y="63666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95" name=""/>
            <p:cNvSpPr/>
            <p:nvPr/>
          </p:nvSpPr>
          <p:spPr>
            <a:xfrm flipH="1">
              <a:off x="871992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96" name=""/>
            <p:cNvSpPr/>
            <p:nvPr/>
          </p:nvSpPr>
          <p:spPr>
            <a:xfrm>
              <a:off x="8668800" y="607536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1197" name=""/>
            <p:cNvSpPr/>
            <p:nvPr/>
          </p:nvSpPr>
          <p:spPr>
            <a:xfrm>
              <a:off x="8778600" y="622944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198" name=""/>
            <p:cNvSpPr/>
            <p:nvPr/>
          </p:nvSpPr>
          <p:spPr>
            <a:xfrm>
              <a:off x="87951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199" name=""/>
            <p:cNvSpPr/>
            <p:nvPr/>
          </p:nvSpPr>
          <p:spPr>
            <a:xfrm>
              <a:off x="866772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00" name=""/>
            <p:cNvSpPr/>
            <p:nvPr/>
          </p:nvSpPr>
          <p:spPr>
            <a:xfrm flipH="1">
              <a:off x="861768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201" name=""/>
            <p:cNvSpPr/>
            <p:nvPr/>
          </p:nvSpPr>
          <p:spPr>
            <a:xfrm flipH="1">
              <a:off x="859932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202" name=""/>
            <p:cNvSpPr/>
            <p:nvPr/>
          </p:nvSpPr>
          <p:spPr>
            <a:xfrm flipH="1">
              <a:off x="862992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203" name=""/>
            <p:cNvSpPr/>
            <p:nvPr/>
          </p:nvSpPr>
          <p:spPr>
            <a:xfrm>
              <a:off x="8584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204" name=""/>
            <p:cNvSpPr/>
            <p:nvPr/>
          </p:nvSpPr>
          <p:spPr>
            <a:xfrm>
              <a:off x="87091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205" name=""/>
            <p:cNvSpPr/>
            <p:nvPr/>
          </p:nvSpPr>
          <p:spPr>
            <a:xfrm>
              <a:off x="871632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206" name=""/>
            <p:cNvSpPr/>
            <p:nvPr/>
          </p:nvSpPr>
          <p:spPr>
            <a:xfrm flipH="1">
              <a:off x="8709120" y="654624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207" name=""/>
            <p:cNvSpPr/>
            <p:nvPr/>
          </p:nvSpPr>
          <p:spPr>
            <a:xfrm>
              <a:off x="8778600" y="660312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208" name=""/>
            <p:cNvSpPr/>
            <p:nvPr/>
          </p:nvSpPr>
          <p:spPr>
            <a:xfrm>
              <a:off x="8771760" y="625500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209" name=""/>
            <p:cNvSpPr/>
            <p:nvPr/>
          </p:nvSpPr>
          <p:spPr>
            <a:xfrm flipH="1">
              <a:off x="8732520" y="609660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210" name=""/>
            <p:cNvSpPr/>
            <p:nvPr/>
          </p:nvSpPr>
          <p:spPr>
            <a:xfrm flipH="1" flipV="1">
              <a:off x="873000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211" name=""/>
            <p:cNvSpPr/>
            <p:nvPr/>
          </p:nvSpPr>
          <p:spPr>
            <a:xfrm flipH="1">
              <a:off x="881748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212" name=""/>
            <p:cNvSpPr/>
            <p:nvPr/>
          </p:nvSpPr>
          <p:spPr>
            <a:xfrm>
              <a:off x="8693640" y="662220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13" name=""/>
            <p:cNvSpPr/>
            <p:nvPr/>
          </p:nvSpPr>
          <p:spPr>
            <a:xfrm flipH="1" flipV="1">
              <a:off x="8721720" y="672084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1214" name=""/>
            <p:cNvSpPr/>
            <p:nvPr/>
          </p:nvSpPr>
          <p:spPr>
            <a:xfrm flipH="1">
              <a:off x="885888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215" name=""/>
            <p:cNvSpPr/>
            <p:nvPr/>
          </p:nvSpPr>
          <p:spPr>
            <a:xfrm>
              <a:off x="8813520" y="614484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16" name=""/>
            <p:cNvSpPr/>
            <p:nvPr/>
          </p:nvSpPr>
          <p:spPr>
            <a:xfrm>
              <a:off x="8817840" y="6121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17" name=""/>
            <p:cNvSpPr/>
            <p:nvPr/>
          </p:nvSpPr>
          <p:spPr>
            <a:xfrm>
              <a:off x="8853840" y="65311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18" name=""/>
            <p:cNvSpPr/>
            <p:nvPr/>
          </p:nvSpPr>
          <p:spPr>
            <a:xfrm flipH="1">
              <a:off x="8579520" y="663912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1219" name=""/>
            <p:cNvSpPr/>
            <p:nvPr/>
          </p:nvSpPr>
          <p:spPr>
            <a:xfrm>
              <a:off x="8019720" y="61621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20" name=""/>
            <p:cNvSpPr/>
            <p:nvPr/>
          </p:nvSpPr>
          <p:spPr>
            <a:xfrm>
              <a:off x="8250480" y="61894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21" name=""/>
            <p:cNvSpPr/>
            <p:nvPr/>
          </p:nvSpPr>
          <p:spPr>
            <a:xfrm flipV="1">
              <a:off x="8004240" y="666000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22" name=""/>
            <p:cNvSpPr/>
            <p:nvPr/>
          </p:nvSpPr>
          <p:spPr>
            <a:xfrm>
              <a:off x="8210160" y="606888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223" name=""/>
            <p:cNvSpPr/>
            <p:nvPr/>
          </p:nvSpPr>
          <p:spPr>
            <a:xfrm>
              <a:off x="7997400" y="663480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24" name=""/>
            <p:cNvSpPr/>
            <p:nvPr/>
          </p:nvSpPr>
          <p:spPr>
            <a:xfrm>
              <a:off x="8563320" y="630144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25" name=""/>
            <p:cNvSpPr/>
            <p:nvPr/>
          </p:nvSpPr>
          <p:spPr>
            <a:xfrm flipV="1">
              <a:off x="8853840" y="622728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1226" name=""/>
            <p:cNvSpPr/>
            <p:nvPr/>
          </p:nvSpPr>
          <p:spPr>
            <a:xfrm flipH="1">
              <a:off x="8010720" y="644688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1227" name=""/>
            <p:cNvSpPr/>
            <p:nvPr/>
          </p:nvSpPr>
          <p:spPr>
            <a:xfrm flipH="1">
              <a:off x="8807760" y="639000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1228" name=""/>
            <p:cNvSpPr/>
            <p:nvPr/>
          </p:nvSpPr>
          <p:spPr>
            <a:xfrm flipH="1">
              <a:off x="7993080" y="608364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229" name=""/>
            <p:cNvSpPr/>
            <p:nvPr/>
          </p:nvSpPr>
          <p:spPr>
            <a:xfrm flipH="1">
              <a:off x="8180640" y="614052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230" name=""/>
            <p:cNvSpPr/>
            <p:nvPr/>
          </p:nvSpPr>
          <p:spPr>
            <a:xfrm flipH="1">
              <a:off x="89247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231" name=""/>
            <p:cNvSpPr/>
            <p:nvPr/>
          </p:nvSpPr>
          <p:spPr>
            <a:xfrm flipH="1" flipV="1">
              <a:off x="8942760" y="638712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232" name=""/>
            <p:cNvSpPr/>
            <p:nvPr/>
          </p:nvSpPr>
          <p:spPr>
            <a:xfrm flipH="1">
              <a:off x="8905320" y="636048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233" name=""/>
            <p:cNvSpPr/>
            <p:nvPr/>
          </p:nvSpPr>
          <p:spPr>
            <a:xfrm flipH="1">
              <a:off x="8927280" y="650592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34" name=""/>
            <p:cNvSpPr/>
            <p:nvPr/>
          </p:nvSpPr>
          <p:spPr>
            <a:xfrm>
              <a:off x="8995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235" name=""/>
            <p:cNvSpPr/>
            <p:nvPr/>
          </p:nvSpPr>
          <p:spPr>
            <a:xfrm>
              <a:off x="8896680" y="66747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236" name=""/>
            <p:cNvSpPr/>
            <p:nvPr/>
          </p:nvSpPr>
          <p:spPr>
            <a:xfrm flipV="1">
              <a:off x="9048600" y="644436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237" name=""/>
            <p:cNvSpPr/>
            <p:nvPr/>
          </p:nvSpPr>
          <p:spPr>
            <a:xfrm>
              <a:off x="9062280" y="64767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38" name=""/>
            <p:cNvSpPr/>
            <p:nvPr/>
          </p:nvSpPr>
          <p:spPr>
            <a:xfrm>
              <a:off x="9044280" y="634104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239" name=""/>
            <p:cNvSpPr/>
            <p:nvPr/>
          </p:nvSpPr>
          <p:spPr>
            <a:xfrm flipH="1">
              <a:off x="8992440" y="628236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240" name=""/>
            <p:cNvSpPr/>
            <p:nvPr/>
          </p:nvSpPr>
          <p:spPr>
            <a:xfrm>
              <a:off x="904428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41" name=""/>
            <p:cNvSpPr/>
            <p:nvPr/>
          </p:nvSpPr>
          <p:spPr>
            <a:xfrm>
              <a:off x="9049680" y="620172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242" name=""/>
            <p:cNvSpPr/>
            <p:nvPr/>
          </p:nvSpPr>
          <p:spPr>
            <a:xfrm>
              <a:off x="8938440" y="619740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243" name=""/>
            <p:cNvSpPr/>
            <p:nvPr/>
          </p:nvSpPr>
          <p:spPr>
            <a:xfrm flipH="1">
              <a:off x="888840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244" name=""/>
            <p:cNvSpPr/>
            <p:nvPr/>
          </p:nvSpPr>
          <p:spPr>
            <a:xfrm flipH="1">
              <a:off x="8901000" y="652500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245" name=""/>
            <p:cNvSpPr/>
            <p:nvPr/>
          </p:nvSpPr>
          <p:spPr>
            <a:xfrm>
              <a:off x="889668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246" name=""/>
            <p:cNvSpPr/>
            <p:nvPr/>
          </p:nvSpPr>
          <p:spPr>
            <a:xfrm>
              <a:off x="89816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247" name=""/>
            <p:cNvSpPr/>
            <p:nvPr/>
          </p:nvSpPr>
          <p:spPr>
            <a:xfrm>
              <a:off x="898740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248" name=""/>
            <p:cNvSpPr/>
            <p:nvPr/>
          </p:nvSpPr>
          <p:spPr>
            <a:xfrm flipH="1">
              <a:off x="8980200" y="651888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249" name=""/>
            <p:cNvSpPr/>
            <p:nvPr/>
          </p:nvSpPr>
          <p:spPr>
            <a:xfrm>
              <a:off x="9048600" y="657576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250" name=""/>
            <p:cNvSpPr/>
            <p:nvPr/>
          </p:nvSpPr>
          <p:spPr>
            <a:xfrm>
              <a:off x="904428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51" name=""/>
            <p:cNvSpPr/>
            <p:nvPr/>
          </p:nvSpPr>
          <p:spPr>
            <a:xfrm flipH="1">
              <a:off x="9065160" y="612360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252" name=""/>
            <p:cNvSpPr/>
            <p:nvPr/>
          </p:nvSpPr>
          <p:spPr>
            <a:xfrm flipH="1" flipV="1">
              <a:off x="900108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253" name=""/>
            <p:cNvSpPr/>
            <p:nvPr/>
          </p:nvSpPr>
          <p:spPr>
            <a:xfrm flipH="1">
              <a:off x="9090000" y="627588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254" name=""/>
            <p:cNvSpPr/>
            <p:nvPr/>
          </p:nvSpPr>
          <p:spPr>
            <a:xfrm>
              <a:off x="8966520" y="659268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255" name=""/>
            <p:cNvSpPr/>
            <p:nvPr/>
          </p:nvSpPr>
          <p:spPr>
            <a:xfrm flipH="1" flipV="1">
              <a:off x="899388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256" name=""/>
            <p:cNvSpPr/>
            <p:nvPr/>
          </p:nvSpPr>
          <p:spPr>
            <a:xfrm>
              <a:off x="8951040" y="663480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257" name=""/>
            <p:cNvSpPr/>
            <p:nvPr/>
          </p:nvSpPr>
          <p:spPr>
            <a:xfrm>
              <a:off x="735228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58" name=""/>
            <p:cNvSpPr/>
            <p:nvPr/>
          </p:nvSpPr>
          <p:spPr>
            <a:xfrm>
              <a:off x="7203600" y="675540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259" name=""/>
            <p:cNvSpPr/>
            <p:nvPr/>
          </p:nvSpPr>
          <p:spPr>
            <a:xfrm>
              <a:off x="728712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60" name=""/>
            <p:cNvSpPr/>
            <p:nvPr/>
          </p:nvSpPr>
          <p:spPr>
            <a:xfrm flipH="1">
              <a:off x="737424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261" name=""/>
            <p:cNvSpPr/>
            <p:nvPr/>
          </p:nvSpPr>
          <p:spPr>
            <a:xfrm>
              <a:off x="7621920" y="6776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62" name=""/>
            <p:cNvSpPr/>
            <p:nvPr/>
          </p:nvSpPr>
          <p:spPr>
            <a:xfrm>
              <a:off x="7474680" y="675540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263" name=""/>
            <p:cNvSpPr/>
            <p:nvPr/>
          </p:nvSpPr>
          <p:spPr>
            <a:xfrm>
              <a:off x="755964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64" name=""/>
            <p:cNvSpPr/>
            <p:nvPr/>
          </p:nvSpPr>
          <p:spPr>
            <a:xfrm flipH="1">
              <a:off x="764676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265" name=""/>
            <p:cNvSpPr/>
            <p:nvPr/>
          </p:nvSpPr>
          <p:spPr>
            <a:xfrm>
              <a:off x="9105480" y="661608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66" name=""/>
            <p:cNvSpPr/>
            <p:nvPr/>
          </p:nvSpPr>
          <p:spPr>
            <a:xfrm>
              <a:off x="791532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67" name=""/>
            <p:cNvSpPr/>
            <p:nvPr/>
          </p:nvSpPr>
          <p:spPr>
            <a:xfrm>
              <a:off x="776808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268" name=""/>
            <p:cNvSpPr/>
            <p:nvPr/>
          </p:nvSpPr>
          <p:spPr>
            <a:xfrm>
              <a:off x="7853040" y="675540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69" name=""/>
            <p:cNvSpPr/>
            <p:nvPr/>
          </p:nvSpPr>
          <p:spPr>
            <a:xfrm flipH="1">
              <a:off x="7937640" y="679140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270" name=""/>
            <p:cNvSpPr/>
            <p:nvPr/>
          </p:nvSpPr>
          <p:spPr>
            <a:xfrm>
              <a:off x="8186400" y="6776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71" name=""/>
            <p:cNvSpPr/>
            <p:nvPr/>
          </p:nvSpPr>
          <p:spPr>
            <a:xfrm>
              <a:off x="808380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272" name=""/>
            <p:cNvSpPr/>
            <p:nvPr/>
          </p:nvSpPr>
          <p:spPr>
            <a:xfrm>
              <a:off x="8145000" y="67554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73" name=""/>
            <p:cNvSpPr/>
            <p:nvPr/>
          </p:nvSpPr>
          <p:spPr>
            <a:xfrm flipH="1">
              <a:off x="8292960" y="6765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274" name=""/>
            <p:cNvSpPr/>
            <p:nvPr/>
          </p:nvSpPr>
          <p:spPr>
            <a:xfrm>
              <a:off x="8415720" y="674676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75" name=""/>
            <p:cNvSpPr/>
            <p:nvPr/>
          </p:nvSpPr>
          <p:spPr>
            <a:xfrm>
              <a:off x="837576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276" name=""/>
            <p:cNvSpPr/>
            <p:nvPr/>
          </p:nvSpPr>
          <p:spPr>
            <a:xfrm>
              <a:off x="843696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77" name=""/>
            <p:cNvSpPr/>
            <p:nvPr/>
          </p:nvSpPr>
          <p:spPr>
            <a:xfrm flipH="1">
              <a:off x="8522640" y="676584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278" name=""/>
            <p:cNvSpPr/>
            <p:nvPr/>
          </p:nvSpPr>
          <p:spPr>
            <a:xfrm>
              <a:off x="8691120" y="674064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279" name=""/>
            <p:cNvSpPr/>
            <p:nvPr/>
          </p:nvSpPr>
          <p:spPr>
            <a:xfrm>
              <a:off x="860364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280" name=""/>
            <p:cNvSpPr/>
            <p:nvPr/>
          </p:nvSpPr>
          <p:spPr>
            <a:xfrm>
              <a:off x="8728920" y="678456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81" name=""/>
            <p:cNvSpPr/>
            <p:nvPr/>
          </p:nvSpPr>
          <p:spPr>
            <a:xfrm flipH="1">
              <a:off x="8754840" y="676584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282" name=""/>
            <p:cNvSpPr/>
            <p:nvPr/>
          </p:nvSpPr>
          <p:spPr>
            <a:xfrm>
              <a:off x="883440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83" name=""/>
            <p:cNvSpPr/>
            <p:nvPr/>
          </p:nvSpPr>
          <p:spPr>
            <a:xfrm>
              <a:off x="8903880" y="681660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84" name=""/>
            <p:cNvSpPr/>
            <p:nvPr/>
          </p:nvSpPr>
          <p:spPr>
            <a:xfrm>
              <a:off x="8231040" y="673812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285" name=""/>
            <p:cNvSpPr/>
            <p:nvPr/>
          </p:nvSpPr>
          <p:spPr>
            <a:xfrm flipH="1">
              <a:off x="8201520" y="680976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286" name=""/>
            <p:cNvSpPr/>
            <p:nvPr/>
          </p:nvSpPr>
          <p:spPr>
            <a:xfrm>
              <a:off x="9062280" y="68036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87" name=""/>
            <p:cNvSpPr/>
            <p:nvPr/>
          </p:nvSpPr>
          <p:spPr>
            <a:xfrm>
              <a:off x="8876160" y="675540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288" name=""/>
            <p:cNvSpPr/>
            <p:nvPr/>
          </p:nvSpPr>
          <p:spPr>
            <a:xfrm>
              <a:off x="900108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289" name=""/>
            <p:cNvSpPr/>
            <p:nvPr/>
          </p:nvSpPr>
          <p:spPr>
            <a:xfrm flipH="1">
              <a:off x="9045360" y="670896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290" name=""/>
            <p:cNvSpPr/>
            <p:nvPr/>
          </p:nvSpPr>
          <p:spPr>
            <a:xfrm>
              <a:off x="9113760" y="647424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291" name=""/>
            <p:cNvSpPr/>
            <p:nvPr/>
          </p:nvSpPr>
          <p:spPr>
            <a:xfrm>
              <a:off x="7747200" y="681228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292" name=""/>
            <p:cNvSpPr/>
            <p:nvPr/>
          </p:nvSpPr>
          <p:spPr>
            <a:xfrm>
              <a:off x="8019720" y="683100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93" name=""/>
            <p:cNvSpPr/>
            <p:nvPr/>
          </p:nvSpPr>
          <p:spPr>
            <a:xfrm flipV="1">
              <a:off x="7178760" y="681624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1294" name=""/>
            <p:cNvSpPr/>
            <p:nvPr/>
          </p:nvSpPr>
          <p:spPr>
            <a:xfrm flipH="1">
              <a:off x="8642520" y="680976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295" name=""/>
            <p:cNvSpPr/>
            <p:nvPr/>
          </p:nvSpPr>
          <p:spPr>
            <a:xfrm flipH="1" flipV="1">
              <a:off x="7455240" y="677808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296" name=""/>
            <p:cNvSpPr/>
            <p:nvPr/>
          </p:nvSpPr>
          <p:spPr>
            <a:xfrm flipH="1" flipV="1">
              <a:off x="845784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297" name=""/>
            <p:cNvSpPr/>
            <p:nvPr/>
          </p:nvSpPr>
          <p:spPr>
            <a:xfrm flipH="1" flipV="1">
              <a:off x="856332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1298" name=""/>
          <p:cNvSpPr/>
          <p:nvPr/>
        </p:nvSpPr>
        <p:spPr>
          <a:xfrm>
            <a:off x="7157880" y="6141960"/>
            <a:ext cx="198612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ÉNÉTIQUE</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ET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1299" name=""/>
          <p:cNvSpPr/>
          <p:nvPr/>
        </p:nvSpPr>
        <p:spPr>
          <a:xfrm>
            <a:off x="1473120" y="644220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0EB4-88D7-4606-86DA-4120EFB633CF}"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1300" name=""/>
          <p:cNvSpPr/>
          <p:nvPr/>
        </p:nvSpPr>
        <p:spPr>
          <a:xfrm>
            <a:off x="685800" y="6440400"/>
            <a:ext cx="72540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1301" name=""/>
          <p:cNvSpPr/>
          <p:nvPr/>
        </p:nvSpPr>
        <p:spPr>
          <a:xfrm>
            <a:off x="0" y="6470640"/>
            <a:ext cx="9144000" cy="1440"/>
          </a:xfrm>
          <a:prstGeom prst="line">
            <a:avLst/>
          </a:prstGeom>
          <a:ln w="2844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78B9B916-6B5B-4AC8-97CD-11617F8BC56D}" type="datetime1">
              <a:rPr lang="en-US"/>
              <a:t>07/30/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2" name=""/>
          <p:cNvSpPr/>
          <p:nvPr/>
        </p:nvSpPr>
        <p:spPr>
          <a:xfrm>
            <a:off x="0" y="3240"/>
            <a:ext cx="9201240" cy="690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pic>
        <p:nvPicPr>
          <p:cNvPr id="1303" name="" descr=""/>
          <p:cNvPicPr/>
          <p:nvPr/>
        </p:nvPicPr>
        <p:blipFill>
          <a:blip r:embed="rId1"/>
          <a:stretch/>
        </p:blipFill>
        <p:spPr>
          <a:xfrm>
            <a:off x="0" y="0"/>
            <a:ext cx="9201240" cy="6910560"/>
          </a:xfrm>
          <a:prstGeom prst="rect">
            <a:avLst/>
          </a:prstGeom>
          <a:ln w="0">
            <a:noFill/>
          </a:ln>
        </p:spPr>
      </p:pic>
      <p:sp>
        <p:nvSpPr>
          <p:cNvPr id="1304" name=""/>
          <p:cNvSpPr/>
          <p:nvPr/>
        </p:nvSpPr>
        <p:spPr>
          <a:xfrm>
            <a:off x="1341360" y="3240"/>
            <a:ext cx="6615360" cy="11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05" name=""/>
          <p:cNvSpPr/>
          <p:nvPr/>
        </p:nvSpPr>
        <p:spPr>
          <a:xfrm>
            <a:off x="3636000" y="519120"/>
            <a:ext cx="191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n field</a:t>
            </a:r>
            <a:endParaRPr b="0" lang="en-US" sz="28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9D1BBCDB-CFEA-415E-A643-857DF5DB9C60}" type="datetime1">
              <a:rPr lang="en-US"/>
              <a:t>07/30/26</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71400" y="5223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Open field - males</a:t>
            </a:r>
            <a:endParaRPr b="0" lang="en-US" sz="3200" spc="-1" strike="noStrike">
              <a:solidFill>
                <a:srgbClr val="ff3300"/>
              </a:solidFill>
              <a:latin typeface="Comic Sans MS"/>
            </a:endParaRPr>
          </a:p>
        </p:txBody>
      </p:sp>
      <p:sp>
        <p:nvSpPr>
          <p:cNvPr id="1307" name=""/>
          <p:cNvSpPr/>
          <p:nvPr/>
        </p:nvSpPr>
        <p:spPr>
          <a:xfrm>
            <a:off x="4718160" y="1994040"/>
            <a:ext cx="3022560" cy="332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08" name=""/>
          <p:cNvSpPr/>
          <p:nvPr/>
        </p:nvSpPr>
        <p:spPr>
          <a:xfrm>
            <a:off x="5045760" y="1525680"/>
            <a:ext cx="2486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Inner locomotion</a:t>
            </a:r>
            <a:endParaRPr b="0" lang="en-US" sz="2400" spc="-1" strike="noStrike">
              <a:solidFill>
                <a:srgbClr val="000000"/>
              </a:solidFill>
              <a:latin typeface="Comic Sans MS"/>
            </a:endParaRPr>
          </a:p>
        </p:txBody>
      </p:sp>
      <p:sp>
        <p:nvSpPr>
          <p:cNvPr id="1309" name=""/>
          <p:cNvSpPr/>
          <p:nvPr/>
        </p:nvSpPr>
        <p:spPr>
          <a:xfrm>
            <a:off x="4718160" y="5321160"/>
            <a:ext cx="302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10" name=""/>
          <p:cNvSpPr/>
          <p:nvPr/>
        </p:nvSpPr>
        <p:spPr>
          <a:xfrm>
            <a:off x="4718160" y="1994040"/>
            <a:ext cx="302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11" name=""/>
          <p:cNvSpPr/>
          <p:nvPr/>
        </p:nvSpPr>
        <p:spPr>
          <a:xfrm flipV="1">
            <a:off x="4718160" y="1994040"/>
            <a:ext cx="144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12" name=""/>
          <p:cNvSpPr/>
          <p:nvPr/>
        </p:nvSpPr>
        <p:spPr>
          <a:xfrm flipV="1">
            <a:off x="7740720" y="1994040"/>
            <a:ext cx="144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13" name=""/>
          <p:cNvSpPr/>
          <p:nvPr/>
        </p:nvSpPr>
        <p:spPr>
          <a:xfrm flipH="1">
            <a:off x="7740360" y="531828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14" name=""/>
          <p:cNvSpPr/>
          <p:nvPr/>
        </p:nvSpPr>
        <p:spPr>
          <a:xfrm flipH="1">
            <a:off x="7740360" y="484344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15" name=""/>
          <p:cNvSpPr/>
          <p:nvPr/>
        </p:nvSpPr>
        <p:spPr>
          <a:xfrm flipH="1">
            <a:off x="7740360" y="436716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16" name=""/>
          <p:cNvSpPr/>
          <p:nvPr/>
        </p:nvSpPr>
        <p:spPr>
          <a:xfrm flipH="1">
            <a:off x="7740360" y="389268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17" name=""/>
          <p:cNvSpPr/>
          <p:nvPr/>
        </p:nvSpPr>
        <p:spPr>
          <a:xfrm flipH="1">
            <a:off x="7740360" y="341784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18" name=""/>
          <p:cNvSpPr/>
          <p:nvPr/>
        </p:nvSpPr>
        <p:spPr>
          <a:xfrm flipH="1">
            <a:off x="7740360" y="294336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19" name=""/>
          <p:cNvSpPr/>
          <p:nvPr/>
        </p:nvSpPr>
        <p:spPr>
          <a:xfrm flipH="1">
            <a:off x="7740360" y="246852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20" name=""/>
          <p:cNvSpPr/>
          <p:nvPr/>
        </p:nvSpPr>
        <p:spPr>
          <a:xfrm flipH="1">
            <a:off x="7740360" y="199404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21" name=""/>
          <p:cNvSpPr/>
          <p:nvPr/>
        </p:nvSpPr>
        <p:spPr>
          <a:xfrm>
            <a:off x="7979760" y="52135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1322" name=""/>
          <p:cNvSpPr/>
          <p:nvPr/>
        </p:nvSpPr>
        <p:spPr>
          <a:xfrm>
            <a:off x="7979760" y="47386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a:t>
            </a:r>
            <a:endParaRPr b="0" lang="en-US" sz="1800" spc="-1" strike="noStrike">
              <a:solidFill>
                <a:srgbClr val="000000"/>
              </a:solidFill>
              <a:latin typeface="Comic Sans MS"/>
            </a:endParaRPr>
          </a:p>
        </p:txBody>
      </p:sp>
      <p:sp>
        <p:nvSpPr>
          <p:cNvPr id="1323" name=""/>
          <p:cNvSpPr/>
          <p:nvPr/>
        </p:nvSpPr>
        <p:spPr>
          <a:xfrm>
            <a:off x="7979760" y="42642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a:t>
            </a:r>
            <a:endParaRPr b="0" lang="en-US" sz="1800" spc="-1" strike="noStrike">
              <a:solidFill>
                <a:srgbClr val="000000"/>
              </a:solidFill>
              <a:latin typeface="Comic Sans MS"/>
            </a:endParaRPr>
          </a:p>
        </p:txBody>
      </p:sp>
      <p:sp>
        <p:nvSpPr>
          <p:cNvPr id="1324" name=""/>
          <p:cNvSpPr/>
          <p:nvPr/>
        </p:nvSpPr>
        <p:spPr>
          <a:xfrm>
            <a:off x="7979760" y="37879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a:t>
            </a:r>
            <a:endParaRPr b="0" lang="en-US" sz="1800" spc="-1" strike="noStrike">
              <a:solidFill>
                <a:srgbClr val="000000"/>
              </a:solidFill>
              <a:latin typeface="Comic Sans MS"/>
            </a:endParaRPr>
          </a:p>
        </p:txBody>
      </p:sp>
      <p:sp>
        <p:nvSpPr>
          <p:cNvPr id="1325" name=""/>
          <p:cNvSpPr/>
          <p:nvPr/>
        </p:nvSpPr>
        <p:spPr>
          <a:xfrm>
            <a:off x="7979760" y="33130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a:t>
            </a:r>
            <a:endParaRPr b="0" lang="en-US" sz="1800" spc="-1" strike="noStrike">
              <a:solidFill>
                <a:srgbClr val="000000"/>
              </a:solidFill>
              <a:latin typeface="Comic Sans MS"/>
            </a:endParaRPr>
          </a:p>
        </p:txBody>
      </p:sp>
      <p:sp>
        <p:nvSpPr>
          <p:cNvPr id="1326" name=""/>
          <p:cNvSpPr/>
          <p:nvPr/>
        </p:nvSpPr>
        <p:spPr>
          <a:xfrm>
            <a:off x="7922160" y="28386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a:t>
            </a:r>
            <a:endParaRPr b="0" lang="en-US" sz="1800" spc="-1" strike="noStrike">
              <a:solidFill>
                <a:srgbClr val="000000"/>
              </a:solidFill>
              <a:latin typeface="Comic Sans MS"/>
            </a:endParaRPr>
          </a:p>
        </p:txBody>
      </p:sp>
      <p:sp>
        <p:nvSpPr>
          <p:cNvPr id="1327" name=""/>
          <p:cNvSpPr/>
          <p:nvPr/>
        </p:nvSpPr>
        <p:spPr>
          <a:xfrm>
            <a:off x="7922160" y="2363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2</a:t>
            </a:r>
            <a:endParaRPr b="0" lang="en-US" sz="1800" spc="-1" strike="noStrike">
              <a:solidFill>
                <a:srgbClr val="000000"/>
              </a:solidFill>
              <a:latin typeface="Comic Sans MS"/>
            </a:endParaRPr>
          </a:p>
        </p:txBody>
      </p:sp>
      <p:sp>
        <p:nvSpPr>
          <p:cNvPr id="1328" name=""/>
          <p:cNvSpPr/>
          <p:nvPr/>
        </p:nvSpPr>
        <p:spPr>
          <a:xfrm>
            <a:off x="7922160" y="18892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4</a:t>
            </a:r>
            <a:endParaRPr b="0" lang="en-US" sz="1800" spc="-1" strike="noStrike">
              <a:solidFill>
                <a:srgbClr val="000000"/>
              </a:solidFill>
              <a:latin typeface="Comic Sans MS"/>
            </a:endParaRPr>
          </a:p>
        </p:txBody>
      </p:sp>
      <p:sp>
        <p:nvSpPr>
          <p:cNvPr id="1329" name=""/>
          <p:cNvSpPr/>
          <p:nvPr/>
        </p:nvSpPr>
        <p:spPr>
          <a:xfrm>
            <a:off x="4940280" y="2903400"/>
            <a:ext cx="355680" cy="2419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0" name=""/>
          <p:cNvSpPr/>
          <p:nvPr/>
        </p:nvSpPr>
        <p:spPr>
          <a:xfrm>
            <a:off x="4954680" y="2982960"/>
            <a:ext cx="355680" cy="241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1" name=""/>
          <p:cNvSpPr/>
          <p:nvPr/>
        </p:nvSpPr>
        <p:spPr>
          <a:xfrm flipV="1">
            <a:off x="5118120" y="28242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Comic Sans MS"/>
            </a:endParaRPr>
          </a:p>
        </p:txBody>
      </p:sp>
      <p:sp>
        <p:nvSpPr>
          <p:cNvPr id="1332" name=""/>
          <p:cNvSpPr/>
          <p:nvPr/>
        </p:nvSpPr>
        <p:spPr>
          <a:xfrm>
            <a:off x="5051520" y="2824200"/>
            <a:ext cx="13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33" name=""/>
          <p:cNvSpPr/>
          <p:nvPr/>
        </p:nvSpPr>
        <p:spPr>
          <a:xfrm>
            <a:off x="5383080" y="2832120"/>
            <a:ext cx="357480" cy="24908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4" name=""/>
          <p:cNvSpPr/>
          <p:nvPr/>
        </p:nvSpPr>
        <p:spPr>
          <a:xfrm>
            <a:off x="5397480" y="2911320"/>
            <a:ext cx="357120" cy="249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5" name=""/>
          <p:cNvSpPr/>
          <p:nvPr/>
        </p:nvSpPr>
        <p:spPr>
          <a:xfrm flipV="1">
            <a:off x="5562720" y="234612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6" name=""/>
          <p:cNvSpPr/>
          <p:nvPr/>
        </p:nvSpPr>
        <p:spPr>
          <a:xfrm>
            <a:off x="5495760" y="2349360"/>
            <a:ext cx="13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37" name=""/>
          <p:cNvSpPr/>
          <p:nvPr/>
        </p:nvSpPr>
        <p:spPr>
          <a:xfrm>
            <a:off x="5842080" y="4976640"/>
            <a:ext cx="35712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8" name=""/>
          <p:cNvSpPr/>
          <p:nvPr/>
        </p:nvSpPr>
        <p:spPr>
          <a:xfrm>
            <a:off x="6286680" y="3481560"/>
            <a:ext cx="357120" cy="192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9" name=""/>
          <p:cNvSpPr/>
          <p:nvPr/>
        </p:nvSpPr>
        <p:spPr>
          <a:xfrm>
            <a:off x="6716880" y="4875120"/>
            <a:ext cx="357120" cy="447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0" name=""/>
          <p:cNvSpPr/>
          <p:nvPr/>
        </p:nvSpPr>
        <p:spPr>
          <a:xfrm>
            <a:off x="6730920" y="4875120"/>
            <a:ext cx="357120" cy="44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1" name=""/>
          <p:cNvSpPr/>
          <p:nvPr/>
        </p:nvSpPr>
        <p:spPr>
          <a:xfrm flipV="1">
            <a:off x="6894360" y="4800240"/>
            <a:ext cx="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Comic Sans MS"/>
            </a:endParaRPr>
          </a:p>
        </p:txBody>
      </p:sp>
      <p:sp>
        <p:nvSpPr>
          <p:cNvPr id="1342" name=""/>
          <p:cNvSpPr/>
          <p:nvPr/>
        </p:nvSpPr>
        <p:spPr>
          <a:xfrm>
            <a:off x="6829560" y="4795920"/>
            <a:ext cx="13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43" name=""/>
          <p:cNvSpPr/>
          <p:nvPr/>
        </p:nvSpPr>
        <p:spPr>
          <a:xfrm>
            <a:off x="7161120" y="3900600"/>
            <a:ext cx="357120" cy="14223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4" name=""/>
          <p:cNvSpPr/>
          <p:nvPr/>
        </p:nvSpPr>
        <p:spPr>
          <a:xfrm>
            <a:off x="7175520" y="3979800"/>
            <a:ext cx="357120" cy="142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5" name=""/>
          <p:cNvSpPr/>
          <p:nvPr/>
        </p:nvSpPr>
        <p:spPr>
          <a:xfrm flipV="1">
            <a:off x="7338960" y="361476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6" name=""/>
          <p:cNvSpPr/>
          <p:nvPr/>
        </p:nvSpPr>
        <p:spPr>
          <a:xfrm>
            <a:off x="7273800" y="3608280"/>
            <a:ext cx="13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47" name=""/>
          <p:cNvSpPr/>
          <p:nvPr/>
        </p:nvSpPr>
        <p:spPr>
          <a:xfrm>
            <a:off x="1360440" y="1996920"/>
            <a:ext cx="3022560" cy="332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8" name=""/>
          <p:cNvSpPr/>
          <p:nvPr/>
        </p:nvSpPr>
        <p:spPr>
          <a:xfrm>
            <a:off x="1379880" y="1528920"/>
            <a:ext cx="254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uter locomotion</a:t>
            </a:r>
            <a:endParaRPr b="0" lang="en-US" sz="2400" spc="-1" strike="noStrike">
              <a:solidFill>
                <a:srgbClr val="000000"/>
              </a:solidFill>
              <a:latin typeface="Comic Sans MS"/>
            </a:endParaRPr>
          </a:p>
        </p:txBody>
      </p:sp>
      <p:sp>
        <p:nvSpPr>
          <p:cNvPr id="1349" name=""/>
          <p:cNvSpPr/>
          <p:nvPr/>
        </p:nvSpPr>
        <p:spPr>
          <a:xfrm>
            <a:off x="1360440" y="5321160"/>
            <a:ext cx="302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0" name=""/>
          <p:cNvSpPr/>
          <p:nvPr/>
        </p:nvSpPr>
        <p:spPr>
          <a:xfrm>
            <a:off x="1360440" y="1996920"/>
            <a:ext cx="302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1" name=""/>
          <p:cNvSpPr/>
          <p:nvPr/>
        </p:nvSpPr>
        <p:spPr>
          <a:xfrm flipV="1">
            <a:off x="1360440" y="1996920"/>
            <a:ext cx="180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52" name=""/>
          <p:cNvSpPr/>
          <p:nvPr/>
        </p:nvSpPr>
        <p:spPr>
          <a:xfrm>
            <a:off x="1295280" y="532116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3" name=""/>
          <p:cNvSpPr/>
          <p:nvPr/>
        </p:nvSpPr>
        <p:spPr>
          <a:xfrm>
            <a:off x="1295280" y="465624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54" name=""/>
          <p:cNvSpPr/>
          <p:nvPr/>
        </p:nvSpPr>
        <p:spPr>
          <a:xfrm>
            <a:off x="1295280" y="399240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5" name=""/>
          <p:cNvSpPr/>
          <p:nvPr/>
        </p:nvSpPr>
        <p:spPr>
          <a:xfrm>
            <a:off x="1295280" y="332748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56" name=""/>
          <p:cNvSpPr/>
          <p:nvPr/>
        </p:nvSpPr>
        <p:spPr>
          <a:xfrm>
            <a:off x="1295280" y="266220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7" name=""/>
          <p:cNvSpPr/>
          <p:nvPr/>
        </p:nvSpPr>
        <p:spPr>
          <a:xfrm>
            <a:off x="1295280" y="199692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8" name=""/>
          <p:cNvSpPr/>
          <p:nvPr/>
        </p:nvSpPr>
        <p:spPr>
          <a:xfrm>
            <a:off x="1320840" y="498960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59" name=""/>
          <p:cNvSpPr/>
          <p:nvPr/>
        </p:nvSpPr>
        <p:spPr>
          <a:xfrm>
            <a:off x="1320840" y="432432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60" name=""/>
          <p:cNvSpPr/>
          <p:nvPr/>
        </p:nvSpPr>
        <p:spPr>
          <a:xfrm>
            <a:off x="1320840" y="365904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61" name=""/>
          <p:cNvSpPr/>
          <p:nvPr/>
        </p:nvSpPr>
        <p:spPr>
          <a:xfrm>
            <a:off x="1320840" y="2994120"/>
            <a:ext cx="3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62" name=""/>
          <p:cNvSpPr/>
          <p:nvPr/>
        </p:nvSpPr>
        <p:spPr>
          <a:xfrm>
            <a:off x="1320840" y="233028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63" name=""/>
          <p:cNvSpPr/>
          <p:nvPr/>
        </p:nvSpPr>
        <p:spPr>
          <a:xfrm>
            <a:off x="1071000" y="52038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1364" name=""/>
          <p:cNvSpPr/>
          <p:nvPr/>
        </p:nvSpPr>
        <p:spPr>
          <a:xfrm>
            <a:off x="967320" y="45385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0</a:t>
            </a:r>
            <a:endParaRPr b="0" lang="en-US" sz="1800" spc="-1" strike="noStrike">
              <a:solidFill>
                <a:srgbClr val="000000"/>
              </a:solidFill>
              <a:latin typeface="Comic Sans MS"/>
            </a:endParaRPr>
          </a:p>
        </p:txBody>
      </p:sp>
      <p:sp>
        <p:nvSpPr>
          <p:cNvPr id="1365" name=""/>
          <p:cNvSpPr/>
          <p:nvPr/>
        </p:nvSpPr>
        <p:spPr>
          <a:xfrm>
            <a:off x="967320" y="38750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0</a:t>
            </a:r>
            <a:endParaRPr b="0" lang="en-US" sz="1800" spc="-1" strike="noStrike">
              <a:solidFill>
                <a:srgbClr val="000000"/>
              </a:solidFill>
              <a:latin typeface="Comic Sans MS"/>
            </a:endParaRPr>
          </a:p>
        </p:txBody>
      </p:sp>
      <p:sp>
        <p:nvSpPr>
          <p:cNvPr id="1366" name=""/>
          <p:cNvSpPr/>
          <p:nvPr/>
        </p:nvSpPr>
        <p:spPr>
          <a:xfrm>
            <a:off x="967320" y="3209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0</a:t>
            </a:r>
            <a:endParaRPr b="0" lang="en-US" sz="1800" spc="-1" strike="noStrike">
              <a:solidFill>
                <a:srgbClr val="000000"/>
              </a:solidFill>
              <a:latin typeface="Comic Sans MS"/>
            </a:endParaRPr>
          </a:p>
        </p:txBody>
      </p:sp>
      <p:sp>
        <p:nvSpPr>
          <p:cNvPr id="1367" name=""/>
          <p:cNvSpPr/>
          <p:nvPr/>
        </p:nvSpPr>
        <p:spPr>
          <a:xfrm>
            <a:off x="967320" y="25448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0</a:t>
            </a:r>
            <a:endParaRPr b="0" lang="en-US" sz="1800" spc="-1" strike="noStrike">
              <a:solidFill>
                <a:srgbClr val="000000"/>
              </a:solidFill>
              <a:latin typeface="Comic Sans MS"/>
            </a:endParaRPr>
          </a:p>
        </p:txBody>
      </p:sp>
      <p:sp>
        <p:nvSpPr>
          <p:cNvPr id="1368" name=""/>
          <p:cNvSpPr/>
          <p:nvPr/>
        </p:nvSpPr>
        <p:spPr>
          <a:xfrm>
            <a:off x="863640" y="187956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0</a:t>
            </a:r>
            <a:endParaRPr b="0" lang="en-US" sz="1800" spc="-1" strike="noStrike">
              <a:solidFill>
                <a:srgbClr val="000000"/>
              </a:solidFill>
              <a:latin typeface="Comic Sans MS"/>
            </a:endParaRPr>
          </a:p>
        </p:txBody>
      </p:sp>
      <p:sp>
        <p:nvSpPr>
          <p:cNvPr id="1369" name=""/>
          <p:cNvSpPr/>
          <p:nvPr/>
        </p:nvSpPr>
        <p:spPr>
          <a:xfrm flipV="1">
            <a:off x="4383000" y="1996920"/>
            <a:ext cx="180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0" name=""/>
          <p:cNvSpPr/>
          <p:nvPr/>
        </p:nvSpPr>
        <p:spPr>
          <a:xfrm>
            <a:off x="1582560" y="3930480"/>
            <a:ext cx="355680" cy="1392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1" name=""/>
          <p:cNvSpPr/>
          <p:nvPr/>
        </p:nvSpPr>
        <p:spPr>
          <a:xfrm>
            <a:off x="1596960" y="4013280"/>
            <a:ext cx="355680" cy="13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2" name=""/>
          <p:cNvSpPr/>
          <p:nvPr/>
        </p:nvSpPr>
        <p:spPr>
          <a:xfrm flipV="1">
            <a:off x="1760400" y="3658680"/>
            <a:ext cx="1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3" name=""/>
          <p:cNvSpPr/>
          <p:nvPr/>
        </p:nvSpPr>
        <p:spPr>
          <a:xfrm>
            <a:off x="1693800" y="3659040"/>
            <a:ext cx="13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74" name=""/>
          <p:cNvSpPr/>
          <p:nvPr/>
        </p:nvSpPr>
        <p:spPr>
          <a:xfrm>
            <a:off x="2027160" y="2666880"/>
            <a:ext cx="355680" cy="26560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5" name=""/>
          <p:cNvSpPr/>
          <p:nvPr/>
        </p:nvSpPr>
        <p:spPr>
          <a:xfrm>
            <a:off x="2041560" y="2749680"/>
            <a:ext cx="355680" cy="265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6" name=""/>
          <p:cNvSpPr/>
          <p:nvPr/>
        </p:nvSpPr>
        <p:spPr>
          <a:xfrm flipV="1">
            <a:off x="2205000" y="2361960"/>
            <a:ext cx="180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7" name=""/>
          <p:cNvSpPr/>
          <p:nvPr/>
        </p:nvSpPr>
        <p:spPr>
          <a:xfrm>
            <a:off x="2138400" y="2362320"/>
            <a:ext cx="13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78" name=""/>
          <p:cNvSpPr/>
          <p:nvPr/>
        </p:nvSpPr>
        <p:spPr>
          <a:xfrm>
            <a:off x="2484360" y="3314880"/>
            <a:ext cx="357120" cy="20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9" name=""/>
          <p:cNvSpPr/>
          <p:nvPr/>
        </p:nvSpPr>
        <p:spPr>
          <a:xfrm>
            <a:off x="2928960" y="3679920"/>
            <a:ext cx="357120" cy="172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0" name=""/>
          <p:cNvSpPr/>
          <p:nvPr/>
        </p:nvSpPr>
        <p:spPr>
          <a:xfrm>
            <a:off x="3359160" y="3930480"/>
            <a:ext cx="357120" cy="13924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1" name=""/>
          <p:cNvSpPr/>
          <p:nvPr/>
        </p:nvSpPr>
        <p:spPr>
          <a:xfrm>
            <a:off x="3373560" y="4013280"/>
            <a:ext cx="357120" cy="13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2" name=""/>
          <p:cNvSpPr/>
          <p:nvPr/>
        </p:nvSpPr>
        <p:spPr>
          <a:xfrm flipV="1">
            <a:off x="3538440" y="3660840"/>
            <a:ext cx="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3" name=""/>
          <p:cNvSpPr/>
          <p:nvPr/>
        </p:nvSpPr>
        <p:spPr>
          <a:xfrm>
            <a:off x="3471840" y="3659040"/>
            <a:ext cx="13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84" name=""/>
          <p:cNvSpPr/>
          <p:nvPr/>
        </p:nvSpPr>
        <p:spPr>
          <a:xfrm>
            <a:off x="3803760" y="2733840"/>
            <a:ext cx="357120" cy="25891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5" name=""/>
          <p:cNvSpPr/>
          <p:nvPr/>
        </p:nvSpPr>
        <p:spPr>
          <a:xfrm>
            <a:off x="3817800" y="2816280"/>
            <a:ext cx="357480" cy="258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6" name=""/>
          <p:cNvSpPr/>
          <p:nvPr/>
        </p:nvSpPr>
        <p:spPr>
          <a:xfrm flipV="1">
            <a:off x="3981600" y="2528640"/>
            <a:ext cx="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7" name=""/>
          <p:cNvSpPr/>
          <p:nvPr/>
        </p:nvSpPr>
        <p:spPr>
          <a:xfrm>
            <a:off x="3916440" y="2529000"/>
            <a:ext cx="13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88" name=""/>
          <p:cNvSpPr/>
          <p:nvPr/>
        </p:nvSpPr>
        <p:spPr>
          <a:xfrm>
            <a:off x="6286680" y="4897440"/>
            <a:ext cx="357120" cy="425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9" name=""/>
          <p:cNvSpPr/>
          <p:nvPr/>
        </p:nvSpPr>
        <p:spPr>
          <a:xfrm flipV="1">
            <a:off x="6456240" y="48049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Comic Sans MS"/>
            </a:endParaRPr>
          </a:p>
        </p:txBody>
      </p:sp>
      <p:sp>
        <p:nvSpPr>
          <p:cNvPr id="1390" name=""/>
          <p:cNvSpPr/>
          <p:nvPr/>
        </p:nvSpPr>
        <p:spPr>
          <a:xfrm>
            <a:off x="6389640" y="4807080"/>
            <a:ext cx="13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91" name=""/>
          <p:cNvSpPr/>
          <p:nvPr/>
        </p:nvSpPr>
        <p:spPr>
          <a:xfrm>
            <a:off x="2928960" y="3232080"/>
            <a:ext cx="357120" cy="2090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2" name=""/>
          <p:cNvSpPr/>
          <p:nvPr/>
        </p:nvSpPr>
        <p:spPr>
          <a:xfrm flipV="1">
            <a:off x="3098880" y="298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3" name=""/>
          <p:cNvSpPr/>
          <p:nvPr/>
        </p:nvSpPr>
        <p:spPr>
          <a:xfrm>
            <a:off x="3032280" y="2984400"/>
            <a:ext cx="13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94" name=""/>
          <p:cNvSpPr/>
          <p:nvPr/>
        </p:nvSpPr>
        <p:spPr>
          <a:xfrm>
            <a:off x="5826240" y="3402000"/>
            <a:ext cx="357120" cy="19209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5" name=""/>
          <p:cNvSpPr/>
          <p:nvPr/>
        </p:nvSpPr>
        <p:spPr>
          <a:xfrm flipV="1">
            <a:off x="6008760" y="3051000"/>
            <a:ext cx="1440" cy="3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6" name=""/>
          <p:cNvSpPr/>
          <p:nvPr/>
        </p:nvSpPr>
        <p:spPr>
          <a:xfrm>
            <a:off x="5935680" y="3052800"/>
            <a:ext cx="13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97" name=""/>
          <p:cNvSpPr/>
          <p:nvPr/>
        </p:nvSpPr>
        <p:spPr>
          <a:xfrm>
            <a:off x="2468520" y="3597120"/>
            <a:ext cx="357120" cy="1725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8" name=""/>
          <p:cNvSpPr/>
          <p:nvPr/>
        </p:nvSpPr>
        <p:spPr>
          <a:xfrm flipV="1">
            <a:off x="2647800" y="32655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9" name=""/>
          <p:cNvSpPr/>
          <p:nvPr/>
        </p:nvSpPr>
        <p:spPr>
          <a:xfrm>
            <a:off x="2581200" y="3260880"/>
            <a:ext cx="13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400" name=""/>
          <p:cNvSpPr/>
          <p:nvPr/>
        </p:nvSpPr>
        <p:spPr>
          <a:xfrm>
            <a:off x="300600" y="61088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sp>
        <p:nvSpPr>
          <p:cNvPr id="1401" name=""/>
          <p:cNvSpPr/>
          <p:nvPr/>
        </p:nvSpPr>
        <p:spPr>
          <a:xfrm>
            <a:off x="4160880" y="5715000"/>
            <a:ext cx="82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rain</a:t>
            </a:r>
            <a:endParaRPr b="0" lang="en-US" sz="2400" spc="-1" strike="noStrike">
              <a:solidFill>
                <a:srgbClr val="000000"/>
              </a:solidFill>
              <a:latin typeface="Comic Sans MS"/>
            </a:endParaRPr>
          </a:p>
        </p:txBody>
      </p:sp>
      <p:grpSp>
        <p:nvGrpSpPr>
          <p:cNvPr id="1402" name=""/>
          <p:cNvGrpSpPr/>
          <p:nvPr/>
        </p:nvGrpSpPr>
        <p:grpSpPr>
          <a:xfrm>
            <a:off x="1575360" y="5412240"/>
            <a:ext cx="5903280" cy="585360"/>
            <a:chOff x="1575360" y="5412240"/>
            <a:chExt cx="5903280" cy="585360"/>
          </a:xfrm>
        </p:grpSpPr>
        <p:grpSp>
          <p:nvGrpSpPr>
            <p:cNvPr id="1403" name=""/>
            <p:cNvGrpSpPr/>
            <p:nvPr/>
          </p:nvGrpSpPr>
          <p:grpSpPr>
            <a:xfrm>
              <a:off x="1575360" y="5412240"/>
              <a:ext cx="2550600" cy="585360"/>
              <a:chOff x="1575360" y="5412240"/>
              <a:chExt cx="2550600" cy="585360"/>
            </a:xfrm>
          </p:grpSpPr>
          <p:sp>
            <p:nvSpPr>
              <p:cNvPr id="1404" name=""/>
              <p:cNvSpPr/>
              <p:nvPr/>
            </p:nvSpPr>
            <p:spPr>
              <a:xfrm rot="5410200">
                <a:off x="3237840" y="55573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405" name=""/>
              <p:cNvSpPr/>
              <p:nvPr/>
            </p:nvSpPr>
            <p:spPr>
              <a:xfrm rot="5427600">
                <a:off x="1539720" y="54500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1406" name=""/>
              <p:cNvSpPr/>
              <p:nvPr/>
            </p:nvSpPr>
            <p:spPr>
              <a:xfrm rot="5421600">
                <a:off x="1985760" y="547524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407" name=""/>
              <p:cNvSpPr/>
              <p:nvPr/>
            </p:nvSpPr>
            <p:spPr>
              <a:xfrm rot="5408400">
                <a:off x="3720600" y="55335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408" name=""/>
              <p:cNvSpPr/>
              <p:nvPr/>
            </p:nvSpPr>
            <p:spPr>
              <a:xfrm rot="5416800">
                <a:off x="2810160" y="55479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409" name=""/>
              <p:cNvSpPr/>
              <p:nvPr/>
            </p:nvSpPr>
            <p:spPr>
              <a:xfrm rot="5412600">
                <a:off x="2437920" y="550080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nvGrpSpPr>
            <p:cNvPr id="1410" name=""/>
            <p:cNvGrpSpPr/>
            <p:nvPr/>
          </p:nvGrpSpPr>
          <p:grpSpPr>
            <a:xfrm>
              <a:off x="4927680" y="5412240"/>
              <a:ext cx="2550960" cy="585360"/>
              <a:chOff x="4927680" y="5412240"/>
              <a:chExt cx="2550960" cy="585360"/>
            </a:xfrm>
          </p:grpSpPr>
          <p:sp>
            <p:nvSpPr>
              <p:cNvPr id="1411" name=""/>
              <p:cNvSpPr/>
              <p:nvPr/>
            </p:nvSpPr>
            <p:spPr>
              <a:xfrm rot="5410200">
                <a:off x="6590520" y="55573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412" name=""/>
              <p:cNvSpPr/>
              <p:nvPr/>
            </p:nvSpPr>
            <p:spPr>
              <a:xfrm rot="5427600">
                <a:off x="4892040" y="54500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1413" name=""/>
              <p:cNvSpPr/>
              <p:nvPr/>
            </p:nvSpPr>
            <p:spPr>
              <a:xfrm rot="5421600">
                <a:off x="5338800" y="547524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414" name=""/>
              <p:cNvSpPr/>
              <p:nvPr/>
            </p:nvSpPr>
            <p:spPr>
              <a:xfrm rot="5408400">
                <a:off x="7073280" y="55335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415" name=""/>
              <p:cNvSpPr/>
              <p:nvPr/>
            </p:nvSpPr>
            <p:spPr>
              <a:xfrm rot="5416800">
                <a:off x="6162840" y="55479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416" name=""/>
              <p:cNvSpPr/>
              <p:nvPr/>
            </p:nvSpPr>
            <p:spPr>
              <a:xfrm rot="5412600">
                <a:off x="5790240" y="550080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30660B3E-ED19-4DC7-B90A-9FFA309222B7}" type="datetime1">
              <a:rPr lang="en-US"/>
              <a:t>07/30/26</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417" name="" descr=""/>
          <p:cNvPicPr/>
          <p:nvPr/>
        </p:nvPicPr>
        <p:blipFill>
          <a:blip r:embed="rId1"/>
          <a:stretch/>
        </p:blipFill>
        <p:spPr>
          <a:xfrm>
            <a:off x="0" y="0"/>
            <a:ext cx="9144000" cy="6858000"/>
          </a:xfrm>
          <a:prstGeom prst="rect">
            <a:avLst/>
          </a:prstGeom>
          <a:ln w="0">
            <a:noFill/>
          </a:ln>
        </p:spPr>
      </p:pic>
      <p:sp>
        <p:nvSpPr>
          <p:cNvPr id="1418" name=""/>
          <p:cNvSpPr/>
          <p:nvPr/>
        </p:nvSpPr>
        <p:spPr>
          <a:xfrm>
            <a:off x="685800" y="1752480"/>
            <a:ext cx="77724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Unconditioned responses</a:t>
            </a:r>
            <a:endParaRPr b="0" lang="en-US" sz="28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orced exposure</a:t>
            </a:r>
            <a:endParaRPr b="0" lang="en-US" sz="2400" spc="-1" strike="noStrike">
              <a:solidFill>
                <a:srgbClr val="000000"/>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open field (locomotion, rearings, defecation, urination)</a:t>
            </a:r>
            <a:endParaRPr b="0" lang="en-US" sz="2000" spc="-1" strike="noStrike">
              <a:solidFill>
                <a:srgbClr val="000000"/>
              </a:solidFill>
              <a:latin typeface="Comic Sans MS"/>
            </a:endParaRPr>
          </a:p>
          <a:p>
            <a:pPr lvl="3" marL="156204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tivity, exploration (total and peripheral locomotion, rearings)</a:t>
            </a:r>
            <a:endParaRPr b="0" lang="en-US" sz="1800" spc="-1" strike="noStrike">
              <a:solidFill>
                <a:srgbClr val="000000"/>
              </a:solidFill>
              <a:latin typeface="Comic Sans MS"/>
            </a:endParaRPr>
          </a:p>
          <a:p>
            <a:pPr lvl="3" marL="156204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otional reactivity (locomotion in the center)</a:t>
            </a:r>
            <a:endParaRPr b="0" lang="en-US" sz="1800" spc="-1" strike="noStrike">
              <a:solidFill>
                <a:srgbClr val="000000"/>
              </a:solidFill>
              <a:latin typeface="Comic Sans MS"/>
            </a:endParaRPr>
          </a:p>
          <a:p>
            <a:pPr lvl="3" marL="156204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onomic balance or emotionality (defecation)</a:t>
            </a:r>
            <a:endParaRPr b="0" lang="en-US" sz="1800" spc="-1" strike="noStrike">
              <a:solidFill>
                <a:srgbClr val="000000"/>
              </a:solidFill>
              <a:latin typeface="Comic Sans MS"/>
            </a:endParaRPr>
          </a:p>
          <a:p>
            <a:pPr lvl="3" marL="156204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rritorial marking (urination)</a:t>
            </a:r>
            <a:endParaRPr b="0" lang="en-US" sz="1800" spc="-1" strike="noStrike">
              <a:solidFill>
                <a:srgbClr val="000000"/>
              </a:solidFill>
              <a:latin typeface="Comic Sans MS"/>
            </a:endParaRPr>
          </a:p>
        </p:txBody>
      </p:sp>
      <p:sp>
        <p:nvSpPr>
          <p:cNvPr id="1419"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000000"/>
              </a:solidFill>
              <a:latin typeface="Comic Sans MS"/>
            </a:endParaRPr>
          </a:p>
        </p:txBody>
      </p:sp>
      <p:grpSp>
        <p:nvGrpSpPr>
          <p:cNvPr id="1420" name=""/>
          <p:cNvGrpSpPr/>
          <p:nvPr/>
        </p:nvGrpSpPr>
        <p:grpSpPr>
          <a:xfrm>
            <a:off x="7156080" y="6068880"/>
            <a:ext cx="1981080" cy="785160"/>
            <a:chOff x="7156080" y="6068880"/>
            <a:chExt cx="1981080" cy="785160"/>
          </a:xfrm>
        </p:grpSpPr>
        <p:sp>
          <p:nvSpPr>
            <p:cNvPr id="1421" name=""/>
            <p:cNvSpPr/>
            <p:nvPr/>
          </p:nvSpPr>
          <p:spPr>
            <a:xfrm flipH="1">
              <a:off x="721188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422" name=""/>
            <p:cNvSpPr/>
            <p:nvPr/>
          </p:nvSpPr>
          <p:spPr>
            <a:xfrm flipH="1" flipV="1">
              <a:off x="7228440" y="638712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423" name=""/>
            <p:cNvSpPr/>
            <p:nvPr/>
          </p:nvSpPr>
          <p:spPr>
            <a:xfrm flipH="1">
              <a:off x="715608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24" name=""/>
            <p:cNvSpPr/>
            <p:nvPr/>
          </p:nvSpPr>
          <p:spPr>
            <a:xfrm flipH="1">
              <a:off x="719100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25" name=""/>
            <p:cNvSpPr/>
            <p:nvPr/>
          </p:nvSpPr>
          <p:spPr>
            <a:xfrm flipH="1">
              <a:off x="721620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26" name=""/>
            <p:cNvSpPr/>
            <p:nvPr/>
          </p:nvSpPr>
          <p:spPr>
            <a:xfrm>
              <a:off x="728136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27" name=""/>
            <p:cNvSpPr/>
            <p:nvPr/>
          </p:nvSpPr>
          <p:spPr>
            <a:xfrm>
              <a:off x="7227360" y="661608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28" name=""/>
            <p:cNvSpPr/>
            <p:nvPr/>
          </p:nvSpPr>
          <p:spPr>
            <a:xfrm>
              <a:off x="7167600" y="670464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429" name=""/>
            <p:cNvSpPr/>
            <p:nvPr/>
          </p:nvSpPr>
          <p:spPr>
            <a:xfrm flipV="1">
              <a:off x="733428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430" name=""/>
            <p:cNvSpPr/>
            <p:nvPr/>
          </p:nvSpPr>
          <p:spPr>
            <a:xfrm>
              <a:off x="735228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31" name=""/>
            <p:cNvSpPr/>
            <p:nvPr/>
          </p:nvSpPr>
          <p:spPr>
            <a:xfrm>
              <a:off x="732996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432" name=""/>
            <p:cNvSpPr/>
            <p:nvPr/>
          </p:nvSpPr>
          <p:spPr>
            <a:xfrm flipH="1">
              <a:off x="727812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33" name=""/>
            <p:cNvSpPr/>
            <p:nvPr/>
          </p:nvSpPr>
          <p:spPr>
            <a:xfrm>
              <a:off x="732996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34" name=""/>
            <p:cNvSpPr/>
            <p:nvPr/>
          </p:nvSpPr>
          <p:spPr>
            <a:xfrm>
              <a:off x="733428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435" name=""/>
            <p:cNvSpPr/>
            <p:nvPr/>
          </p:nvSpPr>
          <p:spPr>
            <a:xfrm>
              <a:off x="7353720" y="663048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436" name=""/>
            <p:cNvSpPr/>
            <p:nvPr/>
          </p:nvSpPr>
          <p:spPr>
            <a:xfrm>
              <a:off x="7227360" y="619740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437" name=""/>
            <p:cNvSpPr/>
            <p:nvPr/>
          </p:nvSpPr>
          <p:spPr>
            <a:xfrm flipH="1">
              <a:off x="717552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38" name=""/>
            <p:cNvSpPr/>
            <p:nvPr/>
          </p:nvSpPr>
          <p:spPr>
            <a:xfrm flipH="1">
              <a:off x="7157520" y="647424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39" name=""/>
            <p:cNvSpPr/>
            <p:nvPr/>
          </p:nvSpPr>
          <p:spPr>
            <a:xfrm flipH="1">
              <a:off x="718812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40" name=""/>
            <p:cNvSpPr/>
            <p:nvPr/>
          </p:nvSpPr>
          <p:spPr>
            <a:xfrm>
              <a:off x="7184160" y="609012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441" name=""/>
            <p:cNvSpPr/>
            <p:nvPr/>
          </p:nvSpPr>
          <p:spPr>
            <a:xfrm>
              <a:off x="7266240" y="609012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442" name=""/>
            <p:cNvSpPr/>
            <p:nvPr/>
          </p:nvSpPr>
          <p:spPr>
            <a:xfrm>
              <a:off x="727452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43" name=""/>
            <p:cNvSpPr/>
            <p:nvPr/>
          </p:nvSpPr>
          <p:spPr>
            <a:xfrm flipH="1">
              <a:off x="726768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444" name=""/>
            <p:cNvSpPr/>
            <p:nvPr/>
          </p:nvSpPr>
          <p:spPr>
            <a:xfrm>
              <a:off x="7334280" y="657576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445" name=""/>
            <p:cNvSpPr/>
            <p:nvPr/>
          </p:nvSpPr>
          <p:spPr>
            <a:xfrm>
              <a:off x="732996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46" name=""/>
            <p:cNvSpPr/>
            <p:nvPr/>
          </p:nvSpPr>
          <p:spPr>
            <a:xfrm flipH="1">
              <a:off x="735336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447" name=""/>
            <p:cNvSpPr/>
            <p:nvPr/>
          </p:nvSpPr>
          <p:spPr>
            <a:xfrm flipH="1" flipV="1">
              <a:off x="7287120" y="661356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448" name=""/>
            <p:cNvSpPr/>
            <p:nvPr/>
          </p:nvSpPr>
          <p:spPr>
            <a:xfrm flipH="1">
              <a:off x="7378920" y="627588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449" name=""/>
            <p:cNvSpPr/>
            <p:nvPr/>
          </p:nvSpPr>
          <p:spPr>
            <a:xfrm>
              <a:off x="7252560" y="659268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50" name=""/>
            <p:cNvSpPr/>
            <p:nvPr/>
          </p:nvSpPr>
          <p:spPr>
            <a:xfrm flipH="1" flipV="1">
              <a:off x="728100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451" name=""/>
            <p:cNvSpPr/>
            <p:nvPr/>
          </p:nvSpPr>
          <p:spPr>
            <a:xfrm flipH="1">
              <a:off x="7417440" y="638568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52" name=""/>
            <p:cNvSpPr/>
            <p:nvPr/>
          </p:nvSpPr>
          <p:spPr>
            <a:xfrm>
              <a:off x="741492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53" name=""/>
            <p:cNvSpPr/>
            <p:nvPr/>
          </p:nvSpPr>
          <p:spPr>
            <a:xfrm>
              <a:off x="7417440" y="631404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54" name=""/>
            <p:cNvSpPr/>
            <p:nvPr/>
          </p:nvSpPr>
          <p:spPr>
            <a:xfrm>
              <a:off x="741492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55" name=""/>
            <p:cNvSpPr/>
            <p:nvPr/>
          </p:nvSpPr>
          <p:spPr>
            <a:xfrm flipH="1">
              <a:off x="748296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456" name=""/>
            <p:cNvSpPr/>
            <p:nvPr/>
          </p:nvSpPr>
          <p:spPr>
            <a:xfrm flipH="1" flipV="1">
              <a:off x="7498080" y="638712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457" name=""/>
            <p:cNvSpPr/>
            <p:nvPr/>
          </p:nvSpPr>
          <p:spPr>
            <a:xfrm flipH="1">
              <a:off x="742860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58" name=""/>
            <p:cNvSpPr/>
            <p:nvPr/>
          </p:nvSpPr>
          <p:spPr>
            <a:xfrm flipH="1">
              <a:off x="746208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59" name=""/>
            <p:cNvSpPr/>
            <p:nvPr/>
          </p:nvSpPr>
          <p:spPr>
            <a:xfrm flipH="1">
              <a:off x="7487280" y="650592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60" name=""/>
            <p:cNvSpPr/>
            <p:nvPr/>
          </p:nvSpPr>
          <p:spPr>
            <a:xfrm>
              <a:off x="7553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61" name=""/>
            <p:cNvSpPr/>
            <p:nvPr/>
          </p:nvSpPr>
          <p:spPr>
            <a:xfrm>
              <a:off x="7498440" y="66160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62" name=""/>
            <p:cNvSpPr/>
            <p:nvPr/>
          </p:nvSpPr>
          <p:spPr>
            <a:xfrm flipV="1">
              <a:off x="7444080" y="667044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463" name=""/>
            <p:cNvSpPr/>
            <p:nvPr/>
          </p:nvSpPr>
          <p:spPr>
            <a:xfrm flipV="1">
              <a:off x="7605360" y="644436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464" name=""/>
            <p:cNvSpPr/>
            <p:nvPr/>
          </p:nvSpPr>
          <p:spPr>
            <a:xfrm>
              <a:off x="7621920" y="647676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65" name=""/>
            <p:cNvSpPr/>
            <p:nvPr/>
          </p:nvSpPr>
          <p:spPr>
            <a:xfrm>
              <a:off x="7602840" y="634104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466" name=""/>
            <p:cNvSpPr/>
            <p:nvPr/>
          </p:nvSpPr>
          <p:spPr>
            <a:xfrm flipH="1">
              <a:off x="754920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67" name=""/>
            <p:cNvSpPr/>
            <p:nvPr/>
          </p:nvSpPr>
          <p:spPr>
            <a:xfrm>
              <a:off x="760284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68" name=""/>
            <p:cNvSpPr/>
            <p:nvPr/>
          </p:nvSpPr>
          <p:spPr>
            <a:xfrm>
              <a:off x="760680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469" name=""/>
            <p:cNvSpPr/>
            <p:nvPr/>
          </p:nvSpPr>
          <p:spPr>
            <a:xfrm>
              <a:off x="7627680" y="663048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470" name=""/>
            <p:cNvSpPr/>
            <p:nvPr/>
          </p:nvSpPr>
          <p:spPr>
            <a:xfrm>
              <a:off x="7498440" y="619740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471" name=""/>
            <p:cNvSpPr/>
            <p:nvPr/>
          </p:nvSpPr>
          <p:spPr>
            <a:xfrm flipH="1">
              <a:off x="7446960" y="62251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72" name=""/>
            <p:cNvSpPr/>
            <p:nvPr/>
          </p:nvSpPr>
          <p:spPr>
            <a:xfrm flipH="1">
              <a:off x="74300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73" name=""/>
            <p:cNvSpPr/>
            <p:nvPr/>
          </p:nvSpPr>
          <p:spPr>
            <a:xfrm flipH="1">
              <a:off x="745920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74" name=""/>
            <p:cNvSpPr/>
            <p:nvPr/>
          </p:nvSpPr>
          <p:spPr>
            <a:xfrm>
              <a:off x="7456680" y="60901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475" name=""/>
            <p:cNvSpPr/>
            <p:nvPr/>
          </p:nvSpPr>
          <p:spPr>
            <a:xfrm>
              <a:off x="75398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476" name=""/>
            <p:cNvSpPr/>
            <p:nvPr/>
          </p:nvSpPr>
          <p:spPr>
            <a:xfrm>
              <a:off x="7545600" y="639180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77" name=""/>
            <p:cNvSpPr/>
            <p:nvPr/>
          </p:nvSpPr>
          <p:spPr>
            <a:xfrm flipH="1">
              <a:off x="753876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478" name=""/>
            <p:cNvSpPr/>
            <p:nvPr/>
          </p:nvSpPr>
          <p:spPr>
            <a:xfrm>
              <a:off x="760680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479" name=""/>
            <p:cNvSpPr/>
            <p:nvPr/>
          </p:nvSpPr>
          <p:spPr>
            <a:xfrm>
              <a:off x="760284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80" name=""/>
            <p:cNvSpPr/>
            <p:nvPr/>
          </p:nvSpPr>
          <p:spPr>
            <a:xfrm flipH="1">
              <a:off x="762444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481" name=""/>
            <p:cNvSpPr/>
            <p:nvPr/>
          </p:nvSpPr>
          <p:spPr>
            <a:xfrm flipH="1" flipV="1">
              <a:off x="755964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482" name=""/>
            <p:cNvSpPr/>
            <p:nvPr/>
          </p:nvSpPr>
          <p:spPr>
            <a:xfrm flipH="1">
              <a:off x="7649640" y="627588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483" name=""/>
            <p:cNvSpPr/>
            <p:nvPr/>
          </p:nvSpPr>
          <p:spPr>
            <a:xfrm>
              <a:off x="7523280" y="659268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84" name=""/>
            <p:cNvSpPr/>
            <p:nvPr/>
          </p:nvSpPr>
          <p:spPr>
            <a:xfrm flipH="1" flipV="1">
              <a:off x="7556760" y="667656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1485" name=""/>
            <p:cNvSpPr/>
            <p:nvPr/>
          </p:nvSpPr>
          <p:spPr>
            <a:xfrm flipH="1">
              <a:off x="769104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86" name=""/>
            <p:cNvSpPr/>
            <p:nvPr/>
          </p:nvSpPr>
          <p:spPr>
            <a:xfrm>
              <a:off x="768600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87" name=""/>
            <p:cNvSpPr/>
            <p:nvPr/>
          </p:nvSpPr>
          <p:spPr>
            <a:xfrm>
              <a:off x="7690320" y="634356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88" name=""/>
            <p:cNvSpPr/>
            <p:nvPr/>
          </p:nvSpPr>
          <p:spPr>
            <a:xfrm>
              <a:off x="768600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89" name=""/>
            <p:cNvSpPr/>
            <p:nvPr/>
          </p:nvSpPr>
          <p:spPr>
            <a:xfrm flipH="1">
              <a:off x="77763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490" name=""/>
            <p:cNvSpPr/>
            <p:nvPr/>
          </p:nvSpPr>
          <p:spPr>
            <a:xfrm flipH="1" flipV="1">
              <a:off x="7791120" y="638712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491" name=""/>
            <p:cNvSpPr/>
            <p:nvPr/>
          </p:nvSpPr>
          <p:spPr>
            <a:xfrm flipH="1">
              <a:off x="771912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92" name=""/>
            <p:cNvSpPr/>
            <p:nvPr/>
          </p:nvSpPr>
          <p:spPr>
            <a:xfrm flipH="1" flipV="1">
              <a:off x="7719120" y="641304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493" name=""/>
            <p:cNvSpPr/>
            <p:nvPr/>
          </p:nvSpPr>
          <p:spPr>
            <a:xfrm flipH="1">
              <a:off x="778032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94" name=""/>
            <p:cNvSpPr/>
            <p:nvPr/>
          </p:nvSpPr>
          <p:spPr>
            <a:xfrm>
              <a:off x="78472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95" name=""/>
            <p:cNvSpPr/>
            <p:nvPr/>
          </p:nvSpPr>
          <p:spPr>
            <a:xfrm>
              <a:off x="7791480" y="661608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96" name=""/>
            <p:cNvSpPr/>
            <p:nvPr/>
          </p:nvSpPr>
          <p:spPr>
            <a:xfrm>
              <a:off x="7736040" y="668988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497" name=""/>
            <p:cNvSpPr/>
            <p:nvPr/>
          </p:nvSpPr>
          <p:spPr>
            <a:xfrm flipV="1">
              <a:off x="789876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498" name=""/>
            <p:cNvSpPr/>
            <p:nvPr/>
          </p:nvSpPr>
          <p:spPr>
            <a:xfrm>
              <a:off x="791532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99" name=""/>
            <p:cNvSpPr/>
            <p:nvPr/>
          </p:nvSpPr>
          <p:spPr>
            <a:xfrm>
              <a:off x="789300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500" name=""/>
            <p:cNvSpPr/>
            <p:nvPr/>
          </p:nvSpPr>
          <p:spPr>
            <a:xfrm flipH="1">
              <a:off x="784332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01" name=""/>
            <p:cNvSpPr/>
            <p:nvPr/>
          </p:nvSpPr>
          <p:spPr>
            <a:xfrm>
              <a:off x="789300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02" name=""/>
            <p:cNvSpPr/>
            <p:nvPr/>
          </p:nvSpPr>
          <p:spPr>
            <a:xfrm>
              <a:off x="7899840" y="620172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503" name=""/>
            <p:cNvSpPr/>
            <p:nvPr/>
          </p:nvSpPr>
          <p:spPr>
            <a:xfrm>
              <a:off x="7919640" y="663048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504" name=""/>
            <p:cNvSpPr/>
            <p:nvPr/>
          </p:nvSpPr>
          <p:spPr>
            <a:xfrm>
              <a:off x="7791480" y="619740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505" name=""/>
            <p:cNvSpPr/>
            <p:nvPr/>
          </p:nvSpPr>
          <p:spPr>
            <a:xfrm flipH="1">
              <a:off x="7738920" y="62550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06" name=""/>
            <p:cNvSpPr/>
            <p:nvPr/>
          </p:nvSpPr>
          <p:spPr>
            <a:xfrm flipH="1">
              <a:off x="77216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507" name=""/>
            <p:cNvSpPr/>
            <p:nvPr/>
          </p:nvSpPr>
          <p:spPr>
            <a:xfrm flipH="1">
              <a:off x="7751160" y="652500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08" name=""/>
            <p:cNvSpPr/>
            <p:nvPr/>
          </p:nvSpPr>
          <p:spPr>
            <a:xfrm>
              <a:off x="7747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509" name=""/>
            <p:cNvSpPr/>
            <p:nvPr/>
          </p:nvSpPr>
          <p:spPr>
            <a:xfrm>
              <a:off x="783180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510" name=""/>
            <p:cNvSpPr/>
            <p:nvPr/>
          </p:nvSpPr>
          <p:spPr>
            <a:xfrm>
              <a:off x="7840440" y="639180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511" name=""/>
            <p:cNvSpPr/>
            <p:nvPr/>
          </p:nvSpPr>
          <p:spPr>
            <a:xfrm flipH="1">
              <a:off x="7831440" y="651888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512" name=""/>
            <p:cNvSpPr/>
            <p:nvPr/>
          </p:nvSpPr>
          <p:spPr>
            <a:xfrm>
              <a:off x="789876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13" name=""/>
            <p:cNvSpPr/>
            <p:nvPr/>
          </p:nvSpPr>
          <p:spPr>
            <a:xfrm>
              <a:off x="789300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14" name=""/>
            <p:cNvSpPr/>
            <p:nvPr/>
          </p:nvSpPr>
          <p:spPr>
            <a:xfrm flipH="1">
              <a:off x="7916400" y="612360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515" name=""/>
            <p:cNvSpPr/>
            <p:nvPr/>
          </p:nvSpPr>
          <p:spPr>
            <a:xfrm flipH="1" flipV="1">
              <a:off x="7851240" y="661356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516" name=""/>
            <p:cNvSpPr/>
            <p:nvPr/>
          </p:nvSpPr>
          <p:spPr>
            <a:xfrm flipH="1">
              <a:off x="7941600" y="627588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517" name=""/>
            <p:cNvSpPr/>
            <p:nvPr/>
          </p:nvSpPr>
          <p:spPr>
            <a:xfrm>
              <a:off x="7815240" y="659268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518" name=""/>
            <p:cNvSpPr/>
            <p:nvPr/>
          </p:nvSpPr>
          <p:spPr>
            <a:xfrm flipH="1" flipV="1">
              <a:off x="7846920" y="669168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519" name=""/>
            <p:cNvSpPr/>
            <p:nvPr/>
          </p:nvSpPr>
          <p:spPr>
            <a:xfrm flipH="1">
              <a:off x="798192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20" name=""/>
            <p:cNvSpPr/>
            <p:nvPr/>
          </p:nvSpPr>
          <p:spPr>
            <a:xfrm>
              <a:off x="797796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21" name=""/>
            <p:cNvSpPr/>
            <p:nvPr/>
          </p:nvSpPr>
          <p:spPr>
            <a:xfrm>
              <a:off x="7983360" y="6314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22" name=""/>
            <p:cNvSpPr/>
            <p:nvPr/>
          </p:nvSpPr>
          <p:spPr>
            <a:xfrm>
              <a:off x="797796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23" name=""/>
            <p:cNvSpPr/>
            <p:nvPr/>
          </p:nvSpPr>
          <p:spPr>
            <a:xfrm flipH="1">
              <a:off x="7704000" y="666864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524" name=""/>
            <p:cNvSpPr/>
            <p:nvPr/>
          </p:nvSpPr>
          <p:spPr>
            <a:xfrm flipH="1">
              <a:off x="808920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525" name=""/>
            <p:cNvSpPr/>
            <p:nvPr/>
          </p:nvSpPr>
          <p:spPr>
            <a:xfrm flipH="1" flipV="1">
              <a:off x="8105400" y="641304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26" name=""/>
            <p:cNvSpPr/>
            <p:nvPr/>
          </p:nvSpPr>
          <p:spPr>
            <a:xfrm flipH="1">
              <a:off x="8033400" y="620172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27" name=""/>
            <p:cNvSpPr/>
            <p:nvPr/>
          </p:nvSpPr>
          <p:spPr>
            <a:xfrm flipH="1">
              <a:off x="806832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28" name=""/>
            <p:cNvSpPr/>
            <p:nvPr/>
          </p:nvSpPr>
          <p:spPr>
            <a:xfrm flipH="1">
              <a:off x="8092080" y="653112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29" name=""/>
            <p:cNvSpPr/>
            <p:nvPr/>
          </p:nvSpPr>
          <p:spPr>
            <a:xfrm>
              <a:off x="81601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530" name=""/>
            <p:cNvSpPr/>
            <p:nvPr/>
          </p:nvSpPr>
          <p:spPr>
            <a:xfrm>
              <a:off x="810288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31" name=""/>
            <p:cNvSpPr/>
            <p:nvPr/>
          </p:nvSpPr>
          <p:spPr>
            <a:xfrm>
              <a:off x="8044560" y="673200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532" name=""/>
            <p:cNvSpPr/>
            <p:nvPr/>
          </p:nvSpPr>
          <p:spPr>
            <a:xfrm>
              <a:off x="8211600" y="64828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33" name=""/>
            <p:cNvSpPr/>
            <p:nvPr/>
          </p:nvSpPr>
          <p:spPr>
            <a:xfrm>
              <a:off x="8229600" y="65059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34" name=""/>
            <p:cNvSpPr/>
            <p:nvPr/>
          </p:nvSpPr>
          <p:spPr>
            <a:xfrm>
              <a:off x="8206200" y="636660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35" name=""/>
            <p:cNvSpPr/>
            <p:nvPr/>
          </p:nvSpPr>
          <p:spPr>
            <a:xfrm flipH="1">
              <a:off x="815544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36" name=""/>
            <p:cNvSpPr/>
            <p:nvPr/>
          </p:nvSpPr>
          <p:spPr>
            <a:xfrm>
              <a:off x="8165880" y="61070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37" name=""/>
            <p:cNvSpPr/>
            <p:nvPr/>
          </p:nvSpPr>
          <p:spPr>
            <a:xfrm>
              <a:off x="821304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538" name=""/>
            <p:cNvSpPr/>
            <p:nvPr/>
          </p:nvSpPr>
          <p:spPr>
            <a:xfrm>
              <a:off x="8233920" y="665388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539" name=""/>
            <p:cNvSpPr/>
            <p:nvPr/>
          </p:nvSpPr>
          <p:spPr>
            <a:xfrm>
              <a:off x="810288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40" name=""/>
            <p:cNvSpPr/>
            <p:nvPr/>
          </p:nvSpPr>
          <p:spPr>
            <a:xfrm flipH="1">
              <a:off x="8054280" y="628236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41" name=""/>
            <p:cNvSpPr/>
            <p:nvPr/>
          </p:nvSpPr>
          <p:spPr>
            <a:xfrm flipH="1">
              <a:off x="803628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542" name=""/>
            <p:cNvSpPr/>
            <p:nvPr/>
          </p:nvSpPr>
          <p:spPr>
            <a:xfrm flipH="1">
              <a:off x="8066880" y="655488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43" name=""/>
            <p:cNvSpPr/>
            <p:nvPr/>
          </p:nvSpPr>
          <p:spPr>
            <a:xfrm>
              <a:off x="8060040" y="611568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544" name=""/>
            <p:cNvSpPr/>
            <p:nvPr/>
          </p:nvSpPr>
          <p:spPr>
            <a:xfrm>
              <a:off x="8125560" y="609012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545" name=""/>
            <p:cNvSpPr/>
            <p:nvPr/>
          </p:nvSpPr>
          <p:spPr>
            <a:xfrm>
              <a:off x="815328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546" name=""/>
            <p:cNvSpPr/>
            <p:nvPr/>
          </p:nvSpPr>
          <p:spPr>
            <a:xfrm flipH="1">
              <a:off x="8146080" y="654624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547" name=""/>
            <p:cNvSpPr/>
            <p:nvPr/>
          </p:nvSpPr>
          <p:spPr>
            <a:xfrm>
              <a:off x="8211600" y="660312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48" name=""/>
            <p:cNvSpPr/>
            <p:nvPr/>
          </p:nvSpPr>
          <p:spPr>
            <a:xfrm>
              <a:off x="8206200" y="625500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49" name=""/>
            <p:cNvSpPr/>
            <p:nvPr/>
          </p:nvSpPr>
          <p:spPr>
            <a:xfrm flipH="1">
              <a:off x="8271360" y="609660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550" name=""/>
            <p:cNvSpPr/>
            <p:nvPr/>
          </p:nvSpPr>
          <p:spPr>
            <a:xfrm flipH="1" flipV="1">
              <a:off x="816696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551" name=""/>
            <p:cNvSpPr/>
            <p:nvPr/>
          </p:nvSpPr>
          <p:spPr>
            <a:xfrm flipH="1">
              <a:off x="825444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52" name=""/>
            <p:cNvSpPr/>
            <p:nvPr/>
          </p:nvSpPr>
          <p:spPr>
            <a:xfrm>
              <a:off x="8128080" y="662220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53" name=""/>
            <p:cNvSpPr/>
            <p:nvPr/>
          </p:nvSpPr>
          <p:spPr>
            <a:xfrm flipH="1">
              <a:off x="8296200" y="641304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554" name=""/>
            <p:cNvSpPr/>
            <p:nvPr/>
          </p:nvSpPr>
          <p:spPr>
            <a:xfrm>
              <a:off x="8292240" y="622728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55" name=""/>
            <p:cNvSpPr/>
            <p:nvPr/>
          </p:nvSpPr>
          <p:spPr>
            <a:xfrm>
              <a:off x="8296200" y="63435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56" name=""/>
            <p:cNvSpPr/>
            <p:nvPr/>
          </p:nvSpPr>
          <p:spPr>
            <a:xfrm>
              <a:off x="8292240" y="65311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57" name=""/>
            <p:cNvSpPr/>
            <p:nvPr/>
          </p:nvSpPr>
          <p:spPr>
            <a:xfrm flipH="1">
              <a:off x="836028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558" name=""/>
            <p:cNvSpPr/>
            <p:nvPr/>
          </p:nvSpPr>
          <p:spPr>
            <a:xfrm flipH="1" flipV="1">
              <a:off x="837684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59" name=""/>
            <p:cNvSpPr/>
            <p:nvPr/>
          </p:nvSpPr>
          <p:spPr>
            <a:xfrm flipH="1">
              <a:off x="8305560" y="620172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60" name=""/>
            <p:cNvSpPr/>
            <p:nvPr/>
          </p:nvSpPr>
          <p:spPr>
            <a:xfrm flipH="1">
              <a:off x="833940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61" name=""/>
            <p:cNvSpPr/>
            <p:nvPr/>
          </p:nvSpPr>
          <p:spPr>
            <a:xfrm flipH="1">
              <a:off x="836388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62" name=""/>
            <p:cNvSpPr/>
            <p:nvPr/>
          </p:nvSpPr>
          <p:spPr>
            <a:xfrm>
              <a:off x="84312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563" name=""/>
            <p:cNvSpPr/>
            <p:nvPr/>
          </p:nvSpPr>
          <p:spPr>
            <a:xfrm>
              <a:off x="8375760" y="66434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64" name=""/>
            <p:cNvSpPr/>
            <p:nvPr/>
          </p:nvSpPr>
          <p:spPr>
            <a:xfrm flipV="1">
              <a:off x="8322840" y="669852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65" name=""/>
            <p:cNvSpPr/>
            <p:nvPr/>
          </p:nvSpPr>
          <p:spPr>
            <a:xfrm>
              <a:off x="848412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66" name=""/>
            <p:cNvSpPr/>
            <p:nvPr/>
          </p:nvSpPr>
          <p:spPr>
            <a:xfrm>
              <a:off x="850068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67" name=""/>
            <p:cNvSpPr/>
            <p:nvPr/>
          </p:nvSpPr>
          <p:spPr>
            <a:xfrm>
              <a:off x="8478360" y="63666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68" name=""/>
            <p:cNvSpPr/>
            <p:nvPr/>
          </p:nvSpPr>
          <p:spPr>
            <a:xfrm flipH="1">
              <a:off x="8429760" y="63097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69" name=""/>
            <p:cNvSpPr/>
            <p:nvPr/>
          </p:nvSpPr>
          <p:spPr>
            <a:xfrm>
              <a:off x="8396640" y="608148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70" name=""/>
            <p:cNvSpPr/>
            <p:nvPr/>
          </p:nvSpPr>
          <p:spPr>
            <a:xfrm>
              <a:off x="848412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571" name=""/>
            <p:cNvSpPr/>
            <p:nvPr/>
          </p:nvSpPr>
          <p:spPr>
            <a:xfrm>
              <a:off x="85035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572" name=""/>
            <p:cNvSpPr/>
            <p:nvPr/>
          </p:nvSpPr>
          <p:spPr>
            <a:xfrm>
              <a:off x="837576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73" name=""/>
            <p:cNvSpPr/>
            <p:nvPr/>
          </p:nvSpPr>
          <p:spPr>
            <a:xfrm flipH="1">
              <a:off x="8323560" y="62550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74" name=""/>
            <p:cNvSpPr/>
            <p:nvPr/>
          </p:nvSpPr>
          <p:spPr>
            <a:xfrm flipH="1">
              <a:off x="8307360" y="650160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575" name=""/>
            <p:cNvSpPr/>
            <p:nvPr/>
          </p:nvSpPr>
          <p:spPr>
            <a:xfrm flipH="1">
              <a:off x="8336520" y="655488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76" name=""/>
            <p:cNvSpPr/>
            <p:nvPr/>
          </p:nvSpPr>
          <p:spPr>
            <a:xfrm>
              <a:off x="8353440" y="611568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577" name=""/>
            <p:cNvSpPr/>
            <p:nvPr/>
          </p:nvSpPr>
          <p:spPr>
            <a:xfrm>
              <a:off x="84157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578" name=""/>
            <p:cNvSpPr/>
            <p:nvPr/>
          </p:nvSpPr>
          <p:spPr>
            <a:xfrm>
              <a:off x="842436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579" name=""/>
            <p:cNvSpPr/>
            <p:nvPr/>
          </p:nvSpPr>
          <p:spPr>
            <a:xfrm flipH="1">
              <a:off x="8417160" y="654624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580" name=""/>
            <p:cNvSpPr/>
            <p:nvPr/>
          </p:nvSpPr>
          <p:spPr>
            <a:xfrm>
              <a:off x="8484120" y="660312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81" name=""/>
            <p:cNvSpPr/>
            <p:nvPr/>
          </p:nvSpPr>
          <p:spPr>
            <a:xfrm>
              <a:off x="8478360" y="625500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82" name=""/>
            <p:cNvSpPr/>
            <p:nvPr/>
          </p:nvSpPr>
          <p:spPr>
            <a:xfrm flipH="1">
              <a:off x="8504640" y="609660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583" name=""/>
            <p:cNvSpPr/>
            <p:nvPr/>
          </p:nvSpPr>
          <p:spPr>
            <a:xfrm flipH="1" flipV="1">
              <a:off x="8436960" y="664128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584" name=""/>
            <p:cNvSpPr/>
            <p:nvPr/>
          </p:nvSpPr>
          <p:spPr>
            <a:xfrm flipH="1">
              <a:off x="852552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85" name=""/>
            <p:cNvSpPr/>
            <p:nvPr/>
          </p:nvSpPr>
          <p:spPr>
            <a:xfrm>
              <a:off x="8400600" y="662220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86" name=""/>
            <p:cNvSpPr/>
            <p:nvPr/>
          </p:nvSpPr>
          <p:spPr>
            <a:xfrm flipH="1" flipV="1">
              <a:off x="8433720" y="670896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587" name=""/>
            <p:cNvSpPr/>
            <p:nvPr/>
          </p:nvSpPr>
          <p:spPr>
            <a:xfrm flipH="1">
              <a:off x="856692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588" name=""/>
            <p:cNvSpPr/>
            <p:nvPr/>
          </p:nvSpPr>
          <p:spPr>
            <a:xfrm>
              <a:off x="8563320" y="61700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89" name=""/>
            <p:cNvSpPr/>
            <p:nvPr/>
          </p:nvSpPr>
          <p:spPr>
            <a:xfrm>
              <a:off x="8567280" y="63709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90" name=""/>
            <p:cNvSpPr/>
            <p:nvPr/>
          </p:nvSpPr>
          <p:spPr>
            <a:xfrm>
              <a:off x="8563320" y="653112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91" name=""/>
            <p:cNvSpPr/>
            <p:nvPr/>
          </p:nvSpPr>
          <p:spPr>
            <a:xfrm flipH="1">
              <a:off x="8651880" y="634356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592" name=""/>
            <p:cNvSpPr/>
            <p:nvPr/>
          </p:nvSpPr>
          <p:spPr>
            <a:xfrm flipH="1" flipV="1">
              <a:off x="866880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93" name=""/>
            <p:cNvSpPr/>
            <p:nvPr/>
          </p:nvSpPr>
          <p:spPr>
            <a:xfrm flipH="1">
              <a:off x="859644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594" name=""/>
            <p:cNvSpPr/>
            <p:nvPr/>
          </p:nvSpPr>
          <p:spPr>
            <a:xfrm flipH="1" flipV="1">
              <a:off x="8596440" y="644256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595" name=""/>
            <p:cNvSpPr/>
            <p:nvPr/>
          </p:nvSpPr>
          <p:spPr>
            <a:xfrm flipH="1">
              <a:off x="865584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96" name=""/>
            <p:cNvSpPr/>
            <p:nvPr/>
          </p:nvSpPr>
          <p:spPr>
            <a:xfrm>
              <a:off x="872316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597" name=""/>
            <p:cNvSpPr/>
            <p:nvPr/>
          </p:nvSpPr>
          <p:spPr>
            <a:xfrm>
              <a:off x="866772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98" name=""/>
            <p:cNvSpPr/>
            <p:nvPr/>
          </p:nvSpPr>
          <p:spPr>
            <a:xfrm>
              <a:off x="8613360" y="671688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599" name=""/>
            <p:cNvSpPr/>
            <p:nvPr/>
          </p:nvSpPr>
          <p:spPr>
            <a:xfrm>
              <a:off x="877608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00" name=""/>
            <p:cNvSpPr/>
            <p:nvPr/>
          </p:nvSpPr>
          <p:spPr>
            <a:xfrm>
              <a:off x="879264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01" name=""/>
            <p:cNvSpPr/>
            <p:nvPr/>
          </p:nvSpPr>
          <p:spPr>
            <a:xfrm>
              <a:off x="8771760" y="63666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02" name=""/>
            <p:cNvSpPr/>
            <p:nvPr/>
          </p:nvSpPr>
          <p:spPr>
            <a:xfrm flipH="1">
              <a:off x="871992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03" name=""/>
            <p:cNvSpPr/>
            <p:nvPr/>
          </p:nvSpPr>
          <p:spPr>
            <a:xfrm>
              <a:off x="8668800" y="607536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1604" name=""/>
            <p:cNvSpPr/>
            <p:nvPr/>
          </p:nvSpPr>
          <p:spPr>
            <a:xfrm>
              <a:off x="8778600" y="622944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605" name=""/>
            <p:cNvSpPr/>
            <p:nvPr/>
          </p:nvSpPr>
          <p:spPr>
            <a:xfrm>
              <a:off x="87951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606" name=""/>
            <p:cNvSpPr/>
            <p:nvPr/>
          </p:nvSpPr>
          <p:spPr>
            <a:xfrm>
              <a:off x="866772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07" name=""/>
            <p:cNvSpPr/>
            <p:nvPr/>
          </p:nvSpPr>
          <p:spPr>
            <a:xfrm flipH="1">
              <a:off x="861768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08" name=""/>
            <p:cNvSpPr/>
            <p:nvPr/>
          </p:nvSpPr>
          <p:spPr>
            <a:xfrm flipH="1">
              <a:off x="859932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609" name=""/>
            <p:cNvSpPr/>
            <p:nvPr/>
          </p:nvSpPr>
          <p:spPr>
            <a:xfrm flipH="1">
              <a:off x="862992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610" name=""/>
            <p:cNvSpPr/>
            <p:nvPr/>
          </p:nvSpPr>
          <p:spPr>
            <a:xfrm>
              <a:off x="8584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611" name=""/>
            <p:cNvSpPr/>
            <p:nvPr/>
          </p:nvSpPr>
          <p:spPr>
            <a:xfrm>
              <a:off x="87091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612" name=""/>
            <p:cNvSpPr/>
            <p:nvPr/>
          </p:nvSpPr>
          <p:spPr>
            <a:xfrm>
              <a:off x="871632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13" name=""/>
            <p:cNvSpPr/>
            <p:nvPr/>
          </p:nvSpPr>
          <p:spPr>
            <a:xfrm flipH="1">
              <a:off x="8709120" y="654624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614" name=""/>
            <p:cNvSpPr/>
            <p:nvPr/>
          </p:nvSpPr>
          <p:spPr>
            <a:xfrm>
              <a:off x="8778600" y="660312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615" name=""/>
            <p:cNvSpPr/>
            <p:nvPr/>
          </p:nvSpPr>
          <p:spPr>
            <a:xfrm>
              <a:off x="8771760" y="625500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16" name=""/>
            <p:cNvSpPr/>
            <p:nvPr/>
          </p:nvSpPr>
          <p:spPr>
            <a:xfrm flipH="1">
              <a:off x="8732520" y="609660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17" name=""/>
            <p:cNvSpPr/>
            <p:nvPr/>
          </p:nvSpPr>
          <p:spPr>
            <a:xfrm flipH="1" flipV="1">
              <a:off x="873000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618" name=""/>
            <p:cNvSpPr/>
            <p:nvPr/>
          </p:nvSpPr>
          <p:spPr>
            <a:xfrm flipH="1">
              <a:off x="881748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619" name=""/>
            <p:cNvSpPr/>
            <p:nvPr/>
          </p:nvSpPr>
          <p:spPr>
            <a:xfrm>
              <a:off x="8693640" y="662220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20" name=""/>
            <p:cNvSpPr/>
            <p:nvPr/>
          </p:nvSpPr>
          <p:spPr>
            <a:xfrm flipH="1" flipV="1">
              <a:off x="8721720" y="672084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1621" name=""/>
            <p:cNvSpPr/>
            <p:nvPr/>
          </p:nvSpPr>
          <p:spPr>
            <a:xfrm flipH="1">
              <a:off x="885888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622" name=""/>
            <p:cNvSpPr/>
            <p:nvPr/>
          </p:nvSpPr>
          <p:spPr>
            <a:xfrm>
              <a:off x="8813520" y="614484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23" name=""/>
            <p:cNvSpPr/>
            <p:nvPr/>
          </p:nvSpPr>
          <p:spPr>
            <a:xfrm>
              <a:off x="8817840" y="6121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24" name=""/>
            <p:cNvSpPr/>
            <p:nvPr/>
          </p:nvSpPr>
          <p:spPr>
            <a:xfrm>
              <a:off x="8853840" y="65311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25" name=""/>
            <p:cNvSpPr/>
            <p:nvPr/>
          </p:nvSpPr>
          <p:spPr>
            <a:xfrm flipH="1">
              <a:off x="8579520" y="663912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1626" name=""/>
            <p:cNvSpPr/>
            <p:nvPr/>
          </p:nvSpPr>
          <p:spPr>
            <a:xfrm>
              <a:off x="8019720" y="61621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27" name=""/>
            <p:cNvSpPr/>
            <p:nvPr/>
          </p:nvSpPr>
          <p:spPr>
            <a:xfrm>
              <a:off x="8250480" y="61894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28" name=""/>
            <p:cNvSpPr/>
            <p:nvPr/>
          </p:nvSpPr>
          <p:spPr>
            <a:xfrm flipV="1">
              <a:off x="8004240" y="666000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29" name=""/>
            <p:cNvSpPr/>
            <p:nvPr/>
          </p:nvSpPr>
          <p:spPr>
            <a:xfrm>
              <a:off x="8210160" y="606888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30" name=""/>
            <p:cNvSpPr/>
            <p:nvPr/>
          </p:nvSpPr>
          <p:spPr>
            <a:xfrm>
              <a:off x="7997400" y="663480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31" name=""/>
            <p:cNvSpPr/>
            <p:nvPr/>
          </p:nvSpPr>
          <p:spPr>
            <a:xfrm>
              <a:off x="8563320" y="630144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32" name=""/>
            <p:cNvSpPr/>
            <p:nvPr/>
          </p:nvSpPr>
          <p:spPr>
            <a:xfrm flipV="1">
              <a:off x="8853840" y="622728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1633" name=""/>
            <p:cNvSpPr/>
            <p:nvPr/>
          </p:nvSpPr>
          <p:spPr>
            <a:xfrm flipH="1">
              <a:off x="8010720" y="644688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1634" name=""/>
            <p:cNvSpPr/>
            <p:nvPr/>
          </p:nvSpPr>
          <p:spPr>
            <a:xfrm flipH="1">
              <a:off x="8807760" y="639000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1635" name=""/>
            <p:cNvSpPr/>
            <p:nvPr/>
          </p:nvSpPr>
          <p:spPr>
            <a:xfrm flipH="1">
              <a:off x="7993080" y="608364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36" name=""/>
            <p:cNvSpPr/>
            <p:nvPr/>
          </p:nvSpPr>
          <p:spPr>
            <a:xfrm flipH="1">
              <a:off x="8180640" y="614052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637" name=""/>
            <p:cNvSpPr/>
            <p:nvPr/>
          </p:nvSpPr>
          <p:spPr>
            <a:xfrm flipH="1">
              <a:off x="89247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638" name=""/>
            <p:cNvSpPr/>
            <p:nvPr/>
          </p:nvSpPr>
          <p:spPr>
            <a:xfrm flipH="1" flipV="1">
              <a:off x="8942760" y="638712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639" name=""/>
            <p:cNvSpPr/>
            <p:nvPr/>
          </p:nvSpPr>
          <p:spPr>
            <a:xfrm flipH="1">
              <a:off x="8905320" y="636048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640" name=""/>
            <p:cNvSpPr/>
            <p:nvPr/>
          </p:nvSpPr>
          <p:spPr>
            <a:xfrm flipH="1">
              <a:off x="8927280" y="650592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41" name=""/>
            <p:cNvSpPr/>
            <p:nvPr/>
          </p:nvSpPr>
          <p:spPr>
            <a:xfrm>
              <a:off x="8995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642" name=""/>
            <p:cNvSpPr/>
            <p:nvPr/>
          </p:nvSpPr>
          <p:spPr>
            <a:xfrm>
              <a:off x="8896680" y="66747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643" name=""/>
            <p:cNvSpPr/>
            <p:nvPr/>
          </p:nvSpPr>
          <p:spPr>
            <a:xfrm flipV="1">
              <a:off x="9048600" y="644436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44" name=""/>
            <p:cNvSpPr/>
            <p:nvPr/>
          </p:nvSpPr>
          <p:spPr>
            <a:xfrm>
              <a:off x="9062280" y="64767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45" name=""/>
            <p:cNvSpPr/>
            <p:nvPr/>
          </p:nvSpPr>
          <p:spPr>
            <a:xfrm>
              <a:off x="9044280" y="634104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646" name=""/>
            <p:cNvSpPr/>
            <p:nvPr/>
          </p:nvSpPr>
          <p:spPr>
            <a:xfrm flipH="1">
              <a:off x="8992440" y="628236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47" name=""/>
            <p:cNvSpPr/>
            <p:nvPr/>
          </p:nvSpPr>
          <p:spPr>
            <a:xfrm>
              <a:off x="904428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48" name=""/>
            <p:cNvSpPr/>
            <p:nvPr/>
          </p:nvSpPr>
          <p:spPr>
            <a:xfrm>
              <a:off x="9049680" y="620172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649" name=""/>
            <p:cNvSpPr/>
            <p:nvPr/>
          </p:nvSpPr>
          <p:spPr>
            <a:xfrm>
              <a:off x="8938440" y="619740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650" name=""/>
            <p:cNvSpPr/>
            <p:nvPr/>
          </p:nvSpPr>
          <p:spPr>
            <a:xfrm flipH="1">
              <a:off x="888840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51" name=""/>
            <p:cNvSpPr/>
            <p:nvPr/>
          </p:nvSpPr>
          <p:spPr>
            <a:xfrm flipH="1">
              <a:off x="8901000" y="652500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652" name=""/>
            <p:cNvSpPr/>
            <p:nvPr/>
          </p:nvSpPr>
          <p:spPr>
            <a:xfrm>
              <a:off x="889668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653" name=""/>
            <p:cNvSpPr/>
            <p:nvPr/>
          </p:nvSpPr>
          <p:spPr>
            <a:xfrm>
              <a:off x="89816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654" name=""/>
            <p:cNvSpPr/>
            <p:nvPr/>
          </p:nvSpPr>
          <p:spPr>
            <a:xfrm>
              <a:off x="898740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655" name=""/>
            <p:cNvSpPr/>
            <p:nvPr/>
          </p:nvSpPr>
          <p:spPr>
            <a:xfrm flipH="1">
              <a:off x="8980200" y="651888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656" name=""/>
            <p:cNvSpPr/>
            <p:nvPr/>
          </p:nvSpPr>
          <p:spPr>
            <a:xfrm>
              <a:off x="9048600" y="657576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657" name=""/>
            <p:cNvSpPr/>
            <p:nvPr/>
          </p:nvSpPr>
          <p:spPr>
            <a:xfrm>
              <a:off x="904428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58" name=""/>
            <p:cNvSpPr/>
            <p:nvPr/>
          </p:nvSpPr>
          <p:spPr>
            <a:xfrm flipH="1">
              <a:off x="9065160" y="612360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659" name=""/>
            <p:cNvSpPr/>
            <p:nvPr/>
          </p:nvSpPr>
          <p:spPr>
            <a:xfrm flipH="1" flipV="1">
              <a:off x="900108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660" name=""/>
            <p:cNvSpPr/>
            <p:nvPr/>
          </p:nvSpPr>
          <p:spPr>
            <a:xfrm flipH="1">
              <a:off x="9090000" y="627588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661" name=""/>
            <p:cNvSpPr/>
            <p:nvPr/>
          </p:nvSpPr>
          <p:spPr>
            <a:xfrm>
              <a:off x="8966520" y="659268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662" name=""/>
            <p:cNvSpPr/>
            <p:nvPr/>
          </p:nvSpPr>
          <p:spPr>
            <a:xfrm flipH="1" flipV="1">
              <a:off x="899388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663" name=""/>
            <p:cNvSpPr/>
            <p:nvPr/>
          </p:nvSpPr>
          <p:spPr>
            <a:xfrm>
              <a:off x="8951040" y="663480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664" name=""/>
            <p:cNvSpPr/>
            <p:nvPr/>
          </p:nvSpPr>
          <p:spPr>
            <a:xfrm>
              <a:off x="735228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65" name=""/>
            <p:cNvSpPr/>
            <p:nvPr/>
          </p:nvSpPr>
          <p:spPr>
            <a:xfrm>
              <a:off x="7203600" y="675540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66" name=""/>
            <p:cNvSpPr/>
            <p:nvPr/>
          </p:nvSpPr>
          <p:spPr>
            <a:xfrm>
              <a:off x="728712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67" name=""/>
            <p:cNvSpPr/>
            <p:nvPr/>
          </p:nvSpPr>
          <p:spPr>
            <a:xfrm flipH="1">
              <a:off x="737424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668" name=""/>
            <p:cNvSpPr/>
            <p:nvPr/>
          </p:nvSpPr>
          <p:spPr>
            <a:xfrm>
              <a:off x="7621920" y="6776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69" name=""/>
            <p:cNvSpPr/>
            <p:nvPr/>
          </p:nvSpPr>
          <p:spPr>
            <a:xfrm>
              <a:off x="7474680" y="675540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70" name=""/>
            <p:cNvSpPr/>
            <p:nvPr/>
          </p:nvSpPr>
          <p:spPr>
            <a:xfrm>
              <a:off x="755964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71" name=""/>
            <p:cNvSpPr/>
            <p:nvPr/>
          </p:nvSpPr>
          <p:spPr>
            <a:xfrm flipH="1">
              <a:off x="764676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672" name=""/>
            <p:cNvSpPr/>
            <p:nvPr/>
          </p:nvSpPr>
          <p:spPr>
            <a:xfrm>
              <a:off x="9105480" y="661608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73" name=""/>
            <p:cNvSpPr/>
            <p:nvPr/>
          </p:nvSpPr>
          <p:spPr>
            <a:xfrm>
              <a:off x="791532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74" name=""/>
            <p:cNvSpPr/>
            <p:nvPr/>
          </p:nvSpPr>
          <p:spPr>
            <a:xfrm>
              <a:off x="776808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75" name=""/>
            <p:cNvSpPr/>
            <p:nvPr/>
          </p:nvSpPr>
          <p:spPr>
            <a:xfrm>
              <a:off x="7853040" y="675540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76" name=""/>
            <p:cNvSpPr/>
            <p:nvPr/>
          </p:nvSpPr>
          <p:spPr>
            <a:xfrm flipH="1">
              <a:off x="7937640" y="679140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677" name=""/>
            <p:cNvSpPr/>
            <p:nvPr/>
          </p:nvSpPr>
          <p:spPr>
            <a:xfrm>
              <a:off x="8186400" y="6776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78" name=""/>
            <p:cNvSpPr/>
            <p:nvPr/>
          </p:nvSpPr>
          <p:spPr>
            <a:xfrm>
              <a:off x="808380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679" name=""/>
            <p:cNvSpPr/>
            <p:nvPr/>
          </p:nvSpPr>
          <p:spPr>
            <a:xfrm>
              <a:off x="8145000" y="67554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80" name=""/>
            <p:cNvSpPr/>
            <p:nvPr/>
          </p:nvSpPr>
          <p:spPr>
            <a:xfrm flipH="1">
              <a:off x="8292960" y="6765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81" name=""/>
            <p:cNvSpPr/>
            <p:nvPr/>
          </p:nvSpPr>
          <p:spPr>
            <a:xfrm>
              <a:off x="8415720" y="674676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82" name=""/>
            <p:cNvSpPr/>
            <p:nvPr/>
          </p:nvSpPr>
          <p:spPr>
            <a:xfrm>
              <a:off x="837576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683" name=""/>
            <p:cNvSpPr/>
            <p:nvPr/>
          </p:nvSpPr>
          <p:spPr>
            <a:xfrm>
              <a:off x="843696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84" name=""/>
            <p:cNvSpPr/>
            <p:nvPr/>
          </p:nvSpPr>
          <p:spPr>
            <a:xfrm flipH="1">
              <a:off x="8522640" y="676584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85" name=""/>
            <p:cNvSpPr/>
            <p:nvPr/>
          </p:nvSpPr>
          <p:spPr>
            <a:xfrm>
              <a:off x="8691120" y="674064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686" name=""/>
            <p:cNvSpPr/>
            <p:nvPr/>
          </p:nvSpPr>
          <p:spPr>
            <a:xfrm>
              <a:off x="860364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87" name=""/>
            <p:cNvSpPr/>
            <p:nvPr/>
          </p:nvSpPr>
          <p:spPr>
            <a:xfrm>
              <a:off x="8728920" y="678456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88" name=""/>
            <p:cNvSpPr/>
            <p:nvPr/>
          </p:nvSpPr>
          <p:spPr>
            <a:xfrm flipH="1">
              <a:off x="8754840" y="676584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89" name=""/>
            <p:cNvSpPr/>
            <p:nvPr/>
          </p:nvSpPr>
          <p:spPr>
            <a:xfrm>
              <a:off x="883440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90" name=""/>
            <p:cNvSpPr/>
            <p:nvPr/>
          </p:nvSpPr>
          <p:spPr>
            <a:xfrm>
              <a:off x="8903880" y="681660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91" name=""/>
            <p:cNvSpPr/>
            <p:nvPr/>
          </p:nvSpPr>
          <p:spPr>
            <a:xfrm>
              <a:off x="8231040" y="673812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92" name=""/>
            <p:cNvSpPr/>
            <p:nvPr/>
          </p:nvSpPr>
          <p:spPr>
            <a:xfrm flipH="1">
              <a:off x="8201520" y="680976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693" name=""/>
            <p:cNvSpPr/>
            <p:nvPr/>
          </p:nvSpPr>
          <p:spPr>
            <a:xfrm>
              <a:off x="9062280" y="68036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94" name=""/>
            <p:cNvSpPr/>
            <p:nvPr/>
          </p:nvSpPr>
          <p:spPr>
            <a:xfrm>
              <a:off x="8876160" y="675540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695" name=""/>
            <p:cNvSpPr/>
            <p:nvPr/>
          </p:nvSpPr>
          <p:spPr>
            <a:xfrm>
              <a:off x="900108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96" name=""/>
            <p:cNvSpPr/>
            <p:nvPr/>
          </p:nvSpPr>
          <p:spPr>
            <a:xfrm flipH="1">
              <a:off x="9045360" y="670896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97" name=""/>
            <p:cNvSpPr/>
            <p:nvPr/>
          </p:nvSpPr>
          <p:spPr>
            <a:xfrm>
              <a:off x="9113760" y="647424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698" name=""/>
            <p:cNvSpPr/>
            <p:nvPr/>
          </p:nvSpPr>
          <p:spPr>
            <a:xfrm>
              <a:off x="7747200" y="681228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699" name=""/>
            <p:cNvSpPr/>
            <p:nvPr/>
          </p:nvSpPr>
          <p:spPr>
            <a:xfrm>
              <a:off x="8019720" y="683100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00" name=""/>
            <p:cNvSpPr/>
            <p:nvPr/>
          </p:nvSpPr>
          <p:spPr>
            <a:xfrm flipV="1">
              <a:off x="7178760" y="681624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1701" name=""/>
            <p:cNvSpPr/>
            <p:nvPr/>
          </p:nvSpPr>
          <p:spPr>
            <a:xfrm flipH="1">
              <a:off x="8642520" y="680976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702" name=""/>
            <p:cNvSpPr/>
            <p:nvPr/>
          </p:nvSpPr>
          <p:spPr>
            <a:xfrm flipH="1" flipV="1">
              <a:off x="7455240" y="677808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703" name=""/>
            <p:cNvSpPr/>
            <p:nvPr/>
          </p:nvSpPr>
          <p:spPr>
            <a:xfrm flipH="1" flipV="1">
              <a:off x="845784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704" name=""/>
            <p:cNvSpPr/>
            <p:nvPr/>
          </p:nvSpPr>
          <p:spPr>
            <a:xfrm flipH="1" flipV="1">
              <a:off x="856332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1705" name=""/>
          <p:cNvSpPr/>
          <p:nvPr/>
        </p:nvSpPr>
        <p:spPr>
          <a:xfrm>
            <a:off x="7157880" y="6141960"/>
            <a:ext cx="198612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ÉNÉTIQUE</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ET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1706" name=""/>
          <p:cNvSpPr/>
          <p:nvPr/>
        </p:nvSpPr>
        <p:spPr>
          <a:xfrm>
            <a:off x="1473120" y="644220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D769-68A6-45A4-AD99-B5DC507886F7}"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1707" name=""/>
          <p:cNvSpPr/>
          <p:nvPr/>
        </p:nvSpPr>
        <p:spPr>
          <a:xfrm>
            <a:off x="685800" y="6440400"/>
            <a:ext cx="72540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1708" name=""/>
          <p:cNvSpPr/>
          <p:nvPr/>
        </p:nvSpPr>
        <p:spPr>
          <a:xfrm>
            <a:off x="0" y="6470640"/>
            <a:ext cx="9144000" cy="1440"/>
          </a:xfrm>
          <a:prstGeom prst="line">
            <a:avLst/>
          </a:prstGeom>
          <a:ln w="2844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mic Sans MS"/>
            </a:endParaRPr>
          </a:p>
        </p:txBody>
      </p:sp>
      <p:sp>
        <p:nvSpPr>
          <p:cNvPr id="1709" name=""/>
          <p:cNvSpPr/>
          <p:nvPr/>
        </p:nvSpPr>
        <p:spPr>
          <a:xfrm>
            <a:off x="533520" y="1660680"/>
            <a:ext cx="8110440" cy="4227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1EFA11CD-5EE1-4987-8137-65E052A6B30B}" type="datetime1">
              <a:rPr lang="en-US"/>
              <a:t>07/30/26</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0" name="" descr=""/>
          <p:cNvPicPr/>
          <p:nvPr/>
        </p:nvPicPr>
        <p:blipFill>
          <a:blip r:embed="rId1"/>
          <a:stretch/>
        </p:blipFill>
        <p:spPr>
          <a:xfrm>
            <a:off x="0" y="0"/>
            <a:ext cx="9144000" cy="6858000"/>
          </a:xfrm>
          <a:prstGeom prst="rect">
            <a:avLst/>
          </a:prstGeom>
          <a:ln w="0">
            <a:noFill/>
          </a:ln>
        </p:spPr>
      </p:pic>
      <p:sp>
        <p:nvSpPr>
          <p:cNvPr id="1711" name=""/>
          <p:cNvSpPr/>
          <p:nvPr/>
        </p:nvSpPr>
        <p:spPr>
          <a:xfrm>
            <a:off x="685800" y="1752480"/>
            <a:ext cx="7772400" cy="3600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Unconditioned responses</a:t>
            </a:r>
            <a:endParaRPr b="0" lang="en-US" sz="2800" spc="-1" strike="noStrike">
              <a:solidFill>
                <a:srgbClr val="000000"/>
              </a:solidFill>
              <a:latin typeface="Comic Sans MS"/>
            </a:endParaRPr>
          </a:p>
          <a:p>
            <a:pPr lvl="1" marL="705600" indent="-2714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orced exposure</a:t>
            </a:r>
            <a:endParaRPr b="0" lang="en-US" sz="2400" spc="-1" strike="noStrike">
              <a:solidFill>
                <a:srgbClr val="000000"/>
              </a:solidFill>
              <a:latin typeface="Comic Sans MS"/>
            </a:endParaRPr>
          </a:p>
          <a:p>
            <a:pPr lvl="2" marL="1085760" indent="-21708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open field (locomotion, rearings, defecation, urination)</a:t>
            </a:r>
            <a:endParaRPr b="0" lang="en-US" sz="2000" spc="-1" strike="noStrike">
              <a:solidFill>
                <a:srgbClr val="000000"/>
              </a:solidFill>
              <a:latin typeface="Comic Sans MS"/>
            </a:endParaRPr>
          </a:p>
          <a:p>
            <a:pPr lvl="2" marL="1085760" indent="-21708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activity monitoring (in novel environments or home cage)</a:t>
            </a:r>
            <a:endParaRPr b="0" lang="en-US" sz="2000" spc="-1" strike="noStrike">
              <a:solidFill>
                <a:srgbClr val="000000"/>
              </a:solidFill>
              <a:latin typeface="Comic Sans MS"/>
            </a:endParaRPr>
          </a:p>
          <a:p>
            <a:pPr lvl="2" marL="1085760" indent="-21708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exploration (novel objects, hole board)</a:t>
            </a:r>
            <a:endParaRPr b="0" lang="en-US" sz="2000" spc="-1" strike="noStrike">
              <a:solidFill>
                <a:srgbClr val="000000"/>
              </a:solidFill>
              <a:latin typeface="Comic Sans MS"/>
            </a:endParaRPr>
          </a:p>
          <a:p>
            <a:pPr lvl="2" marL="1085760" indent="-21708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motivational conflicts </a:t>
            </a:r>
            <a:endParaRPr b="0" lang="en-US" sz="2000" spc="-1" strike="noStrike">
              <a:solidFill>
                <a:srgbClr val="000000"/>
              </a:solidFill>
              <a:latin typeface="Comic Sans MS"/>
            </a:endParaRPr>
          </a:p>
          <a:p>
            <a:pPr lvl="3" marL="1483920" indent="-217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od                  hyponeophagia </a:t>
            </a:r>
            <a:endParaRPr b="0" lang="en-US" sz="1800" spc="-1" strike="noStrike">
              <a:solidFill>
                <a:srgbClr val="000000"/>
              </a:solidFill>
              <a:latin typeface="Comic Sans MS"/>
            </a:endParaRPr>
          </a:p>
          <a:p>
            <a:pPr lvl="3" marL="1483920" indent="-217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pecifics                    social interaction test</a:t>
            </a:r>
            <a:endParaRPr b="0" lang="en-US" sz="1800" spc="-1" strike="noStrike">
              <a:solidFill>
                <a:srgbClr val="000000"/>
              </a:solidFill>
              <a:latin typeface="Comic Sans MS"/>
            </a:endParaRPr>
          </a:p>
          <a:p>
            <a:pPr lvl="2" marL="1085760" indent="-21708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ultrasonic vocalizations, …</a:t>
            </a:r>
            <a:endParaRPr b="0" lang="en-US" sz="2000" spc="-1" strike="noStrike">
              <a:solidFill>
                <a:srgbClr val="000000"/>
              </a:solidFill>
              <a:latin typeface="Comic Sans MS"/>
            </a:endParaRPr>
          </a:p>
        </p:txBody>
      </p:sp>
      <p:sp>
        <p:nvSpPr>
          <p:cNvPr id="1712"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000000"/>
              </a:solidFill>
              <a:latin typeface="Comic Sans MS"/>
            </a:endParaRPr>
          </a:p>
        </p:txBody>
      </p:sp>
      <p:sp>
        <p:nvSpPr>
          <p:cNvPr id="1713" name=""/>
          <p:cNvSpPr/>
          <p:nvPr/>
        </p:nvSpPr>
        <p:spPr>
          <a:xfrm>
            <a:off x="3171960" y="4637160"/>
            <a:ext cx="48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14" name=""/>
          <p:cNvSpPr/>
          <p:nvPr/>
        </p:nvSpPr>
        <p:spPr>
          <a:xfrm>
            <a:off x="4168800" y="4986360"/>
            <a:ext cx="48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15" name=""/>
          <p:cNvSpPr/>
          <p:nvPr/>
        </p:nvSpPr>
        <p:spPr>
          <a:xfrm>
            <a:off x="577800" y="1674720"/>
            <a:ext cx="7978680" cy="4272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1716" name=""/>
          <p:cNvGrpSpPr/>
          <p:nvPr/>
        </p:nvGrpSpPr>
        <p:grpSpPr>
          <a:xfrm>
            <a:off x="7156080" y="6068880"/>
            <a:ext cx="1981080" cy="785160"/>
            <a:chOff x="7156080" y="6068880"/>
            <a:chExt cx="1981080" cy="785160"/>
          </a:xfrm>
        </p:grpSpPr>
        <p:sp>
          <p:nvSpPr>
            <p:cNvPr id="1717" name=""/>
            <p:cNvSpPr/>
            <p:nvPr/>
          </p:nvSpPr>
          <p:spPr>
            <a:xfrm flipH="1">
              <a:off x="721188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718" name=""/>
            <p:cNvSpPr/>
            <p:nvPr/>
          </p:nvSpPr>
          <p:spPr>
            <a:xfrm flipH="1" flipV="1">
              <a:off x="7228440" y="638712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719" name=""/>
            <p:cNvSpPr/>
            <p:nvPr/>
          </p:nvSpPr>
          <p:spPr>
            <a:xfrm flipH="1">
              <a:off x="715608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720" name=""/>
            <p:cNvSpPr/>
            <p:nvPr/>
          </p:nvSpPr>
          <p:spPr>
            <a:xfrm flipH="1">
              <a:off x="719100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721" name=""/>
            <p:cNvSpPr/>
            <p:nvPr/>
          </p:nvSpPr>
          <p:spPr>
            <a:xfrm flipH="1">
              <a:off x="721620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722" name=""/>
            <p:cNvSpPr/>
            <p:nvPr/>
          </p:nvSpPr>
          <p:spPr>
            <a:xfrm>
              <a:off x="728136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723" name=""/>
            <p:cNvSpPr/>
            <p:nvPr/>
          </p:nvSpPr>
          <p:spPr>
            <a:xfrm>
              <a:off x="7227360" y="661608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24" name=""/>
            <p:cNvSpPr/>
            <p:nvPr/>
          </p:nvSpPr>
          <p:spPr>
            <a:xfrm>
              <a:off x="7167600" y="670464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725" name=""/>
            <p:cNvSpPr/>
            <p:nvPr/>
          </p:nvSpPr>
          <p:spPr>
            <a:xfrm flipV="1">
              <a:off x="733428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726" name=""/>
            <p:cNvSpPr/>
            <p:nvPr/>
          </p:nvSpPr>
          <p:spPr>
            <a:xfrm>
              <a:off x="735228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27" name=""/>
            <p:cNvSpPr/>
            <p:nvPr/>
          </p:nvSpPr>
          <p:spPr>
            <a:xfrm>
              <a:off x="732996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728" name=""/>
            <p:cNvSpPr/>
            <p:nvPr/>
          </p:nvSpPr>
          <p:spPr>
            <a:xfrm flipH="1">
              <a:off x="727812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729" name=""/>
            <p:cNvSpPr/>
            <p:nvPr/>
          </p:nvSpPr>
          <p:spPr>
            <a:xfrm>
              <a:off x="732996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30" name=""/>
            <p:cNvSpPr/>
            <p:nvPr/>
          </p:nvSpPr>
          <p:spPr>
            <a:xfrm>
              <a:off x="733428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731" name=""/>
            <p:cNvSpPr/>
            <p:nvPr/>
          </p:nvSpPr>
          <p:spPr>
            <a:xfrm>
              <a:off x="7353720" y="663048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732" name=""/>
            <p:cNvSpPr/>
            <p:nvPr/>
          </p:nvSpPr>
          <p:spPr>
            <a:xfrm>
              <a:off x="7227360" y="619740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733" name=""/>
            <p:cNvSpPr/>
            <p:nvPr/>
          </p:nvSpPr>
          <p:spPr>
            <a:xfrm flipH="1">
              <a:off x="717552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734" name=""/>
            <p:cNvSpPr/>
            <p:nvPr/>
          </p:nvSpPr>
          <p:spPr>
            <a:xfrm flipH="1">
              <a:off x="7157520" y="647424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735" name=""/>
            <p:cNvSpPr/>
            <p:nvPr/>
          </p:nvSpPr>
          <p:spPr>
            <a:xfrm flipH="1">
              <a:off x="718812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736" name=""/>
            <p:cNvSpPr/>
            <p:nvPr/>
          </p:nvSpPr>
          <p:spPr>
            <a:xfrm>
              <a:off x="7184160" y="609012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737" name=""/>
            <p:cNvSpPr/>
            <p:nvPr/>
          </p:nvSpPr>
          <p:spPr>
            <a:xfrm>
              <a:off x="7266240" y="609012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738" name=""/>
            <p:cNvSpPr/>
            <p:nvPr/>
          </p:nvSpPr>
          <p:spPr>
            <a:xfrm>
              <a:off x="727452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739" name=""/>
            <p:cNvSpPr/>
            <p:nvPr/>
          </p:nvSpPr>
          <p:spPr>
            <a:xfrm flipH="1">
              <a:off x="726768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740" name=""/>
            <p:cNvSpPr/>
            <p:nvPr/>
          </p:nvSpPr>
          <p:spPr>
            <a:xfrm>
              <a:off x="7334280" y="657576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741" name=""/>
            <p:cNvSpPr/>
            <p:nvPr/>
          </p:nvSpPr>
          <p:spPr>
            <a:xfrm>
              <a:off x="732996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742" name=""/>
            <p:cNvSpPr/>
            <p:nvPr/>
          </p:nvSpPr>
          <p:spPr>
            <a:xfrm flipH="1">
              <a:off x="735336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743" name=""/>
            <p:cNvSpPr/>
            <p:nvPr/>
          </p:nvSpPr>
          <p:spPr>
            <a:xfrm flipH="1" flipV="1">
              <a:off x="7287120" y="661356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744" name=""/>
            <p:cNvSpPr/>
            <p:nvPr/>
          </p:nvSpPr>
          <p:spPr>
            <a:xfrm flipH="1">
              <a:off x="7378920" y="627588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745" name=""/>
            <p:cNvSpPr/>
            <p:nvPr/>
          </p:nvSpPr>
          <p:spPr>
            <a:xfrm>
              <a:off x="7252560" y="659268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746" name=""/>
            <p:cNvSpPr/>
            <p:nvPr/>
          </p:nvSpPr>
          <p:spPr>
            <a:xfrm flipH="1" flipV="1">
              <a:off x="728100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747" name=""/>
            <p:cNvSpPr/>
            <p:nvPr/>
          </p:nvSpPr>
          <p:spPr>
            <a:xfrm flipH="1">
              <a:off x="7417440" y="638568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748" name=""/>
            <p:cNvSpPr/>
            <p:nvPr/>
          </p:nvSpPr>
          <p:spPr>
            <a:xfrm>
              <a:off x="741492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49" name=""/>
            <p:cNvSpPr/>
            <p:nvPr/>
          </p:nvSpPr>
          <p:spPr>
            <a:xfrm>
              <a:off x="7417440" y="631404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50" name=""/>
            <p:cNvSpPr/>
            <p:nvPr/>
          </p:nvSpPr>
          <p:spPr>
            <a:xfrm>
              <a:off x="741492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751" name=""/>
            <p:cNvSpPr/>
            <p:nvPr/>
          </p:nvSpPr>
          <p:spPr>
            <a:xfrm flipH="1">
              <a:off x="748296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752" name=""/>
            <p:cNvSpPr/>
            <p:nvPr/>
          </p:nvSpPr>
          <p:spPr>
            <a:xfrm flipH="1" flipV="1">
              <a:off x="7498080" y="638712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753" name=""/>
            <p:cNvSpPr/>
            <p:nvPr/>
          </p:nvSpPr>
          <p:spPr>
            <a:xfrm flipH="1">
              <a:off x="742860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754" name=""/>
            <p:cNvSpPr/>
            <p:nvPr/>
          </p:nvSpPr>
          <p:spPr>
            <a:xfrm flipH="1">
              <a:off x="746208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755" name=""/>
            <p:cNvSpPr/>
            <p:nvPr/>
          </p:nvSpPr>
          <p:spPr>
            <a:xfrm flipH="1">
              <a:off x="7487280" y="650592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756" name=""/>
            <p:cNvSpPr/>
            <p:nvPr/>
          </p:nvSpPr>
          <p:spPr>
            <a:xfrm>
              <a:off x="7553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757" name=""/>
            <p:cNvSpPr/>
            <p:nvPr/>
          </p:nvSpPr>
          <p:spPr>
            <a:xfrm>
              <a:off x="7498440" y="66160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58" name=""/>
            <p:cNvSpPr/>
            <p:nvPr/>
          </p:nvSpPr>
          <p:spPr>
            <a:xfrm flipV="1">
              <a:off x="7444080" y="667044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759" name=""/>
            <p:cNvSpPr/>
            <p:nvPr/>
          </p:nvSpPr>
          <p:spPr>
            <a:xfrm flipV="1">
              <a:off x="7605360" y="644436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760" name=""/>
            <p:cNvSpPr/>
            <p:nvPr/>
          </p:nvSpPr>
          <p:spPr>
            <a:xfrm>
              <a:off x="7621920" y="647676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61" name=""/>
            <p:cNvSpPr/>
            <p:nvPr/>
          </p:nvSpPr>
          <p:spPr>
            <a:xfrm>
              <a:off x="7602840" y="634104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762" name=""/>
            <p:cNvSpPr/>
            <p:nvPr/>
          </p:nvSpPr>
          <p:spPr>
            <a:xfrm flipH="1">
              <a:off x="754920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763" name=""/>
            <p:cNvSpPr/>
            <p:nvPr/>
          </p:nvSpPr>
          <p:spPr>
            <a:xfrm>
              <a:off x="760284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64" name=""/>
            <p:cNvSpPr/>
            <p:nvPr/>
          </p:nvSpPr>
          <p:spPr>
            <a:xfrm>
              <a:off x="760680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765" name=""/>
            <p:cNvSpPr/>
            <p:nvPr/>
          </p:nvSpPr>
          <p:spPr>
            <a:xfrm>
              <a:off x="7627680" y="663048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766" name=""/>
            <p:cNvSpPr/>
            <p:nvPr/>
          </p:nvSpPr>
          <p:spPr>
            <a:xfrm>
              <a:off x="7498440" y="619740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767" name=""/>
            <p:cNvSpPr/>
            <p:nvPr/>
          </p:nvSpPr>
          <p:spPr>
            <a:xfrm flipH="1">
              <a:off x="7446960" y="62251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68" name=""/>
            <p:cNvSpPr/>
            <p:nvPr/>
          </p:nvSpPr>
          <p:spPr>
            <a:xfrm flipH="1">
              <a:off x="74300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769" name=""/>
            <p:cNvSpPr/>
            <p:nvPr/>
          </p:nvSpPr>
          <p:spPr>
            <a:xfrm flipH="1">
              <a:off x="745920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770" name=""/>
            <p:cNvSpPr/>
            <p:nvPr/>
          </p:nvSpPr>
          <p:spPr>
            <a:xfrm>
              <a:off x="7456680" y="60901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771" name=""/>
            <p:cNvSpPr/>
            <p:nvPr/>
          </p:nvSpPr>
          <p:spPr>
            <a:xfrm>
              <a:off x="75398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772" name=""/>
            <p:cNvSpPr/>
            <p:nvPr/>
          </p:nvSpPr>
          <p:spPr>
            <a:xfrm>
              <a:off x="7545600" y="639180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773" name=""/>
            <p:cNvSpPr/>
            <p:nvPr/>
          </p:nvSpPr>
          <p:spPr>
            <a:xfrm flipH="1">
              <a:off x="753876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774" name=""/>
            <p:cNvSpPr/>
            <p:nvPr/>
          </p:nvSpPr>
          <p:spPr>
            <a:xfrm>
              <a:off x="760680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775" name=""/>
            <p:cNvSpPr/>
            <p:nvPr/>
          </p:nvSpPr>
          <p:spPr>
            <a:xfrm>
              <a:off x="760284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776" name=""/>
            <p:cNvSpPr/>
            <p:nvPr/>
          </p:nvSpPr>
          <p:spPr>
            <a:xfrm flipH="1">
              <a:off x="762444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777" name=""/>
            <p:cNvSpPr/>
            <p:nvPr/>
          </p:nvSpPr>
          <p:spPr>
            <a:xfrm flipH="1" flipV="1">
              <a:off x="755964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778" name=""/>
            <p:cNvSpPr/>
            <p:nvPr/>
          </p:nvSpPr>
          <p:spPr>
            <a:xfrm flipH="1">
              <a:off x="7649640" y="627588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779" name=""/>
            <p:cNvSpPr/>
            <p:nvPr/>
          </p:nvSpPr>
          <p:spPr>
            <a:xfrm>
              <a:off x="7523280" y="659268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780" name=""/>
            <p:cNvSpPr/>
            <p:nvPr/>
          </p:nvSpPr>
          <p:spPr>
            <a:xfrm flipH="1" flipV="1">
              <a:off x="7556760" y="667656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1781" name=""/>
            <p:cNvSpPr/>
            <p:nvPr/>
          </p:nvSpPr>
          <p:spPr>
            <a:xfrm flipH="1">
              <a:off x="769104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782" name=""/>
            <p:cNvSpPr/>
            <p:nvPr/>
          </p:nvSpPr>
          <p:spPr>
            <a:xfrm>
              <a:off x="768600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83" name=""/>
            <p:cNvSpPr/>
            <p:nvPr/>
          </p:nvSpPr>
          <p:spPr>
            <a:xfrm>
              <a:off x="7690320" y="634356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84" name=""/>
            <p:cNvSpPr/>
            <p:nvPr/>
          </p:nvSpPr>
          <p:spPr>
            <a:xfrm>
              <a:off x="768600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785" name=""/>
            <p:cNvSpPr/>
            <p:nvPr/>
          </p:nvSpPr>
          <p:spPr>
            <a:xfrm flipH="1">
              <a:off x="77763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786" name=""/>
            <p:cNvSpPr/>
            <p:nvPr/>
          </p:nvSpPr>
          <p:spPr>
            <a:xfrm flipH="1" flipV="1">
              <a:off x="7791120" y="638712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787" name=""/>
            <p:cNvSpPr/>
            <p:nvPr/>
          </p:nvSpPr>
          <p:spPr>
            <a:xfrm flipH="1">
              <a:off x="771912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788" name=""/>
            <p:cNvSpPr/>
            <p:nvPr/>
          </p:nvSpPr>
          <p:spPr>
            <a:xfrm flipH="1" flipV="1">
              <a:off x="7719120" y="641304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789" name=""/>
            <p:cNvSpPr/>
            <p:nvPr/>
          </p:nvSpPr>
          <p:spPr>
            <a:xfrm flipH="1">
              <a:off x="778032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790" name=""/>
            <p:cNvSpPr/>
            <p:nvPr/>
          </p:nvSpPr>
          <p:spPr>
            <a:xfrm>
              <a:off x="78472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791" name=""/>
            <p:cNvSpPr/>
            <p:nvPr/>
          </p:nvSpPr>
          <p:spPr>
            <a:xfrm>
              <a:off x="7791480" y="661608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92" name=""/>
            <p:cNvSpPr/>
            <p:nvPr/>
          </p:nvSpPr>
          <p:spPr>
            <a:xfrm>
              <a:off x="7736040" y="668988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793" name=""/>
            <p:cNvSpPr/>
            <p:nvPr/>
          </p:nvSpPr>
          <p:spPr>
            <a:xfrm flipV="1">
              <a:off x="789876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794" name=""/>
            <p:cNvSpPr/>
            <p:nvPr/>
          </p:nvSpPr>
          <p:spPr>
            <a:xfrm>
              <a:off x="791532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95" name=""/>
            <p:cNvSpPr/>
            <p:nvPr/>
          </p:nvSpPr>
          <p:spPr>
            <a:xfrm>
              <a:off x="789300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796" name=""/>
            <p:cNvSpPr/>
            <p:nvPr/>
          </p:nvSpPr>
          <p:spPr>
            <a:xfrm flipH="1">
              <a:off x="784332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797" name=""/>
            <p:cNvSpPr/>
            <p:nvPr/>
          </p:nvSpPr>
          <p:spPr>
            <a:xfrm>
              <a:off x="789300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98" name=""/>
            <p:cNvSpPr/>
            <p:nvPr/>
          </p:nvSpPr>
          <p:spPr>
            <a:xfrm>
              <a:off x="7899840" y="620172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799" name=""/>
            <p:cNvSpPr/>
            <p:nvPr/>
          </p:nvSpPr>
          <p:spPr>
            <a:xfrm>
              <a:off x="7919640" y="663048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800" name=""/>
            <p:cNvSpPr/>
            <p:nvPr/>
          </p:nvSpPr>
          <p:spPr>
            <a:xfrm>
              <a:off x="7791480" y="619740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801" name=""/>
            <p:cNvSpPr/>
            <p:nvPr/>
          </p:nvSpPr>
          <p:spPr>
            <a:xfrm flipH="1">
              <a:off x="7738920" y="62550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802" name=""/>
            <p:cNvSpPr/>
            <p:nvPr/>
          </p:nvSpPr>
          <p:spPr>
            <a:xfrm flipH="1">
              <a:off x="77216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803" name=""/>
            <p:cNvSpPr/>
            <p:nvPr/>
          </p:nvSpPr>
          <p:spPr>
            <a:xfrm flipH="1">
              <a:off x="7751160" y="652500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804" name=""/>
            <p:cNvSpPr/>
            <p:nvPr/>
          </p:nvSpPr>
          <p:spPr>
            <a:xfrm>
              <a:off x="7747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805" name=""/>
            <p:cNvSpPr/>
            <p:nvPr/>
          </p:nvSpPr>
          <p:spPr>
            <a:xfrm>
              <a:off x="783180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806" name=""/>
            <p:cNvSpPr/>
            <p:nvPr/>
          </p:nvSpPr>
          <p:spPr>
            <a:xfrm>
              <a:off x="7840440" y="639180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807" name=""/>
            <p:cNvSpPr/>
            <p:nvPr/>
          </p:nvSpPr>
          <p:spPr>
            <a:xfrm flipH="1">
              <a:off x="7831440" y="651888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808" name=""/>
            <p:cNvSpPr/>
            <p:nvPr/>
          </p:nvSpPr>
          <p:spPr>
            <a:xfrm>
              <a:off x="789876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809" name=""/>
            <p:cNvSpPr/>
            <p:nvPr/>
          </p:nvSpPr>
          <p:spPr>
            <a:xfrm>
              <a:off x="789300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10" name=""/>
            <p:cNvSpPr/>
            <p:nvPr/>
          </p:nvSpPr>
          <p:spPr>
            <a:xfrm flipH="1">
              <a:off x="7916400" y="612360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811" name=""/>
            <p:cNvSpPr/>
            <p:nvPr/>
          </p:nvSpPr>
          <p:spPr>
            <a:xfrm flipH="1" flipV="1">
              <a:off x="7851240" y="661356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812" name=""/>
            <p:cNvSpPr/>
            <p:nvPr/>
          </p:nvSpPr>
          <p:spPr>
            <a:xfrm flipH="1">
              <a:off x="7941600" y="627588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813" name=""/>
            <p:cNvSpPr/>
            <p:nvPr/>
          </p:nvSpPr>
          <p:spPr>
            <a:xfrm>
              <a:off x="7815240" y="659268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814" name=""/>
            <p:cNvSpPr/>
            <p:nvPr/>
          </p:nvSpPr>
          <p:spPr>
            <a:xfrm flipH="1" flipV="1">
              <a:off x="7846920" y="669168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815" name=""/>
            <p:cNvSpPr/>
            <p:nvPr/>
          </p:nvSpPr>
          <p:spPr>
            <a:xfrm flipH="1">
              <a:off x="798192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816" name=""/>
            <p:cNvSpPr/>
            <p:nvPr/>
          </p:nvSpPr>
          <p:spPr>
            <a:xfrm>
              <a:off x="797796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17" name=""/>
            <p:cNvSpPr/>
            <p:nvPr/>
          </p:nvSpPr>
          <p:spPr>
            <a:xfrm>
              <a:off x="7983360" y="6314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18" name=""/>
            <p:cNvSpPr/>
            <p:nvPr/>
          </p:nvSpPr>
          <p:spPr>
            <a:xfrm>
              <a:off x="797796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19" name=""/>
            <p:cNvSpPr/>
            <p:nvPr/>
          </p:nvSpPr>
          <p:spPr>
            <a:xfrm flipH="1">
              <a:off x="7704000" y="666864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820" name=""/>
            <p:cNvSpPr/>
            <p:nvPr/>
          </p:nvSpPr>
          <p:spPr>
            <a:xfrm flipH="1">
              <a:off x="808920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821" name=""/>
            <p:cNvSpPr/>
            <p:nvPr/>
          </p:nvSpPr>
          <p:spPr>
            <a:xfrm flipH="1" flipV="1">
              <a:off x="8105400" y="641304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822" name=""/>
            <p:cNvSpPr/>
            <p:nvPr/>
          </p:nvSpPr>
          <p:spPr>
            <a:xfrm flipH="1">
              <a:off x="8033400" y="620172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823" name=""/>
            <p:cNvSpPr/>
            <p:nvPr/>
          </p:nvSpPr>
          <p:spPr>
            <a:xfrm flipH="1">
              <a:off x="806832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824" name=""/>
            <p:cNvSpPr/>
            <p:nvPr/>
          </p:nvSpPr>
          <p:spPr>
            <a:xfrm flipH="1">
              <a:off x="8092080" y="653112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25" name=""/>
            <p:cNvSpPr/>
            <p:nvPr/>
          </p:nvSpPr>
          <p:spPr>
            <a:xfrm>
              <a:off x="81601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826" name=""/>
            <p:cNvSpPr/>
            <p:nvPr/>
          </p:nvSpPr>
          <p:spPr>
            <a:xfrm>
              <a:off x="810288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27" name=""/>
            <p:cNvSpPr/>
            <p:nvPr/>
          </p:nvSpPr>
          <p:spPr>
            <a:xfrm>
              <a:off x="8044560" y="673200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828" name=""/>
            <p:cNvSpPr/>
            <p:nvPr/>
          </p:nvSpPr>
          <p:spPr>
            <a:xfrm>
              <a:off x="8211600" y="64828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29" name=""/>
            <p:cNvSpPr/>
            <p:nvPr/>
          </p:nvSpPr>
          <p:spPr>
            <a:xfrm>
              <a:off x="8229600" y="65059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30" name=""/>
            <p:cNvSpPr/>
            <p:nvPr/>
          </p:nvSpPr>
          <p:spPr>
            <a:xfrm>
              <a:off x="8206200" y="636660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31" name=""/>
            <p:cNvSpPr/>
            <p:nvPr/>
          </p:nvSpPr>
          <p:spPr>
            <a:xfrm flipH="1">
              <a:off x="815544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32" name=""/>
            <p:cNvSpPr/>
            <p:nvPr/>
          </p:nvSpPr>
          <p:spPr>
            <a:xfrm>
              <a:off x="8165880" y="61070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33" name=""/>
            <p:cNvSpPr/>
            <p:nvPr/>
          </p:nvSpPr>
          <p:spPr>
            <a:xfrm>
              <a:off x="821304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834" name=""/>
            <p:cNvSpPr/>
            <p:nvPr/>
          </p:nvSpPr>
          <p:spPr>
            <a:xfrm>
              <a:off x="8233920" y="665388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835" name=""/>
            <p:cNvSpPr/>
            <p:nvPr/>
          </p:nvSpPr>
          <p:spPr>
            <a:xfrm>
              <a:off x="810288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36" name=""/>
            <p:cNvSpPr/>
            <p:nvPr/>
          </p:nvSpPr>
          <p:spPr>
            <a:xfrm flipH="1">
              <a:off x="8054280" y="628236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837" name=""/>
            <p:cNvSpPr/>
            <p:nvPr/>
          </p:nvSpPr>
          <p:spPr>
            <a:xfrm flipH="1">
              <a:off x="803628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838" name=""/>
            <p:cNvSpPr/>
            <p:nvPr/>
          </p:nvSpPr>
          <p:spPr>
            <a:xfrm flipH="1">
              <a:off x="8066880" y="655488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839" name=""/>
            <p:cNvSpPr/>
            <p:nvPr/>
          </p:nvSpPr>
          <p:spPr>
            <a:xfrm>
              <a:off x="8060040" y="611568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840" name=""/>
            <p:cNvSpPr/>
            <p:nvPr/>
          </p:nvSpPr>
          <p:spPr>
            <a:xfrm>
              <a:off x="8125560" y="609012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841" name=""/>
            <p:cNvSpPr/>
            <p:nvPr/>
          </p:nvSpPr>
          <p:spPr>
            <a:xfrm>
              <a:off x="815328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842" name=""/>
            <p:cNvSpPr/>
            <p:nvPr/>
          </p:nvSpPr>
          <p:spPr>
            <a:xfrm flipH="1">
              <a:off x="8146080" y="654624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843" name=""/>
            <p:cNvSpPr/>
            <p:nvPr/>
          </p:nvSpPr>
          <p:spPr>
            <a:xfrm>
              <a:off x="8211600" y="660312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844" name=""/>
            <p:cNvSpPr/>
            <p:nvPr/>
          </p:nvSpPr>
          <p:spPr>
            <a:xfrm>
              <a:off x="8206200" y="625500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845" name=""/>
            <p:cNvSpPr/>
            <p:nvPr/>
          </p:nvSpPr>
          <p:spPr>
            <a:xfrm flipH="1">
              <a:off x="8271360" y="609660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846" name=""/>
            <p:cNvSpPr/>
            <p:nvPr/>
          </p:nvSpPr>
          <p:spPr>
            <a:xfrm flipH="1" flipV="1">
              <a:off x="816696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847" name=""/>
            <p:cNvSpPr/>
            <p:nvPr/>
          </p:nvSpPr>
          <p:spPr>
            <a:xfrm flipH="1">
              <a:off x="825444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848" name=""/>
            <p:cNvSpPr/>
            <p:nvPr/>
          </p:nvSpPr>
          <p:spPr>
            <a:xfrm>
              <a:off x="8128080" y="662220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49" name=""/>
            <p:cNvSpPr/>
            <p:nvPr/>
          </p:nvSpPr>
          <p:spPr>
            <a:xfrm flipH="1">
              <a:off x="8296200" y="641304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850" name=""/>
            <p:cNvSpPr/>
            <p:nvPr/>
          </p:nvSpPr>
          <p:spPr>
            <a:xfrm>
              <a:off x="8292240" y="622728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51" name=""/>
            <p:cNvSpPr/>
            <p:nvPr/>
          </p:nvSpPr>
          <p:spPr>
            <a:xfrm>
              <a:off x="8296200" y="63435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52" name=""/>
            <p:cNvSpPr/>
            <p:nvPr/>
          </p:nvSpPr>
          <p:spPr>
            <a:xfrm>
              <a:off x="8292240" y="65311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53" name=""/>
            <p:cNvSpPr/>
            <p:nvPr/>
          </p:nvSpPr>
          <p:spPr>
            <a:xfrm flipH="1">
              <a:off x="836028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854" name=""/>
            <p:cNvSpPr/>
            <p:nvPr/>
          </p:nvSpPr>
          <p:spPr>
            <a:xfrm flipH="1" flipV="1">
              <a:off x="837684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855" name=""/>
            <p:cNvSpPr/>
            <p:nvPr/>
          </p:nvSpPr>
          <p:spPr>
            <a:xfrm flipH="1">
              <a:off x="8305560" y="620172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856" name=""/>
            <p:cNvSpPr/>
            <p:nvPr/>
          </p:nvSpPr>
          <p:spPr>
            <a:xfrm flipH="1">
              <a:off x="833940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857" name=""/>
            <p:cNvSpPr/>
            <p:nvPr/>
          </p:nvSpPr>
          <p:spPr>
            <a:xfrm flipH="1">
              <a:off x="836388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58" name=""/>
            <p:cNvSpPr/>
            <p:nvPr/>
          </p:nvSpPr>
          <p:spPr>
            <a:xfrm>
              <a:off x="84312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859" name=""/>
            <p:cNvSpPr/>
            <p:nvPr/>
          </p:nvSpPr>
          <p:spPr>
            <a:xfrm>
              <a:off x="8375760" y="66434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60" name=""/>
            <p:cNvSpPr/>
            <p:nvPr/>
          </p:nvSpPr>
          <p:spPr>
            <a:xfrm flipV="1">
              <a:off x="8322840" y="669852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861" name=""/>
            <p:cNvSpPr/>
            <p:nvPr/>
          </p:nvSpPr>
          <p:spPr>
            <a:xfrm>
              <a:off x="848412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62" name=""/>
            <p:cNvSpPr/>
            <p:nvPr/>
          </p:nvSpPr>
          <p:spPr>
            <a:xfrm>
              <a:off x="850068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63" name=""/>
            <p:cNvSpPr/>
            <p:nvPr/>
          </p:nvSpPr>
          <p:spPr>
            <a:xfrm>
              <a:off x="8478360" y="63666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64" name=""/>
            <p:cNvSpPr/>
            <p:nvPr/>
          </p:nvSpPr>
          <p:spPr>
            <a:xfrm flipH="1">
              <a:off x="8429760" y="63097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65" name=""/>
            <p:cNvSpPr/>
            <p:nvPr/>
          </p:nvSpPr>
          <p:spPr>
            <a:xfrm>
              <a:off x="8396640" y="608148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66" name=""/>
            <p:cNvSpPr/>
            <p:nvPr/>
          </p:nvSpPr>
          <p:spPr>
            <a:xfrm>
              <a:off x="848412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867" name=""/>
            <p:cNvSpPr/>
            <p:nvPr/>
          </p:nvSpPr>
          <p:spPr>
            <a:xfrm>
              <a:off x="85035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868" name=""/>
            <p:cNvSpPr/>
            <p:nvPr/>
          </p:nvSpPr>
          <p:spPr>
            <a:xfrm>
              <a:off x="837576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69" name=""/>
            <p:cNvSpPr/>
            <p:nvPr/>
          </p:nvSpPr>
          <p:spPr>
            <a:xfrm flipH="1">
              <a:off x="8323560" y="62550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870" name=""/>
            <p:cNvSpPr/>
            <p:nvPr/>
          </p:nvSpPr>
          <p:spPr>
            <a:xfrm flipH="1">
              <a:off x="8307360" y="650160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871" name=""/>
            <p:cNvSpPr/>
            <p:nvPr/>
          </p:nvSpPr>
          <p:spPr>
            <a:xfrm flipH="1">
              <a:off x="8336520" y="655488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872" name=""/>
            <p:cNvSpPr/>
            <p:nvPr/>
          </p:nvSpPr>
          <p:spPr>
            <a:xfrm>
              <a:off x="8353440" y="611568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873" name=""/>
            <p:cNvSpPr/>
            <p:nvPr/>
          </p:nvSpPr>
          <p:spPr>
            <a:xfrm>
              <a:off x="84157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874" name=""/>
            <p:cNvSpPr/>
            <p:nvPr/>
          </p:nvSpPr>
          <p:spPr>
            <a:xfrm>
              <a:off x="842436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875" name=""/>
            <p:cNvSpPr/>
            <p:nvPr/>
          </p:nvSpPr>
          <p:spPr>
            <a:xfrm flipH="1">
              <a:off x="8417160" y="654624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876" name=""/>
            <p:cNvSpPr/>
            <p:nvPr/>
          </p:nvSpPr>
          <p:spPr>
            <a:xfrm>
              <a:off x="8484120" y="660312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877" name=""/>
            <p:cNvSpPr/>
            <p:nvPr/>
          </p:nvSpPr>
          <p:spPr>
            <a:xfrm>
              <a:off x="8478360" y="625500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878" name=""/>
            <p:cNvSpPr/>
            <p:nvPr/>
          </p:nvSpPr>
          <p:spPr>
            <a:xfrm flipH="1">
              <a:off x="8504640" y="609660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879" name=""/>
            <p:cNvSpPr/>
            <p:nvPr/>
          </p:nvSpPr>
          <p:spPr>
            <a:xfrm flipH="1" flipV="1">
              <a:off x="8436960" y="664128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880" name=""/>
            <p:cNvSpPr/>
            <p:nvPr/>
          </p:nvSpPr>
          <p:spPr>
            <a:xfrm flipH="1">
              <a:off x="852552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881" name=""/>
            <p:cNvSpPr/>
            <p:nvPr/>
          </p:nvSpPr>
          <p:spPr>
            <a:xfrm>
              <a:off x="8400600" y="662220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82" name=""/>
            <p:cNvSpPr/>
            <p:nvPr/>
          </p:nvSpPr>
          <p:spPr>
            <a:xfrm flipH="1" flipV="1">
              <a:off x="8433720" y="670896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883" name=""/>
            <p:cNvSpPr/>
            <p:nvPr/>
          </p:nvSpPr>
          <p:spPr>
            <a:xfrm flipH="1">
              <a:off x="856692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884" name=""/>
            <p:cNvSpPr/>
            <p:nvPr/>
          </p:nvSpPr>
          <p:spPr>
            <a:xfrm>
              <a:off x="8563320" y="61700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85" name=""/>
            <p:cNvSpPr/>
            <p:nvPr/>
          </p:nvSpPr>
          <p:spPr>
            <a:xfrm>
              <a:off x="8567280" y="63709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86" name=""/>
            <p:cNvSpPr/>
            <p:nvPr/>
          </p:nvSpPr>
          <p:spPr>
            <a:xfrm>
              <a:off x="8563320" y="653112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87" name=""/>
            <p:cNvSpPr/>
            <p:nvPr/>
          </p:nvSpPr>
          <p:spPr>
            <a:xfrm flipH="1">
              <a:off x="8651880" y="634356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888" name=""/>
            <p:cNvSpPr/>
            <p:nvPr/>
          </p:nvSpPr>
          <p:spPr>
            <a:xfrm flipH="1" flipV="1">
              <a:off x="866880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889" name=""/>
            <p:cNvSpPr/>
            <p:nvPr/>
          </p:nvSpPr>
          <p:spPr>
            <a:xfrm flipH="1">
              <a:off x="859644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890" name=""/>
            <p:cNvSpPr/>
            <p:nvPr/>
          </p:nvSpPr>
          <p:spPr>
            <a:xfrm flipH="1" flipV="1">
              <a:off x="8596440" y="644256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891" name=""/>
            <p:cNvSpPr/>
            <p:nvPr/>
          </p:nvSpPr>
          <p:spPr>
            <a:xfrm flipH="1">
              <a:off x="865584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92" name=""/>
            <p:cNvSpPr/>
            <p:nvPr/>
          </p:nvSpPr>
          <p:spPr>
            <a:xfrm>
              <a:off x="872316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893" name=""/>
            <p:cNvSpPr/>
            <p:nvPr/>
          </p:nvSpPr>
          <p:spPr>
            <a:xfrm>
              <a:off x="866772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94" name=""/>
            <p:cNvSpPr/>
            <p:nvPr/>
          </p:nvSpPr>
          <p:spPr>
            <a:xfrm>
              <a:off x="8613360" y="671688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895" name=""/>
            <p:cNvSpPr/>
            <p:nvPr/>
          </p:nvSpPr>
          <p:spPr>
            <a:xfrm>
              <a:off x="877608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96" name=""/>
            <p:cNvSpPr/>
            <p:nvPr/>
          </p:nvSpPr>
          <p:spPr>
            <a:xfrm>
              <a:off x="879264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97" name=""/>
            <p:cNvSpPr/>
            <p:nvPr/>
          </p:nvSpPr>
          <p:spPr>
            <a:xfrm>
              <a:off x="8771760" y="63666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98" name=""/>
            <p:cNvSpPr/>
            <p:nvPr/>
          </p:nvSpPr>
          <p:spPr>
            <a:xfrm flipH="1">
              <a:off x="871992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99" name=""/>
            <p:cNvSpPr/>
            <p:nvPr/>
          </p:nvSpPr>
          <p:spPr>
            <a:xfrm>
              <a:off x="8668800" y="607536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1900" name=""/>
            <p:cNvSpPr/>
            <p:nvPr/>
          </p:nvSpPr>
          <p:spPr>
            <a:xfrm>
              <a:off x="8778600" y="622944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901" name=""/>
            <p:cNvSpPr/>
            <p:nvPr/>
          </p:nvSpPr>
          <p:spPr>
            <a:xfrm>
              <a:off x="87951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902" name=""/>
            <p:cNvSpPr/>
            <p:nvPr/>
          </p:nvSpPr>
          <p:spPr>
            <a:xfrm>
              <a:off x="866772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03" name=""/>
            <p:cNvSpPr/>
            <p:nvPr/>
          </p:nvSpPr>
          <p:spPr>
            <a:xfrm flipH="1">
              <a:off x="861768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04" name=""/>
            <p:cNvSpPr/>
            <p:nvPr/>
          </p:nvSpPr>
          <p:spPr>
            <a:xfrm flipH="1">
              <a:off x="859932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905" name=""/>
            <p:cNvSpPr/>
            <p:nvPr/>
          </p:nvSpPr>
          <p:spPr>
            <a:xfrm flipH="1">
              <a:off x="862992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906" name=""/>
            <p:cNvSpPr/>
            <p:nvPr/>
          </p:nvSpPr>
          <p:spPr>
            <a:xfrm>
              <a:off x="8584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907" name=""/>
            <p:cNvSpPr/>
            <p:nvPr/>
          </p:nvSpPr>
          <p:spPr>
            <a:xfrm>
              <a:off x="87091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908" name=""/>
            <p:cNvSpPr/>
            <p:nvPr/>
          </p:nvSpPr>
          <p:spPr>
            <a:xfrm>
              <a:off x="871632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909" name=""/>
            <p:cNvSpPr/>
            <p:nvPr/>
          </p:nvSpPr>
          <p:spPr>
            <a:xfrm flipH="1">
              <a:off x="8709120" y="654624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910" name=""/>
            <p:cNvSpPr/>
            <p:nvPr/>
          </p:nvSpPr>
          <p:spPr>
            <a:xfrm>
              <a:off x="8778600" y="660312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911" name=""/>
            <p:cNvSpPr/>
            <p:nvPr/>
          </p:nvSpPr>
          <p:spPr>
            <a:xfrm>
              <a:off x="8771760" y="625500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12" name=""/>
            <p:cNvSpPr/>
            <p:nvPr/>
          </p:nvSpPr>
          <p:spPr>
            <a:xfrm flipH="1">
              <a:off x="8732520" y="609660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913" name=""/>
            <p:cNvSpPr/>
            <p:nvPr/>
          </p:nvSpPr>
          <p:spPr>
            <a:xfrm flipH="1" flipV="1">
              <a:off x="873000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914" name=""/>
            <p:cNvSpPr/>
            <p:nvPr/>
          </p:nvSpPr>
          <p:spPr>
            <a:xfrm flipH="1">
              <a:off x="881748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915" name=""/>
            <p:cNvSpPr/>
            <p:nvPr/>
          </p:nvSpPr>
          <p:spPr>
            <a:xfrm>
              <a:off x="8693640" y="662220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16" name=""/>
            <p:cNvSpPr/>
            <p:nvPr/>
          </p:nvSpPr>
          <p:spPr>
            <a:xfrm flipH="1" flipV="1">
              <a:off x="8721720" y="672084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1917" name=""/>
            <p:cNvSpPr/>
            <p:nvPr/>
          </p:nvSpPr>
          <p:spPr>
            <a:xfrm flipH="1">
              <a:off x="885888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918" name=""/>
            <p:cNvSpPr/>
            <p:nvPr/>
          </p:nvSpPr>
          <p:spPr>
            <a:xfrm>
              <a:off x="8813520" y="614484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19" name=""/>
            <p:cNvSpPr/>
            <p:nvPr/>
          </p:nvSpPr>
          <p:spPr>
            <a:xfrm>
              <a:off x="8817840" y="6121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20" name=""/>
            <p:cNvSpPr/>
            <p:nvPr/>
          </p:nvSpPr>
          <p:spPr>
            <a:xfrm>
              <a:off x="8853840" y="65311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21" name=""/>
            <p:cNvSpPr/>
            <p:nvPr/>
          </p:nvSpPr>
          <p:spPr>
            <a:xfrm flipH="1">
              <a:off x="8579520" y="663912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1922" name=""/>
            <p:cNvSpPr/>
            <p:nvPr/>
          </p:nvSpPr>
          <p:spPr>
            <a:xfrm>
              <a:off x="8019720" y="61621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23" name=""/>
            <p:cNvSpPr/>
            <p:nvPr/>
          </p:nvSpPr>
          <p:spPr>
            <a:xfrm>
              <a:off x="8250480" y="61894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24" name=""/>
            <p:cNvSpPr/>
            <p:nvPr/>
          </p:nvSpPr>
          <p:spPr>
            <a:xfrm flipV="1">
              <a:off x="8004240" y="666000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25" name=""/>
            <p:cNvSpPr/>
            <p:nvPr/>
          </p:nvSpPr>
          <p:spPr>
            <a:xfrm>
              <a:off x="8210160" y="606888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926" name=""/>
            <p:cNvSpPr/>
            <p:nvPr/>
          </p:nvSpPr>
          <p:spPr>
            <a:xfrm>
              <a:off x="7997400" y="663480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27" name=""/>
            <p:cNvSpPr/>
            <p:nvPr/>
          </p:nvSpPr>
          <p:spPr>
            <a:xfrm>
              <a:off x="8563320" y="630144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28" name=""/>
            <p:cNvSpPr/>
            <p:nvPr/>
          </p:nvSpPr>
          <p:spPr>
            <a:xfrm flipV="1">
              <a:off x="8853840" y="622728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1929" name=""/>
            <p:cNvSpPr/>
            <p:nvPr/>
          </p:nvSpPr>
          <p:spPr>
            <a:xfrm flipH="1">
              <a:off x="8010720" y="644688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1930" name=""/>
            <p:cNvSpPr/>
            <p:nvPr/>
          </p:nvSpPr>
          <p:spPr>
            <a:xfrm flipH="1">
              <a:off x="8807760" y="639000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1931" name=""/>
            <p:cNvSpPr/>
            <p:nvPr/>
          </p:nvSpPr>
          <p:spPr>
            <a:xfrm flipH="1">
              <a:off x="7993080" y="608364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932" name=""/>
            <p:cNvSpPr/>
            <p:nvPr/>
          </p:nvSpPr>
          <p:spPr>
            <a:xfrm flipH="1">
              <a:off x="8180640" y="614052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933" name=""/>
            <p:cNvSpPr/>
            <p:nvPr/>
          </p:nvSpPr>
          <p:spPr>
            <a:xfrm flipH="1">
              <a:off x="89247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934" name=""/>
            <p:cNvSpPr/>
            <p:nvPr/>
          </p:nvSpPr>
          <p:spPr>
            <a:xfrm flipH="1" flipV="1">
              <a:off x="8942760" y="638712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935" name=""/>
            <p:cNvSpPr/>
            <p:nvPr/>
          </p:nvSpPr>
          <p:spPr>
            <a:xfrm flipH="1">
              <a:off x="8905320" y="636048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936" name=""/>
            <p:cNvSpPr/>
            <p:nvPr/>
          </p:nvSpPr>
          <p:spPr>
            <a:xfrm flipH="1">
              <a:off x="8927280" y="650592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37" name=""/>
            <p:cNvSpPr/>
            <p:nvPr/>
          </p:nvSpPr>
          <p:spPr>
            <a:xfrm>
              <a:off x="8995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938" name=""/>
            <p:cNvSpPr/>
            <p:nvPr/>
          </p:nvSpPr>
          <p:spPr>
            <a:xfrm>
              <a:off x="8896680" y="66747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939" name=""/>
            <p:cNvSpPr/>
            <p:nvPr/>
          </p:nvSpPr>
          <p:spPr>
            <a:xfrm flipV="1">
              <a:off x="9048600" y="644436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940" name=""/>
            <p:cNvSpPr/>
            <p:nvPr/>
          </p:nvSpPr>
          <p:spPr>
            <a:xfrm>
              <a:off x="9062280" y="64767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41" name=""/>
            <p:cNvSpPr/>
            <p:nvPr/>
          </p:nvSpPr>
          <p:spPr>
            <a:xfrm>
              <a:off x="9044280" y="634104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942" name=""/>
            <p:cNvSpPr/>
            <p:nvPr/>
          </p:nvSpPr>
          <p:spPr>
            <a:xfrm flipH="1">
              <a:off x="8992440" y="628236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43" name=""/>
            <p:cNvSpPr/>
            <p:nvPr/>
          </p:nvSpPr>
          <p:spPr>
            <a:xfrm>
              <a:off x="904428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44" name=""/>
            <p:cNvSpPr/>
            <p:nvPr/>
          </p:nvSpPr>
          <p:spPr>
            <a:xfrm>
              <a:off x="9049680" y="620172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945" name=""/>
            <p:cNvSpPr/>
            <p:nvPr/>
          </p:nvSpPr>
          <p:spPr>
            <a:xfrm>
              <a:off x="8938440" y="619740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946" name=""/>
            <p:cNvSpPr/>
            <p:nvPr/>
          </p:nvSpPr>
          <p:spPr>
            <a:xfrm flipH="1">
              <a:off x="888840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47" name=""/>
            <p:cNvSpPr/>
            <p:nvPr/>
          </p:nvSpPr>
          <p:spPr>
            <a:xfrm flipH="1">
              <a:off x="8901000" y="652500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948" name=""/>
            <p:cNvSpPr/>
            <p:nvPr/>
          </p:nvSpPr>
          <p:spPr>
            <a:xfrm>
              <a:off x="889668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949" name=""/>
            <p:cNvSpPr/>
            <p:nvPr/>
          </p:nvSpPr>
          <p:spPr>
            <a:xfrm>
              <a:off x="89816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950" name=""/>
            <p:cNvSpPr/>
            <p:nvPr/>
          </p:nvSpPr>
          <p:spPr>
            <a:xfrm>
              <a:off x="898740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951" name=""/>
            <p:cNvSpPr/>
            <p:nvPr/>
          </p:nvSpPr>
          <p:spPr>
            <a:xfrm flipH="1">
              <a:off x="8980200" y="651888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952" name=""/>
            <p:cNvSpPr/>
            <p:nvPr/>
          </p:nvSpPr>
          <p:spPr>
            <a:xfrm>
              <a:off x="9048600" y="657576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953" name=""/>
            <p:cNvSpPr/>
            <p:nvPr/>
          </p:nvSpPr>
          <p:spPr>
            <a:xfrm>
              <a:off x="904428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54" name=""/>
            <p:cNvSpPr/>
            <p:nvPr/>
          </p:nvSpPr>
          <p:spPr>
            <a:xfrm flipH="1">
              <a:off x="9065160" y="612360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955" name=""/>
            <p:cNvSpPr/>
            <p:nvPr/>
          </p:nvSpPr>
          <p:spPr>
            <a:xfrm flipH="1" flipV="1">
              <a:off x="900108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956" name=""/>
            <p:cNvSpPr/>
            <p:nvPr/>
          </p:nvSpPr>
          <p:spPr>
            <a:xfrm flipH="1">
              <a:off x="9090000" y="627588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957" name=""/>
            <p:cNvSpPr/>
            <p:nvPr/>
          </p:nvSpPr>
          <p:spPr>
            <a:xfrm>
              <a:off x="8966520" y="659268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958" name=""/>
            <p:cNvSpPr/>
            <p:nvPr/>
          </p:nvSpPr>
          <p:spPr>
            <a:xfrm flipH="1" flipV="1">
              <a:off x="899388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959" name=""/>
            <p:cNvSpPr/>
            <p:nvPr/>
          </p:nvSpPr>
          <p:spPr>
            <a:xfrm>
              <a:off x="8951040" y="663480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960" name=""/>
            <p:cNvSpPr/>
            <p:nvPr/>
          </p:nvSpPr>
          <p:spPr>
            <a:xfrm>
              <a:off x="735228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61" name=""/>
            <p:cNvSpPr/>
            <p:nvPr/>
          </p:nvSpPr>
          <p:spPr>
            <a:xfrm>
              <a:off x="7203600" y="675540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962" name=""/>
            <p:cNvSpPr/>
            <p:nvPr/>
          </p:nvSpPr>
          <p:spPr>
            <a:xfrm>
              <a:off x="728712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63" name=""/>
            <p:cNvSpPr/>
            <p:nvPr/>
          </p:nvSpPr>
          <p:spPr>
            <a:xfrm flipH="1">
              <a:off x="737424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964" name=""/>
            <p:cNvSpPr/>
            <p:nvPr/>
          </p:nvSpPr>
          <p:spPr>
            <a:xfrm>
              <a:off x="7621920" y="6776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65" name=""/>
            <p:cNvSpPr/>
            <p:nvPr/>
          </p:nvSpPr>
          <p:spPr>
            <a:xfrm>
              <a:off x="7474680" y="675540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966" name=""/>
            <p:cNvSpPr/>
            <p:nvPr/>
          </p:nvSpPr>
          <p:spPr>
            <a:xfrm>
              <a:off x="755964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67" name=""/>
            <p:cNvSpPr/>
            <p:nvPr/>
          </p:nvSpPr>
          <p:spPr>
            <a:xfrm flipH="1">
              <a:off x="764676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968" name=""/>
            <p:cNvSpPr/>
            <p:nvPr/>
          </p:nvSpPr>
          <p:spPr>
            <a:xfrm>
              <a:off x="9105480" y="661608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69" name=""/>
            <p:cNvSpPr/>
            <p:nvPr/>
          </p:nvSpPr>
          <p:spPr>
            <a:xfrm>
              <a:off x="791532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70" name=""/>
            <p:cNvSpPr/>
            <p:nvPr/>
          </p:nvSpPr>
          <p:spPr>
            <a:xfrm>
              <a:off x="776808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971" name=""/>
            <p:cNvSpPr/>
            <p:nvPr/>
          </p:nvSpPr>
          <p:spPr>
            <a:xfrm>
              <a:off x="7853040" y="675540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72" name=""/>
            <p:cNvSpPr/>
            <p:nvPr/>
          </p:nvSpPr>
          <p:spPr>
            <a:xfrm flipH="1">
              <a:off x="7937640" y="679140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973" name=""/>
            <p:cNvSpPr/>
            <p:nvPr/>
          </p:nvSpPr>
          <p:spPr>
            <a:xfrm>
              <a:off x="8186400" y="6776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74" name=""/>
            <p:cNvSpPr/>
            <p:nvPr/>
          </p:nvSpPr>
          <p:spPr>
            <a:xfrm>
              <a:off x="808380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975" name=""/>
            <p:cNvSpPr/>
            <p:nvPr/>
          </p:nvSpPr>
          <p:spPr>
            <a:xfrm>
              <a:off x="8145000" y="67554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76" name=""/>
            <p:cNvSpPr/>
            <p:nvPr/>
          </p:nvSpPr>
          <p:spPr>
            <a:xfrm flipH="1">
              <a:off x="8292960" y="6765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977" name=""/>
            <p:cNvSpPr/>
            <p:nvPr/>
          </p:nvSpPr>
          <p:spPr>
            <a:xfrm>
              <a:off x="8415720" y="674676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78" name=""/>
            <p:cNvSpPr/>
            <p:nvPr/>
          </p:nvSpPr>
          <p:spPr>
            <a:xfrm>
              <a:off x="837576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979" name=""/>
            <p:cNvSpPr/>
            <p:nvPr/>
          </p:nvSpPr>
          <p:spPr>
            <a:xfrm>
              <a:off x="843696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80" name=""/>
            <p:cNvSpPr/>
            <p:nvPr/>
          </p:nvSpPr>
          <p:spPr>
            <a:xfrm flipH="1">
              <a:off x="8522640" y="676584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981" name=""/>
            <p:cNvSpPr/>
            <p:nvPr/>
          </p:nvSpPr>
          <p:spPr>
            <a:xfrm>
              <a:off x="8691120" y="674064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982" name=""/>
            <p:cNvSpPr/>
            <p:nvPr/>
          </p:nvSpPr>
          <p:spPr>
            <a:xfrm>
              <a:off x="860364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983" name=""/>
            <p:cNvSpPr/>
            <p:nvPr/>
          </p:nvSpPr>
          <p:spPr>
            <a:xfrm>
              <a:off x="8728920" y="678456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84" name=""/>
            <p:cNvSpPr/>
            <p:nvPr/>
          </p:nvSpPr>
          <p:spPr>
            <a:xfrm flipH="1">
              <a:off x="8754840" y="676584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985" name=""/>
            <p:cNvSpPr/>
            <p:nvPr/>
          </p:nvSpPr>
          <p:spPr>
            <a:xfrm>
              <a:off x="883440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86" name=""/>
            <p:cNvSpPr/>
            <p:nvPr/>
          </p:nvSpPr>
          <p:spPr>
            <a:xfrm>
              <a:off x="8903880" y="681660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87" name=""/>
            <p:cNvSpPr/>
            <p:nvPr/>
          </p:nvSpPr>
          <p:spPr>
            <a:xfrm>
              <a:off x="8231040" y="673812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988" name=""/>
            <p:cNvSpPr/>
            <p:nvPr/>
          </p:nvSpPr>
          <p:spPr>
            <a:xfrm flipH="1">
              <a:off x="8201520" y="680976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989" name=""/>
            <p:cNvSpPr/>
            <p:nvPr/>
          </p:nvSpPr>
          <p:spPr>
            <a:xfrm>
              <a:off x="9062280" y="68036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90" name=""/>
            <p:cNvSpPr/>
            <p:nvPr/>
          </p:nvSpPr>
          <p:spPr>
            <a:xfrm>
              <a:off x="8876160" y="675540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991" name=""/>
            <p:cNvSpPr/>
            <p:nvPr/>
          </p:nvSpPr>
          <p:spPr>
            <a:xfrm>
              <a:off x="900108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992" name=""/>
            <p:cNvSpPr/>
            <p:nvPr/>
          </p:nvSpPr>
          <p:spPr>
            <a:xfrm flipH="1">
              <a:off x="9045360" y="670896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993" name=""/>
            <p:cNvSpPr/>
            <p:nvPr/>
          </p:nvSpPr>
          <p:spPr>
            <a:xfrm>
              <a:off x="9113760" y="647424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994" name=""/>
            <p:cNvSpPr/>
            <p:nvPr/>
          </p:nvSpPr>
          <p:spPr>
            <a:xfrm>
              <a:off x="7747200" y="681228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995" name=""/>
            <p:cNvSpPr/>
            <p:nvPr/>
          </p:nvSpPr>
          <p:spPr>
            <a:xfrm>
              <a:off x="8019720" y="683100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96" name=""/>
            <p:cNvSpPr/>
            <p:nvPr/>
          </p:nvSpPr>
          <p:spPr>
            <a:xfrm flipV="1">
              <a:off x="7178760" y="681624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1997" name=""/>
            <p:cNvSpPr/>
            <p:nvPr/>
          </p:nvSpPr>
          <p:spPr>
            <a:xfrm flipH="1">
              <a:off x="8642520" y="680976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998" name=""/>
            <p:cNvSpPr/>
            <p:nvPr/>
          </p:nvSpPr>
          <p:spPr>
            <a:xfrm flipH="1" flipV="1">
              <a:off x="7455240" y="677808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999" name=""/>
            <p:cNvSpPr/>
            <p:nvPr/>
          </p:nvSpPr>
          <p:spPr>
            <a:xfrm flipH="1" flipV="1">
              <a:off x="845784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000" name=""/>
            <p:cNvSpPr/>
            <p:nvPr/>
          </p:nvSpPr>
          <p:spPr>
            <a:xfrm flipH="1" flipV="1">
              <a:off x="856332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2001" name=""/>
          <p:cNvSpPr/>
          <p:nvPr/>
        </p:nvSpPr>
        <p:spPr>
          <a:xfrm>
            <a:off x="7157880" y="6141960"/>
            <a:ext cx="198612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ÉNÉTIQUE</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ET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2002" name=""/>
          <p:cNvSpPr/>
          <p:nvPr/>
        </p:nvSpPr>
        <p:spPr>
          <a:xfrm>
            <a:off x="1473120" y="644220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D9BD-D309-40DB-A7FD-47C5CC57D11D}"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2003" name=""/>
          <p:cNvSpPr/>
          <p:nvPr/>
        </p:nvSpPr>
        <p:spPr>
          <a:xfrm>
            <a:off x="685800" y="6440400"/>
            <a:ext cx="72540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2004" name=""/>
          <p:cNvSpPr/>
          <p:nvPr/>
        </p:nvSpPr>
        <p:spPr>
          <a:xfrm>
            <a:off x="0" y="6470640"/>
            <a:ext cx="9144000" cy="1440"/>
          </a:xfrm>
          <a:prstGeom prst="line">
            <a:avLst/>
          </a:prstGeom>
          <a:ln w="2844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21449212-27CB-4A3F-86E3-7B67D3BADA3F}" type="datetime1">
              <a:rPr lang="en-US"/>
              <a:t>07/30/2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005" name="" descr=""/>
          <p:cNvPicPr/>
          <p:nvPr/>
        </p:nvPicPr>
        <p:blipFill>
          <a:blip r:embed="rId1"/>
          <a:stretch/>
        </p:blipFill>
        <p:spPr>
          <a:xfrm>
            <a:off x="0" y="0"/>
            <a:ext cx="9144000" cy="6858000"/>
          </a:xfrm>
          <a:prstGeom prst="rect">
            <a:avLst/>
          </a:prstGeom>
          <a:ln w="0">
            <a:noFill/>
          </a:ln>
        </p:spPr>
      </p:pic>
      <p:sp>
        <p:nvSpPr>
          <p:cNvPr id="2006" name=""/>
          <p:cNvSpPr/>
          <p:nvPr/>
        </p:nvSpPr>
        <p:spPr>
          <a:xfrm>
            <a:off x="673200" y="42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000000"/>
              </a:solidFill>
              <a:latin typeface="Comic Sans MS"/>
            </a:endParaRPr>
          </a:p>
        </p:txBody>
      </p:sp>
      <p:grpSp>
        <p:nvGrpSpPr>
          <p:cNvPr id="2007" name=""/>
          <p:cNvGrpSpPr/>
          <p:nvPr/>
        </p:nvGrpSpPr>
        <p:grpSpPr>
          <a:xfrm>
            <a:off x="7156080" y="6068880"/>
            <a:ext cx="1981080" cy="785160"/>
            <a:chOff x="7156080" y="6068880"/>
            <a:chExt cx="1981080" cy="785160"/>
          </a:xfrm>
        </p:grpSpPr>
        <p:sp>
          <p:nvSpPr>
            <p:cNvPr id="2008" name=""/>
            <p:cNvSpPr/>
            <p:nvPr/>
          </p:nvSpPr>
          <p:spPr>
            <a:xfrm flipH="1">
              <a:off x="721188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009" name=""/>
            <p:cNvSpPr/>
            <p:nvPr/>
          </p:nvSpPr>
          <p:spPr>
            <a:xfrm flipH="1" flipV="1">
              <a:off x="7228440" y="638712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010" name=""/>
            <p:cNvSpPr/>
            <p:nvPr/>
          </p:nvSpPr>
          <p:spPr>
            <a:xfrm flipH="1">
              <a:off x="715608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011" name=""/>
            <p:cNvSpPr/>
            <p:nvPr/>
          </p:nvSpPr>
          <p:spPr>
            <a:xfrm flipH="1">
              <a:off x="719100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012" name=""/>
            <p:cNvSpPr/>
            <p:nvPr/>
          </p:nvSpPr>
          <p:spPr>
            <a:xfrm flipH="1">
              <a:off x="721620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13" name=""/>
            <p:cNvSpPr/>
            <p:nvPr/>
          </p:nvSpPr>
          <p:spPr>
            <a:xfrm>
              <a:off x="728136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014" name=""/>
            <p:cNvSpPr/>
            <p:nvPr/>
          </p:nvSpPr>
          <p:spPr>
            <a:xfrm>
              <a:off x="7227360" y="661608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15" name=""/>
            <p:cNvSpPr/>
            <p:nvPr/>
          </p:nvSpPr>
          <p:spPr>
            <a:xfrm>
              <a:off x="7167600" y="670464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2016" name=""/>
            <p:cNvSpPr/>
            <p:nvPr/>
          </p:nvSpPr>
          <p:spPr>
            <a:xfrm flipV="1">
              <a:off x="733428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017" name=""/>
            <p:cNvSpPr/>
            <p:nvPr/>
          </p:nvSpPr>
          <p:spPr>
            <a:xfrm>
              <a:off x="735228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18" name=""/>
            <p:cNvSpPr/>
            <p:nvPr/>
          </p:nvSpPr>
          <p:spPr>
            <a:xfrm>
              <a:off x="732996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019" name=""/>
            <p:cNvSpPr/>
            <p:nvPr/>
          </p:nvSpPr>
          <p:spPr>
            <a:xfrm flipH="1">
              <a:off x="727812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020" name=""/>
            <p:cNvSpPr/>
            <p:nvPr/>
          </p:nvSpPr>
          <p:spPr>
            <a:xfrm>
              <a:off x="732996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21" name=""/>
            <p:cNvSpPr/>
            <p:nvPr/>
          </p:nvSpPr>
          <p:spPr>
            <a:xfrm>
              <a:off x="733428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022" name=""/>
            <p:cNvSpPr/>
            <p:nvPr/>
          </p:nvSpPr>
          <p:spPr>
            <a:xfrm>
              <a:off x="7353720" y="663048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023" name=""/>
            <p:cNvSpPr/>
            <p:nvPr/>
          </p:nvSpPr>
          <p:spPr>
            <a:xfrm>
              <a:off x="7227360" y="619740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024" name=""/>
            <p:cNvSpPr/>
            <p:nvPr/>
          </p:nvSpPr>
          <p:spPr>
            <a:xfrm flipH="1">
              <a:off x="717552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025" name=""/>
            <p:cNvSpPr/>
            <p:nvPr/>
          </p:nvSpPr>
          <p:spPr>
            <a:xfrm flipH="1">
              <a:off x="7157520" y="647424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026" name=""/>
            <p:cNvSpPr/>
            <p:nvPr/>
          </p:nvSpPr>
          <p:spPr>
            <a:xfrm flipH="1">
              <a:off x="718812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027" name=""/>
            <p:cNvSpPr/>
            <p:nvPr/>
          </p:nvSpPr>
          <p:spPr>
            <a:xfrm>
              <a:off x="7184160" y="609012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028" name=""/>
            <p:cNvSpPr/>
            <p:nvPr/>
          </p:nvSpPr>
          <p:spPr>
            <a:xfrm>
              <a:off x="7266240" y="609012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029" name=""/>
            <p:cNvSpPr/>
            <p:nvPr/>
          </p:nvSpPr>
          <p:spPr>
            <a:xfrm>
              <a:off x="727452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030" name=""/>
            <p:cNvSpPr/>
            <p:nvPr/>
          </p:nvSpPr>
          <p:spPr>
            <a:xfrm flipH="1">
              <a:off x="726768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031" name=""/>
            <p:cNvSpPr/>
            <p:nvPr/>
          </p:nvSpPr>
          <p:spPr>
            <a:xfrm>
              <a:off x="7334280" y="657576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032" name=""/>
            <p:cNvSpPr/>
            <p:nvPr/>
          </p:nvSpPr>
          <p:spPr>
            <a:xfrm>
              <a:off x="732996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33" name=""/>
            <p:cNvSpPr/>
            <p:nvPr/>
          </p:nvSpPr>
          <p:spPr>
            <a:xfrm flipH="1">
              <a:off x="735336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034" name=""/>
            <p:cNvSpPr/>
            <p:nvPr/>
          </p:nvSpPr>
          <p:spPr>
            <a:xfrm flipH="1" flipV="1">
              <a:off x="7287120" y="661356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035" name=""/>
            <p:cNvSpPr/>
            <p:nvPr/>
          </p:nvSpPr>
          <p:spPr>
            <a:xfrm flipH="1">
              <a:off x="7378920" y="627588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036" name=""/>
            <p:cNvSpPr/>
            <p:nvPr/>
          </p:nvSpPr>
          <p:spPr>
            <a:xfrm>
              <a:off x="7252560" y="659268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037" name=""/>
            <p:cNvSpPr/>
            <p:nvPr/>
          </p:nvSpPr>
          <p:spPr>
            <a:xfrm flipH="1" flipV="1">
              <a:off x="728100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038" name=""/>
            <p:cNvSpPr/>
            <p:nvPr/>
          </p:nvSpPr>
          <p:spPr>
            <a:xfrm flipH="1">
              <a:off x="7417440" y="638568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039" name=""/>
            <p:cNvSpPr/>
            <p:nvPr/>
          </p:nvSpPr>
          <p:spPr>
            <a:xfrm>
              <a:off x="741492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40" name=""/>
            <p:cNvSpPr/>
            <p:nvPr/>
          </p:nvSpPr>
          <p:spPr>
            <a:xfrm>
              <a:off x="7417440" y="631404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1" name=""/>
            <p:cNvSpPr/>
            <p:nvPr/>
          </p:nvSpPr>
          <p:spPr>
            <a:xfrm>
              <a:off x="741492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42" name=""/>
            <p:cNvSpPr/>
            <p:nvPr/>
          </p:nvSpPr>
          <p:spPr>
            <a:xfrm flipH="1">
              <a:off x="748296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043" name=""/>
            <p:cNvSpPr/>
            <p:nvPr/>
          </p:nvSpPr>
          <p:spPr>
            <a:xfrm flipH="1" flipV="1">
              <a:off x="7498080" y="638712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044" name=""/>
            <p:cNvSpPr/>
            <p:nvPr/>
          </p:nvSpPr>
          <p:spPr>
            <a:xfrm flipH="1">
              <a:off x="742860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045" name=""/>
            <p:cNvSpPr/>
            <p:nvPr/>
          </p:nvSpPr>
          <p:spPr>
            <a:xfrm flipH="1">
              <a:off x="746208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046" name=""/>
            <p:cNvSpPr/>
            <p:nvPr/>
          </p:nvSpPr>
          <p:spPr>
            <a:xfrm flipH="1">
              <a:off x="7487280" y="650592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47" name=""/>
            <p:cNvSpPr/>
            <p:nvPr/>
          </p:nvSpPr>
          <p:spPr>
            <a:xfrm>
              <a:off x="7553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048" name=""/>
            <p:cNvSpPr/>
            <p:nvPr/>
          </p:nvSpPr>
          <p:spPr>
            <a:xfrm>
              <a:off x="7498440" y="66160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49" name=""/>
            <p:cNvSpPr/>
            <p:nvPr/>
          </p:nvSpPr>
          <p:spPr>
            <a:xfrm flipV="1">
              <a:off x="7444080" y="667044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050" name=""/>
            <p:cNvSpPr/>
            <p:nvPr/>
          </p:nvSpPr>
          <p:spPr>
            <a:xfrm flipV="1">
              <a:off x="7605360" y="644436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051" name=""/>
            <p:cNvSpPr/>
            <p:nvPr/>
          </p:nvSpPr>
          <p:spPr>
            <a:xfrm>
              <a:off x="7621920" y="647676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52" name=""/>
            <p:cNvSpPr/>
            <p:nvPr/>
          </p:nvSpPr>
          <p:spPr>
            <a:xfrm>
              <a:off x="7602840" y="634104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053" name=""/>
            <p:cNvSpPr/>
            <p:nvPr/>
          </p:nvSpPr>
          <p:spPr>
            <a:xfrm flipH="1">
              <a:off x="754920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054" name=""/>
            <p:cNvSpPr/>
            <p:nvPr/>
          </p:nvSpPr>
          <p:spPr>
            <a:xfrm>
              <a:off x="760284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55" name=""/>
            <p:cNvSpPr/>
            <p:nvPr/>
          </p:nvSpPr>
          <p:spPr>
            <a:xfrm>
              <a:off x="760680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056" name=""/>
            <p:cNvSpPr/>
            <p:nvPr/>
          </p:nvSpPr>
          <p:spPr>
            <a:xfrm>
              <a:off x="7627680" y="663048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057" name=""/>
            <p:cNvSpPr/>
            <p:nvPr/>
          </p:nvSpPr>
          <p:spPr>
            <a:xfrm>
              <a:off x="7498440" y="619740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058" name=""/>
            <p:cNvSpPr/>
            <p:nvPr/>
          </p:nvSpPr>
          <p:spPr>
            <a:xfrm flipH="1">
              <a:off x="7446960" y="62251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59" name=""/>
            <p:cNvSpPr/>
            <p:nvPr/>
          </p:nvSpPr>
          <p:spPr>
            <a:xfrm flipH="1">
              <a:off x="74300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060" name=""/>
            <p:cNvSpPr/>
            <p:nvPr/>
          </p:nvSpPr>
          <p:spPr>
            <a:xfrm flipH="1">
              <a:off x="745920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061" name=""/>
            <p:cNvSpPr/>
            <p:nvPr/>
          </p:nvSpPr>
          <p:spPr>
            <a:xfrm>
              <a:off x="7456680" y="60901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062" name=""/>
            <p:cNvSpPr/>
            <p:nvPr/>
          </p:nvSpPr>
          <p:spPr>
            <a:xfrm>
              <a:off x="75398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063" name=""/>
            <p:cNvSpPr/>
            <p:nvPr/>
          </p:nvSpPr>
          <p:spPr>
            <a:xfrm>
              <a:off x="7545600" y="639180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064" name=""/>
            <p:cNvSpPr/>
            <p:nvPr/>
          </p:nvSpPr>
          <p:spPr>
            <a:xfrm flipH="1">
              <a:off x="753876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065" name=""/>
            <p:cNvSpPr/>
            <p:nvPr/>
          </p:nvSpPr>
          <p:spPr>
            <a:xfrm>
              <a:off x="760680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066" name=""/>
            <p:cNvSpPr/>
            <p:nvPr/>
          </p:nvSpPr>
          <p:spPr>
            <a:xfrm>
              <a:off x="760284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67" name=""/>
            <p:cNvSpPr/>
            <p:nvPr/>
          </p:nvSpPr>
          <p:spPr>
            <a:xfrm flipH="1">
              <a:off x="762444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068" name=""/>
            <p:cNvSpPr/>
            <p:nvPr/>
          </p:nvSpPr>
          <p:spPr>
            <a:xfrm flipH="1" flipV="1">
              <a:off x="755964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069" name=""/>
            <p:cNvSpPr/>
            <p:nvPr/>
          </p:nvSpPr>
          <p:spPr>
            <a:xfrm flipH="1">
              <a:off x="7649640" y="627588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070" name=""/>
            <p:cNvSpPr/>
            <p:nvPr/>
          </p:nvSpPr>
          <p:spPr>
            <a:xfrm>
              <a:off x="7523280" y="659268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071" name=""/>
            <p:cNvSpPr/>
            <p:nvPr/>
          </p:nvSpPr>
          <p:spPr>
            <a:xfrm flipH="1" flipV="1">
              <a:off x="7556760" y="667656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2072" name=""/>
            <p:cNvSpPr/>
            <p:nvPr/>
          </p:nvSpPr>
          <p:spPr>
            <a:xfrm flipH="1">
              <a:off x="769104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073" name=""/>
            <p:cNvSpPr/>
            <p:nvPr/>
          </p:nvSpPr>
          <p:spPr>
            <a:xfrm>
              <a:off x="768600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74" name=""/>
            <p:cNvSpPr/>
            <p:nvPr/>
          </p:nvSpPr>
          <p:spPr>
            <a:xfrm>
              <a:off x="7690320" y="634356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75" name=""/>
            <p:cNvSpPr/>
            <p:nvPr/>
          </p:nvSpPr>
          <p:spPr>
            <a:xfrm>
              <a:off x="768600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76" name=""/>
            <p:cNvSpPr/>
            <p:nvPr/>
          </p:nvSpPr>
          <p:spPr>
            <a:xfrm flipH="1">
              <a:off x="77763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077" name=""/>
            <p:cNvSpPr/>
            <p:nvPr/>
          </p:nvSpPr>
          <p:spPr>
            <a:xfrm flipH="1" flipV="1">
              <a:off x="7791120" y="638712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078" name=""/>
            <p:cNvSpPr/>
            <p:nvPr/>
          </p:nvSpPr>
          <p:spPr>
            <a:xfrm flipH="1">
              <a:off x="771912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079" name=""/>
            <p:cNvSpPr/>
            <p:nvPr/>
          </p:nvSpPr>
          <p:spPr>
            <a:xfrm flipH="1" flipV="1">
              <a:off x="7719120" y="641304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080" name=""/>
            <p:cNvSpPr/>
            <p:nvPr/>
          </p:nvSpPr>
          <p:spPr>
            <a:xfrm flipH="1">
              <a:off x="778032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81" name=""/>
            <p:cNvSpPr/>
            <p:nvPr/>
          </p:nvSpPr>
          <p:spPr>
            <a:xfrm>
              <a:off x="78472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082" name=""/>
            <p:cNvSpPr/>
            <p:nvPr/>
          </p:nvSpPr>
          <p:spPr>
            <a:xfrm>
              <a:off x="7791480" y="661608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83" name=""/>
            <p:cNvSpPr/>
            <p:nvPr/>
          </p:nvSpPr>
          <p:spPr>
            <a:xfrm>
              <a:off x="7736040" y="668988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084" name=""/>
            <p:cNvSpPr/>
            <p:nvPr/>
          </p:nvSpPr>
          <p:spPr>
            <a:xfrm flipV="1">
              <a:off x="789876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085" name=""/>
            <p:cNvSpPr/>
            <p:nvPr/>
          </p:nvSpPr>
          <p:spPr>
            <a:xfrm>
              <a:off x="791532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86" name=""/>
            <p:cNvSpPr/>
            <p:nvPr/>
          </p:nvSpPr>
          <p:spPr>
            <a:xfrm>
              <a:off x="789300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087" name=""/>
            <p:cNvSpPr/>
            <p:nvPr/>
          </p:nvSpPr>
          <p:spPr>
            <a:xfrm flipH="1">
              <a:off x="784332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088" name=""/>
            <p:cNvSpPr/>
            <p:nvPr/>
          </p:nvSpPr>
          <p:spPr>
            <a:xfrm>
              <a:off x="789300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89" name=""/>
            <p:cNvSpPr/>
            <p:nvPr/>
          </p:nvSpPr>
          <p:spPr>
            <a:xfrm>
              <a:off x="7899840" y="620172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090" name=""/>
            <p:cNvSpPr/>
            <p:nvPr/>
          </p:nvSpPr>
          <p:spPr>
            <a:xfrm>
              <a:off x="7919640" y="663048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091" name=""/>
            <p:cNvSpPr/>
            <p:nvPr/>
          </p:nvSpPr>
          <p:spPr>
            <a:xfrm>
              <a:off x="7791480" y="619740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092" name=""/>
            <p:cNvSpPr/>
            <p:nvPr/>
          </p:nvSpPr>
          <p:spPr>
            <a:xfrm flipH="1">
              <a:off x="7738920" y="62550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093" name=""/>
            <p:cNvSpPr/>
            <p:nvPr/>
          </p:nvSpPr>
          <p:spPr>
            <a:xfrm flipH="1">
              <a:off x="77216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094" name=""/>
            <p:cNvSpPr/>
            <p:nvPr/>
          </p:nvSpPr>
          <p:spPr>
            <a:xfrm flipH="1">
              <a:off x="7751160" y="652500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095" name=""/>
            <p:cNvSpPr/>
            <p:nvPr/>
          </p:nvSpPr>
          <p:spPr>
            <a:xfrm>
              <a:off x="7747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096" name=""/>
            <p:cNvSpPr/>
            <p:nvPr/>
          </p:nvSpPr>
          <p:spPr>
            <a:xfrm>
              <a:off x="783180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097" name=""/>
            <p:cNvSpPr/>
            <p:nvPr/>
          </p:nvSpPr>
          <p:spPr>
            <a:xfrm>
              <a:off x="7840440" y="639180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098" name=""/>
            <p:cNvSpPr/>
            <p:nvPr/>
          </p:nvSpPr>
          <p:spPr>
            <a:xfrm flipH="1">
              <a:off x="7831440" y="651888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099" name=""/>
            <p:cNvSpPr/>
            <p:nvPr/>
          </p:nvSpPr>
          <p:spPr>
            <a:xfrm>
              <a:off x="789876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100" name=""/>
            <p:cNvSpPr/>
            <p:nvPr/>
          </p:nvSpPr>
          <p:spPr>
            <a:xfrm>
              <a:off x="789300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01" name=""/>
            <p:cNvSpPr/>
            <p:nvPr/>
          </p:nvSpPr>
          <p:spPr>
            <a:xfrm flipH="1">
              <a:off x="7916400" y="612360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102" name=""/>
            <p:cNvSpPr/>
            <p:nvPr/>
          </p:nvSpPr>
          <p:spPr>
            <a:xfrm flipH="1" flipV="1">
              <a:off x="7851240" y="661356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103" name=""/>
            <p:cNvSpPr/>
            <p:nvPr/>
          </p:nvSpPr>
          <p:spPr>
            <a:xfrm flipH="1">
              <a:off x="7941600" y="627588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104" name=""/>
            <p:cNvSpPr/>
            <p:nvPr/>
          </p:nvSpPr>
          <p:spPr>
            <a:xfrm>
              <a:off x="7815240" y="659268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105" name=""/>
            <p:cNvSpPr/>
            <p:nvPr/>
          </p:nvSpPr>
          <p:spPr>
            <a:xfrm flipH="1" flipV="1">
              <a:off x="7846920" y="669168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106" name=""/>
            <p:cNvSpPr/>
            <p:nvPr/>
          </p:nvSpPr>
          <p:spPr>
            <a:xfrm flipH="1">
              <a:off x="798192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107" name=""/>
            <p:cNvSpPr/>
            <p:nvPr/>
          </p:nvSpPr>
          <p:spPr>
            <a:xfrm>
              <a:off x="797796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08" name=""/>
            <p:cNvSpPr/>
            <p:nvPr/>
          </p:nvSpPr>
          <p:spPr>
            <a:xfrm>
              <a:off x="7983360" y="6314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9" name=""/>
            <p:cNvSpPr/>
            <p:nvPr/>
          </p:nvSpPr>
          <p:spPr>
            <a:xfrm>
              <a:off x="797796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10" name=""/>
            <p:cNvSpPr/>
            <p:nvPr/>
          </p:nvSpPr>
          <p:spPr>
            <a:xfrm flipH="1">
              <a:off x="7704000" y="666864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111" name=""/>
            <p:cNvSpPr/>
            <p:nvPr/>
          </p:nvSpPr>
          <p:spPr>
            <a:xfrm flipH="1">
              <a:off x="808920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112" name=""/>
            <p:cNvSpPr/>
            <p:nvPr/>
          </p:nvSpPr>
          <p:spPr>
            <a:xfrm flipH="1" flipV="1">
              <a:off x="8105400" y="641304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113" name=""/>
            <p:cNvSpPr/>
            <p:nvPr/>
          </p:nvSpPr>
          <p:spPr>
            <a:xfrm flipH="1">
              <a:off x="8033400" y="620172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114" name=""/>
            <p:cNvSpPr/>
            <p:nvPr/>
          </p:nvSpPr>
          <p:spPr>
            <a:xfrm flipH="1">
              <a:off x="806832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115" name=""/>
            <p:cNvSpPr/>
            <p:nvPr/>
          </p:nvSpPr>
          <p:spPr>
            <a:xfrm flipH="1">
              <a:off x="8092080" y="653112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16" name=""/>
            <p:cNvSpPr/>
            <p:nvPr/>
          </p:nvSpPr>
          <p:spPr>
            <a:xfrm>
              <a:off x="81601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117" name=""/>
            <p:cNvSpPr/>
            <p:nvPr/>
          </p:nvSpPr>
          <p:spPr>
            <a:xfrm>
              <a:off x="810288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18" name=""/>
            <p:cNvSpPr/>
            <p:nvPr/>
          </p:nvSpPr>
          <p:spPr>
            <a:xfrm>
              <a:off x="8044560" y="673200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119" name=""/>
            <p:cNvSpPr/>
            <p:nvPr/>
          </p:nvSpPr>
          <p:spPr>
            <a:xfrm>
              <a:off x="8211600" y="64828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0" name=""/>
            <p:cNvSpPr/>
            <p:nvPr/>
          </p:nvSpPr>
          <p:spPr>
            <a:xfrm>
              <a:off x="8229600" y="65059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21" name=""/>
            <p:cNvSpPr/>
            <p:nvPr/>
          </p:nvSpPr>
          <p:spPr>
            <a:xfrm>
              <a:off x="8206200" y="636660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22" name=""/>
            <p:cNvSpPr/>
            <p:nvPr/>
          </p:nvSpPr>
          <p:spPr>
            <a:xfrm flipH="1">
              <a:off x="815544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23" name=""/>
            <p:cNvSpPr/>
            <p:nvPr/>
          </p:nvSpPr>
          <p:spPr>
            <a:xfrm>
              <a:off x="8165880" y="61070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4" name=""/>
            <p:cNvSpPr/>
            <p:nvPr/>
          </p:nvSpPr>
          <p:spPr>
            <a:xfrm>
              <a:off x="821304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125" name=""/>
            <p:cNvSpPr/>
            <p:nvPr/>
          </p:nvSpPr>
          <p:spPr>
            <a:xfrm>
              <a:off x="8233920" y="665388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126" name=""/>
            <p:cNvSpPr/>
            <p:nvPr/>
          </p:nvSpPr>
          <p:spPr>
            <a:xfrm>
              <a:off x="810288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27" name=""/>
            <p:cNvSpPr/>
            <p:nvPr/>
          </p:nvSpPr>
          <p:spPr>
            <a:xfrm flipH="1">
              <a:off x="8054280" y="628236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28" name=""/>
            <p:cNvSpPr/>
            <p:nvPr/>
          </p:nvSpPr>
          <p:spPr>
            <a:xfrm flipH="1">
              <a:off x="803628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129" name=""/>
            <p:cNvSpPr/>
            <p:nvPr/>
          </p:nvSpPr>
          <p:spPr>
            <a:xfrm flipH="1">
              <a:off x="8066880" y="655488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130" name=""/>
            <p:cNvSpPr/>
            <p:nvPr/>
          </p:nvSpPr>
          <p:spPr>
            <a:xfrm>
              <a:off x="8060040" y="611568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131" name=""/>
            <p:cNvSpPr/>
            <p:nvPr/>
          </p:nvSpPr>
          <p:spPr>
            <a:xfrm>
              <a:off x="8125560" y="609012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132" name=""/>
            <p:cNvSpPr/>
            <p:nvPr/>
          </p:nvSpPr>
          <p:spPr>
            <a:xfrm>
              <a:off x="815328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133" name=""/>
            <p:cNvSpPr/>
            <p:nvPr/>
          </p:nvSpPr>
          <p:spPr>
            <a:xfrm flipH="1">
              <a:off x="8146080" y="654624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134" name=""/>
            <p:cNvSpPr/>
            <p:nvPr/>
          </p:nvSpPr>
          <p:spPr>
            <a:xfrm>
              <a:off x="8211600" y="660312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135" name=""/>
            <p:cNvSpPr/>
            <p:nvPr/>
          </p:nvSpPr>
          <p:spPr>
            <a:xfrm>
              <a:off x="8206200" y="625500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36" name=""/>
            <p:cNvSpPr/>
            <p:nvPr/>
          </p:nvSpPr>
          <p:spPr>
            <a:xfrm flipH="1">
              <a:off x="8271360" y="609660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137" name=""/>
            <p:cNvSpPr/>
            <p:nvPr/>
          </p:nvSpPr>
          <p:spPr>
            <a:xfrm flipH="1" flipV="1">
              <a:off x="816696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138" name=""/>
            <p:cNvSpPr/>
            <p:nvPr/>
          </p:nvSpPr>
          <p:spPr>
            <a:xfrm flipH="1">
              <a:off x="825444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139" name=""/>
            <p:cNvSpPr/>
            <p:nvPr/>
          </p:nvSpPr>
          <p:spPr>
            <a:xfrm>
              <a:off x="8128080" y="662220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0" name=""/>
            <p:cNvSpPr/>
            <p:nvPr/>
          </p:nvSpPr>
          <p:spPr>
            <a:xfrm flipH="1">
              <a:off x="8296200" y="641304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141" name=""/>
            <p:cNvSpPr/>
            <p:nvPr/>
          </p:nvSpPr>
          <p:spPr>
            <a:xfrm>
              <a:off x="8292240" y="622728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42" name=""/>
            <p:cNvSpPr/>
            <p:nvPr/>
          </p:nvSpPr>
          <p:spPr>
            <a:xfrm>
              <a:off x="8296200" y="63435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3" name=""/>
            <p:cNvSpPr/>
            <p:nvPr/>
          </p:nvSpPr>
          <p:spPr>
            <a:xfrm>
              <a:off x="8292240" y="65311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44" name=""/>
            <p:cNvSpPr/>
            <p:nvPr/>
          </p:nvSpPr>
          <p:spPr>
            <a:xfrm flipH="1">
              <a:off x="836028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145" name=""/>
            <p:cNvSpPr/>
            <p:nvPr/>
          </p:nvSpPr>
          <p:spPr>
            <a:xfrm flipH="1" flipV="1">
              <a:off x="837684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146" name=""/>
            <p:cNvSpPr/>
            <p:nvPr/>
          </p:nvSpPr>
          <p:spPr>
            <a:xfrm flipH="1">
              <a:off x="8305560" y="620172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147" name=""/>
            <p:cNvSpPr/>
            <p:nvPr/>
          </p:nvSpPr>
          <p:spPr>
            <a:xfrm flipH="1">
              <a:off x="833940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148" name=""/>
            <p:cNvSpPr/>
            <p:nvPr/>
          </p:nvSpPr>
          <p:spPr>
            <a:xfrm flipH="1">
              <a:off x="836388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49" name=""/>
            <p:cNvSpPr/>
            <p:nvPr/>
          </p:nvSpPr>
          <p:spPr>
            <a:xfrm>
              <a:off x="84312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150" name=""/>
            <p:cNvSpPr/>
            <p:nvPr/>
          </p:nvSpPr>
          <p:spPr>
            <a:xfrm>
              <a:off x="8375760" y="66434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51" name=""/>
            <p:cNvSpPr/>
            <p:nvPr/>
          </p:nvSpPr>
          <p:spPr>
            <a:xfrm flipV="1">
              <a:off x="8322840" y="669852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52" name=""/>
            <p:cNvSpPr/>
            <p:nvPr/>
          </p:nvSpPr>
          <p:spPr>
            <a:xfrm>
              <a:off x="848412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3" name=""/>
            <p:cNvSpPr/>
            <p:nvPr/>
          </p:nvSpPr>
          <p:spPr>
            <a:xfrm>
              <a:off x="850068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54" name=""/>
            <p:cNvSpPr/>
            <p:nvPr/>
          </p:nvSpPr>
          <p:spPr>
            <a:xfrm>
              <a:off x="8478360" y="63666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55" name=""/>
            <p:cNvSpPr/>
            <p:nvPr/>
          </p:nvSpPr>
          <p:spPr>
            <a:xfrm flipH="1">
              <a:off x="8429760" y="63097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56" name=""/>
            <p:cNvSpPr/>
            <p:nvPr/>
          </p:nvSpPr>
          <p:spPr>
            <a:xfrm>
              <a:off x="8396640" y="608148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7" name=""/>
            <p:cNvSpPr/>
            <p:nvPr/>
          </p:nvSpPr>
          <p:spPr>
            <a:xfrm>
              <a:off x="848412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158" name=""/>
            <p:cNvSpPr/>
            <p:nvPr/>
          </p:nvSpPr>
          <p:spPr>
            <a:xfrm>
              <a:off x="85035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159" name=""/>
            <p:cNvSpPr/>
            <p:nvPr/>
          </p:nvSpPr>
          <p:spPr>
            <a:xfrm>
              <a:off x="837576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60" name=""/>
            <p:cNvSpPr/>
            <p:nvPr/>
          </p:nvSpPr>
          <p:spPr>
            <a:xfrm flipH="1">
              <a:off x="8323560" y="62550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61" name=""/>
            <p:cNvSpPr/>
            <p:nvPr/>
          </p:nvSpPr>
          <p:spPr>
            <a:xfrm flipH="1">
              <a:off x="8307360" y="650160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162" name=""/>
            <p:cNvSpPr/>
            <p:nvPr/>
          </p:nvSpPr>
          <p:spPr>
            <a:xfrm flipH="1">
              <a:off x="8336520" y="655488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163" name=""/>
            <p:cNvSpPr/>
            <p:nvPr/>
          </p:nvSpPr>
          <p:spPr>
            <a:xfrm>
              <a:off x="8353440" y="611568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164" name=""/>
            <p:cNvSpPr/>
            <p:nvPr/>
          </p:nvSpPr>
          <p:spPr>
            <a:xfrm>
              <a:off x="84157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2165" name=""/>
            <p:cNvSpPr/>
            <p:nvPr/>
          </p:nvSpPr>
          <p:spPr>
            <a:xfrm>
              <a:off x="842436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166" name=""/>
            <p:cNvSpPr/>
            <p:nvPr/>
          </p:nvSpPr>
          <p:spPr>
            <a:xfrm flipH="1">
              <a:off x="8417160" y="654624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167" name=""/>
            <p:cNvSpPr/>
            <p:nvPr/>
          </p:nvSpPr>
          <p:spPr>
            <a:xfrm>
              <a:off x="8484120" y="660312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168" name=""/>
            <p:cNvSpPr/>
            <p:nvPr/>
          </p:nvSpPr>
          <p:spPr>
            <a:xfrm>
              <a:off x="8478360" y="625500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69" name=""/>
            <p:cNvSpPr/>
            <p:nvPr/>
          </p:nvSpPr>
          <p:spPr>
            <a:xfrm flipH="1">
              <a:off x="8504640" y="609660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170" name=""/>
            <p:cNvSpPr/>
            <p:nvPr/>
          </p:nvSpPr>
          <p:spPr>
            <a:xfrm flipH="1" flipV="1">
              <a:off x="8436960" y="664128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171" name=""/>
            <p:cNvSpPr/>
            <p:nvPr/>
          </p:nvSpPr>
          <p:spPr>
            <a:xfrm flipH="1">
              <a:off x="852552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172" name=""/>
            <p:cNvSpPr/>
            <p:nvPr/>
          </p:nvSpPr>
          <p:spPr>
            <a:xfrm>
              <a:off x="8400600" y="662220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73" name=""/>
            <p:cNvSpPr/>
            <p:nvPr/>
          </p:nvSpPr>
          <p:spPr>
            <a:xfrm flipH="1" flipV="1">
              <a:off x="8433720" y="670896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174" name=""/>
            <p:cNvSpPr/>
            <p:nvPr/>
          </p:nvSpPr>
          <p:spPr>
            <a:xfrm flipH="1">
              <a:off x="856692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175" name=""/>
            <p:cNvSpPr/>
            <p:nvPr/>
          </p:nvSpPr>
          <p:spPr>
            <a:xfrm>
              <a:off x="8563320" y="61700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76" name=""/>
            <p:cNvSpPr/>
            <p:nvPr/>
          </p:nvSpPr>
          <p:spPr>
            <a:xfrm>
              <a:off x="8567280" y="63709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77" name=""/>
            <p:cNvSpPr/>
            <p:nvPr/>
          </p:nvSpPr>
          <p:spPr>
            <a:xfrm>
              <a:off x="8563320" y="653112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78" name=""/>
            <p:cNvSpPr/>
            <p:nvPr/>
          </p:nvSpPr>
          <p:spPr>
            <a:xfrm flipH="1">
              <a:off x="8651880" y="634356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179" name=""/>
            <p:cNvSpPr/>
            <p:nvPr/>
          </p:nvSpPr>
          <p:spPr>
            <a:xfrm flipH="1" flipV="1">
              <a:off x="866880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180" name=""/>
            <p:cNvSpPr/>
            <p:nvPr/>
          </p:nvSpPr>
          <p:spPr>
            <a:xfrm flipH="1">
              <a:off x="859644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181" name=""/>
            <p:cNvSpPr/>
            <p:nvPr/>
          </p:nvSpPr>
          <p:spPr>
            <a:xfrm flipH="1" flipV="1">
              <a:off x="8596440" y="644256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182" name=""/>
            <p:cNvSpPr/>
            <p:nvPr/>
          </p:nvSpPr>
          <p:spPr>
            <a:xfrm flipH="1">
              <a:off x="865584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83" name=""/>
            <p:cNvSpPr/>
            <p:nvPr/>
          </p:nvSpPr>
          <p:spPr>
            <a:xfrm>
              <a:off x="872316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184" name=""/>
            <p:cNvSpPr/>
            <p:nvPr/>
          </p:nvSpPr>
          <p:spPr>
            <a:xfrm>
              <a:off x="866772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85" name=""/>
            <p:cNvSpPr/>
            <p:nvPr/>
          </p:nvSpPr>
          <p:spPr>
            <a:xfrm>
              <a:off x="8613360" y="671688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186" name=""/>
            <p:cNvSpPr/>
            <p:nvPr/>
          </p:nvSpPr>
          <p:spPr>
            <a:xfrm>
              <a:off x="877608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7" name=""/>
            <p:cNvSpPr/>
            <p:nvPr/>
          </p:nvSpPr>
          <p:spPr>
            <a:xfrm>
              <a:off x="879264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88" name=""/>
            <p:cNvSpPr/>
            <p:nvPr/>
          </p:nvSpPr>
          <p:spPr>
            <a:xfrm>
              <a:off x="8771760" y="63666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89" name=""/>
            <p:cNvSpPr/>
            <p:nvPr/>
          </p:nvSpPr>
          <p:spPr>
            <a:xfrm flipH="1">
              <a:off x="871992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190" name=""/>
            <p:cNvSpPr/>
            <p:nvPr/>
          </p:nvSpPr>
          <p:spPr>
            <a:xfrm>
              <a:off x="8668800" y="607536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2191" name=""/>
            <p:cNvSpPr/>
            <p:nvPr/>
          </p:nvSpPr>
          <p:spPr>
            <a:xfrm>
              <a:off x="8778600" y="622944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192" name=""/>
            <p:cNvSpPr/>
            <p:nvPr/>
          </p:nvSpPr>
          <p:spPr>
            <a:xfrm>
              <a:off x="87951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193" name=""/>
            <p:cNvSpPr/>
            <p:nvPr/>
          </p:nvSpPr>
          <p:spPr>
            <a:xfrm>
              <a:off x="866772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94" name=""/>
            <p:cNvSpPr/>
            <p:nvPr/>
          </p:nvSpPr>
          <p:spPr>
            <a:xfrm flipH="1">
              <a:off x="861768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95" name=""/>
            <p:cNvSpPr/>
            <p:nvPr/>
          </p:nvSpPr>
          <p:spPr>
            <a:xfrm flipH="1">
              <a:off x="859932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196" name=""/>
            <p:cNvSpPr/>
            <p:nvPr/>
          </p:nvSpPr>
          <p:spPr>
            <a:xfrm flipH="1">
              <a:off x="862992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197" name=""/>
            <p:cNvSpPr/>
            <p:nvPr/>
          </p:nvSpPr>
          <p:spPr>
            <a:xfrm>
              <a:off x="8584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198" name=""/>
            <p:cNvSpPr/>
            <p:nvPr/>
          </p:nvSpPr>
          <p:spPr>
            <a:xfrm>
              <a:off x="87091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2199" name=""/>
            <p:cNvSpPr/>
            <p:nvPr/>
          </p:nvSpPr>
          <p:spPr>
            <a:xfrm>
              <a:off x="871632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200" name=""/>
            <p:cNvSpPr/>
            <p:nvPr/>
          </p:nvSpPr>
          <p:spPr>
            <a:xfrm flipH="1">
              <a:off x="8709120" y="654624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201" name=""/>
            <p:cNvSpPr/>
            <p:nvPr/>
          </p:nvSpPr>
          <p:spPr>
            <a:xfrm>
              <a:off x="8778600" y="660312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202" name=""/>
            <p:cNvSpPr/>
            <p:nvPr/>
          </p:nvSpPr>
          <p:spPr>
            <a:xfrm>
              <a:off x="8771760" y="625500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203" name=""/>
            <p:cNvSpPr/>
            <p:nvPr/>
          </p:nvSpPr>
          <p:spPr>
            <a:xfrm flipH="1">
              <a:off x="8732520" y="609660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204" name=""/>
            <p:cNvSpPr/>
            <p:nvPr/>
          </p:nvSpPr>
          <p:spPr>
            <a:xfrm flipH="1" flipV="1">
              <a:off x="873000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205" name=""/>
            <p:cNvSpPr/>
            <p:nvPr/>
          </p:nvSpPr>
          <p:spPr>
            <a:xfrm flipH="1">
              <a:off x="881748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206" name=""/>
            <p:cNvSpPr/>
            <p:nvPr/>
          </p:nvSpPr>
          <p:spPr>
            <a:xfrm>
              <a:off x="8693640" y="662220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07" name=""/>
            <p:cNvSpPr/>
            <p:nvPr/>
          </p:nvSpPr>
          <p:spPr>
            <a:xfrm flipH="1" flipV="1">
              <a:off x="8721720" y="672084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2208" name=""/>
            <p:cNvSpPr/>
            <p:nvPr/>
          </p:nvSpPr>
          <p:spPr>
            <a:xfrm flipH="1">
              <a:off x="885888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209" name=""/>
            <p:cNvSpPr/>
            <p:nvPr/>
          </p:nvSpPr>
          <p:spPr>
            <a:xfrm>
              <a:off x="8813520" y="614484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10" name=""/>
            <p:cNvSpPr/>
            <p:nvPr/>
          </p:nvSpPr>
          <p:spPr>
            <a:xfrm>
              <a:off x="8817840" y="6121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1" name=""/>
            <p:cNvSpPr/>
            <p:nvPr/>
          </p:nvSpPr>
          <p:spPr>
            <a:xfrm>
              <a:off x="8853840" y="65311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12" name=""/>
            <p:cNvSpPr/>
            <p:nvPr/>
          </p:nvSpPr>
          <p:spPr>
            <a:xfrm flipH="1">
              <a:off x="8579520" y="663912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2213" name=""/>
            <p:cNvSpPr/>
            <p:nvPr/>
          </p:nvSpPr>
          <p:spPr>
            <a:xfrm>
              <a:off x="8019720" y="61621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4" name=""/>
            <p:cNvSpPr/>
            <p:nvPr/>
          </p:nvSpPr>
          <p:spPr>
            <a:xfrm>
              <a:off x="8250480" y="61894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5" name=""/>
            <p:cNvSpPr/>
            <p:nvPr/>
          </p:nvSpPr>
          <p:spPr>
            <a:xfrm flipV="1">
              <a:off x="8004240" y="666000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16" name=""/>
            <p:cNvSpPr/>
            <p:nvPr/>
          </p:nvSpPr>
          <p:spPr>
            <a:xfrm>
              <a:off x="8210160" y="606888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217" name=""/>
            <p:cNvSpPr/>
            <p:nvPr/>
          </p:nvSpPr>
          <p:spPr>
            <a:xfrm>
              <a:off x="7997400" y="663480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8" name=""/>
            <p:cNvSpPr/>
            <p:nvPr/>
          </p:nvSpPr>
          <p:spPr>
            <a:xfrm>
              <a:off x="8563320" y="630144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9" name=""/>
            <p:cNvSpPr/>
            <p:nvPr/>
          </p:nvSpPr>
          <p:spPr>
            <a:xfrm flipV="1">
              <a:off x="8853840" y="622728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2220" name=""/>
            <p:cNvSpPr/>
            <p:nvPr/>
          </p:nvSpPr>
          <p:spPr>
            <a:xfrm flipH="1">
              <a:off x="8010720" y="644688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2221" name=""/>
            <p:cNvSpPr/>
            <p:nvPr/>
          </p:nvSpPr>
          <p:spPr>
            <a:xfrm flipH="1">
              <a:off x="8807760" y="639000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2222" name=""/>
            <p:cNvSpPr/>
            <p:nvPr/>
          </p:nvSpPr>
          <p:spPr>
            <a:xfrm flipH="1">
              <a:off x="7993080" y="608364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223" name=""/>
            <p:cNvSpPr/>
            <p:nvPr/>
          </p:nvSpPr>
          <p:spPr>
            <a:xfrm flipH="1">
              <a:off x="8180640" y="614052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224" name=""/>
            <p:cNvSpPr/>
            <p:nvPr/>
          </p:nvSpPr>
          <p:spPr>
            <a:xfrm flipH="1">
              <a:off x="89247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225" name=""/>
            <p:cNvSpPr/>
            <p:nvPr/>
          </p:nvSpPr>
          <p:spPr>
            <a:xfrm flipH="1" flipV="1">
              <a:off x="8942760" y="638712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226" name=""/>
            <p:cNvSpPr/>
            <p:nvPr/>
          </p:nvSpPr>
          <p:spPr>
            <a:xfrm flipH="1">
              <a:off x="8905320" y="636048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227" name=""/>
            <p:cNvSpPr/>
            <p:nvPr/>
          </p:nvSpPr>
          <p:spPr>
            <a:xfrm flipH="1">
              <a:off x="8927280" y="650592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28" name=""/>
            <p:cNvSpPr/>
            <p:nvPr/>
          </p:nvSpPr>
          <p:spPr>
            <a:xfrm>
              <a:off x="8995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229" name=""/>
            <p:cNvSpPr/>
            <p:nvPr/>
          </p:nvSpPr>
          <p:spPr>
            <a:xfrm>
              <a:off x="8896680" y="66747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230" name=""/>
            <p:cNvSpPr/>
            <p:nvPr/>
          </p:nvSpPr>
          <p:spPr>
            <a:xfrm flipV="1">
              <a:off x="9048600" y="644436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231" name=""/>
            <p:cNvSpPr/>
            <p:nvPr/>
          </p:nvSpPr>
          <p:spPr>
            <a:xfrm>
              <a:off x="9062280" y="64767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32" name=""/>
            <p:cNvSpPr/>
            <p:nvPr/>
          </p:nvSpPr>
          <p:spPr>
            <a:xfrm>
              <a:off x="9044280" y="634104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233" name=""/>
            <p:cNvSpPr/>
            <p:nvPr/>
          </p:nvSpPr>
          <p:spPr>
            <a:xfrm flipH="1">
              <a:off x="8992440" y="628236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234" name=""/>
            <p:cNvSpPr/>
            <p:nvPr/>
          </p:nvSpPr>
          <p:spPr>
            <a:xfrm>
              <a:off x="904428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35" name=""/>
            <p:cNvSpPr/>
            <p:nvPr/>
          </p:nvSpPr>
          <p:spPr>
            <a:xfrm>
              <a:off x="9049680" y="620172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236" name=""/>
            <p:cNvSpPr/>
            <p:nvPr/>
          </p:nvSpPr>
          <p:spPr>
            <a:xfrm>
              <a:off x="8938440" y="619740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237" name=""/>
            <p:cNvSpPr/>
            <p:nvPr/>
          </p:nvSpPr>
          <p:spPr>
            <a:xfrm flipH="1">
              <a:off x="888840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238" name=""/>
            <p:cNvSpPr/>
            <p:nvPr/>
          </p:nvSpPr>
          <p:spPr>
            <a:xfrm flipH="1">
              <a:off x="8901000" y="652500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239" name=""/>
            <p:cNvSpPr/>
            <p:nvPr/>
          </p:nvSpPr>
          <p:spPr>
            <a:xfrm>
              <a:off x="889668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240" name=""/>
            <p:cNvSpPr/>
            <p:nvPr/>
          </p:nvSpPr>
          <p:spPr>
            <a:xfrm>
              <a:off x="89816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241" name=""/>
            <p:cNvSpPr/>
            <p:nvPr/>
          </p:nvSpPr>
          <p:spPr>
            <a:xfrm>
              <a:off x="898740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242" name=""/>
            <p:cNvSpPr/>
            <p:nvPr/>
          </p:nvSpPr>
          <p:spPr>
            <a:xfrm flipH="1">
              <a:off x="8980200" y="651888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243" name=""/>
            <p:cNvSpPr/>
            <p:nvPr/>
          </p:nvSpPr>
          <p:spPr>
            <a:xfrm>
              <a:off x="9048600" y="657576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244" name=""/>
            <p:cNvSpPr/>
            <p:nvPr/>
          </p:nvSpPr>
          <p:spPr>
            <a:xfrm>
              <a:off x="904428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45" name=""/>
            <p:cNvSpPr/>
            <p:nvPr/>
          </p:nvSpPr>
          <p:spPr>
            <a:xfrm flipH="1">
              <a:off x="9065160" y="612360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246" name=""/>
            <p:cNvSpPr/>
            <p:nvPr/>
          </p:nvSpPr>
          <p:spPr>
            <a:xfrm flipH="1" flipV="1">
              <a:off x="900108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247" name=""/>
            <p:cNvSpPr/>
            <p:nvPr/>
          </p:nvSpPr>
          <p:spPr>
            <a:xfrm flipH="1">
              <a:off x="9090000" y="627588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248" name=""/>
            <p:cNvSpPr/>
            <p:nvPr/>
          </p:nvSpPr>
          <p:spPr>
            <a:xfrm>
              <a:off x="8966520" y="659268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249" name=""/>
            <p:cNvSpPr/>
            <p:nvPr/>
          </p:nvSpPr>
          <p:spPr>
            <a:xfrm flipH="1" flipV="1">
              <a:off x="899388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250" name=""/>
            <p:cNvSpPr/>
            <p:nvPr/>
          </p:nvSpPr>
          <p:spPr>
            <a:xfrm>
              <a:off x="8951040" y="663480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251" name=""/>
            <p:cNvSpPr/>
            <p:nvPr/>
          </p:nvSpPr>
          <p:spPr>
            <a:xfrm>
              <a:off x="735228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52" name=""/>
            <p:cNvSpPr/>
            <p:nvPr/>
          </p:nvSpPr>
          <p:spPr>
            <a:xfrm>
              <a:off x="7203600" y="675540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253" name=""/>
            <p:cNvSpPr/>
            <p:nvPr/>
          </p:nvSpPr>
          <p:spPr>
            <a:xfrm>
              <a:off x="728712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54" name=""/>
            <p:cNvSpPr/>
            <p:nvPr/>
          </p:nvSpPr>
          <p:spPr>
            <a:xfrm flipH="1">
              <a:off x="737424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255" name=""/>
            <p:cNvSpPr/>
            <p:nvPr/>
          </p:nvSpPr>
          <p:spPr>
            <a:xfrm>
              <a:off x="7621920" y="6776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56" name=""/>
            <p:cNvSpPr/>
            <p:nvPr/>
          </p:nvSpPr>
          <p:spPr>
            <a:xfrm>
              <a:off x="7474680" y="675540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257" name=""/>
            <p:cNvSpPr/>
            <p:nvPr/>
          </p:nvSpPr>
          <p:spPr>
            <a:xfrm>
              <a:off x="755964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58" name=""/>
            <p:cNvSpPr/>
            <p:nvPr/>
          </p:nvSpPr>
          <p:spPr>
            <a:xfrm flipH="1">
              <a:off x="764676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259" name=""/>
            <p:cNvSpPr/>
            <p:nvPr/>
          </p:nvSpPr>
          <p:spPr>
            <a:xfrm>
              <a:off x="9105480" y="661608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60" name=""/>
            <p:cNvSpPr/>
            <p:nvPr/>
          </p:nvSpPr>
          <p:spPr>
            <a:xfrm>
              <a:off x="791532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1" name=""/>
            <p:cNvSpPr/>
            <p:nvPr/>
          </p:nvSpPr>
          <p:spPr>
            <a:xfrm>
              <a:off x="776808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262" name=""/>
            <p:cNvSpPr/>
            <p:nvPr/>
          </p:nvSpPr>
          <p:spPr>
            <a:xfrm>
              <a:off x="7853040" y="675540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63" name=""/>
            <p:cNvSpPr/>
            <p:nvPr/>
          </p:nvSpPr>
          <p:spPr>
            <a:xfrm flipH="1">
              <a:off x="7937640" y="679140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264" name=""/>
            <p:cNvSpPr/>
            <p:nvPr/>
          </p:nvSpPr>
          <p:spPr>
            <a:xfrm>
              <a:off x="8186400" y="6776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5" name=""/>
            <p:cNvSpPr/>
            <p:nvPr/>
          </p:nvSpPr>
          <p:spPr>
            <a:xfrm>
              <a:off x="808380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266" name=""/>
            <p:cNvSpPr/>
            <p:nvPr/>
          </p:nvSpPr>
          <p:spPr>
            <a:xfrm>
              <a:off x="8145000" y="67554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67" name=""/>
            <p:cNvSpPr/>
            <p:nvPr/>
          </p:nvSpPr>
          <p:spPr>
            <a:xfrm flipH="1">
              <a:off x="8292960" y="6765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268" name=""/>
            <p:cNvSpPr/>
            <p:nvPr/>
          </p:nvSpPr>
          <p:spPr>
            <a:xfrm>
              <a:off x="8415720" y="674676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9" name=""/>
            <p:cNvSpPr/>
            <p:nvPr/>
          </p:nvSpPr>
          <p:spPr>
            <a:xfrm>
              <a:off x="837576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270" name=""/>
            <p:cNvSpPr/>
            <p:nvPr/>
          </p:nvSpPr>
          <p:spPr>
            <a:xfrm>
              <a:off x="843696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71" name=""/>
            <p:cNvSpPr/>
            <p:nvPr/>
          </p:nvSpPr>
          <p:spPr>
            <a:xfrm flipH="1">
              <a:off x="8522640" y="676584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272" name=""/>
            <p:cNvSpPr/>
            <p:nvPr/>
          </p:nvSpPr>
          <p:spPr>
            <a:xfrm>
              <a:off x="8691120" y="674064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273" name=""/>
            <p:cNvSpPr/>
            <p:nvPr/>
          </p:nvSpPr>
          <p:spPr>
            <a:xfrm>
              <a:off x="860364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274" name=""/>
            <p:cNvSpPr/>
            <p:nvPr/>
          </p:nvSpPr>
          <p:spPr>
            <a:xfrm>
              <a:off x="8728920" y="678456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75" name=""/>
            <p:cNvSpPr/>
            <p:nvPr/>
          </p:nvSpPr>
          <p:spPr>
            <a:xfrm flipH="1">
              <a:off x="8754840" y="676584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276" name=""/>
            <p:cNvSpPr/>
            <p:nvPr/>
          </p:nvSpPr>
          <p:spPr>
            <a:xfrm>
              <a:off x="883440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77" name=""/>
            <p:cNvSpPr/>
            <p:nvPr/>
          </p:nvSpPr>
          <p:spPr>
            <a:xfrm>
              <a:off x="8903880" y="681660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8" name=""/>
            <p:cNvSpPr/>
            <p:nvPr/>
          </p:nvSpPr>
          <p:spPr>
            <a:xfrm>
              <a:off x="8231040" y="673812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279" name=""/>
            <p:cNvSpPr/>
            <p:nvPr/>
          </p:nvSpPr>
          <p:spPr>
            <a:xfrm flipH="1">
              <a:off x="8201520" y="680976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280" name=""/>
            <p:cNvSpPr/>
            <p:nvPr/>
          </p:nvSpPr>
          <p:spPr>
            <a:xfrm>
              <a:off x="9062280" y="68036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81" name=""/>
            <p:cNvSpPr/>
            <p:nvPr/>
          </p:nvSpPr>
          <p:spPr>
            <a:xfrm>
              <a:off x="8876160" y="675540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282" name=""/>
            <p:cNvSpPr/>
            <p:nvPr/>
          </p:nvSpPr>
          <p:spPr>
            <a:xfrm>
              <a:off x="900108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83" name=""/>
            <p:cNvSpPr/>
            <p:nvPr/>
          </p:nvSpPr>
          <p:spPr>
            <a:xfrm flipH="1">
              <a:off x="9045360" y="670896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284" name=""/>
            <p:cNvSpPr/>
            <p:nvPr/>
          </p:nvSpPr>
          <p:spPr>
            <a:xfrm>
              <a:off x="9113760" y="647424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285" name=""/>
            <p:cNvSpPr/>
            <p:nvPr/>
          </p:nvSpPr>
          <p:spPr>
            <a:xfrm>
              <a:off x="7747200" y="681228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286" name=""/>
            <p:cNvSpPr/>
            <p:nvPr/>
          </p:nvSpPr>
          <p:spPr>
            <a:xfrm>
              <a:off x="8019720" y="683100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87" name=""/>
            <p:cNvSpPr/>
            <p:nvPr/>
          </p:nvSpPr>
          <p:spPr>
            <a:xfrm flipV="1">
              <a:off x="7178760" y="681624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2288" name=""/>
            <p:cNvSpPr/>
            <p:nvPr/>
          </p:nvSpPr>
          <p:spPr>
            <a:xfrm flipH="1">
              <a:off x="8642520" y="680976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289" name=""/>
            <p:cNvSpPr/>
            <p:nvPr/>
          </p:nvSpPr>
          <p:spPr>
            <a:xfrm flipH="1" flipV="1">
              <a:off x="7455240" y="677808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290" name=""/>
            <p:cNvSpPr/>
            <p:nvPr/>
          </p:nvSpPr>
          <p:spPr>
            <a:xfrm flipH="1" flipV="1">
              <a:off x="845784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291" name=""/>
            <p:cNvSpPr/>
            <p:nvPr/>
          </p:nvSpPr>
          <p:spPr>
            <a:xfrm flipH="1" flipV="1">
              <a:off x="856332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2292" name=""/>
          <p:cNvSpPr/>
          <p:nvPr/>
        </p:nvSpPr>
        <p:spPr>
          <a:xfrm>
            <a:off x="7157880" y="6141960"/>
            <a:ext cx="198612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ÉNÉTIQUE</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ET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2293" name=""/>
          <p:cNvSpPr/>
          <p:nvPr/>
        </p:nvSpPr>
        <p:spPr>
          <a:xfrm>
            <a:off x="1473120" y="644220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7792-6DFF-4A76-8536-3BBCF43CA65E}"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2294" name=""/>
          <p:cNvSpPr/>
          <p:nvPr/>
        </p:nvSpPr>
        <p:spPr>
          <a:xfrm>
            <a:off x="685800" y="6440400"/>
            <a:ext cx="72540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2295" name=""/>
          <p:cNvSpPr/>
          <p:nvPr/>
        </p:nvSpPr>
        <p:spPr>
          <a:xfrm>
            <a:off x="0" y="6470640"/>
            <a:ext cx="9144000" cy="1440"/>
          </a:xfrm>
          <a:prstGeom prst="line">
            <a:avLst/>
          </a:prstGeom>
          <a:ln w="2844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mic Sans MS"/>
            </a:endParaRPr>
          </a:p>
        </p:txBody>
      </p:sp>
      <p:sp>
        <p:nvSpPr>
          <p:cNvPr id="2296" name=""/>
          <p:cNvSpPr/>
          <p:nvPr/>
        </p:nvSpPr>
        <p:spPr>
          <a:xfrm>
            <a:off x="528480" y="1384200"/>
            <a:ext cx="8196480" cy="443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Unconditioned responses</a:t>
            </a:r>
            <a:endParaRPr b="0" lang="en-US" sz="28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orced exposure</a:t>
            </a:r>
            <a:endParaRPr b="0" lang="en-US" sz="2400" spc="-1" strike="noStrike">
              <a:solidFill>
                <a:srgbClr val="000000"/>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open field (locomotion, rearing, defecation, urination)</a:t>
            </a:r>
            <a:endParaRPr b="0" lang="en-US" sz="2000" spc="-1" strike="noStrike">
              <a:solidFill>
                <a:srgbClr val="000000"/>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activity monitoring (in novel environments or home cage)</a:t>
            </a:r>
            <a:endParaRPr b="0" lang="en-US" sz="2000" spc="-1" strike="noStrike">
              <a:solidFill>
                <a:srgbClr val="000000"/>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exploration (novel objects, hole board)</a:t>
            </a:r>
            <a:endParaRPr b="0" lang="en-US" sz="2000" spc="-1" strike="noStrike">
              <a:solidFill>
                <a:srgbClr val="000000"/>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motivational conflicts (social interaction test, hyponeophagia, ...)</a:t>
            </a:r>
            <a:endParaRPr b="0" lang="en-US" sz="2000" spc="-1" strike="noStrike">
              <a:solidFill>
                <a:srgbClr val="000000"/>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ultrasonic vocalizations, …</a:t>
            </a:r>
            <a:endParaRPr b="0" lang="en-US" sz="20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hoice tests</a:t>
            </a:r>
            <a:endParaRPr b="0" lang="en-US" sz="2400" spc="-1" strike="noStrike">
              <a:solidFill>
                <a:srgbClr val="000000"/>
              </a:solidFill>
              <a:latin typeface="Comic Sans MS"/>
            </a:endParaRPr>
          </a:p>
          <a:p>
            <a:pPr lvl="2" marL="1143000" indent="-228600">
              <a:spcBef>
                <a:spcPts val="499"/>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elevated plus maze</a:t>
            </a:r>
            <a:endParaRPr b="0" lang="en-US" sz="2000" spc="-1" strike="noStrike">
              <a:solidFill>
                <a:srgbClr val="000000"/>
              </a:solidFill>
              <a:latin typeface="Comic Sans MS"/>
            </a:endParaRPr>
          </a:p>
        </p:txBody>
      </p:sp>
      <p:sp>
        <p:nvSpPr>
          <p:cNvPr id="2297" name=""/>
          <p:cNvSpPr/>
          <p:nvPr/>
        </p:nvSpPr>
        <p:spPr>
          <a:xfrm>
            <a:off x="439560" y="1343160"/>
            <a:ext cx="8302680" cy="45766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D37C2A40-EE0F-45F2-BD1F-793E70CC4D4A}" type="datetime1">
              <a:rPr lang="en-US"/>
              <a:t>07/30/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298" name=""/>
          <p:cNvGrpSpPr/>
          <p:nvPr/>
        </p:nvGrpSpPr>
        <p:grpSpPr>
          <a:xfrm>
            <a:off x="7156080" y="6068880"/>
            <a:ext cx="1981080" cy="785160"/>
            <a:chOff x="7156080" y="6068880"/>
            <a:chExt cx="1981080" cy="785160"/>
          </a:xfrm>
        </p:grpSpPr>
        <p:sp>
          <p:nvSpPr>
            <p:cNvPr id="2299" name=""/>
            <p:cNvSpPr/>
            <p:nvPr/>
          </p:nvSpPr>
          <p:spPr>
            <a:xfrm flipH="1">
              <a:off x="721188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300" name=""/>
            <p:cNvSpPr/>
            <p:nvPr/>
          </p:nvSpPr>
          <p:spPr>
            <a:xfrm flipH="1" flipV="1">
              <a:off x="7228440" y="638712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301" name=""/>
            <p:cNvSpPr/>
            <p:nvPr/>
          </p:nvSpPr>
          <p:spPr>
            <a:xfrm flipH="1">
              <a:off x="715608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302" name=""/>
            <p:cNvSpPr/>
            <p:nvPr/>
          </p:nvSpPr>
          <p:spPr>
            <a:xfrm flipH="1">
              <a:off x="719100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303" name=""/>
            <p:cNvSpPr/>
            <p:nvPr/>
          </p:nvSpPr>
          <p:spPr>
            <a:xfrm flipH="1">
              <a:off x="721620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04" name=""/>
            <p:cNvSpPr/>
            <p:nvPr/>
          </p:nvSpPr>
          <p:spPr>
            <a:xfrm>
              <a:off x="728136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305" name=""/>
            <p:cNvSpPr/>
            <p:nvPr/>
          </p:nvSpPr>
          <p:spPr>
            <a:xfrm>
              <a:off x="7227360" y="661608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06" name=""/>
            <p:cNvSpPr/>
            <p:nvPr/>
          </p:nvSpPr>
          <p:spPr>
            <a:xfrm>
              <a:off x="7167600" y="670464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2307" name=""/>
            <p:cNvSpPr/>
            <p:nvPr/>
          </p:nvSpPr>
          <p:spPr>
            <a:xfrm flipV="1">
              <a:off x="733428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308" name=""/>
            <p:cNvSpPr/>
            <p:nvPr/>
          </p:nvSpPr>
          <p:spPr>
            <a:xfrm>
              <a:off x="735228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09" name=""/>
            <p:cNvSpPr/>
            <p:nvPr/>
          </p:nvSpPr>
          <p:spPr>
            <a:xfrm>
              <a:off x="732996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310" name=""/>
            <p:cNvSpPr/>
            <p:nvPr/>
          </p:nvSpPr>
          <p:spPr>
            <a:xfrm flipH="1">
              <a:off x="727812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11" name=""/>
            <p:cNvSpPr/>
            <p:nvPr/>
          </p:nvSpPr>
          <p:spPr>
            <a:xfrm>
              <a:off x="732996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12" name=""/>
            <p:cNvSpPr/>
            <p:nvPr/>
          </p:nvSpPr>
          <p:spPr>
            <a:xfrm>
              <a:off x="733428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313" name=""/>
            <p:cNvSpPr/>
            <p:nvPr/>
          </p:nvSpPr>
          <p:spPr>
            <a:xfrm>
              <a:off x="7353720" y="663048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314" name=""/>
            <p:cNvSpPr/>
            <p:nvPr/>
          </p:nvSpPr>
          <p:spPr>
            <a:xfrm>
              <a:off x="7227360" y="619740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315" name=""/>
            <p:cNvSpPr/>
            <p:nvPr/>
          </p:nvSpPr>
          <p:spPr>
            <a:xfrm flipH="1">
              <a:off x="717552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16" name=""/>
            <p:cNvSpPr/>
            <p:nvPr/>
          </p:nvSpPr>
          <p:spPr>
            <a:xfrm flipH="1">
              <a:off x="7157520" y="647424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17" name=""/>
            <p:cNvSpPr/>
            <p:nvPr/>
          </p:nvSpPr>
          <p:spPr>
            <a:xfrm flipH="1">
              <a:off x="718812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18" name=""/>
            <p:cNvSpPr/>
            <p:nvPr/>
          </p:nvSpPr>
          <p:spPr>
            <a:xfrm>
              <a:off x="7184160" y="609012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319" name=""/>
            <p:cNvSpPr/>
            <p:nvPr/>
          </p:nvSpPr>
          <p:spPr>
            <a:xfrm>
              <a:off x="7266240" y="609012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320" name=""/>
            <p:cNvSpPr/>
            <p:nvPr/>
          </p:nvSpPr>
          <p:spPr>
            <a:xfrm>
              <a:off x="727452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21" name=""/>
            <p:cNvSpPr/>
            <p:nvPr/>
          </p:nvSpPr>
          <p:spPr>
            <a:xfrm flipH="1">
              <a:off x="726768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322" name=""/>
            <p:cNvSpPr/>
            <p:nvPr/>
          </p:nvSpPr>
          <p:spPr>
            <a:xfrm>
              <a:off x="7334280" y="657576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323" name=""/>
            <p:cNvSpPr/>
            <p:nvPr/>
          </p:nvSpPr>
          <p:spPr>
            <a:xfrm>
              <a:off x="732996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24" name=""/>
            <p:cNvSpPr/>
            <p:nvPr/>
          </p:nvSpPr>
          <p:spPr>
            <a:xfrm flipH="1">
              <a:off x="735336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325" name=""/>
            <p:cNvSpPr/>
            <p:nvPr/>
          </p:nvSpPr>
          <p:spPr>
            <a:xfrm flipH="1" flipV="1">
              <a:off x="7287120" y="661356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326" name=""/>
            <p:cNvSpPr/>
            <p:nvPr/>
          </p:nvSpPr>
          <p:spPr>
            <a:xfrm flipH="1">
              <a:off x="7378920" y="627588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327" name=""/>
            <p:cNvSpPr/>
            <p:nvPr/>
          </p:nvSpPr>
          <p:spPr>
            <a:xfrm>
              <a:off x="7252560" y="659268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328" name=""/>
            <p:cNvSpPr/>
            <p:nvPr/>
          </p:nvSpPr>
          <p:spPr>
            <a:xfrm flipH="1" flipV="1">
              <a:off x="728100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329" name=""/>
            <p:cNvSpPr/>
            <p:nvPr/>
          </p:nvSpPr>
          <p:spPr>
            <a:xfrm flipH="1">
              <a:off x="7417440" y="638568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30" name=""/>
            <p:cNvSpPr/>
            <p:nvPr/>
          </p:nvSpPr>
          <p:spPr>
            <a:xfrm>
              <a:off x="741492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31" name=""/>
            <p:cNvSpPr/>
            <p:nvPr/>
          </p:nvSpPr>
          <p:spPr>
            <a:xfrm>
              <a:off x="7417440" y="631404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32" name=""/>
            <p:cNvSpPr/>
            <p:nvPr/>
          </p:nvSpPr>
          <p:spPr>
            <a:xfrm>
              <a:off x="741492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33" name=""/>
            <p:cNvSpPr/>
            <p:nvPr/>
          </p:nvSpPr>
          <p:spPr>
            <a:xfrm flipH="1">
              <a:off x="748296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334" name=""/>
            <p:cNvSpPr/>
            <p:nvPr/>
          </p:nvSpPr>
          <p:spPr>
            <a:xfrm flipH="1" flipV="1">
              <a:off x="7498080" y="638712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335" name=""/>
            <p:cNvSpPr/>
            <p:nvPr/>
          </p:nvSpPr>
          <p:spPr>
            <a:xfrm flipH="1">
              <a:off x="742860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336" name=""/>
            <p:cNvSpPr/>
            <p:nvPr/>
          </p:nvSpPr>
          <p:spPr>
            <a:xfrm flipH="1">
              <a:off x="746208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337" name=""/>
            <p:cNvSpPr/>
            <p:nvPr/>
          </p:nvSpPr>
          <p:spPr>
            <a:xfrm flipH="1">
              <a:off x="7487280" y="650592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38" name=""/>
            <p:cNvSpPr/>
            <p:nvPr/>
          </p:nvSpPr>
          <p:spPr>
            <a:xfrm>
              <a:off x="7553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339" name=""/>
            <p:cNvSpPr/>
            <p:nvPr/>
          </p:nvSpPr>
          <p:spPr>
            <a:xfrm>
              <a:off x="7498440" y="66160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40" name=""/>
            <p:cNvSpPr/>
            <p:nvPr/>
          </p:nvSpPr>
          <p:spPr>
            <a:xfrm flipV="1">
              <a:off x="7444080" y="667044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341" name=""/>
            <p:cNvSpPr/>
            <p:nvPr/>
          </p:nvSpPr>
          <p:spPr>
            <a:xfrm flipV="1">
              <a:off x="7605360" y="644436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342" name=""/>
            <p:cNvSpPr/>
            <p:nvPr/>
          </p:nvSpPr>
          <p:spPr>
            <a:xfrm>
              <a:off x="7621920" y="647676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43" name=""/>
            <p:cNvSpPr/>
            <p:nvPr/>
          </p:nvSpPr>
          <p:spPr>
            <a:xfrm>
              <a:off x="7602840" y="634104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344" name=""/>
            <p:cNvSpPr/>
            <p:nvPr/>
          </p:nvSpPr>
          <p:spPr>
            <a:xfrm flipH="1">
              <a:off x="754920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45" name=""/>
            <p:cNvSpPr/>
            <p:nvPr/>
          </p:nvSpPr>
          <p:spPr>
            <a:xfrm>
              <a:off x="760284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46" name=""/>
            <p:cNvSpPr/>
            <p:nvPr/>
          </p:nvSpPr>
          <p:spPr>
            <a:xfrm>
              <a:off x="760680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347" name=""/>
            <p:cNvSpPr/>
            <p:nvPr/>
          </p:nvSpPr>
          <p:spPr>
            <a:xfrm>
              <a:off x="7627680" y="663048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348" name=""/>
            <p:cNvSpPr/>
            <p:nvPr/>
          </p:nvSpPr>
          <p:spPr>
            <a:xfrm>
              <a:off x="7498440" y="619740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349" name=""/>
            <p:cNvSpPr/>
            <p:nvPr/>
          </p:nvSpPr>
          <p:spPr>
            <a:xfrm flipH="1">
              <a:off x="7446960" y="62251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50" name=""/>
            <p:cNvSpPr/>
            <p:nvPr/>
          </p:nvSpPr>
          <p:spPr>
            <a:xfrm flipH="1">
              <a:off x="74300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51" name=""/>
            <p:cNvSpPr/>
            <p:nvPr/>
          </p:nvSpPr>
          <p:spPr>
            <a:xfrm flipH="1">
              <a:off x="745920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52" name=""/>
            <p:cNvSpPr/>
            <p:nvPr/>
          </p:nvSpPr>
          <p:spPr>
            <a:xfrm>
              <a:off x="7456680" y="60901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353" name=""/>
            <p:cNvSpPr/>
            <p:nvPr/>
          </p:nvSpPr>
          <p:spPr>
            <a:xfrm>
              <a:off x="75398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354" name=""/>
            <p:cNvSpPr/>
            <p:nvPr/>
          </p:nvSpPr>
          <p:spPr>
            <a:xfrm>
              <a:off x="7545600" y="639180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55" name=""/>
            <p:cNvSpPr/>
            <p:nvPr/>
          </p:nvSpPr>
          <p:spPr>
            <a:xfrm flipH="1">
              <a:off x="753876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356" name=""/>
            <p:cNvSpPr/>
            <p:nvPr/>
          </p:nvSpPr>
          <p:spPr>
            <a:xfrm>
              <a:off x="760680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357" name=""/>
            <p:cNvSpPr/>
            <p:nvPr/>
          </p:nvSpPr>
          <p:spPr>
            <a:xfrm>
              <a:off x="760284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58" name=""/>
            <p:cNvSpPr/>
            <p:nvPr/>
          </p:nvSpPr>
          <p:spPr>
            <a:xfrm flipH="1">
              <a:off x="762444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359" name=""/>
            <p:cNvSpPr/>
            <p:nvPr/>
          </p:nvSpPr>
          <p:spPr>
            <a:xfrm flipH="1" flipV="1">
              <a:off x="755964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360" name=""/>
            <p:cNvSpPr/>
            <p:nvPr/>
          </p:nvSpPr>
          <p:spPr>
            <a:xfrm flipH="1">
              <a:off x="7649640" y="627588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361" name=""/>
            <p:cNvSpPr/>
            <p:nvPr/>
          </p:nvSpPr>
          <p:spPr>
            <a:xfrm>
              <a:off x="7523280" y="659268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362" name=""/>
            <p:cNvSpPr/>
            <p:nvPr/>
          </p:nvSpPr>
          <p:spPr>
            <a:xfrm flipH="1" flipV="1">
              <a:off x="7556760" y="667656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2363" name=""/>
            <p:cNvSpPr/>
            <p:nvPr/>
          </p:nvSpPr>
          <p:spPr>
            <a:xfrm flipH="1">
              <a:off x="769104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64" name=""/>
            <p:cNvSpPr/>
            <p:nvPr/>
          </p:nvSpPr>
          <p:spPr>
            <a:xfrm>
              <a:off x="768600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65" name=""/>
            <p:cNvSpPr/>
            <p:nvPr/>
          </p:nvSpPr>
          <p:spPr>
            <a:xfrm>
              <a:off x="7690320" y="634356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66" name=""/>
            <p:cNvSpPr/>
            <p:nvPr/>
          </p:nvSpPr>
          <p:spPr>
            <a:xfrm>
              <a:off x="768600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67" name=""/>
            <p:cNvSpPr/>
            <p:nvPr/>
          </p:nvSpPr>
          <p:spPr>
            <a:xfrm flipH="1">
              <a:off x="77763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368" name=""/>
            <p:cNvSpPr/>
            <p:nvPr/>
          </p:nvSpPr>
          <p:spPr>
            <a:xfrm flipH="1" flipV="1">
              <a:off x="7791120" y="638712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369" name=""/>
            <p:cNvSpPr/>
            <p:nvPr/>
          </p:nvSpPr>
          <p:spPr>
            <a:xfrm flipH="1">
              <a:off x="771912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370" name=""/>
            <p:cNvSpPr/>
            <p:nvPr/>
          </p:nvSpPr>
          <p:spPr>
            <a:xfrm flipH="1" flipV="1">
              <a:off x="7719120" y="641304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371" name=""/>
            <p:cNvSpPr/>
            <p:nvPr/>
          </p:nvSpPr>
          <p:spPr>
            <a:xfrm flipH="1">
              <a:off x="778032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72" name=""/>
            <p:cNvSpPr/>
            <p:nvPr/>
          </p:nvSpPr>
          <p:spPr>
            <a:xfrm>
              <a:off x="78472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373" name=""/>
            <p:cNvSpPr/>
            <p:nvPr/>
          </p:nvSpPr>
          <p:spPr>
            <a:xfrm>
              <a:off x="7791480" y="661608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74" name=""/>
            <p:cNvSpPr/>
            <p:nvPr/>
          </p:nvSpPr>
          <p:spPr>
            <a:xfrm>
              <a:off x="7736040" y="668988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375" name=""/>
            <p:cNvSpPr/>
            <p:nvPr/>
          </p:nvSpPr>
          <p:spPr>
            <a:xfrm flipV="1">
              <a:off x="789876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376" name=""/>
            <p:cNvSpPr/>
            <p:nvPr/>
          </p:nvSpPr>
          <p:spPr>
            <a:xfrm>
              <a:off x="791532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77" name=""/>
            <p:cNvSpPr/>
            <p:nvPr/>
          </p:nvSpPr>
          <p:spPr>
            <a:xfrm>
              <a:off x="789300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378" name=""/>
            <p:cNvSpPr/>
            <p:nvPr/>
          </p:nvSpPr>
          <p:spPr>
            <a:xfrm flipH="1">
              <a:off x="784332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79" name=""/>
            <p:cNvSpPr/>
            <p:nvPr/>
          </p:nvSpPr>
          <p:spPr>
            <a:xfrm>
              <a:off x="789300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80" name=""/>
            <p:cNvSpPr/>
            <p:nvPr/>
          </p:nvSpPr>
          <p:spPr>
            <a:xfrm>
              <a:off x="7899840" y="620172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381" name=""/>
            <p:cNvSpPr/>
            <p:nvPr/>
          </p:nvSpPr>
          <p:spPr>
            <a:xfrm>
              <a:off x="7919640" y="663048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382" name=""/>
            <p:cNvSpPr/>
            <p:nvPr/>
          </p:nvSpPr>
          <p:spPr>
            <a:xfrm>
              <a:off x="7791480" y="619740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383" name=""/>
            <p:cNvSpPr/>
            <p:nvPr/>
          </p:nvSpPr>
          <p:spPr>
            <a:xfrm flipH="1">
              <a:off x="7738920" y="62550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84" name=""/>
            <p:cNvSpPr/>
            <p:nvPr/>
          </p:nvSpPr>
          <p:spPr>
            <a:xfrm flipH="1">
              <a:off x="77216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85" name=""/>
            <p:cNvSpPr/>
            <p:nvPr/>
          </p:nvSpPr>
          <p:spPr>
            <a:xfrm flipH="1">
              <a:off x="7751160" y="652500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86" name=""/>
            <p:cNvSpPr/>
            <p:nvPr/>
          </p:nvSpPr>
          <p:spPr>
            <a:xfrm>
              <a:off x="7747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387" name=""/>
            <p:cNvSpPr/>
            <p:nvPr/>
          </p:nvSpPr>
          <p:spPr>
            <a:xfrm>
              <a:off x="783180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388" name=""/>
            <p:cNvSpPr/>
            <p:nvPr/>
          </p:nvSpPr>
          <p:spPr>
            <a:xfrm>
              <a:off x="7840440" y="639180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89" name=""/>
            <p:cNvSpPr/>
            <p:nvPr/>
          </p:nvSpPr>
          <p:spPr>
            <a:xfrm flipH="1">
              <a:off x="7831440" y="651888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390" name=""/>
            <p:cNvSpPr/>
            <p:nvPr/>
          </p:nvSpPr>
          <p:spPr>
            <a:xfrm>
              <a:off x="789876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391" name=""/>
            <p:cNvSpPr/>
            <p:nvPr/>
          </p:nvSpPr>
          <p:spPr>
            <a:xfrm>
              <a:off x="789300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392" name=""/>
            <p:cNvSpPr/>
            <p:nvPr/>
          </p:nvSpPr>
          <p:spPr>
            <a:xfrm flipH="1">
              <a:off x="7916400" y="612360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393" name=""/>
            <p:cNvSpPr/>
            <p:nvPr/>
          </p:nvSpPr>
          <p:spPr>
            <a:xfrm flipH="1" flipV="1">
              <a:off x="7851240" y="661356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394" name=""/>
            <p:cNvSpPr/>
            <p:nvPr/>
          </p:nvSpPr>
          <p:spPr>
            <a:xfrm flipH="1">
              <a:off x="7941600" y="627588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395" name=""/>
            <p:cNvSpPr/>
            <p:nvPr/>
          </p:nvSpPr>
          <p:spPr>
            <a:xfrm>
              <a:off x="7815240" y="659268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396" name=""/>
            <p:cNvSpPr/>
            <p:nvPr/>
          </p:nvSpPr>
          <p:spPr>
            <a:xfrm flipH="1" flipV="1">
              <a:off x="7846920" y="669168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397" name=""/>
            <p:cNvSpPr/>
            <p:nvPr/>
          </p:nvSpPr>
          <p:spPr>
            <a:xfrm flipH="1">
              <a:off x="798192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98" name=""/>
            <p:cNvSpPr/>
            <p:nvPr/>
          </p:nvSpPr>
          <p:spPr>
            <a:xfrm>
              <a:off x="797796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399" name=""/>
            <p:cNvSpPr/>
            <p:nvPr/>
          </p:nvSpPr>
          <p:spPr>
            <a:xfrm>
              <a:off x="7983360" y="6314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00" name=""/>
            <p:cNvSpPr/>
            <p:nvPr/>
          </p:nvSpPr>
          <p:spPr>
            <a:xfrm>
              <a:off x="797796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01" name=""/>
            <p:cNvSpPr/>
            <p:nvPr/>
          </p:nvSpPr>
          <p:spPr>
            <a:xfrm flipH="1">
              <a:off x="7704000" y="666864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402" name=""/>
            <p:cNvSpPr/>
            <p:nvPr/>
          </p:nvSpPr>
          <p:spPr>
            <a:xfrm flipH="1">
              <a:off x="808920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403" name=""/>
            <p:cNvSpPr/>
            <p:nvPr/>
          </p:nvSpPr>
          <p:spPr>
            <a:xfrm flipH="1" flipV="1">
              <a:off x="8105400" y="641304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404" name=""/>
            <p:cNvSpPr/>
            <p:nvPr/>
          </p:nvSpPr>
          <p:spPr>
            <a:xfrm flipH="1">
              <a:off x="8033400" y="620172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405" name=""/>
            <p:cNvSpPr/>
            <p:nvPr/>
          </p:nvSpPr>
          <p:spPr>
            <a:xfrm flipH="1">
              <a:off x="806832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406" name=""/>
            <p:cNvSpPr/>
            <p:nvPr/>
          </p:nvSpPr>
          <p:spPr>
            <a:xfrm flipH="1">
              <a:off x="8092080" y="653112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07" name=""/>
            <p:cNvSpPr/>
            <p:nvPr/>
          </p:nvSpPr>
          <p:spPr>
            <a:xfrm>
              <a:off x="81601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408" name=""/>
            <p:cNvSpPr/>
            <p:nvPr/>
          </p:nvSpPr>
          <p:spPr>
            <a:xfrm>
              <a:off x="810288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09" name=""/>
            <p:cNvSpPr/>
            <p:nvPr/>
          </p:nvSpPr>
          <p:spPr>
            <a:xfrm>
              <a:off x="8044560" y="673200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410" name=""/>
            <p:cNvSpPr/>
            <p:nvPr/>
          </p:nvSpPr>
          <p:spPr>
            <a:xfrm>
              <a:off x="8211600" y="64828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11" name=""/>
            <p:cNvSpPr/>
            <p:nvPr/>
          </p:nvSpPr>
          <p:spPr>
            <a:xfrm>
              <a:off x="8229600" y="65059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12" name=""/>
            <p:cNvSpPr/>
            <p:nvPr/>
          </p:nvSpPr>
          <p:spPr>
            <a:xfrm>
              <a:off x="8206200" y="636660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13" name=""/>
            <p:cNvSpPr/>
            <p:nvPr/>
          </p:nvSpPr>
          <p:spPr>
            <a:xfrm flipH="1">
              <a:off x="815544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14" name=""/>
            <p:cNvSpPr/>
            <p:nvPr/>
          </p:nvSpPr>
          <p:spPr>
            <a:xfrm>
              <a:off x="8165880" y="61070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15" name=""/>
            <p:cNvSpPr/>
            <p:nvPr/>
          </p:nvSpPr>
          <p:spPr>
            <a:xfrm>
              <a:off x="821304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416" name=""/>
            <p:cNvSpPr/>
            <p:nvPr/>
          </p:nvSpPr>
          <p:spPr>
            <a:xfrm>
              <a:off x="8233920" y="665388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417" name=""/>
            <p:cNvSpPr/>
            <p:nvPr/>
          </p:nvSpPr>
          <p:spPr>
            <a:xfrm>
              <a:off x="810288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18" name=""/>
            <p:cNvSpPr/>
            <p:nvPr/>
          </p:nvSpPr>
          <p:spPr>
            <a:xfrm flipH="1">
              <a:off x="8054280" y="628236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419" name=""/>
            <p:cNvSpPr/>
            <p:nvPr/>
          </p:nvSpPr>
          <p:spPr>
            <a:xfrm flipH="1">
              <a:off x="803628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420" name=""/>
            <p:cNvSpPr/>
            <p:nvPr/>
          </p:nvSpPr>
          <p:spPr>
            <a:xfrm flipH="1">
              <a:off x="8066880" y="655488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421" name=""/>
            <p:cNvSpPr/>
            <p:nvPr/>
          </p:nvSpPr>
          <p:spPr>
            <a:xfrm>
              <a:off x="8060040" y="611568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422" name=""/>
            <p:cNvSpPr/>
            <p:nvPr/>
          </p:nvSpPr>
          <p:spPr>
            <a:xfrm>
              <a:off x="8125560" y="609012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423" name=""/>
            <p:cNvSpPr/>
            <p:nvPr/>
          </p:nvSpPr>
          <p:spPr>
            <a:xfrm>
              <a:off x="815328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424" name=""/>
            <p:cNvSpPr/>
            <p:nvPr/>
          </p:nvSpPr>
          <p:spPr>
            <a:xfrm flipH="1">
              <a:off x="8146080" y="654624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425" name=""/>
            <p:cNvSpPr/>
            <p:nvPr/>
          </p:nvSpPr>
          <p:spPr>
            <a:xfrm>
              <a:off x="8211600" y="660312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426" name=""/>
            <p:cNvSpPr/>
            <p:nvPr/>
          </p:nvSpPr>
          <p:spPr>
            <a:xfrm>
              <a:off x="8206200" y="625500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427" name=""/>
            <p:cNvSpPr/>
            <p:nvPr/>
          </p:nvSpPr>
          <p:spPr>
            <a:xfrm flipH="1">
              <a:off x="8271360" y="609660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428" name=""/>
            <p:cNvSpPr/>
            <p:nvPr/>
          </p:nvSpPr>
          <p:spPr>
            <a:xfrm flipH="1" flipV="1">
              <a:off x="816696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429" name=""/>
            <p:cNvSpPr/>
            <p:nvPr/>
          </p:nvSpPr>
          <p:spPr>
            <a:xfrm flipH="1">
              <a:off x="825444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430" name=""/>
            <p:cNvSpPr/>
            <p:nvPr/>
          </p:nvSpPr>
          <p:spPr>
            <a:xfrm>
              <a:off x="8128080" y="662220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31" name=""/>
            <p:cNvSpPr/>
            <p:nvPr/>
          </p:nvSpPr>
          <p:spPr>
            <a:xfrm flipH="1">
              <a:off x="8296200" y="641304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432" name=""/>
            <p:cNvSpPr/>
            <p:nvPr/>
          </p:nvSpPr>
          <p:spPr>
            <a:xfrm>
              <a:off x="8292240" y="622728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33" name=""/>
            <p:cNvSpPr/>
            <p:nvPr/>
          </p:nvSpPr>
          <p:spPr>
            <a:xfrm>
              <a:off x="8296200" y="63435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34" name=""/>
            <p:cNvSpPr/>
            <p:nvPr/>
          </p:nvSpPr>
          <p:spPr>
            <a:xfrm>
              <a:off x="8292240" y="65311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35" name=""/>
            <p:cNvSpPr/>
            <p:nvPr/>
          </p:nvSpPr>
          <p:spPr>
            <a:xfrm flipH="1">
              <a:off x="836028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436" name=""/>
            <p:cNvSpPr/>
            <p:nvPr/>
          </p:nvSpPr>
          <p:spPr>
            <a:xfrm flipH="1" flipV="1">
              <a:off x="837684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437" name=""/>
            <p:cNvSpPr/>
            <p:nvPr/>
          </p:nvSpPr>
          <p:spPr>
            <a:xfrm flipH="1">
              <a:off x="8305560" y="620172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438" name=""/>
            <p:cNvSpPr/>
            <p:nvPr/>
          </p:nvSpPr>
          <p:spPr>
            <a:xfrm flipH="1">
              <a:off x="833940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439" name=""/>
            <p:cNvSpPr/>
            <p:nvPr/>
          </p:nvSpPr>
          <p:spPr>
            <a:xfrm flipH="1">
              <a:off x="836388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40" name=""/>
            <p:cNvSpPr/>
            <p:nvPr/>
          </p:nvSpPr>
          <p:spPr>
            <a:xfrm>
              <a:off x="84312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441" name=""/>
            <p:cNvSpPr/>
            <p:nvPr/>
          </p:nvSpPr>
          <p:spPr>
            <a:xfrm>
              <a:off x="8375760" y="66434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42" name=""/>
            <p:cNvSpPr/>
            <p:nvPr/>
          </p:nvSpPr>
          <p:spPr>
            <a:xfrm flipV="1">
              <a:off x="8322840" y="669852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443" name=""/>
            <p:cNvSpPr/>
            <p:nvPr/>
          </p:nvSpPr>
          <p:spPr>
            <a:xfrm>
              <a:off x="848412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44" name=""/>
            <p:cNvSpPr/>
            <p:nvPr/>
          </p:nvSpPr>
          <p:spPr>
            <a:xfrm>
              <a:off x="850068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45" name=""/>
            <p:cNvSpPr/>
            <p:nvPr/>
          </p:nvSpPr>
          <p:spPr>
            <a:xfrm>
              <a:off x="8478360" y="63666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46" name=""/>
            <p:cNvSpPr/>
            <p:nvPr/>
          </p:nvSpPr>
          <p:spPr>
            <a:xfrm flipH="1">
              <a:off x="8429760" y="63097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47" name=""/>
            <p:cNvSpPr/>
            <p:nvPr/>
          </p:nvSpPr>
          <p:spPr>
            <a:xfrm>
              <a:off x="8396640" y="608148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48" name=""/>
            <p:cNvSpPr/>
            <p:nvPr/>
          </p:nvSpPr>
          <p:spPr>
            <a:xfrm>
              <a:off x="848412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449" name=""/>
            <p:cNvSpPr/>
            <p:nvPr/>
          </p:nvSpPr>
          <p:spPr>
            <a:xfrm>
              <a:off x="85035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450" name=""/>
            <p:cNvSpPr/>
            <p:nvPr/>
          </p:nvSpPr>
          <p:spPr>
            <a:xfrm>
              <a:off x="837576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51" name=""/>
            <p:cNvSpPr/>
            <p:nvPr/>
          </p:nvSpPr>
          <p:spPr>
            <a:xfrm flipH="1">
              <a:off x="8323560" y="62550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452" name=""/>
            <p:cNvSpPr/>
            <p:nvPr/>
          </p:nvSpPr>
          <p:spPr>
            <a:xfrm flipH="1">
              <a:off x="8307360" y="650160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453" name=""/>
            <p:cNvSpPr/>
            <p:nvPr/>
          </p:nvSpPr>
          <p:spPr>
            <a:xfrm flipH="1">
              <a:off x="8336520" y="655488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454" name=""/>
            <p:cNvSpPr/>
            <p:nvPr/>
          </p:nvSpPr>
          <p:spPr>
            <a:xfrm>
              <a:off x="8353440" y="611568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455" name=""/>
            <p:cNvSpPr/>
            <p:nvPr/>
          </p:nvSpPr>
          <p:spPr>
            <a:xfrm>
              <a:off x="84157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2456" name=""/>
            <p:cNvSpPr/>
            <p:nvPr/>
          </p:nvSpPr>
          <p:spPr>
            <a:xfrm>
              <a:off x="842436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457" name=""/>
            <p:cNvSpPr/>
            <p:nvPr/>
          </p:nvSpPr>
          <p:spPr>
            <a:xfrm flipH="1">
              <a:off x="8417160" y="654624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458" name=""/>
            <p:cNvSpPr/>
            <p:nvPr/>
          </p:nvSpPr>
          <p:spPr>
            <a:xfrm>
              <a:off x="8484120" y="660312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459" name=""/>
            <p:cNvSpPr/>
            <p:nvPr/>
          </p:nvSpPr>
          <p:spPr>
            <a:xfrm>
              <a:off x="8478360" y="625500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460" name=""/>
            <p:cNvSpPr/>
            <p:nvPr/>
          </p:nvSpPr>
          <p:spPr>
            <a:xfrm flipH="1">
              <a:off x="8504640" y="609660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461" name=""/>
            <p:cNvSpPr/>
            <p:nvPr/>
          </p:nvSpPr>
          <p:spPr>
            <a:xfrm flipH="1" flipV="1">
              <a:off x="8436960" y="664128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462" name=""/>
            <p:cNvSpPr/>
            <p:nvPr/>
          </p:nvSpPr>
          <p:spPr>
            <a:xfrm flipH="1">
              <a:off x="852552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463" name=""/>
            <p:cNvSpPr/>
            <p:nvPr/>
          </p:nvSpPr>
          <p:spPr>
            <a:xfrm>
              <a:off x="8400600" y="662220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64" name=""/>
            <p:cNvSpPr/>
            <p:nvPr/>
          </p:nvSpPr>
          <p:spPr>
            <a:xfrm flipH="1" flipV="1">
              <a:off x="8433720" y="670896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465" name=""/>
            <p:cNvSpPr/>
            <p:nvPr/>
          </p:nvSpPr>
          <p:spPr>
            <a:xfrm flipH="1">
              <a:off x="856692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466" name=""/>
            <p:cNvSpPr/>
            <p:nvPr/>
          </p:nvSpPr>
          <p:spPr>
            <a:xfrm>
              <a:off x="8563320" y="61700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67" name=""/>
            <p:cNvSpPr/>
            <p:nvPr/>
          </p:nvSpPr>
          <p:spPr>
            <a:xfrm>
              <a:off x="8567280" y="63709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68" name=""/>
            <p:cNvSpPr/>
            <p:nvPr/>
          </p:nvSpPr>
          <p:spPr>
            <a:xfrm>
              <a:off x="8563320" y="653112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69" name=""/>
            <p:cNvSpPr/>
            <p:nvPr/>
          </p:nvSpPr>
          <p:spPr>
            <a:xfrm flipH="1">
              <a:off x="8651880" y="634356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470" name=""/>
            <p:cNvSpPr/>
            <p:nvPr/>
          </p:nvSpPr>
          <p:spPr>
            <a:xfrm flipH="1" flipV="1">
              <a:off x="866880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471" name=""/>
            <p:cNvSpPr/>
            <p:nvPr/>
          </p:nvSpPr>
          <p:spPr>
            <a:xfrm flipH="1">
              <a:off x="859644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472" name=""/>
            <p:cNvSpPr/>
            <p:nvPr/>
          </p:nvSpPr>
          <p:spPr>
            <a:xfrm flipH="1" flipV="1">
              <a:off x="8596440" y="644256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473" name=""/>
            <p:cNvSpPr/>
            <p:nvPr/>
          </p:nvSpPr>
          <p:spPr>
            <a:xfrm flipH="1">
              <a:off x="865584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74" name=""/>
            <p:cNvSpPr/>
            <p:nvPr/>
          </p:nvSpPr>
          <p:spPr>
            <a:xfrm>
              <a:off x="872316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475" name=""/>
            <p:cNvSpPr/>
            <p:nvPr/>
          </p:nvSpPr>
          <p:spPr>
            <a:xfrm>
              <a:off x="866772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76" name=""/>
            <p:cNvSpPr/>
            <p:nvPr/>
          </p:nvSpPr>
          <p:spPr>
            <a:xfrm>
              <a:off x="8613360" y="671688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477" name=""/>
            <p:cNvSpPr/>
            <p:nvPr/>
          </p:nvSpPr>
          <p:spPr>
            <a:xfrm>
              <a:off x="877608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78" name=""/>
            <p:cNvSpPr/>
            <p:nvPr/>
          </p:nvSpPr>
          <p:spPr>
            <a:xfrm>
              <a:off x="879264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79" name=""/>
            <p:cNvSpPr/>
            <p:nvPr/>
          </p:nvSpPr>
          <p:spPr>
            <a:xfrm>
              <a:off x="8771760" y="63666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80" name=""/>
            <p:cNvSpPr/>
            <p:nvPr/>
          </p:nvSpPr>
          <p:spPr>
            <a:xfrm flipH="1">
              <a:off x="871992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481" name=""/>
            <p:cNvSpPr/>
            <p:nvPr/>
          </p:nvSpPr>
          <p:spPr>
            <a:xfrm>
              <a:off x="8668800" y="607536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2482" name=""/>
            <p:cNvSpPr/>
            <p:nvPr/>
          </p:nvSpPr>
          <p:spPr>
            <a:xfrm>
              <a:off x="8778600" y="622944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483" name=""/>
            <p:cNvSpPr/>
            <p:nvPr/>
          </p:nvSpPr>
          <p:spPr>
            <a:xfrm>
              <a:off x="87951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484" name=""/>
            <p:cNvSpPr/>
            <p:nvPr/>
          </p:nvSpPr>
          <p:spPr>
            <a:xfrm>
              <a:off x="866772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85" name=""/>
            <p:cNvSpPr/>
            <p:nvPr/>
          </p:nvSpPr>
          <p:spPr>
            <a:xfrm flipH="1">
              <a:off x="861768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486" name=""/>
            <p:cNvSpPr/>
            <p:nvPr/>
          </p:nvSpPr>
          <p:spPr>
            <a:xfrm flipH="1">
              <a:off x="859932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487" name=""/>
            <p:cNvSpPr/>
            <p:nvPr/>
          </p:nvSpPr>
          <p:spPr>
            <a:xfrm flipH="1">
              <a:off x="862992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488" name=""/>
            <p:cNvSpPr/>
            <p:nvPr/>
          </p:nvSpPr>
          <p:spPr>
            <a:xfrm>
              <a:off x="8584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489" name=""/>
            <p:cNvSpPr/>
            <p:nvPr/>
          </p:nvSpPr>
          <p:spPr>
            <a:xfrm>
              <a:off x="87091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2490" name=""/>
            <p:cNvSpPr/>
            <p:nvPr/>
          </p:nvSpPr>
          <p:spPr>
            <a:xfrm>
              <a:off x="871632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491" name=""/>
            <p:cNvSpPr/>
            <p:nvPr/>
          </p:nvSpPr>
          <p:spPr>
            <a:xfrm flipH="1">
              <a:off x="8709120" y="654624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492" name=""/>
            <p:cNvSpPr/>
            <p:nvPr/>
          </p:nvSpPr>
          <p:spPr>
            <a:xfrm>
              <a:off x="8778600" y="660312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493" name=""/>
            <p:cNvSpPr/>
            <p:nvPr/>
          </p:nvSpPr>
          <p:spPr>
            <a:xfrm>
              <a:off x="8771760" y="625500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494" name=""/>
            <p:cNvSpPr/>
            <p:nvPr/>
          </p:nvSpPr>
          <p:spPr>
            <a:xfrm flipH="1">
              <a:off x="8732520" y="609660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495" name=""/>
            <p:cNvSpPr/>
            <p:nvPr/>
          </p:nvSpPr>
          <p:spPr>
            <a:xfrm flipH="1" flipV="1">
              <a:off x="873000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496" name=""/>
            <p:cNvSpPr/>
            <p:nvPr/>
          </p:nvSpPr>
          <p:spPr>
            <a:xfrm flipH="1">
              <a:off x="881748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497" name=""/>
            <p:cNvSpPr/>
            <p:nvPr/>
          </p:nvSpPr>
          <p:spPr>
            <a:xfrm>
              <a:off x="8693640" y="662220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98" name=""/>
            <p:cNvSpPr/>
            <p:nvPr/>
          </p:nvSpPr>
          <p:spPr>
            <a:xfrm flipH="1" flipV="1">
              <a:off x="8721720" y="672084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2499" name=""/>
            <p:cNvSpPr/>
            <p:nvPr/>
          </p:nvSpPr>
          <p:spPr>
            <a:xfrm flipH="1">
              <a:off x="885888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500" name=""/>
            <p:cNvSpPr/>
            <p:nvPr/>
          </p:nvSpPr>
          <p:spPr>
            <a:xfrm>
              <a:off x="8813520" y="614484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501" name=""/>
            <p:cNvSpPr/>
            <p:nvPr/>
          </p:nvSpPr>
          <p:spPr>
            <a:xfrm>
              <a:off x="8817840" y="6121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02" name=""/>
            <p:cNvSpPr/>
            <p:nvPr/>
          </p:nvSpPr>
          <p:spPr>
            <a:xfrm>
              <a:off x="8853840" y="65311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03" name=""/>
            <p:cNvSpPr/>
            <p:nvPr/>
          </p:nvSpPr>
          <p:spPr>
            <a:xfrm flipH="1">
              <a:off x="8579520" y="663912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2504" name=""/>
            <p:cNvSpPr/>
            <p:nvPr/>
          </p:nvSpPr>
          <p:spPr>
            <a:xfrm>
              <a:off x="8019720" y="61621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05" name=""/>
            <p:cNvSpPr/>
            <p:nvPr/>
          </p:nvSpPr>
          <p:spPr>
            <a:xfrm>
              <a:off x="8250480" y="61894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06" name=""/>
            <p:cNvSpPr/>
            <p:nvPr/>
          </p:nvSpPr>
          <p:spPr>
            <a:xfrm flipV="1">
              <a:off x="8004240" y="666000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507" name=""/>
            <p:cNvSpPr/>
            <p:nvPr/>
          </p:nvSpPr>
          <p:spPr>
            <a:xfrm>
              <a:off x="8210160" y="606888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508" name=""/>
            <p:cNvSpPr/>
            <p:nvPr/>
          </p:nvSpPr>
          <p:spPr>
            <a:xfrm>
              <a:off x="7997400" y="663480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09" name=""/>
            <p:cNvSpPr/>
            <p:nvPr/>
          </p:nvSpPr>
          <p:spPr>
            <a:xfrm>
              <a:off x="8563320" y="630144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10" name=""/>
            <p:cNvSpPr/>
            <p:nvPr/>
          </p:nvSpPr>
          <p:spPr>
            <a:xfrm flipV="1">
              <a:off x="8853840" y="622728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2511" name=""/>
            <p:cNvSpPr/>
            <p:nvPr/>
          </p:nvSpPr>
          <p:spPr>
            <a:xfrm flipH="1">
              <a:off x="8010720" y="644688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2512" name=""/>
            <p:cNvSpPr/>
            <p:nvPr/>
          </p:nvSpPr>
          <p:spPr>
            <a:xfrm flipH="1">
              <a:off x="8807760" y="639000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2513" name=""/>
            <p:cNvSpPr/>
            <p:nvPr/>
          </p:nvSpPr>
          <p:spPr>
            <a:xfrm flipH="1">
              <a:off x="7993080" y="608364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514" name=""/>
            <p:cNvSpPr/>
            <p:nvPr/>
          </p:nvSpPr>
          <p:spPr>
            <a:xfrm flipH="1">
              <a:off x="8180640" y="614052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515" name=""/>
            <p:cNvSpPr/>
            <p:nvPr/>
          </p:nvSpPr>
          <p:spPr>
            <a:xfrm flipH="1">
              <a:off x="89247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516" name=""/>
            <p:cNvSpPr/>
            <p:nvPr/>
          </p:nvSpPr>
          <p:spPr>
            <a:xfrm flipH="1" flipV="1">
              <a:off x="8942760" y="638712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517" name=""/>
            <p:cNvSpPr/>
            <p:nvPr/>
          </p:nvSpPr>
          <p:spPr>
            <a:xfrm flipH="1">
              <a:off x="8905320" y="636048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518" name=""/>
            <p:cNvSpPr/>
            <p:nvPr/>
          </p:nvSpPr>
          <p:spPr>
            <a:xfrm flipH="1">
              <a:off x="8927280" y="650592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519" name=""/>
            <p:cNvSpPr/>
            <p:nvPr/>
          </p:nvSpPr>
          <p:spPr>
            <a:xfrm>
              <a:off x="8995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520" name=""/>
            <p:cNvSpPr/>
            <p:nvPr/>
          </p:nvSpPr>
          <p:spPr>
            <a:xfrm>
              <a:off x="8896680" y="66747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521" name=""/>
            <p:cNvSpPr/>
            <p:nvPr/>
          </p:nvSpPr>
          <p:spPr>
            <a:xfrm flipV="1">
              <a:off x="9048600" y="644436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522" name=""/>
            <p:cNvSpPr/>
            <p:nvPr/>
          </p:nvSpPr>
          <p:spPr>
            <a:xfrm>
              <a:off x="9062280" y="64767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23" name=""/>
            <p:cNvSpPr/>
            <p:nvPr/>
          </p:nvSpPr>
          <p:spPr>
            <a:xfrm>
              <a:off x="9044280" y="634104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524" name=""/>
            <p:cNvSpPr/>
            <p:nvPr/>
          </p:nvSpPr>
          <p:spPr>
            <a:xfrm flipH="1">
              <a:off x="8992440" y="628236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525" name=""/>
            <p:cNvSpPr/>
            <p:nvPr/>
          </p:nvSpPr>
          <p:spPr>
            <a:xfrm>
              <a:off x="904428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26" name=""/>
            <p:cNvSpPr/>
            <p:nvPr/>
          </p:nvSpPr>
          <p:spPr>
            <a:xfrm>
              <a:off x="9049680" y="620172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527" name=""/>
            <p:cNvSpPr/>
            <p:nvPr/>
          </p:nvSpPr>
          <p:spPr>
            <a:xfrm>
              <a:off x="8938440" y="619740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528" name=""/>
            <p:cNvSpPr/>
            <p:nvPr/>
          </p:nvSpPr>
          <p:spPr>
            <a:xfrm flipH="1">
              <a:off x="888840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529" name=""/>
            <p:cNvSpPr/>
            <p:nvPr/>
          </p:nvSpPr>
          <p:spPr>
            <a:xfrm flipH="1">
              <a:off x="8901000" y="652500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530" name=""/>
            <p:cNvSpPr/>
            <p:nvPr/>
          </p:nvSpPr>
          <p:spPr>
            <a:xfrm>
              <a:off x="889668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531" name=""/>
            <p:cNvSpPr/>
            <p:nvPr/>
          </p:nvSpPr>
          <p:spPr>
            <a:xfrm>
              <a:off x="89816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532" name=""/>
            <p:cNvSpPr/>
            <p:nvPr/>
          </p:nvSpPr>
          <p:spPr>
            <a:xfrm>
              <a:off x="898740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533" name=""/>
            <p:cNvSpPr/>
            <p:nvPr/>
          </p:nvSpPr>
          <p:spPr>
            <a:xfrm flipH="1">
              <a:off x="8980200" y="651888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534" name=""/>
            <p:cNvSpPr/>
            <p:nvPr/>
          </p:nvSpPr>
          <p:spPr>
            <a:xfrm>
              <a:off x="9048600" y="657576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535" name=""/>
            <p:cNvSpPr/>
            <p:nvPr/>
          </p:nvSpPr>
          <p:spPr>
            <a:xfrm>
              <a:off x="904428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536" name=""/>
            <p:cNvSpPr/>
            <p:nvPr/>
          </p:nvSpPr>
          <p:spPr>
            <a:xfrm flipH="1">
              <a:off x="9065160" y="612360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537" name=""/>
            <p:cNvSpPr/>
            <p:nvPr/>
          </p:nvSpPr>
          <p:spPr>
            <a:xfrm flipH="1" flipV="1">
              <a:off x="900108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538" name=""/>
            <p:cNvSpPr/>
            <p:nvPr/>
          </p:nvSpPr>
          <p:spPr>
            <a:xfrm flipH="1">
              <a:off x="9090000" y="627588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539" name=""/>
            <p:cNvSpPr/>
            <p:nvPr/>
          </p:nvSpPr>
          <p:spPr>
            <a:xfrm>
              <a:off x="8966520" y="659268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540" name=""/>
            <p:cNvSpPr/>
            <p:nvPr/>
          </p:nvSpPr>
          <p:spPr>
            <a:xfrm flipH="1" flipV="1">
              <a:off x="899388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541" name=""/>
            <p:cNvSpPr/>
            <p:nvPr/>
          </p:nvSpPr>
          <p:spPr>
            <a:xfrm>
              <a:off x="8951040" y="663480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542" name=""/>
            <p:cNvSpPr/>
            <p:nvPr/>
          </p:nvSpPr>
          <p:spPr>
            <a:xfrm>
              <a:off x="735228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43" name=""/>
            <p:cNvSpPr/>
            <p:nvPr/>
          </p:nvSpPr>
          <p:spPr>
            <a:xfrm>
              <a:off x="7203600" y="675540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44" name=""/>
            <p:cNvSpPr/>
            <p:nvPr/>
          </p:nvSpPr>
          <p:spPr>
            <a:xfrm>
              <a:off x="728712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45" name=""/>
            <p:cNvSpPr/>
            <p:nvPr/>
          </p:nvSpPr>
          <p:spPr>
            <a:xfrm flipH="1">
              <a:off x="737424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546" name=""/>
            <p:cNvSpPr/>
            <p:nvPr/>
          </p:nvSpPr>
          <p:spPr>
            <a:xfrm>
              <a:off x="7621920" y="6776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47" name=""/>
            <p:cNvSpPr/>
            <p:nvPr/>
          </p:nvSpPr>
          <p:spPr>
            <a:xfrm>
              <a:off x="7474680" y="675540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48" name=""/>
            <p:cNvSpPr/>
            <p:nvPr/>
          </p:nvSpPr>
          <p:spPr>
            <a:xfrm>
              <a:off x="755964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49" name=""/>
            <p:cNvSpPr/>
            <p:nvPr/>
          </p:nvSpPr>
          <p:spPr>
            <a:xfrm flipH="1">
              <a:off x="764676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550" name=""/>
            <p:cNvSpPr/>
            <p:nvPr/>
          </p:nvSpPr>
          <p:spPr>
            <a:xfrm>
              <a:off x="9105480" y="661608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51" name=""/>
            <p:cNvSpPr/>
            <p:nvPr/>
          </p:nvSpPr>
          <p:spPr>
            <a:xfrm>
              <a:off x="791532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52" name=""/>
            <p:cNvSpPr/>
            <p:nvPr/>
          </p:nvSpPr>
          <p:spPr>
            <a:xfrm>
              <a:off x="776808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53" name=""/>
            <p:cNvSpPr/>
            <p:nvPr/>
          </p:nvSpPr>
          <p:spPr>
            <a:xfrm>
              <a:off x="7853040" y="675540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54" name=""/>
            <p:cNvSpPr/>
            <p:nvPr/>
          </p:nvSpPr>
          <p:spPr>
            <a:xfrm flipH="1">
              <a:off x="7937640" y="679140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555" name=""/>
            <p:cNvSpPr/>
            <p:nvPr/>
          </p:nvSpPr>
          <p:spPr>
            <a:xfrm>
              <a:off x="8186400" y="6776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56" name=""/>
            <p:cNvSpPr/>
            <p:nvPr/>
          </p:nvSpPr>
          <p:spPr>
            <a:xfrm>
              <a:off x="808380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557" name=""/>
            <p:cNvSpPr/>
            <p:nvPr/>
          </p:nvSpPr>
          <p:spPr>
            <a:xfrm>
              <a:off x="8145000" y="67554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58" name=""/>
            <p:cNvSpPr/>
            <p:nvPr/>
          </p:nvSpPr>
          <p:spPr>
            <a:xfrm flipH="1">
              <a:off x="8292960" y="6765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559" name=""/>
            <p:cNvSpPr/>
            <p:nvPr/>
          </p:nvSpPr>
          <p:spPr>
            <a:xfrm>
              <a:off x="8415720" y="674676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60" name=""/>
            <p:cNvSpPr/>
            <p:nvPr/>
          </p:nvSpPr>
          <p:spPr>
            <a:xfrm>
              <a:off x="837576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561" name=""/>
            <p:cNvSpPr/>
            <p:nvPr/>
          </p:nvSpPr>
          <p:spPr>
            <a:xfrm>
              <a:off x="843696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562" name=""/>
            <p:cNvSpPr/>
            <p:nvPr/>
          </p:nvSpPr>
          <p:spPr>
            <a:xfrm flipH="1">
              <a:off x="8522640" y="676584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563" name=""/>
            <p:cNvSpPr/>
            <p:nvPr/>
          </p:nvSpPr>
          <p:spPr>
            <a:xfrm>
              <a:off x="8691120" y="674064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564" name=""/>
            <p:cNvSpPr/>
            <p:nvPr/>
          </p:nvSpPr>
          <p:spPr>
            <a:xfrm>
              <a:off x="860364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65" name=""/>
            <p:cNvSpPr/>
            <p:nvPr/>
          </p:nvSpPr>
          <p:spPr>
            <a:xfrm>
              <a:off x="8728920" y="678456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566" name=""/>
            <p:cNvSpPr/>
            <p:nvPr/>
          </p:nvSpPr>
          <p:spPr>
            <a:xfrm flipH="1">
              <a:off x="8754840" y="676584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567" name=""/>
            <p:cNvSpPr/>
            <p:nvPr/>
          </p:nvSpPr>
          <p:spPr>
            <a:xfrm>
              <a:off x="883440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568" name=""/>
            <p:cNvSpPr/>
            <p:nvPr/>
          </p:nvSpPr>
          <p:spPr>
            <a:xfrm>
              <a:off x="8903880" y="681660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69" name=""/>
            <p:cNvSpPr/>
            <p:nvPr/>
          </p:nvSpPr>
          <p:spPr>
            <a:xfrm>
              <a:off x="8231040" y="673812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570" name=""/>
            <p:cNvSpPr/>
            <p:nvPr/>
          </p:nvSpPr>
          <p:spPr>
            <a:xfrm flipH="1">
              <a:off x="8201520" y="680976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571" name=""/>
            <p:cNvSpPr/>
            <p:nvPr/>
          </p:nvSpPr>
          <p:spPr>
            <a:xfrm>
              <a:off x="9062280" y="68036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72" name=""/>
            <p:cNvSpPr/>
            <p:nvPr/>
          </p:nvSpPr>
          <p:spPr>
            <a:xfrm>
              <a:off x="8876160" y="675540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573" name=""/>
            <p:cNvSpPr/>
            <p:nvPr/>
          </p:nvSpPr>
          <p:spPr>
            <a:xfrm>
              <a:off x="900108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74" name=""/>
            <p:cNvSpPr/>
            <p:nvPr/>
          </p:nvSpPr>
          <p:spPr>
            <a:xfrm flipH="1">
              <a:off x="9045360" y="670896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575" name=""/>
            <p:cNvSpPr/>
            <p:nvPr/>
          </p:nvSpPr>
          <p:spPr>
            <a:xfrm>
              <a:off x="9113760" y="647424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576" name=""/>
            <p:cNvSpPr/>
            <p:nvPr/>
          </p:nvSpPr>
          <p:spPr>
            <a:xfrm>
              <a:off x="7747200" y="681228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577" name=""/>
            <p:cNvSpPr/>
            <p:nvPr/>
          </p:nvSpPr>
          <p:spPr>
            <a:xfrm>
              <a:off x="8019720" y="683100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78" name=""/>
            <p:cNvSpPr/>
            <p:nvPr/>
          </p:nvSpPr>
          <p:spPr>
            <a:xfrm flipV="1">
              <a:off x="7178760" y="681624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2579" name=""/>
            <p:cNvSpPr/>
            <p:nvPr/>
          </p:nvSpPr>
          <p:spPr>
            <a:xfrm flipH="1">
              <a:off x="8642520" y="680976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580" name=""/>
            <p:cNvSpPr/>
            <p:nvPr/>
          </p:nvSpPr>
          <p:spPr>
            <a:xfrm flipH="1" flipV="1">
              <a:off x="7455240" y="677808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581" name=""/>
            <p:cNvSpPr/>
            <p:nvPr/>
          </p:nvSpPr>
          <p:spPr>
            <a:xfrm flipH="1" flipV="1">
              <a:off x="845784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582" name=""/>
            <p:cNvSpPr/>
            <p:nvPr/>
          </p:nvSpPr>
          <p:spPr>
            <a:xfrm flipH="1" flipV="1">
              <a:off x="856332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2583" name=""/>
          <p:cNvSpPr/>
          <p:nvPr/>
        </p:nvSpPr>
        <p:spPr>
          <a:xfrm>
            <a:off x="1473120" y="644220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715B-DAA8-442C-A176-5274D086AABF}"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2584" name=""/>
          <p:cNvSpPr/>
          <p:nvPr/>
        </p:nvSpPr>
        <p:spPr>
          <a:xfrm>
            <a:off x="685800" y="6440400"/>
            <a:ext cx="72540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pic>
        <p:nvPicPr>
          <p:cNvPr id="2585" name="" descr=""/>
          <p:cNvPicPr/>
          <p:nvPr/>
        </p:nvPicPr>
        <p:blipFill>
          <a:blip r:embed="rId1"/>
          <a:stretch/>
        </p:blipFill>
        <p:spPr>
          <a:xfrm>
            <a:off x="2533680" y="-7920"/>
            <a:ext cx="4576680" cy="6865920"/>
          </a:xfrm>
          <a:prstGeom prst="rect">
            <a:avLst/>
          </a:prstGeom>
          <a:ln w="0">
            <a:noFill/>
          </a:ln>
        </p:spPr>
      </p:pic>
      <p:sp>
        <p:nvSpPr>
          <p:cNvPr id="2586" name=""/>
          <p:cNvSpPr/>
          <p:nvPr/>
        </p:nvSpPr>
        <p:spPr>
          <a:xfrm>
            <a:off x="0" y="187200"/>
            <a:ext cx="4165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levated-plus maze</a:t>
            </a:r>
            <a:endParaRPr b="0" lang="en-US" sz="32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482FA51B-FD42-4791-BED8-7C60DC7F5F64}" type="datetime1">
              <a:rPr lang="en-US"/>
              <a:t>07/30/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800" y="299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levated plus maze - males</a:t>
            </a:r>
            <a:endParaRPr b="0" lang="en-US" sz="3200" spc="-1" strike="noStrike">
              <a:solidFill>
                <a:srgbClr val="ff3300"/>
              </a:solidFill>
              <a:latin typeface="Comic Sans MS"/>
            </a:endParaRPr>
          </a:p>
        </p:txBody>
      </p:sp>
      <p:grpSp>
        <p:nvGrpSpPr>
          <p:cNvPr id="2588" name=""/>
          <p:cNvGrpSpPr/>
          <p:nvPr/>
        </p:nvGrpSpPr>
        <p:grpSpPr>
          <a:xfrm>
            <a:off x="515880" y="1133640"/>
            <a:ext cx="7698960" cy="4191120"/>
            <a:chOff x="515880" y="1133640"/>
            <a:chExt cx="7698960" cy="4191120"/>
          </a:xfrm>
        </p:grpSpPr>
        <p:sp>
          <p:nvSpPr>
            <p:cNvPr id="2589" name=""/>
            <p:cNvSpPr/>
            <p:nvPr/>
          </p:nvSpPr>
          <p:spPr>
            <a:xfrm>
              <a:off x="4840560" y="1675080"/>
              <a:ext cx="2980080" cy="349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90" name=""/>
            <p:cNvSpPr/>
            <p:nvPr/>
          </p:nvSpPr>
          <p:spPr>
            <a:xfrm>
              <a:off x="5374800" y="1133640"/>
              <a:ext cx="1788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Total entries</a:t>
              </a:r>
              <a:endParaRPr b="0" lang="en-US" sz="2400" spc="-1" strike="noStrike">
                <a:solidFill>
                  <a:srgbClr val="000000"/>
                </a:solidFill>
                <a:latin typeface="Comic Sans MS"/>
              </a:endParaRPr>
            </a:p>
          </p:txBody>
        </p:sp>
        <p:sp>
          <p:nvSpPr>
            <p:cNvPr id="2591" name=""/>
            <p:cNvSpPr/>
            <p:nvPr/>
          </p:nvSpPr>
          <p:spPr>
            <a:xfrm>
              <a:off x="4840560" y="5169240"/>
              <a:ext cx="298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592" name=""/>
            <p:cNvSpPr/>
            <p:nvPr/>
          </p:nvSpPr>
          <p:spPr>
            <a:xfrm>
              <a:off x="4840560" y="1675080"/>
              <a:ext cx="2980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593" name=""/>
            <p:cNvSpPr/>
            <p:nvPr/>
          </p:nvSpPr>
          <p:spPr>
            <a:xfrm flipV="1">
              <a:off x="4840560" y="1674720"/>
              <a:ext cx="1080" cy="34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94" name=""/>
            <p:cNvSpPr/>
            <p:nvPr/>
          </p:nvSpPr>
          <p:spPr>
            <a:xfrm flipV="1">
              <a:off x="7821000" y="1674720"/>
              <a:ext cx="1080" cy="34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95" name=""/>
            <p:cNvSpPr/>
            <p:nvPr/>
          </p:nvSpPr>
          <p:spPr>
            <a:xfrm flipH="1">
              <a:off x="7820640" y="5169240"/>
              <a:ext cx="64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596" name=""/>
            <p:cNvSpPr/>
            <p:nvPr/>
          </p:nvSpPr>
          <p:spPr>
            <a:xfrm flipH="1">
              <a:off x="7820640" y="4586400"/>
              <a:ext cx="64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597" name=""/>
            <p:cNvSpPr/>
            <p:nvPr/>
          </p:nvSpPr>
          <p:spPr>
            <a:xfrm flipH="1">
              <a:off x="7820640" y="4003920"/>
              <a:ext cx="64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598" name=""/>
            <p:cNvSpPr/>
            <p:nvPr/>
          </p:nvSpPr>
          <p:spPr>
            <a:xfrm flipH="1">
              <a:off x="7820640" y="3422880"/>
              <a:ext cx="64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599" name=""/>
            <p:cNvSpPr/>
            <p:nvPr/>
          </p:nvSpPr>
          <p:spPr>
            <a:xfrm flipH="1">
              <a:off x="7820640" y="2838960"/>
              <a:ext cx="64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00" name=""/>
            <p:cNvSpPr/>
            <p:nvPr/>
          </p:nvSpPr>
          <p:spPr>
            <a:xfrm flipH="1">
              <a:off x="7820640" y="2257920"/>
              <a:ext cx="64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01" name=""/>
            <p:cNvSpPr/>
            <p:nvPr/>
          </p:nvSpPr>
          <p:spPr>
            <a:xfrm flipH="1">
              <a:off x="7820640" y="1675080"/>
              <a:ext cx="64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02" name=""/>
            <p:cNvSpPr/>
            <p:nvPr/>
          </p:nvSpPr>
          <p:spPr>
            <a:xfrm>
              <a:off x="8038080" y="50500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2603" name=""/>
            <p:cNvSpPr/>
            <p:nvPr/>
          </p:nvSpPr>
          <p:spPr>
            <a:xfrm>
              <a:off x="8038080" y="446724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a:t>
              </a:r>
              <a:endParaRPr b="0" lang="en-US" sz="1800" spc="-1" strike="noStrike">
                <a:solidFill>
                  <a:srgbClr val="000000"/>
                </a:solidFill>
                <a:latin typeface="Comic Sans MS"/>
              </a:endParaRPr>
            </a:p>
          </p:txBody>
        </p:sp>
        <p:sp>
          <p:nvSpPr>
            <p:cNvPr id="2604" name=""/>
            <p:cNvSpPr/>
            <p:nvPr/>
          </p:nvSpPr>
          <p:spPr>
            <a:xfrm>
              <a:off x="8038080" y="3884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a:t>
              </a:r>
              <a:endParaRPr b="0" lang="en-US" sz="1800" spc="-1" strike="noStrike">
                <a:solidFill>
                  <a:srgbClr val="000000"/>
                </a:solidFill>
                <a:latin typeface="Comic Sans MS"/>
              </a:endParaRPr>
            </a:p>
          </p:txBody>
        </p:sp>
        <p:sp>
          <p:nvSpPr>
            <p:cNvPr id="2605" name=""/>
            <p:cNvSpPr/>
            <p:nvPr/>
          </p:nvSpPr>
          <p:spPr>
            <a:xfrm>
              <a:off x="8038080" y="33022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a:t>
              </a:r>
              <a:endParaRPr b="0" lang="en-US" sz="1800" spc="-1" strike="noStrike">
                <a:solidFill>
                  <a:srgbClr val="000000"/>
                </a:solidFill>
                <a:latin typeface="Comic Sans MS"/>
              </a:endParaRPr>
            </a:p>
          </p:txBody>
        </p:sp>
        <p:sp>
          <p:nvSpPr>
            <p:cNvPr id="2606" name=""/>
            <p:cNvSpPr/>
            <p:nvPr/>
          </p:nvSpPr>
          <p:spPr>
            <a:xfrm>
              <a:off x="8038080" y="27198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a:t>
              </a:r>
              <a:endParaRPr b="0" lang="en-US" sz="1800" spc="-1" strike="noStrike">
                <a:solidFill>
                  <a:srgbClr val="000000"/>
                </a:solidFill>
                <a:latin typeface="Comic Sans MS"/>
              </a:endParaRPr>
            </a:p>
          </p:txBody>
        </p:sp>
        <p:sp>
          <p:nvSpPr>
            <p:cNvPr id="2607" name=""/>
            <p:cNvSpPr/>
            <p:nvPr/>
          </p:nvSpPr>
          <p:spPr>
            <a:xfrm>
              <a:off x="7952040" y="2138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a:t>
              </a:r>
              <a:endParaRPr b="0" lang="en-US" sz="1800" spc="-1" strike="noStrike">
                <a:solidFill>
                  <a:srgbClr val="000000"/>
                </a:solidFill>
                <a:latin typeface="Comic Sans MS"/>
              </a:endParaRPr>
            </a:p>
          </p:txBody>
        </p:sp>
        <p:sp>
          <p:nvSpPr>
            <p:cNvPr id="2608" name=""/>
            <p:cNvSpPr/>
            <p:nvPr/>
          </p:nvSpPr>
          <p:spPr>
            <a:xfrm>
              <a:off x="7952040" y="15559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2</a:t>
              </a:r>
              <a:endParaRPr b="0" lang="en-US" sz="1800" spc="-1" strike="noStrike">
                <a:solidFill>
                  <a:srgbClr val="000000"/>
                </a:solidFill>
                <a:latin typeface="Comic Sans MS"/>
              </a:endParaRPr>
            </a:p>
          </p:txBody>
        </p:sp>
        <p:sp>
          <p:nvSpPr>
            <p:cNvPr id="2609" name=""/>
            <p:cNvSpPr/>
            <p:nvPr/>
          </p:nvSpPr>
          <p:spPr>
            <a:xfrm>
              <a:off x="5058000" y="2838960"/>
              <a:ext cx="352800" cy="2326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0" name=""/>
            <p:cNvSpPr/>
            <p:nvPr/>
          </p:nvSpPr>
          <p:spPr>
            <a:xfrm>
              <a:off x="5058000" y="2972520"/>
              <a:ext cx="352800" cy="232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1" name=""/>
            <p:cNvSpPr/>
            <p:nvPr/>
          </p:nvSpPr>
          <p:spPr>
            <a:xfrm flipV="1">
              <a:off x="5235840" y="2548440"/>
              <a:ext cx="108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2" name=""/>
            <p:cNvSpPr/>
            <p:nvPr/>
          </p:nvSpPr>
          <p:spPr>
            <a:xfrm>
              <a:off x="5169960" y="2548440"/>
              <a:ext cx="131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13" name=""/>
            <p:cNvSpPr/>
            <p:nvPr/>
          </p:nvSpPr>
          <p:spPr>
            <a:xfrm>
              <a:off x="5496120" y="2548440"/>
              <a:ext cx="352440" cy="26172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4" name=""/>
            <p:cNvSpPr/>
            <p:nvPr/>
          </p:nvSpPr>
          <p:spPr>
            <a:xfrm>
              <a:off x="5496120" y="2682000"/>
              <a:ext cx="352440" cy="261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5" name=""/>
            <p:cNvSpPr/>
            <p:nvPr/>
          </p:nvSpPr>
          <p:spPr>
            <a:xfrm flipV="1">
              <a:off x="5673960" y="2257920"/>
              <a:ext cx="108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6" name=""/>
            <p:cNvSpPr/>
            <p:nvPr/>
          </p:nvSpPr>
          <p:spPr>
            <a:xfrm>
              <a:off x="5607720" y="2257920"/>
              <a:ext cx="13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17" name=""/>
            <p:cNvSpPr/>
            <p:nvPr/>
          </p:nvSpPr>
          <p:spPr>
            <a:xfrm>
              <a:off x="6374880" y="2972520"/>
              <a:ext cx="349560" cy="232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8" name=""/>
            <p:cNvSpPr/>
            <p:nvPr/>
          </p:nvSpPr>
          <p:spPr>
            <a:xfrm>
              <a:off x="6813000" y="4003920"/>
              <a:ext cx="349560" cy="1161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9" name=""/>
            <p:cNvSpPr/>
            <p:nvPr/>
          </p:nvSpPr>
          <p:spPr>
            <a:xfrm>
              <a:off x="6813000" y="4137840"/>
              <a:ext cx="349560" cy="116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20" name=""/>
            <p:cNvSpPr/>
            <p:nvPr/>
          </p:nvSpPr>
          <p:spPr>
            <a:xfrm flipV="1">
              <a:off x="6987600" y="3713400"/>
              <a:ext cx="144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21" name=""/>
            <p:cNvSpPr/>
            <p:nvPr/>
          </p:nvSpPr>
          <p:spPr>
            <a:xfrm>
              <a:off x="6921720" y="3713400"/>
              <a:ext cx="132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22" name=""/>
            <p:cNvSpPr/>
            <p:nvPr/>
          </p:nvSpPr>
          <p:spPr>
            <a:xfrm>
              <a:off x="7250760" y="3422880"/>
              <a:ext cx="349560" cy="17427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23" name=""/>
            <p:cNvSpPr/>
            <p:nvPr/>
          </p:nvSpPr>
          <p:spPr>
            <a:xfrm>
              <a:off x="7250760" y="3556800"/>
              <a:ext cx="349560" cy="174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24" name=""/>
            <p:cNvSpPr/>
            <p:nvPr/>
          </p:nvSpPr>
          <p:spPr>
            <a:xfrm flipV="1">
              <a:off x="7425360" y="3130560"/>
              <a:ext cx="14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25" name=""/>
            <p:cNvSpPr/>
            <p:nvPr/>
          </p:nvSpPr>
          <p:spPr>
            <a:xfrm>
              <a:off x="7359480" y="3130920"/>
              <a:ext cx="13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26" name=""/>
            <p:cNvSpPr/>
            <p:nvPr/>
          </p:nvSpPr>
          <p:spPr>
            <a:xfrm>
              <a:off x="1529640" y="1680480"/>
              <a:ext cx="2981520" cy="349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27" name=""/>
            <p:cNvSpPr/>
            <p:nvPr/>
          </p:nvSpPr>
          <p:spPr>
            <a:xfrm>
              <a:off x="1735560" y="1136880"/>
              <a:ext cx="23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Time open arms</a:t>
              </a:r>
              <a:endParaRPr b="0" lang="en-US" sz="2400" spc="-1" strike="noStrike">
                <a:solidFill>
                  <a:srgbClr val="000000"/>
                </a:solidFill>
                <a:latin typeface="Comic Sans MS"/>
              </a:endParaRPr>
            </a:p>
          </p:txBody>
        </p:sp>
        <p:sp>
          <p:nvSpPr>
            <p:cNvPr id="2628" name=""/>
            <p:cNvSpPr/>
            <p:nvPr/>
          </p:nvSpPr>
          <p:spPr>
            <a:xfrm>
              <a:off x="1529640" y="5173920"/>
              <a:ext cx="298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29" name=""/>
            <p:cNvSpPr/>
            <p:nvPr/>
          </p:nvSpPr>
          <p:spPr>
            <a:xfrm>
              <a:off x="1529640" y="1680480"/>
              <a:ext cx="298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30" name=""/>
            <p:cNvSpPr/>
            <p:nvPr/>
          </p:nvSpPr>
          <p:spPr>
            <a:xfrm flipH="1" rot="16200000">
              <a:off x="179640" y="307584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econds</a:t>
              </a:r>
              <a:endParaRPr b="0" lang="en-US" sz="2000" spc="-1" strike="noStrike">
                <a:solidFill>
                  <a:srgbClr val="000000"/>
                </a:solidFill>
                <a:latin typeface="Comic Sans MS"/>
              </a:endParaRPr>
            </a:p>
          </p:txBody>
        </p:sp>
        <p:sp>
          <p:nvSpPr>
            <p:cNvPr id="2631" name=""/>
            <p:cNvSpPr/>
            <p:nvPr/>
          </p:nvSpPr>
          <p:spPr>
            <a:xfrm flipV="1">
              <a:off x="1529640" y="1680480"/>
              <a:ext cx="2520" cy="34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32" name=""/>
            <p:cNvSpPr/>
            <p:nvPr/>
          </p:nvSpPr>
          <p:spPr>
            <a:xfrm>
              <a:off x="1466640" y="51739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33" name=""/>
            <p:cNvSpPr/>
            <p:nvPr/>
          </p:nvSpPr>
          <p:spPr>
            <a:xfrm>
              <a:off x="1466640" y="482472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34" name=""/>
            <p:cNvSpPr/>
            <p:nvPr/>
          </p:nvSpPr>
          <p:spPr>
            <a:xfrm>
              <a:off x="1466640" y="44737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35" name=""/>
            <p:cNvSpPr/>
            <p:nvPr/>
          </p:nvSpPr>
          <p:spPr>
            <a:xfrm>
              <a:off x="1466640" y="412452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36" name=""/>
            <p:cNvSpPr/>
            <p:nvPr/>
          </p:nvSpPr>
          <p:spPr>
            <a:xfrm>
              <a:off x="1466640" y="377568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37" name=""/>
            <p:cNvSpPr/>
            <p:nvPr/>
          </p:nvSpPr>
          <p:spPr>
            <a:xfrm>
              <a:off x="1466640" y="34261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38" name=""/>
            <p:cNvSpPr/>
            <p:nvPr/>
          </p:nvSpPr>
          <p:spPr>
            <a:xfrm>
              <a:off x="1466640" y="307692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39" name=""/>
            <p:cNvSpPr/>
            <p:nvPr/>
          </p:nvSpPr>
          <p:spPr>
            <a:xfrm>
              <a:off x="1466640" y="272808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40" name=""/>
            <p:cNvSpPr/>
            <p:nvPr/>
          </p:nvSpPr>
          <p:spPr>
            <a:xfrm>
              <a:off x="1466640" y="23785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41" name=""/>
            <p:cNvSpPr/>
            <p:nvPr/>
          </p:nvSpPr>
          <p:spPr>
            <a:xfrm>
              <a:off x="1466640" y="202932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42" name=""/>
            <p:cNvSpPr/>
            <p:nvPr/>
          </p:nvSpPr>
          <p:spPr>
            <a:xfrm>
              <a:off x="1466640" y="168048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43" name=""/>
            <p:cNvSpPr/>
            <p:nvPr/>
          </p:nvSpPr>
          <p:spPr>
            <a:xfrm>
              <a:off x="1198080" y="5040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2644" name=""/>
            <p:cNvSpPr/>
            <p:nvPr/>
          </p:nvSpPr>
          <p:spPr>
            <a:xfrm>
              <a:off x="1198080" y="46911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a:t>
              </a:r>
              <a:endParaRPr b="0" lang="en-US" sz="1800" spc="-1" strike="noStrike">
                <a:solidFill>
                  <a:srgbClr val="000000"/>
                </a:solidFill>
                <a:latin typeface="Comic Sans MS"/>
              </a:endParaRPr>
            </a:p>
          </p:txBody>
        </p:sp>
        <p:sp>
          <p:nvSpPr>
            <p:cNvPr id="2645" name=""/>
            <p:cNvSpPr/>
            <p:nvPr/>
          </p:nvSpPr>
          <p:spPr>
            <a:xfrm>
              <a:off x="1198080" y="43416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a:t>
              </a:r>
              <a:endParaRPr b="0" lang="en-US" sz="1800" spc="-1" strike="noStrike">
                <a:solidFill>
                  <a:srgbClr val="000000"/>
                </a:solidFill>
                <a:latin typeface="Comic Sans MS"/>
              </a:endParaRPr>
            </a:p>
          </p:txBody>
        </p:sp>
        <p:sp>
          <p:nvSpPr>
            <p:cNvPr id="2646" name=""/>
            <p:cNvSpPr/>
            <p:nvPr/>
          </p:nvSpPr>
          <p:spPr>
            <a:xfrm>
              <a:off x="1198080" y="39924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a:t>
              </a:r>
              <a:endParaRPr b="0" lang="en-US" sz="1800" spc="-1" strike="noStrike">
                <a:solidFill>
                  <a:srgbClr val="000000"/>
                </a:solidFill>
                <a:latin typeface="Comic Sans MS"/>
              </a:endParaRPr>
            </a:p>
          </p:txBody>
        </p:sp>
        <p:sp>
          <p:nvSpPr>
            <p:cNvPr id="2647" name=""/>
            <p:cNvSpPr/>
            <p:nvPr/>
          </p:nvSpPr>
          <p:spPr>
            <a:xfrm>
              <a:off x="1198080" y="36432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a:t>
              </a:r>
              <a:endParaRPr b="0" lang="en-US" sz="1800" spc="-1" strike="noStrike">
                <a:solidFill>
                  <a:srgbClr val="000000"/>
                </a:solidFill>
                <a:latin typeface="Comic Sans MS"/>
              </a:endParaRPr>
            </a:p>
          </p:txBody>
        </p:sp>
        <p:sp>
          <p:nvSpPr>
            <p:cNvPr id="2648" name=""/>
            <p:cNvSpPr/>
            <p:nvPr/>
          </p:nvSpPr>
          <p:spPr>
            <a:xfrm>
              <a:off x="1076400" y="32940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a:t>
              </a:r>
              <a:endParaRPr b="0" lang="en-US" sz="1800" spc="-1" strike="noStrike">
                <a:solidFill>
                  <a:srgbClr val="000000"/>
                </a:solidFill>
                <a:latin typeface="Comic Sans MS"/>
              </a:endParaRPr>
            </a:p>
          </p:txBody>
        </p:sp>
        <p:sp>
          <p:nvSpPr>
            <p:cNvPr id="2649" name=""/>
            <p:cNvSpPr/>
            <p:nvPr/>
          </p:nvSpPr>
          <p:spPr>
            <a:xfrm>
              <a:off x="1076400" y="2944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2</a:t>
              </a:r>
              <a:endParaRPr b="0" lang="en-US" sz="1800" spc="-1" strike="noStrike">
                <a:solidFill>
                  <a:srgbClr val="000000"/>
                </a:solidFill>
                <a:latin typeface="Comic Sans MS"/>
              </a:endParaRPr>
            </a:p>
          </p:txBody>
        </p:sp>
        <p:sp>
          <p:nvSpPr>
            <p:cNvPr id="2650" name=""/>
            <p:cNvSpPr/>
            <p:nvPr/>
          </p:nvSpPr>
          <p:spPr>
            <a:xfrm>
              <a:off x="1076400" y="25956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4</a:t>
              </a:r>
              <a:endParaRPr b="0" lang="en-US" sz="1800" spc="-1" strike="noStrike">
                <a:solidFill>
                  <a:srgbClr val="000000"/>
                </a:solidFill>
                <a:latin typeface="Comic Sans MS"/>
              </a:endParaRPr>
            </a:p>
          </p:txBody>
        </p:sp>
        <p:sp>
          <p:nvSpPr>
            <p:cNvPr id="2651" name=""/>
            <p:cNvSpPr/>
            <p:nvPr/>
          </p:nvSpPr>
          <p:spPr>
            <a:xfrm>
              <a:off x="1076400" y="22464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6</a:t>
              </a:r>
              <a:endParaRPr b="0" lang="en-US" sz="1800" spc="-1" strike="noStrike">
                <a:solidFill>
                  <a:srgbClr val="000000"/>
                </a:solidFill>
                <a:latin typeface="Comic Sans MS"/>
              </a:endParaRPr>
            </a:p>
          </p:txBody>
        </p:sp>
        <p:sp>
          <p:nvSpPr>
            <p:cNvPr id="2652" name=""/>
            <p:cNvSpPr/>
            <p:nvPr/>
          </p:nvSpPr>
          <p:spPr>
            <a:xfrm>
              <a:off x="1076400" y="1897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8</a:t>
              </a:r>
              <a:endParaRPr b="0" lang="en-US" sz="1800" spc="-1" strike="noStrike">
                <a:solidFill>
                  <a:srgbClr val="000000"/>
                </a:solidFill>
                <a:latin typeface="Comic Sans MS"/>
              </a:endParaRPr>
            </a:p>
          </p:txBody>
        </p:sp>
        <p:sp>
          <p:nvSpPr>
            <p:cNvPr id="2653" name=""/>
            <p:cNvSpPr/>
            <p:nvPr/>
          </p:nvSpPr>
          <p:spPr>
            <a:xfrm>
              <a:off x="1093320" y="15465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0</a:t>
              </a:r>
              <a:endParaRPr b="0" lang="en-US" sz="1800" spc="-1" strike="noStrike">
                <a:solidFill>
                  <a:srgbClr val="000000"/>
                </a:solidFill>
                <a:latin typeface="Comic Sans MS"/>
              </a:endParaRPr>
            </a:p>
          </p:txBody>
        </p:sp>
        <p:sp>
          <p:nvSpPr>
            <p:cNvPr id="2654" name=""/>
            <p:cNvSpPr/>
            <p:nvPr/>
          </p:nvSpPr>
          <p:spPr>
            <a:xfrm flipV="1">
              <a:off x="4511520" y="1680480"/>
              <a:ext cx="1080" cy="34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55" name=""/>
            <p:cNvSpPr/>
            <p:nvPr/>
          </p:nvSpPr>
          <p:spPr>
            <a:xfrm>
              <a:off x="1748880" y="3426120"/>
              <a:ext cx="349560" cy="1744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56" name=""/>
            <p:cNvSpPr/>
            <p:nvPr/>
          </p:nvSpPr>
          <p:spPr>
            <a:xfrm>
              <a:off x="1748880" y="3560040"/>
              <a:ext cx="349560" cy="174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57" name=""/>
            <p:cNvSpPr/>
            <p:nvPr/>
          </p:nvSpPr>
          <p:spPr>
            <a:xfrm flipV="1">
              <a:off x="1923480" y="2901960"/>
              <a:ext cx="144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58" name=""/>
            <p:cNvSpPr/>
            <p:nvPr/>
          </p:nvSpPr>
          <p:spPr>
            <a:xfrm>
              <a:off x="1858680" y="2902320"/>
              <a:ext cx="130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59" name=""/>
            <p:cNvSpPr/>
            <p:nvPr/>
          </p:nvSpPr>
          <p:spPr>
            <a:xfrm>
              <a:off x="2186640" y="3775680"/>
              <a:ext cx="351000" cy="1395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0" name=""/>
            <p:cNvSpPr/>
            <p:nvPr/>
          </p:nvSpPr>
          <p:spPr>
            <a:xfrm>
              <a:off x="2186640" y="3909240"/>
              <a:ext cx="351000" cy="13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1" name=""/>
            <p:cNvSpPr/>
            <p:nvPr/>
          </p:nvSpPr>
          <p:spPr>
            <a:xfrm flipV="1">
              <a:off x="2361600" y="3251160"/>
              <a:ext cx="10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2" name=""/>
            <p:cNvSpPr/>
            <p:nvPr/>
          </p:nvSpPr>
          <p:spPr>
            <a:xfrm>
              <a:off x="2296800" y="3251520"/>
              <a:ext cx="130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63" name=""/>
            <p:cNvSpPr/>
            <p:nvPr/>
          </p:nvSpPr>
          <p:spPr>
            <a:xfrm>
              <a:off x="2624400" y="4958640"/>
              <a:ext cx="35100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4" name=""/>
            <p:cNvSpPr/>
            <p:nvPr/>
          </p:nvSpPr>
          <p:spPr>
            <a:xfrm>
              <a:off x="3062520" y="3036240"/>
              <a:ext cx="352440" cy="226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5" name=""/>
            <p:cNvSpPr/>
            <p:nvPr/>
          </p:nvSpPr>
          <p:spPr>
            <a:xfrm>
              <a:off x="3500280" y="4650120"/>
              <a:ext cx="352440" cy="5205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6" name=""/>
            <p:cNvSpPr/>
            <p:nvPr/>
          </p:nvSpPr>
          <p:spPr>
            <a:xfrm>
              <a:off x="3500280" y="4784040"/>
              <a:ext cx="3524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7" name=""/>
            <p:cNvSpPr/>
            <p:nvPr/>
          </p:nvSpPr>
          <p:spPr>
            <a:xfrm flipV="1">
              <a:off x="3676680" y="4473360"/>
              <a:ext cx="144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68" name=""/>
            <p:cNvSpPr/>
            <p:nvPr/>
          </p:nvSpPr>
          <p:spPr>
            <a:xfrm>
              <a:off x="3611880" y="4473720"/>
              <a:ext cx="13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69" name=""/>
            <p:cNvSpPr/>
            <p:nvPr/>
          </p:nvSpPr>
          <p:spPr>
            <a:xfrm>
              <a:off x="3939840" y="2728080"/>
              <a:ext cx="351000" cy="24426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0" name=""/>
            <p:cNvSpPr/>
            <p:nvPr/>
          </p:nvSpPr>
          <p:spPr>
            <a:xfrm>
              <a:off x="3939840" y="2861640"/>
              <a:ext cx="351000" cy="244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1" name=""/>
            <p:cNvSpPr/>
            <p:nvPr/>
          </p:nvSpPr>
          <p:spPr>
            <a:xfrm flipV="1">
              <a:off x="4114440" y="2029320"/>
              <a:ext cx="1440" cy="6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2" name=""/>
            <p:cNvSpPr/>
            <p:nvPr/>
          </p:nvSpPr>
          <p:spPr>
            <a:xfrm>
              <a:off x="4050000" y="2029320"/>
              <a:ext cx="132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73" name=""/>
            <p:cNvSpPr/>
            <p:nvPr/>
          </p:nvSpPr>
          <p:spPr>
            <a:xfrm>
              <a:off x="6370200" y="3713400"/>
              <a:ext cx="352800" cy="14522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4" name=""/>
            <p:cNvSpPr/>
            <p:nvPr/>
          </p:nvSpPr>
          <p:spPr>
            <a:xfrm>
              <a:off x="6370200" y="3847320"/>
              <a:ext cx="352800" cy="145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5" name=""/>
            <p:cNvSpPr/>
            <p:nvPr/>
          </p:nvSpPr>
          <p:spPr>
            <a:xfrm flipV="1">
              <a:off x="6548400" y="3422880"/>
              <a:ext cx="108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6" name=""/>
            <p:cNvSpPr/>
            <p:nvPr/>
          </p:nvSpPr>
          <p:spPr>
            <a:xfrm>
              <a:off x="6482160" y="3422880"/>
              <a:ext cx="132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77" name=""/>
            <p:cNvSpPr/>
            <p:nvPr/>
          </p:nvSpPr>
          <p:spPr>
            <a:xfrm>
              <a:off x="3061080" y="4824720"/>
              <a:ext cx="351000" cy="3459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8" name=""/>
            <p:cNvSpPr/>
            <p:nvPr/>
          </p:nvSpPr>
          <p:spPr>
            <a:xfrm flipV="1">
              <a:off x="3235680" y="4649760"/>
              <a:ext cx="288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79" name=""/>
            <p:cNvSpPr/>
            <p:nvPr/>
          </p:nvSpPr>
          <p:spPr>
            <a:xfrm>
              <a:off x="3172680" y="4650120"/>
              <a:ext cx="129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2680" name=""/>
            <p:cNvSpPr/>
            <p:nvPr/>
          </p:nvSpPr>
          <p:spPr>
            <a:xfrm>
              <a:off x="5938560" y="2838960"/>
              <a:ext cx="349560" cy="2326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81" name=""/>
            <p:cNvSpPr/>
            <p:nvPr/>
          </p:nvSpPr>
          <p:spPr>
            <a:xfrm flipV="1">
              <a:off x="6113520" y="2257560"/>
              <a:ext cx="1080" cy="58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82" name=""/>
            <p:cNvSpPr/>
            <p:nvPr/>
          </p:nvSpPr>
          <p:spPr>
            <a:xfrm>
              <a:off x="6047280" y="2257920"/>
              <a:ext cx="13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683" name=""/>
            <p:cNvSpPr/>
            <p:nvPr/>
          </p:nvSpPr>
          <p:spPr>
            <a:xfrm>
              <a:off x="2625840" y="2902320"/>
              <a:ext cx="352800" cy="2268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84" name=""/>
            <p:cNvSpPr/>
            <p:nvPr/>
          </p:nvSpPr>
          <p:spPr>
            <a:xfrm flipV="1">
              <a:off x="2802240" y="2029320"/>
              <a:ext cx="1440" cy="87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85" name=""/>
            <p:cNvSpPr/>
            <p:nvPr/>
          </p:nvSpPr>
          <p:spPr>
            <a:xfrm>
              <a:off x="2737440" y="2029320"/>
              <a:ext cx="130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grpSp>
      <p:sp>
        <p:nvSpPr>
          <p:cNvPr id="2686" name=""/>
          <p:cNvSpPr/>
          <p:nvPr/>
        </p:nvSpPr>
        <p:spPr>
          <a:xfrm>
            <a:off x="300600" y="61088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grpSp>
        <p:nvGrpSpPr>
          <p:cNvPr id="2687" name=""/>
          <p:cNvGrpSpPr/>
          <p:nvPr/>
        </p:nvGrpSpPr>
        <p:grpSpPr>
          <a:xfrm>
            <a:off x="1710360" y="5289840"/>
            <a:ext cx="5903280" cy="585360"/>
            <a:chOff x="1710360" y="5289840"/>
            <a:chExt cx="5903280" cy="585360"/>
          </a:xfrm>
        </p:grpSpPr>
        <p:grpSp>
          <p:nvGrpSpPr>
            <p:cNvPr id="2688" name=""/>
            <p:cNvGrpSpPr/>
            <p:nvPr/>
          </p:nvGrpSpPr>
          <p:grpSpPr>
            <a:xfrm>
              <a:off x="1710360" y="5289840"/>
              <a:ext cx="2550600" cy="585360"/>
              <a:chOff x="1710360" y="5289840"/>
              <a:chExt cx="2550600" cy="585360"/>
            </a:xfrm>
          </p:grpSpPr>
          <p:sp>
            <p:nvSpPr>
              <p:cNvPr id="2689" name=""/>
              <p:cNvSpPr/>
              <p:nvPr/>
            </p:nvSpPr>
            <p:spPr>
              <a:xfrm rot="5410200">
                <a:off x="3372840" y="54349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2690" name=""/>
              <p:cNvSpPr/>
              <p:nvPr/>
            </p:nvSpPr>
            <p:spPr>
              <a:xfrm rot="5427600">
                <a:off x="1674720" y="53276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2691" name=""/>
              <p:cNvSpPr/>
              <p:nvPr/>
            </p:nvSpPr>
            <p:spPr>
              <a:xfrm rot="5421600">
                <a:off x="2120760" y="535284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2692" name=""/>
              <p:cNvSpPr/>
              <p:nvPr/>
            </p:nvSpPr>
            <p:spPr>
              <a:xfrm rot="5408400">
                <a:off x="3855600" y="54111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2693" name=""/>
              <p:cNvSpPr/>
              <p:nvPr/>
            </p:nvSpPr>
            <p:spPr>
              <a:xfrm rot="5416800">
                <a:off x="2945160" y="54255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2694" name=""/>
              <p:cNvSpPr/>
              <p:nvPr/>
            </p:nvSpPr>
            <p:spPr>
              <a:xfrm rot="5412600">
                <a:off x="2572920" y="537840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nvGrpSpPr>
            <p:cNvPr id="2695" name=""/>
            <p:cNvGrpSpPr/>
            <p:nvPr/>
          </p:nvGrpSpPr>
          <p:grpSpPr>
            <a:xfrm>
              <a:off x="5062680" y="5289840"/>
              <a:ext cx="2550960" cy="585360"/>
              <a:chOff x="5062680" y="5289840"/>
              <a:chExt cx="2550960" cy="585360"/>
            </a:xfrm>
          </p:grpSpPr>
          <p:sp>
            <p:nvSpPr>
              <p:cNvPr id="2696" name=""/>
              <p:cNvSpPr/>
              <p:nvPr/>
            </p:nvSpPr>
            <p:spPr>
              <a:xfrm rot="5410200">
                <a:off x="6725520" y="54349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2697" name=""/>
              <p:cNvSpPr/>
              <p:nvPr/>
            </p:nvSpPr>
            <p:spPr>
              <a:xfrm rot="5427600">
                <a:off x="5027040" y="53276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2698" name=""/>
              <p:cNvSpPr/>
              <p:nvPr/>
            </p:nvSpPr>
            <p:spPr>
              <a:xfrm rot="5421600">
                <a:off x="5473800" y="535284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2699" name=""/>
              <p:cNvSpPr/>
              <p:nvPr/>
            </p:nvSpPr>
            <p:spPr>
              <a:xfrm rot="5408400">
                <a:off x="7208280" y="54111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2700" name=""/>
              <p:cNvSpPr/>
              <p:nvPr/>
            </p:nvSpPr>
            <p:spPr>
              <a:xfrm rot="5416800">
                <a:off x="6297840" y="54255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2701" name=""/>
              <p:cNvSpPr/>
              <p:nvPr/>
            </p:nvSpPr>
            <p:spPr>
              <a:xfrm rot="5412600">
                <a:off x="5925240" y="537840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sp>
        <p:nvSpPr>
          <p:cNvPr id="2702" name=""/>
          <p:cNvSpPr/>
          <p:nvPr/>
        </p:nvSpPr>
        <p:spPr>
          <a:xfrm>
            <a:off x="4262760" y="5535720"/>
            <a:ext cx="82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rain</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596C0D87-71B9-498B-AF57-1B9435E7F9D6}" type="datetime1">
              <a:rPr lang="en-US"/>
              <a:t>07/30/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0" name=""/>
          <p:cNvSpPr/>
          <p:nvPr/>
        </p:nvSpPr>
        <p:spPr>
          <a:xfrm>
            <a:off x="0" y="304920"/>
            <a:ext cx="9144000" cy="7617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Psychobiological model of STRESS and adaptation</a:t>
            </a:r>
            <a:endParaRPr b="0" lang="en-US" sz="2800" spc="-1" strike="noStrike">
              <a:solidFill>
                <a:srgbClr val="000000"/>
              </a:solidFill>
              <a:latin typeface="Comic Sans MS"/>
            </a:endParaRPr>
          </a:p>
        </p:txBody>
      </p:sp>
      <p:grpSp>
        <p:nvGrpSpPr>
          <p:cNvPr id="621" name=""/>
          <p:cNvGrpSpPr/>
          <p:nvPr/>
        </p:nvGrpSpPr>
        <p:grpSpPr>
          <a:xfrm>
            <a:off x="968400" y="2717280"/>
            <a:ext cx="7104600" cy="3454920"/>
            <a:chOff x="968400" y="2717280"/>
            <a:chExt cx="7104600" cy="3454920"/>
          </a:xfrm>
        </p:grpSpPr>
        <p:sp>
          <p:nvSpPr>
            <p:cNvPr id="622" name=""/>
            <p:cNvSpPr/>
            <p:nvPr/>
          </p:nvSpPr>
          <p:spPr>
            <a:xfrm>
              <a:off x="1105200" y="5581800"/>
              <a:ext cx="3601800" cy="590400"/>
            </a:xfrm>
            <a:prstGeom prst="rect">
              <a:avLst/>
            </a:prstGeom>
            <a:solidFill>
              <a:srgbClr val="99ff66"/>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23" name=""/>
            <p:cNvSpPr/>
            <p:nvPr/>
          </p:nvSpPr>
          <p:spPr>
            <a:xfrm>
              <a:off x="3413160" y="3524400"/>
              <a:ext cx="2722680" cy="930240"/>
            </a:xfrm>
            <a:prstGeom prst="ellipse">
              <a:avLst/>
            </a:prstGeom>
            <a:solidFill>
              <a:srgbClr val="ccecff"/>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24" name=""/>
            <p:cNvSpPr/>
            <p:nvPr/>
          </p:nvSpPr>
          <p:spPr>
            <a:xfrm>
              <a:off x="3519000" y="3579840"/>
              <a:ext cx="25477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roendocrin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ation</a:t>
              </a:r>
              <a:endParaRPr b="0" lang="en-US" sz="2400" spc="-1" strike="noStrike">
                <a:solidFill>
                  <a:srgbClr val="000000"/>
                </a:solidFill>
                <a:latin typeface="Comic Sans MS"/>
              </a:endParaRPr>
            </a:p>
          </p:txBody>
        </p:sp>
        <p:sp>
          <p:nvSpPr>
            <p:cNvPr id="625" name=""/>
            <p:cNvSpPr/>
            <p:nvPr/>
          </p:nvSpPr>
          <p:spPr>
            <a:xfrm>
              <a:off x="4497480" y="4495680"/>
              <a:ext cx="3575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HPA axis and othe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utonomic nervous system</a:t>
              </a:r>
              <a:endParaRPr b="0" lang="en-US" sz="2000" spc="-1" strike="noStrike">
                <a:solidFill>
                  <a:srgbClr val="000000"/>
                </a:solidFill>
                <a:latin typeface="Comic Sans MS"/>
              </a:endParaRPr>
            </a:p>
          </p:txBody>
        </p:sp>
        <p:grpSp>
          <p:nvGrpSpPr>
            <p:cNvPr id="626" name=""/>
            <p:cNvGrpSpPr/>
            <p:nvPr/>
          </p:nvGrpSpPr>
          <p:grpSpPr>
            <a:xfrm>
              <a:off x="1473480" y="4805280"/>
              <a:ext cx="2866680" cy="739440"/>
              <a:chOff x="1473480" y="4805280"/>
              <a:chExt cx="2866680" cy="739440"/>
            </a:xfrm>
          </p:grpSpPr>
          <p:sp>
            <p:nvSpPr>
              <p:cNvPr id="627" name=""/>
              <p:cNvSpPr/>
              <p:nvPr/>
            </p:nvSpPr>
            <p:spPr>
              <a:xfrm>
                <a:off x="1473480" y="4805280"/>
                <a:ext cx="286668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ergy metabolism</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rdiovascular system</a:t>
                </a:r>
                <a:endParaRPr b="0" lang="en-US" sz="2000" spc="-1" strike="noStrike">
                  <a:solidFill>
                    <a:srgbClr val="000000"/>
                  </a:solidFill>
                  <a:latin typeface="Comic Sans MS"/>
                </a:endParaRPr>
              </a:p>
            </p:txBody>
          </p:sp>
          <p:sp>
            <p:nvSpPr>
              <p:cNvPr id="628" name=""/>
              <p:cNvSpPr/>
              <p:nvPr/>
            </p:nvSpPr>
            <p:spPr>
              <a:xfrm>
                <a:off x="3001320" y="5151240"/>
                <a:ext cx="15984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29" name=""/>
            <p:cNvSpPr/>
            <p:nvPr/>
          </p:nvSpPr>
          <p:spPr>
            <a:xfrm>
              <a:off x="1847160" y="5648400"/>
              <a:ext cx="265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lieu Intérieur"</a:t>
              </a:r>
              <a:endParaRPr b="0" lang="en-US" sz="2400" spc="-1" strike="noStrike">
                <a:solidFill>
                  <a:srgbClr val="000000"/>
                </a:solidFill>
                <a:latin typeface="Comic Sans MS"/>
              </a:endParaRPr>
            </a:p>
          </p:txBody>
        </p:sp>
        <p:sp>
          <p:nvSpPr>
            <p:cNvPr id="630" name=""/>
            <p:cNvSpPr/>
            <p:nvPr/>
          </p:nvSpPr>
          <p:spPr>
            <a:xfrm>
              <a:off x="4410720" y="4413240"/>
              <a:ext cx="0" cy="1133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31" name=""/>
            <p:cNvSpPr/>
            <p:nvPr/>
          </p:nvSpPr>
          <p:spPr>
            <a:xfrm>
              <a:off x="3216960" y="2717280"/>
              <a:ext cx="989640" cy="930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32" name=""/>
            <p:cNvSpPr/>
            <p:nvPr/>
          </p:nvSpPr>
          <p:spPr>
            <a:xfrm>
              <a:off x="968400" y="3679920"/>
              <a:ext cx="975960" cy="1463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nvGrpSpPr>
          <p:cNvPr id="633" name=""/>
          <p:cNvGrpSpPr/>
          <p:nvPr/>
        </p:nvGrpSpPr>
        <p:grpSpPr>
          <a:xfrm>
            <a:off x="619560" y="1405080"/>
            <a:ext cx="8066880" cy="1228680"/>
            <a:chOff x="619560" y="1405080"/>
            <a:chExt cx="8066880" cy="1228680"/>
          </a:xfrm>
        </p:grpSpPr>
        <p:sp>
          <p:nvSpPr>
            <p:cNvPr id="634" name=""/>
            <p:cNvSpPr/>
            <p:nvPr/>
          </p:nvSpPr>
          <p:spPr>
            <a:xfrm>
              <a:off x="619560" y="1405080"/>
              <a:ext cx="3980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nvironmental stimulation</a:t>
              </a:r>
              <a:endParaRPr b="0" lang="en-US" sz="2400" spc="-1" strike="noStrike">
                <a:solidFill>
                  <a:srgbClr val="000000"/>
                </a:solidFill>
                <a:latin typeface="Comic Sans MS"/>
              </a:endParaRPr>
            </a:p>
          </p:txBody>
        </p:sp>
        <p:sp>
          <p:nvSpPr>
            <p:cNvPr id="635" name=""/>
            <p:cNvSpPr/>
            <p:nvPr/>
          </p:nvSpPr>
          <p:spPr>
            <a:xfrm>
              <a:off x="3125160" y="1801800"/>
              <a:ext cx="0" cy="4762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36" name=""/>
            <p:cNvSpPr/>
            <p:nvPr/>
          </p:nvSpPr>
          <p:spPr>
            <a:xfrm>
              <a:off x="2691720" y="2057400"/>
              <a:ext cx="1199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Brain</a:t>
              </a:r>
              <a:endParaRPr b="0" lang="en-US" sz="3200" spc="-1" strike="noStrike">
                <a:solidFill>
                  <a:srgbClr val="000000"/>
                </a:solidFill>
                <a:latin typeface="Comic Sans MS"/>
              </a:endParaRPr>
            </a:p>
          </p:txBody>
        </p:sp>
        <p:sp>
          <p:nvSpPr>
            <p:cNvPr id="637" name=""/>
            <p:cNvSpPr/>
            <p:nvPr/>
          </p:nvSpPr>
          <p:spPr>
            <a:xfrm>
              <a:off x="6973920" y="1430280"/>
              <a:ext cx="1712520" cy="3988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PERCEPTION</a:t>
              </a:r>
              <a:endParaRPr b="0" lang="en-US" sz="2000" spc="-1" strike="noStrike">
                <a:solidFill>
                  <a:srgbClr val="000000"/>
                </a:solidFill>
                <a:latin typeface="Comic Sans MS"/>
              </a:endParaRPr>
            </a:p>
          </p:txBody>
        </p:sp>
      </p:grpSp>
      <p:grpSp>
        <p:nvGrpSpPr>
          <p:cNvPr id="638" name=""/>
          <p:cNvGrpSpPr/>
          <p:nvPr/>
        </p:nvGrpSpPr>
        <p:grpSpPr>
          <a:xfrm>
            <a:off x="1821960" y="2195640"/>
            <a:ext cx="6961680" cy="1217520"/>
            <a:chOff x="1821960" y="2195640"/>
            <a:chExt cx="6961680" cy="1217520"/>
          </a:xfrm>
        </p:grpSpPr>
        <p:grpSp>
          <p:nvGrpSpPr>
            <p:cNvPr id="639" name=""/>
            <p:cNvGrpSpPr/>
            <p:nvPr/>
          </p:nvGrpSpPr>
          <p:grpSpPr>
            <a:xfrm>
              <a:off x="1821960" y="2195640"/>
              <a:ext cx="3026160" cy="1217520"/>
              <a:chOff x="1821960" y="2195640"/>
              <a:chExt cx="3026160" cy="1217520"/>
            </a:xfrm>
          </p:grpSpPr>
          <p:grpSp>
            <p:nvGrpSpPr>
              <p:cNvPr id="640" name=""/>
              <p:cNvGrpSpPr/>
              <p:nvPr/>
            </p:nvGrpSpPr>
            <p:grpSpPr>
              <a:xfrm>
                <a:off x="2392560" y="2408400"/>
                <a:ext cx="1726560" cy="1004760"/>
                <a:chOff x="2392560" y="2408400"/>
                <a:chExt cx="1726560" cy="1004760"/>
              </a:xfrm>
            </p:grpSpPr>
            <p:sp>
              <p:nvSpPr>
                <p:cNvPr id="641" name=""/>
                <p:cNvSpPr/>
                <p:nvPr/>
              </p:nvSpPr>
              <p:spPr>
                <a:xfrm>
                  <a:off x="2392560" y="2408400"/>
                  <a:ext cx="987120" cy="100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42" name=""/>
                <p:cNvSpPr/>
                <p:nvPr/>
              </p:nvSpPr>
              <p:spPr>
                <a:xfrm>
                  <a:off x="3132000" y="2408400"/>
                  <a:ext cx="987120" cy="100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643" name=""/>
              <p:cNvSpPr/>
              <p:nvPr/>
            </p:nvSpPr>
            <p:spPr>
              <a:xfrm>
                <a:off x="3273480" y="2266920"/>
                <a:ext cx="64620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00"/>
                  </a:solidFill>
                  <a:latin typeface="Comic Sans MS"/>
                </a:endParaRPr>
              </a:p>
            </p:txBody>
          </p:sp>
          <p:sp>
            <p:nvSpPr>
              <p:cNvPr id="644" name=""/>
              <p:cNvSpPr/>
              <p:nvPr/>
            </p:nvSpPr>
            <p:spPr>
              <a:xfrm>
                <a:off x="2554560" y="2195640"/>
                <a:ext cx="59904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00"/>
                  </a:solidFill>
                  <a:latin typeface="Comic Sans MS"/>
                </a:endParaRPr>
              </a:p>
            </p:txBody>
          </p:sp>
          <p:sp>
            <p:nvSpPr>
              <p:cNvPr id="645" name=""/>
              <p:cNvSpPr/>
              <p:nvPr/>
            </p:nvSpPr>
            <p:spPr>
              <a:xfrm>
                <a:off x="1821960" y="2868480"/>
                <a:ext cx="302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sychology - Physiology</a:t>
                </a:r>
                <a:endParaRPr b="0" lang="en-US" sz="2000" spc="-1" strike="noStrike">
                  <a:solidFill>
                    <a:srgbClr val="000000"/>
                  </a:solidFill>
                  <a:latin typeface="Comic Sans MS"/>
                </a:endParaRPr>
              </a:p>
            </p:txBody>
          </p:sp>
        </p:grpSp>
        <p:sp>
          <p:nvSpPr>
            <p:cNvPr id="646" name=""/>
            <p:cNvSpPr/>
            <p:nvPr/>
          </p:nvSpPr>
          <p:spPr>
            <a:xfrm>
              <a:off x="6911280" y="2627280"/>
              <a:ext cx="1872360" cy="3988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INTEGRATION</a:t>
              </a:r>
              <a:endParaRPr b="0" lang="en-US" sz="2000" spc="-1" strike="noStrike">
                <a:solidFill>
                  <a:srgbClr val="000000"/>
                </a:solidFill>
                <a:latin typeface="Comic Sans MS"/>
              </a:endParaRPr>
            </a:p>
          </p:txBody>
        </p:sp>
      </p:grpSp>
      <p:grpSp>
        <p:nvGrpSpPr>
          <p:cNvPr id="647" name=""/>
          <p:cNvGrpSpPr/>
          <p:nvPr/>
        </p:nvGrpSpPr>
        <p:grpSpPr>
          <a:xfrm>
            <a:off x="577800" y="1866960"/>
            <a:ext cx="7785000" cy="2590920"/>
            <a:chOff x="577800" y="1866960"/>
            <a:chExt cx="7785000" cy="2590920"/>
          </a:xfrm>
        </p:grpSpPr>
        <p:sp>
          <p:nvSpPr>
            <p:cNvPr id="648" name=""/>
            <p:cNvSpPr/>
            <p:nvPr/>
          </p:nvSpPr>
          <p:spPr>
            <a:xfrm>
              <a:off x="577800" y="3521160"/>
              <a:ext cx="2370240" cy="936720"/>
            </a:xfrm>
            <a:prstGeom prst="ellipse">
              <a:avLst/>
            </a:prstGeom>
            <a:solidFill>
              <a:srgbClr val="ccecff"/>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49" name=""/>
            <p:cNvSpPr/>
            <p:nvPr/>
          </p:nvSpPr>
          <p:spPr>
            <a:xfrm>
              <a:off x="755280" y="3581280"/>
              <a:ext cx="19753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Behavioura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djustments</a:t>
              </a:r>
              <a:endParaRPr b="0" lang="en-US" sz="2400" spc="-1" strike="noStrike">
                <a:solidFill>
                  <a:srgbClr val="000000"/>
                </a:solidFill>
                <a:latin typeface="Comic Sans MS"/>
              </a:endParaRPr>
            </a:p>
          </p:txBody>
        </p:sp>
        <p:sp>
          <p:nvSpPr>
            <p:cNvPr id="650" name=""/>
            <p:cNvSpPr/>
            <p:nvPr/>
          </p:nvSpPr>
          <p:spPr>
            <a:xfrm flipV="1">
              <a:off x="992160" y="1866960"/>
              <a:ext cx="0" cy="16653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51" name=""/>
            <p:cNvSpPr/>
            <p:nvPr/>
          </p:nvSpPr>
          <p:spPr>
            <a:xfrm>
              <a:off x="2202120" y="2717280"/>
              <a:ext cx="989640" cy="930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52" name=""/>
            <p:cNvSpPr/>
            <p:nvPr/>
          </p:nvSpPr>
          <p:spPr>
            <a:xfrm>
              <a:off x="1113480" y="2795760"/>
              <a:ext cx="2209320" cy="1599480"/>
            </a:xfrm>
            <a:custGeom>
              <a:avLst/>
              <a:gdLst/>
              <a:ahLst/>
              <a:rect l="l" t="t" r="r" b="b"/>
              <a:pathLst>
                <a:path stroke="0" w="21600" h="21600">
                  <a:moveTo>
                    <a:pt x="0" y="10800"/>
                  </a:moveTo>
                  <a:arcTo wR="10800" hR="10800" stAng="10800000" swAng="5395288"/>
                  <a:lnTo>
                    <a:pt x="10800" y="10800"/>
                  </a:lnTo>
                  <a:close/>
                </a:path>
                <a:path fill="none" w="21600" h="21600">
                  <a:moveTo>
                    <a:pt x="0" y="10800"/>
                  </a:moveTo>
                  <a:arcTo wR="10800" hR="10800" stAng="10800000" swAng="5395288"/>
                </a:path>
              </a:pathLst>
            </a:custGeom>
            <a:noFill/>
            <a:ln cap="rnd"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53" name=""/>
            <p:cNvSpPr/>
            <p:nvPr/>
          </p:nvSpPr>
          <p:spPr>
            <a:xfrm>
              <a:off x="7237080" y="3825720"/>
              <a:ext cx="1125720" cy="3988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ACTION</a:t>
              </a:r>
              <a:endParaRPr b="0" lang="en-US" sz="2000" spc="-1" strike="noStrike">
                <a:solidFill>
                  <a:srgbClr val="000000"/>
                </a:solidFill>
                <a:latin typeface="Comic Sans MS"/>
              </a:endParaRPr>
            </a:p>
          </p:txBody>
        </p:sp>
      </p:grpSp>
      <p:grpSp>
        <p:nvGrpSpPr>
          <p:cNvPr id="654" name=""/>
          <p:cNvGrpSpPr/>
          <p:nvPr/>
        </p:nvGrpSpPr>
        <p:grpSpPr>
          <a:xfrm>
            <a:off x="2884680" y="2778120"/>
            <a:ext cx="6023880" cy="3254760"/>
            <a:chOff x="2884680" y="2778120"/>
            <a:chExt cx="6023880" cy="3254760"/>
          </a:xfrm>
        </p:grpSpPr>
        <p:sp>
          <p:nvSpPr>
            <p:cNvPr id="655" name=""/>
            <p:cNvSpPr/>
            <p:nvPr/>
          </p:nvSpPr>
          <p:spPr>
            <a:xfrm>
              <a:off x="6162120" y="5334120"/>
              <a:ext cx="27464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ther target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g. immune system)</a:t>
              </a:r>
              <a:endParaRPr b="0" lang="en-US" sz="2000" spc="-1" strike="noStrike">
                <a:solidFill>
                  <a:srgbClr val="000000"/>
                </a:solidFill>
                <a:latin typeface="Comic Sans MS"/>
              </a:endParaRPr>
            </a:p>
          </p:txBody>
        </p:sp>
        <p:sp>
          <p:nvSpPr>
            <p:cNvPr id="656" name=""/>
            <p:cNvSpPr/>
            <p:nvPr/>
          </p:nvSpPr>
          <p:spPr>
            <a:xfrm>
              <a:off x="2884680" y="2778120"/>
              <a:ext cx="2542320" cy="1330200"/>
            </a:xfrm>
            <a:custGeom>
              <a:avLst/>
              <a:gdLst/>
              <a:ahLst/>
              <a:rect l="l" t="t" r="r" b="b"/>
              <a:pathLst>
                <a:path stroke="0" w="21600" h="21600">
                  <a:moveTo>
                    <a:pt x="10787" y="0"/>
                  </a:moveTo>
                  <a:arcTo wR="10800" hR="10800" stAng="-5404085" swAng="5404085"/>
                  <a:lnTo>
                    <a:pt x="10800" y="10800"/>
                  </a:lnTo>
                  <a:close/>
                </a:path>
                <a:path fill="none" w="21600" h="21600">
                  <a:moveTo>
                    <a:pt x="10787" y="0"/>
                  </a:moveTo>
                  <a:arcTo wR="10800" hR="10800" stAng="-5404085" swAng="5404085"/>
                </a:path>
              </a:pathLst>
            </a:custGeom>
            <a:noFill/>
            <a:ln cap="rnd"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57" name=""/>
            <p:cNvSpPr/>
            <p:nvPr/>
          </p:nvSpPr>
          <p:spPr>
            <a:xfrm>
              <a:off x="5871960" y="4275000"/>
              <a:ext cx="1402560" cy="10461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0E27AC5-925B-46A1-BB37-147027C662A8}"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3"/>
                                        </p:tgtEl>
                                        <p:attrNameLst>
                                          <p:attrName>style.visibility</p:attrName>
                                        </p:attrNameLst>
                                      </p:cBhvr>
                                      <p:to>
                                        <p:strVal val="visible"/>
                                      </p:to>
                                    </p:set>
                                    <p:animEffect filter="wipe(left)" transition="in">
                                      <p:cBhvr additive="repl">
                                        <p:cTn id="7" dur="500"/>
                                        <p:tgtEl>
                                          <p:spTgt spid="6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38"/>
                                        </p:tgtEl>
                                        <p:attrNameLst>
                                          <p:attrName>style.visibility</p:attrName>
                                        </p:attrNameLst>
                                      </p:cBhvr>
                                      <p:to>
                                        <p:strVal val="visible"/>
                                      </p:to>
                                    </p:set>
                                    <p:animEffect filter="wipe(left)" transition="in">
                                      <p:cBhvr additive="repl">
                                        <p:cTn id="12" dur="500"/>
                                        <p:tgtEl>
                                          <p:spTgt spid="6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47"/>
                                        </p:tgtEl>
                                        <p:attrNameLst>
                                          <p:attrName>style.visibility</p:attrName>
                                        </p:attrNameLst>
                                      </p:cBhvr>
                                      <p:to>
                                        <p:strVal val="visible"/>
                                      </p:to>
                                    </p:set>
                                    <p:animEffect filter="wipe(left)" transition="in">
                                      <p:cBhvr additive="repl">
                                        <p:cTn id="17" dur="500"/>
                                        <p:tgtEl>
                                          <p:spTgt spid="6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21"/>
                                        </p:tgtEl>
                                        <p:attrNameLst>
                                          <p:attrName>style.visibility</p:attrName>
                                        </p:attrNameLst>
                                      </p:cBhvr>
                                      <p:to>
                                        <p:strVal val="visible"/>
                                      </p:to>
                                    </p:set>
                                    <p:animEffect filter="wipe(up)" transition="in">
                                      <p:cBhvr additive="repl">
                                        <p:cTn id="22" dur="500"/>
                                        <p:tgtEl>
                                          <p:spTgt spid="6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4"/>
                                        </p:tgtEl>
                                        <p:attrNameLst>
                                          <p:attrName>style.visibility</p:attrName>
                                        </p:attrNameLst>
                                      </p:cBhvr>
                                      <p:to>
                                        <p:strVal val="visible"/>
                                      </p:to>
                                    </p:set>
                                    <p:animEffect filter="wipe(left)" transition="in">
                                      <p:cBhvr additive="repl">
                                        <p:cTn id="27"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3" name=""/>
          <p:cNvSpPr/>
          <p:nvPr/>
        </p:nvSpPr>
        <p:spPr>
          <a:xfrm>
            <a:off x="695160" y="1549440"/>
            <a:ext cx="1396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Factors</a:t>
            </a:r>
            <a:endParaRPr b="0" lang="en-US" sz="2800" spc="-1" strike="noStrike">
              <a:solidFill>
                <a:srgbClr val="000000"/>
              </a:solidFill>
              <a:latin typeface="Comic Sans MS"/>
            </a:endParaRPr>
          </a:p>
        </p:txBody>
      </p:sp>
      <p:sp>
        <p:nvSpPr>
          <p:cNvPr id="2704" name=""/>
          <p:cNvSpPr/>
          <p:nvPr/>
        </p:nvSpPr>
        <p:spPr>
          <a:xfrm>
            <a:off x="355392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1</a:t>
            </a:r>
            <a:endParaRPr b="0" lang="en-US" sz="2800" spc="-1" strike="noStrike">
              <a:solidFill>
                <a:srgbClr val="000000"/>
              </a:solidFill>
              <a:latin typeface="Comic Sans MS"/>
            </a:endParaRPr>
          </a:p>
        </p:txBody>
      </p:sp>
      <p:sp>
        <p:nvSpPr>
          <p:cNvPr id="2705" name=""/>
          <p:cNvSpPr/>
          <p:nvPr/>
        </p:nvSpPr>
        <p:spPr>
          <a:xfrm>
            <a:off x="506808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2</a:t>
            </a:r>
            <a:endParaRPr b="0" lang="en-US" sz="2800" spc="-1" strike="noStrike">
              <a:solidFill>
                <a:srgbClr val="000000"/>
              </a:solidFill>
              <a:latin typeface="Comic Sans MS"/>
            </a:endParaRPr>
          </a:p>
        </p:txBody>
      </p:sp>
      <p:sp>
        <p:nvSpPr>
          <p:cNvPr id="2706" name=""/>
          <p:cNvSpPr/>
          <p:nvPr/>
        </p:nvSpPr>
        <p:spPr>
          <a:xfrm>
            <a:off x="655416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3</a:t>
            </a:r>
            <a:endParaRPr b="0" lang="en-US" sz="2800" spc="-1" strike="noStrike">
              <a:solidFill>
                <a:srgbClr val="000000"/>
              </a:solidFill>
              <a:latin typeface="Comic Sans MS"/>
            </a:endParaRPr>
          </a:p>
        </p:txBody>
      </p:sp>
      <p:sp>
        <p:nvSpPr>
          <p:cNvPr id="2707" name=""/>
          <p:cNvSpPr/>
          <p:nvPr/>
        </p:nvSpPr>
        <p:spPr>
          <a:xfrm>
            <a:off x="803988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4</a:t>
            </a:r>
            <a:endParaRPr b="0" lang="en-US" sz="2800" spc="-1" strike="noStrike">
              <a:solidFill>
                <a:srgbClr val="000000"/>
              </a:solidFill>
              <a:latin typeface="Comic Sans MS"/>
            </a:endParaRPr>
          </a:p>
        </p:txBody>
      </p:sp>
      <p:sp>
        <p:nvSpPr>
          <p:cNvPr id="2708" name=""/>
          <p:cNvSpPr/>
          <p:nvPr/>
        </p:nvSpPr>
        <p:spPr>
          <a:xfrm>
            <a:off x="677880" y="2227320"/>
            <a:ext cx="1670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Total entries</a:t>
            </a:r>
            <a:endParaRPr b="0" lang="en-US" sz="2000" spc="-1" strike="noStrike">
              <a:solidFill>
                <a:srgbClr val="000000"/>
              </a:solidFill>
              <a:latin typeface="Comic Sans MS"/>
            </a:endParaRPr>
          </a:p>
        </p:txBody>
      </p:sp>
      <p:sp>
        <p:nvSpPr>
          <p:cNvPr id="2709" name=""/>
          <p:cNvSpPr/>
          <p:nvPr/>
        </p:nvSpPr>
        <p:spPr>
          <a:xfrm>
            <a:off x="3436920" y="22273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60</a:t>
            </a:r>
            <a:endParaRPr b="0" lang="en-US" sz="2000" spc="-1" strike="noStrike">
              <a:solidFill>
                <a:srgbClr val="000000"/>
              </a:solidFill>
              <a:latin typeface="Comic Sans MS"/>
            </a:endParaRPr>
          </a:p>
        </p:txBody>
      </p:sp>
      <p:sp>
        <p:nvSpPr>
          <p:cNvPr id="2710" name=""/>
          <p:cNvSpPr/>
          <p:nvPr/>
        </p:nvSpPr>
        <p:spPr>
          <a:xfrm>
            <a:off x="4923000" y="22273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82</a:t>
            </a:r>
            <a:endParaRPr b="0" lang="en-US" sz="2000" spc="-1" strike="noStrike">
              <a:solidFill>
                <a:srgbClr val="000000"/>
              </a:solidFill>
              <a:latin typeface="Comic Sans MS"/>
            </a:endParaRPr>
          </a:p>
        </p:txBody>
      </p:sp>
      <p:sp>
        <p:nvSpPr>
          <p:cNvPr id="2711" name=""/>
          <p:cNvSpPr/>
          <p:nvPr/>
        </p:nvSpPr>
        <p:spPr>
          <a:xfrm>
            <a:off x="639360" y="2523960"/>
            <a:ext cx="1274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No. open</a:t>
            </a:r>
            <a:endParaRPr b="0" lang="en-US" sz="2000" spc="-1" strike="noStrike">
              <a:solidFill>
                <a:srgbClr val="000000"/>
              </a:solidFill>
              <a:latin typeface="Comic Sans MS"/>
            </a:endParaRPr>
          </a:p>
        </p:txBody>
      </p:sp>
      <p:sp>
        <p:nvSpPr>
          <p:cNvPr id="2712" name=""/>
          <p:cNvSpPr/>
          <p:nvPr/>
        </p:nvSpPr>
        <p:spPr>
          <a:xfrm>
            <a:off x="3418560" y="252396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81</a:t>
            </a:r>
            <a:endParaRPr b="0" lang="en-US" sz="2000" spc="-1" strike="noStrike">
              <a:solidFill>
                <a:srgbClr val="000000"/>
              </a:solidFill>
              <a:latin typeface="Comic Sans MS"/>
            </a:endParaRPr>
          </a:p>
        </p:txBody>
      </p:sp>
      <p:sp>
        <p:nvSpPr>
          <p:cNvPr id="2713" name=""/>
          <p:cNvSpPr/>
          <p:nvPr/>
        </p:nvSpPr>
        <p:spPr>
          <a:xfrm>
            <a:off x="4923000" y="252396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47</a:t>
            </a:r>
            <a:endParaRPr b="0" lang="en-US" sz="2000" spc="-1" strike="noStrike">
              <a:solidFill>
                <a:srgbClr val="000000"/>
              </a:solidFill>
              <a:latin typeface="Comic Sans MS"/>
            </a:endParaRPr>
          </a:p>
        </p:txBody>
      </p:sp>
      <p:sp>
        <p:nvSpPr>
          <p:cNvPr id="2714" name=""/>
          <p:cNvSpPr/>
          <p:nvPr/>
        </p:nvSpPr>
        <p:spPr>
          <a:xfrm>
            <a:off x="622800" y="2822400"/>
            <a:ext cx="1807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No. enclosed</a:t>
            </a:r>
            <a:endParaRPr b="0" lang="en-US" sz="2000" spc="-1" strike="noStrike">
              <a:solidFill>
                <a:srgbClr val="000000"/>
              </a:solidFill>
              <a:latin typeface="Comic Sans MS"/>
            </a:endParaRPr>
          </a:p>
        </p:txBody>
      </p:sp>
      <p:sp>
        <p:nvSpPr>
          <p:cNvPr id="2715" name=""/>
          <p:cNvSpPr/>
          <p:nvPr/>
        </p:nvSpPr>
        <p:spPr>
          <a:xfrm>
            <a:off x="4941360" y="2822400"/>
            <a:ext cx="69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96</a:t>
            </a:r>
            <a:endParaRPr b="0" lang="en-US" sz="2000" spc="-1" strike="noStrike">
              <a:solidFill>
                <a:srgbClr val="000000"/>
              </a:solidFill>
              <a:latin typeface="Comic Sans MS"/>
            </a:endParaRPr>
          </a:p>
        </p:txBody>
      </p:sp>
      <p:sp>
        <p:nvSpPr>
          <p:cNvPr id="2716" name=""/>
          <p:cNvSpPr/>
          <p:nvPr/>
        </p:nvSpPr>
        <p:spPr>
          <a:xfrm>
            <a:off x="619920" y="3119400"/>
            <a:ext cx="151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Time open</a:t>
            </a:r>
            <a:endParaRPr b="0" lang="en-US" sz="2000" spc="-1" strike="noStrike">
              <a:solidFill>
                <a:srgbClr val="000000"/>
              </a:solidFill>
              <a:latin typeface="Comic Sans MS"/>
            </a:endParaRPr>
          </a:p>
        </p:txBody>
      </p:sp>
      <p:sp>
        <p:nvSpPr>
          <p:cNvPr id="2717" name=""/>
          <p:cNvSpPr/>
          <p:nvPr/>
        </p:nvSpPr>
        <p:spPr>
          <a:xfrm>
            <a:off x="3455280" y="3119400"/>
            <a:ext cx="69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96</a:t>
            </a:r>
            <a:endParaRPr b="0" lang="en-US" sz="2000" spc="-1" strike="noStrike">
              <a:solidFill>
                <a:srgbClr val="000000"/>
              </a:solidFill>
              <a:latin typeface="Comic Sans MS"/>
            </a:endParaRPr>
          </a:p>
        </p:txBody>
      </p:sp>
      <p:sp>
        <p:nvSpPr>
          <p:cNvPr id="2718" name=""/>
          <p:cNvSpPr/>
          <p:nvPr/>
        </p:nvSpPr>
        <p:spPr>
          <a:xfrm>
            <a:off x="619200" y="3416400"/>
            <a:ext cx="1899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Time enclosed</a:t>
            </a:r>
            <a:endParaRPr b="0" lang="en-US" sz="2000" spc="-1" strike="noStrike">
              <a:solidFill>
                <a:srgbClr val="000000"/>
              </a:solidFill>
              <a:latin typeface="Comic Sans MS"/>
            </a:endParaRPr>
          </a:p>
        </p:txBody>
      </p:sp>
      <p:sp>
        <p:nvSpPr>
          <p:cNvPr id="2719" name=""/>
          <p:cNvSpPr/>
          <p:nvPr/>
        </p:nvSpPr>
        <p:spPr>
          <a:xfrm>
            <a:off x="3407040" y="341640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0.90</a:t>
            </a:r>
            <a:endParaRPr b="0" lang="en-US" sz="2000" spc="-1" strike="noStrike">
              <a:solidFill>
                <a:srgbClr val="000000"/>
              </a:solidFill>
              <a:latin typeface="Comic Sans MS"/>
            </a:endParaRPr>
          </a:p>
        </p:txBody>
      </p:sp>
      <p:sp>
        <p:nvSpPr>
          <p:cNvPr id="2720" name=""/>
          <p:cNvSpPr/>
          <p:nvPr/>
        </p:nvSpPr>
        <p:spPr>
          <a:xfrm>
            <a:off x="633240" y="3714840"/>
            <a:ext cx="1699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Time center</a:t>
            </a:r>
            <a:endParaRPr b="0" lang="en-US" sz="2000" spc="-1" strike="noStrike">
              <a:solidFill>
                <a:srgbClr val="000000"/>
              </a:solidFill>
              <a:latin typeface="Comic Sans MS"/>
            </a:endParaRPr>
          </a:p>
        </p:txBody>
      </p:sp>
      <p:sp>
        <p:nvSpPr>
          <p:cNvPr id="2721" name=""/>
          <p:cNvSpPr/>
          <p:nvPr/>
        </p:nvSpPr>
        <p:spPr>
          <a:xfrm>
            <a:off x="6428880" y="3714840"/>
            <a:ext cx="69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94</a:t>
            </a:r>
            <a:endParaRPr b="0" lang="en-US" sz="2000" spc="-1" strike="noStrike">
              <a:solidFill>
                <a:srgbClr val="000000"/>
              </a:solidFill>
              <a:latin typeface="Comic Sans MS"/>
            </a:endParaRPr>
          </a:p>
        </p:txBody>
      </p:sp>
      <p:sp>
        <p:nvSpPr>
          <p:cNvPr id="2722" name=""/>
          <p:cNvSpPr/>
          <p:nvPr/>
        </p:nvSpPr>
        <p:spPr>
          <a:xfrm>
            <a:off x="647640" y="4011480"/>
            <a:ext cx="1280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Scanning</a:t>
            </a:r>
            <a:endParaRPr b="0" lang="en-US" sz="2000" spc="-1" strike="noStrike">
              <a:solidFill>
                <a:srgbClr val="000000"/>
              </a:solidFill>
              <a:latin typeface="Comic Sans MS"/>
            </a:endParaRPr>
          </a:p>
        </p:txBody>
      </p:sp>
      <p:sp>
        <p:nvSpPr>
          <p:cNvPr id="2723" name=""/>
          <p:cNvSpPr/>
          <p:nvPr/>
        </p:nvSpPr>
        <p:spPr>
          <a:xfrm>
            <a:off x="3436920" y="401148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85</a:t>
            </a:r>
            <a:endParaRPr b="0" lang="en-US" sz="2000" spc="-1" strike="noStrike">
              <a:solidFill>
                <a:srgbClr val="000000"/>
              </a:solidFill>
              <a:latin typeface="Comic Sans MS"/>
            </a:endParaRPr>
          </a:p>
        </p:txBody>
      </p:sp>
      <p:sp>
        <p:nvSpPr>
          <p:cNvPr id="2724" name=""/>
          <p:cNvSpPr/>
          <p:nvPr/>
        </p:nvSpPr>
        <p:spPr>
          <a:xfrm>
            <a:off x="622800" y="430848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End-exploring</a:t>
            </a:r>
            <a:endParaRPr b="0" lang="en-US" sz="2000" spc="-1" strike="noStrike">
              <a:solidFill>
                <a:srgbClr val="000000"/>
              </a:solidFill>
              <a:latin typeface="Comic Sans MS"/>
            </a:endParaRPr>
          </a:p>
        </p:txBody>
      </p:sp>
      <p:sp>
        <p:nvSpPr>
          <p:cNvPr id="2725" name=""/>
          <p:cNvSpPr/>
          <p:nvPr/>
        </p:nvSpPr>
        <p:spPr>
          <a:xfrm>
            <a:off x="3436920" y="430848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74</a:t>
            </a:r>
            <a:endParaRPr b="0" lang="en-US" sz="2000" spc="-1" strike="noStrike">
              <a:solidFill>
                <a:srgbClr val="000000"/>
              </a:solidFill>
              <a:latin typeface="Comic Sans MS"/>
            </a:endParaRPr>
          </a:p>
        </p:txBody>
      </p:sp>
      <p:sp>
        <p:nvSpPr>
          <p:cNvPr id="2726" name=""/>
          <p:cNvSpPr/>
          <p:nvPr/>
        </p:nvSpPr>
        <p:spPr>
          <a:xfrm>
            <a:off x="617040" y="4606920"/>
            <a:ext cx="2148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Risk-assessment</a:t>
            </a:r>
            <a:endParaRPr b="0" lang="en-US" sz="2000" spc="-1" strike="noStrike">
              <a:solidFill>
                <a:srgbClr val="000000"/>
              </a:solidFill>
              <a:latin typeface="Comic Sans MS"/>
            </a:endParaRPr>
          </a:p>
        </p:txBody>
      </p:sp>
      <p:sp>
        <p:nvSpPr>
          <p:cNvPr id="2727" name=""/>
          <p:cNvSpPr/>
          <p:nvPr/>
        </p:nvSpPr>
        <p:spPr>
          <a:xfrm>
            <a:off x="3407040" y="460692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60</a:t>
            </a:r>
            <a:endParaRPr b="0" lang="en-US" sz="2000" spc="-1" strike="noStrike">
              <a:solidFill>
                <a:srgbClr val="000000"/>
              </a:solidFill>
              <a:latin typeface="Comic Sans MS"/>
            </a:endParaRPr>
          </a:p>
        </p:txBody>
      </p:sp>
      <p:sp>
        <p:nvSpPr>
          <p:cNvPr id="2728" name=""/>
          <p:cNvSpPr/>
          <p:nvPr/>
        </p:nvSpPr>
        <p:spPr>
          <a:xfrm>
            <a:off x="6382080" y="460692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47</a:t>
            </a:r>
            <a:endParaRPr b="0" lang="en-US" sz="2000" spc="-1" strike="noStrike">
              <a:solidFill>
                <a:srgbClr val="000000"/>
              </a:solidFill>
              <a:latin typeface="Comic Sans MS"/>
            </a:endParaRPr>
          </a:p>
        </p:txBody>
      </p:sp>
      <p:sp>
        <p:nvSpPr>
          <p:cNvPr id="2729" name=""/>
          <p:cNvSpPr/>
          <p:nvPr/>
        </p:nvSpPr>
        <p:spPr>
          <a:xfrm>
            <a:off x="7867800" y="460692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60</a:t>
            </a:r>
            <a:endParaRPr b="0" lang="en-US" sz="2000" spc="-1" strike="noStrike">
              <a:solidFill>
                <a:srgbClr val="000000"/>
              </a:solidFill>
              <a:latin typeface="Comic Sans MS"/>
            </a:endParaRPr>
          </a:p>
        </p:txBody>
      </p:sp>
      <p:sp>
        <p:nvSpPr>
          <p:cNvPr id="2730" name=""/>
          <p:cNvSpPr/>
          <p:nvPr/>
        </p:nvSpPr>
        <p:spPr>
          <a:xfrm>
            <a:off x="664560" y="4903920"/>
            <a:ext cx="1110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Rearing</a:t>
            </a:r>
            <a:endParaRPr b="0" lang="en-US" sz="2000" spc="-1" strike="noStrike">
              <a:solidFill>
                <a:srgbClr val="000000"/>
              </a:solidFill>
              <a:latin typeface="Comic Sans MS"/>
            </a:endParaRPr>
          </a:p>
        </p:txBody>
      </p:sp>
      <p:sp>
        <p:nvSpPr>
          <p:cNvPr id="2731" name=""/>
          <p:cNvSpPr/>
          <p:nvPr/>
        </p:nvSpPr>
        <p:spPr>
          <a:xfrm>
            <a:off x="4904640" y="49039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71</a:t>
            </a:r>
            <a:endParaRPr b="0" lang="en-US" sz="2000" spc="-1" strike="noStrike">
              <a:solidFill>
                <a:srgbClr val="000000"/>
              </a:solidFill>
              <a:latin typeface="Comic Sans MS"/>
            </a:endParaRPr>
          </a:p>
        </p:txBody>
      </p:sp>
      <p:sp>
        <p:nvSpPr>
          <p:cNvPr id="2732" name=""/>
          <p:cNvSpPr/>
          <p:nvPr/>
        </p:nvSpPr>
        <p:spPr>
          <a:xfrm>
            <a:off x="604080" y="5202360"/>
            <a:ext cx="197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Self-grooming</a:t>
            </a:r>
            <a:endParaRPr b="0" lang="en-US" sz="2000" spc="-1" strike="noStrike">
              <a:solidFill>
                <a:srgbClr val="000000"/>
              </a:solidFill>
              <a:latin typeface="Comic Sans MS"/>
            </a:endParaRPr>
          </a:p>
        </p:txBody>
      </p:sp>
      <p:sp>
        <p:nvSpPr>
          <p:cNvPr id="2733" name=""/>
          <p:cNvSpPr/>
          <p:nvPr/>
        </p:nvSpPr>
        <p:spPr>
          <a:xfrm>
            <a:off x="7907400" y="5202360"/>
            <a:ext cx="775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81</a:t>
            </a:r>
            <a:endParaRPr b="0" lang="en-US" sz="2000" spc="-1" strike="noStrike">
              <a:solidFill>
                <a:srgbClr val="000000"/>
              </a:solidFill>
              <a:latin typeface="Comic Sans MS"/>
            </a:endParaRPr>
          </a:p>
        </p:txBody>
      </p:sp>
      <p:sp>
        <p:nvSpPr>
          <p:cNvPr id="2734" name=""/>
          <p:cNvSpPr/>
          <p:nvPr/>
        </p:nvSpPr>
        <p:spPr>
          <a:xfrm>
            <a:off x="0" y="304920"/>
            <a:ext cx="9144000" cy="9936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Principal component analysis of rat behavior </a:t>
            </a:r>
            <a:br>
              <a:rPr sz="3200"/>
            </a:br>
            <a:r>
              <a:rPr b="0" lang="en-US" sz="3200" spc="-1" strike="noStrike">
                <a:solidFill>
                  <a:srgbClr val="ff3300"/>
                </a:solidFill>
                <a:latin typeface="Comic Sans MS"/>
              </a:rPr>
              <a:t>in the elevated-plus maze</a:t>
            </a:r>
            <a:endParaRPr b="0" lang="en-US" sz="3200" spc="-1" strike="noStrike">
              <a:solidFill>
                <a:srgbClr val="000000"/>
              </a:solidFill>
              <a:latin typeface="Comic Sans MS"/>
            </a:endParaRPr>
          </a:p>
        </p:txBody>
      </p:sp>
      <p:sp>
        <p:nvSpPr>
          <p:cNvPr id="2735" name=""/>
          <p:cNvSpPr/>
          <p:nvPr/>
        </p:nvSpPr>
        <p:spPr>
          <a:xfrm>
            <a:off x="357120" y="5935680"/>
            <a:ext cx="3683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ruz, Frei &amp; Graeff, PBB 49:171, 1994</a:t>
            </a:r>
            <a:endParaRPr b="0" lang="en-US" sz="1600" spc="-1" strike="noStrike">
              <a:solidFill>
                <a:srgbClr val="000000"/>
              </a:solidFill>
              <a:latin typeface="Comic Sans MS"/>
            </a:endParaRPr>
          </a:p>
        </p:txBody>
      </p:sp>
      <p:sp>
        <p:nvSpPr>
          <p:cNvPr id="2736" name=""/>
          <p:cNvSpPr/>
          <p:nvPr/>
        </p:nvSpPr>
        <p:spPr>
          <a:xfrm>
            <a:off x="628560" y="2114640"/>
            <a:ext cx="805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37" name=""/>
          <p:cNvSpPr/>
          <p:nvPr/>
        </p:nvSpPr>
        <p:spPr>
          <a:xfrm>
            <a:off x="2847960" y="1457280"/>
            <a:ext cx="0" cy="4257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FCFE36B3-0419-4883-837B-DCCD771900C4}" type="datetime1">
              <a:rPr lang="en-US"/>
              <a:t>07/30/26</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738" name="" descr=""/>
          <p:cNvPicPr/>
          <p:nvPr/>
        </p:nvPicPr>
        <p:blipFill>
          <a:blip r:embed="rId1"/>
          <a:stretch/>
        </p:blipFill>
        <p:spPr>
          <a:xfrm>
            <a:off x="0" y="0"/>
            <a:ext cx="9144000" cy="6858000"/>
          </a:xfrm>
          <a:prstGeom prst="rect">
            <a:avLst/>
          </a:prstGeom>
          <a:ln w="0">
            <a:noFill/>
          </a:ln>
        </p:spPr>
      </p:pic>
      <p:sp>
        <p:nvSpPr>
          <p:cNvPr id="2739" name=""/>
          <p:cNvSpPr/>
          <p:nvPr/>
        </p:nvSpPr>
        <p:spPr>
          <a:xfrm>
            <a:off x="514440" y="1251000"/>
            <a:ext cx="8196120" cy="4889520"/>
          </a:xfrm>
          <a:prstGeom prst="rect">
            <a:avLst/>
          </a:prstGeom>
          <a:noFill/>
          <a:ln w="9360">
            <a:solidFill>
              <a:srgbClr val="ff3300"/>
            </a:solidFill>
            <a:miter/>
          </a:ln>
        </p:spPr>
        <p:style>
          <a:lnRef idx="0"/>
          <a:fillRef idx="0"/>
          <a:effectRef idx="0"/>
          <a:fontRef idx="minor"/>
        </p:style>
        <p:txBody>
          <a:bodyPr lIns="90000" rIns="90000" tIns="46800" bIns="46800" anchor="t">
            <a:normAutofit fontScale="99000"/>
          </a:bodyPr>
          <a:p>
            <a:pPr marL="339480" indent="-3394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Unconditioned responses</a:t>
            </a:r>
            <a:endParaRPr b="0" lang="en-US" sz="2400" spc="-1" strike="noStrike">
              <a:solidFill>
                <a:srgbClr val="000000"/>
              </a:solidFill>
              <a:latin typeface="Comic Sans MS"/>
            </a:endParaRPr>
          </a:p>
          <a:p>
            <a:pPr lvl="1" marL="735480" indent="-28296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ced exposure</a:t>
            </a:r>
            <a:endParaRPr b="0" lang="en-US" sz="20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open field (locomotion, rearing, defecation, urination)</a:t>
            </a:r>
            <a:endParaRPr b="0" lang="en-US" sz="18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activity monitoring (in novel environments or home cage)</a:t>
            </a:r>
            <a:endParaRPr b="0" lang="en-US" sz="18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exploration (novel objects, hole board)</a:t>
            </a:r>
            <a:endParaRPr b="0" lang="en-US" sz="18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motivational conflicts (social interaction test, hyponeophagia, ...)</a:t>
            </a:r>
            <a:endParaRPr b="0" lang="en-US" sz="18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ultrasonic vocalizations, …</a:t>
            </a:r>
            <a:endParaRPr b="0" lang="en-US" sz="1800" spc="-1" strike="noStrike">
              <a:solidFill>
                <a:srgbClr val="000000"/>
              </a:solidFill>
              <a:latin typeface="Comic Sans MS"/>
            </a:endParaRPr>
          </a:p>
          <a:p>
            <a:pPr lvl="1" marL="735480" indent="-28296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hoice tests</a:t>
            </a:r>
            <a:endParaRPr b="0" lang="en-US" sz="20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elevated plus maze</a:t>
            </a:r>
            <a:endParaRPr b="0" lang="en-US" sz="18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black and white box</a:t>
            </a:r>
            <a:endParaRPr b="0" lang="en-US" sz="18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emergence tests</a:t>
            </a:r>
            <a:endParaRPr b="0" lang="en-US" sz="1800" spc="-1" strike="noStrike">
              <a:solidFill>
                <a:srgbClr val="000000"/>
              </a:solidFill>
              <a:latin typeface="Comic Sans MS"/>
            </a:endParaRPr>
          </a:p>
          <a:p>
            <a:pPr lvl="1" marL="735480" indent="-28296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iscellaneous</a:t>
            </a:r>
            <a:endParaRPr b="0" lang="en-US" sz="2000" spc="-1" strike="noStrike">
              <a:solidFill>
                <a:srgbClr val="000000"/>
              </a:solidFill>
              <a:latin typeface="Comic Sans MS"/>
            </a:endParaRPr>
          </a:p>
          <a:p>
            <a:pPr lvl="2" marL="1131480" indent="-22608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ultrasonic vocalizations, tonic immobility (catatonia), </a:t>
            </a:r>
            <a:br>
              <a:rPr sz="1800"/>
            </a:br>
            <a:r>
              <a:rPr b="0" lang="en-US" sz="1800" spc="-1" strike="noStrike">
                <a:solidFill>
                  <a:srgbClr val="3366ff"/>
                </a:solidFill>
                <a:latin typeface="Comic Sans MS"/>
              </a:rPr>
              <a:t>	</a:t>
            </a:r>
            <a:r>
              <a:rPr b="0" lang="en-US" sz="1800" spc="-1" strike="noStrike">
                <a:solidFill>
                  <a:srgbClr val="3366ff"/>
                </a:solidFill>
                <a:latin typeface="Comic Sans MS"/>
              </a:rPr>
              <a:t>acoustic startle, prepulse inhibition, ...</a:t>
            </a:r>
            <a:endParaRPr b="0" lang="en-US" sz="1800" spc="-1" strike="noStrike">
              <a:solidFill>
                <a:srgbClr val="000000"/>
              </a:solidFill>
              <a:latin typeface="Comic Sans MS"/>
            </a:endParaRPr>
          </a:p>
        </p:txBody>
      </p:sp>
      <p:sp>
        <p:nvSpPr>
          <p:cNvPr id="2740" name=""/>
          <p:cNvSpPr/>
          <p:nvPr/>
        </p:nvSpPr>
        <p:spPr>
          <a:xfrm>
            <a:off x="698400" y="3366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000000"/>
              </a:solidFill>
              <a:latin typeface="Comic Sans MS"/>
            </a:endParaRPr>
          </a:p>
        </p:txBody>
      </p:sp>
      <p:grpSp>
        <p:nvGrpSpPr>
          <p:cNvPr id="2741" name=""/>
          <p:cNvGrpSpPr/>
          <p:nvPr/>
        </p:nvGrpSpPr>
        <p:grpSpPr>
          <a:xfrm>
            <a:off x="7156080" y="6068880"/>
            <a:ext cx="1981080" cy="785160"/>
            <a:chOff x="7156080" y="6068880"/>
            <a:chExt cx="1981080" cy="785160"/>
          </a:xfrm>
        </p:grpSpPr>
        <p:sp>
          <p:nvSpPr>
            <p:cNvPr id="2742" name=""/>
            <p:cNvSpPr/>
            <p:nvPr/>
          </p:nvSpPr>
          <p:spPr>
            <a:xfrm flipH="1">
              <a:off x="721188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743" name=""/>
            <p:cNvSpPr/>
            <p:nvPr/>
          </p:nvSpPr>
          <p:spPr>
            <a:xfrm flipH="1" flipV="1">
              <a:off x="7228440" y="638712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744" name=""/>
            <p:cNvSpPr/>
            <p:nvPr/>
          </p:nvSpPr>
          <p:spPr>
            <a:xfrm flipH="1">
              <a:off x="715608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745" name=""/>
            <p:cNvSpPr/>
            <p:nvPr/>
          </p:nvSpPr>
          <p:spPr>
            <a:xfrm flipH="1">
              <a:off x="719100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746" name=""/>
            <p:cNvSpPr/>
            <p:nvPr/>
          </p:nvSpPr>
          <p:spPr>
            <a:xfrm flipH="1">
              <a:off x="721620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47" name=""/>
            <p:cNvSpPr/>
            <p:nvPr/>
          </p:nvSpPr>
          <p:spPr>
            <a:xfrm>
              <a:off x="728136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748" name=""/>
            <p:cNvSpPr/>
            <p:nvPr/>
          </p:nvSpPr>
          <p:spPr>
            <a:xfrm>
              <a:off x="7227360" y="661608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49" name=""/>
            <p:cNvSpPr/>
            <p:nvPr/>
          </p:nvSpPr>
          <p:spPr>
            <a:xfrm>
              <a:off x="7167600" y="670464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2750" name=""/>
            <p:cNvSpPr/>
            <p:nvPr/>
          </p:nvSpPr>
          <p:spPr>
            <a:xfrm flipV="1">
              <a:off x="733428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751" name=""/>
            <p:cNvSpPr/>
            <p:nvPr/>
          </p:nvSpPr>
          <p:spPr>
            <a:xfrm>
              <a:off x="735228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52" name=""/>
            <p:cNvSpPr/>
            <p:nvPr/>
          </p:nvSpPr>
          <p:spPr>
            <a:xfrm>
              <a:off x="732996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753" name=""/>
            <p:cNvSpPr/>
            <p:nvPr/>
          </p:nvSpPr>
          <p:spPr>
            <a:xfrm flipH="1">
              <a:off x="727812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754" name=""/>
            <p:cNvSpPr/>
            <p:nvPr/>
          </p:nvSpPr>
          <p:spPr>
            <a:xfrm>
              <a:off x="732996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55" name=""/>
            <p:cNvSpPr/>
            <p:nvPr/>
          </p:nvSpPr>
          <p:spPr>
            <a:xfrm>
              <a:off x="733428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756" name=""/>
            <p:cNvSpPr/>
            <p:nvPr/>
          </p:nvSpPr>
          <p:spPr>
            <a:xfrm>
              <a:off x="7353720" y="663048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757" name=""/>
            <p:cNvSpPr/>
            <p:nvPr/>
          </p:nvSpPr>
          <p:spPr>
            <a:xfrm>
              <a:off x="7227360" y="619740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758" name=""/>
            <p:cNvSpPr/>
            <p:nvPr/>
          </p:nvSpPr>
          <p:spPr>
            <a:xfrm flipH="1">
              <a:off x="717552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759" name=""/>
            <p:cNvSpPr/>
            <p:nvPr/>
          </p:nvSpPr>
          <p:spPr>
            <a:xfrm flipH="1">
              <a:off x="7157520" y="647424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760" name=""/>
            <p:cNvSpPr/>
            <p:nvPr/>
          </p:nvSpPr>
          <p:spPr>
            <a:xfrm flipH="1">
              <a:off x="718812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761" name=""/>
            <p:cNvSpPr/>
            <p:nvPr/>
          </p:nvSpPr>
          <p:spPr>
            <a:xfrm>
              <a:off x="7184160" y="609012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762" name=""/>
            <p:cNvSpPr/>
            <p:nvPr/>
          </p:nvSpPr>
          <p:spPr>
            <a:xfrm>
              <a:off x="7266240" y="609012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763" name=""/>
            <p:cNvSpPr/>
            <p:nvPr/>
          </p:nvSpPr>
          <p:spPr>
            <a:xfrm>
              <a:off x="727452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764" name=""/>
            <p:cNvSpPr/>
            <p:nvPr/>
          </p:nvSpPr>
          <p:spPr>
            <a:xfrm flipH="1">
              <a:off x="726768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765" name=""/>
            <p:cNvSpPr/>
            <p:nvPr/>
          </p:nvSpPr>
          <p:spPr>
            <a:xfrm>
              <a:off x="7334280" y="657576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766" name=""/>
            <p:cNvSpPr/>
            <p:nvPr/>
          </p:nvSpPr>
          <p:spPr>
            <a:xfrm>
              <a:off x="732996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67" name=""/>
            <p:cNvSpPr/>
            <p:nvPr/>
          </p:nvSpPr>
          <p:spPr>
            <a:xfrm flipH="1">
              <a:off x="735336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768" name=""/>
            <p:cNvSpPr/>
            <p:nvPr/>
          </p:nvSpPr>
          <p:spPr>
            <a:xfrm flipH="1" flipV="1">
              <a:off x="7287120" y="661356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769" name=""/>
            <p:cNvSpPr/>
            <p:nvPr/>
          </p:nvSpPr>
          <p:spPr>
            <a:xfrm flipH="1">
              <a:off x="7378920" y="627588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770" name=""/>
            <p:cNvSpPr/>
            <p:nvPr/>
          </p:nvSpPr>
          <p:spPr>
            <a:xfrm>
              <a:off x="7252560" y="659268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771" name=""/>
            <p:cNvSpPr/>
            <p:nvPr/>
          </p:nvSpPr>
          <p:spPr>
            <a:xfrm flipH="1" flipV="1">
              <a:off x="728100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772" name=""/>
            <p:cNvSpPr/>
            <p:nvPr/>
          </p:nvSpPr>
          <p:spPr>
            <a:xfrm flipH="1">
              <a:off x="7417440" y="638568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773" name=""/>
            <p:cNvSpPr/>
            <p:nvPr/>
          </p:nvSpPr>
          <p:spPr>
            <a:xfrm>
              <a:off x="741492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74" name=""/>
            <p:cNvSpPr/>
            <p:nvPr/>
          </p:nvSpPr>
          <p:spPr>
            <a:xfrm>
              <a:off x="7417440" y="631404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75" name=""/>
            <p:cNvSpPr/>
            <p:nvPr/>
          </p:nvSpPr>
          <p:spPr>
            <a:xfrm>
              <a:off x="741492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76" name=""/>
            <p:cNvSpPr/>
            <p:nvPr/>
          </p:nvSpPr>
          <p:spPr>
            <a:xfrm flipH="1">
              <a:off x="748296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777" name=""/>
            <p:cNvSpPr/>
            <p:nvPr/>
          </p:nvSpPr>
          <p:spPr>
            <a:xfrm flipH="1" flipV="1">
              <a:off x="7498080" y="638712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778" name=""/>
            <p:cNvSpPr/>
            <p:nvPr/>
          </p:nvSpPr>
          <p:spPr>
            <a:xfrm flipH="1">
              <a:off x="742860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779" name=""/>
            <p:cNvSpPr/>
            <p:nvPr/>
          </p:nvSpPr>
          <p:spPr>
            <a:xfrm flipH="1">
              <a:off x="746208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780" name=""/>
            <p:cNvSpPr/>
            <p:nvPr/>
          </p:nvSpPr>
          <p:spPr>
            <a:xfrm flipH="1">
              <a:off x="7487280" y="650592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81" name=""/>
            <p:cNvSpPr/>
            <p:nvPr/>
          </p:nvSpPr>
          <p:spPr>
            <a:xfrm>
              <a:off x="7553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782" name=""/>
            <p:cNvSpPr/>
            <p:nvPr/>
          </p:nvSpPr>
          <p:spPr>
            <a:xfrm>
              <a:off x="7498440" y="66160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83" name=""/>
            <p:cNvSpPr/>
            <p:nvPr/>
          </p:nvSpPr>
          <p:spPr>
            <a:xfrm flipV="1">
              <a:off x="7444080" y="667044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784" name=""/>
            <p:cNvSpPr/>
            <p:nvPr/>
          </p:nvSpPr>
          <p:spPr>
            <a:xfrm flipV="1">
              <a:off x="7605360" y="644436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785" name=""/>
            <p:cNvSpPr/>
            <p:nvPr/>
          </p:nvSpPr>
          <p:spPr>
            <a:xfrm>
              <a:off x="7621920" y="647676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86" name=""/>
            <p:cNvSpPr/>
            <p:nvPr/>
          </p:nvSpPr>
          <p:spPr>
            <a:xfrm>
              <a:off x="7602840" y="634104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787" name=""/>
            <p:cNvSpPr/>
            <p:nvPr/>
          </p:nvSpPr>
          <p:spPr>
            <a:xfrm flipH="1">
              <a:off x="754920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788" name=""/>
            <p:cNvSpPr/>
            <p:nvPr/>
          </p:nvSpPr>
          <p:spPr>
            <a:xfrm>
              <a:off x="760284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89" name=""/>
            <p:cNvSpPr/>
            <p:nvPr/>
          </p:nvSpPr>
          <p:spPr>
            <a:xfrm>
              <a:off x="760680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790" name=""/>
            <p:cNvSpPr/>
            <p:nvPr/>
          </p:nvSpPr>
          <p:spPr>
            <a:xfrm>
              <a:off x="7627680" y="663048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791" name=""/>
            <p:cNvSpPr/>
            <p:nvPr/>
          </p:nvSpPr>
          <p:spPr>
            <a:xfrm>
              <a:off x="7498440" y="619740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792" name=""/>
            <p:cNvSpPr/>
            <p:nvPr/>
          </p:nvSpPr>
          <p:spPr>
            <a:xfrm flipH="1">
              <a:off x="7446960" y="62251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93" name=""/>
            <p:cNvSpPr/>
            <p:nvPr/>
          </p:nvSpPr>
          <p:spPr>
            <a:xfrm flipH="1">
              <a:off x="74300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794" name=""/>
            <p:cNvSpPr/>
            <p:nvPr/>
          </p:nvSpPr>
          <p:spPr>
            <a:xfrm flipH="1">
              <a:off x="745920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795" name=""/>
            <p:cNvSpPr/>
            <p:nvPr/>
          </p:nvSpPr>
          <p:spPr>
            <a:xfrm>
              <a:off x="7456680" y="60901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796" name=""/>
            <p:cNvSpPr/>
            <p:nvPr/>
          </p:nvSpPr>
          <p:spPr>
            <a:xfrm>
              <a:off x="75398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797" name=""/>
            <p:cNvSpPr/>
            <p:nvPr/>
          </p:nvSpPr>
          <p:spPr>
            <a:xfrm>
              <a:off x="7545600" y="639180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798" name=""/>
            <p:cNvSpPr/>
            <p:nvPr/>
          </p:nvSpPr>
          <p:spPr>
            <a:xfrm flipH="1">
              <a:off x="753876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799" name=""/>
            <p:cNvSpPr/>
            <p:nvPr/>
          </p:nvSpPr>
          <p:spPr>
            <a:xfrm>
              <a:off x="760680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800" name=""/>
            <p:cNvSpPr/>
            <p:nvPr/>
          </p:nvSpPr>
          <p:spPr>
            <a:xfrm>
              <a:off x="760284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01" name=""/>
            <p:cNvSpPr/>
            <p:nvPr/>
          </p:nvSpPr>
          <p:spPr>
            <a:xfrm flipH="1">
              <a:off x="762444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802" name=""/>
            <p:cNvSpPr/>
            <p:nvPr/>
          </p:nvSpPr>
          <p:spPr>
            <a:xfrm flipH="1" flipV="1">
              <a:off x="755964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803" name=""/>
            <p:cNvSpPr/>
            <p:nvPr/>
          </p:nvSpPr>
          <p:spPr>
            <a:xfrm flipH="1">
              <a:off x="7649640" y="627588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804" name=""/>
            <p:cNvSpPr/>
            <p:nvPr/>
          </p:nvSpPr>
          <p:spPr>
            <a:xfrm>
              <a:off x="7523280" y="659268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805" name=""/>
            <p:cNvSpPr/>
            <p:nvPr/>
          </p:nvSpPr>
          <p:spPr>
            <a:xfrm flipH="1" flipV="1">
              <a:off x="7556760" y="667656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2806" name=""/>
            <p:cNvSpPr/>
            <p:nvPr/>
          </p:nvSpPr>
          <p:spPr>
            <a:xfrm flipH="1">
              <a:off x="769104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807" name=""/>
            <p:cNvSpPr/>
            <p:nvPr/>
          </p:nvSpPr>
          <p:spPr>
            <a:xfrm>
              <a:off x="768600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08" name=""/>
            <p:cNvSpPr/>
            <p:nvPr/>
          </p:nvSpPr>
          <p:spPr>
            <a:xfrm>
              <a:off x="7690320" y="634356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09" name=""/>
            <p:cNvSpPr/>
            <p:nvPr/>
          </p:nvSpPr>
          <p:spPr>
            <a:xfrm>
              <a:off x="768600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10" name=""/>
            <p:cNvSpPr/>
            <p:nvPr/>
          </p:nvSpPr>
          <p:spPr>
            <a:xfrm flipH="1">
              <a:off x="77763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811" name=""/>
            <p:cNvSpPr/>
            <p:nvPr/>
          </p:nvSpPr>
          <p:spPr>
            <a:xfrm flipH="1" flipV="1">
              <a:off x="7791120" y="638712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812" name=""/>
            <p:cNvSpPr/>
            <p:nvPr/>
          </p:nvSpPr>
          <p:spPr>
            <a:xfrm flipH="1">
              <a:off x="771912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813" name=""/>
            <p:cNvSpPr/>
            <p:nvPr/>
          </p:nvSpPr>
          <p:spPr>
            <a:xfrm flipH="1" flipV="1">
              <a:off x="7719120" y="641304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814" name=""/>
            <p:cNvSpPr/>
            <p:nvPr/>
          </p:nvSpPr>
          <p:spPr>
            <a:xfrm flipH="1">
              <a:off x="778032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15" name=""/>
            <p:cNvSpPr/>
            <p:nvPr/>
          </p:nvSpPr>
          <p:spPr>
            <a:xfrm>
              <a:off x="78472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816" name=""/>
            <p:cNvSpPr/>
            <p:nvPr/>
          </p:nvSpPr>
          <p:spPr>
            <a:xfrm>
              <a:off x="7791480" y="661608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17" name=""/>
            <p:cNvSpPr/>
            <p:nvPr/>
          </p:nvSpPr>
          <p:spPr>
            <a:xfrm>
              <a:off x="7736040" y="668988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818" name=""/>
            <p:cNvSpPr/>
            <p:nvPr/>
          </p:nvSpPr>
          <p:spPr>
            <a:xfrm flipV="1">
              <a:off x="789876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819" name=""/>
            <p:cNvSpPr/>
            <p:nvPr/>
          </p:nvSpPr>
          <p:spPr>
            <a:xfrm>
              <a:off x="791532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20" name=""/>
            <p:cNvSpPr/>
            <p:nvPr/>
          </p:nvSpPr>
          <p:spPr>
            <a:xfrm>
              <a:off x="789300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821" name=""/>
            <p:cNvSpPr/>
            <p:nvPr/>
          </p:nvSpPr>
          <p:spPr>
            <a:xfrm flipH="1">
              <a:off x="784332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822" name=""/>
            <p:cNvSpPr/>
            <p:nvPr/>
          </p:nvSpPr>
          <p:spPr>
            <a:xfrm>
              <a:off x="789300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3" name=""/>
            <p:cNvSpPr/>
            <p:nvPr/>
          </p:nvSpPr>
          <p:spPr>
            <a:xfrm>
              <a:off x="7899840" y="620172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824" name=""/>
            <p:cNvSpPr/>
            <p:nvPr/>
          </p:nvSpPr>
          <p:spPr>
            <a:xfrm>
              <a:off x="7919640" y="663048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2825" name=""/>
            <p:cNvSpPr/>
            <p:nvPr/>
          </p:nvSpPr>
          <p:spPr>
            <a:xfrm>
              <a:off x="7791480" y="619740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826" name=""/>
            <p:cNvSpPr/>
            <p:nvPr/>
          </p:nvSpPr>
          <p:spPr>
            <a:xfrm flipH="1">
              <a:off x="7738920" y="62550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827" name=""/>
            <p:cNvSpPr/>
            <p:nvPr/>
          </p:nvSpPr>
          <p:spPr>
            <a:xfrm flipH="1">
              <a:off x="77216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828" name=""/>
            <p:cNvSpPr/>
            <p:nvPr/>
          </p:nvSpPr>
          <p:spPr>
            <a:xfrm flipH="1">
              <a:off x="7751160" y="652500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829" name=""/>
            <p:cNvSpPr/>
            <p:nvPr/>
          </p:nvSpPr>
          <p:spPr>
            <a:xfrm>
              <a:off x="7747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830" name=""/>
            <p:cNvSpPr/>
            <p:nvPr/>
          </p:nvSpPr>
          <p:spPr>
            <a:xfrm>
              <a:off x="783180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831" name=""/>
            <p:cNvSpPr/>
            <p:nvPr/>
          </p:nvSpPr>
          <p:spPr>
            <a:xfrm>
              <a:off x="7840440" y="639180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832" name=""/>
            <p:cNvSpPr/>
            <p:nvPr/>
          </p:nvSpPr>
          <p:spPr>
            <a:xfrm flipH="1">
              <a:off x="7831440" y="651888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833" name=""/>
            <p:cNvSpPr/>
            <p:nvPr/>
          </p:nvSpPr>
          <p:spPr>
            <a:xfrm>
              <a:off x="789876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834" name=""/>
            <p:cNvSpPr/>
            <p:nvPr/>
          </p:nvSpPr>
          <p:spPr>
            <a:xfrm>
              <a:off x="789300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35" name=""/>
            <p:cNvSpPr/>
            <p:nvPr/>
          </p:nvSpPr>
          <p:spPr>
            <a:xfrm flipH="1">
              <a:off x="7916400" y="612360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836" name=""/>
            <p:cNvSpPr/>
            <p:nvPr/>
          </p:nvSpPr>
          <p:spPr>
            <a:xfrm flipH="1" flipV="1">
              <a:off x="7851240" y="661356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837" name=""/>
            <p:cNvSpPr/>
            <p:nvPr/>
          </p:nvSpPr>
          <p:spPr>
            <a:xfrm flipH="1">
              <a:off x="7941600" y="627588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838" name=""/>
            <p:cNvSpPr/>
            <p:nvPr/>
          </p:nvSpPr>
          <p:spPr>
            <a:xfrm>
              <a:off x="7815240" y="659268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839" name=""/>
            <p:cNvSpPr/>
            <p:nvPr/>
          </p:nvSpPr>
          <p:spPr>
            <a:xfrm flipH="1" flipV="1">
              <a:off x="7846920" y="669168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840" name=""/>
            <p:cNvSpPr/>
            <p:nvPr/>
          </p:nvSpPr>
          <p:spPr>
            <a:xfrm flipH="1">
              <a:off x="798192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841" name=""/>
            <p:cNvSpPr/>
            <p:nvPr/>
          </p:nvSpPr>
          <p:spPr>
            <a:xfrm>
              <a:off x="797796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42" name=""/>
            <p:cNvSpPr/>
            <p:nvPr/>
          </p:nvSpPr>
          <p:spPr>
            <a:xfrm>
              <a:off x="7983360" y="6314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43" name=""/>
            <p:cNvSpPr/>
            <p:nvPr/>
          </p:nvSpPr>
          <p:spPr>
            <a:xfrm>
              <a:off x="797796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44" name=""/>
            <p:cNvSpPr/>
            <p:nvPr/>
          </p:nvSpPr>
          <p:spPr>
            <a:xfrm flipH="1">
              <a:off x="7704000" y="666864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845" name=""/>
            <p:cNvSpPr/>
            <p:nvPr/>
          </p:nvSpPr>
          <p:spPr>
            <a:xfrm flipH="1">
              <a:off x="808920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846" name=""/>
            <p:cNvSpPr/>
            <p:nvPr/>
          </p:nvSpPr>
          <p:spPr>
            <a:xfrm flipH="1" flipV="1">
              <a:off x="8105400" y="641304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847" name=""/>
            <p:cNvSpPr/>
            <p:nvPr/>
          </p:nvSpPr>
          <p:spPr>
            <a:xfrm flipH="1">
              <a:off x="8033400" y="620172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848" name=""/>
            <p:cNvSpPr/>
            <p:nvPr/>
          </p:nvSpPr>
          <p:spPr>
            <a:xfrm flipH="1">
              <a:off x="806832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849" name=""/>
            <p:cNvSpPr/>
            <p:nvPr/>
          </p:nvSpPr>
          <p:spPr>
            <a:xfrm flipH="1">
              <a:off x="8092080" y="653112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50" name=""/>
            <p:cNvSpPr/>
            <p:nvPr/>
          </p:nvSpPr>
          <p:spPr>
            <a:xfrm>
              <a:off x="81601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851" name=""/>
            <p:cNvSpPr/>
            <p:nvPr/>
          </p:nvSpPr>
          <p:spPr>
            <a:xfrm>
              <a:off x="810288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52" name=""/>
            <p:cNvSpPr/>
            <p:nvPr/>
          </p:nvSpPr>
          <p:spPr>
            <a:xfrm>
              <a:off x="8044560" y="673200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853" name=""/>
            <p:cNvSpPr/>
            <p:nvPr/>
          </p:nvSpPr>
          <p:spPr>
            <a:xfrm>
              <a:off x="8211600" y="64828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54" name=""/>
            <p:cNvSpPr/>
            <p:nvPr/>
          </p:nvSpPr>
          <p:spPr>
            <a:xfrm>
              <a:off x="8229600" y="65059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55" name=""/>
            <p:cNvSpPr/>
            <p:nvPr/>
          </p:nvSpPr>
          <p:spPr>
            <a:xfrm>
              <a:off x="8206200" y="636660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56" name=""/>
            <p:cNvSpPr/>
            <p:nvPr/>
          </p:nvSpPr>
          <p:spPr>
            <a:xfrm flipH="1">
              <a:off x="815544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57" name=""/>
            <p:cNvSpPr/>
            <p:nvPr/>
          </p:nvSpPr>
          <p:spPr>
            <a:xfrm>
              <a:off x="8165880" y="61070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58" name=""/>
            <p:cNvSpPr/>
            <p:nvPr/>
          </p:nvSpPr>
          <p:spPr>
            <a:xfrm>
              <a:off x="821304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859" name=""/>
            <p:cNvSpPr/>
            <p:nvPr/>
          </p:nvSpPr>
          <p:spPr>
            <a:xfrm>
              <a:off x="8233920" y="665388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860" name=""/>
            <p:cNvSpPr/>
            <p:nvPr/>
          </p:nvSpPr>
          <p:spPr>
            <a:xfrm>
              <a:off x="810288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61" name=""/>
            <p:cNvSpPr/>
            <p:nvPr/>
          </p:nvSpPr>
          <p:spPr>
            <a:xfrm flipH="1">
              <a:off x="8054280" y="628236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862" name=""/>
            <p:cNvSpPr/>
            <p:nvPr/>
          </p:nvSpPr>
          <p:spPr>
            <a:xfrm flipH="1">
              <a:off x="803628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863" name=""/>
            <p:cNvSpPr/>
            <p:nvPr/>
          </p:nvSpPr>
          <p:spPr>
            <a:xfrm flipH="1">
              <a:off x="8066880" y="655488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864" name=""/>
            <p:cNvSpPr/>
            <p:nvPr/>
          </p:nvSpPr>
          <p:spPr>
            <a:xfrm>
              <a:off x="8060040" y="611568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865" name=""/>
            <p:cNvSpPr/>
            <p:nvPr/>
          </p:nvSpPr>
          <p:spPr>
            <a:xfrm>
              <a:off x="8125560" y="609012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866" name=""/>
            <p:cNvSpPr/>
            <p:nvPr/>
          </p:nvSpPr>
          <p:spPr>
            <a:xfrm>
              <a:off x="815328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867" name=""/>
            <p:cNvSpPr/>
            <p:nvPr/>
          </p:nvSpPr>
          <p:spPr>
            <a:xfrm flipH="1">
              <a:off x="8146080" y="654624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868" name=""/>
            <p:cNvSpPr/>
            <p:nvPr/>
          </p:nvSpPr>
          <p:spPr>
            <a:xfrm>
              <a:off x="8211600" y="660312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869" name=""/>
            <p:cNvSpPr/>
            <p:nvPr/>
          </p:nvSpPr>
          <p:spPr>
            <a:xfrm>
              <a:off x="8206200" y="625500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870" name=""/>
            <p:cNvSpPr/>
            <p:nvPr/>
          </p:nvSpPr>
          <p:spPr>
            <a:xfrm flipH="1">
              <a:off x="8271360" y="609660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871" name=""/>
            <p:cNvSpPr/>
            <p:nvPr/>
          </p:nvSpPr>
          <p:spPr>
            <a:xfrm flipH="1" flipV="1">
              <a:off x="816696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872" name=""/>
            <p:cNvSpPr/>
            <p:nvPr/>
          </p:nvSpPr>
          <p:spPr>
            <a:xfrm flipH="1">
              <a:off x="825444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873" name=""/>
            <p:cNvSpPr/>
            <p:nvPr/>
          </p:nvSpPr>
          <p:spPr>
            <a:xfrm>
              <a:off x="8128080" y="662220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74" name=""/>
            <p:cNvSpPr/>
            <p:nvPr/>
          </p:nvSpPr>
          <p:spPr>
            <a:xfrm flipH="1">
              <a:off x="8296200" y="641304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875" name=""/>
            <p:cNvSpPr/>
            <p:nvPr/>
          </p:nvSpPr>
          <p:spPr>
            <a:xfrm>
              <a:off x="8292240" y="622728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76" name=""/>
            <p:cNvSpPr/>
            <p:nvPr/>
          </p:nvSpPr>
          <p:spPr>
            <a:xfrm>
              <a:off x="8296200" y="63435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77" name=""/>
            <p:cNvSpPr/>
            <p:nvPr/>
          </p:nvSpPr>
          <p:spPr>
            <a:xfrm>
              <a:off x="8292240" y="65311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78" name=""/>
            <p:cNvSpPr/>
            <p:nvPr/>
          </p:nvSpPr>
          <p:spPr>
            <a:xfrm flipH="1">
              <a:off x="836028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879" name=""/>
            <p:cNvSpPr/>
            <p:nvPr/>
          </p:nvSpPr>
          <p:spPr>
            <a:xfrm flipH="1" flipV="1">
              <a:off x="837684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880" name=""/>
            <p:cNvSpPr/>
            <p:nvPr/>
          </p:nvSpPr>
          <p:spPr>
            <a:xfrm flipH="1">
              <a:off x="8305560" y="620172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881" name=""/>
            <p:cNvSpPr/>
            <p:nvPr/>
          </p:nvSpPr>
          <p:spPr>
            <a:xfrm flipH="1">
              <a:off x="833940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882" name=""/>
            <p:cNvSpPr/>
            <p:nvPr/>
          </p:nvSpPr>
          <p:spPr>
            <a:xfrm flipH="1">
              <a:off x="836388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83" name=""/>
            <p:cNvSpPr/>
            <p:nvPr/>
          </p:nvSpPr>
          <p:spPr>
            <a:xfrm>
              <a:off x="84312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884" name=""/>
            <p:cNvSpPr/>
            <p:nvPr/>
          </p:nvSpPr>
          <p:spPr>
            <a:xfrm>
              <a:off x="8375760" y="66434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85" name=""/>
            <p:cNvSpPr/>
            <p:nvPr/>
          </p:nvSpPr>
          <p:spPr>
            <a:xfrm flipV="1">
              <a:off x="8322840" y="669852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886" name=""/>
            <p:cNvSpPr/>
            <p:nvPr/>
          </p:nvSpPr>
          <p:spPr>
            <a:xfrm>
              <a:off x="848412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87" name=""/>
            <p:cNvSpPr/>
            <p:nvPr/>
          </p:nvSpPr>
          <p:spPr>
            <a:xfrm>
              <a:off x="850068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88" name=""/>
            <p:cNvSpPr/>
            <p:nvPr/>
          </p:nvSpPr>
          <p:spPr>
            <a:xfrm>
              <a:off x="8478360" y="63666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89" name=""/>
            <p:cNvSpPr/>
            <p:nvPr/>
          </p:nvSpPr>
          <p:spPr>
            <a:xfrm flipH="1">
              <a:off x="8429760" y="63097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890" name=""/>
            <p:cNvSpPr/>
            <p:nvPr/>
          </p:nvSpPr>
          <p:spPr>
            <a:xfrm>
              <a:off x="8396640" y="608148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91" name=""/>
            <p:cNvSpPr/>
            <p:nvPr/>
          </p:nvSpPr>
          <p:spPr>
            <a:xfrm>
              <a:off x="848412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892" name=""/>
            <p:cNvSpPr/>
            <p:nvPr/>
          </p:nvSpPr>
          <p:spPr>
            <a:xfrm>
              <a:off x="85035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893" name=""/>
            <p:cNvSpPr/>
            <p:nvPr/>
          </p:nvSpPr>
          <p:spPr>
            <a:xfrm>
              <a:off x="837576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894" name=""/>
            <p:cNvSpPr/>
            <p:nvPr/>
          </p:nvSpPr>
          <p:spPr>
            <a:xfrm flipH="1">
              <a:off x="8323560" y="62550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895" name=""/>
            <p:cNvSpPr/>
            <p:nvPr/>
          </p:nvSpPr>
          <p:spPr>
            <a:xfrm flipH="1">
              <a:off x="8307360" y="650160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896" name=""/>
            <p:cNvSpPr/>
            <p:nvPr/>
          </p:nvSpPr>
          <p:spPr>
            <a:xfrm flipH="1">
              <a:off x="8336520" y="655488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897" name=""/>
            <p:cNvSpPr/>
            <p:nvPr/>
          </p:nvSpPr>
          <p:spPr>
            <a:xfrm>
              <a:off x="8353440" y="611568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898" name=""/>
            <p:cNvSpPr/>
            <p:nvPr/>
          </p:nvSpPr>
          <p:spPr>
            <a:xfrm>
              <a:off x="84157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2899" name=""/>
            <p:cNvSpPr/>
            <p:nvPr/>
          </p:nvSpPr>
          <p:spPr>
            <a:xfrm>
              <a:off x="842436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900" name=""/>
            <p:cNvSpPr/>
            <p:nvPr/>
          </p:nvSpPr>
          <p:spPr>
            <a:xfrm flipH="1">
              <a:off x="8417160" y="654624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901" name=""/>
            <p:cNvSpPr/>
            <p:nvPr/>
          </p:nvSpPr>
          <p:spPr>
            <a:xfrm>
              <a:off x="8484120" y="660312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902" name=""/>
            <p:cNvSpPr/>
            <p:nvPr/>
          </p:nvSpPr>
          <p:spPr>
            <a:xfrm>
              <a:off x="8478360" y="625500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903" name=""/>
            <p:cNvSpPr/>
            <p:nvPr/>
          </p:nvSpPr>
          <p:spPr>
            <a:xfrm flipH="1">
              <a:off x="8504640" y="609660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904" name=""/>
            <p:cNvSpPr/>
            <p:nvPr/>
          </p:nvSpPr>
          <p:spPr>
            <a:xfrm flipH="1" flipV="1">
              <a:off x="8436960" y="664128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905" name=""/>
            <p:cNvSpPr/>
            <p:nvPr/>
          </p:nvSpPr>
          <p:spPr>
            <a:xfrm flipH="1">
              <a:off x="852552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906" name=""/>
            <p:cNvSpPr/>
            <p:nvPr/>
          </p:nvSpPr>
          <p:spPr>
            <a:xfrm>
              <a:off x="8400600" y="662220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7" name=""/>
            <p:cNvSpPr/>
            <p:nvPr/>
          </p:nvSpPr>
          <p:spPr>
            <a:xfrm flipH="1" flipV="1">
              <a:off x="8433720" y="670896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908" name=""/>
            <p:cNvSpPr/>
            <p:nvPr/>
          </p:nvSpPr>
          <p:spPr>
            <a:xfrm flipH="1">
              <a:off x="856692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909" name=""/>
            <p:cNvSpPr/>
            <p:nvPr/>
          </p:nvSpPr>
          <p:spPr>
            <a:xfrm>
              <a:off x="8563320" y="61700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10" name=""/>
            <p:cNvSpPr/>
            <p:nvPr/>
          </p:nvSpPr>
          <p:spPr>
            <a:xfrm>
              <a:off x="8567280" y="63709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1" name=""/>
            <p:cNvSpPr/>
            <p:nvPr/>
          </p:nvSpPr>
          <p:spPr>
            <a:xfrm>
              <a:off x="8563320" y="653112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12" name=""/>
            <p:cNvSpPr/>
            <p:nvPr/>
          </p:nvSpPr>
          <p:spPr>
            <a:xfrm flipH="1">
              <a:off x="8651880" y="634356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2913" name=""/>
            <p:cNvSpPr/>
            <p:nvPr/>
          </p:nvSpPr>
          <p:spPr>
            <a:xfrm flipH="1" flipV="1">
              <a:off x="866880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914" name=""/>
            <p:cNvSpPr/>
            <p:nvPr/>
          </p:nvSpPr>
          <p:spPr>
            <a:xfrm flipH="1">
              <a:off x="859644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915" name=""/>
            <p:cNvSpPr/>
            <p:nvPr/>
          </p:nvSpPr>
          <p:spPr>
            <a:xfrm flipH="1" flipV="1">
              <a:off x="8596440" y="644256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916" name=""/>
            <p:cNvSpPr/>
            <p:nvPr/>
          </p:nvSpPr>
          <p:spPr>
            <a:xfrm flipH="1">
              <a:off x="865584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17" name=""/>
            <p:cNvSpPr/>
            <p:nvPr/>
          </p:nvSpPr>
          <p:spPr>
            <a:xfrm>
              <a:off x="872316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918" name=""/>
            <p:cNvSpPr/>
            <p:nvPr/>
          </p:nvSpPr>
          <p:spPr>
            <a:xfrm>
              <a:off x="866772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19" name=""/>
            <p:cNvSpPr/>
            <p:nvPr/>
          </p:nvSpPr>
          <p:spPr>
            <a:xfrm>
              <a:off x="8613360" y="671688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2920" name=""/>
            <p:cNvSpPr/>
            <p:nvPr/>
          </p:nvSpPr>
          <p:spPr>
            <a:xfrm>
              <a:off x="877608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21" name=""/>
            <p:cNvSpPr/>
            <p:nvPr/>
          </p:nvSpPr>
          <p:spPr>
            <a:xfrm>
              <a:off x="879264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22" name=""/>
            <p:cNvSpPr/>
            <p:nvPr/>
          </p:nvSpPr>
          <p:spPr>
            <a:xfrm>
              <a:off x="8771760" y="63666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23" name=""/>
            <p:cNvSpPr/>
            <p:nvPr/>
          </p:nvSpPr>
          <p:spPr>
            <a:xfrm flipH="1">
              <a:off x="871992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24" name=""/>
            <p:cNvSpPr/>
            <p:nvPr/>
          </p:nvSpPr>
          <p:spPr>
            <a:xfrm>
              <a:off x="8668800" y="607536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2925" name=""/>
            <p:cNvSpPr/>
            <p:nvPr/>
          </p:nvSpPr>
          <p:spPr>
            <a:xfrm>
              <a:off x="8778600" y="622944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926" name=""/>
            <p:cNvSpPr/>
            <p:nvPr/>
          </p:nvSpPr>
          <p:spPr>
            <a:xfrm>
              <a:off x="87951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2927" name=""/>
            <p:cNvSpPr/>
            <p:nvPr/>
          </p:nvSpPr>
          <p:spPr>
            <a:xfrm>
              <a:off x="866772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28" name=""/>
            <p:cNvSpPr/>
            <p:nvPr/>
          </p:nvSpPr>
          <p:spPr>
            <a:xfrm flipH="1">
              <a:off x="861768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929" name=""/>
            <p:cNvSpPr/>
            <p:nvPr/>
          </p:nvSpPr>
          <p:spPr>
            <a:xfrm flipH="1">
              <a:off x="859932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930" name=""/>
            <p:cNvSpPr/>
            <p:nvPr/>
          </p:nvSpPr>
          <p:spPr>
            <a:xfrm flipH="1">
              <a:off x="862992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931" name=""/>
            <p:cNvSpPr/>
            <p:nvPr/>
          </p:nvSpPr>
          <p:spPr>
            <a:xfrm>
              <a:off x="8584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932" name=""/>
            <p:cNvSpPr/>
            <p:nvPr/>
          </p:nvSpPr>
          <p:spPr>
            <a:xfrm>
              <a:off x="87091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2933" name=""/>
            <p:cNvSpPr/>
            <p:nvPr/>
          </p:nvSpPr>
          <p:spPr>
            <a:xfrm>
              <a:off x="871632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934" name=""/>
            <p:cNvSpPr/>
            <p:nvPr/>
          </p:nvSpPr>
          <p:spPr>
            <a:xfrm flipH="1">
              <a:off x="8709120" y="654624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2935" name=""/>
            <p:cNvSpPr/>
            <p:nvPr/>
          </p:nvSpPr>
          <p:spPr>
            <a:xfrm>
              <a:off x="8778600" y="660312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936" name=""/>
            <p:cNvSpPr/>
            <p:nvPr/>
          </p:nvSpPr>
          <p:spPr>
            <a:xfrm>
              <a:off x="8771760" y="625500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937" name=""/>
            <p:cNvSpPr/>
            <p:nvPr/>
          </p:nvSpPr>
          <p:spPr>
            <a:xfrm flipH="1">
              <a:off x="8732520" y="609660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938" name=""/>
            <p:cNvSpPr/>
            <p:nvPr/>
          </p:nvSpPr>
          <p:spPr>
            <a:xfrm flipH="1" flipV="1">
              <a:off x="873000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939" name=""/>
            <p:cNvSpPr/>
            <p:nvPr/>
          </p:nvSpPr>
          <p:spPr>
            <a:xfrm flipH="1">
              <a:off x="881748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940" name=""/>
            <p:cNvSpPr/>
            <p:nvPr/>
          </p:nvSpPr>
          <p:spPr>
            <a:xfrm>
              <a:off x="8693640" y="662220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41" name=""/>
            <p:cNvSpPr/>
            <p:nvPr/>
          </p:nvSpPr>
          <p:spPr>
            <a:xfrm flipH="1" flipV="1">
              <a:off x="8721720" y="672084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2942" name=""/>
            <p:cNvSpPr/>
            <p:nvPr/>
          </p:nvSpPr>
          <p:spPr>
            <a:xfrm flipH="1">
              <a:off x="885888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943" name=""/>
            <p:cNvSpPr/>
            <p:nvPr/>
          </p:nvSpPr>
          <p:spPr>
            <a:xfrm>
              <a:off x="8813520" y="614484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44" name=""/>
            <p:cNvSpPr/>
            <p:nvPr/>
          </p:nvSpPr>
          <p:spPr>
            <a:xfrm>
              <a:off x="8817840" y="6121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45" name=""/>
            <p:cNvSpPr/>
            <p:nvPr/>
          </p:nvSpPr>
          <p:spPr>
            <a:xfrm>
              <a:off x="8853840" y="65311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46" name=""/>
            <p:cNvSpPr/>
            <p:nvPr/>
          </p:nvSpPr>
          <p:spPr>
            <a:xfrm flipH="1">
              <a:off x="8579520" y="663912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2947" name=""/>
            <p:cNvSpPr/>
            <p:nvPr/>
          </p:nvSpPr>
          <p:spPr>
            <a:xfrm>
              <a:off x="8019720" y="61621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48" name=""/>
            <p:cNvSpPr/>
            <p:nvPr/>
          </p:nvSpPr>
          <p:spPr>
            <a:xfrm>
              <a:off x="8250480" y="61894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49" name=""/>
            <p:cNvSpPr/>
            <p:nvPr/>
          </p:nvSpPr>
          <p:spPr>
            <a:xfrm flipV="1">
              <a:off x="8004240" y="666000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50" name=""/>
            <p:cNvSpPr/>
            <p:nvPr/>
          </p:nvSpPr>
          <p:spPr>
            <a:xfrm>
              <a:off x="8210160" y="606888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951" name=""/>
            <p:cNvSpPr/>
            <p:nvPr/>
          </p:nvSpPr>
          <p:spPr>
            <a:xfrm>
              <a:off x="7997400" y="663480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52" name=""/>
            <p:cNvSpPr/>
            <p:nvPr/>
          </p:nvSpPr>
          <p:spPr>
            <a:xfrm>
              <a:off x="8563320" y="630144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53" name=""/>
            <p:cNvSpPr/>
            <p:nvPr/>
          </p:nvSpPr>
          <p:spPr>
            <a:xfrm flipV="1">
              <a:off x="8853840" y="622728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2954" name=""/>
            <p:cNvSpPr/>
            <p:nvPr/>
          </p:nvSpPr>
          <p:spPr>
            <a:xfrm flipH="1">
              <a:off x="8010720" y="644688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2955" name=""/>
            <p:cNvSpPr/>
            <p:nvPr/>
          </p:nvSpPr>
          <p:spPr>
            <a:xfrm flipH="1">
              <a:off x="8807760" y="639000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2956" name=""/>
            <p:cNvSpPr/>
            <p:nvPr/>
          </p:nvSpPr>
          <p:spPr>
            <a:xfrm flipH="1">
              <a:off x="7993080" y="608364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957" name=""/>
            <p:cNvSpPr/>
            <p:nvPr/>
          </p:nvSpPr>
          <p:spPr>
            <a:xfrm flipH="1">
              <a:off x="8180640" y="614052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958" name=""/>
            <p:cNvSpPr/>
            <p:nvPr/>
          </p:nvSpPr>
          <p:spPr>
            <a:xfrm flipH="1">
              <a:off x="89247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959" name=""/>
            <p:cNvSpPr/>
            <p:nvPr/>
          </p:nvSpPr>
          <p:spPr>
            <a:xfrm flipH="1" flipV="1">
              <a:off x="8942760" y="638712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960" name=""/>
            <p:cNvSpPr/>
            <p:nvPr/>
          </p:nvSpPr>
          <p:spPr>
            <a:xfrm flipH="1">
              <a:off x="8905320" y="636048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961" name=""/>
            <p:cNvSpPr/>
            <p:nvPr/>
          </p:nvSpPr>
          <p:spPr>
            <a:xfrm flipH="1">
              <a:off x="8927280" y="650592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62" name=""/>
            <p:cNvSpPr/>
            <p:nvPr/>
          </p:nvSpPr>
          <p:spPr>
            <a:xfrm>
              <a:off x="8995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963" name=""/>
            <p:cNvSpPr/>
            <p:nvPr/>
          </p:nvSpPr>
          <p:spPr>
            <a:xfrm>
              <a:off x="8896680" y="66747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964" name=""/>
            <p:cNvSpPr/>
            <p:nvPr/>
          </p:nvSpPr>
          <p:spPr>
            <a:xfrm flipV="1">
              <a:off x="9048600" y="644436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965" name=""/>
            <p:cNvSpPr/>
            <p:nvPr/>
          </p:nvSpPr>
          <p:spPr>
            <a:xfrm>
              <a:off x="9062280" y="64767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66" name=""/>
            <p:cNvSpPr/>
            <p:nvPr/>
          </p:nvSpPr>
          <p:spPr>
            <a:xfrm>
              <a:off x="9044280" y="634104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967" name=""/>
            <p:cNvSpPr/>
            <p:nvPr/>
          </p:nvSpPr>
          <p:spPr>
            <a:xfrm flipH="1">
              <a:off x="8992440" y="628236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968" name=""/>
            <p:cNvSpPr/>
            <p:nvPr/>
          </p:nvSpPr>
          <p:spPr>
            <a:xfrm>
              <a:off x="904428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9" name=""/>
            <p:cNvSpPr/>
            <p:nvPr/>
          </p:nvSpPr>
          <p:spPr>
            <a:xfrm>
              <a:off x="9049680" y="620172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970" name=""/>
            <p:cNvSpPr/>
            <p:nvPr/>
          </p:nvSpPr>
          <p:spPr>
            <a:xfrm>
              <a:off x="8938440" y="619740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971" name=""/>
            <p:cNvSpPr/>
            <p:nvPr/>
          </p:nvSpPr>
          <p:spPr>
            <a:xfrm flipH="1">
              <a:off x="888840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972" name=""/>
            <p:cNvSpPr/>
            <p:nvPr/>
          </p:nvSpPr>
          <p:spPr>
            <a:xfrm flipH="1">
              <a:off x="8901000" y="652500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973" name=""/>
            <p:cNvSpPr/>
            <p:nvPr/>
          </p:nvSpPr>
          <p:spPr>
            <a:xfrm>
              <a:off x="889668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974" name=""/>
            <p:cNvSpPr/>
            <p:nvPr/>
          </p:nvSpPr>
          <p:spPr>
            <a:xfrm>
              <a:off x="89816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975" name=""/>
            <p:cNvSpPr/>
            <p:nvPr/>
          </p:nvSpPr>
          <p:spPr>
            <a:xfrm>
              <a:off x="898740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976" name=""/>
            <p:cNvSpPr/>
            <p:nvPr/>
          </p:nvSpPr>
          <p:spPr>
            <a:xfrm flipH="1">
              <a:off x="8980200" y="651888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977" name=""/>
            <p:cNvSpPr/>
            <p:nvPr/>
          </p:nvSpPr>
          <p:spPr>
            <a:xfrm>
              <a:off x="9048600" y="657576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978" name=""/>
            <p:cNvSpPr/>
            <p:nvPr/>
          </p:nvSpPr>
          <p:spPr>
            <a:xfrm>
              <a:off x="904428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79" name=""/>
            <p:cNvSpPr/>
            <p:nvPr/>
          </p:nvSpPr>
          <p:spPr>
            <a:xfrm flipH="1">
              <a:off x="9065160" y="612360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980" name=""/>
            <p:cNvSpPr/>
            <p:nvPr/>
          </p:nvSpPr>
          <p:spPr>
            <a:xfrm flipH="1" flipV="1">
              <a:off x="900108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981" name=""/>
            <p:cNvSpPr/>
            <p:nvPr/>
          </p:nvSpPr>
          <p:spPr>
            <a:xfrm flipH="1">
              <a:off x="9090000" y="627588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982" name=""/>
            <p:cNvSpPr/>
            <p:nvPr/>
          </p:nvSpPr>
          <p:spPr>
            <a:xfrm>
              <a:off x="8966520" y="659268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983" name=""/>
            <p:cNvSpPr/>
            <p:nvPr/>
          </p:nvSpPr>
          <p:spPr>
            <a:xfrm flipH="1" flipV="1">
              <a:off x="899388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984" name=""/>
            <p:cNvSpPr/>
            <p:nvPr/>
          </p:nvSpPr>
          <p:spPr>
            <a:xfrm>
              <a:off x="8951040" y="663480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985" name=""/>
            <p:cNvSpPr/>
            <p:nvPr/>
          </p:nvSpPr>
          <p:spPr>
            <a:xfrm>
              <a:off x="735228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86" name=""/>
            <p:cNvSpPr/>
            <p:nvPr/>
          </p:nvSpPr>
          <p:spPr>
            <a:xfrm>
              <a:off x="7203600" y="675540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987" name=""/>
            <p:cNvSpPr/>
            <p:nvPr/>
          </p:nvSpPr>
          <p:spPr>
            <a:xfrm>
              <a:off x="728712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88" name=""/>
            <p:cNvSpPr/>
            <p:nvPr/>
          </p:nvSpPr>
          <p:spPr>
            <a:xfrm flipH="1">
              <a:off x="737424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989" name=""/>
            <p:cNvSpPr/>
            <p:nvPr/>
          </p:nvSpPr>
          <p:spPr>
            <a:xfrm>
              <a:off x="7621920" y="6776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90" name=""/>
            <p:cNvSpPr/>
            <p:nvPr/>
          </p:nvSpPr>
          <p:spPr>
            <a:xfrm>
              <a:off x="7474680" y="675540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991" name=""/>
            <p:cNvSpPr/>
            <p:nvPr/>
          </p:nvSpPr>
          <p:spPr>
            <a:xfrm>
              <a:off x="755964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92" name=""/>
            <p:cNvSpPr/>
            <p:nvPr/>
          </p:nvSpPr>
          <p:spPr>
            <a:xfrm flipH="1">
              <a:off x="764676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993" name=""/>
            <p:cNvSpPr/>
            <p:nvPr/>
          </p:nvSpPr>
          <p:spPr>
            <a:xfrm>
              <a:off x="9105480" y="661608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94" name=""/>
            <p:cNvSpPr/>
            <p:nvPr/>
          </p:nvSpPr>
          <p:spPr>
            <a:xfrm>
              <a:off x="791532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95" name=""/>
            <p:cNvSpPr/>
            <p:nvPr/>
          </p:nvSpPr>
          <p:spPr>
            <a:xfrm>
              <a:off x="776808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996" name=""/>
            <p:cNvSpPr/>
            <p:nvPr/>
          </p:nvSpPr>
          <p:spPr>
            <a:xfrm>
              <a:off x="7853040" y="675540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997" name=""/>
            <p:cNvSpPr/>
            <p:nvPr/>
          </p:nvSpPr>
          <p:spPr>
            <a:xfrm flipH="1">
              <a:off x="7937640" y="679140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998" name=""/>
            <p:cNvSpPr/>
            <p:nvPr/>
          </p:nvSpPr>
          <p:spPr>
            <a:xfrm>
              <a:off x="8186400" y="6776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99" name=""/>
            <p:cNvSpPr/>
            <p:nvPr/>
          </p:nvSpPr>
          <p:spPr>
            <a:xfrm>
              <a:off x="808380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3000" name=""/>
            <p:cNvSpPr/>
            <p:nvPr/>
          </p:nvSpPr>
          <p:spPr>
            <a:xfrm>
              <a:off x="8145000" y="67554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001" name=""/>
            <p:cNvSpPr/>
            <p:nvPr/>
          </p:nvSpPr>
          <p:spPr>
            <a:xfrm flipH="1">
              <a:off x="8292960" y="6765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3002" name=""/>
            <p:cNvSpPr/>
            <p:nvPr/>
          </p:nvSpPr>
          <p:spPr>
            <a:xfrm>
              <a:off x="8415720" y="674676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03" name=""/>
            <p:cNvSpPr/>
            <p:nvPr/>
          </p:nvSpPr>
          <p:spPr>
            <a:xfrm>
              <a:off x="837576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3004" name=""/>
            <p:cNvSpPr/>
            <p:nvPr/>
          </p:nvSpPr>
          <p:spPr>
            <a:xfrm>
              <a:off x="843696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005" name=""/>
            <p:cNvSpPr/>
            <p:nvPr/>
          </p:nvSpPr>
          <p:spPr>
            <a:xfrm flipH="1">
              <a:off x="8522640" y="676584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3006" name=""/>
            <p:cNvSpPr/>
            <p:nvPr/>
          </p:nvSpPr>
          <p:spPr>
            <a:xfrm>
              <a:off x="8691120" y="674064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3007" name=""/>
            <p:cNvSpPr/>
            <p:nvPr/>
          </p:nvSpPr>
          <p:spPr>
            <a:xfrm>
              <a:off x="860364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3008" name=""/>
            <p:cNvSpPr/>
            <p:nvPr/>
          </p:nvSpPr>
          <p:spPr>
            <a:xfrm>
              <a:off x="8728920" y="678456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009" name=""/>
            <p:cNvSpPr/>
            <p:nvPr/>
          </p:nvSpPr>
          <p:spPr>
            <a:xfrm flipH="1">
              <a:off x="8754840" y="676584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3010" name=""/>
            <p:cNvSpPr/>
            <p:nvPr/>
          </p:nvSpPr>
          <p:spPr>
            <a:xfrm>
              <a:off x="883440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011" name=""/>
            <p:cNvSpPr/>
            <p:nvPr/>
          </p:nvSpPr>
          <p:spPr>
            <a:xfrm>
              <a:off x="8903880" y="681660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12" name=""/>
            <p:cNvSpPr/>
            <p:nvPr/>
          </p:nvSpPr>
          <p:spPr>
            <a:xfrm>
              <a:off x="8231040" y="673812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3013" name=""/>
            <p:cNvSpPr/>
            <p:nvPr/>
          </p:nvSpPr>
          <p:spPr>
            <a:xfrm flipH="1">
              <a:off x="8201520" y="680976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3014" name=""/>
            <p:cNvSpPr/>
            <p:nvPr/>
          </p:nvSpPr>
          <p:spPr>
            <a:xfrm>
              <a:off x="9062280" y="68036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15" name=""/>
            <p:cNvSpPr/>
            <p:nvPr/>
          </p:nvSpPr>
          <p:spPr>
            <a:xfrm>
              <a:off x="8876160" y="675540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3016" name=""/>
            <p:cNvSpPr/>
            <p:nvPr/>
          </p:nvSpPr>
          <p:spPr>
            <a:xfrm>
              <a:off x="900108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017" name=""/>
            <p:cNvSpPr/>
            <p:nvPr/>
          </p:nvSpPr>
          <p:spPr>
            <a:xfrm flipH="1">
              <a:off x="9045360" y="670896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3018" name=""/>
            <p:cNvSpPr/>
            <p:nvPr/>
          </p:nvSpPr>
          <p:spPr>
            <a:xfrm>
              <a:off x="9113760" y="647424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3019" name=""/>
            <p:cNvSpPr/>
            <p:nvPr/>
          </p:nvSpPr>
          <p:spPr>
            <a:xfrm>
              <a:off x="7747200" y="681228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3020" name=""/>
            <p:cNvSpPr/>
            <p:nvPr/>
          </p:nvSpPr>
          <p:spPr>
            <a:xfrm>
              <a:off x="8019720" y="683100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21" name=""/>
            <p:cNvSpPr/>
            <p:nvPr/>
          </p:nvSpPr>
          <p:spPr>
            <a:xfrm flipV="1">
              <a:off x="7178760" y="681624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3022" name=""/>
            <p:cNvSpPr/>
            <p:nvPr/>
          </p:nvSpPr>
          <p:spPr>
            <a:xfrm flipH="1">
              <a:off x="8642520" y="680976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3023" name=""/>
            <p:cNvSpPr/>
            <p:nvPr/>
          </p:nvSpPr>
          <p:spPr>
            <a:xfrm flipH="1" flipV="1">
              <a:off x="7455240" y="677808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3024" name=""/>
            <p:cNvSpPr/>
            <p:nvPr/>
          </p:nvSpPr>
          <p:spPr>
            <a:xfrm flipH="1" flipV="1">
              <a:off x="845784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3025" name=""/>
            <p:cNvSpPr/>
            <p:nvPr/>
          </p:nvSpPr>
          <p:spPr>
            <a:xfrm flipH="1" flipV="1">
              <a:off x="856332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3026" name=""/>
          <p:cNvSpPr/>
          <p:nvPr/>
        </p:nvSpPr>
        <p:spPr>
          <a:xfrm>
            <a:off x="7157880" y="6141960"/>
            <a:ext cx="198612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ÉNÉTIQUE</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ET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3027" name=""/>
          <p:cNvSpPr/>
          <p:nvPr/>
        </p:nvSpPr>
        <p:spPr>
          <a:xfrm>
            <a:off x="1473120" y="644220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AAC2-E17A-4B3B-967D-256620253710}"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3028" name=""/>
          <p:cNvSpPr/>
          <p:nvPr/>
        </p:nvSpPr>
        <p:spPr>
          <a:xfrm>
            <a:off x="685800" y="6440400"/>
            <a:ext cx="72540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3029" name=""/>
          <p:cNvSpPr/>
          <p:nvPr/>
        </p:nvSpPr>
        <p:spPr>
          <a:xfrm>
            <a:off x="0" y="6470640"/>
            <a:ext cx="9144000" cy="1440"/>
          </a:xfrm>
          <a:prstGeom prst="line">
            <a:avLst/>
          </a:prstGeom>
          <a:ln w="2844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E6E64F26-9205-4650-A8FF-B4B7E1A33310}" type="datetime1">
              <a:rPr lang="en-US"/>
              <a:t>07/30/26</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30" name="" descr=""/>
          <p:cNvPicPr/>
          <p:nvPr/>
        </p:nvPicPr>
        <p:blipFill>
          <a:blip r:embed="rId1"/>
          <a:stretch/>
        </p:blipFill>
        <p:spPr>
          <a:xfrm>
            <a:off x="0" y="0"/>
            <a:ext cx="9144000" cy="6858000"/>
          </a:xfrm>
          <a:prstGeom prst="rect">
            <a:avLst/>
          </a:prstGeom>
          <a:ln w="0">
            <a:noFill/>
          </a:ln>
        </p:spPr>
      </p:pic>
      <p:sp>
        <p:nvSpPr>
          <p:cNvPr id="3031" name="PlaceHolder 1"/>
          <p:cNvSpPr>
            <a:spLocks noGrp="1"/>
          </p:cNvSpPr>
          <p:nvPr>
            <p:ph/>
          </p:nvPr>
        </p:nvSpPr>
        <p:spPr>
          <a:xfrm>
            <a:off x="685800" y="1981080"/>
            <a:ext cx="7772400" cy="3524400"/>
          </a:xfrm>
          <a:prstGeom prst="rect">
            <a:avLst/>
          </a:prstGeom>
          <a:noFill/>
          <a:ln w="9360">
            <a:solidFill>
              <a:srgbClr val="ff3300"/>
            </a:solidFill>
            <a:miter/>
          </a:ln>
        </p:spPr>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Conditioning tests</a:t>
            </a:r>
            <a:endParaRPr b="1" lang="en-US" sz="2400" spc="-1" strike="noStrike">
              <a:solidFill>
                <a:srgbClr val="0066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ctive avoidance </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learned helplessness</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ced swimming test (Porsolt)</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ditioned taste aversion</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ear conditioning (context specific, stimulus specific)</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t>
            </a:r>
            <a:endParaRPr b="1" lang="en-US" sz="2000" spc="-1" strike="noStrike">
              <a:solidFill>
                <a:srgbClr val="000066"/>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Any behavioral test, where emotional reactivity is an intervening, frequently undesirable variable</a:t>
            </a:r>
            <a:endParaRPr b="1" lang="en-US" sz="2400" spc="-1" strike="noStrike">
              <a:solidFill>
                <a:srgbClr val="006600"/>
              </a:solidFill>
              <a:latin typeface="Comic Sans MS"/>
            </a:endParaRPr>
          </a:p>
        </p:txBody>
      </p:sp>
      <p:sp>
        <p:nvSpPr>
          <p:cNvPr id="3032"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ECC3AADD-6BE1-42E7-8907-9E146B0FFEC9}" type="datetime1">
              <a:rPr lang="en-US"/>
              <a:t>07/30/26</a:t>
            </a:fld>
          </a:p>
        </p:txBody>
      </p:sp>
    </p:spTree>
  </p:cSld>
  <p:transition spd="med">
    <p:wipe dir="r"/>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6">
                                  <p:stCondLst>
                                    <p:cond delay="0"/>
                                  </p:stCondLst>
                                  <p:childTnLst>
                                    <p:set>
                                      <p:cBhvr>
                                        <p:cTn id="223" dur="1" fill="hold">
                                          <p:stCondLst>
                                            <p:cond delay="0"/>
                                          </p:stCondLst>
                                        </p:cTn>
                                        <p:tgtEl>
                                          <p:spTgt spid="3031">
                                            <p:txEl>
                                              <p:pRg st="0" end="0"/>
                                            </p:txEl>
                                          </p:spTgt>
                                        </p:tgtEl>
                                        <p:attrNameLst>
                                          <p:attrName>style.visibility</p:attrName>
                                        </p:attrNameLst>
                                      </p:cBhvr>
                                      <p:to>
                                        <p:strVal val="visible"/>
                                      </p:to>
                                    </p:set>
                                    <p:anim calcmode="lin" valueType="num">
                                      <p:cBhvr additive="base">
                                        <p:cTn id="224" dur="500" fill="hold"/>
                                        <p:tgtEl>
                                          <p:spTgt spid="3031">
                                            <p:txEl>
                                              <p:pRg st="0" end="0"/>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3031">
                                            <p:txEl>
                                              <p:pRg st="0" end="0"/>
                                            </p:txEl>
                                          </p:spTgt>
                                        </p:tgtEl>
                                        <p:attrNameLst>
                                          <p:attrName>ppt_y</p:attrName>
                                        </p:attrNameLst>
                                      </p:cBhvr>
                                      <p:tavLst>
                                        <p:tav tm="0">
                                          <p:val>
                                            <p:strVal val="1+#ppt_h/2"/>
                                          </p:val>
                                        </p:tav>
                                        <p:tav tm="100000">
                                          <p:val>
                                            <p:strVal val="#ppt_y"/>
                                          </p:val>
                                        </p:tav>
                                      </p:tavLst>
                                    </p:anim>
                                  </p:childTnLst>
                                </p:cTn>
                              </p:par>
                              <p:par>
                                <p:cTn id="226" nodeType="withEffect" fill="hold" presetClass="entr" presetID="2" presetSubtype="6">
                                  <p:stCondLst>
                                    <p:cond delay="0"/>
                                  </p:stCondLst>
                                  <p:childTnLst>
                                    <p:set>
                                      <p:cBhvr>
                                        <p:cTn id="227" dur="1" fill="hold">
                                          <p:stCondLst>
                                            <p:cond delay="0"/>
                                          </p:stCondLst>
                                        </p:cTn>
                                        <p:tgtEl>
                                          <p:spTgt spid="3031">
                                            <p:txEl>
                                              <p:pRg st="1" end="1"/>
                                            </p:txEl>
                                          </p:spTgt>
                                        </p:tgtEl>
                                        <p:attrNameLst>
                                          <p:attrName>style.visibility</p:attrName>
                                        </p:attrNameLst>
                                      </p:cBhvr>
                                      <p:to>
                                        <p:strVal val="visible"/>
                                      </p:to>
                                    </p:set>
                                    <p:anim calcmode="lin" valueType="num">
                                      <p:cBhvr additive="base">
                                        <p:cTn id="228" dur="500" fill="hold"/>
                                        <p:tgtEl>
                                          <p:spTgt spid="3031">
                                            <p:txEl>
                                              <p:pRg st="1" end="1"/>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3031">
                                            <p:txEl>
                                              <p:pRg st="1" end="1"/>
                                            </p:txEl>
                                          </p:spTgt>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6">
                                  <p:stCondLst>
                                    <p:cond delay="0"/>
                                  </p:stCondLst>
                                  <p:childTnLst>
                                    <p:set>
                                      <p:cBhvr>
                                        <p:cTn id="231" dur="1" fill="hold">
                                          <p:stCondLst>
                                            <p:cond delay="0"/>
                                          </p:stCondLst>
                                        </p:cTn>
                                        <p:tgtEl>
                                          <p:spTgt spid="3031">
                                            <p:txEl>
                                              <p:pRg st="2" end="2"/>
                                            </p:txEl>
                                          </p:spTgt>
                                        </p:tgtEl>
                                        <p:attrNameLst>
                                          <p:attrName>style.visibility</p:attrName>
                                        </p:attrNameLst>
                                      </p:cBhvr>
                                      <p:to>
                                        <p:strVal val="visible"/>
                                      </p:to>
                                    </p:set>
                                    <p:anim calcmode="lin" valueType="num">
                                      <p:cBhvr additive="base">
                                        <p:cTn id="232" dur="500" fill="hold"/>
                                        <p:tgtEl>
                                          <p:spTgt spid="3031">
                                            <p:txEl>
                                              <p:pRg st="2" end="2"/>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3031">
                                            <p:txEl>
                                              <p:pRg st="2" end="2"/>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6">
                                  <p:stCondLst>
                                    <p:cond delay="0"/>
                                  </p:stCondLst>
                                  <p:childTnLst>
                                    <p:set>
                                      <p:cBhvr>
                                        <p:cTn id="235" dur="1" fill="hold">
                                          <p:stCondLst>
                                            <p:cond delay="0"/>
                                          </p:stCondLst>
                                        </p:cTn>
                                        <p:tgtEl>
                                          <p:spTgt spid="3031">
                                            <p:txEl>
                                              <p:pRg st="3" end="3"/>
                                            </p:txEl>
                                          </p:spTgt>
                                        </p:tgtEl>
                                        <p:attrNameLst>
                                          <p:attrName>style.visibility</p:attrName>
                                        </p:attrNameLst>
                                      </p:cBhvr>
                                      <p:to>
                                        <p:strVal val="visible"/>
                                      </p:to>
                                    </p:set>
                                    <p:anim calcmode="lin" valueType="num">
                                      <p:cBhvr additive="base">
                                        <p:cTn id="236" dur="500" fill="hold"/>
                                        <p:tgtEl>
                                          <p:spTgt spid="3031">
                                            <p:txEl>
                                              <p:pRg st="3" end="3"/>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3031">
                                            <p:txEl>
                                              <p:pRg st="3" end="3"/>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6">
                                  <p:stCondLst>
                                    <p:cond delay="0"/>
                                  </p:stCondLst>
                                  <p:childTnLst>
                                    <p:set>
                                      <p:cBhvr>
                                        <p:cTn id="239" dur="1" fill="hold">
                                          <p:stCondLst>
                                            <p:cond delay="0"/>
                                          </p:stCondLst>
                                        </p:cTn>
                                        <p:tgtEl>
                                          <p:spTgt spid="3031">
                                            <p:txEl>
                                              <p:pRg st="4" end="4"/>
                                            </p:txEl>
                                          </p:spTgt>
                                        </p:tgtEl>
                                        <p:attrNameLst>
                                          <p:attrName>style.visibility</p:attrName>
                                        </p:attrNameLst>
                                      </p:cBhvr>
                                      <p:to>
                                        <p:strVal val="visible"/>
                                      </p:to>
                                    </p:set>
                                    <p:anim calcmode="lin" valueType="num">
                                      <p:cBhvr additive="base">
                                        <p:cTn id="240" dur="500" fill="hold"/>
                                        <p:tgtEl>
                                          <p:spTgt spid="3031">
                                            <p:txEl>
                                              <p:pRg st="4" end="4"/>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3031">
                                            <p:txEl>
                                              <p:pRg st="4" end="4"/>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6">
                                  <p:stCondLst>
                                    <p:cond delay="0"/>
                                  </p:stCondLst>
                                  <p:childTnLst>
                                    <p:set>
                                      <p:cBhvr>
                                        <p:cTn id="243" dur="1" fill="hold">
                                          <p:stCondLst>
                                            <p:cond delay="0"/>
                                          </p:stCondLst>
                                        </p:cTn>
                                        <p:tgtEl>
                                          <p:spTgt spid="3031">
                                            <p:txEl>
                                              <p:pRg st="5" end="5"/>
                                            </p:txEl>
                                          </p:spTgt>
                                        </p:tgtEl>
                                        <p:attrNameLst>
                                          <p:attrName>style.visibility</p:attrName>
                                        </p:attrNameLst>
                                      </p:cBhvr>
                                      <p:to>
                                        <p:strVal val="visible"/>
                                      </p:to>
                                    </p:set>
                                    <p:anim calcmode="lin" valueType="num">
                                      <p:cBhvr additive="base">
                                        <p:cTn id="244" dur="500" fill="hold"/>
                                        <p:tgtEl>
                                          <p:spTgt spid="3031">
                                            <p:txEl>
                                              <p:pRg st="5" end="5"/>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3031">
                                            <p:txEl>
                                              <p:pRg st="5" end="5"/>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6">
                                  <p:stCondLst>
                                    <p:cond delay="0"/>
                                  </p:stCondLst>
                                  <p:childTnLst>
                                    <p:set>
                                      <p:cBhvr>
                                        <p:cTn id="247" dur="1" fill="hold">
                                          <p:stCondLst>
                                            <p:cond delay="0"/>
                                          </p:stCondLst>
                                        </p:cTn>
                                        <p:tgtEl>
                                          <p:spTgt spid="3031">
                                            <p:txEl>
                                              <p:pRg st="6" end="6"/>
                                            </p:txEl>
                                          </p:spTgt>
                                        </p:tgtEl>
                                        <p:attrNameLst>
                                          <p:attrName>style.visibility</p:attrName>
                                        </p:attrNameLst>
                                      </p:cBhvr>
                                      <p:to>
                                        <p:strVal val="visible"/>
                                      </p:to>
                                    </p:set>
                                    <p:anim calcmode="lin" valueType="num">
                                      <p:cBhvr additive="base">
                                        <p:cTn id="248" dur="500" fill="hold"/>
                                        <p:tgtEl>
                                          <p:spTgt spid="3031">
                                            <p:txEl>
                                              <p:pRg st="6" end="6"/>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30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6">
                                  <p:stCondLst>
                                    <p:cond delay="0"/>
                                  </p:stCondLst>
                                  <p:childTnLst>
                                    <p:set>
                                      <p:cBhvr>
                                        <p:cTn id="253" dur="1" fill="hold">
                                          <p:stCondLst>
                                            <p:cond delay="0"/>
                                          </p:stCondLst>
                                        </p:cTn>
                                        <p:tgtEl>
                                          <p:spTgt spid="3031">
                                            <p:txEl>
                                              <p:pRg st="7" end="7"/>
                                            </p:txEl>
                                          </p:spTgt>
                                        </p:tgtEl>
                                        <p:attrNameLst>
                                          <p:attrName>style.visibility</p:attrName>
                                        </p:attrNameLst>
                                      </p:cBhvr>
                                      <p:to>
                                        <p:strVal val="visible"/>
                                      </p:to>
                                    </p:set>
                                    <p:anim calcmode="lin" valueType="num">
                                      <p:cBhvr additive="base">
                                        <p:cTn id="254" dur="500" fill="hold"/>
                                        <p:tgtEl>
                                          <p:spTgt spid="3031">
                                            <p:txEl>
                                              <p:pRg st="7" end="7"/>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30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3" name=""/>
          <p:cNvSpPr/>
          <p:nvPr/>
        </p:nvSpPr>
        <p:spPr>
          <a:xfrm>
            <a:off x="204840" y="395280"/>
            <a:ext cx="8677080" cy="5503320"/>
          </a:xfrm>
          <a:prstGeom prst="rect">
            <a:avLst/>
          </a:prstGeom>
          <a:noFill/>
          <a:ln w="19080">
            <a:solidFill>
              <a:srgbClr val="006600"/>
            </a:solidFill>
            <a:miter/>
          </a:ln>
        </p:spPr>
        <p:style>
          <a:lnRef idx="0"/>
          <a:fillRef idx="0"/>
          <a:effectRef idx="0"/>
          <a:fontRef idx="minor"/>
        </p:style>
        <p:txBody>
          <a:bodyPr lIns="90000" rIns="90000" tIns="46800" bIns="46800" anchor="t">
            <a:spAutoFit/>
          </a:bodyPr>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Test / variable</a:t>
            </a:r>
            <a:r>
              <a:rPr b="0" lang="en-US" sz="1600" spc="-1" strike="noStrike">
                <a:solidFill>
                  <a:srgbClr val="663300"/>
                </a:solidFill>
                <a:latin typeface="Comic Sans MS"/>
              </a:rPr>
              <a:t>	</a:t>
            </a:r>
            <a:r>
              <a:rPr b="0" lang="en-US" sz="1600" spc="-1" strike="noStrike">
                <a:solidFill>
                  <a:srgbClr val="663300"/>
                </a:solidFill>
                <a:latin typeface="Comic Sans MS"/>
              </a:rPr>
              <a:t>Factor 1</a:t>
            </a:r>
            <a:r>
              <a:rPr b="0" lang="en-US" sz="1600" spc="-1" strike="noStrike">
                <a:solidFill>
                  <a:srgbClr val="663300"/>
                </a:solidFill>
                <a:latin typeface="Comic Sans MS"/>
              </a:rPr>
              <a:t>	</a:t>
            </a:r>
            <a:r>
              <a:rPr b="0" lang="en-US" sz="1600" spc="-1" strike="noStrike">
                <a:solidFill>
                  <a:srgbClr val="663300"/>
                </a:solidFill>
                <a:latin typeface="Comic Sans MS"/>
              </a:rPr>
              <a:t>Factor 2</a:t>
            </a:r>
            <a:r>
              <a:rPr b="0" lang="en-US" sz="1600" spc="-1" strike="noStrike">
                <a:solidFill>
                  <a:srgbClr val="663300"/>
                </a:solidFill>
                <a:latin typeface="Comic Sans MS"/>
              </a:rPr>
              <a:t>	</a:t>
            </a:r>
            <a:r>
              <a:rPr b="0" lang="en-US" sz="1600" spc="-1" strike="noStrike">
                <a:solidFill>
                  <a:srgbClr val="663300"/>
                </a:solidFill>
                <a:latin typeface="Comic Sans MS"/>
              </a:rPr>
              <a:t>Factor 3</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000000"/>
                </a:solidFill>
                <a:latin typeface="Comic Sans MS"/>
              </a:rPr>
              <a:t>_________________________________________________________________</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Percentage of variance explained</a:t>
            </a:r>
            <a:r>
              <a:rPr b="0" lang="en-US" sz="1600" spc="-1" strike="noStrike">
                <a:solidFill>
                  <a:srgbClr val="000000"/>
                </a:solidFill>
                <a:latin typeface="Comic Sans MS"/>
              </a:rPr>
              <a:t>	</a:t>
            </a:r>
            <a:r>
              <a:rPr b="0" lang="en-US" sz="1600" spc="-1" strike="noStrike">
                <a:solidFill>
                  <a:srgbClr val="000000"/>
                </a:solidFill>
                <a:latin typeface="Comic Sans MS"/>
              </a:rPr>
              <a:t>36.6</a:t>
            </a:r>
            <a:r>
              <a:rPr b="0" lang="en-US" sz="1600" spc="-1" strike="noStrike">
                <a:solidFill>
                  <a:srgbClr val="000000"/>
                </a:solidFill>
                <a:latin typeface="Comic Sans MS"/>
              </a:rPr>
              <a:t>	</a:t>
            </a:r>
            <a:r>
              <a:rPr b="0" lang="en-US" sz="1600" spc="-1" strike="noStrike">
                <a:solidFill>
                  <a:srgbClr val="000000"/>
                </a:solidFill>
                <a:latin typeface="Comic Sans MS"/>
              </a:rPr>
              <a:t>30.3</a:t>
            </a:r>
            <a:r>
              <a:rPr b="0" lang="en-US" sz="1600" spc="-1" strike="noStrike">
                <a:solidFill>
                  <a:srgbClr val="000000"/>
                </a:solidFill>
                <a:latin typeface="Comic Sans MS"/>
              </a:rPr>
              <a:t>	</a:t>
            </a:r>
            <a:r>
              <a:rPr b="0" lang="en-US" sz="1600" spc="-1" strike="noStrike">
                <a:solidFill>
                  <a:srgbClr val="000000"/>
                </a:solidFill>
                <a:latin typeface="Comic Sans MS"/>
              </a:rPr>
              <a:t>18.3</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Open-field</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outer locomo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84</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inner locomotion</a:t>
            </a:r>
            <a:r>
              <a:rPr b="0" lang="en-US" sz="1600" spc="-1" strike="noStrike">
                <a:solidFill>
                  <a:srgbClr val="000000"/>
                </a:solidFill>
                <a:latin typeface="Comic Sans MS"/>
              </a:rPr>
              <a:t>	</a:t>
            </a:r>
            <a:r>
              <a:rPr b="0" lang="en-US" sz="1600" spc="-1" strike="noStrike">
                <a:solidFill>
                  <a:srgbClr val="009900"/>
                </a:solidFill>
                <a:latin typeface="Comic Sans MS"/>
              </a:rPr>
              <a:t>0.74</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defeca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87</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Elevated plus maze</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ime open arms </a:t>
            </a:r>
            <a:r>
              <a:rPr b="0" lang="en-US" sz="1600" spc="-1" strike="noStrike">
                <a:solidFill>
                  <a:srgbClr val="000000"/>
                </a:solidFill>
                <a:latin typeface="Comic Sans MS"/>
              </a:rPr>
              <a:t>	</a:t>
            </a:r>
            <a:r>
              <a:rPr b="0" lang="en-US" sz="1600" spc="-1" strike="noStrike">
                <a:solidFill>
                  <a:srgbClr val="009900"/>
                </a:solidFill>
                <a:latin typeface="Comic Sans MS"/>
              </a:rPr>
              <a:t>0.75</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entries in closed arms</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95</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Black and white box</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ime in white</a:t>
            </a:r>
            <a:r>
              <a:rPr b="0" lang="en-US" sz="1600" spc="-1" strike="noStrike">
                <a:solidFill>
                  <a:srgbClr val="000000"/>
                </a:solidFill>
                <a:latin typeface="Comic Sans MS"/>
              </a:rPr>
              <a:t>	</a:t>
            </a:r>
            <a:r>
              <a:rPr b="0" lang="en-US" sz="1600" spc="-1" strike="noStrike">
                <a:solidFill>
                  <a:srgbClr val="009900"/>
                </a:solidFill>
                <a:latin typeface="Comic Sans MS"/>
              </a:rPr>
              <a:t>0.87</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ransitions</a:t>
            </a:r>
            <a:r>
              <a:rPr b="0" lang="en-US" sz="1600" spc="-1" strike="noStrike">
                <a:solidFill>
                  <a:srgbClr val="000000"/>
                </a:solidFill>
                <a:latin typeface="Comic Sans MS"/>
              </a:rPr>
              <a:t>	</a:t>
            </a:r>
            <a:r>
              <a:rPr b="0" lang="en-US" sz="1600" spc="-1" strike="noStrike">
                <a:solidFill>
                  <a:srgbClr val="009900"/>
                </a:solidFill>
                <a:latin typeface="Comic Sans MS"/>
              </a:rPr>
              <a:t>0.91</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defeca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88</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Social interaction</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locomotion</a:t>
            </a:r>
            <a:r>
              <a:rPr b="0" lang="en-US" sz="1600" spc="-1" strike="noStrike">
                <a:solidFill>
                  <a:srgbClr val="000000"/>
                </a:solidFill>
                <a:latin typeface="Comic Sans MS"/>
              </a:rPr>
              <a:t>	</a:t>
            </a:r>
            <a:r>
              <a:rPr b="0" lang="en-US" sz="1600" spc="-1" strike="noStrike">
                <a:solidFill>
                  <a:srgbClr val="009900"/>
                </a:solidFill>
                <a:latin typeface="Comic Sans MS"/>
              </a:rPr>
              <a:t>0.73</a:t>
            </a:r>
            <a:r>
              <a:rPr b="0" lang="en-US" sz="1600" spc="-1" strike="noStrike">
                <a:solidFill>
                  <a:srgbClr val="009900"/>
                </a:solidFill>
                <a:latin typeface="Comic Sans MS"/>
              </a:rPr>
              <a:t>	</a:t>
            </a:r>
            <a:r>
              <a:rPr b="0" lang="en-US" sz="1600" spc="-1" strike="noStrike">
                <a:solidFill>
                  <a:srgbClr val="009900"/>
                </a:solidFill>
                <a:latin typeface="Comic Sans MS"/>
              </a:rPr>
              <a:t>0.54</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ime of social interac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70</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Tentative interpretation</a:t>
            </a:r>
            <a:r>
              <a:rPr b="0" lang="en-US" sz="1600" spc="-1" strike="noStrike">
                <a:solidFill>
                  <a:srgbClr val="663300"/>
                </a:solidFill>
                <a:latin typeface="Comic Sans MS"/>
              </a:rPr>
              <a:t>	</a:t>
            </a:r>
            <a:r>
              <a:rPr b="0" lang="en-US" sz="1600" spc="-1" strike="noStrike">
                <a:solidFill>
                  <a:srgbClr val="663300"/>
                </a:solidFill>
                <a:latin typeface="Comic Sans MS"/>
              </a:rPr>
              <a:t>anxiety-related</a:t>
            </a:r>
            <a:r>
              <a:rPr b="0" lang="en-US" sz="1600" spc="-1" strike="noStrike">
                <a:solidFill>
                  <a:srgbClr val="663300"/>
                </a:solidFill>
                <a:latin typeface="Comic Sans MS"/>
              </a:rPr>
              <a:t>	</a:t>
            </a:r>
            <a:r>
              <a:rPr b="0" lang="en-US" sz="1600" spc="-1" strike="noStrike">
                <a:solidFill>
                  <a:srgbClr val="663300"/>
                </a:solidFill>
                <a:latin typeface="Comic Sans MS"/>
              </a:rPr>
              <a:t>motor</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	</a:t>
            </a:r>
            <a:r>
              <a:rPr b="0" lang="en-US" sz="1600" spc="-1" strike="noStrike">
                <a:solidFill>
                  <a:srgbClr val="663300"/>
                </a:solidFill>
                <a:latin typeface="Comic Sans MS"/>
              </a:rPr>
              <a:t>behaviors</a:t>
            </a:r>
            <a:r>
              <a:rPr b="0" lang="en-US" sz="1600" spc="-1" strike="noStrike">
                <a:solidFill>
                  <a:srgbClr val="663300"/>
                </a:solidFill>
                <a:latin typeface="Comic Sans MS"/>
              </a:rPr>
              <a:t>	</a:t>
            </a:r>
            <a:r>
              <a:rPr b="0" lang="en-US" sz="1600" spc="-1" strike="noStrike">
                <a:solidFill>
                  <a:srgbClr val="663300"/>
                </a:solidFill>
                <a:latin typeface="Comic Sans MS"/>
              </a:rPr>
              <a:t>activity</a:t>
            </a: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3034" name=""/>
          <p:cNvSpPr/>
          <p:nvPr/>
        </p:nvSpPr>
        <p:spPr>
          <a:xfrm>
            <a:off x="544320" y="61466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7C61BEB3-4157-42FD-84E2-2B82BB36DFE4}" type="datetime1">
              <a:rPr lang="en-US"/>
              <a:t>07/30/26</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5" name=""/>
          <p:cNvSpPr/>
          <p:nvPr/>
        </p:nvSpPr>
        <p:spPr>
          <a:xfrm>
            <a:off x="2611440" y="426960"/>
            <a:ext cx="5883120" cy="5865840"/>
          </a:xfrm>
          <a:prstGeom prst="ellipse">
            <a:avLst/>
          </a:prstGeom>
          <a:solidFill>
            <a:srgbClr val="ccff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36" name=""/>
          <p:cNvSpPr/>
          <p:nvPr/>
        </p:nvSpPr>
        <p:spPr>
          <a:xfrm>
            <a:off x="4646520" y="2282760"/>
            <a:ext cx="1863720" cy="2154240"/>
          </a:xfrm>
          <a:prstGeom prst="ellipse">
            <a:avLst/>
          </a:prstGeom>
          <a:solidFill>
            <a:srgbClr val="ccff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37" name=""/>
          <p:cNvSpPr/>
          <p:nvPr/>
        </p:nvSpPr>
        <p:spPr>
          <a:xfrm>
            <a:off x="3051000" y="3236760"/>
            <a:ext cx="505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38" name=""/>
          <p:cNvSpPr/>
          <p:nvPr/>
        </p:nvSpPr>
        <p:spPr>
          <a:xfrm>
            <a:off x="5664240" y="614520"/>
            <a:ext cx="7920" cy="566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39" name=""/>
          <p:cNvSpPr/>
          <p:nvPr/>
        </p:nvSpPr>
        <p:spPr>
          <a:xfrm>
            <a:off x="2904480" y="274680"/>
            <a:ext cx="351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UROTICISM - </a:t>
            </a:r>
            <a:r>
              <a:rPr b="1" lang="en-US" sz="2000" spc="-1" strike="noStrike">
                <a:solidFill>
                  <a:srgbClr val="009900"/>
                </a:solidFill>
                <a:latin typeface="Comic Sans MS"/>
              </a:rPr>
              <a:t>UNSTABLE</a:t>
            </a:r>
            <a:endParaRPr b="0" lang="en-US" sz="2000" spc="-1" strike="noStrike">
              <a:solidFill>
                <a:srgbClr val="000000"/>
              </a:solidFill>
              <a:latin typeface="Comic Sans MS"/>
            </a:endParaRPr>
          </a:p>
        </p:txBody>
      </p:sp>
      <p:sp>
        <p:nvSpPr>
          <p:cNvPr id="3040" name=""/>
          <p:cNvSpPr/>
          <p:nvPr/>
        </p:nvSpPr>
        <p:spPr>
          <a:xfrm>
            <a:off x="218520" y="3044880"/>
            <a:ext cx="412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ROVERSION -</a:t>
            </a:r>
            <a:r>
              <a:rPr b="1" lang="en-US" sz="2000" spc="-1" strike="noStrike">
                <a:solidFill>
                  <a:srgbClr val="009900"/>
                </a:solidFill>
                <a:latin typeface="Comic Sans MS"/>
              </a:rPr>
              <a:t> INTROVERTED</a:t>
            </a:r>
            <a:endParaRPr b="0" lang="en-US" sz="2000" spc="-1" strike="noStrike">
              <a:solidFill>
                <a:srgbClr val="000000"/>
              </a:solidFill>
              <a:latin typeface="Comic Sans MS"/>
            </a:endParaRPr>
          </a:p>
        </p:txBody>
      </p:sp>
      <p:sp>
        <p:nvSpPr>
          <p:cNvPr id="3041" name=""/>
          <p:cNvSpPr/>
          <p:nvPr/>
        </p:nvSpPr>
        <p:spPr>
          <a:xfrm>
            <a:off x="7022160" y="3044880"/>
            <a:ext cx="1941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TRAVERTED</a:t>
            </a:r>
            <a:endParaRPr b="0" lang="en-US" sz="2000" spc="-1" strike="noStrike">
              <a:solidFill>
                <a:srgbClr val="000000"/>
              </a:solidFill>
              <a:latin typeface="Comic Sans MS"/>
            </a:endParaRPr>
          </a:p>
        </p:txBody>
      </p:sp>
      <p:sp>
        <p:nvSpPr>
          <p:cNvPr id="3042" name=""/>
          <p:cNvSpPr/>
          <p:nvPr/>
        </p:nvSpPr>
        <p:spPr>
          <a:xfrm>
            <a:off x="5175360" y="6006960"/>
            <a:ext cx="1101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STABLE</a:t>
            </a:r>
            <a:endParaRPr b="0" lang="en-US" sz="2000" spc="-1" strike="noStrike">
              <a:solidFill>
                <a:srgbClr val="000000"/>
              </a:solidFill>
              <a:latin typeface="Comic Sans MS"/>
            </a:endParaRPr>
          </a:p>
        </p:txBody>
      </p:sp>
      <p:sp>
        <p:nvSpPr>
          <p:cNvPr id="3043" name=""/>
          <p:cNvSpPr/>
          <p:nvPr/>
        </p:nvSpPr>
        <p:spPr>
          <a:xfrm>
            <a:off x="5737320" y="660240"/>
            <a:ext cx="26938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uch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stles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ggres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xcit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hange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Impul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Optimist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1" lang="en-US" sz="1800" spc="-1" strike="noStrike">
                <a:solidFill>
                  <a:srgbClr val="ff3300"/>
                </a:solidFill>
                <a:latin typeface="Comic Sans MS"/>
              </a:rPr>
              <a:t>Active</a:t>
            </a:r>
            <a:endParaRPr b="0" lang="en-US" sz="1800" spc="-1" strike="noStrike">
              <a:solidFill>
                <a:srgbClr val="000000"/>
              </a:solidFill>
              <a:latin typeface="Comic Sans MS"/>
            </a:endParaRPr>
          </a:p>
        </p:txBody>
      </p:sp>
      <p:sp>
        <p:nvSpPr>
          <p:cNvPr id="3044" name=""/>
          <p:cNvSpPr/>
          <p:nvPr/>
        </p:nvSpPr>
        <p:spPr>
          <a:xfrm>
            <a:off x="3063960" y="652320"/>
            <a:ext cx="25416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Mood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1" lang="en-US" sz="1800" spc="-1" strike="noStrike">
                <a:solidFill>
                  <a:srgbClr val="ff3300"/>
                </a:solidFill>
                <a:latin typeface="Comic Sans MS"/>
              </a:rPr>
              <a:t>Anxiou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igi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obe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essimist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serv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soc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Quiet</a:t>
            </a:r>
            <a:endParaRPr b="0" lang="en-US" sz="1800" spc="-1" strike="noStrike">
              <a:solidFill>
                <a:srgbClr val="000000"/>
              </a:solidFill>
              <a:latin typeface="Comic Sans MS"/>
            </a:endParaRPr>
          </a:p>
        </p:txBody>
      </p:sp>
      <p:sp>
        <p:nvSpPr>
          <p:cNvPr id="3045" name=""/>
          <p:cNvSpPr/>
          <p:nvPr/>
        </p:nvSpPr>
        <p:spPr>
          <a:xfrm>
            <a:off x="2911320" y="3589200"/>
            <a:ext cx="307836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Pas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arefu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Thoughtfu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eacefu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ontroll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l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ven-temper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alm</a:t>
            </a:r>
            <a:endParaRPr b="0" lang="en-US" sz="1800" spc="-1" strike="noStrike">
              <a:solidFill>
                <a:srgbClr val="000000"/>
              </a:solidFill>
              <a:latin typeface="Comic Sans MS"/>
            </a:endParaRPr>
          </a:p>
        </p:txBody>
      </p:sp>
      <p:sp>
        <p:nvSpPr>
          <p:cNvPr id="3046" name=""/>
          <p:cNvSpPr/>
          <p:nvPr/>
        </p:nvSpPr>
        <p:spPr>
          <a:xfrm>
            <a:off x="5877000" y="3576600"/>
            <a:ext cx="273996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oc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Outgoing</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Talkat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spon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asygoing</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Livel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arefre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adership</a:t>
            </a:r>
            <a:endParaRPr b="0" lang="en-US" sz="1800" spc="-1" strike="noStrike">
              <a:solidFill>
                <a:srgbClr val="000000"/>
              </a:solidFill>
              <a:latin typeface="Comic Sans MS"/>
            </a:endParaRPr>
          </a:p>
        </p:txBody>
      </p:sp>
      <p:sp>
        <p:nvSpPr>
          <p:cNvPr id="3047" name=""/>
          <p:cNvSpPr/>
          <p:nvPr/>
        </p:nvSpPr>
        <p:spPr>
          <a:xfrm rot="18840000">
            <a:off x="4156560" y="2485440"/>
            <a:ext cx="1673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ELANCHOLIC</a:t>
            </a:r>
            <a:endParaRPr b="0" lang="en-US" sz="1600" spc="-1" strike="noStrike">
              <a:solidFill>
                <a:srgbClr val="000000"/>
              </a:solidFill>
              <a:latin typeface="Comic Sans MS"/>
            </a:endParaRPr>
          </a:p>
        </p:txBody>
      </p:sp>
      <p:sp>
        <p:nvSpPr>
          <p:cNvPr id="3048" name=""/>
          <p:cNvSpPr/>
          <p:nvPr/>
        </p:nvSpPr>
        <p:spPr>
          <a:xfrm rot="2700000">
            <a:off x="5589720" y="2457000"/>
            <a:ext cx="1198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HOLERIC</a:t>
            </a:r>
            <a:endParaRPr b="0" lang="en-US" sz="1600" spc="-1" strike="noStrike">
              <a:solidFill>
                <a:srgbClr val="000000"/>
              </a:solidFill>
              <a:latin typeface="Comic Sans MS"/>
            </a:endParaRPr>
          </a:p>
        </p:txBody>
      </p:sp>
      <p:sp>
        <p:nvSpPr>
          <p:cNvPr id="3049" name=""/>
          <p:cNvSpPr/>
          <p:nvPr/>
        </p:nvSpPr>
        <p:spPr>
          <a:xfrm rot="2760000">
            <a:off x="4214160" y="3810960"/>
            <a:ext cx="1495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PHLEGMATIC</a:t>
            </a:r>
            <a:endParaRPr b="0" lang="en-US" sz="1600" spc="-1" strike="noStrike">
              <a:solidFill>
                <a:srgbClr val="000000"/>
              </a:solidFill>
              <a:latin typeface="Comic Sans MS"/>
            </a:endParaRPr>
          </a:p>
        </p:txBody>
      </p:sp>
      <p:sp>
        <p:nvSpPr>
          <p:cNvPr id="3050" name=""/>
          <p:cNvSpPr/>
          <p:nvPr/>
        </p:nvSpPr>
        <p:spPr>
          <a:xfrm rot="18840000">
            <a:off x="5648760" y="379584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ANGUINE</a:t>
            </a:r>
            <a:endParaRPr b="0" lang="en-US" sz="1600" spc="-1" strike="noStrike">
              <a:solidFill>
                <a:srgbClr val="000000"/>
              </a:solidFill>
              <a:latin typeface="Comic Sans MS"/>
            </a:endParaRPr>
          </a:p>
        </p:txBody>
      </p:sp>
      <p:sp>
        <p:nvSpPr>
          <p:cNvPr id="3051" name="PlaceHolder 1"/>
          <p:cNvSpPr>
            <a:spLocks noGrp="1"/>
          </p:cNvSpPr>
          <p:nvPr>
            <p:ph type="title"/>
          </p:nvPr>
        </p:nvSpPr>
        <p:spPr>
          <a:xfrm>
            <a:off x="0" y="4964040"/>
            <a:ext cx="3749760" cy="12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The two major axes of personality (Eysenck)</a:t>
            </a:r>
            <a:endParaRPr b="0" lang="en-US" sz="2800" spc="-1" strike="noStrike">
              <a:solidFill>
                <a:srgbClr val="ff33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690485E3-9F12-48A2-86B3-442A00243D98}" type="datetime1">
              <a:rPr lang="en-US"/>
              <a:t>07/30/26</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2" name="PlaceHolder 1"/>
          <p:cNvSpPr>
            <a:spLocks noGrp="1"/>
          </p:cNvSpPr>
          <p:nvPr>
            <p:ph type="title"/>
          </p:nvPr>
        </p:nvSpPr>
        <p:spPr>
          <a:xfrm rot="16200000">
            <a:off x="-1928520" y="2773440"/>
            <a:ext cx="581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istribution of strains on the two main dimensions of emotional reactivity</a:t>
            </a:r>
            <a:endParaRPr b="0" lang="en-US" sz="2400" spc="-1" strike="noStrike">
              <a:solidFill>
                <a:srgbClr val="ff3300"/>
              </a:solidFill>
              <a:latin typeface="Comic Sans MS"/>
            </a:endParaRPr>
          </a:p>
        </p:txBody>
      </p:sp>
      <p:sp>
        <p:nvSpPr>
          <p:cNvPr id="3053" name=""/>
          <p:cNvSpPr/>
          <p:nvPr/>
        </p:nvSpPr>
        <p:spPr>
          <a:xfrm>
            <a:off x="1270080" y="1035000"/>
            <a:ext cx="6254640" cy="5424480"/>
          </a:xfrm>
          <a:custGeom>
            <a:avLst/>
            <a:gdLst/>
            <a:ahLst/>
            <a:rect l="l" t="t" r="r" b="b"/>
            <a:pathLst>
              <a:path w="4327" h="3829">
                <a:moveTo>
                  <a:pt x="0" y="0"/>
                </a:moveTo>
                <a:lnTo>
                  <a:pt x="0" y="3828"/>
                </a:lnTo>
                <a:lnTo>
                  <a:pt x="4326" y="3828"/>
                </a:lnTo>
                <a:lnTo>
                  <a:pt x="4326"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54" name=""/>
          <p:cNvSpPr/>
          <p:nvPr/>
        </p:nvSpPr>
        <p:spPr>
          <a:xfrm>
            <a:off x="3612600" y="487440"/>
            <a:ext cx="1204200" cy="1003680"/>
          </a:xfrm>
          <a:prstGeom prst="rect">
            <a:avLst/>
          </a:prstGeom>
          <a:solidFill>
            <a:srgbClr val="ccccff"/>
          </a:solidFill>
          <a:ln w="12600">
            <a:solidFill>
              <a:srgbClr val="3333cc"/>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actor 1</a:t>
            </a:r>
            <a:endParaRPr b="0" lang="en-US" sz="20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anxiety-</a:t>
            </a:r>
            <a:endParaRPr b="0" lang="en-US" sz="20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related)</a:t>
            </a:r>
            <a:endParaRPr b="0" lang="en-US" sz="2000" spc="-1" strike="noStrike">
              <a:solidFill>
                <a:srgbClr val="000000"/>
              </a:solidFill>
              <a:latin typeface="Comic Sans MS"/>
            </a:endParaRPr>
          </a:p>
        </p:txBody>
      </p:sp>
      <p:sp>
        <p:nvSpPr>
          <p:cNvPr id="3055" name=""/>
          <p:cNvSpPr/>
          <p:nvPr/>
        </p:nvSpPr>
        <p:spPr>
          <a:xfrm>
            <a:off x="6865560" y="2897280"/>
            <a:ext cx="1688760" cy="698760"/>
          </a:xfrm>
          <a:prstGeom prst="rect">
            <a:avLst/>
          </a:prstGeom>
          <a:solidFill>
            <a:srgbClr val="ccccff"/>
          </a:solidFill>
          <a:ln w="12600">
            <a:solidFill>
              <a:srgbClr val="3333cc"/>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actor 2</a:t>
            </a:r>
            <a:endParaRPr b="0" lang="en-US" sz="20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locomotion)</a:t>
            </a:r>
            <a:endParaRPr b="0" lang="en-US" sz="2000" spc="-1" strike="noStrike">
              <a:solidFill>
                <a:srgbClr val="000000"/>
              </a:solidFill>
              <a:latin typeface="Comic Sans MS"/>
            </a:endParaRPr>
          </a:p>
        </p:txBody>
      </p:sp>
      <p:sp>
        <p:nvSpPr>
          <p:cNvPr id="3056" name=""/>
          <p:cNvSpPr/>
          <p:nvPr/>
        </p:nvSpPr>
        <p:spPr>
          <a:xfrm>
            <a:off x="2416320" y="738360"/>
            <a:ext cx="5248080" cy="5840280"/>
          </a:xfrm>
          <a:custGeom>
            <a:avLst/>
            <a:gdLst/>
            <a:ahLst/>
            <a:rect l="l" t="t" r="r" b="b"/>
            <a:pathLst>
              <a:path w="3392" h="3187">
                <a:moveTo>
                  <a:pt x="0" y="0"/>
                </a:moveTo>
                <a:lnTo>
                  <a:pt x="0" y="3186"/>
                </a:lnTo>
                <a:lnTo>
                  <a:pt x="3391" y="3186"/>
                </a:lnTo>
                <a:lnTo>
                  <a:pt x="3391"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57" name=""/>
          <p:cNvSpPr/>
          <p:nvPr/>
        </p:nvSpPr>
        <p:spPr>
          <a:xfrm>
            <a:off x="2432160" y="3651120"/>
            <a:ext cx="5222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58" name=""/>
          <p:cNvSpPr/>
          <p:nvPr/>
        </p:nvSpPr>
        <p:spPr>
          <a:xfrm flipV="1">
            <a:off x="241632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59" name=""/>
          <p:cNvSpPr/>
          <p:nvPr/>
        </p:nvSpPr>
        <p:spPr>
          <a:xfrm flipV="1">
            <a:off x="372744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0" name=""/>
          <p:cNvSpPr/>
          <p:nvPr/>
        </p:nvSpPr>
        <p:spPr>
          <a:xfrm flipV="1">
            <a:off x="635004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1" name=""/>
          <p:cNvSpPr/>
          <p:nvPr/>
        </p:nvSpPr>
        <p:spPr>
          <a:xfrm flipV="1">
            <a:off x="766296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2" name=""/>
          <p:cNvSpPr/>
          <p:nvPr/>
        </p:nvSpPr>
        <p:spPr>
          <a:xfrm flipV="1">
            <a:off x="5029200" y="730080"/>
            <a:ext cx="0" cy="587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3" name=""/>
          <p:cNvSpPr/>
          <p:nvPr/>
        </p:nvSpPr>
        <p:spPr>
          <a:xfrm>
            <a:off x="4946760" y="6576840"/>
            <a:ext cx="7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4" name=""/>
          <p:cNvSpPr/>
          <p:nvPr/>
        </p:nvSpPr>
        <p:spPr>
          <a:xfrm>
            <a:off x="4946760" y="5116680"/>
            <a:ext cx="7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5" name=""/>
          <p:cNvSpPr/>
          <p:nvPr/>
        </p:nvSpPr>
        <p:spPr>
          <a:xfrm>
            <a:off x="4946760" y="2197080"/>
            <a:ext cx="7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6" name=""/>
          <p:cNvSpPr/>
          <p:nvPr/>
        </p:nvSpPr>
        <p:spPr>
          <a:xfrm>
            <a:off x="4946760" y="736560"/>
            <a:ext cx="7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067" name=""/>
          <p:cNvSpPr/>
          <p:nvPr/>
        </p:nvSpPr>
        <p:spPr>
          <a:xfrm>
            <a:off x="5483160" y="671400"/>
            <a:ext cx="15264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68" name=""/>
          <p:cNvSpPr/>
          <p:nvPr/>
        </p:nvSpPr>
        <p:spPr>
          <a:xfrm>
            <a:off x="4089240" y="2473200"/>
            <a:ext cx="150840" cy="16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69" name=""/>
          <p:cNvSpPr/>
          <p:nvPr/>
        </p:nvSpPr>
        <p:spPr>
          <a:xfrm>
            <a:off x="5079960" y="3838680"/>
            <a:ext cx="15228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0" name=""/>
          <p:cNvSpPr/>
          <p:nvPr/>
        </p:nvSpPr>
        <p:spPr>
          <a:xfrm>
            <a:off x="3025800" y="4535640"/>
            <a:ext cx="15228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1" name=""/>
          <p:cNvSpPr/>
          <p:nvPr/>
        </p:nvSpPr>
        <p:spPr>
          <a:xfrm>
            <a:off x="5789520" y="1549440"/>
            <a:ext cx="150840" cy="165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2" name=""/>
          <p:cNvSpPr/>
          <p:nvPr/>
        </p:nvSpPr>
        <p:spPr>
          <a:xfrm>
            <a:off x="4667400" y="2357280"/>
            <a:ext cx="15084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3" name=""/>
          <p:cNvSpPr/>
          <p:nvPr/>
        </p:nvSpPr>
        <p:spPr>
          <a:xfrm>
            <a:off x="6621480" y="5022720"/>
            <a:ext cx="15408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4" name=""/>
          <p:cNvSpPr/>
          <p:nvPr/>
        </p:nvSpPr>
        <p:spPr>
          <a:xfrm>
            <a:off x="5864400" y="4608360"/>
            <a:ext cx="15228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5" name=""/>
          <p:cNvSpPr/>
          <p:nvPr/>
        </p:nvSpPr>
        <p:spPr>
          <a:xfrm>
            <a:off x="7169040" y="5083200"/>
            <a:ext cx="1508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6" name=""/>
          <p:cNvSpPr/>
          <p:nvPr/>
        </p:nvSpPr>
        <p:spPr>
          <a:xfrm>
            <a:off x="3014640" y="4751280"/>
            <a:ext cx="14940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7" name=""/>
          <p:cNvSpPr/>
          <p:nvPr/>
        </p:nvSpPr>
        <p:spPr>
          <a:xfrm>
            <a:off x="4782960" y="3699000"/>
            <a:ext cx="1508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8" name=""/>
          <p:cNvSpPr/>
          <p:nvPr/>
        </p:nvSpPr>
        <p:spPr>
          <a:xfrm>
            <a:off x="3919680" y="4206960"/>
            <a:ext cx="15084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79" name=""/>
          <p:cNvSpPr/>
          <p:nvPr/>
        </p:nvSpPr>
        <p:spPr>
          <a:xfrm>
            <a:off x="5649120" y="453960"/>
            <a:ext cx="684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3080" name=""/>
          <p:cNvSpPr/>
          <p:nvPr/>
        </p:nvSpPr>
        <p:spPr>
          <a:xfrm>
            <a:off x="3459960" y="2276640"/>
            <a:ext cx="684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3081" name=""/>
          <p:cNvSpPr/>
          <p:nvPr/>
        </p:nvSpPr>
        <p:spPr>
          <a:xfrm>
            <a:off x="5225760" y="363708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3082" name=""/>
          <p:cNvSpPr/>
          <p:nvPr/>
        </p:nvSpPr>
        <p:spPr>
          <a:xfrm>
            <a:off x="2368440" y="4214880"/>
            <a:ext cx="16200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Comic Sans MS"/>
            </a:endParaRPr>
          </a:p>
        </p:txBody>
      </p:sp>
      <p:sp>
        <p:nvSpPr>
          <p:cNvPr id="3083" name=""/>
          <p:cNvSpPr/>
          <p:nvPr/>
        </p:nvSpPr>
        <p:spPr>
          <a:xfrm>
            <a:off x="5950440" y="1333440"/>
            <a:ext cx="55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ff"/>
                </a:solidFill>
                <a:latin typeface="Comic Sans MS"/>
              </a:rPr>
              <a:t>BN</a:t>
            </a:r>
            <a:endParaRPr b="0" lang="en-US" sz="2000" spc="-1" strike="noStrike">
              <a:solidFill>
                <a:srgbClr val="000000"/>
              </a:solidFill>
              <a:latin typeface="Comic Sans MS"/>
            </a:endParaRPr>
          </a:p>
        </p:txBody>
      </p:sp>
      <p:sp>
        <p:nvSpPr>
          <p:cNvPr id="3084" name=""/>
          <p:cNvSpPr/>
          <p:nvPr/>
        </p:nvSpPr>
        <p:spPr>
          <a:xfrm>
            <a:off x="4343760" y="1901880"/>
            <a:ext cx="55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ff"/>
                </a:solidFill>
                <a:latin typeface="Comic Sans MS"/>
              </a:rPr>
              <a:t>BN</a:t>
            </a:r>
            <a:endParaRPr b="0" lang="en-US" sz="2000" spc="-1" strike="noStrike">
              <a:solidFill>
                <a:srgbClr val="000000"/>
              </a:solidFill>
              <a:latin typeface="Comic Sans MS"/>
            </a:endParaRPr>
          </a:p>
        </p:txBody>
      </p:sp>
      <p:sp>
        <p:nvSpPr>
          <p:cNvPr id="3085" name=""/>
          <p:cNvSpPr/>
          <p:nvPr/>
        </p:nvSpPr>
        <p:spPr>
          <a:xfrm>
            <a:off x="5946120" y="4873680"/>
            <a:ext cx="56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3086" name=""/>
          <p:cNvSpPr/>
          <p:nvPr/>
        </p:nvSpPr>
        <p:spPr>
          <a:xfrm>
            <a:off x="5947560" y="4390920"/>
            <a:ext cx="56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3087" name=""/>
          <p:cNvSpPr/>
          <p:nvPr/>
        </p:nvSpPr>
        <p:spPr>
          <a:xfrm>
            <a:off x="6833160" y="5316480"/>
            <a:ext cx="71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3088" name=""/>
          <p:cNvSpPr/>
          <p:nvPr/>
        </p:nvSpPr>
        <p:spPr>
          <a:xfrm>
            <a:off x="2391480" y="4879800"/>
            <a:ext cx="71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3089" name=""/>
          <p:cNvSpPr/>
          <p:nvPr/>
        </p:nvSpPr>
        <p:spPr>
          <a:xfrm>
            <a:off x="3582720" y="4340160"/>
            <a:ext cx="56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sp>
        <p:nvSpPr>
          <p:cNvPr id="3090" name=""/>
          <p:cNvSpPr/>
          <p:nvPr/>
        </p:nvSpPr>
        <p:spPr>
          <a:xfrm>
            <a:off x="4259520" y="3659040"/>
            <a:ext cx="56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sp>
        <p:nvSpPr>
          <p:cNvPr id="3091" name=""/>
          <p:cNvSpPr/>
          <p:nvPr/>
        </p:nvSpPr>
        <p:spPr>
          <a:xfrm>
            <a:off x="2422440" y="423072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3092" name=""/>
          <p:cNvSpPr/>
          <p:nvPr/>
        </p:nvSpPr>
        <p:spPr>
          <a:xfrm>
            <a:off x="7119720" y="1252440"/>
            <a:ext cx="116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emales</a:t>
            </a:r>
            <a:endParaRPr b="0" lang="en-US" sz="2000" spc="-1" strike="noStrike">
              <a:solidFill>
                <a:srgbClr val="000000"/>
              </a:solidFill>
              <a:latin typeface="Comic Sans MS"/>
            </a:endParaRPr>
          </a:p>
        </p:txBody>
      </p:sp>
      <p:sp>
        <p:nvSpPr>
          <p:cNvPr id="3093" name=""/>
          <p:cNvSpPr/>
          <p:nvPr/>
        </p:nvSpPr>
        <p:spPr>
          <a:xfrm>
            <a:off x="6999120" y="1370160"/>
            <a:ext cx="150840" cy="166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94" name=""/>
          <p:cNvSpPr/>
          <p:nvPr/>
        </p:nvSpPr>
        <p:spPr>
          <a:xfrm>
            <a:off x="7151040" y="795240"/>
            <a:ext cx="885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Males</a:t>
            </a:r>
            <a:endParaRPr b="0" lang="en-US" sz="2000" spc="-1" strike="noStrike">
              <a:solidFill>
                <a:srgbClr val="000000"/>
              </a:solidFill>
              <a:latin typeface="Comic Sans MS"/>
            </a:endParaRPr>
          </a:p>
        </p:txBody>
      </p:sp>
      <p:sp>
        <p:nvSpPr>
          <p:cNvPr id="3095" name=""/>
          <p:cNvSpPr/>
          <p:nvPr/>
        </p:nvSpPr>
        <p:spPr>
          <a:xfrm>
            <a:off x="6999120" y="911160"/>
            <a:ext cx="150840" cy="16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96" name=""/>
          <p:cNvSpPr/>
          <p:nvPr/>
        </p:nvSpPr>
        <p:spPr>
          <a:xfrm>
            <a:off x="6861240" y="762120"/>
            <a:ext cx="1450800" cy="93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97" name=""/>
          <p:cNvSpPr/>
          <p:nvPr/>
        </p:nvSpPr>
        <p:spPr>
          <a:xfrm>
            <a:off x="300600" y="61088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8E129D0E-CA9D-4FF9-AD75-687CBCABE844}" type="datetime1">
              <a:rPr lang="en-US"/>
              <a:t>07/30/26</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98" name="" descr=""/>
          <p:cNvPicPr/>
          <p:nvPr/>
        </p:nvPicPr>
        <p:blipFill>
          <a:blip r:embed="rId1"/>
          <a:stretch/>
        </p:blipFill>
        <p:spPr>
          <a:xfrm>
            <a:off x="0" y="0"/>
            <a:ext cx="9144000" cy="6858000"/>
          </a:xfrm>
          <a:prstGeom prst="rect">
            <a:avLst/>
          </a:prstGeom>
          <a:ln w="0">
            <a:noFill/>
          </a:ln>
        </p:spPr>
      </p:pic>
      <p:sp>
        <p:nvSpPr>
          <p:cNvPr id="3099"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Genetics and emotional behaviors</a:t>
            </a:r>
            <a:br>
              <a:rPr sz="3200"/>
            </a:br>
            <a:r>
              <a:rPr b="0" lang="en-US" sz="3200" spc="-1" strike="noStrike">
                <a:solidFill>
                  <a:srgbClr val="ff3300"/>
                </a:solidFill>
                <a:latin typeface="Comic Sans MS"/>
              </a:rPr>
              <a:t>animal models</a:t>
            </a:r>
            <a:endParaRPr b="0" lang="en-US" sz="3200" spc="-1" strike="noStrike">
              <a:solidFill>
                <a:srgbClr val="000000"/>
              </a:solidFill>
              <a:latin typeface="Comic Sans MS"/>
            </a:endParaRPr>
          </a:p>
        </p:txBody>
      </p:sp>
      <p:sp>
        <p:nvSpPr>
          <p:cNvPr id="3100" name=""/>
          <p:cNvSpPr/>
          <p:nvPr/>
        </p:nvSpPr>
        <p:spPr>
          <a:xfrm>
            <a:off x="404640" y="2085840"/>
            <a:ext cx="8413920" cy="3733920"/>
          </a:xfrm>
          <a:prstGeom prst="rect">
            <a:avLst/>
          </a:prstGeom>
          <a:no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Can we define stable dimensions of temperament in experimental animals, as psychologists do in humans ?</a:t>
            </a:r>
            <a:br>
              <a:rPr sz="2400"/>
            </a:b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ff3300"/>
                </a:solidFill>
                <a:latin typeface="Comic Sans MS"/>
              </a:rPr>
              <a:t>YES</a:t>
            </a:r>
            <a:br>
              <a:rPr sz="2400"/>
            </a:br>
            <a:r>
              <a:rPr b="0" lang="en-US" sz="2400" spc="-1" strike="noStrike">
                <a:solidFill>
                  <a:srgbClr val="ff3300"/>
                </a:solidFill>
                <a:latin typeface="Comic Sans MS"/>
              </a:rPr>
              <a:t> </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Are there genetic factors responsible for the individual variations along temperamental dimensions?</a:t>
            </a:r>
            <a:br>
              <a:rPr sz="2400"/>
            </a:br>
            <a:r>
              <a:rPr b="0" lang="en-US" sz="2400" spc="-1" strike="noStrike">
                <a:solidFill>
                  <a:srgbClr val="006600"/>
                </a:solidFill>
                <a:latin typeface="Comic Sans MS"/>
              </a:rPr>
              <a:t> </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Strategies to investigate the molecular bases of genetic variability in emotional behavior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9AD2484-0D85-4C78-A37D-296AC704D79D}" type="datetime1">
              <a:rPr lang="en-US"/>
              <a:t>07/30/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01" name="" descr=""/>
          <p:cNvPicPr/>
          <p:nvPr/>
        </p:nvPicPr>
        <p:blipFill>
          <a:blip r:embed="rId1"/>
          <a:stretch/>
        </p:blipFill>
        <p:spPr>
          <a:xfrm>
            <a:off x="0" y="0"/>
            <a:ext cx="9144000" cy="6858000"/>
          </a:xfrm>
          <a:prstGeom prst="rect">
            <a:avLst/>
          </a:prstGeom>
          <a:ln w="0">
            <a:noFill/>
          </a:ln>
        </p:spPr>
      </p:pic>
      <p:sp>
        <p:nvSpPr>
          <p:cNvPr id="3102" name=""/>
          <p:cNvSpPr/>
          <p:nvPr/>
        </p:nvSpPr>
        <p:spPr>
          <a:xfrm>
            <a:off x="725400" y="66204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Genetic analysis</a:t>
            </a:r>
            <a:endParaRPr b="0" lang="en-US" sz="3200" spc="-1" strike="noStrike">
              <a:solidFill>
                <a:srgbClr val="000000"/>
              </a:solidFill>
              <a:latin typeface="Comic Sans MS"/>
            </a:endParaRPr>
          </a:p>
        </p:txBody>
      </p:sp>
      <p:sp>
        <p:nvSpPr>
          <p:cNvPr id="3103" name=""/>
          <p:cNvSpPr/>
          <p:nvPr/>
        </p:nvSpPr>
        <p:spPr>
          <a:xfrm>
            <a:off x="662040" y="2001960"/>
            <a:ext cx="7897680" cy="3547800"/>
          </a:xfrm>
          <a:prstGeom prst="rect">
            <a:avLst/>
          </a:prstGeom>
          <a:no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Differences between inbred strains born, raised and maintained in the same environment</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election experiments</a:t>
            </a:r>
            <a:endParaRPr b="0" lang="en-US" sz="24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f these traits are heritable, selective breeding should be effective in modifying the value of the character in the population</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EF583516-A910-4863-9004-D83D45310A9B}" type="datetime1">
              <a:rPr lang="en-US"/>
              <a:t>07/30/26</a:t>
            </a:fld>
          </a:p>
        </p:txBody>
      </p:sp>
    </p:spTree>
  </p:cSld>
  <p:transition spd="med">
    <p:wipe dir="r"/>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3103">
                                            <p:txEl>
                                              <p:pRg st="0" end="0"/>
                                            </p:txEl>
                                          </p:spTgt>
                                        </p:tgtEl>
                                        <p:attrNameLst>
                                          <p:attrName>style.visibility</p:attrName>
                                        </p:attrNameLst>
                                      </p:cBhvr>
                                      <p:to>
                                        <p:strVal val="visible"/>
                                      </p:to>
                                    </p:set>
                                    <p:anim calcmode="lin" valueType="num">
                                      <p:cBhvr additive="base">
                                        <p:cTn id="262" dur="500" fill="hold"/>
                                        <p:tgtEl>
                                          <p:spTgt spid="3103">
                                            <p:txEl>
                                              <p:pRg st="0" end="0"/>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3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6">
                                  <p:stCondLst>
                                    <p:cond delay="0"/>
                                  </p:stCondLst>
                                  <p:childTnLst>
                                    <p:set>
                                      <p:cBhvr>
                                        <p:cTn id="267" dur="1" fill="hold">
                                          <p:stCondLst>
                                            <p:cond delay="0"/>
                                          </p:stCondLst>
                                        </p:cTn>
                                        <p:tgtEl>
                                          <p:spTgt spid="3103">
                                            <p:txEl>
                                              <p:pRg st="1" end="1"/>
                                            </p:txEl>
                                          </p:spTgt>
                                        </p:tgtEl>
                                        <p:attrNameLst>
                                          <p:attrName>style.visibility</p:attrName>
                                        </p:attrNameLst>
                                      </p:cBhvr>
                                      <p:to>
                                        <p:strVal val="visible"/>
                                      </p:to>
                                    </p:set>
                                    <p:anim calcmode="lin" valueType="num">
                                      <p:cBhvr additive="base">
                                        <p:cTn id="268" dur="500" fill="hold"/>
                                        <p:tgtEl>
                                          <p:spTgt spid="3103">
                                            <p:txEl>
                                              <p:pRg st="1" end="1"/>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3103">
                                            <p:txEl>
                                              <p:pRg st="1" end="1"/>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0"/>
                                  </p:stCondLst>
                                  <p:childTnLst>
                                    <p:set>
                                      <p:cBhvr>
                                        <p:cTn id="271" dur="1" fill="hold">
                                          <p:stCondLst>
                                            <p:cond delay="0"/>
                                          </p:stCondLst>
                                        </p:cTn>
                                        <p:tgtEl>
                                          <p:spTgt spid="3103">
                                            <p:txEl>
                                              <p:pRg st="2" end="2"/>
                                            </p:txEl>
                                          </p:spTgt>
                                        </p:tgtEl>
                                        <p:attrNameLst>
                                          <p:attrName>style.visibility</p:attrName>
                                        </p:attrNameLst>
                                      </p:cBhvr>
                                      <p:to>
                                        <p:strVal val="visible"/>
                                      </p:to>
                                    </p:set>
                                    <p:anim calcmode="lin" valueType="num">
                                      <p:cBhvr additive="base">
                                        <p:cTn id="272" dur="500" fill="hold"/>
                                        <p:tgtEl>
                                          <p:spTgt spid="3103">
                                            <p:txEl>
                                              <p:pRg st="2" end="2"/>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3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4" name=""/>
          <p:cNvSpPr/>
          <p:nvPr/>
        </p:nvSpPr>
        <p:spPr>
          <a:xfrm>
            <a:off x="642960" y="324000"/>
            <a:ext cx="7485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Genetic selection - open field activity</a:t>
            </a:r>
            <a:br>
              <a:rPr sz="2800"/>
            </a:br>
            <a:r>
              <a:rPr b="0" lang="fr-FR" sz="2800" spc="-1" strike="noStrike">
                <a:solidFill>
                  <a:srgbClr val="ff3300"/>
                </a:solidFill>
                <a:latin typeface="Comic Sans MS"/>
              </a:rPr>
              <a:t>mice - F3 (BALB/c x C57/BL6)</a:t>
            </a:r>
            <a:endParaRPr b="0" lang="en-US" sz="2800" spc="-1" strike="noStrike">
              <a:solidFill>
                <a:srgbClr val="000000"/>
              </a:solidFill>
              <a:latin typeface="Comic Sans MS"/>
            </a:endParaRPr>
          </a:p>
        </p:txBody>
      </p:sp>
      <p:pic>
        <p:nvPicPr>
          <p:cNvPr id="3105" name="" descr=""/>
          <p:cNvPicPr/>
          <p:nvPr/>
        </p:nvPicPr>
        <p:blipFill>
          <a:blip r:embed="rId1"/>
          <a:stretch/>
        </p:blipFill>
        <p:spPr>
          <a:xfrm>
            <a:off x="412920" y="1481040"/>
            <a:ext cx="4146480" cy="4864320"/>
          </a:xfrm>
          <a:prstGeom prst="rect">
            <a:avLst/>
          </a:prstGeom>
          <a:ln w="9360">
            <a:solidFill>
              <a:srgbClr val="3333cc"/>
            </a:solidFill>
            <a:miter/>
          </a:ln>
        </p:spPr>
      </p:pic>
      <p:sp>
        <p:nvSpPr>
          <p:cNvPr id="3106" name=""/>
          <p:cNvSpPr/>
          <p:nvPr/>
        </p:nvSpPr>
        <p:spPr>
          <a:xfrm>
            <a:off x="1957680" y="167652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TIVITY</a:t>
            </a:r>
            <a:endParaRPr b="0" lang="en-US" sz="1800" spc="-1" strike="noStrike">
              <a:solidFill>
                <a:srgbClr val="000000"/>
              </a:solidFill>
              <a:latin typeface="Comic Sans MS"/>
            </a:endParaRPr>
          </a:p>
        </p:txBody>
      </p:sp>
      <p:grpSp>
        <p:nvGrpSpPr>
          <p:cNvPr id="3107" name=""/>
          <p:cNvGrpSpPr/>
          <p:nvPr/>
        </p:nvGrpSpPr>
        <p:grpSpPr>
          <a:xfrm>
            <a:off x="4896000" y="1481040"/>
            <a:ext cx="3473280" cy="4461120"/>
            <a:chOff x="4896000" y="1481040"/>
            <a:chExt cx="3473280" cy="4461120"/>
          </a:xfrm>
        </p:grpSpPr>
        <p:pic>
          <p:nvPicPr>
            <p:cNvPr id="3108" name="" descr=""/>
            <p:cNvPicPr/>
            <p:nvPr/>
          </p:nvPicPr>
          <p:blipFill>
            <a:blip r:embed="rId2"/>
            <a:stretch/>
          </p:blipFill>
          <p:spPr>
            <a:xfrm>
              <a:off x="4896000" y="1481040"/>
              <a:ext cx="3473280" cy="4461120"/>
            </a:xfrm>
            <a:prstGeom prst="rect">
              <a:avLst/>
            </a:prstGeom>
            <a:ln w="9360">
              <a:solidFill>
                <a:srgbClr val="3333cc"/>
              </a:solidFill>
              <a:miter/>
            </a:ln>
          </p:spPr>
        </p:pic>
        <p:sp>
          <p:nvSpPr>
            <p:cNvPr id="3109" name=""/>
            <p:cNvSpPr/>
            <p:nvPr/>
          </p:nvSpPr>
          <p:spPr>
            <a:xfrm>
              <a:off x="5920560" y="16765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ECAL BOLI</a:t>
              </a:r>
              <a:endParaRPr b="0" lang="en-US" sz="1800" spc="-1" strike="noStrike">
                <a:solidFill>
                  <a:srgbClr val="000000"/>
                </a:solidFill>
                <a:latin typeface="Comic Sans MS"/>
              </a:endParaRPr>
            </a:p>
          </p:txBody>
        </p:sp>
      </p:grpSp>
      <p:sp>
        <p:nvSpPr>
          <p:cNvPr id="3110" name=""/>
          <p:cNvSpPr/>
          <p:nvPr/>
        </p:nvSpPr>
        <p:spPr>
          <a:xfrm>
            <a:off x="4568400" y="6000840"/>
            <a:ext cx="22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Fries et al., 1978</a:t>
            </a:r>
            <a:endParaRPr b="0" lang="en-US" sz="1800" spc="-1" strike="noStrike">
              <a:solidFill>
                <a:srgbClr val="000000"/>
              </a:solidFill>
              <a:latin typeface="Comic Sans MS"/>
            </a:endParaRPr>
          </a:p>
        </p:txBody>
      </p:sp>
      <p:sp>
        <p:nvSpPr>
          <p:cNvPr id="3111" name=""/>
          <p:cNvSpPr/>
          <p:nvPr/>
        </p:nvSpPr>
        <p:spPr>
          <a:xfrm>
            <a:off x="3396960" y="287640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igh</a:t>
            </a:r>
            <a:endParaRPr b="0" lang="en-US" sz="1800" spc="-1" strike="noStrike">
              <a:solidFill>
                <a:srgbClr val="000000"/>
              </a:solidFill>
              <a:latin typeface="Comic Sans MS"/>
            </a:endParaRPr>
          </a:p>
        </p:txBody>
      </p:sp>
      <p:sp>
        <p:nvSpPr>
          <p:cNvPr id="3112" name=""/>
          <p:cNvSpPr/>
          <p:nvPr/>
        </p:nvSpPr>
        <p:spPr>
          <a:xfrm>
            <a:off x="3359160" y="371484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rol</a:t>
            </a:r>
            <a:endParaRPr b="0" lang="en-US" sz="1800" spc="-1" strike="noStrike">
              <a:solidFill>
                <a:srgbClr val="000000"/>
              </a:solidFill>
              <a:latin typeface="Comic Sans MS"/>
            </a:endParaRPr>
          </a:p>
        </p:txBody>
      </p:sp>
      <p:sp>
        <p:nvSpPr>
          <p:cNvPr id="3113" name=""/>
          <p:cNvSpPr/>
          <p:nvPr/>
        </p:nvSpPr>
        <p:spPr>
          <a:xfrm>
            <a:off x="3416040" y="52005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ow</a:t>
            </a:r>
            <a:endParaRPr b="0" lang="en-US" sz="18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E3F1B9D3-01CF-4E44-932B-36DE302C2867}" type="datetime1">
              <a:rPr lang="en-US"/>
              <a:t>07/30/26</a:t>
            </a:fld>
          </a:p>
        </p:txBody>
      </p:sp>
    </p:spTree>
  </p:cSld>
  <p:transition spd="med">
    <p:wipe dir="r"/>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107"/>
                                        </p:tgtEl>
                                        <p:attrNameLst>
                                          <p:attrName>style.visibility</p:attrName>
                                        </p:attrNameLst>
                                      </p:cBhvr>
                                      <p:to>
                                        <p:strVal val="visible"/>
                                      </p:to>
                                    </p:set>
                                    <p:animEffect filter="wipe(left)" transition="in">
                                      <p:cBhvr additive="repl">
                                        <p:cTn id="280" dur="500"/>
                                        <p:tgtEl>
                                          <p:spTgt spid="3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14" name="" descr=""/>
          <p:cNvPicPr/>
          <p:nvPr/>
        </p:nvPicPr>
        <p:blipFill>
          <a:blip r:embed="rId1"/>
          <a:stretch/>
        </p:blipFill>
        <p:spPr>
          <a:xfrm>
            <a:off x="0" y="0"/>
            <a:ext cx="9144000" cy="6858000"/>
          </a:xfrm>
          <a:prstGeom prst="rect">
            <a:avLst/>
          </a:prstGeom>
          <a:ln w="0">
            <a:noFill/>
          </a:ln>
        </p:spPr>
      </p:pic>
      <p:sp>
        <p:nvSpPr>
          <p:cNvPr id="3115" name="PlaceHolder 1"/>
          <p:cNvSpPr>
            <a:spLocks noGrp="1"/>
          </p:cNvSpPr>
          <p:nvPr>
            <p:ph type="title"/>
          </p:nvPr>
        </p:nvSpPr>
        <p:spPr>
          <a:xfrm>
            <a:off x="2684160" y="90360"/>
            <a:ext cx="387972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Genetic analysis</a:t>
            </a:r>
            <a:endParaRPr b="0" lang="en-US" sz="3200" spc="-1" strike="noStrike">
              <a:solidFill>
                <a:srgbClr val="ff3300"/>
              </a:solidFill>
              <a:latin typeface="Comic Sans MS"/>
            </a:endParaRPr>
          </a:p>
        </p:txBody>
      </p:sp>
      <p:sp>
        <p:nvSpPr>
          <p:cNvPr id="3116" name="PlaceHolder 2"/>
          <p:cNvSpPr>
            <a:spLocks noGrp="1"/>
          </p:cNvSpPr>
          <p:nvPr>
            <p:ph/>
          </p:nvPr>
        </p:nvSpPr>
        <p:spPr>
          <a:xfrm>
            <a:off x="615600" y="871200"/>
            <a:ext cx="8015400" cy="5140440"/>
          </a:xfrm>
          <a:prstGeom prst="rect">
            <a:avLst/>
          </a:prstGeom>
          <a:noFill/>
          <a:ln w="9360">
            <a:solidFill>
              <a:srgbClr val="ff3300"/>
            </a:solidFill>
            <a:miter/>
          </a:ln>
        </p:spPr>
        <p:txBody>
          <a:bodyPr lIns="90000" rIns="90000" tIns="46800" bIns="46800" anchor="t">
            <a:normAutofit/>
          </a:bodyPr>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election experiments</a:t>
            </a:r>
            <a:endParaRPr b="1" lang="en-US" sz="2000" spc="-1" strike="noStrike">
              <a:solidFill>
                <a:srgbClr val="0066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Open field</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Maudsley reactive (MR) / nonreactive (MNR) rats - defecation rate</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Mice locomotion (from an F3 cross between BALB/c and C57BL/6)</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ctivity tests</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aples High-Excitability (NHE) / Low-Excitability (NLE) rats</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Wistar Kyoto Hyperactive rat strain (WKHA)</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mergence / activity test</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Tsukuba High-Emotional (THE) / Low-Emotional (TLE) rat strains</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levated-plus maze</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High / Low anxious behaviour (HAB / LAB)</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ctive </a:t>
            </a:r>
            <a:r>
              <a:rPr b="0" lang="en-US" sz="1800" spc="-1" strike="noStrike">
                <a:solidFill>
                  <a:srgbClr val="010000"/>
                </a:solidFill>
                <a:latin typeface="Comic Sans MS"/>
              </a:rPr>
              <a:t>avoidance</a:t>
            </a:r>
            <a:r>
              <a:rPr b="0" lang="en-US" sz="1800" spc="-1" strike="noStrike">
                <a:solidFill>
                  <a:srgbClr val="000066"/>
                </a:solidFill>
                <a:latin typeface="Comic Sans MS"/>
              </a:rPr>
              <a:t> tests</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oman High and Low Avoidance rats (RHA/RLA)</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Syracuse High and Low Avoidance rats (SHA/SLA)</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Koltushi High and Low Avoidance rats (RHA/RLA)</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High and Low Avoidance Animals (HAA/LAA) strains of rats</a:t>
            </a:r>
            <a:endParaRPr b="1" lang="en-US" sz="1600" spc="-1" strike="noStrike">
              <a:solidFill>
                <a:srgbClr val="3366ff"/>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21976621-62DD-49C9-8B6C-A750FFC53EC0}" type="datetime1">
              <a:rPr lang="en-US"/>
              <a:t>07/30/26</a:t>
            </a:fld>
          </a:p>
        </p:txBody>
      </p:sp>
    </p:spTree>
  </p:cSld>
  <p:transition spd="med">
    <p:wipe dir="r"/>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6">
                                  <p:stCondLst>
                                    <p:cond delay="0"/>
                                  </p:stCondLst>
                                  <p:childTnLst>
                                    <p:set>
                                      <p:cBhvr>
                                        <p:cTn id="286" dur="1" fill="hold">
                                          <p:stCondLst>
                                            <p:cond delay="0"/>
                                          </p:stCondLst>
                                        </p:cTn>
                                        <p:tgtEl>
                                          <p:spTgt spid="3116">
                                            <p:txEl>
                                              <p:pRg st="0" end="0"/>
                                            </p:txEl>
                                          </p:spTgt>
                                        </p:tgtEl>
                                        <p:attrNameLst>
                                          <p:attrName>style.visibility</p:attrName>
                                        </p:attrNameLst>
                                      </p:cBhvr>
                                      <p:to>
                                        <p:strVal val="visible"/>
                                      </p:to>
                                    </p:set>
                                    <p:anim calcmode="lin" valueType="num">
                                      <p:cBhvr additive="base">
                                        <p:cTn id="287" dur="500" fill="hold"/>
                                        <p:tgtEl>
                                          <p:spTgt spid="3116">
                                            <p:txEl>
                                              <p:pRg st="0" end="0"/>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3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6">
                                  <p:stCondLst>
                                    <p:cond delay="0"/>
                                  </p:stCondLst>
                                  <p:childTnLst>
                                    <p:set>
                                      <p:cBhvr>
                                        <p:cTn id="292" dur="1" fill="hold">
                                          <p:stCondLst>
                                            <p:cond delay="0"/>
                                          </p:stCondLst>
                                        </p:cTn>
                                        <p:tgtEl>
                                          <p:spTgt spid="3116">
                                            <p:txEl>
                                              <p:pRg st="1" end="1"/>
                                            </p:txEl>
                                          </p:spTgt>
                                        </p:tgtEl>
                                        <p:attrNameLst>
                                          <p:attrName>style.visibility</p:attrName>
                                        </p:attrNameLst>
                                      </p:cBhvr>
                                      <p:to>
                                        <p:strVal val="visible"/>
                                      </p:to>
                                    </p:set>
                                    <p:anim calcmode="lin" valueType="num">
                                      <p:cBhvr additive="base">
                                        <p:cTn id="293" dur="500" fill="hold"/>
                                        <p:tgtEl>
                                          <p:spTgt spid="3116">
                                            <p:txEl>
                                              <p:pRg st="1" end="1"/>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3116">
                                            <p:txEl>
                                              <p:pRg st="1" end="1"/>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6">
                                  <p:stCondLst>
                                    <p:cond delay="0"/>
                                  </p:stCondLst>
                                  <p:childTnLst>
                                    <p:set>
                                      <p:cBhvr>
                                        <p:cTn id="296" dur="1" fill="hold">
                                          <p:stCondLst>
                                            <p:cond delay="0"/>
                                          </p:stCondLst>
                                        </p:cTn>
                                        <p:tgtEl>
                                          <p:spTgt spid="3116">
                                            <p:txEl>
                                              <p:pRg st="2" end="2"/>
                                            </p:txEl>
                                          </p:spTgt>
                                        </p:tgtEl>
                                        <p:attrNameLst>
                                          <p:attrName>style.visibility</p:attrName>
                                        </p:attrNameLst>
                                      </p:cBhvr>
                                      <p:to>
                                        <p:strVal val="visible"/>
                                      </p:to>
                                    </p:set>
                                    <p:anim calcmode="lin" valueType="num">
                                      <p:cBhvr additive="base">
                                        <p:cTn id="297" dur="500" fill="hold"/>
                                        <p:tgtEl>
                                          <p:spTgt spid="3116">
                                            <p:txEl>
                                              <p:pRg st="2" end="2"/>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3116">
                                            <p:txEl>
                                              <p:pRg st="2" end="2"/>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6">
                                  <p:stCondLst>
                                    <p:cond delay="0"/>
                                  </p:stCondLst>
                                  <p:childTnLst>
                                    <p:set>
                                      <p:cBhvr>
                                        <p:cTn id="300" dur="1" fill="hold">
                                          <p:stCondLst>
                                            <p:cond delay="0"/>
                                          </p:stCondLst>
                                        </p:cTn>
                                        <p:tgtEl>
                                          <p:spTgt spid="3116">
                                            <p:txEl>
                                              <p:pRg st="3" end="3"/>
                                            </p:txEl>
                                          </p:spTgt>
                                        </p:tgtEl>
                                        <p:attrNameLst>
                                          <p:attrName>style.visibility</p:attrName>
                                        </p:attrNameLst>
                                      </p:cBhvr>
                                      <p:to>
                                        <p:strVal val="visible"/>
                                      </p:to>
                                    </p:set>
                                    <p:anim calcmode="lin" valueType="num">
                                      <p:cBhvr additive="base">
                                        <p:cTn id="301" dur="500" fill="hold"/>
                                        <p:tgtEl>
                                          <p:spTgt spid="3116">
                                            <p:txEl>
                                              <p:pRg st="3" end="3"/>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3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6">
                                  <p:stCondLst>
                                    <p:cond delay="0"/>
                                  </p:stCondLst>
                                  <p:childTnLst>
                                    <p:set>
                                      <p:cBhvr>
                                        <p:cTn id="306" dur="1" fill="hold">
                                          <p:stCondLst>
                                            <p:cond delay="0"/>
                                          </p:stCondLst>
                                        </p:cTn>
                                        <p:tgtEl>
                                          <p:spTgt spid="3116">
                                            <p:txEl>
                                              <p:pRg st="4" end="4"/>
                                            </p:txEl>
                                          </p:spTgt>
                                        </p:tgtEl>
                                        <p:attrNameLst>
                                          <p:attrName>style.visibility</p:attrName>
                                        </p:attrNameLst>
                                      </p:cBhvr>
                                      <p:to>
                                        <p:strVal val="visible"/>
                                      </p:to>
                                    </p:set>
                                    <p:anim calcmode="lin" valueType="num">
                                      <p:cBhvr additive="base">
                                        <p:cTn id="307" dur="500" fill="hold"/>
                                        <p:tgtEl>
                                          <p:spTgt spid="3116">
                                            <p:txEl>
                                              <p:pRg st="4" end="4"/>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3116">
                                            <p:txEl>
                                              <p:pRg st="4" end="4"/>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6">
                                  <p:stCondLst>
                                    <p:cond delay="0"/>
                                  </p:stCondLst>
                                  <p:childTnLst>
                                    <p:set>
                                      <p:cBhvr>
                                        <p:cTn id="310" dur="1" fill="hold">
                                          <p:stCondLst>
                                            <p:cond delay="0"/>
                                          </p:stCondLst>
                                        </p:cTn>
                                        <p:tgtEl>
                                          <p:spTgt spid="3116">
                                            <p:txEl>
                                              <p:pRg st="5" end="5"/>
                                            </p:txEl>
                                          </p:spTgt>
                                        </p:tgtEl>
                                        <p:attrNameLst>
                                          <p:attrName>style.visibility</p:attrName>
                                        </p:attrNameLst>
                                      </p:cBhvr>
                                      <p:to>
                                        <p:strVal val="visible"/>
                                      </p:to>
                                    </p:set>
                                    <p:anim calcmode="lin" valueType="num">
                                      <p:cBhvr additive="base">
                                        <p:cTn id="311" dur="500" fill="hold"/>
                                        <p:tgtEl>
                                          <p:spTgt spid="3116">
                                            <p:txEl>
                                              <p:pRg st="5" end="5"/>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3116">
                                            <p:txEl>
                                              <p:pRg st="5" end="5"/>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6">
                                  <p:stCondLst>
                                    <p:cond delay="0"/>
                                  </p:stCondLst>
                                  <p:childTnLst>
                                    <p:set>
                                      <p:cBhvr>
                                        <p:cTn id="314" dur="1" fill="hold">
                                          <p:stCondLst>
                                            <p:cond delay="0"/>
                                          </p:stCondLst>
                                        </p:cTn>
                                        <p:tgtEl>
                                          <p:spTgt spid="3116">
                                            <p:txEl>
                                              <p:pRg st="6" end="6"/>
                                            </p:txEl>
                                          </p:spTgt>
                                        </p:tgtEl>
                                        <p:attrNameLst>
                                          <p:attrName>style.visibility</p:attrName>
                                        </p:attrNameLst>
                                      </p:cBhvr>
                                      <p:to>
                                        <p:strVal val="visible"/>
                                      </p:to>
                                    </p:set>
                                    <p:anim calcmode="lin" valueType="num">
                                      <p:cBhvr additive="base">
                                        <p:cTn id="315" dur="500" fill="hold"/>
                                        <p:tgtEl>
                                          <p:spTgt spid="3116">
                                            <p:txEl>
                                              <p:pRg st="6" end="6"/>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6">
                                  <p:stCondLst>
                                    <p:cond delay="0"/>
                                  </p:stCondLst>
                                  <p:childTnLst>
                                    <p:set>
                                      <p:cBhvr>
                                        <p:cTn id="320" dur="1" fill="hold">
                                          <p:stCondLst>
                                            <p:cond delay="0"/>
                                          </p:stCondLst>
                                        </p:cTn>
                                        <p:tgtEl>
                                          <p:spTgt spid="3116">
                                            <p:txEl>
                                              <p:pRg st="7" end="7"/>
                                            </p:txEl>
                                          </p:spTgt>
                                        </p:tgtEl>
                                        <p:attrNameLst>
                                          <p:attrName>style.visibility</p:attrName>
                                        </p:attrNameLst>
                                      </p:cBhvr>
                                      <p:to>
                                        <p:strVal val="visible"/>
                                      </p:to>
                                    </p:set>
                                    <p:anim calcmode="lin" valueType="num">
                                      <p:cBhvr additive="base">
                                        <p:cTn id="321" dur="500" fill="hold"/>
                                        <p:tgtEl>
                                          <p:spTgt spid="3116">
                                            <p:txEl>
                                              <p:pRg st="7" end="7"/>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3116">
                                            <p:txEl>
                                              <p:pRg st="7" end="7"/>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6">
                                  <p:stCondLst>
                                    <p:cond delay="0"/>
                                  </p:stCondLst>
                                  <p:childTnLst>
                                    <p:set>
                                      <p:cBhvr>
                                        <p:cTn id="324" dur="1" fill="hold">
                                          <p:stCondLst>
                                            <p:cond delay="0"/>
                                          </p:stCondLst>
                                        </p:cTn>
                                        <p:tgtEl>
                                          <p:spTgt spid="3116">
                                            <p:txEl>
                                              <p:pRg st="8" end="8"/>
                                            </p:txEl>
                                          </p:spTgt>
                                        </p:tgtEl>
                                        <p:attrNameLst>
                                          <p:attrName>style.visibility</p:attrName>
                                        </p:attrNameLst>
                                      </p:cBhvr>
                                      <p:to>
                                        <p:strVal val="visible"/>
                                      </p:to>
                                    </p:set>
                                    <p:anim calcmode="lin" valueType="num">
                                      <p:cBhvr additive="base">
                                        <p:cTn id="325" dur="500" fill="hold"/>
                                        <p:tgtEl>
                                          <p:spTgt spid="3116">
                                            <p:txEl>
                                              <p:pRg st="8" end="8"/>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3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6">
                                  <p:stCondLst>
                                    <p:cond delay="0"/>
                                  </p:stCondLst>
                                  <p:childTnLst>
                                    <p:set>
                                      <p:cBhvr>
                                        <p:cTn id="330" dur="1" fill="hold">
                                          <p:stCondLst>
                                            <p:cond delay="0"/>
                                          </p:stCondLst>
                                        </p:cTn>
                                        <p:tgtEl>
                                          <p:spTgt spid="3116">
                                            <p:txEl>
                                              <p:pRg st="9" end="9"/>
                                            </p:txEl>
                                          </p:spTgt>
                                        </p:tgtEl>
                                        <p:attrNameLst>
                                          <p:attrName>style.visibility</p:attrName>
                                        </p:attrNameLst>
                                      </p:cBhvr>
                                      <p:to>
                                        <p:strVal val="visible"/>
                                      </p:to>
                                    </p:set>
                                    <p:anim calcmode="lin" valueType="num">
                                      <p:cBhvr additive="base">
                                        <p:cTn id="331" dur="500" fill="hold"/>
                                        <p:tgtEl>
                                          <p:spTgt spid="3116">
                                            <p:txEl>
                                              <p:pRg st="9" end="9"/>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116">
                                            <p:txEl>
                                              <p:pRg st="9" end="9"/>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6">
                                  <p:stCondLst>
                                    <p:cond delay="0"/>
                                  </p:stCondLst>
                                  <p:childTnLst>
                                    <p:set>
                                      <p:cBhvr>
                                        <p:cTn id="334" dur="1" fill="hold">
                                          <p:stCondLst>
                                            <p:cond delay="0"/>
                                          </p:stCondLst>
                                        </p:cTn>
                                        <p:tgtEl>
                                          <p:spTgt spid="3116">
                                            <p:txEl>
                                              <p:pRg st="10" end="10"/>
                                            </p:txEl>
                                          </p:spTgt>
                                        </p:tgtEl>
                                        <p:attrNameLst>
                                          <p:attrName>style.visibility</p:attrName>
                                        </p:attrNameLst>
                                      </p:cBhvr>
                                      <p:to>
                                        <p:strVal val="visible"/>
                                      </p:to>
                                    </p:set>
                                    <p:anim calcmode="lin" valueType="num">
                                      <p:cBhvr additive="base">
                                        <p:cTn id="335" dur="500" fill="hold"/>
                                        <p:tgtEl>
                                          <p:spTgt spid="3116">
                                            <p:txEl>
                                              <p:pRg st="10" end="10"/>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31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6">
                                  <p:stCondLst>
                                    <p:cond delay="0"/>
                                  </p:stCondLst>
                                  <p:childTnLst>
                                    <p:set>
                                      <p:cBhvr>
                                        <p:cTn id="340" dur="1" fill="hold">
                                          <p:stCondLst>
                                            <p:cond delay="0"/>
                                          </p:stCondLst>
                                        </p:cTn>
                                        <p:tgtEl>
                                          <p:spTgt spid="3116">
                                            <p:txEl>
                                              <p:pRg st="11" end="11"/>
                                            </p:txEl>
                                          </p:spTgt>
                                        </p:tgtEl>
                                        <p:attrNameLst>
                                          <p:attrName>style.visibility</p:attrName>
                                        </p:attrNameLst>
                                      </p:cBhvr>
                                      <p:to>
                                        <p:strVal val="visible"/>
                                      </p:to>
                                    </p:set>
                                    <p:anim calcmode="lin" valueType="num">
                                      <p:cBhvr additive="base">
                                        <p:cTn id="341" dur="500" fill="hold"/>
                                        <p:tgtEl>
                                          <p:spTgt spid="3116">
                                            <p:txEl>
                                              <p:pRg st="11" end="11"/>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116">
                                            <p:txEl>
                                              <p:pRg st="11" end="11"/>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6">
                                  <p:stCondLst>
                                    <p:cond delay="0"/>
                                  </p:stCondLst>
                                  <p:childTnLst>
                                    <p:set>
                                      <p:cBhvr>
                                        <p:cTn id="344" dur="1" fill="hold">
                                          <p:stCondLst>
                                            <p:cond delay="0"/>
                                          </p:stCondLst>
                                        </p:cTn>
                                        <p:tgtEl>
                                          <p:spTgt spid="3116">
                                            <p:txEl>
                                              <p:pRg st="12" end="12"/>
                                            </p:txEl>
                                          </p:spTgt>
                                        </p:tgtEl>
                                        <p:attrNameLst>
                                          <p:attrName>style.visibility</p:attrName>
                                        </p:attrNameLst>
                                      </p:cBhvr>
                                      <p:to>
                                        <p:strVal val="visible"/>
                                      </p:to>
                                    </p:set>
                                    <p:anim calcmode="lin" valueType="num">
                                      <p:cBhvr additive="base">
                                        <p:cTn id="345" dur="500" fill="hold"/>
                                        <p:tgtEl>
                                          <p:spTgt spid="3116">
                                            <p:txEl>
                                              <p:pRg st="12" end="12"/>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3116">
                                            <p:txEl>
                                              <p:pRg st="12" end="12"/>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6">
                                  <p:stCondLst>
                                    <p:cond delay="0"/>
                                  </p:stCondLst>
                                  <p:childTnLst>
                                    <p:set>
                                      <p:cBhvr>
                                        <p:cTn id="348" dur="1" fill="hold">
                                          <p:stCondLst>
                                            <p:cond delay="0"/>
                                          </p:stCondLst>
                                        </p:cTn>
                                        <p:tgtEl>
                                          <p:spTgt spid="3116">
                                            <p:txEl>
                                              <p:pRg st="13" end="13"/>
                                            </p:txEl>
                                          </p:spTgt>
                                        </p:tgtEl>
                                        <p:attrNameLst>
                                          <p:attrName>style.visibility</p:attrName>
                                        </p:attrNameLst>
                                      </p:cBhvr>
                                      <p:to>
                                        <p:strVal val="visible"/>
                                      </p:to>
                                    </p:set>
                                    <p:anim calcmode="lin" valueType="num">
                                      <p:cBhvr additive="base">
                                        <p:cTn id="349" dur="500" fill="hold"/>
                                        <p:tgtEl>
                                          <p:spTgt spid="3116">
                                            <p:txEl>
                                              <p:pRg st="13" end="13"/>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3116">
                                            <p:txEl>
                                              <p:pRg st="13" end="13"/>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6">
                                  <p:stCondLst>
                                    <p:cond delay="0"/>
                                  </p:stCondLst>
                                  <p:childTnLst>
                                    <p:set>
                                      <p:cBhvr>
                                        <p:cTn id="352" dur="1" fill="hold">
                                          <p:stCondLst>
                                            <p:cond delay="0"/>
                                          </p:stCondLst>
                                        </p:cTn>
                                        <p:tgtEl>
                                          <p:spTgt spid="3116">
                                            <p:txEl>
                                              <p:pRg st="14" end="14"/>
                                            </p:txEl>
                                          </p:spTgt>
                                        </p:tgtEl>
                                        <p:attrNameLst>
                                          <p:attrName>style.visibility</p:attrName>
                                        </p:attrNameLst>
                                      </p:cBhvr>
                                      <p:to>
                                        <p:strVal val="visible"/>
                                      </p:to>
                                    </p:set>
                                    <p:anim calcmode="lin" valueType="num">
                                      <p:cBhvr additive="base">
                                        <p:cTn id="353" dur="500" fill="hold"/>
                                        <p:tgtEl>
                                          <p:spTgt spid="3116">
                                            <p:txEl>
                                              <p:pRg st="14" end="1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3116">
                                            <p:txEl>
                                              <p:pRg st="14" end="14"/>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6">
                                  <p:stCondLst>
                                    <p:cond delay="0"/>
                                  </p:stCondLst>
                                  <p:childTnLst>
                                    <p:set>
                                      <p:cBhvr>
                                        <p:cTn id="356" dur="1" fill="hold">
                                          <p:stCondLst>
                                            <p:cond delay="0"/>
                                          </p:stCondLst>
                                        </p:cTn>
                                        <p:tgtEl>
                                          <p:spTgt spid="3116">
                                            <p:txEl>
                                              <p:pRg st="15" end="15"/>
                                            </p:txEl>
                                          </p:spTgt>
                                        </p:tgtEl>
                                        <p:attrNameLst>
                                          <p:attrName>style.visibility</p:attrName>
                                        </p:attrNameLst>
                                      </p:cBhvr>
                                      <p:to>
                                        <p:strVal val="visible"/>
                                      </p:to>
                                    </p:set>
                                    <p:anim calcmode="lin" valueType="num">
                                      <p:cBhvr additive="base">
                                        <p:cTn id="357" dur="500" fill="hold"/>
                                        <p:tgtEl>
                                          <p:spTgt spid="3116">
                                            <p:txEl>
                                              <p:pRg st="15" end="15"/>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3116">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
          <p:cNvSpPr/>
          <p:nvPr/>
        </p:nvSpPr>
        <p:spPr>
          <a:xfrm>
            <a:off x="847800" y="366840"/>
            <a:ext cx="7418160" cy="97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STRESS in Psychology</a:t>
            </a:r>
            <a:endParaRPr b="0" lang="en-US" sz="3200" spc="-1" strike="noStrike">
              <a:solidFill>
                <a:srgbClr val="000000"/>
              </a:solidFill>
              <a:latin typeface="Comic Sans MS"/>
            </a:endParaRPr>
          </a:p>
        </p:txBody>
      </p:sp>
      <p:sp>
        <p:nvSpPr>
          <p:cNvPr id="659" name=""/>
          <p:cNvSpPr/>
          <p:nvPr/>
        </p:nvSpPr>
        <p:spPr>
          <a:xfrm>
            <a:off x="343080" y="1585800"/>
            <a:ext cx="8480160" cy="4270320"/>
          </a:xfrm>
          <a:prstGeom prst="rect">
            <a:avLst/>
          </a:prstGeom>
          <a:solidFill>
            <a:srgbClr val="ccecff"/>
          </a:solidFill>
          <a:ln w="9360">
            <a:solidFill>
              <a:srgbClr val="ff3300"/>
            </a:solidFill>
            <a:miter/>
          </a:ln>
        </p:spPr>
        <p:style>
          <a:lnRef idx="0"/>
          <a:fillRef idx="0"/>
          <a:effectRef idx="0"/>
          <a:fontRef idx="minor"/>
        </p:style>
        <p:txBody>
          <a:bodyPr lIns="90000" rIns="90000" tIns="46800" bIns="46800" anchor="t">
            <a:normAutofit/>
          </a:bodyPr>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The word appeared recently in the psychology litterature (1944)</a:t>
            </a:r>
            <a:endParaRPr b="0" lang="en-US" sz="20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Initially related to war trauma</a:t>
            </a:r>
            <a:endParaRPr b="0" lang="en-US" sz="20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Comic Sans MS"/>
              </a:rPr>
              <a:t>shell shock, battle fatigue, post-traumatic stress disorder (PTSD), ...</a:t>
            </a:r>
            <a:endParaRPr b="0" lang="en-US" sz="18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Almost synonymous of emotion (Lazarus, 1993), </a:t>
            </a:r>
            <a:br>
              <a:rPr sz="2000"/>
            </a:br>
            <a:r>
              <a:rPr b="0" lang="en-US" sz="2000" spc="-1" strike="noStrike">
                <a:solidFill>
                  <a:srgbClr val="006600"/>
                </a:solidFill>
                <a:latin typeface="Comic Sans MS"/>
              </a:rPr>
              <a:t>includes the different components of emotional responses  </a:t>
            </a:r>
            <a:endParaRPr b="0" lang="en-US" sz="20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hanges in affect (anxiety, anger, depression, culpability)</a:t>
            </a:r>
            <a:endParaRPr b="0" lang="en-US" sz="18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behavioral and motor responses</a:t>
            </a:r>
            <a:endParaRPr b="0" lang="en-US" sz="18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physiological responses</a:t>
            </a:r>
            <a:endParaRPr b="0" lang="en-US" sz="18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ognitive changes</a:t>
            </a:r>
            <a:endParaRPr b="0" lang="en-US" sz="18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Non specific component of the emotional activation underlying a basic psychobiological response that is shaped by the specific situation</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B236969D-FD52-4FBD-9D54-29EC69F024DD}" type="datetime1">
              <a:rPr lang="en-US"/>
              <a:t>07/30/26</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17" name="" descr=""/>
          <p:cNvPicPr/>
          <p:nvPr/>
        </p:nvPicPr>
        <p:blipFill>
          <a:blip r:embed="rId1"/>
          <a:stretch/>
        </p:blipFill>
        <p:spPr>
          <a:xfrm>
            <a:off x="0" y="0"/>
            <a:ext cx="9144000" cy="6858000"/>
          </a:xfrm>
          <a:prstGeom prst="rect">
            <a:avLst/>
          </a:prstGeom>
          <a:ln w="0">
            <a:noFill/>
          </a:ln>
        </p:spPr>
      </p:pic>
      <p:sp>
        <p:nvSpPr>
          <p:cNvPr id="3118" name=""/>
          <p:cNvSpPr/>
          <p:nvPr/>
        </p:nvSpPr>
        <p:spPr>
          <a:xfrm>
            <a:off x="725400" y="66204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Genetic analysis</a:t>
            </a:r>
            <a:endParaRPr b="0" lang="en-US" sz="3200" spc="-1" strike="noStrike">
              <a:solidFill>
                <a:srgbClr val="000000"/>
              </a:solidFill>
              <a:latin typeface="Comic Sans MS"/>
            </a:endParaRPr>
          </a:p>
        </p:txBody>
      </p:sp>
      <p:sp>
        <p:nvSpPr>
          <p:cNvPr id="3119" name=""/>
          <p:cNvSpPr/>
          <p:nvPr/>
        </p:nvSpPr>
        <p:spPr>
          <a:xfrm>
            <a:off x="662040" y="2432160"/>
            <a:ext cx="7897680" cy="2935080"/>
          </a:xfrm>
          <a:prstGeom prst="rect">
            <a:avLst/>
          </a:prstGeom>
          <a:no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Differences between inbred strains born, raised and maintained in the same environment</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election experiment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Quantitative genetic analysis</a:t>
            </a:r>
            <a:endParaRPr b="0" lang="en-US" sz="24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assical analysis </a:t>
            </a:r>
            <a:br>
              <a:rPr sz="2000"/>
            </a:br>
            <a:r>
              <a:rPr b="0" lang="en-US" sz="2000" spc="-1" strike="noStrike">
                <a:solidFill>
                  <a:srgbClr val="3333cc"/>
                </a:solidFill>
                <a:latin typeface="Comic Sans MS"/>
              </a:rPr>
              <a:t>	</a:t>
            </a:r>
            <a:r>
              <a:rPr b="0" lang="en-US" sz="2000" spc="-1" strike="noStrike">
                <a:solidFill>
                  <a:srgbClr val="3333cc"/>
                </a:solidFill>
                <a:latin typeface="Comic Sans MS"/>
              </a:rPr>
              <a:t>(parental lines / strains, F1, F2, backcross)</a:t>
            </a:r>
            <a:endParaRPr b="0" lang="en-US" sz="20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allel design, ...</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D4AE92E0-0AC5-4E92-A8BB-FB413A4C71EE}" type="datetime1">
              <a:rPr lang="en-US"/>
              <a:t>07/30/26</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20" name="" descr=""/>
          <p:cNvPicPr/>
          <p:nvPr/>
        </p:nvPicPr>
        <p:blipFill>
          <a:blip r:embed="rId1"/>
          <a:stretch/>
        </p:blipFill>
        <p:spPr>
          <a:xfrm>
            <a:off x="0" y="0"/>
            <a:ext cx="9144000" cy="6858000"/>
          </a:xfrm>
          <a:prstGeom prst="rect">
            <a:avLst/>
          </a:prstGeom>
          <a:ln w="0">
            <a:noFill/>
          </a:ln>
        </p:spPr>
      </p:pic>
      <p:sp>
        <p:nvSpPr>
          <p:cNvPr id="3121" name=""/>
          <p:cNvSpPr/>
          <p:nvPr/>
        </p:nvSpPr>
        <p:spPr>
          <a:xfrm>
            <a:off x="725400" y="66204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Genetic analysis</a:t>
            </a:r>
            <a:endParaRPr b="0" lang="en-US" sz="3200" spc="-1" strike="noStrike">
              <a:solidFill>
                <a:srgbClr val="000000"/>
              </a:solidFill>
              <a:latin typeface="Comic Sans MS"/>
            </a:endParaRPr>
          </a:p>
        </p:txBody>
      </p:sp>
      <p:sp>
        <p:nvSpPr>
          <p:cNvPr id="3122" name=""/>
          <p:cNvSpPr/>
          <p:nvPr/>
        </p:nvSpPr>
        <p:spPr>
          <a:xfrm>
            <a:off x="662040" y="2001960"/>
            <a:ext cx="7897680" cy="3130560"/>
          </a:xfrm>
          <a:prstGeom prst="rect">
            <a:avLst/>
          </a:prstGeom>
          <a:no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Differences between inbred strains born, raised and maintained in the same environment</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election experiment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Quantitative genetic analysi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udy of segregating populations</a:t>
            </a:r>
            <a:endParaRPr b="0" lang="en-US" sz="24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enotypic correlation between traits</a:t>
            </a:r>
            <a:endParaRPr b="0" lang="en-US" sz="20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lecular genetics</a:t>
            </a:r>
            <a:endParaRPr b="0" lang="en-US" sz="20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C622D8E7-1699-450F-B98F-E3B6EE0430AC}" type="datetime1">
              <a:rPr lang="en-US"/>
              <a:t>07/30/26</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23" name="" descr=""/>
          <p:cNvPicPr/>
          <p:nvPr/>
        </p:nvPicPr>
        <p:blipFill>
          <a:blip r:embed="rId1"/>
          <a:stretch/>
        </p:blipFill>
        <p:spPr>
          <a:xfrm>
            <a:off x="0" y="0"/>
            <a:ext cx="9144000" cy="6858000"/>
          </a:xfrm>
          <a:prstGeom prst="rect">
            <a:avLst/>
          </a:prstGeom>
          <a:ln w="0">
            <a:noFill/>
          </a:ln>
        </p:spPr>
      </p:pic>
      <p:sp>
        <p:nvSpPr>
          <p:cNvPr id="3124" name=""/>
          <p:cNvSpPr/>
          <p:nvPr/>
        </p:nvSpPr>
        <p:spPr>
          <a:xfrm>
            <a:off x="685800" y="609480"/>
            <a:ext cx="7772400" cy="91440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Genetics and emotional behaviors</a:t>
            </a:r>
            <a:br>
              <a:rPr sz="2800"/>
            </a:br>
            <a:r>
              <a:rPr b="0" lang="en-US" sz="2800" spc="-1" strike="noStrike">
                <a:solidFill>
                  <a:srgbClr val="ff3300"/>
                </a:solidFill>
                <a:latin typeface="Comic Sans MS"/>
              </a:rPr>
              <a:t>animal models</a:t>
            </a:r>
            <a:endParaRPr b="0" lang="en-US" sz="2800" spc="-1" strike="noStrike">
              <a:solidFill>
                <a:srgbClr val="000000"/>
              </a:solidFill>
              <a:latin typeface="Comic Sans MS"/>
            </a:endParaRPr>
          </a:p>
        </p:txBody>
      </p:sp>
      <p:sp>
        <p:nvSpPr>
          <p:cNvPr id="3125" name=""/>
          <p:cNvSpPr/>
          <p:nvPr/>
        </p:nvSpPr>
        <p:spPr>
          <a:xfrm>
            <a:off x="333360" y="1990800"/>
            <a:ext cx="8489880" cy="4092480"/>
          </a:xfrm>
          <a:prstGeom prst="rect">
            <a:avLst/>
          </a:prstGeom>
          <a:noFill/>
          <a:ln w="936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Can we define stable dimensions of temperament in experimental animals, as psychologists do in humans ?</a:t>
            </a:r>
            <a:br>
              <a:rPr sz="2400"/>
            </a:b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ff3300"/>
                </a:solidFill>
                <a:latin typeface="Comic Sans MS"/>
              </a:rPr>
              <a:t>YES</a:t>
            </a:r>
            <a:br>
              <a:rPr sz="2400"/>
            </a:br>
            <a:r>
              <a:rPr b="0" lang="en-US" sz="2400" spc="-1" strike="noStrike">
                <a:solidFill>
                  <a:srgbClr val="006600"/>
                </a:solidFill>
                <a:latin typeface="Comic Sans MS"/>
              </a:rPr>
              <a:t> </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Are there genetic factors responsible for the individual variations along temperamental dimensions?</a:t>
            </a:r>
            <a:br>
              <a:rPr sz="2400"/>
            </a:b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ff3300"/>
                </a:solidFill>
                <a:latin typeface="Comic Sans MS"/>
              </a:rPr>
              <a:t>YES</a:t>
            </a:r>
            <a:br>
              <a:rPr sz="2400"/>
            </a:br>
            <a:r>
              <a:rPr b="0" lang="en-US" sz="2400" spc="-1" strike="noStrike">
                <a:solidFill>
                  <a:srgbClr val="006600"/>
                </a:solidFill>
                <a:latin typeface="Comic Sans MS"/>
              </a:rPr>
              <a:t> </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Strategies to investigate the molecular bases of genetic variability in emotional behavior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7481E357-8CAB-4EE5-A58E-8AF8077B6672}" type="datetime1">
              <a:rPr lang="en-US"/>
              <a:t>07/30/26</a:t>
            </a:fld>
          </a:p>
        </p:txBody>
      </p:sp>
    </p:spTree>
  </p:cSld>
  <p:transition spd="med">
    <p:wipe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6">
                                  <p:stCondLst>
                                    <p:cond delay="0"/>
                                  </p:stCondLst>
                                  <p:childTnLst>
                                    <p:set>
                                      <p:cBhvr>
                                        <p:cTn id="364" dur="1" fill="hold">
                                          <p:stCondLst>
                                            <p:cond delay="0"/>
                                          </p:stCondLst>
                                        </p:cTn>
                                        <p:tgtEl>
                                          <p:spTgt spid="3125">
                                            <p:txEl>
                                              <p:pRg st="0" end="0"/>
                                            </p:txEl>
                                          </p:spTgt>
                                        </p:tgtEl>
                                        <p:attrNameLst>
                                          <p:attrName>style.visibility</p:attrName>
                                        </p:attrNameLst>
                                      </p:cBhvr>
                                      <p:to>
                                        <p:strVal val="visible"/>
                                      </p:to>
                                    </p:set>
                                    <p:anim calcmode="lin" valueType="num">
                                      <p:cBhvr additive="base">
                                        <p:cTn id="365" dur="500" fill="hold"/>
                                        <p:tgtEl>
                                          <p:spTgt spid="3125">
                                            <p:txEl>
                                              <p:pRg st="0" end="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3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6">
                                  <p:stCondLst>
                                    <p:cond delay="0"/>
                                  </p:stCondLst>
                                  <p:childTnLst>
                                    <p:set>
                                      <p:cBhvr>
                                        <p:cTn id="370" dur="1" fill="hold">
                                          <p:stCondLst>
                                            <p:cond delay="0"/>
                                          </p:stCondLst>
                                        </p:cTn>
                                        <p:tgtEl>
                                          <p:spTgt spid="3125">
                                            <p:txEl>
                                              <p:pRg st="1" end="1"/>
                                            </p:txEl>
                                          </p:spTgt>
                                        </p:tgtEl>
                                        <p:attrNameLst>
                                          <p:attrName>style.visibility</p:attrName>
                                        </p:attrNameLst>
                                      </p:cBhvr>
                                      <p:to>
                                        <p:strVal val="visible"/>
                                      </p:to>
                                    </p:set>
                                    <p:anim calcmode="lin" valueType="num">
                                      <p:cBhvr additive="base">
                                        <p:cTn id="371" dur="500" fill="hold"/>
                                        <p:tgtEl>
                                          <p:spTgt spid="3125">
                                            <p:txEl>
                                              <p:pRg st="1" end="1"/>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3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6">
                                  <p:stCondLst>
                                    <p:cond delay="0"/>
                                  </p:stCondLst>
                                  <p:childTnLst>
                                    <p:set>
                                      <p:cBhvr>
                                        <p:cTn id="376" dur="1" fill="hold">
                                          <p:stCondLst>
                                            <p:cond delay="0"/>
                                          </p:stCondLst>
                                        </p:cTn>
                                        <p:tgtEl>
                                          <p:spTgt spid="3125">
                                            <p:txEl>
                                              <p:pRg st="2" end="2"/>
                                            </p:txEl>
                                          </p:spTgt>
                                        </p:tgtEl>
                                        <p:attrNameLst>
                                          <p:attrName>style.visibility</p:attrName>
                                        </p:attrNameLst>
                                      </p:cBhvr>
                                      <p:to>
                                        <p:strVal val="visible"/>
                                      </p:to>
                                    </p:set>
                                    <p:anim calcmode="lin" valueType="num">
                                      <p:cBhvr additive="base">
                                        <p:cTn id="377" dur="500" fill="hold"/>
                                        <p:tgtEl>
                                          <p:spTgt spid="3125">
                                            <p:txEl>
                                              <p:pRg st="2" end="2"/>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31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126" name=""/>
          <p:cNvGrpSpPr/>
          <p:nvPr/>
        </p:nvGrpSpPr>
        <p:grpSpPr>
          <a:xfrm>
            <a:off x="1049400" y="2178000"/>
            <a:ext cx="2309400" cy="2673360"/>
            <a:chOff x="1049400" y="2178000"/>
            <a:chExt cx="2309400" cy="2673360"/>
          </a:xfrm>
        </p:grpSpPr>
        <p:sp>
          <p:nvSpPr>
            <p:cNvPr id="3127" name=""/>
            <p:cNvSpPr/>
            <p:nvPr/>
          </p:nvSpPr>
          <p:spPr>
            <a:xfrm>
              <a:off x="1629720" y="2459160"/>
              <a:ext cx="172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28" name=""/>
            <p:cNvSpPr/>
            <p:nvPr/>
          </p:nvSpPr>
          <p:spPr>
            <a:xfrm>
              <a:off x="1049400" y="2178000"/>
              <a:ext cx="570240" cy="2673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29" name=""/>
            <p:cNvSpPr/>
            <p:nvPr/>
          </p:nvSpPr>
          <p:spPr>
            <a:xfrm>
              <a:off x="1629720" y="3030480"/>
              <a:ext cx="172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30" name=""/>
            <p:cNvSpPr/>
            <p:nvPr/>
          </p:nvSpPr>
          <p:spPr>
            <a:xfrm>
              <a:off x="1629720" y="3600360"/>
              <a:ext cx="172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31" name=""/>
            <p:cNvSpPr/>
            <p:nvPr/>
          </p:nvSpPr>
          <p:spPr>
            <a:xfrm>
              <a:off x="1629720" y="4114800"/>
              <a:ext cx="172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32" name=""/>
            <p:cNvSpPr/>
            <p:nvPr/>
          </p:nvSpPr>
          <p:spPr>
            <a:xfrm>
              <a:off x="1629720" y="4627440"/>
              <a:ext cx="172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33" name=""/>
            <p:cNvSpPr/>
            <p:nvPr/>
          </p:nvSpPr>
          <p:spPr>
            <a:xfrm rot="16200000">
              <a:off x="171360" y="3228120"/>
              <a:ext cx="2330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0000"/>
                  </a:solidFill>
                  <a:latin typeface="Comic Sans MS"/>
                </a:rPr>
                <a:t>Environment</a:t>
              </a:r>
              <a:endParaRPr b="0" lang="en-US" sz="2800" spc="-1" strike="noStrike">
                <a:solidFill>
                  <a:srgbClr val="000000"/>
                </a:solidFill>
                <a:latin typeface="Comic Sans MS"/>
              </a:endParaRPr>
            </a:p>
          </p:txBody>
        </p:sp>
      </p:grpSp>
      <p:sp>
        <p:nvSpPr>
          <p:cNvPr id="3134" name=""/>
          <p:cNvSpPr/>
          <p:nvPr/>
        </p:nvSpPr>
        <p:spPr>
          <a:xfrm>
            <a:off x="692280" y="414360"/>
            <a:ext cx="7772400" cy="108576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From genes to phenotypes</a:t>
            </a:r>
            <a:br>
              <a:rPr sz="3200"/>
            </a:br>
            <a:r>
              <a:rPr b="0" lang="fr-FR" sz="2800" spc="-1" strike="noStrike">
                <a:solidFill>
                  <a:srgbClr val="ff3300"/>
                </a:solidFill>
                <a:latin typeface="Comic Sans MS"/>
              </a:rPr>
              <a:t>concepts and research strategies</a:t>
            </a:r>
            <a:endParaRPr b="0" lang="en-US" sz="2800" spc="-1" strike="noStrike">
              <a:solidFill>
                <a:srgbClr val="000000"/>
              </a:solidFill>
              <a:latin typeface="Comic Sans MS"/>
            </a:endParaRPr>
          </a:p>
        </p:txBody>
      </p:sp>
      <p:grpSp>
        <p:nvGrpSpPr>
          <p:cNvPr id="3135" name=""/>
          <p:cNvGrpSpPr/>
          <p:nvPr/>
        </p:nvGrpSpPr>
        <p:grpSpPr>
          <a:xfrm>
            <a:off x="2158920" y="1727280"/>
            <a:ext cx="960480" cy="3152520"/>
            <a:chOff x="2158920" y="1727280"/>
            <a:chExt cx="960480" cy="3152520"/>
          </a:xfrm>
        </p:grpSpPr>
        <p:sp>
          <p:nvSpPr>
            <p:cNvPr id="3136" name=""/>
            <p:cNvSpPr/>
            <p:nvPr/>
          </p:nvSpPr>
          <p:spPr>
            <a:xfrm>
              <a:off x="2158920" y="2165400"/>
              <a:ext cx="891720" cy="271440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37" name=""/>
            <p:cNvSpPr/>
            <p:nvPr/>
          </p:nvSpPr>
          <p:spPr>
            <a:xfrm>
              <a:off x="2384280" y="2459160"/>
              <a:ext cx="440640" cy="258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38" name=""/>
            <p:cNvSpPr/>
            <p:nvPr/>
          </p:nvSpPr>
          <p:spPr>
            <a:xfrm>
              <a:off x="2384280" y="3127320"/>
              <a:ext cx="440640" cy="257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39" name=""/>
            <p:cNvSpPr/>
            <p:nvPr/>
          </p:nvSpPr>
          <p:spPr>
            <a:xfrm>
              <a:off x="2384280" y="4410000"/>
              <a:ext cx="440640" cy="2556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40" name=""/>
            <p:cNvSpPr/>
            <p:nvPr/>
          </p:nvSpPr>
          <p:spPr>
            <a:xfrm>
              <a:off x="2384280" y="3767040"/>
              <a:ext cx="440640" cy="257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41" name=""/>
            <p:cNvSpPr/>
            <p:nvPr/>
          </p:nvSpPr>
          <p:spPr>
            <a:xfrm>
              <a:off x="2175840" y="172728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3333cc"/>
                  </a:solidFill>
                  <a:latin typeface="Comic Sans MS"/>
                </a:rPr>
                <a:t>Genes</a:t>
              </a:r>
              <a:r>
                <a:rPr b="0" lang="fr-FR" sz="2400" spc="-1" strike="noStrike">
                  <a:solidFill>
                    <a:srgbClr val="3333cc"/>
                  </a:solidFill>
                  <a:latin typeface="Comic Sans MS"/>
                </a:rPr>
                <a:t>	</a:t>
              </a:r>
              <a:endParaRPr b="0" lang="en-US" sz="2400" spc="-1" strike="noStrike">
                <a:solidFill>
                  <a:srgbClr val="000000"/>
                </a:solidFill>
                <a:latin typeface="Comic Sans MS"/>
              </a:endParaRPr>
            </a:p>
          </p:txBody>
        </p:sp>
      </p:grpSp>
      <p:grpSp>
        <p:nvGrpSpPr>
          <p:cNvPr id="3142" name=""/>
          <p:cNvGrpSpPr/>
          <p:nvPr/>
        </p:nvGrpSpPr>
        <p:grpSpPr>
          <a:xfrm>
            <a:off x="6665760" y="1725480"/>
            <a:ext cx="1589760" cy="2725920"/>
            <a:chOff x="6665760" y="1725480"/>
            <a:chExt cx="1589760" cy="2725920"/>
          </a:xfrm>
        </p:grpSpPr>
        <p:sp>
          <p:nvSpPr>
            <p:cNvPr id="3143" name=""/>
            <p:cNvSpPr/>
            <p:nvPr/>
          </p:nvSpPr>
          <p:spPr>
            <a:xfrm>
              <a:off x="7313760" y="4195800"/>
              <a:ext cx="441000" cy="25560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44" name=""/>
            <p:cNvSpPr/>
            <p:nvPr/>
          </p:nvSpPr>
          <p:spPr>
            <a:xfrm>
              <a:off x="7313760" y="2970360"/>
              <a:ext cx="441000" cy="25380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45" name=""/>
            <p:cNvSpPr/>
            <p:nvPr/>
          </p:nvSpPr>
          <p:spPr>
            <a:xfrm>
              <a:off x="6665760" y="1725480"/>
              <a:ext cx="1589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3300"/>
                  </a:solidFill>
                  <a:latin typeface="Comic Sans MS"/>
                </a:rPr>
                <a:t>Phenotypes</a:t>
              </a:r>
              <a:endParaRPr b="0" lang="en-US" sz="2000" spc="-1" strike="noStrike">
                <a:solidFill>
                  <a:srgbClr val="000000"/>
                </a:solidFill>
                <a:latin typeface="Comic Sans MS"/>
              </a:endParaRPr>
            </a:p>
          </p:txBody>
        </p:sp>
      </p:grpSp>
      <p:grpSp>
        <p:nvGrpSpPr>
          <p:cNvPr id="3146" name=""/>
          <p:cNvGrpSpPr/>
          <p:nvPr/>
        </p:nvGrpSpPr>
        <p:grpSpPr>
          <a:xfrm>
            <a:off x="2006640" y="4313160"/>
            <a:ext cx="511200" cy="438480"/>
            <a:chOff x="2006640" y="4313160"/>
            <a:chExt cx="511200" cy="438480"/>
          </a:xfrm>
        </p:grpSpPr>
        <p:sp>
          <p:nvSpPr>
            <p:cNvPr id="3147" name=""/>
            <p:cNvSpPr/>
            <p:nvPr/>
          </p:nvSpPr>
          <p:spPr>
            <a:xfrm>
              <a:off x="2006640" y="4313160"/>
              <a:ext cx="500040" cy="41292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48" name=""/>
            <p:cNvSpPr/>
            <p:nvPr/>
          </p:nvSpPr>
          <p:spPr>
            <a:xfrm>
              <a:off x="2033280" y="4357800"/>
              <a:ext cx="48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2b</a:t>
              </a:r>
              <a:endParaRPr b="0" lang="en-US" sz="2000" spc="-1" strike="noStrike">
                <a:solidFill>
                  <a:srgbClr val="000000"/>
                </a:solidFill>
                <a:latin typeface="Comic Sans MS"/>
              </a:endParaRPr>
            </a:p>
          </p:txBody>
        </p:sp>
      </p:grpSp>
      <p:sp>
        <p:nvSpPr>
          <p:cNvPr id="3149" name=""/>
          <p:cNvSpPr/>
          <p:nvPr/>
        </p:nvSpPr>
        <p:spPr>
          <a:xfrm>
            <a:off x="187200" y="5580000"/>
            <a:ext cx="6388200" cy="100872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Differential physiopathology and candidate gen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Molecular genetics (quantitative trait loci)</a:t>
            </a:r>
            <a:endParaRPr b="0" lang="en-US" sz="2000" spc="-1" strike="noStrike">
              <a:solidFill>
                <a:srgbClr val="000000"/>
              </a:solidFill>
              <a:latin typeface="Comic Sans MS"/>
            </a:endParaRPr>
          </a:p>
        </p:txBody>
      </p:sp>
      <p:grpSp>
        <p:nvGrpSpPr>
          <p:cNvPr id="3150" name=""/>
          <p:cNvGrpSpPr/>
          <p:nvPr/>
        </p:nvGrpSpPr>
        <p:grpSpPr>
          <a:xfrm>
            <a:off x="2820960" y="1725480"/>
            <a:ext cx="4500720" cy="3011760"/>
            <a:chOff x="2820960" y="1725480"/>
            <a:chExt cx="4500720" cy="3011760"/>
          </a:xfrm>
        </p:grpSpPr>
        <p:sp>
          <p:nvSpPr>
            <p:cNvPr id="3151" name=""/>
            <p:cNvSpPr/>
            <p:nvPr/>
          </p:nvSpPr>
          <p:spPr>
            <a:xfrm>
              <a:off x="3287880" y="1725480"/>
              <a:ext cx="3319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Intermediary mechanisms</a:t>
              </a:r>
              <a:endParaRPr b="0" lang="en-US" sz="2000" spc="-1" strike="noStrike">
                <a:solidFill>
                  <a:srgbClr val="000000"/>
                </a:solidFill>
                <a:latin typeface="Comic Sans MS"/>
              </a:endParaRPr>
            </a:p>
          </p:txBody>
        </p:sp>
        <p:grpSp>
          <p:nvGrpSpPr>
            <p:cNvPr id="3152" name=""/>
            <p:cNvGrpSpPr/>
            <p:nvPr/>
          </p:nvGrpSpPr>
          <p:grpSpPr>
            <a:xfrm>
              <a:off x="2820960" y="2222640"/>
              <a:ext cx="4500720" cy="2514600"/>
              <a:chOff x="2820960" y="2222640"/>
              <a:chExt cx="4500720" cy="2514600"/>
            </a:xfrm>
          </p:grpSpPr>
          <p:grpSp>
            <p:nvGrpSpPr>
              <p:cNvPr id="3153" name=""/>
              <p:cNvGrpSpPr/>
              <p:nvPr/>
            </p:nvGrpSpPr>
            <p:grpSpPr>
              <a:xfrm>
                <a:off x="2820960" y="2222640"/>
                <a:ext cx="4500720" cy="2514600"/>
                <a:chOff x="2820960" y="2222640"/>
                <a:chExt cx="4500720" cy="2514600"/>
              </a:xfrm>
            </p:grpSpPr>
            <p:grpSp>
              <p:nvGrpSpPr>
                <p:cNvPr id="3154" name=""/>
                <p:cNvGrpSpPr/>
                <p:nvPr/>
              </p:nvGrpSpPr>
              <p:grpSpPr>
                <a:xfrm>
                  <a:off x="2820960" y="2222640"/>
                  <a:ext cx="4500720" cy="2514600"/>
                  <a:chOff x="2820960" y="2222640"/>
                  <a:chExt cx="4500720" cy="2514600"/>
                </a:xfrm>
              </p:grpSpPr>
              <p:sp>
                <p:nvSpPr>
                  <p:cNvPr id="3155" name=""/>
                  <p:cNvSpPr/>
                  <p:nvPr/>
                </p:nvSpPr>
                <p:spPr>
                  <a:xfrm>
                    <a:off x="3400920" y="2222640"/>
                    <a:ext cx="3276720" cy="25146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56" name=""/>
                  <p:cNvSpPr/>
                  <p:nvPr/>
                </p:nvSpPr>
                <p:spPr>
                  <a:xfrm>
                    <a:off x="3850920" y="3978720"/>
                    <a:ext cx="442440" cy="2570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57" name=""/>
                  <p:cNvSpPr/>
                  <p:nvPr/>
                </p:nvSpPr>
                <p:spPr>
                  <a:xfrm>
                    <a:off x="5656680" y="4191120"/>
                    <a:ext cx="441000" cy="25740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58" name=""/>
                  <p:cNvSpPr/>
                  <p:nvPr/>
                </p:nvSpPr>
                <p:spPr>
                  <a:xfrm>
                    <a:off x="4109040" y="2402280"/>
                    <a:ext cx="442440" cy="2584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59" name=""/>
                  <p:cNvSpPr/>
                  <p:nvPr/>
                </p:nvSpPr>
                <p:spPr>
                  <a:xfrm>
                    <a:off x="5076000" y="2402280"/>
                    <a:ext cx="441360" cy="2584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60" name=""/>
                  <p:cNvSpPr/>
                  <p:nvPr/>
                </p:nvSpPr>
                <p:spPr>
                  <a:xfrm>
                    <a:off x="6041880" y="2402280"/>
                    <a:ext cx="442440" cy="2584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61" name=""/>
                  <p:cNvSpPr/>
                  <p:nvPr/>
                </p:nvSpPr>
                <p:spPr>
                  <a:xfrm>
                    <a:off x="2820960" y="2530800"/>
                    <a:ext cx="12790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2" name=""/>
                  <p:cNvSpPr/>
                  <p:nvPr/>
                </p:nvSpPr>
                <p:spPr>
                  <a:xfrm>
                    <a:off x="2820960" y="2536920"/>
                    <a:ext cx="1279080" cy="8445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3" name=""/>
                  <p:cNvSpPr/>
                  <p:nvPr/>
                </p:nvSpPr>
                <p:spPr>
                  <a:xfrm flipV="1">
                    <a:off x="2820960" y="2632320"/>
                    <a:ext cx="1279080" cy="65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4" name=""/>
                  <p:cNvSpPr/>
                  <p:nvPr/>
                </p:nvSpPr>
                <p:spPr>
                  <a:xfrm>
                    <a:off x="2820960" y="3283200"/>
                    <a:ext cx="1019880" cy="8985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5" name=""/>
                  <p:cNvSpPr/>
                  <p:nvPr/>
                </p:nvSpPr>
                <p:spPr>
                  <a:xfrm flipV="1">
                    <a:off x="2820960" y="3435120"/>
                    <a:ext cx="1279080" cy="4352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6" name=""/>
                  <p:cNvSpPr/>
                  <p:nvPr/>
                </p:nvSpPr>
                <p:spPr>
                  <a:xfrm flipV="1">
                    <a:off x="2885400" y="4235400"/>
                    <a:ext cx="955440" cy="276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7" name=""/>
                  <p:cNvSpPr/>
                  <p:nvPr/>
                </p:nvSpPr>
                <p:spPr>
                  <a:xfrm>
                    <a:off x="4560480" y="2530800"/>
                    <a:ext cx="50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8" name=""/>
                  <p:cNvSpPr/>
                  <p:nvPr/>
                </p:nvSpPr>
                <p:spPr>
                  <a:xfrm>
                    <a:off x="5527800" y="2530800"/>
                    <a:ext cx="50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69" name=""/>
                  <p:cNvSpPr/>
                  <p:nvPr/>
                </p:nvSpPr>
                <p:spPr>
                  <a:xfrm>
                    <a:off x="4109040" y="3256200"/>
                    <a:ext cx="442440" cy="2588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70" name=""/>
                  <p:cNvSpPr/>
                  <p:nvPr/>
                </p:nvSpPr>
                <p:spPr>
                  <a:xfrm>
                    <a:off x="5076000" y="3256200"/>
                    <a:ext cx="441360" cy="2588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71" name=""/>
                  <p:cNvSpPr/>
                  <p:nvPr/>
                </p:nvSpPr>
                <p:spPr>
                  <a:xfrm>
                    <a:off x="6041880" y="3256200"/>
                    <a:ext cx="442440" cy="2588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72" name=""/>
                  <p:cNvSpPr/>
                  <p:nvPr/>
                </p:nvSpPr>
                <p:spPr>
                  <a:xfrm flipH="1" flipV="1">
                    <a:off x="4485600" y="2631960"/>
                    <a:ext cx="174960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73" name=""/>
                  <p:cNvSpPr/>
                  <p:nvPr/>
                </p:nvSpPr>
                <p:spPr>
                  <a:xfrm>
                    <a:off x="4302360" y="4138920"/>
                    <a:ext cx="1343880" cy="20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74" name=""/>
                  <p:cNvSpPr/>
                  <p:nvPr/>
                </p:nvSpPr>
                <p:spPr>
                  <a:xfrm>
                    <a:off x="6495120" y="2536920"/>
                    <a:ext cx="826560" cy="41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75" name=""/>
                  <p:cNvSpPr/>
                  <p:nvPr/>
                </p:nvSpPr>
                <p:spPr>
                  <a:xfrm flipV="1">
                    <a:off x="6495120" y="3113280"/>
                    <a:ext cx="826560" cy="276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76" name=""/>
                  <p:cNvSpPr/>
                  <p:nvPr/>
                </p:nvSpPr>
                <p:spPr>
                  <a:xfrm flipV="1">
                    <a:off x="6108120" y="3167280"/>
                    <a:ext cx="1213200" cy="11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77" name=""/>
                  <p:cNvSpPr/>
                  <p:nvPr/>
                </p:nvSpPr>
                <p:spPr>
                  <a:xfrm>
                    <a:off x="6495120" y="2588040"/>
                    <a:ext cx="826560" cy="154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78" name=""/>
                  <p:cNvSpPr/>
                  <p:nvPr/>
                </p:nvSpPr>
                <p:spPr>
                  <a:xfrm rot="10800000">
                    <a:off x="4233600" y="3181680"/>
                    <a:ext cx="2180160" cy="73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79" name=""/>
                  <p:cNvSpPr/>
                  <p:nvPr/>
                </p:nvSpPr>
                <p:spPr>
                  <a:xfrm rot="10800000">
                    <a:off x="4182840" y="3181680"/>
                    <a:ext cx="2176920" cy="739800"/>
                  </a:xfrm>
                  <a:custGeom>
                    <a:avLst/>
                    <a:gdLst/>
                    <a:ahLst/>
                    <a:rect l="l" t="t" r="r" b="b"/>
                    <a:pathLst>
                      <a:path stroke="0" w="21600" h="21600">
                        <a:moveTo>
                          <a:pt x="0" y="10800"/>
                        </a:moveTo>
                        <a:arcTo wR="10800" hR="10800" stAng="10800000" swAng="5396239"/>
                        <a:lnTo>
                          <a:pt x="10800" y="10800"/>
                        </a:lnTo>
                        <a:close/>
                      </a:path>
                      <a:path fill="none" w="21600" h="21600">
                        <a:moveTo>
                          <a:pt x="0" y="10800"/>
                        </a:moveTo>
                        <a:arcTo wR="10800" hR="10800" stAng="10800000" swAng="53962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80" name=""/>
                  <p:cNvSpPr/>
                  <p:nvPr/>
                </p:nvSpPr>
                <p:spPr>
                  <a:xfrm flipV="1">
                    <a:off x="6170760" y="4279680"/>
                    <a:ext cx="1150560" cy="12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3181" name=""/>
                <p:cNvSpPr/>
                <p:nvPr/>
              </p:nvSpPr>
              <p:spPr>
                <a:xfrm>
                  <a:off x="4560480" y="3386520"/>
                  <a:ext cx="50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82" name=""/>
                <p:cNvSpPr/>
                <p:nvPr/>
              </p:nvSpPr>
              <p:spPr>
                <a:xfrm>
                  <a:off x="5527800" y="3386520"/>
                  <a:ext cx="50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183" name=""/>
                <p:cNvSpPr/>
                <p:nvPr/>
              </p:nvSpPr>
              <p:spPr>
                <a:xfrm>
                  <a:off x="5334120" y="3549960"/>
                  <a:ext cx="505800" cy="63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3184" name=""/>
              <p:cNvSpPr/>
              <p:nvPr/>
            </p:nvSpPr>
            <p:spPr>
              <a:xfrm>
                <a:off x="2820960" y="2536920"/>
                <a:ext cx="1019880" cy="15386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grpSp>
        <p:nvGrpSpPr>
          <p:cNvPr id="3185" name=""/>
          <p:cNvGrpSpPr/>
          <p:nvPr/>
        </p:nvGrpSpPr>
        <p:grpSpPr>
          <a:xfrm>
            <a:off x="2797560" y="2424600"/>
            <a:ext cx="5137200" cy="996480"/>
            <a:chOff x="2797560" y="2424600"/>
            <a:chExt cx="5137200" cy="996480"/>
          </a:xfrm>
        </p:grpSpPr>
        <p:grpSp>
          <p:nvGrpSpPr>
            <p:cNvPr id="3186" name=""/>
            <p:cNvGrpSpPr/>
            <p:nvPr/>
          </p:nvGrpSpPr>
          <p:grpSpPr>
            <a:xfrm>
              <a:off x="2797560" y="2424600"/>
              <a:ext cx="5137200" cy="996480"/>
              <a:chOff x="2797560" y="2424600"/>
              <a:chExt cx="5137200" cy="996480"/>
            </a:xfrm>
          </p:grpSpPr>
          <p:sp>
            <p:nvSpPr>
              <p:cNvPr id="3187" name=""/>
              <p:cNvSpPr/>
              <p:nvPr/>
            </p:nvSpPr>
            <p:spPr>
              <a:xfrm rot="10800000">
                <a:off x="2797560" y="2424240"/>
                <a:ext cx="5137200" cy="434520"/>
              </a:xfrm>
              <a:custGeom>
                <a:avLst/>
                <a:gdLst/>
                <a:ahLst/>
                <a:rect l="l" t="t" r="r" b="b"/>
                <a:pathLst>
                  <a:path stroke="0" w="21600" h="21600">
                    <a:moveTo>
                      <a:pt x="10800" y="0"/>
                    </a:moveTo>
                    <a:arcTo wR="10800" hR="10800" stAng="-5400000" swAng="6028981"/>
                    <a:lnTo>
                      <a:pt x="10800" y="10800"/>
                    </a:lnTo>
                    <a:close/>
                  </a:path>
                  <a:path fill="none" w="21600" h="21600">
                    <a:moveTo>
                      <a:pt x="10800" y="0"/>
                    </a:moveTo>
                    <a:arcTo wR="10800" hR="10800" stAng="-5400000" swAng="6028981"/>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88" name=""/>
              <p:cNvSpPr/>
              <p:nvPr/>
            </p:nvSpPr>
            <p:spPr>
              <a:xfrm>
                <a:off x="3321000" y="2868480"/>
                <a:ext cx="397944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189" name=""/>
            <p:cNvSpPr/>
            <p:nvPr/>
          </p:nvSpPr>
          <p:spPr>
            <a:xfrm>
              <a:off x="5643360" y="2717640"/>
              <a:ext cx="367560" cy="33516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90" name=""/>
            <p:cNvSpPr/>
            <p:nvPr/>
          </p:nvSpPr>
          <p:spPr>
            <a:xfrm>
              <a:off x="5646960" y="272268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grpSp>
      <p:grpSp>
        <p:nvGrpSpPr>
          <p:cNvPr id="3191" name=""/>
          <p:cNvGrpSpPr/>
          <p:nvPr/>
        </p:nvGrpSpPr>
        <p:grpSpPr>
          <a:xfrm>
            <a:off x="2554200" y="3578400"/>
            <a:ext cx="5262120" cy="1347480"/>
            <a:chOff x="2554200" y="3578400"/>
            <a:chExt cx="5262120" cy="1347480"/>
          </a:xfrm>
        </p:grpSpPr>
        <p:grpSp>
          <p:nvGrpSpPr>
            <p:cNvPr id="3192" name=""/>
            <p:cNvGrpSpPr/>
            <p:nvPr/>
          </p:nvGrpSpPr>
          <p:grpSpPr>
            <a:xfrm>
              <a:off x="2554200" y="3784680"/>
              <a:ext cx="5262120" cy="1141200"/>
              <a:chOff x="2554200" y="3784680"/>
              <a:chExt cx="5262120" cy="1141200"/>
            </a:xfrm>
          </p:grpSpPr>
          <p:sp>
            <p:nvSpPr>
              <p:cNvPr id="3193" name=""/>
              <p:cNvSpPr/>
              <p:nvPr/>
            </p:nvSpPr>
            <p:spPr>
              <a:xfrm>
                <a:off x="2554200" y="3786120"/>
                <a:ext cx="5262120" cy="1139760"/>
              </a:xfrm>
              <a:custGeom>
                <a:avLst/>
                <a:gdLst/>
                <a:ahLst/>
                <a:rect l="l" t="t" r="r" b="b"/>
                <a:pathLst>
                  <a:path stroke="0" w="21600" h="21600">
                    <a:moveTo>
                      <a:pt x="54" y="11880"/>
                    </a:moveTo>
                    <a:arcTo wR="10800" hR="10800" stAng="10455755" swAng="5742688"/>
                    <a:lnTo>
                      <a:pt x="10800" y="10800"/>
                    </a:lnTo>
                    <a:close/>
                  </a:path>
                  <a:path fill="none" w="21600" h="21600">
                    <a:moveTo>
                      <a:pt x="54" y="11880"/>
                    </a:moveTo>
                    <a:arcTo wR="10800" hR="10800" stAng="10455755" swAng="574268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94" name=""/>
              <p:cNvSpPr/>
              <p:nvPr/>
            </p:nvSpPr>
            <p:spPr>
              <a:xfrm>
                <a:off x="2844360" y="3784680"/>
                <a:ext cx="4673160" cy="780840"/>
              </a:xfrm>
              <a:custGeom>
                <a:avLst/>
                <a:gdLst/>
                <a:ahLst/>
                <a:rect l="l" t="t" r="r" b="b"/>
                <a:pathLst>
                  <a:path stroke="0" w="21600" h="21600">
                    <a:moveTo>
                      <a:pt x="10800" y="0"/>
                    </a:moveTo>
                    <a:arcTo wR="10800" hR="10800" stAng="-5400000" swAng="5389294"/>
                    <a:lnTo>
                      <a:pt x="10800" y="10800"/>
                    </a:lnTo>
                    <a:close/>
                  </a:path>
                  <a:path fill="none" w="21600" h="21600">
                    <a:moveTo>
                      <a:pt x="10800" y="0"/>
                    </a:moveTo>
                    <a:arcTo wR="10800" hR="10800" stAng="-5400000" swAng="5389294"/>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195" name=""/>
            <p:cNvSpPr/>
            <p:nvPr/>
          </p:nvSpPr>
          <p:spPr>
            <a:xfrm>
              <a:off x="4867560" y="3578400"/>
              <a:ext cx="502560" cy="41256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96" name=""/>
            <p:cNvSpPr/>
            <p:nvPr/>
          </p:nvSpPr>
          <p:spPr>
            <a:xfrm>
              <a:off x="4902840" y="3610080"/>
              <a:ext cx="44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2c</a:t>
              </a:r>
              <a:endParaRPr b="0" lang="en-US" sz="2000" spc="-1" strike="noStrike">
                <a:solidFill>
                  <a:srgbClr val="000000"/>
                </a:solidFill>
                <a:latin typeface="Comic Sans MS"/>
              </a:endParaRPr>
            </a:p>
          </p:txBody>
        </p:sp>
      </p:grpSp>
      <p:grpSp>
        <p:nvGrpSpPr>
          <p:cNvPr id="3197" name=""/>
          <p:cNvGrpSpPr/>
          <p:nvPr/>
        </p:nvGrpSpPr>
        <p:grpSpPr>
          <a:xfrm>
            <a:off x="2604960" y="3724200"/>
            <a:ext cx="5132520" cy="1570320"/>
            <a:chOff x="2604960" y="3724200"/>
            <a:chExt cx="5132520" cy="1570320"/>
          </a:xfrm>
        </p:grpSpPr>
        <p:sp>
          <p:nvSpPr>
            <p:cNvPr id="3198" name=""/>
            <p:cNvSpPr/>
            <p:nvPr/>
          </p:nvSpPr>
          <p:spPr>
            <a:xfrm rot="10800000">
              <a:off x="2604960" y="4153320"/>
              <a:ext cx="5132520" cy="942120"/>
            </a:xfrm>
            <a:custGeom>
              <a:avLst/>
              <a:gdLst/>
              <a:ahLst/>
              <a:rect l="l" t="t" r="r" b="b"/>
              <a:pathLst>
                <a:path stroke="0" w="21600" h="21600">
                  <a:moveTo>
                    <a:pt x="10800" y="0"/>
                  </a:moveTo>
                  <a:arcTo wR="10800" hR="10800" stAng="-5400000" swAng="5391330"/>
                  <a:lnTo>
                    <a:pt x="10800" y="10800"/>
                  </a:lnTo>
                  <a:close/>
                </a:path>
                <a:path fill="none" w="21600" h="21600">
                  <a:moveTo>
                    <a:pt x="10800" y="0"/>
                  </a:moveTo>
                  <a:arcTo wR="10800" hR="10800" stAng="-5400000" swAng="539133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199" name=""/>
            <p:cNvSpPr/>
            <p:nvPr/>
          </p:nvSpPr>
          <p:spPr>
            <a:xfrm rot="10800000">
              <a:off x="2883960" y="3724200"/>
              <a:ext cx="4618800" cy="1371240"/>
            </a:xfrm>
            <a:custGeom>
              <a:avLst/>
              <a:gdLst/>
              <a:ahLst/>
              <a:rect l="l" t="t" r="r" b="b"/>
              <a:pathLst>
                <a:path stroke="0" w="21600" h="21600">
                  <a:moveTo>
                    <a:pt x="27" y="10040"/>
                  </a:moveTo>
                  <a:arcTo wR="10800" hR="10800" stAng="-10557779" swAng="5156005"/>
                  <a:lnTo>
                    <a:pt x="10800" y="10800"/>
                  </a:lnTo>
                  <a:close/>
                </a:path>
                <a:path fill="none" w="21600" h="21600">
                  <a:moveTo>
                    <a:pt x="27" y="10040"/>
                  </a:moveTo>
                  <a:arcTo wR="10800" hR="10800" stAng="-10557779" swAng="515600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00" name=""/>
            <p:cNvSpPr/>
            <p:nvPr/>
          </p:nvSpPr>
          <p:spPr>
            <a:xfrm>
              <a:off x="4806360" y="4869000"/>
              <a:ext cx="501120" cy="41256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01" name=""/>
            <p:cNvSpPr/>
            <p:nvPr/>
          </p:nvSpPr>
          <p:spPr>
            <a:xfrm>
              <a:off x="4829760" y="4900680"/>
              <a:ext cx="47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2a</a:t>
              </a:r>
              <a:endParaRPr b="0" lang="en-US" sz="2000" spc="-1" strike="noStrike">
                <a:solidFill>
                  <a:srgbClr val="000000"/>
                </a:solidFill>
                <a:latin typeface="Comic Sans MS"/>
              </a:endParaRPr>
            </a:p>
          </p:txBody>
        </p:sp>
      </p:grpSp>
      <p:sp>
        <p:nvSpPr>
          <p:cNvPr id="3202" name=""/>
          <p:cNvSpPr/>
          <p:nvPr/>
        </p:nvSpPr>
        <p:spPr>
          <a:xfrm>
            <a:off x="6554880" y="558000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rom G.E. McClearn</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F1A4751A-6138-42B6-B5FB-9977E329F496}" type="datetime1">
              <a:rPr lang="en-US"/>
              <a:t>07/30/26</a:t>
            </a:fld>
          </a:p>
        </p:txBody>
      </p:sp>
    </p:spTree>
  </p:cSld>
  <p:transition>
    <p:wipe dir="r"/>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2" presetSubtype="2">
                                  <p:stCondLst>
                                    <p:cond delay="0"/>
                                  </p:stCondLst>
                                  <p:childTnLst>
                                    <p:set>
                                      <p:cBhvr>
                                        <p:cTn id="384" dur="1" fill="hold">
                                          <p:stCondLst>
                                            <p:cond delay="0"/>
                                          </p:stCondLst>
                                        </p:cTn>
                                        <p:tgtEl>
                                          <p:spTgt spid="3142"/>
                                        </p:tgtEl>
                                        <p:attrNameLst>
                                          <p:attrName>style.visibility</p:attrName>
                                        </p:attrNameLst>
                                      </p:cBhvr>
                                      <p:to>
                                        <p:strVal val="visible"/>
                                      </p:to>
                                    </p:set>
                                    <p:animEffect filter="slide(fromRight)" transition="in">
                                      <p:cBhvr additive="repl">
                                        <p:cTn id="385" dur="500"/>
                                        <p:tgtEl>
                                          <p:spTgt spid="314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3135"/>
                                        </p:tgtEl>
                                        <p:attrNameLst>
                                          <p:attrName>style.visibility</p:attrName>
                                        </p:attrNameLst>
                                      </p:cBhvr>
                                      <p:to>
                                        <p:strVal val="visible"/>
                                      </p:to>
                                    </p:set>
                                    <p:animEffect filter="slide(fromLeft)" transition="in">
                                      <p:cBhvr additive="repl">
                                        <p:cTn id="390" dur="500"/>
                                        <p:tgtEl>
                                          <p:spTgt spid="313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32">
                                  <p:stCondLst>
                                    <p:cond delay="0"/>
                                  </p:stCondLst>
                                  <p:childTnLst>
                                    <p:set>
                                      <p:cBhvr>
                                        <p:cTn id="394" dur="1" fill="hold">
                                          <p:stCondLst>
                                            <p:cond delay="0"/>
                                          </p:stCondLst>
                                        </p:cTn>
                                        <p:tgtEl>
                                          <p:spTgt spid="3150"/>
                                        </p:tgtEl>
                                        <p:attrNameLst>
                                          <p:attrName>style.visibility</p:attrName>
                                        </p:attrNameLst>
                                      </p:cBhvr>
                                      <p:to>
                                        <p:strVal val="visible"/>
                                      </p:to>
                                    </p:set>
                                    <p:animEffect filter="box(out)" transition="in">
                                      <p:cBhvr additive="repl">
                                        <p:cTn id="395" dur="500"/>
                                        <p:tgtEl>
                                          <p:spTgt spid="315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3126"/>
                                        </p:tgtEl>
                                        <p:attrNameLst>
                                          <p:attrName>style.visibility</p:attrName>
                                        </p:attrNameLst>
                                      </p:cBhvr>
                                      <p:to>
                                        <p:strVal val="visible"/>
                                      </p:to>
                                    </p:set>
                                    <p:animEffect filter="wipe(left)" transition="in">
                                      <p:cBhvr additive="repl">
                                        <p:cTn id="400" dur="500"/>
                                        <p:tgtEl>
                                          <p:spTgt spid="312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2">
                                  <p:stCondLst>
                                    <p:cond delay="0"/>
                                  </p:stCondLst>
                                  <p:childTnLst>
                                    <p:set>
                                      <p:cBhvr>
                                        <p:cTn id="404" dur="1" fill="hold">
                                          <p:stCondLst>
                                            <p:cond delay="0"/>
                                          </p:stCondLst>
                                        </p:cTn>
                                        <p:tgtEl>
                                          <p:spTgt spid="3185"/>
                                        </p:tgtEl>
                                        <p:attrNameLst>
                                          <p:attrName>style.visibility</p:attrName>
                                        </p:attrNameLst>
                                      </p:cBhvr>
                                      <p:to>
                                        <p:strVal val="visible"/>
                                      </p:to>
                                    </p:set>
                                    <p:animEffect filter="wipe(right)" transition="in">
                                      <p:cBhvr additive="repl">
                                        <p:cTn id="405" dur="500"/>
                                        <p:tgtEl>
                                          <p:spTgt spid="318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2">
                                  <p:stCondLst>
                                    <p:cond delay="0"/>
                                  </p:stCondLst>
                                  <p:childTnLst>
                                    <p:set>
                                      <p:cBhvr>
                                        <p:cTn id="409" dur="1" fill="hold">
                                          <p:stCondLst>
                                            <p:cond delay="0"/>
                                          </p:stCondLst>
                                        </p:cTn>
                                        <p:tgtEl>
                                          <p:spTgt spid="3197"/>
                                        </p:tgtEl>
                                        <p:attrNameLst>
                                          <p:attrName>style.visibility</p:attrName>
                                        </p:attrNameLst>
                                      </p:cBhvr>
                                      <p:to>
                                        <p:strVal val="visible"/>
                                      </p:to>
                                    </p:set>
                                    <p:animEffect filter="wipe(right)" transition="in">
                                      <p:cBhvr additive="repl">
                                        <p:cTn id="410" dur="500"/>
                                        <p:tgtEl>
                                          <p:spTgt spid="319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8">
                                  <p:stCondLst>
                                    <p:cond delay="0"/>
                                  </p:stCondLst>
                                  <p:childTnLst>
                                    <p:set>
                                      <p:cBhvr>
                                        <p:cTn id="414" dur="1" fill="hold">
                                          <p:stCondLst>
                                            <p:cond delay="0"/>
                                          </p:stCondLst>
                                        </p:cTn>
                                        <p:tgtEl>
                                          <p:spTgt spid="3146"/>
                                        </p:tgtEl>
                                        <p:attrNameLst>
                                          <p:attrName>style.visibility</p:attrName>
                                        </p:attrNameLst>
                                      </p:cBhvr>
                                      <p:to>
                                        <p:strVal val="visible"/>
                                      </p:to>
                                    </p:set>
                                    <p:animEffect filter="slide(fromLeft)" transition="in">
                                      <p:cBhvr additive="repl">
                                        <p:cTn id="415" dur="500"/>
                                        <p:tgtEl>
                                          <p:spTgt spid="31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3191"/>
                                        </p:tgtEl>
                                        <p:attrNameLst>
                                          <p:attrName>style.visibility</p:attrName>
                                        </p:attrNameLst>
                                      </p:cBhvr>
                                      <p:to>
                                        <p:strVal val="visible"/>
                                      </p:to>
                                    </p:set>
                                    <p:animEffect filter="wipe(left)" transition="in">
                                      <p:cBhvr additive="repl">
                                        <p:cTn id="420" dur="500"/>
                                        <p:tgtEl>
                                          <p:spTgt spid="319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3149"/>
                                        </p:tgtEl>
                                        <p:attrNameLst>
                                          <p:attrName>style.visibility</p:attrName>
                                        </p:attrNameLst>
                                      </p:cBhvr>
                                      <p:to>
                                        <p:strVal val="visible"/>
                                      </p:to>
                                    </p:set>
                                    <p:animEffect filter="wipe(left)" transition="in">
                                      <p:cBhvr additive="repl">
                                        <p:cTn id="425" dur="500"/>
                                        <p:tgtEl>
                                          <p:spTgt spid="3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3" name=""/>
          <p:cNvSpPr/>
          <p:nvPr/>
        </p:nvSpPr>
        <p:spPr>
          <a:xfrm>
            <a:off x="685800" y="419040"/>
            <a:ext cx="7772400" cy="110484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Search for </a:t>
            </a:r>
            <a:r>
              <a:rPr b="0" lang="en-US" sz="2800" spc="-1" strike="noStrike">
                <a:solidFill>
                  <a:srgbClr val="3333cc"/>
                </a:solidFill>
                <a:latin typeface="Comic Sans MS"/>
              </a:rPr>
              <a:t>Q</a:t>
            </a:r>
            <a:r>
              <a:rPr b="0" lang="en-US" sz="2800" spc="-1" strike="noStrike">
                <a:solidFill>
                  <a:srgbClr val="ff3300"/>
                </a:solidFill>
                <a:latin typeface="Comic Sans MS"/>
              </a:rPr>
              <a:t>uantitative </a:t>
            </a:r>
            <a:r>
              <a:rPr b="0" lang="en-US" sz="2800" spc="-1" strike="noStrike">
                <a:solidFill>
                  <a:srgbClr val="3333cc"/>
                </a:solidFill>
                <a:latin typeface="Comic Sans MS"/>
              </a:rPr>
              <a:t>T</a:t>
            </a:r>
            <a:r>
              <a:rPr b="0" lang="en-US" sz="2800" spc="-1" strike="noStrike">
                <a:solidFill>
                  <a:srgbClr val="ff3300"/>
                </a:solidFill>
                <a:latin typeface="Comic Sans MS"/>
              </a:rPr>
              <a:t>rait </a:t>
            </a:r>
            <a:r>
              <a:rPr b="0" lang="en-US" sz="2800" spc="-1" strike="noStrike">
                <a:solidFill>
                  <a:srgbClr val="3333cc"/>
                </a:solidFill>
                <a:latin typeface="Comic Sans MS"/>
              </a:rPr>
              <a:t>L</a:t>
            </a:r>
            <a:r>
              <a:rPr b="0" lang="en-US" sz="2800" spc="-1" strike="noStrike">
                <a:solidFill>
                  <a:srgbClr val="ff3300"/>
                </a:solidFill>
                <a:latin typeface="Comic Sans MS"/>
              </a:rPr>
              <a:t>oci (</a:t>
            </a:r>
            <a:r>
              <a:rPr b="0" lang="en-US" sz="2800" spc="-1" strike="noStrike">
                <a:solidFill>
                  <a:srgbClr val="3333cc"/>
                </a:solidFill>
                <a:latin typeface="Comic Sans MS"/>
              </a:rPr>
              <a:t>QTL</a:t>
            </a:r>
            <a:r>
              <a:rPr b="0" lang="en-US" sz="2800" spc="-1" strike="noStrike">
                <a:solidFill>
                  <a:srgbClr val="ff3300"/>
                </a:solidFill>
                <a:latin typeface="Comic Sans MS"/>
              </a:rPr>
              <a:t>) </a:t>
            </a:r>
            <a:br>
              <a:rPr sz="2800"/>
            </a:br>
            <a:r>
              <a:rPr b="0" lang="en-US" sz="2800" spc="-1" strike="noStrike">
                <a:solidFill>
                  <a:srgbClr val="ff3300"/>
                </a:solidFill>
                <a:latin typeface="Comic Sans MS"/>
              </a:rPr>
              <a:t>related to stress responses</a:t>
            </a:r>
            <a:endParaRPr b="0" lang="en-US" sz="2800" spc="-1" strike="noStrike">
              <a:solidFill>
                <a:srgbClr val="000000"/>
              </a:solidFill>
              <a:latin typeface="Comic Sans MS"/>
            </a:endParaRPr>
          </a:p>
        </p:txBody>
      </p:sp>
      <p:sp>
        <p:nvSpPr>
          <p:cNvPr id="3204" name=""/>
          <p:cNvSpPr/>
          <p:nvPr/>
        </p:nvSpPr>
        <p:spPr>
          <a:xfrm>
            <a:off x="304920" y="1943280"/>
            <a:ext cx="8534160" cy="354636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omic Sans MS"/>
              </a:rPr>
              <a:t>QTLs are chromosomal loci influencing </a:t>
            </a:r>
            <a:br>
              <a:rPr sz="2400"/>
            </a:br>
            <a:r>
              <a:rPr b="0" lang="fr-FR" sz="2400" spc="-1" strike="noStrike">
                <a:solidFill>
                  <a:srgbClr val="006600"/>
                </a:solidFill>
                <a:latin typeface="Comic Sans MS"/>
              </a:rPr>
              <a:t>	</a:t>
            </a:r>
            <a:r>
              <a:rPr b="0" lang="fr-FR" sz="2400" spc="-1" strike="noStrike">
                <a:solidFill>
                  <a:srgbClr val="006600"/>
                </a:solidFill>
                <a:latin typeface="Comic Sans MS"/>
              </a:rPr>
              <a:t>quantitative trait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omic Sans MS"/>
              </a:rPr>
              <a:t>Research protocol</a:t>
            </a:r>
            <a:endParaRPr b="0" lang="en-US" sz="24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select two genotypes differing for the trait(s) under study</a:t>
            </a:r>
            <a:br>
              <a:rPr sz="2000"/>
            </a:b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ff00"/>
                </a:solidFill>
                <a:latin typeface="Comic Sans MS"/>
              </a:rPr>
              <a:t>LEW</a:t>
            </a:r>
            <a:r>
              <a:rPr b="0" lang="fr-FR" sz="2000" spc="-1" strike="noStrike">
                <a:solidFill>
                  <a:srgbClr val="000066"/>
                </a:solidFill>
                <a:latin typeface="Comic Sans MS"/>
              </a:rPr>
              <a:t> vs. </a:t>
            </a:r>
            <a:r>
              <a:rPr b="0" lang="fr-FR" sz="2000" spc="-1" strike="noStrike">
                <a:solidFill>
                  <a:srgbClr val="3333cc"/>
                </a:solidFill>
                <a:latin typeface="Comic Sans MS"/>
              </a:rPr>
              <a:t>SHR</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breed a segregating population (F2, backcross)</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phenotype those animals for the traits under study</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genotype them with polymorphic markers </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search for correlations between genetic markers and traits</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F006A4E0-5A26-4394-A579-629883B637F6}" type="datetime1">
              <a:rPr lang="en-US"/>
              <a:t>07/30/26</a:t>
            </a:fld>
          </a:p>
        </p:txBody>
      </p:sp>
    </p:spTree>
  </p:cSld>
  <p:transition spd="med">
    <p:wipe dir="r"/>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6">
                                  <p:stCondLst>
                                    <p:cond delay="0"/>
                                  </p:stCondLst>
                                  <p:childTnLst>
                                    <p:set>
                                      <p:cBhvr>
                                        <p:cTn id="431" dur="1" fill="hold">
                                          <p:stCondLst>
                                            <p:cond delay="0"/>
                                          </p:stCondLst>
                                        </p:cTn>
                                        <p:tgtEl>
                                          <p:spTgt spid="3204">
                                            <p:txEl>
                                              <p:pRg st="0" end="0"/>
                                            </p:txEl>
                                          </p:spTgt>
                                        </p:tgtEl>
                                        <p:attrNameLst>
                                          <p:attrName>style.visibility</p:attrName>
                                        </p:attrNameLst>
                                      </p:cBhvr>
                                      <p:to>
                                        <p:strVal val="visible"/>
                                      </p:to>
                                    </p:set>
                                    <p:anim calcmode="lin" valueType="num">
                                      <p:cBhvr additive="base">
                                        <p:cTn id="432" dur="500" fill="hold"/>
                                        <p:tgtEl>
                                          <p:spTgt spid="3204">
                                            <p:txEl>
                                              <p:pRg st="0" end="0"/>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6">
                                  <p:stCondLst>
                                    <p:cond delay="0"/>
                                  </p:stCondLst>
                                  <p:childTnLst>
                                    <p:set>
                                      <p:cBhvr>
                                        <p:cTn id="437" dur="1" fill="hold">
                                          <p:stCondLst>
                                            <p:cond delay="0"/>
                                          </p:stCondLst>
                                        </p:cTn>
                                        <p:tgtEl>
                                          <p:spTgt spid="3204">
                                            <p:txEl>
                                              <p:pRg st="1" end="1"/>
                                            </p:txEl>
                                          </p:spTgt>
                                        </p:tgtEl>
                                        <p:attrNameLst>
                                          <p:attrName>style.visibility</p:attrName>
                                        </p:attrNameLst>
                                      </p:cBhvr>
                                      <p:to>
                                        <p:strVal val="visible"/>
                                      </p:to>
                                    </p:set>
                                    <p:anim calcmode="lin" valueType="num">
                                      <p:cBhvr additive="base">
                                        <p:cTn id="438" dur="500" fill="hold"/>
                                        <p:tgtEl>
                                          <p:spTgt spid="3204">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6">
                                  <p:stCondLst>
                                    <p:cond delay="0"/>
                                  </p:stCondLst>
                                  <p:childTnLst>
                                    <p:set>
                                      <p:cBhvr>
                                        <p:cTn id="443" dur="1" fill="hold">
                                          <p:stCondLst>
                                            <p:cond delay="0"/>
                                          </p:stCondLst>
                                        </p:cTn>
                                        <p:tgtEl>
                                          <p:spTgt spid="3204">
                                            <p:txEl>
                                              <p:pRg st="2" end="2"/>
                                            </p:txEl>
                                          </p:spTgt>
                                        </p:tgtEl>
                                        <p:attrNameLst>
                                          <p:attrName>style.visibility</p:attrName>
                                        </p:attrNameLst>
                                      </p:cBhvr>
                                      <p:to>
                                        <p:strVal val="visible"/>
                                      </p:to>
                                    </p:set>
                                    <p:anim calcmode="lin" valueType="num">
                                      <p:cBhvr additive="base">
                                        <p:cTn id="444" dur="500" fill="hold"/>
                                        <p:tgtEl>
                                          <p:spTgt spid="3204">
                                            <p:txEl>
                                              <p:pRg st="2" end="2"/>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6">
                                  <p:stCondLst>
                                    <p:cond delay="0"/>
                                  </p:stCondLst>
                                  <p:childTnLst>
                                    <p:set>
                                      <p:cBhvr>
                                        <p:cTn id="449" dur="1" fill="hold">
                                          <p:stCondLst>
                                            <p:cond delay="0"/>
                                          </p:stCondLst>
                                        </p:cTn>
                                        <p:tgtEl>
                                          <p:spTgt spid="3204">
                                            <p:txEl>
                                              <p:pRg st="4" end="4"/>
                                            </p:txEl>
                                          </p:spTgt>
                                        </p:tgtEl>
                                        <p:attrNameLst>
                                          <p:attrName>style.visibility</p:attrName>
                                        </p:attrNameLst>
                                      </p:cBhvr>
                                      <p:to>
                                        <p:strVal val="visible"/>
                                      </p:to>
                                    </p:set>
                                    <p:anim calcmode="lin" valueType="num">
                                      <p:cBhvr additive="base">
                                        <p:cTn id="450" dur="500" fill="hold"/>
                                        <p:tgtEl>
                                          <p:spTgt spid="3204">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6">
                                  <p:stCondLst>
                                    <p:cond delay="0"/>
                                  </p:stCondLst>
                                  <p:childTnLst>
                                    <p:set>
                                      <p:cBhvr>
                                        <p:cTn id="455" dur="1" fill="hold">
                                          <p:stCondLst>
                                            <p:cond delay="0"/>
                                          </p:stCondLst>
                                        </p:cTn>
                                        <p:tgtEl>
                                          <p:spTgt spid="3204">
                                            <p:txEl>
                                              <p:pRg st="5" end="5"/>
                                            </p:txEl>
                                          </p:spTgt>
                                        </p:tgtEl>
                                        <p:attrNameLst>
                                          <p:attrName>style.visibility</p:attrName>
                                        </p:attrNameLst>
                                      </p:cBhvr>
                                      <p:to>
                                        <p:strVal val="visible"/>
                                      </p:to>
                                    </p:set>
                                    <p:anim calcmode="lin" valueType="num">
                                      <p:cBhvr additive="base">
                                        <p:cTn id="456" dur="500" fill="hold"/>
                                        <p:tgtEl>
                                          <p:spTgt spid="3204">
                                            <p:txEl>
                                              <p:pRg st="5" end="5"/>
                                            </p:txEl>
                                          </p:spTgt>
                                        </p:tgtEl>
                                        <p:attrNameLst>
                                          <p:attrName>ppt_x</p:attrName>
                                        </p:attrNameLst>
                                      </p:cBhvr>
                                      <p:tavLst>
                                        <p:tav tm="0">
                                          <p:val>
                                            <p:strVal val="1+#ppt_w/2"/>
                                          </p:val>
                                        </p:tav>
                                        <p:tav tm="100000">
                                          <p:val>
                                            <p:strVal val="#ppt_x"/>
                                          </p:val>
                                        </p:tav>
                                      </p:tavLst>
                                    </p:anim>
                                    <p:anim calcmode="lin" valueType="num">
                                      <p:cBhvr additive="base">
                                        <p:cTn id="457" dur="500" fill="hold"/>
                                        <p:tgtEl>
                                          <p:spTgt spid="32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6">
                                  <p:stCondLst>
                                    <p:cond delay="0"/>
                                  </p:stCondLst>
                                  <p:childTnLst>
                                    <p:set>
                                      <p:cBhvr>
                                        <p:cTn id="461" dur="1" fill="hold">
                                          <p:stCondLst>
                                            <p:cond delay="0"/>
                                          </p:stCondLst>
                                        </p:cTn>
                                        <p:tgtEl>
                                          <p:spTgt spid="3204">
                                            <p:txEl>
                                              <p:pRg st="6" end="6"/>
                                            </p:txEl>
                                          </p:spTgt>
                                        </p:tgtEl>
                                        <p:attrNameLst>
                                          <p:attrName>style.visibility</p:attrName>
                                        </p:attrNameLst>
                                      </p:cBhvr>
                                      <p:to>
                                        <p:strVal val="visible"/>
                                      </p:to>
                                    </p:set>
                                    <p:anim calcmode="lin" valueType="num">
                                      <p:cBhvr additive="base">
                                        <p:cTn id="462" dur="500" fill="hold"/>
                                        <p:tgtEl>
                                          <p:spTgt spid="3204">
                                            <p:txEl>
                                              <p:pRg st="6" end="6"/>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2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6">
                                  <p:stCondLst>
                                    <p:cond delay="0"/>
                                  </p:stCondLst>
                                  <p:childTnLst>
                                    <p:set>
                                      <p:cBhvr>
                                        <p:cTn id="467" dur="1" fill="hold">
                                          <p:stCondLst>
                                            <p:cond delay="0"/>
                                          </p:stCondLst>
                                        </p:cTn>
                                        <p:tgtEl>
                                          <p:spTgt spid="3204"/>
                                        </p:tgtEl>
                                        <p:attrNameLst>
                                          <p:attrName>style.visibility</p:attrName>
                                        </p:attrNameLst>
                                      </p:cBhvr>
                                      <p:to>
                                        <p:strVal val="visible"/>
                                      </p:to>
                                    </p:set>
                                    <p:anim calcmode="lin" valueType="num">
                                      <p:cBhvr additive="base">
                                        <p:cTn id="468" dur="500" fill="hold"/>
                                        <p:tgtEl>
                                          <p:spTgt spid="3204"/>
                                        </p:tgtEl>
                                        <p:attrNameLst>
                                          <p:attrName>ppt_x</p:attrName>
                                        </p:attrNameLst>
                                      </p:cBhvr>
                                      <p:tavLst>
                                        <p:tav tm="0">
                                          <p:val>
                                            <p:strVal val="1+#ppt_w/2"/>
                                          </p:val>
                                        </p:tav>
                                        <p:tav tm="100000">
                                          <p:val>
                                            <p:strVal val="#ppt_x"/>
                                          </p:val>
                                        </p:tav>
                                      </p:tavLst>
                                    </p:anim>
                                    <p:anim calcmode="lin" valueType="num">
                                      <p:cBhvr additive="base">
                                        <p:cTn id="469" dur="500" fill="hold"/>
                                        <p:tgtEl>
                                          <p:spTgt spid="3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5" name=""/>
          <p:cNvSpPr/>
          <p:nvPr/>
        </p:nvSpPr>
        <p:spPr>
          <a:xfrm>
            <a:off x="822240" y="181080"/>
            <a:ext cx="7675560" cy="85716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Quantitative Trait Locus (QTL)  mapping</a:t>
            </a:r>
            <a:endParaRPr b="0" lang="en-US" sz="2800" spc="-1" strike="noStrike">
              <a:solidFill>
                <a:srgbClr val="000000"/>
              </a:solidFill>
              <a:latin typeface="Comic Sans MS"/>
            </a:endParaRPr>
          </a:p>
        </p:txBody>
      </p:sp>
      <p:grpSp>
        <p:nvGrpSpPr>
          <p:cNvPr id="3206" name=""/>
          <p:cNvGrpSpPr/>
          <p:nvPr/>
        </p:nvGrpSpPr>
        <p:grpSpPr>
          <a:xfrm>
            <a:off x="705600" y="1052640"/>
            <a:ext cx="7093080" cy="1091880"/>
            <a:chOff x="705600" y="1052640"/>
            <a:chExt cx="7093080" cy="1091880"/>
          </a:xfrm>
        </p:grpSpPr>
        <p:sp>
          <p:nvSpPr>
            <p:cNvPr id="3207" name=""/>
            <p:cNvSpPr/>
            <p:nvPr/>
          </p:nvSpPr>
          <p:spPr>
            <a:xfrm rot="21120000">
              <a:off x="3890160" y="1396800"/>
              <a:ext cx="167760" cy="295200"/>
            </a:xfrm>
            <a:prstGeom prst="rtTriangl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08" name=""/>
            <p:cNvSpPr/>
            <p:nvPr/>
          </p:nvSpPr>
          <p:spPr>
            <a:xfrm>
              <a:off x="3525120" y="1415880"/>
              <a:ext cx="471240" cy="344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09" name=""/>
            <p:cNvSpPr/>
            <p:nvPr/>
          </p:nvSpPr>
          <p:spPr>
            <a:xfrm rot="11940000">
              <a:off x="2952000" y="1462320"/>
              <a:ext cx="549720" cy="263160"/>
            </a:xfrm>
            <a:custGeom>
              <a:avLst/>
              <a:gdLst/>
              <a:ahLst/>
              <a:rect l="l" t="t" r="r" b="b"/>
              <a:pathLst>
                <a:path stroke="0" w="21600" h="21600">
                  <a:moveTo>
                    <a:pt x="0" y="10800"/>
                  </a:moveTo>
                  <a:arcTo wR="10800" hR="10800" stAng="10800000" swAng="5382371"/>
                  <a:lnTo>
                    <a:pt x="10800" y="10800"/>
                  </a:lnTo>
                  <a:close/>
                </a:path>
                <a:path fill="none" w="21600" h="21600">
                  <a:moveTo>
                    <a:pt x="0" y="10800"/>
                  </a:moveTo>
                  <a:arcTo wR="10800" hR="10800" stAng="10800000" swAng="538237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0" name=""/>
            <p:cNvSpPr/>
            <p:nvPr/>
          </p:nvSpPr>
          <p:spPr>
            <a:xfrm>
              <a:off x="3822840" y="1314360"/>
              <a:ext cx="145080" cy="244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1" name=""/>
            <p:cNvSpPr/>
            <p:nvPr/>
          </p:nvSpPr>
          <p:spPr>
            <a:xfrm>
              <a:off x="4055760" y="1658880"/>
              <a:ext cx="19800" cy="33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sp>
          <p:nvSpPr>
            <p:cNvPr id="3212" name=""/>
            <p:cNvSpPr/>
            <p:nvPr/>
          </p:nvSpPr>
          <p:spPr>
            <a:xfrm>
              <a:off x="3468600" y="1421640"/>
              <a:ext cx="499320" cy="721800"/>
            </a:xfrm>
            <a:custGeom>
              <a:avLst/>
              <a:gdLst/>
              <a:ahLst/>
              <a:rect l="l" t="t" r="r" b="b"/>
              <a:pathLst>
                <a:path stroke="0" w="21600" h="21600">
                  <a:moveTo>
                    <a:pt x="0" y="10800"/>
                  </a:moveTo>
                  <a:arcTo wR="10800" hR="10800" stAng="10800000" swAng="4707297"/>
                  <a:lnTo>
                    <a:pt x="10800" y="10800"/>
                  </a:lnTo>
                  <a:close/>
                </a:path>
                <a:path fill="none" w="21600" h="21600">
                  <a:moveTo>
                    <a:pt x="0" y="10800"/>
                  </a:moveTo>
                  <a:arcTo wR="10800" hR="10800" stAng="10800000" swAng="470729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3" name=""/>
            <p:cNvSpPr/>
            <p:nvPr/>
          </p:nvSpPr>
          <p:spPr>
            <a:xfrm>
              <a:off x="3576240" y="1657440"/>
              <a:ext cx="326520" cy="247320"/>
            </a:xfrm>
            <a:custGeom>
              <a:avLst/>
              <a:gdLst/>
              <a:ahLst/>
              <a:rect l="l" t="t" r="r" b="b"/>
              <a:pathLst>
                <a:path stroke="0" w="21600" h="21600">
                  <a:moveTo>
                    <a:pt x="10707" y="0"/>
                  </a:moveTo>
                  <a:arcTo wR="10800" hR="10800" stAng="-5429507" swAng="5429507"/>
                  <a:lnTo>
                    <a:pt x="10800" y="10800"/>
                  </a:lnTo>
                  <a:close/>
                </a:path>
                <a:path fill="none" w="21600" h="21600">
                  <a:moveTo>
                    <a:pt x="10707" y="0"/>
                  </a:moveTo>
                  <a:arcTo wR="10800" hR="10800" stAng="-5429507" swAng="542950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4" name=""/>
            <p:cNvSpPr/>
            <p:nvPr/>
          </p:nvSpPr>
          <p:spPr>
            <a:xfrm>
              <a:off x="3499920" y="1560600"/>
              <a:ext cx="196920" cy="253800"/>
            </a:xfrm>
            <a:custGeom>
              <a:avLst/>
              <a:gdLst/>
              <a:ahLst/>
              <a:rect l="l" t="t" r="r" b="b"/>
              <a:pathLst>
                <a:path stroke="0" w="21600" h="21600">
                  <a:moveTo>
                    <a:pt x="10648" y="1"/>
                  </a:moveTo>
                  <a:arcTo wR="10800" hR="10800" stAng="-5448454" swAng="5404905"/>
                  <a:lnTo>
                    <a:pt x="10800" y="10800"/>
                  </a:lnTo>
                  <a:close/>
                </a:path>
                <a:path fill="none" w="21600" h="21600">
                  <a:moveTo>
                    <a:pt x="10648" y="1"/>
                  </a:moveTo>
                  <a:arcTo wR="10800" hR="10800" stAng="-5448454" swAng="5404905"/>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5" name=""/>
            <p:cNvSpPr/>
            <p:nvPr/>
          </p:nvSpPr>
          <p:spPr>
            <a:xfrm>
              <a:off x="3870720" y="1515960"/>
              <a:ext cx="29520" cy="399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3216" name=""/>
            <p:cNvSpPr/>
            <p:nvPr/>
          </p:nvSpPr>
          <p:spPr>
            <a:xfrm flipH="1" rot="480000">
              <a:off x="5004720" y="1396800"/>
              <a:ext cx="167400" cy="295200"/>
            </a:xfrm>
            <a:prstGeom prst="rtTriangl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7" name=""/>
            <p:cNvSpPr/>
            <p:nvPr/>
          </p:nvSpPr>
          <p:spPr>
            <a:xfrm>
              <a:off x="5067360" y="1415880"/>
              <a:ext cx="470880" cy="344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8" name=""/>
            <p:cNvSpPr/>
            <p:nvPr/>
          </p:nvSpPr>
          <p:spPr>
            <a:xfrm rot="9660000">
              <a:off x="5561640" y="1462680"/>
              <a:ext cx="549000" cy="263160"/>
            </a:xfrm>
            <a:custGeom>
              <a:avLst/>
              <a:gdLst/>
              <a:ahLst/>
              <a:rect l="l" t="t" r="r" b="b"/>
              <a:pathLst>
                <a:path stroke="0" w="21600" h="21600">
                  <a:moveTo>
                    <a:pt x="10745" y="0"/>
                  </a:moveTo>
                  <a:arcTo wR="10800" hR="10800" stAng="-5417629" swAng="5417629"/>
                  <a:lnTo>
                    <a:pt x="10800" y="10800"/>
                  </a:lnTo>
                  <a:close/>
                </a:path>
                <a:path fill="none" w="21600" h="21600">
                  <a:moveTo>
                    <a:pt x="10745" y="0"/>
                  </a:moveTo>
                  <a:arcTo wR="10800" hR="10800" stAng="-5417629" swAng="541762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19" name=""/>
            <p:cNvSpPr/>
            <p:nvPr/>
          </p:nvSpPr>
          <p:spPr>
            <a:xfrm>
              <a:off x="5095800" y="1314360"/>
              <a:ext cx="145080" cy="2444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20" name=""/>
            <p:cNvSpPr/>
            <p:nvPr/>
          </p:nvSpPr>
          <p:spPr>
            <a:xfrm>
              <a:off x="4988520" y="1658880"/>
              <a:ext cx="19440" cy="334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sp>
          <p:nvSpPr>
            <p:cNvPr id="3221" name=""/>
            <p:cNvSpPr/>
            <p:nvPr/>
          </p:nvSpPr>
          <p:spPr>
            <a:xfrm>
              <a:off x="5043960" y="1424520"/>
              <a:ext cx="557640" cy="720000"/>
            </a:xfrm>
            <a:custGeom>
              <a:avLst/>
              <a:gdLst/>
              <a:ahLst/>
              <a:rect l="l" t="t" r="r" b="b"/>
              <a:pathLst>
                <a:path stroke="0" w="21600" h="21600">
                  <a:moveTo>
                    <a:pt x="11762" y="43"/>
                  </a:moveTo>
                  <a:arcTo wR="10800" hR="10800" stAng="-5093503" swAng="5093503"/>
                  <a:lnTo>
                    <a:pt x="10800" y="10800"/>
                  </a:lnTo>
                  <a:close/>
                </a:path>
                <a:path fill="none" w="21600" h="21600">
                  <a:moveTo>
                    <a:pt x="11762" y="43"/>
                  </a:moveTo>
                  <a:arcTo wR="10800" hR="10800" stAng="-5093503" swAng="5093503"/>
                </a:path>
              </a:pathLst>
            </a:custGeom>
            <a:solidFill>
              <a:srgbClr val="3333c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22" name=""/>
            <p:cNvSpPr/>
            <p:nvPr/>
          </p:nvSpPr>
          <p:spPr>
            <a:xfrm>
              <a:off x="5164920" y="1657440"/>
              <a:ext cx="329400" cy="247320"/>
            </a:xfrm>
            <a:custGeom>
              <a:avLst/>
              <a:gdLst/>
              <a:ahLst/>
              <a:rect l="l" t="t" r="r" b="b"/>
              <a:pathLst>
                <a:path stroke="0" w="21600" h="21600">
                  <a:moveTo>
                    <a:pt x="0" y="10800"/>
                  </a:moveTo>
                  <a:arcTo wR="10800" hR="10800" stAng="10800000" swAng="5370493"/>
                  <a:lnTo>
                    <a:pt x="10800" y="10800"/>
                  </a:lnTo>
                  <a:close/>
                </a:path>
                <a:path fill="none" w="21600" h="21600">
                  <a:moveTo>
                    <a:pt x="0" y="10800"/>
                  </a:moveTo>
                  <a:arcTo wR="10800" hR="10800" stAng="10800000" swAng="5370493"/>
                </a:path>
              </a:pathLst>
            </a:custGeom>
            <a:solidFill>
              <a:srgbClr val="3333c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23" name=""/>
            <p:cNvSpPr/>
            <p:nvPr/>
          </p:nvSpPr>
          <p:spPr>
            <a:xfrm>
              <a:off x="5372280" y="1562040"/>
              <a:ext cx="196920" cy="250920"/>
            </a:xfrm>
            <a:custGeom>
              <a:avLst/>
              <a:gdLst/>
              <a:ahLst/>
              <a:rect l="l" t="t" r="r" b="b"/>
              <a:pathLst>
                <a:path stroke="0" w="21600" h="21600">
                  <a:moveTo>
                    <a:pt x="1" y="10665"/>
                  </a:moveTo>
                  <a:arcTo wR="10800" hR="10800" stAng="-10757065" swAng="5308610"/>
                  <a:lnTo>
                    <a:pt x="10800" y="10800"/>
                  </a:lnTo>
                  <a:close/>
                </a:path>
                <a:path fill="none" w="21600" h="21600">
                  <a:moveTo>
                    <a:pt x="1" y="10665"/>
                  </a:moveTo>
                  <a:arcTo wR="10800" hR="10800" stAng="-10757065" swAng="5308610"/>
                </a:path>
              </a:pathLst>
            </a:custGeom>
            <a:solidFill>
              <a:srgbClr val="3333c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24" name=""/>
            <p:cNvSpPr/>
            <p:nvPr/>
          </p:nvSpPr>
          <p:spPr>
            <a:xfrm>
              <a:off x="4389120" y="1346040"/>
              <a:ext cx="33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Comic Sans MS"/>
              </a:endParaRPr>
            </a:p>
          </p:txBody>
        </p:sp>
        <p:sp>
          <p:nvSpPr>
            <p:cNvPr id="3225" name=""/>
            <p:cNvSpPr/>
            <p:nvPr/>
          </p:nvSpPr>
          <p:spPr>
            <a:xfrm>
              <a:off x="705600" y="1268280"/>
              <a:ext cx="129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LEW/LEW</a:t>
              </a:r>
              <a:endParaRPr b="0" lang="en-US" sz="2000" spc="-1" strike="noStrike">
                <a:solidFill>
                  <a:srgbClr val="000000"/>
                </a:solidFill>
                <a:latin typeface="Comic Sans MS"/>
              </a:endParaRPr>
            </a:p>
          </p:txBody>
        </p:sp>
        <p:sp>
          <p:nvSpPr>
            <p:cNvPr id="3226" name=""/>
            <p:cNvSpPr/>
            <p:nvPr/>
          </p:nvSpPr>
          <p:spPr>
            <a:xfrm>
              <a:off x="6547320" y="1254240"/>
              <a:ext cx="1251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HR/SHR</a:t>
              </a:r>
              <a:endParaRPr b="0" lang="en-US" sz="2000" spc="-1" strike="noStrike">
                <a:solidFill>
                  <a:srgbClr val="000000"/>
                </a:solidFill>
                <a:latin typeface="Comic Sans MS"/>
              </a:endParaRPr>
            </a:p>
          </p:txBody>
        </p:sp>
        <p:grpSp>
          <p:nvGrpSpPr>
            <p:cNvPr id="3227" name=""/>
            <p:cNvGrpSpPr/>
            <p:nvPr/>
          </p:nvGrpSpPr>
          <p:grpSpPr>
            <a:xfrm>
              <a:off x="2739240" y="1082520"/>
              <a:ext cx="271440" cy="847440"/>
              <a:chOff x="2739240" y="1082520"/>
              <a:chExt cx="271440" cy="847440"/>
            </a:xfrm>
          </p:grpSpPr>
          <p:sp>
            <p:nvSpPr>
              <p:cNvPr id="3228" name=""/>
              <p:cNvSpPr/>
              <p:nvPr/>
            </p:nvSpPr>
            <p:spPr>
              <a:xfrm>
                <a:off x="2739240" y="1082520"/>
                <a:ext cx="79560" cy="8474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29" name=""/>
              <p:cNvSpPr/>
              <p:nvPr/>
            </p:nvSpPr>
            <p:spPr>
              <a:xfrm>
                <a:off x="2930760" y="1082520"/>
                <a:ext cx="79920" cy="8474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nvGrpSpPr>
            <p:cNvPr id="3230" name=""/>
            <p:cNvGrpSpPr/>
            <p:nvPr/>
          </p:nvGrpSpPr>
          <p:grpSpPr>
            <a:xfrm>
              <a:off x="6018480" y="1052640"/>
              <a:ext cx="293760" cy="915480"/>
              <a:chOff x="6018480" y="1052640"/>
              <a:chExt cx="293760" cy="915480"/>
            </a:xfrm>
          </p:grpSpPr>
          <p:sp>
            <p:nvSpPr>
              <p:cNvPr id="3231" name=""/>
              <p:cNvSpPr/>
              <p:nvPr/>
            </p:nvSpPr>
            <p:spPr>
              <a:xfrm>
                <a:off x="6018480" y="1052640"/>
                <a:ext cx="86760" cy="91548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32" name=""/>
              <p:cNvSpPr/>
              <p:nvPr/>
            </p:nvSpPr>
            <p:spPr>
              <a:xfrm>
                <a:off x="6226200" y="1052640"/>
                <a:ext cx="86040" cy="91548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233" name=""/>
            <p:cNvSpPr/>
            <p:nvPr/>
          </p:nvSpPr>
          <p:spPr>
            <a:xfrm>
              <a:off x="5157720" y="1522440"/>
              <a:ext cx="29160" cy="39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Comic Sans MS"/>
              </a:endParaRPr>
            </a:p>
          </p:txBody>
        </p:sp>
      </p:grpSp>
      <p:grpSp>
        <p:nvGrpSpPr>
          <p:cNvPr id="3234" name=""/>
          <p:cNvGrpSpPr/>
          <p:nvPr/>
        </p:nvGrpSpPr>
        <p:grpSpPr>
          <a:xfrm>
            <a:off x="411120" y="5641920"/>
            <a:ext cx="8183520" cy="368280"/>
            <a:chOff x="411120" y="5641920"/>
            <a:chExt cx="8183520" cy="368280"/>
          </a:xfrm>
        </p:grpSpPr>
        <p:sp>
          <p:nvSpPr>
            <p:cNvPr id="3235" name=""/>
            <p:cNvSpPr/>
            <p:nvPr/>
          </p:nvSpPr>
          <p:spPr>
            <a:xfrm>
              <a:off x="411120" y="6004080"/>
              <a:ext cx="81835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236" name=""/>
            <p:cNvSpPr/>
            <p:nvPr/>
          </p:nvSpPr>
          <p:spPr>
            <a:xfrm>
              <a:off x="956520" y="56419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QTL</a:t>
              </a:r>
              <a:endParaRPr b="0" lang="en-US" sz="1800" spc="-1" strike="noStrike">
                <a:solidFill>
                  <a:srgbClr val="000000"/>
                </a:solidFill>
                <a:latin typeface="Comic Sans MS"/>
              </a:endParaRPr>
            </a:p>
          </p:txBody>
        </p:sp>
      </p:grpSp>
      <p:grpSp>
        <p:nvGrpSpPr>
          <p:cNvPr id="3237" name=""/>
          <p:cNvGrpSpPr/>
          <p:nvPr/>
        </p:nvGrpSpPr>
        <p:grpSpPr>
          <a:xfrm>
            <a:off x="1438560" y="1784520"/>
            <a:ext cx="7346160" cy="2322360"/>
            <a:chOff x="1438560" y="1784520"/>
            <a:chExt cx="7346160" cy="2322360"/>
          </a:xfrm>
        </p:grpSpPr>
        <p:sp>
          <p:nvSpPr>
            <p:cNvPr id="3238" name=""/>
            <p:cNvSpPr/>
            <p:nvPr/>
          </p:nvSpPr>
          <p:spPr>
            <a:xfrm>
              <a:off x="8174160" y="2633760"/>
              <a:ext cx="610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1</a:t>
              </a:r>
              <a:endParaRPr b="0" lang="en-US" sz="2400" spc="-1" strike="noStrike">
                <a:solidFill>
                  <a:srgbClr val="000000"/>
                </a:solidFill>
                <a:latin typeface="Comic Sans MS"/>
              </a:endParaRPr>
            </a:p>
          </p:txBody>
        </p:sp>
        <p:grpSp>
          <p:nvGrpSpPr>
            <p:cNvPr id="3239" name=""/>
            <p:cNvGrpSpPr/>
            <p:nvPr/>
          </p:nvGrpSpPr>
          <p:grpSpPr>
            <a:xfrm>
              <a:off x="1438560" y="1784520"/>
              <a:ext cx="6750720" cy="2322360"/>
              <a:chOff x="1438560" y="1784520"/>
              <a:chExt cx="6750720" cy="2322360"/>
            </a:xfrm>
          </p:grpSpPr>
          <p:grpSp>
            <p:nvGrpSpPr>
              <p:cNvPr id="3240" name=""/>
              <p:cNvGrpSpPr/>
              <p:nvPr/>
            </p:nvGrpSpPr>
            <p:grpSpPr>
              <a:xfrm>
                <a:off x="1832400" y="2179800"/>
                <a:ext cx="5571000" cy="387360"/>
                <a:chOff x="1832400" y="2179800"/>
                <a:chExt cx="5571000" cy="387360"/>
              </a:xfrm>
            </p:grpSpPr>
            <p:sp>
              <p:nvSpPr>
                <p:cNvPr id="3241" name=""/>
                <p:cNvSpPr/>
                <p:nvPr/>
              </p:nvSpPr>
              <p:spPr>
                <a:xfrm>
                  <a:off x="1832400" y="2184480"/>
                  <a:ext cx="555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242" name=""/>
                <p:cNvSpPr/>
                <p:nvPr/>
              </p:nvSpPr>
              <p:spPr>
                <a:xfrm>
                  <a:off x="7403400" y="2179800"/>
                  <a:ext cx="0" cy="3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243" name=""/>
                <p:cNvSpPr/>
                <p:nvPr/>
              </p:nvSpPr>
              <p:spPr>
                <a:xfrm>
                  <a:off x="5868000" y="21988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244" name=""/>
                <p:cNvSpPr/>
                <p:nvPr/>
              </p:nvSpPr>
              <p:spPr>
                <a:xfrm>
                  <a:off x="4536000" y="219096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245" name=""/>
                <p:cNvSpPr/>
                <p:nvPr/>
              </p:nvSpPr>
              <p:spPr>
                <a:xfrm>
                  <a:off x="3164400" y="21988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246" name=""/>
                <p:cNvSpPr/>
                <p:nvPr/>
              </p:nvSpPr>
              <p:spPr>
                <a:xfrm>
                  <a:off x="1832400" y="219096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3247" name=""/>
              <p:cNvSpPr/>
              <p:nvPr/>
            </p:nvSpPr>
            <p:spPr>
              <a:xfrm>
                <a:off x="1612080" y="3193920"/>
                <a:ext cx="8604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48" name=""/>
              <p:cNvSpPr/>
              <p:nvPr/>
            </p:nvSpPr>
            <p:spPr>
              <a:xfrm>
                <a:off x="1819440" y="3193920"/>
                <a:ext cx="8604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49" name=""/>
              <p:cNvSpPr/>
              <p:nvPr/>
            </p:nvSpPr>
            <p:spPr>
              <a:xfrm>
                <a:off x="4433040" y="3193920"/>
                <a:ext cx="8604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0" name=""/>
              <p:cNvSpPr/>
              <p:nvPr/>
            </p:nvSpPr>
            <p:spPr>
              <a:xfrm>
                <a:off x="4640400" y="3193920"/>
                <a:ext cx="8604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1" name=""/>
              <p:cNvSpPr/>
              <p:nvPr/>
            </p:nvSpPr>
            <p:spPr>
              <a:xfrm>
                <a:off x="3021840" y="3174840"/>
                <a:ext cx="8604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2" name=""/>
              <p:cNvSpPr/>
              <p:nvPr/>
            </p:nvSpPr>
            <p:spPr>
              <a:xfrm>
                <a:off x="3227760" y="3174840"/>
                <a:ext cx="8748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3" name=""/>
              <p:cNvSpPr/>
              <p:nvPr/>
            </p:nvSpPr>
            <p:spPr>
              <a:xfrm>
                <a:off x="7255080" y="3174840"/>
                <a:ext cx="8604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4" name=""/>
              <p:cNvSpPr/>
              <p:nvPr/>
            </p:nvSpPr>
            <p:spPr>
              <a:xfrm>
                <a:off x="7462440" y="3174840"/>
                <a:ext cx="8604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5" name=""/>
              <p:cNvSpPr/>
              <p:nvPr/>
            </p:nvSpPr>
            <p:spPr>
              <a:xfrm>
                <a:off x="5843880" y="3193920"/>
                <a:ext cx="8712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6" name=""/>
              <p:cNvSpPr/>
              <p:nvPr/>
            </p:nvSpPr>
            <p:spPr>
              <a:xfrm>
                <a:off x="6051240" y="3193920"/>
                <a:ext cx="8604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7" name=""/>
              <p:cNvSpPr/>
              <p:nvPr/>
            </p:nvSpPr>
            <p:spPr>
              <a:xfrm flipH="1" rot="480000">
                <a:off x="1456920" y="2692080"/>
                <a:ext cx="156600" cy="281160"/>
              </a:xfrm>
              <a:prstGeom prst="rtTriangle">
                <a:avLst/>
              </a:prstGeom>
              <a:blipFill rotWithShape="0">
                <a:blip r:embed="rId1"/>
                <a:srcRect/>
                <a:tile tx="0" ty="0" sx="100000" sy="100000" algn="ctr"/>
              </a:blipFill>
              <a:ln w="12600">
                <a:solidFill>
                  <a:srgbClr val="081d5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3258" name=""/>
              <p:cNvSpPr/>
              <p:nvPr/>
            </p:nvSpPr>
            <p:spPr>
              <a:xfrm>
                <a:off x="1520280" y="2711520"/>
                <a:ext cx="460080" cy="330120"/>
              </a:xfrm>
              <a:prstGeom prst="ellipse">
                <a:avLst/>
              </a:prstGeom>
              <a:blipFill rotWithShape="0">
                <a:blip r:embed="rId2"/>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59" name=""/>
              <p:cNvSpPr/>
              <p:nvPr/>
            </p:nvSpPr>
            <p:spPr>
              <a:xfrm rot="9660000">
                <a:off x="2010600" y="2751840"/>
                <a:ext cx="5490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60" name=""/>
              <p:cNvSpPr/>
              <p:nvPr/>
            </p:nvSpPr>
            <p:spPr>
              <a:xfrm>
                <a:off x="1548720" y="2610000"/>
                <a:ext cx="133560" cy="231480"/>
              </a:xfrm>
              <a:prstGeom prst="ellipse">
                <a:avLst/>
              </a:prstGeom>
              <a:blipFill rotWithShape="0">
                <a:blip r:embed="rId3"/>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61" name=""/>
              <p:cNvSpPr/>
              <p:nvPr/>
            </p:nvSpPr>
            <p:spPr>
              <a:xfrm>
                <a:off x="1441440" y="2954160"/>
                <a:ext cx="8280" cy="19080"/>
              </a:xfrm>
              <a:prstGeom prst="ellipse">
                <a:avLst/>
              </a:prstGeom>
              <a:blipFill rotWithShape="0">
                <a:blip r:embed="rId4"/>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3262" name=""/>
              <p:cNvSpPr/>
              <p:nvPr/>
            </p:nvSpPr>
            <p:spPr>
              <a:xfrm>
                <a:off x="1495080" y="271476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5"/>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63" name=""/>
              <p:cNvSpPr/>
              <p:nvPr/>
            </p:nvSpPr>
            <p:spPr>
              <a:xfrm>
                <a:off x="1613520" y="2946240"/>
                <a:ext cx="3272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64" name=""/>
              <p:cNvSpPr/>
              <p:nvPr/>
            </p:nvSpPr>
            <p:spPr>
              <a:xfrm>
                <a:off x="1818360" y="2849400"/>
                <a:ext cx="19980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65" name=""/>
              <p:cNvSpPr/>
              <p:nvPr/>
            </p:nvSpPr>
            <p:spPr>
              <a:xfrm>
                <a:off x="1589400" y="2833560"/>
                <a:ext cx="29520" cy="39960"/>
              </a:xfrm>
              <a:prstGeom prst="ellipse">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3266" name=""/>
              <p:cNvSpPr/>
              <p:nvPr/>
            </p:nvSpPr>
            <p:spPr>
              <a:xfrm flipH="1" rot="480000">
                <a:off x="2857680" y="2692440"/>
                <a:ext cx="156240" cy="280800"/>
              </a:xfrm>
              <a:prstGeom prst="rtTriangle">
                <a:avLst/>
              </a:prstGeom>
              <a:blipFill rotWithShape="0">
                <a:blip r:embed="rId9"/>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3267" name=""/>
              <p:cNvSpPr/>
              <p:nvPr/>
            </p:nvSpPr>
            <p:spPr>
              <a:xfrm>
                <a:off x="2920320" y="2711520"/>
                <a:ext cx="459720" cy="330120"/>
              </a:xfrm>
              <a:prstGeom prst="ellipse">
                <a:avLst/>
              </a:prstGeom>
              <a:blipFill rotWithShape="0">
                <a:blip r:embed="rId10"/>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68" name=""/>
              <p:cNvSpPr/>
              <p:nvPr/>
            </p:nvSpPr>
            <p:spPr>
              <a:xfrm rot="9660000">
                <a:off x="3410640" y="2751840"/>
                <a:ext cx="5490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69" name=""/>
              <p:cNvSpPr/>
              <p:nvPr/>
            </p:nvSpPr>
            <p:spPr>
              <a:xfrm>
                <a:off x="2948400" y="2610000"/>
                <a:ext cx="133920" cy="231480"/>
              </a:xfrm>
              <a:prstGeom prst="ellipse">
                <a:avLst/>
              </a:prstGeom>
              <a:blipFill rotWithShape="0">
                <a:blip r:embed="rId11"/>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70" name=""/>
              <p:cNvSpPr/>
              <p:nvPr/>
            </p:nvSpPr>
            <p:spPr>
              <a:xfrm>
                <a:off x="2841120" y="2954160"/>
                <a:ext cx="8280" cy="19080"/>
              </a:xfrm>
              <a:prstGeom prst="ellipse">
                <a:avLst/>
              </a:prstGeom>
              <a:blipFill rotWithShape="0">
                <a:blip r:embed="rId12"/>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3271" name=""/>
              <p:cNvSpPr/>
              <p:nvPr/>
            </p:nvSpPr>
            <p:spPr>
              <a:xfrm>
                <a:off x="2895480" y="2714760"/>
                <a:ext cx="54612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13"/>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72" name=""/>
              <p:cNvSpPr/>
              <p:nvPr/>
            </p:nvSpPr>
            <p:spPr>
              <a:xfrm>
                <a:off x="3013560" y="2946240"/>
                <a:ext cx="32652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14"/>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73" name=""/>
              <p:cNvSpPr/>
              <p:nvPr/>
            </p:nvSpPr>
            <p:spPr>
              <a:xfrm>
                <a:off x="3218040" y="2849400"/>
                <a:ext cx="19980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1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74" name=""/>
              <p:cNvSpPr/>
              <p:nvPr/>
            </p:nvSpPr>
            <p:spPr>
              <a:xfrm>
                <a:off x="2989440" y="2833560"/>
                <a:ext cx="29160" cy="39960"/>
              </a:xfrm>
              <a:prstGeom prst="ellipse">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3275" name=""/>
              <p:cNvSpPr/>
              <p:nvPr/>
            </p:nvSpPr>
            <p:spPr>
              <a:xfrm flipH="1" rot="480000">
                <a:off x="4256280" y="2692080"/>
                <a:ext cx="156600" cy="281160"/>
              </a:xfrm>
              <a:prstGeom prst="rtTriangle">
                <a:avLst/>
              </a:prstGeom>
              <a:blipFill rotWithShape="0">
                <a:blip r:embed="rId17"/>
                <a:srcRect/>
                <a:tile tx="0" ty="0" sx="100000" sy="100000" algn="ctr"/>
              </a:blipFill>
              <a:ln w="12600">
                <a:solidFill>
                  <a:srgbClr val="081d5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3276" name=""/>
              <p:cNvSpPr/>
              <p:nvPr/>
            </p:nvSpPr>
            <p:spPr>
              <a:xfrm>
                <a:off x="4320000" y="2711520"/>
                <a:ext cx="460080" cy="330120"/>
              </a:xfrm>
              <a:prstGeom prst="ellipse">
                <a:avLst/>
              </a:prstGeom>
              <a:blipFill rotWithShape="0">
                <a:blip r:embed="rId18"/>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77" name=""/>
              <p:cNvSpPr/>
              <p:nvPr/>
            </p:nvSpPr>
            <p:spPr>
              <a:xfrm rot="9660000">
                <a:off x="4809960" y="2751840"/>
                <a:ext cx="5490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78" name=""/>
              <p:cNvSpPr/>
              <p:nvPr/>
            </p:nvSpPr>
            <p:spPr>
              <a:xfrm>
                <a:off x="4348080" y="2610000"/>
                <a:ext cx="133920" cy="231480"/>
              </a:xfrm>
              <a:prstGeom prst="ellipse">
                <a:avLst/>
              </a:prstGeom>
              <a:blipFill rotWithShape="0">
                <a:blip r:embed="rId19"/>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79" name=""/>
              <p:cNvSpPr/>
              <p:nvPr/>
            </p:nvSpPr>
            <p:spPr>
              <a:xfrm>
                <a:off x="4240800" y="2954160"/>
                <a:ext cx="8280" cy="19080"/>
              </a:xfrm>
              <a:prstGeom prst="ellipse">
                <a:avLst/>
              </a:prstGeom>
              <a:blipFill rotWithShape="0">
                <a:blip r:embed="rId20"/>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3280" name=""/>
              <p:cNvSpPr/>
              <p:nvPr/>
            </p:nvSpPr>
            <p:spPr>
              <a:xfrm>
                <a:off x="4294800" y="271476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2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81" name=""/>
              <p:cNvSpPr/>
              <p:nvPr/>
            </p:nvSpPr>
            <p:spPr>
              <a:xfrm>
                <a:off x="4412880" y="2946240"/>
                <a:ext cx="3272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2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82" name=""/>
              <p:cNvSpPr/>
              <p:nvPr/>
            </p:nvSpPr>
            <p:spPr>
              <a:xfrm>
                <a:off x="4617720" y="2849400"/>
                <a:ext cx="19980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23"/>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83" name=""/>
              <p:cNvSpPr/>
              <p:nvPr/>
            </p:nvSpPr>
            <p:spPr>
              <a:xfrm>
                <a:off x="4389120" y="2833560"/>
                <a:ext cx="29520" cy="39960"/>
              </a:xfrm>
              <a:prstGeom prst="ellipse">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3284" name=""/>
              <p:cNvSpPr/>
              <p:nvPr/>
            </p:nvSpPr>
            <p:spPr>
              <a:xfrm flipH="1" rot="480000">
                <a:off x="5657400" y="2692440"/>
                <a:ext cx="156240" cy="280800"/>
              </a:xfrm>
              <a:prstGeom prst="rtTriangle">
                <a:avLst/>
              </a:prstGeom>
              <a:blipFill rotWithShape="0">
                <a:blip r:embed="rId25"/>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3285" name=""/>
              <p:cNvSpPr/>
              <p:nvPr/>
            </p:nvSpPr>
            <p:spPr>
              <a:xfrm>
                <a:off x="5720040" y="2711520"/>
                <a:ext cx="459720" cy="330120"/>
              </a:xfrm>
              <a:prstGeom prst="ellipse">
                <a:avLst/>
              </a:prstGeom>
              <a:blipFill rotWithShape="0">
                <a:blip r:embed="rId26"/>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86" name=""/>
              <p:cNvSpPr/>
              <p:nvPr/>
            </p:nvSpPr>
            <p:spPr>
              <a:xfrm rot="9660000">
                <a:off x="6210000" y="2751840"/>
                <a:ext cx="54972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87" name=""/>
              <p:cNvSpPr/>
              <p:nvPr/>
            </p:nvSpPr>
            <p:spPr>
              <a:xfrm>
                <a:off x="5748120" y="2610000"/>
                <a:ext cx="133920" cy="231480"/>
              </a:xfrm>
              <a:prstGeom prst="ellipse">
                <a:avLst/>
              </a:prstGeom>
              <a:blipFill rotWithShape="0">
                <a:blip r:embed="rId27"/>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88" name=""/>
              <p:cNvSpPr/>
              <p:nvPr/>
            </p:nvSpPr>
            <p:spPr>
              <a:xfrm>
                <a:off x="5640840" y="2954160"/>
                <a:ext cx="8280" cy="19080"/>
              </a:xfrm>
              <a:prstGeom prst="ellipse">
                <a:avLst/>
              </a:prstGeom>
              <a:blipFill rotWithShape="0">
                <a:blip r:embed="rId28"/>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3289" name=""/>
              <p:cNvSpPr/>
              <p:nvPr/>
            </p:nvSpPr>
            <p:spPr>
              <a:xfrm>
                <a:off x="5694480" y="271476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29"/>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90" name=""/>
              <p:cNvSpPr/>
              <p:nvPr/>
            </p:nvSpPr>
            <p:spPr>
              <a:xfrm>
                <a:off x="5812920" y="2946240"/>
                <a:ext cx="32652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30"/>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91" name=""/>
              <p:cNvSpPr/>
              <p:nvPr/>
            </p:nvSpPr>
            <p:spPr>
              <a:xfrm>
                <a:off x="6017400" y="2849400"/>
                <a:ext cx="19980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3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92" name=""/>
              <p:cNvSpPr/>
              <p:nvPr/>
            </p:nvSpPr>
            <p:spPr>
              <a:xfrm>
                <a:off x="5789160" y="2833560"/>
                <a:ext cx="29160" cy="39960"/>
              </a:xfrm>
              <a:prstGeom prst="ellipse">
                <a:avLst/>
              </a:prstGeom>
              <a:blipFill rotWithShape="0">
                <a:blip r:embed="rId32"/>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3293" name=""/>
              <p:cNvSpPr/>
              <p:nvPr/>
            </p:nvSpPr>
            <p:spPr>
              <a:xfrm flipH="1" rot="480000">
                <a:off x="7058880" y="2692440"/>
                <a:ext cx="156240" cy="280800"/>
              </a:xfrm>
              <a:prstGeom prst="rtTriangle">
                <a:avLst/>
              </a:prstGeom>
              <a:blipFill rotWithShape="0">
                <a:blip r:embed="rId33"/>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3294" name=""/>
              <p:cNvSpPr/>
              <p:nvPr/>
            </p:nvSpPr>
            <p:spPr>
              <a:xfrm>
                <a:off x="7121160" y="2711520"/>
                <a:ext cx="459720" cy="330120"/>
              </a:xfrm>
              <a:prstGeom prst="ellipse">
                <a:avLst/>
              </a:prstGeom>
              <a:blipFill rotWithShape="0">
                <a:blip r:embed="rId34"/>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95" name=""/>
              <p:cNvSpPr/>
              <p:nvPr/>
            </p:nvSpPr>
            <p:spPr>
              <a:xfrm rot="9660000">
                <a:off x="7611480" y="2751840"/>
                <a:ext cx="54972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96" name=""/>
              <p:cNvSpPr/>
              <p:nvPr/>
            </p:nvSpPr>
            <p:spPr>
              <a:xfrm>
                <a:off x="7149240" y="2610000"/>
                <a:ext cx="133920" cy="231480"/>
              </a:xfrm>
              <a:prstGeom prst="ellipse">
                <a:avLst/>
              </a:prstGeom>
              <a:blipFill rotWithShape="0">
                <a:blip r:embed="rId35"/>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97" name=""/>
              <p:cNvSpPr/>
              <p:nvPr/>
            </p:nvSpPr>
            <p:spPr>
              <a:xfrm>
                <a:off x="7041960" y="2954160"/>
                <a:ext cx="8280" cy="19080"/>
              </a:xfrm>
              <a:prstGeom prst="ellipse">
                <a:avLst/>
              </a:prstGeom>
              <a:blipFill rotWithShape="0">
                <a:blip r:embed="rId36"/>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3298" name=""/>
              <p:cNvSpPr/>
              <p:nvPr/>
            </p:nvSpPr>
            <p:spPr>
              <a:xfrm>
                <a:off x="7095600" y="271476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37"/>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299" name=""/>
              <p:cNvSpPr/>
              <p:nvPr/>
            </p:nvSpPr>
            <p:spPr>
              <a:xfrm>
                <a:off x="7214400" y="2946240"/>
                <a:ext cx="32652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3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00" name=""/>
              <p:cNvSpPr/>
              <p:nvPr/>
            </p:nvSpPr>
            <p:spPr>
              <a:xfrm>
                <a:off x="7418880" y="2849400"/>
                <a:ext cx="19980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3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01" name=""/>
              <p:cNvSpPr/>
              <p:nvPr/>
            </p:nvSpPr>
            <p:spPr>
              <a:xfrm>
                <a:off x="7190280" y="2833560"/>
                <a:ext cx="29160" cy="39960"/>
              </a:xfrm>
              <a:prstGeom prst="ellipse">
                <a:avLst/>
              </a:prstGeom>
              <a:blipFill rotWithShape="0">
                <a:blip r:embed="rId40"/>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3302" name=""/>
              <p:cNvSpPr/>
              <p:nvPr/>
            </p:nvSpPr>
            <p:spPr>
              <a:xfrm>
                <a:off x="4433040" y="1784520"/>
                <a:ext cx="207000" cy="395280"/>
              </a:xfrm>
              <a:prstGeom prst="downArrow">
                <a:avLst>
                  <a:gd name="adj1" fmla="val 50000"/>
                  <a:gd name="adj2" fmla="val 4773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grpSp>
        <p:nvGrpSpPr>
          <p:cNvPr id="3303" name=""/>
          <p:cNvGrpSpPr/>
          <p:nvPr/>
        </p:nvGrpSpPr>
        <p:grpSpPr>
          <a:xfrm>
            <a:off x="322560" y="2549520"/>
            <a:ext cx="8693280" cy="3616200"/>
            <a:chOff x="322560" y="2549520"/>
            <a:chExt cx="8693280" cy="3616200"/>
          </a:xfrm>
        </p:grpSpPr>
        <p:sp>
          <p:nvSpPr>
            <p:cNvPr id="3304" name=""/>
            <p:cNvSpPr/>
            <p:nvPr/>
          </p:nvSpPr>
          <p:spPr>
            <a:xfrm>
              <a:off x="7053840" y="524844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05" name=""/>
            <p:cNvSpPr/>
            <p:nvPr/>
          </p:nvSpPr>
          <p:spPr>
            <a:xfrm>
              <a:off x="7261200" y="524844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306" name=""/>
            <p:cNvGrpSpPr/>
            <p:nvPr/>
          </p:nvGrpSpPr>
          <p:grpSpPr>
            <a:xfrm>
              <a:off x="550800" y="4238640"/>
              <a:ext cx="7631640" cy="385920"/>
              <a:chOff x="550800" y="4238640"/>
              <a:chExt cx="7631640" cy="385920"/>
            </a:xfrm>
          </p:grpSpPr>
          <p:grpSp>
            <p:nvGrpSpPr>
              <p:cNvPr id="3307" name=""/>
              <p:cNvGrpSpPr/>
              <p:nvPr/>
            </p:nvGrpSpPr>
            <p:grpSpPr>
              <a:xfrm>
                <a:off x="550800" y="4238640"/>
                <a:ext cx="3144240" cy="385920"/>
                <a:chOff x="550800" y="4238640"/>
                <a:chExt cx="3144240" cy="385920"/>
              </a:xfrm>
            </p:grpSpPr>
            <p:sp>
              <p:nvSpPr>
                <p:cNvPr id="3308" name=""/>
                <p:cNvSpPr/>
                <p:nvPr/>
              </p:nvSpPr>
              <p:spPr>
                <a:xfrm>
                  <a:off x="550800" y="4240440"/>
                  <a:ext cx="31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09" name=""/>
                <p:cNvSpPr/>
                <p:nvPr/>
              </p:nvSpPr>
              <p:spPr>
                <a:xfrm>
                  <a:off x="550800" y="423864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10" name=""/>
                <p:cNvSpPr/>
                <p:nvPr/>
              </p:nvSpPr>
              <p:spPr>
                <a:xfrm>
                  <a:off x="2706840" y="42562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11" name=""/>
                <p:cNvSpPr/>
                <p:nvPr/>
              </p:nvSpPr>
              <p:spPr>
                <a:xfrm>
                  <a:off x="1690920" y="42465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12" name=""/>
                <p:cNvSpPr/>
                <p:nvPr/>
              </p:nvSpPr>
              <p:spPr>
                <a:xfrm>
                  <a:off x="3695040" y="42465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nvGrpSpPr>
              <p:cNvPr id="3313" name=""/>
              <p:cNvGrpSpPr/>
              <p:nvPr/>
            </p:nvGrpSpPr>
            <p:grpSpPr>
              <a:xfrm>
                <a:off x="5032440" y="4243320"/>
                <a:ext cx="3150000" cy="376200"/>
                <a:chOff x="5032440" y="4243320"/>
                <a:chExt cx="3150000" cy="376200"/>
              </a:xfrm>
            </p:grpSpPr>
            <p:sp>
              <p:nvSpPr>
                <p:cNvPr id="3314" name=""/>
                <p:cNvSpPr/>
                <p:nvPr/>
              </p:nvSpPr>
              <p:spPr>
                <a:xfrm>
                  <a:off x="5038200" y="4245120"/>
                  <a:ext cx="31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15" name=""/>
                <p:cNvSpPr/>
                <p:nvPr/>
              </p:nvSpPr>
              <p:spPr>
                <a:xfrm>
                  <a:off x="5980680" y="42512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16" name=""/>
                <p:cNvSpPr/>
                <p:nvPr/>
              </p:nvSpPr>
              <p:spPr>
                <a:xfrm>
                  <a:off x="5032440" y="424332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17" name=""/>
                <p:cNvSpPr/>
                <p:nvPr/>
              </p:nvSpPr>
              <p:spPr>
                <a:xfrm>
                  <a:off x="8182440" y="42512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18" name=""/>
                <p:cNvSpPr/>
                <p:nvPr/>
              </p:nvSpPr>
              <p:spPr>
                <a:xfrm>
                  <a:off x="7138080" y="42512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sp>
          <p:nvSpPr>
            <p:cNvPr id="3319" name=""/>
            <p:cNvSpPr/>
            <p:nvPr/>
          </p:nvSpPr>
          <p:spPr>
            <a:xfrm>
              <a:off x="2340720" y="2549520"/>
              <a:ext cx="33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Comic Sans MS"/>
              </a:endParaRPr>
            </a:p>
          </p:txBody>
        </p:sp>
        <p:sp>
          <p:nvSpPr>
            <p:cNvPr id="3320" name=""/>
            <p:cNvSpPr/>
            <p:nvPr/>
          </p:nvSpPr>
          <p:spPr>
            <a:xfrm>
              <a:off x="8187120" y="3975120"/>
              <a:ext cx="637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2</a:t>
              </a:r>
              <a:endParaRPr b="0" lang="en-US" sz="2400" spc="-1" strike="noStrike">
                <a:solidFill>
                  <a:srgbClr val="000000"/>
                </a:solidFill>
                <a:latin typeface="Comic Sans MS"/>
              </a:endParaRPr>
            </a:p>
          </p:txBody>
        </p:sp>
        <p:grpSp>
          <p:nvGrpSpPr>
            <p:cNvPr id="3321" name=""/>
            <p:cNvGrpSpPr/>
            <p:nvPr/>
          </p:nvGrpSpPr>
          <p:grpSpPr>
            <a:xfrm>
              <a:off x="4634280" y="4726080"/>
              <a:ext cx="1148400" cy="811800"/>
              <a:chOff x="4634280" y="4726080"/>
              <a:chExt cx="1148400" cy="811800"/>
            </a:xfrm>
          </p:grpSpPr>
          <p:sp>
            <p:nvSpPr>
              <p:cNvPr id="3322" name=""/>
              <p:cNvSpPr/>
              <p:nvPr/>
            </p:nvSpPr>
            <p:spPr>
              <a:xfrm flipH="1" rot="480000">
                <a:off x="4652640" y="4808160"/>
                <a:ext cx="156600" cy="282960"/>
              </a:xfrm>
              <a:prstGeom prst="rtTriangle">
                <a:avLst/>
              </a:prstGeom>
              <a:solidFill>
                <a:srgbClr val="99ff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Comic Sans MS"/>
                </a:endParaRPr>
              </a:p>
            </p:txBody>
          </p:sp>
          <p:sp>
            <p:nvSpPr>
              <p:cNvPr id="3323" name=""/>
              <p:cNvSpPr/>
              <p:nvPr/>
            </p:nvSpPr>
            <p:spPr>
              <a:xfrm>
                <a:off x="4715280" y="4827600"/>
                <a:ext cx="460080" cy="33012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24" name=""/>
              <p:cNvSpPr/>
              <p:nvPr/>
            </p:nvSpPr>
            <p:spPr>
              <a:xfrm rot="9660000">
                <a:off x="5205600" y="4867920"/>
                <a:ext cx="5490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25" name=""/>
              <p:cNvSpPr/>
              <p:nvPr/>
            </p:nvSpPr>
            <p:spPr>
              <a:xfrm>
                <a:off x="4743360" y="4726080"/>
                <a:ext cx="133920" cy="23184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26" name=""/>
              <p:cNvSpPr/>
              <p:nvPr/>
            </p:nvSpPr>
            <p:spPr>
              <a:xfrm>
                <a:off x="4636440" y="5070600"/>
                <a:ext cx="8280" cy="20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3327" name=""/>
              <p:cNvSpPr/>
              <p:nvPr/>
            </p:nvSpPr>
            <p:spPr>
              <a:xfrm>
                <a:off x="4773240" y="4954680"/>
                <a:ext cx="2520" cy="1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Comic Sans MS"/>
                </a:endParaRPr>
              </a:p>
            </p:txBody>
          </p:sp>
          <p:sp>
            <p:nvSpPr>
              <p:cNvPr id="3328" name=""/>
              <p:cNvSpPr/>
              <p:nvPr/>
            </p:nvSpPr>
            <p:spPr>
              <a:xfrm>
                <a:off x="4690080" y="483084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solidFill>
                <a:srgbClr val="99ff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29" name=""/>
              <p:cNvSpPr/>
              <p:nvPr/>
            </p:nvSpPr>
            <p:spPr>
              <a:xfrm>
                <a:off x="4808520" y="5062680"/>
                <a:ext cx="3272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solidFill>
                <a:srgbClr val="99ff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30" name=""/>
              <p:cNvSpPr/>
              <p:nvPr/>
            </p:nvSpPr>
            <p:spPr>
              <a:xfrm>
                <a:off x="5013360" y="4965840"/>
                <a:ext cx="1998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31" name=""/>
              <p:cNvSpPr/>
              <p:nvPr/>
            </p:nvSpPr>
            <p:spPr>
              <a:xfrm>
                <a:off x="4779000" y="4943520"/>
                <a:ext cx="1404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Comic Sans MS"/>
                </a:endParaRPr>
              </a:p>
            </p:txBody>
          </p:sp>
          <p:sp>
            <p:nvSpPr>
              <p:cNvPr id="3332" name=""/>
              <p:cNvSpPr/>
              <p:nvPr/>
            </p:nvSpPr>
            <p:spPr>
              <a:xfrm>
                <a:off x="4787280" y="4951440"/>
                <a:ext cx="14040" cy="33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grpSp>
        <p:sp>
          <p:nvSpPr>
            <p:cNvPr id="3333" name=""/>
            <p:cNvSpPr/>
            <p:nvPr/>
          </p:nvSpPr>
          <p:spPr>
            <a:xfrm>
              <a:off x="4904640" y="5253120"/>
              <a:ext cx="860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34" name=""/>
            <p:cNvSpPr/>
            <p:nvPr/>
          </p:nvSpPr>
          <p:spPr>
            <a:xfrm>
              <a:off x="5112000" y="5253120"/>
              <a:ext cx="860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35" name=""/>
            <p:cNvSpPr/>
            <p:nvPr/>
          </p:nvSpPr>
          <p:spPr>
            <a:xfrm>
              <a:off x="5112000" y="5345280"/>
              <a:ext cx="86040" cy="26172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336" name=""/>
            <p:cNvGrpSpPr/>
            <p:nvPr/>
          </p:nvGrpSpPr>
          <p:grpSpPr>
            <a:xfrm>
              <a:off x="6789240" y="4726080"/>
              <a:ext cx="1148400" cy="811800"/>
              <a:chOff x="6789240" y="4726080"/>
              <a:chExt cx="1148400" cy="811800"/>
            </a:xfrm>
          </p:grpSpPr>
          <p:sp>
            <p:nvSpPr>
              <p:cNvPr id="3337" name=""/>
              <p:cNvSpPr/>
              <p:nvPr/>
            </p:nvSpPr>
            <p:spPr>
              <a:xfrm flipH="1" rot="480000">
                <a:off x="6807600" y="4808160"/>
                <a:ext cx="156600" cy="282960"/>
              </a:xfrm>
              <a:prstGeom prst="rtTriangle">
                <a:avLst/>
              </a:prstGeom>
              <a:solidFill>
                <a:srgbClr val="0099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Comic Sans MS"/>
                </a:endParaRPr>
              </a:p>
            </p:txBody>
          </p:sp>
          <p:sp>
            <p:nvSpPr>
              <p:cNvPr id="3338" name=""/>
              <p:cNvSpPr/>
              <p:nvPr/>
            </p:nvSpPr>
            <p:spPr>
              <a:xfrm>
                <a:off x="6870240" y="4827600"/>
                <a:ext cx="460080" cy="33012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39" name=""/>
              <p:cNvSpPr/>
              <p:nvPr/>
            </p:nvSpPr>
            <p:spPr>
              <a:xfrm rot="9660000">
                <a:off x="7360560" y="4867920"/>
                <a:ext cx="5490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40" name=""/>
              <p:cNvSpPr/>
              <p:nvPr/>
            </p:nvSpPr>
            <p:spPr>
              <a:xfrm>
                <a:off x="6898680" y="4726080"/>
                <a:ext cx="133560" cy="23184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41" name=""/>
              <p:cNvSpPr/>
              <p:nvPr/>
            </p:nvSpPr>
            <p:spPr>
              <a:xfrm>
                <a:off x="6791400" y="5070600"/>
                <a:ext cx="8280" cy="2052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3342" name=""/>
              <p:cNvSpPr/>
              <p:nvPr/>
            </p:nvSpPr>
            <p:spPr>
              <a:xfrm>
                <a:off x="6845040" y="483084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solidFill>
                <a:srgbClr val="0099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43" name=""/>
              <p:cNvSpPr/>
              <p:nvPr/>
            </p:nvSpPr>
            <p:spPr>
              <a:xfrm>
                <a:off x="6963480" y="5062680"/>
                <a:ext cx="3272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solidFill>
                <a:srgbClr val="0099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44" name=""/>
              <p:cNvSpPr/>
              <p:nvPr/>
            </p:nvSpPr>
            <p:spPr>
              <a:xfrm>
                <a:off x="7168320" y="4965840"/>
                <a:ext cx="1998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solidFill>
                <a:srgbClr val="0099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45" name=""/>
              <p:cNvSpPr/>
              <p:nvPr/>
            </p:nvSpPr>
            <p:spPr>
              <a:xfrm>
                <a:off x="6942240" y="4942080"/>
                <a:ext cx="14040" cy="3312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Comic Sans MS"/>
                </a:endParaRPr>
              </a:p>
            </p:txBody>
          </p:sp>
        </p:grpSp>
        <p:sp>
          <p:nvSpPr>
            <p:cNvPr id="3346" name=""/>
            <p:cNvSpPr/>
            <p:nvPr/>
          </p:nvSpPr>
          <p:spPr>
            <a:xfrm>
              <a:off x="7055640" y="5253120"/>
              <a:ext cx="86040" cy="1666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347" name=""/>
            <p:cNvGrpSpPr/>
            <p:nvPr/>
          </p:nvGrpSpPr>
          <p:grpSpPr>
            <a:xfrm>
              <a:off x="7867800" y="4726080"/>
              <a:ext cx="1148040" cy="811800"/>
              <a:chOff x="7867800" y="4726080"/>
              <a:chExt cx="1148040" cy="811800"/>
            </a:xfrm>
          </p:grpSpPr>
          <p:sp>
            <p:nvSpPr>
              <p:cNvPr id="3348" name=""/>
              <p:cNvSpPr/>
              <p:nvPr/>
            </p:nvSpPr>
            <p:spPr>
              <a:xfrm flipH="1" rot="480000">
                <a:off x="7886160" y="4808520"/>
                <a:ext cx="156240" cy="281160"/>
              </a:xfrm>
              <a:prstGeom prst="rtTriangle">
                <a:avLst/>
              </a:prstGeom>
              <a:blipFill rotWithShape="0">
                <a:blip r:embed="rId41"/>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3349" name=""/>
              <p:cNvSpPr/>
              <p:nvPr/>
            </p:nvSpPr>
            <p:spPr>
              <a:xfrm>
                <a:off x="7948440" y="4827600"/>
                <a:ext cx="460080" cy="330120"/>
              </a:xfrm>
              <a:prstGeom prst="ellipse">
                <a:avLst/>
              </a:prstGeom>
              <a:blipFill rotWithShape="0">
                <a:blip r:embed="rId4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50" name=""/>
              <p:cNvSpPr/>
              <p:nvPr/>
            </p:nvSpPr>
            <p:spPr>
              <a:xfrm rot="9660000">
                <a:off x="8438760" y="4867920"/>
                <a:ext cx="5490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51" name=""/>
              <p:cNvSpPr/>
              <p:nvPr/>
            </p:nvSpPr>
            <p:spPr>
              <a:xfrm>
                <a:off x="7976520" y="4726080"/>
                <a:ext cx="133920" cy="231840"/>
              </a:xfrm>
              <a:prstGeom prst="ellipse">
                <a:avLst/>
              </a:prstGeom>
              <a:blipFill rotWithShape="0">
                <a:blip r:embed="rId4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52" name=""/>
              <p:cNvSpPr/>
              <p:nvPr/>
            </p:nvSpPr>
            <p:spPr>
              <a:xfrm>
                <a:off x="7869600" y="5070600"/>
                <a:ext cx="8280" cy="19080"/>
              </a:xfrm>
              <a:prstGeom prst="ellipse">
                <a:avLst/>
              </a:prstGeom>
              <a:blipFill rotWithShape="0">
                <a:blip r:embed="rId44"/>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3353" name=""/>
              <p:cNvSpPr/>
              <p:nvPr/>
            </p:nvSpPr>
            <p:spPr>
              <a:xfrm>
                <a:off x="8006400" y="4954680"/>
                <a:ext cx="2520" cy="14040"/>
              </a:xfrm>
              <a:prstGeom prst="ellipse">
                <a:avLst/>
              </a:prstGeom>
              <a:blipFill rotWithShape="0">
                <a:blip r:embed="rId45"/>
                <a:srcRect/>
                <a:tile tx="0" ty="0" sx="100000" sy="100000" algn="ctr"/>
              </a:blip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Comic Sans MS"/>
                </a:endParaRPr>
              </a:p>
            </p:txBody>
          </p:sp>
          <p:sp>
            <p:nvSpPr>
              <p:cNvPr id="3354" name=""/>
              <p:cNvSpPr/>
              <p:nvPr/>
            </p:nvSpPr>
            <p:spPr>
              <a:xfrm>
                <a:off x="7923240" y="483084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4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55" name=""/>
              <p:cNvSpPr/>
              <p:nvPr/>
            </p:nvSpPr>
            <p:spPr>
              <a:xfrm>
                <a:off x="8041680" y="5062680"/>
                <a:ext cx="3272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4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56" name=""/>
              <p:cNvSpPr/>
              <p:nvPr/>
            </p:nvSpPr>
            <p:spPr>
              <a:xfrm>
                <a:off x="8246160" y="4965840"/>
                <a:ext cx="20052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4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57" name=""/>
              <p:cNvSpPr/>
              <p:nvPr/>
            </p:nvSpPr>
            <p:spPr>
              <a:xfrm>
                <a:off x="8011800" y="4943520"/>
                <a:ext cx="14040" cy="36360"/>
              </a:xfrm>
              <a:prstGeom prst="ellipse">
                <a:avLst/>
              </a:prstGeom>
              <a:blipFill rotWithShape="0">
                <a:blip r:embed="rId49"/>
                <a:srcRect/>
                <a:tile tx="0" ty="0" sx="100000" sy="100000" algn="ctr"/>
              </a:blip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Comic Sans MS"/>
                </a:endParaRPr>
              </a:p>
            </p:txBody>
          </p:sp>
          <p:sp>
            <p:nvSpPr>
              <p:cNvPr id="3358" name=""/>
              <p:cNvSpPr/>
              <p:nvPr/>
            </p:nvSpPr>
            <p:spPr>
              <a:xfrm>
                <a:off x="8020440" y="4951440"/>
                <a:ext cx="14040" cy="33480"/>
              </a:xfrm>
              <a:prstGeom prst="ellipse">
                <a:avLst/>
              </a:prstGeom>
              <a:blipFill rotWithShape="0">
                <a:blip r:embed="rId50"/>
                <a:srcRect/>
                <a:tile tx="0" ty="0" sx="100000" sy="100000" algn="ctr"/>
              </a:blip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grpSp>
        <p:sp>
          <p:nvSpPr>
            <p:cNvPr id="3359" name=""/>
            <p:cNvSpPr/>
            <p:nvPr/>
          </p:nvSpPr>
          <p:spPr>
            <a:xfrm>
              <a:off x="8137800" y="5253120"/>
              <a:ext cx="860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60" name=""/>
            <p:cNvSpPr/>
            <p:nvPr/>
          </p:nvSpPr>
          <p:spPr>
            <a:xfrm>
              <a:off x="8345160" y="5253120"/>
              <a:ext cx="860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61" name=""/>
            <p:cNvSpPr/>
            <p:nvPr/>
          </p:nvSpPr>
          <p:spPr>
            <a:xfrm>
              <a:off x="8137800" y="5253120"/>
              <a:ext cx="86040" cy="67932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362" name=""/>
            <p:cNvGrpSpPr/>
            <p:nvPr/>
          </p:nvGrpSpPr>
          <p:grpSpPr>
            <a:xfrm>
              <a:off x="3557520" y="4726080"/>
              <a:ext cx="1148400" cy="811800"/>
              <a:chOff x="3557520" y="4726080"/>
              <a:chExt cx="1148400" cy="811800"/>
            </a:xfrm>
          </p:grpSpPr>
          <p:sp>
            <p:nvSpPr>
              <p:cNvPr id="3363" name=""/>
              <p:cNvSpPr/>
              <p:nvPr/>
            </p:nvSpPr>
            <p:spPr>
              <a:xfrm flipH="1" rot="480000">
                <a:off x="3575880" y="4808160"/>
                <a:ext cx="156600" cy="282960"/>
              </a:xfrm>
              <a:prstGeom prst="rtTriangle">
                <a:avLst/>
              </a:prstGeom>
              <a:blipFill rotWithShape="0">
                <a:blip r:embed="rId51"/>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Comic Sans MS"/>
                </a:endParaRPr>
              </a:p>
            </p:txBody>
          </p:sp>
          <p:sp>
            <p:nvSpPr>
              <p:cNvPr id="3364" name=""/>
              <p:cNvSpPr/>
              <p:nvPr/>
            </p:nvSpPr>
            <p:spPr>
              <a:xfrm>
                <a:off x="3638520" y="4827600"/>
                <a:ext cx="460080" cy="330120"/>
              </a:xfrm>
              <a:prstGeom prst="ellipse">
                <a:avLst/>
              </a:prstGeom>
              <a:blipFill rotWithShape="0">
                <a:blip r:embed="rId5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65" name=""/>
              <p:cNvSpPr/>
              <p:nvPr/>
            </p:nvSpPr>
            <p:spPr>
              <a:xfrm rot="9660000">
                <a:off x="4128840" y="4867920"/>
                <a:ext cx="5490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66" name=""/>
              <p:cNvSpPr/>
              <p:nvPr/>
            </p:nvSpPr>
            <p:spPr>
              <a:xfrm>
                <a:off x="3666960" y="4726080"/>
                <a:ext cx="133560" cy="231840"/>
              </a:xfrm>
              <a:prstGeom prst="ellipse">
                <a:avLst/>
              </a:prstGeom>
              <a:blipFill rotWithShape="0">
                <a:blip r:embed="rId5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67" name=""/>
              <p:cNvSpPr/>
              <p:nvPr/>
            </p:nvSpPr>
            <p:spPr>
              <a:xfrm>
                <a:off x="3559680" y="5070600"/>
                <a:ext cx="8280" cy="20520"/>
              </a:xfrm>
              <a:prstGeom prst="ellipse">
                <a:avLst/>
              </a:prstGeom>
              <a:blipFill rotWithShape="0">
                <a:blip r:embed="rId54"/>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3368" name=""/>
              <p:cNvSpPr/>
              <p:nvPr/>
            </p:nvSpPr>
            <p:spPr>
              <a:xfrm>
                <a:off x="3696480" y="4954680"/>
                <a:ext cx="2520" cy="15840"/>
              </a:xfrm>
              <a:prstGeom prst="ellipse">
                <a:avLst/>
              </a:prstGeom>
              <a:blipFill rotWithShape="0">
                <a:blip r:embed="rId55"/>
                <a:srcRect/>
                <a:tile tx="0" ty="0" sx="100000" sy="100000" algn="ctr"/>
              </a:blip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Comic Sans MS"/>
                </a:endParaRPr>
              </a:p>
            </p:txBody>
          </p:sp>
          <p:sp>
            <p:nvSpPr>
              <p:cNvPr id="3369" name=""/>
              <p:cNvSpPr/>
              <p:nvPr/>
            </p:nvSpPr>
            <p:spPr>
              <a:xfrm>
                <a:off x="3613320" y="483084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5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70" name=""/>
              <p:cNvSpPr/>
              <p:nvPr/>
            </p:nvSpPr>
            <p:spPr>
              <a:xfrm>
                <a:off x="3731760" y="5062680"/>
                <a:ext cx="3272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5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71" name=""/>
              <p:cNvSpPr/>
              <p:nvPr/>
            </p:nvSpPr>
            <p:spPr>
              <a:xfrm>
                <a:off x="3936600" y="4965840"/>
                <a:ext cx="1998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5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72" name=""/>
              <p:cNvSpPr/>
              <p:nvPr/>
            </p:nvSpPr>
            <p:spPr>
              <a:xfrm>
                <a:off x="3702240" y="4943520"/>
                <a:ext cx="14040" cy="36720"/>
              </a:xfrm>
              <a:prstGeom prst="ellipse">
                <a:avLst/>
              </a:prstGeom>
              <a:blipFill rotWithShape="0">
                <a:blip r:embed="rId59"/>
                <a:srcRect/>
                <a:tile tx="0" ty="0" sx="100000" sy="100000" algn="ctr"/>
              </a:blip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Comic Sans MS"/>
                </a:endParaRPr>
              </a:p>
            </p:txBody>
          </p:sp>
          <p:sp>
            <p:nvSpPr>
              <p:cNvPr id="3373" name=""/>
              <p:cNvSpPr/>
              <p:nvPr/>
            </p:nvSpPr>
            <p:spPr>
              <a:xfrm>
                <a:off x="3710520" y="4951440"/>
                <a:ext cx="14040" cy="33480"/>
              </a:xfrm>
              <a:prstGeom prst="ellipse">
                <a:avLst/>
              </a:prstGeom>
              <a:blipFill rotWithShape="0">
                <a:blip r:embed="rId60"/>
                <a:srcRect/>
                <a:tile tx="0" ty="0" sx="100000" sy="100000" algn="ctr"/>
              </a:blip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grpSp>
        <p:sp>
          <p:nvSpPr>
            <p:cNvPr id="3374" name=""/>
            <p:cNvSpPr/>
            <p:nvPr/>
          </p:nvSpPr>
          <p:spPr>
            <a:xfrm>
              <a:off x="3777120" y="525312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75" name=""/>
            <p:cNvSpPr/>
            <p:nvPr/>
          </p:nvSpPr>
          <p:spPr>
            <a:xfrm>
              <a:off x="3984480" y="525312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76" name=""/>
            <p:cNvSpPr/>
            <p:nvPr/>
          </p:nvSpPr>
          <p:spPr>
            <a:xfrm>
              <a:off x="3777120" y="5811840"/>
              <a:ext cx="86040" cy="3538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77" name=""/>
            <p:cNvSpPr/>
            <p:nvPr/>
          </p:nvSpPr>
          <p:spPr>
            <a:xfrm>
              <a:off x="3777120" y="5253120"/>
              <a:ext cx="86040" cy="730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Comic Sans MS"/>
              </a:endParaRPr>
            </a:p>
          </p:txBody>
        </p:sp>
        <p:sp>
          <p:nvSpPr>
            <p:cNvPr id="3378" name=""/>
            <p:cNvSpPr/>
            <p:nvPr/>
          </p:nvSpPr>
          <p:spPr>
            <a:xfrm>
              <a:off x="5931720" y="525312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79" name=""/>
            <p:cNvSpPr/>
            <p:nvPr/>
          </p:nvSpPr>
          <p:spPr>
            <a:xfrm>
              <a:off x="6139440" y="525312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80" name=""/>
            <p:cNvSpPr/>
            <p:nvPr/>
          </p:nvSpPr>
          <p:spPr>
            <a:xfrm>
              <a:off x="5931720" y="5253120"/>
              <a:ext cx="86040" cy="730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Comic Sans MS"/>
              </a:endParaRPr>
            </a:p>
          </p:txBody>
        </p:sp>
        <p:grpSp>
          <p:nvGrpSpPr>
            <p:cNvPr id="3381" name=""/>
            <p:cNvGrpSpPr/>
            <p:nvPr/>
          </p:nvGrpSpPr>
          <p:grpSpPr>
            <a:xfrm>
              <a:off x="5712840" y="4726080"/>
              <a:ext cx="1148760" cy="812880"/>
              <a:chOff x="5712840" y="4726080"/>
              <a:chExt cx="1148760" cy="812880"/>
            </a:xfrm>
          </p:grpSpPr>
          <p:sp>
            <p:nvSpPr>
              <p:cNvPr id="3382" name=""/>
              <p:cNvSpPr/>
              <p:nvPr/>
            </p:nvSpPr>
            <p:spPr>
              <a:xfrm flipH="1" rot="480000">
                <a:off x="5731560" y="4808880"/>
                <a:ext cx="156240" cy="282600"/>
              </a:xfrm>
              <a:prstGeom prst="rtTriangle">
                <a:avLst/>
              </a:prstGeom>
              <a:blipFill rotWithShape="0">
                <a:blip r:embed="rId61"/>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3383" name=""/>
              <p:cNvSpPr/>
              <p:nvPr/>
            </p:nvSpPr>
            <p:spPr>
              <a:xfrm>
                <a:off x="5793480" y="4827960"/>
                <a:ext cx="459720" cy="330120"/>
              </a:xfrm>
              <a:prstGeom prst="ellipse">
                <a:avLst/>
              </a:prstGeom>
              <a:blipFill rotWithShape="0">
                <a:blip r:embed="rId6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84" name=""/>
              <p:cNvSpPr/>
              <p:nvPr/>
            </p:nvSpPr>
            <p:spPr>
              <a:xfrm rot="9660000">
                <a:off x="6283800" y="4867920"/>
                <a:ext cx="54972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85" name=""/>
              <p:cNvSpPr/>
              <p:nvPr/>
            </p:nvSpPr>
            <p:spPr>
              <a:xfrm>
                <a:off x="5821560" y="4726080"/>
                <a:ext cx="133920" cy="231840"/>
              </a:xfrm>
              <a:prstGeom prst="ellipse">
                <a:avLst/>
              </a:prstGeom>
              <a:blipFill rotWithShape="0">
                <a:blip r:embed="rId6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86" name=""/>
              <p:cNvSpPr/>
              <p:nvPr/>
            </p:nvSpPr>
            <p:spPr>
              <a:xfrm>
                <a:off x="5714640" y="5070600"/>
                <a:ext cx="8280" cy="2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Comic Sans MS"/>
                </a:endParaRPr>
              </a:p>
            </p:txBody>
          </p:sp>
          <p:sp>
            <p:nvSpPr>
              <p:cNvPr id="3387" name=""/>
              <p:cNvSpPr/>
              <p:nvPr/>
            </p:nvSpPr>
            <p:spPr>
              <a:xfrm>
                <a:off x="5767920" y="4830840"/>
                <a:ext cx="546840" cy="70812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64"/>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88" name=""/>
              <p:cNvSpPr/>
              <p:nvPr/>
            </p:nvSpPr>
            <p:spPr>
              <a:xfrm>
                <a:off x="5886720" y="5062680"/>
                <a:ext cx="32652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6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89" name=""/>
              <p:cNvSpPr/>
              <p:nvPr/>
            </p:nvSpPr>
            <p:spPr>
              <a:xfrm>
                <a:off x="6091200" y="4965840"/>
                <a:ext cx="19980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0" name=""/>
              <p:cNvSpPr/>
              <p:nvPr/>
            </p:nvSpPr>
            <p:spPr>
              <a:xfrm>
                <a:off x="5869800" y="4943520"/>
                <a:ext cx="29160" cy="3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grpSp>
        <p:sp>
          <p:nvSpPr>
            <p:cNvPr id="3391" name=""/>
            <p:cNvSpPr/>
            <p:nvPr/>
          </p:nvSpPr>
          <p:spPr>
            <a:xfrm>
              <a:off x="2749680" y="5253120"/>
              <a:ext cx="860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2" name=""/>
            <p:cNvSpPr/>
            <p:nvPr/>
          </p:nvSpPr>
          <p:spPr>
            <a:xfrm>
              <a:off x="2957040" y="5253120"/>
              <a:ext cx="860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3" name=""/>
            <p:cNvSpPr/>
            <p:nvPr/>
          </p:nvSpPr>
          <p:spPr>
            <a:xfrm>
              <a:off x="2749680" y="5253120"/>
              <a:ext cx="86040" cy="44604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4" name=""/>
            <p:cNvSpPr/>
            <p:nvPr/>
          </p:nvSpPr>
          <p:spPr>
            <a:xfrm flipH="1" rot="480000">
              <a:off x="2498400" y="4808520"/>
              <a:ext cx="156240" cy="282600"/>
            </a:xfrm>
            <a:prstGeom prst="rtTriangle">
              <a:avLst/>
            </a:prstGeom>
            <a:blipFill rotWithShape="0">
              <a:blip r:embed="rId66"/>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3395" name=""/>
            <p:cNvSpPr/>
            <p:nvPr/>
          </p:nvSpPr>
          <p:spPr>
            <a:xfrm>
              <a:off x="2560680" y="4827600"/>
              <a:ext cx="459720" cy="330120"/>
            </a:xfrm>
            <a:prstGeom prst="ellipse">
              <a:avLst/>
            </a:prstGeom>
            <a:blipFill rotWithShape="0">
              <a:blip r:embed="rId6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6" name=""/>
            <p:cNvSpPr/>
            <p:nvPr/>
          </p:nvSpPr>
          <p:spPr>
            <a:xfrm rot="9660000">
              <a:off x="3051000" y="4867920"/>
              <a:ext cx="54972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7" name=""/>
            <p:cNvSpPr/>
            <p:nvPr/>
          </p:nvSpPr>
          <p:spPr>
            <a:xfrm>
              <a:off x="2588760" y="4726080"/>
              <a:ext cx="133920" cy="231840"/>
            </a:xfrm>
            <a:prstGeom prst="ellipse">
              <a:avLst/>
            </a:prstGeom>
            <a:blipFill rotWithShape="0">
              <a:blip r:embed="rId6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8" name=""/>
            <p:cNvSpPr/>
            <p:nvPr/>
          </p:nvSpPr>
          <p:spPr>
            <a:xfrm>
              <a:off x="2481480" y="5070600"/>
              <a:ext cx="8280" cy="20520"/>
            </a:xfrm>
            <a:prstGeom prst="ellipse">
              <a:avLst/>
            </a:prstGeom>
            <a:blipFill rotWithShape="0">
              <a:blip r:embed="rId69"/>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3399" name=""/>
            <p:cNvSpPr/>
            <p:nvPr/>
          </p:nvSpPr>
          <p:spPr>
            <a:xfrm>
              <a:off x="2535120" y="4830840"/>
              <a:ext cx="54684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70"/>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0" name=""/>
            <p:cNvSpPr/>
            <p:nvPr/>
          </p:nvSpPr>
          <p:spPr>
            <a:xfrm>
              <a:off x="2653920" y="5062680"/>
              <a:ext cx="32652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7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1" name=""/>
            <p:cNvSpPr/>
            <p:nvPr/>
          </p:nvSpPr>
          <p:spPr>
            <a:xfrm>
              <a:off x="2858400" y="4965840"/>
              <a:ext cx="1998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7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2" name=""/>
            <p:cNvSpPr/>
            <p:nvPr/>
          </p:nvSpPr>
          <p:spPr>
            <a:xfrm>
              <a:off x="2619720" y="4943520"/>
              <a:ext cx="29160" cy="39600"/>
            </a:xfrm>
            <a:prstGeom prst="ellipse">
              <a:avLst/>
            </a:prstGeom>
            <a:blipFill rotWithShape="0">
              <a:blip r:embed="rId73"/>
              <a:srcRect/>
              <a:tile tx="0" ty="0" sx="100000" sy="100000" algn="ctr"/>
            </a:blip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Comic Sans MS"/>
              </a:endParaRPr>
            </a:p>
          </p:txBody>
        </p:sp>
        <p:sp>
          <p:nvSpPr>
            <p:cNvPr id="3403" name=""/>
            <p:cNvSpPr/>
            <p:nvPr/>
          </p:nvSpPr>
          <p:spPr>
            <a:xfrm>
              <a:off x="1606680" y="525312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4" name=""/>
            <p:cNvSpPr/>
            <p:nvPr/>
          </p:nvSpPr>
          <p:spPr>
            <a:xfrm>
              <a:off x="1814040" y="5253120"/>
              <a:ext cx="860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5" name=""/>
            <p:cNvSpPr/>
            <p:nvPr/>
          </p:nvSpPr>
          <p:spPr>
            <a:xfrm>
              <a:off x="1606680" y="5532480"/>
              <a:ext cx="86040" cy="2588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6" name=""/>
            <p:cNvSpPr/>
            <p:nvPr/>
          </p:nvSpPr>
          <p:spPr>
            <a:xfrm flipH="1" rot="480000">
              <a:off x="1415160" y="4798800"/>
              <a:ext cx="156600" cy="282960"/>
            </a:xfrm>
            <a:prstGeom prst="rtTriangle">
              <a:avLst/>
            </a:prstGeom>
            <a:blipFill rotWithShape="0">
              <a:blip r:embed="rId74"/>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Comic Sans MS"/>
              </a:endParaRPr>
            </a:p>
          </p:txBody>
        </p:sp>
        <p:sp>
          <p:nvSpPr>
            <p:cNvPr id="3407" name=""/>
            <p:cNvSpPr/>
            <p:nvPr/>
          </p:nvSpPr>
          <p:spPr>
            <a:xfrm>
              <a:off x="1478160" y="4827600"/>
              <a:ext cx="460080" cy="330120"/>
            </a:xfrm>
            <a:prstGeom prst="ellipse">
              <a:avLst/>
            </a:prstGeom>
            <a:blipFill rotWithShape="0">
              <a:blip r:embed="rId7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8" name=""/>
            <p:cNvSpPr/>
            <p:nvPr/>
          </p:nvSpPr>
          <p:spPr>
            <a:xfrm rot="9660000">
              <a:off x="1974240" y="4858200"/>
              <a:ext cx="54972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9" name=""/>
            <p:cNvSpPr/>
            <p:nvPr/>
          </p:nvSpPr>
          <p:spPr>
            <a:xfrm>
              <a:off x="1404720" y="5060880"/>
              <a:ext cx="8640" cy="20880"/>
            </a:xfrm>
            <a:prstGeom prst="ellipse">
              <a:avLst/>
            </a:prstGeom>
            <a:blipFill rotWithShape="0">
              <a:blip r:embed="rId76"/>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Comic Sans MS"/>
              </a:endParaRPr>
            </a:p>
          </p:txBody>
        </p:sp>
        <p:sp>
          <p:nvSpPr>
            <p:cNvPr id="3410" name=""/>
            <p:cNvSpPr/>
            <p:nvPr/>
          </p:nvSpPr>
          <p:spPr>
            <a:xfrm>
              <a:off x="1458720" y="4832280"/>
              <a:ext cx="546840" cy="708120"/>
            </a:xfrm>
            <a:custGeom>
              <a:avLst/>
              <a:gdLst/>
              <a:ahLst/>
              <a:rect l="l" t="t" r="r" b="b"/>
              <a:pathLst>
                <a:path stroke="0" w="21600" h="21600">
                  <a:moveTo>
                    <a:pt x="10744" y="0"/>
                  </a:moveTo>
                  <a:arcTo wR="10800" hR="10800" stAng="-5417681" swAng="5402230"/>
                  <a:lnTo>
                    <a:pt x="10800" y="10800"/>
                  </a:lnTo>
                  <a:close/>
                </a:path>
                <a:path fill="none" w="21600" h="21600">
                  <a:moveTo>
                    <a:pt x="10744" y="0"/>
                  </a:moveTo>
                  <a:arcTo wR="10800" hR="10800" stAng="-5417681" swAng="5402230"/>
                </a:path>
              </a:pathLst>
            </a:custGeom>
            <a:blipFill rotWithShape="0">
              <a:blip r:embed="rId7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11" name=""/>
            <p:cNvSpPr/>
            <p:nvPr/>
          </p:nvSpPr>
          <p:spPr>
            <a:xfrm>
              <a:off x="1576800" y="5052960"/>
              <a:ext cx="3272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7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12" name=""/>
            <p:cNvSpPr/>
            <p:nvPr/>
          </p:nvSpPr>
          <p:spPr>
            <a:xfrm>
              <a:off x="1781280" y="4956120"/>
              <a:ext cx="20052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7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13" name=""/>
            <p:cNvSpPr/>
            <p:nvPr/>
          </p:nvSpPr>
          <p:spPr>
            <a:xfrm>
              <a:off x="1512000" y="4700520"/>
              <a:ext cx="145080" cy="246240"/>
            </a:xfrm>
            <a:prstGeom prst="ellipse">
              <a:avLst/>
            </a:prstGeom>
            <a:blipFill rotWithShape="0">
              <a:blip r:embed="rId8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14" name=""/>
            <p:cNvSpPr/>
            <p:nvPr/>
          </p:nvSpPr>
          <p:spPr>
            <a:xfrm>
              <a:off x="1559880" y="4933800"/>
              <a:ext cx="29520" cy="39960"/>
            </a:xfrm>
            <a:prstGeom prst="ellipse">
              <a:avLst/>
            </a:prstGeom>
            <a:blipFill rotWithShape="0">
              <a:blip r:embed="rId81"/>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grpSp>
          <p:nvGrpSpPr>
            <p:cNvPr id="3415" name=""/>
            <p:cNvGrpSpPr/>
            <p:nvPr/>
          </p:nvGrpSpPr>
          <p:grpSpPr>
            <a:xfrm>
              <a:off x="550800" y="5253120"/>
              <a:ext cx="293040" cy="912240"/>
              <a:chOff x="550800" y="5253120"/>
              <a:chExt cx="293040" cy="912240"/>
            </a:xfrm>
          </p:grpSpPr>
          <p:sp>
            <p:nvSpPr>
              <p:cNvPr id="3416" name=""/>
              <p:cNvSpPr/>
              <p:nvPr/>
            </p:nvSpPr>
            <p:spPr>
              <a:xfrm>
                <a:off x="550800" y="5253120"/>
                <a:ext cx="86400" cy="9122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17" name=""/>
              <p:cNvSpPr/>
              <p:nvPr/>
            </p:nvSpPr>
            <p:spPr>
              <a:xfrm>
                <a:off x="757440" y="5253120"/>
                <a:ext cx="86400" cy="9122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nvGrpSpPr>
            <p:cNvPr id="3418" name=""/>
            <p:cNvGrpSpPr/>
            <p:nvPr/>
          </p:nvGrpSpPr>
          <p:grpSpPr>
            <a:xfrm>
              <a:off x="322560" y="4718160"/>
              <a:ext cx="1153440" cy="829080"/>
              <a:chOff x="322560" y="4718160"/>
              <a:chExt cx="1153440" cy="829080"/>
            </a:xfrm>
          </p:grpSpPr>
          <p:sp>
            <p:nvSpPr>
              <p:cNvPr id="3419" name=""/>
              <p:cNvSpPr/>
              <p:nvPr/>
            </p:nvSpPr>
            <p:spPr>
              <a:xfrm flipH="1" rot="480000">
                <a:off x="342000" y="4800600"/>
                <a:ext cx="167760" cy="295200"/>
              </a:xfrm>
              <a:prstGeom prst="rtTriangl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0" name=""/>
              <p:cNvSpPr/>
              <p:nvPr/>
            </p:nvSpPr>
            <p:spPr>
              <a:xfrm flipH="1">
                <a:off x="404640" y="4819680"/>
                <a:ext cx="470880" cy="344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1" name=""/>
              <p:cNvSpPr/>
              <p:nvPr/>
            </p:nvSpPr>
            <p:spPr>
              <a:xfrm flipH="1" rot="9660000">
                <a:off x="898200" y="4866120"/>
                <a:ext cx="549720" cy="263160"/>
              </a:xfrm>
              <a:custGeom>
                <a:avLst/>
                <a:gdLst/>
                <a:ahLst/>
                <a:rect l="l" t="t" r="r" b="b"/>
                <a:pathLst>
                  <a:path stroke="0" w="21600" h="21600">
                    <a:moveTo>
                      <a:pt x="0" y="10800"/>
                    </a:moveTo>
                    <a:arcTo wR="10800" hR="10800" stAng="10800000" swAng="5382371"/>
                    <a:lnTo>
                      <a:pt x="10800" y="10800"/>
                    </a:lnTo>
                    <a:close/>
                  </a:path>
                  <a:path fill="none" w="21600" h="21600">
                    <a:moveTo>
                      <a:pt x="0" y="10800"/>
                    </a:moveTo>
                    <a:arcTo wR="10800" hR="10800" stAng="10800000" swAng="538237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2" name=""/>
              <p:cNvSpPr/>
              <p:nvPr/>
            </p:nvSpPr>
            <p:spPr>
              <a:xfrm flipH="1">
                <a:off x="432360" y="4718160"/>
                <a:ext cx="145080" cy="244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3" name=""/>
              <p:cNvSpPr/>
              <p:nvPr/>
            </p:nvSpPr>
            <p:spPr>
              <a:xfrm flipH="1">
                <a:off x="324720" y="5062680"/>
                <a:ext cx="19800" cy="33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sp>
            <p:nvSpPr>
              <p:cNvPr id="3424" name=""/>
              <p:cNvSpPr/>
              <p:nvPr/>
            </p:nvSpPr>
            <p:spPr>
              <a:xfrm flipH="1">
                <a:off x="374040" y="4825440"/>
                <a:ext cx="557640" cy="721800"/>
              </a:xfrm>
              <a:custGeom>
                <a:avLst/>
                <a:gdLst/>
                <a:ahLst/>
                <a:rect l="l" t="t" r="r" b="b"/>
                <a:pathLst>
                  <a:path stroke="0" w="21600" h="21600">
                    <a:moveTo>
                      <a:pt x="0" y="10800"/>
                    </a:moveTo>
                    <a:arcTo wR="10800" hR="10800" stAng="10800000" swAng="4707297"/>
                    <a:lnTo>
                      <a:pt x="10800" y="10800"/>
                    </a:lnTo>
                    <a:close/>
                  </a:path>
                  <a:path fill="none" w="21600" h="21600">
                    <a:moveTo>
                      <a:pt x="0" y="10800"/>
                    </a:moveTo>
                    <a:arcTo wR="10800" hR="10800" stAng="10800000" swAng="470729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5" name=""/>
              <p:cNvSpPr/>
              <p:nvPr/>
            </p:nvSpPr>
            <p:spPr>
              <a:xfrm flipH="1">
                <a:off x="497520" y="5061240"/>
                <a:ext cx="326520" cy="247320"/>
              </a:xfrm>
              <a:custGeom>
                <a:avLst/>
                <a:gdLst/>
                <a:ahLst/>
                <a:rect l="l" t="t" r="r" b="b"/>
                <a:pathLst>
                  <a:path stroke="0" w="21600" h="21600">
                    <a:moveTo>
                      <a:pt x="10707" y="0"/>
                    </a:moveTo>
                    <a:arcTo wR="10800" hR="10800" stAng="-5429507" swAng="5429507"/>
                    <a:lnTo>
                      <a:pt x="10800" y="10800"/>
                    </a:lnTo>
                    <a:close/>
                  </a:path>
                  <a:path fill="none" w="21600" h="21600">
                    <a:moveTo>
                      <a:pt x="10707" y="0"/>
                    </a:moveTo>
                    <a:arcTo wR="10800" hR="10800" stAng="-5429507" swAng="542950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6" name=""/>
              <p:cNvSpPr/>
              <p:nvPr/>
            </p:nvSpPr>
            <p:spPr>
              <a:xfrm flipH="1">
                <a:off x="703440" y="4964400"/>
                <a:ext cx="196920" cy="253800"/>
              </a:xfrm>
              <a:custGeom>
                <a:avLst/>
                <a:gdLst/>
                <a:ahLst/>
                <a:rect l="l" t="t" r="r" b="b"/>
                <a:pathLst>
                  <a:path stroke="0" w="21600" h="21600">
                    <a:moveTo>
                      <a:pt x="10648" y="1"/>
                    </a:moveTo>
                    <a:arcTo wR="10800" hR="10800" stAng="-5448454" swAng="5404905"/>
                    <a:lnTo>
                      <a:pt x="10800" y="10800"/>
                    </a:lnTo>
                    <a:close/>
                  </a:path>
                  <a:path fill="none" w="21600" h="21600">
                    <a:moveTo>
                      <a:pt x="10648" y="1"/>
                    </a:moveTo>
                    <a:arcTo wR="10800" hR="10800" stAng="-5448454" swAng="5404905"/>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7" name=""/>
              <p:cNvSpPr/>
              <p:nvPr/>
            </p:nvSpPr>
            <p:spPr>
              <a:xfrm flipH="1">
                <a:off x="500400" y="4919760"/>
                <a:ext cx="29520" cy="399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grpSp>
        <p:sp>
          <p:nvSpPr>
            <p:cNvPr id="3428" name=""/>
            <p:cNvSpPr/>
            <p:nvPr/>
          </p:nvSpPr>
          <p:spPr>
            <a:xfrm>
              <a:off x="2417760" y="3467160"/>
              <a:ext cx="167760" cy="771480"/>
            </a:xfrm>
            <a:prstGeom prst="downArrow">
              <a:avLst>
                <a:gd name="adj1" fmla="val 50000"/>
                <a:gd name="adj2" fmla="val 11496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29" name=""/>
            <p:cNvSpPr/>
            <p:nvPr/>
          </p:nvSpPr>
          <p:spPr>
            <a:xfrm>
              <a:off x="6558840" y="2549520"/>
              <a:ext cx="33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Comic Sans MS"/>
              </a:endParaRPr>
            </a:p>
          </p:txBody>
        </p:sp>
        <p:sp>
          <p:nvSpPr>
            <p:cNvPr id="3430" name=""/>
            <p:cNvSpPr/>
            <p:nvPr/>
          </p:nvSpPr>
          <p:spPr>
            <a:xfrm>
              <a:off x="6636240" y="3467160"/>
              <a:ext cx="167760" cy="771480"/>
            </a:xfrm>
            <a:prstGeom prst="downArrow">
              <a:avLst>
                <a:gd name="adj1" fmla="val 50000"/>
                <a:gd name="adj2" fmla="val 11496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CFC3A547-9363-4772-82D8-8DBB941BC48E}" type="datetime1">
              <a:rPr lang="en-US"/>
              <a:t>07/30/26</a:t>
            </a:fld>
          </a:p>
        </p:txBody>
      </p:sp>
    </p:spTree>
  </p:cSld>
  <p:transition spd="med">
    <p:wipe dir="r"/>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3206"/>
                                        </p:tgtEl>
                                        <p:attrNameLst>
                                          <p:attrName>style.visibility</p:attrName>
                                        </p:attrNameLst>
                                      </p:cBhvr>
                                      <p:to>
                                        <p:strVal val="visible"/>
                                      </p:to>
                                    </p:set>
                                    <p:anim calcmode="lin" valueType="num">
                                      <p:cBhvr additive="repl">
                                        <p:cTn id="476" dur="500" fill="hold"/>
                                        <p:tgtEl>
                                          <p:spTgt spid="3206"/>
                                        </p:tgtEl>
                                        <p:attrNameLst>
                                          <p:attrName>ppt_w</p:attrName>
                                        </p:attrNameLst>
                                      </p:cBhvr>
                                      <p:tavLst>
                                        <p:tav tm="0">
                                          <p:val>
                                            <p:fltVal val="0"/>
                                          </p:val>
                                        </p:tav>
                                        <p:tav tm="100000">
                                          <p:val>
                                            <p:strVal val="#ppt_w"/>
                                          </p:val>
                                        </p:tav>
                                      </p:tavLst>
                                    </p:anim>
                                    <p:anim calcmode="lin" valueType="num">
                                      <p:cBhvr additive="repl">
                                        <p:cTn id="477" dur="500" fill="hold"/>
                                        <p:tgtEl>
                                          <p:spTgt spid="3206"/>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
                                  <p:stCondLst>
                                    <p:cond delay="0"/>
                                  </p:stCondLst>
                                  <p:childTnLst>
                                    <p:set>
                                      <p:cBhvr>
                                        <p:cTn id="481" dur="1" fill="hold">
                                          <p:stCondLst>
                                            <p:cond delay="0"/>
                                          </p:stCondLst>
                                        </p:cTn>
                                        <p:tgtEl>
                                          <p:spTgt spid="3237"/>
                                        </p:tgtEl>
                                        <p:attrNameLst>
                                          <p:attrName>style.visibility</p:attrName>
                                        </p:attrNameLst>
                                      </p:cBhvr>
                                      <p:to>
                                        <p:strVal val="visible"/>
                                      </p:to>
                                    </p:set>
                                    <p:anim calcmode="lin" valueType="num">
                                      <p:cBhvr additive="repl">
                                        <p:cTn id="482" dur="500" fill="hold"/>
                                        <p:tgtEl>
                                          <p:spTgt spid="3237"/>
                                        </p:tgtEl>
                                        <p:attrNameLst>
                                          <p:attrName>ppt_x</p:attrName>
                                        </p:attrNameLst>
                                      </p:cBhvr>
                                      <p:tavLst>
                                        <p:tav tm="0">
                                          <p:val>
                                            <p:strVal val="#ppt_x"/>
                                          </p:val>
                                        </p:tav>
                                        <p:tav tm="100000">
                                          <p:val>
                                            <p:strVal val="#ppt_x"/>
                                          </p:val>
                                        </p:tav>
                                      </p:tavLst>
                                    </p:anim>
                                    <p:anim calcmode="lin" valueType="num">
                                      <p:cBhvr additive="repl">
                                        <p:cTn id="483" dur="500" fill="hold"/>
                                        <p:tgtEl>
                                          <p:spTgt spid="3237"/>
                                        </p:tgtEl>
                                        <p:attrNameLst>
                                          <p:attrName>ppt_y</p:attrName>
                                        </p:attrNameLst>
                                      </p:cBhvr>
                                      <p:tavLst>
                                        <p:tav tm="0">
                                          <p:val>
                                            <p:strVal val="#ppt_y-#ppt_h/2"/>
                                          </p:val>
                                        </p:tav>
                                        <p:tav tm="100000">
                                          <p:val>
                                            <p:strVal val="#ppt_y"/>
                                          </p:val>
                                        </p:tav>
                                      </p:tavLst>
                                    </p:anim>
                                    <p:anim calcmode="lin" valueType="num">
                                      <p:cBhvr additive="repl">
                                        <p:cTn id="484" dur="500" fill="hold"/>
                                        <p:tgtEl>
                                          <p:spTgt spid="3237"/>
                                        </p:tgtEl>
                                        <p:attrNameLst>
                                          <p:attrName>ppt_w</p:attrName>
                                        </p:attrNameLst>
                                      </p:cBhvr>
                                      <p:tavLst>
                                        <p:tav tm="0">
                                          <p:val>
                                            <p:strVal val="#ppt_w"/>
                                          </p:val>
                                        </p:tav>
                                        <p:tav tm="100000">
                                          <p:val>
                                            <p:strVal val="#ppt_w"/>
                                          </p:val>
                                        </p:tav>
                                      </p:tavLst>
                                    </p:anim>
                                    <p:anim calcmode="lin" valueType="num">
                                      <p:cBhvr additive="repl">
                                        <p:cTn id="485" dur="500" fill="hold"/>
                                        <p:tgtEl>
                                          <p:spTgt spid="3237"/>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1">
                                  <p:stCondLst>
                                    <p:cond delay="0"/>
                                  </p:stCondLst>
                                  <p:childTnLst>
                                    <p:set>
                                      <p:cBhvr>
                                        <p:cTn id="489" dur="1" fill="hold">
                                          <p:stCondLst>
                                            <p:cond delay="0"/>
                                          </p:stCondLst>
                                        </p:cTn>
                                        <p:tgtEl>
                                          <p:spTgt spid="3303"/>
                                        </p:tgtEl>
                                        <p:attrNameLst>
                                          <p:attrName>style.visibility</p:attrName>
                                        </p:attrNameLst>
                                      </p:cBhvr>
                                      <p:to>
                                        <p:strVal val="visible"/>
                                      </p:to>
                                    </p:set>
                                    <p:anim calcmode="lin" valueType="num">
                                      <p:cBhvr additive="repl">
                                        <p:cTn id="490" dur="500" fill="hold"/>
                                        <p:tgtEl>
                                          <p:spTgt spid="3303"/>
                                        </p:tgtEl>
                                        <p:attrNameLst>
                                          <p:attrName>ppt_x</p:attrName>
                                        </p:attrNameLst>
                                      </p:cBhvr>
                                      <p:tavLst>
                                        <p:tav tm="0">
                                          <p:val>
                                            <p:strVal val="#ppt_x"/>
                                          </p:val>
                                        </p:tav>
                                        <p:tav tm="100000">
                                          <p:val>
                                            <p:strVal val="#ppt_x"/>
                                          </p:val>
                                        </p:tav>
                                      </p:tavLst>
                                    </p:anim>
                                    <p:anim calcmode="lin" valueType="num">
                                      <p:cBhvr additive="repl">
                                        <p:cTn id="491" dur="500" fill="hold"/>
                                        <p:tgtEl>
                                          <p:spTgt spid="3303"/>
                                        </p:tgtEl>
                                        <p:attrNameLst>
                                          <p:attrName>ppt_y</p:attrName>
                                        </p:attrNameLst>
                                      </p:cBhvr>
                                      <p:tavLst>
                                        <p:tav tm="0">
                                          <p:val>
                                            <p:strVal val="#ppt_y-#ppt_h/2"/>
                                          </p:val>
                                        </p:tav>
                                        <p:tav tm="100000">
                                          <p:val>
                                            <p:strVal val="#ppt_y"/>
                                          </p:val>
                                        </p:tav>
                                      </p:tavLst>
                                    </p:anim>
                                    <p:anim calcmode="lin" valueType="num">
                                      <p:cBhvr additive="repl">
                                        <p:cTn id="492" dur="500" fill="hold"/>
                                        <p:tgtEl>
                                          <p:spTgt spid="3303"/>
                                        </p:tgtEl>
                                        <p:attrNameLst>
                                          <p:attrName>ppt_w</p:attrName>
                                        </p:attrNameLst>
                                      </p:cBhvr>
                                      <p:tavLst>
                                        <p:tav tm="0">
                                          <p:val>
                                            <p:strVal val="#ppt_w"/>
                                          </p:val>
                                        </p:tav>
                                        <p:tav tm="100000">
                                          <p:val>
                                            <p:strVal val="#ppt_w"/>
                                          </p:val>
                                        </p:tav>
                                      </p:tavLst>
                                    </p:anim>
                                    <p:anim calcmode="lin" valueType="num">
                                      <p:cBhvr additive="repl">
                                        <p:cTn id="493" dur="500" fill="hold"/>
                                        <p:tgtEl>
                                          <p:spTgt spid="3303"/>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8">
                                  <p:stCondLst>
                                    <p:cond delay="0"/>
                                  </p:stCondLst>
                                  <p:childTnLst>
                                    <p:set>
                                      <p:cBhvr>
                                        <p:cTn id="497" dur="1" fill="hold">
                                          <p:stCondLst>
                                            <p:cond delay="0"/>
                                          </p:stCondLst>
                                        </p:cTn>
                                        <p:tgtEl>
                                          <p:spTgt spid="3234"/>
                                        </p:tgtEl>
                                        <p:attrNameLst>
                                          <p:attrName>style.visibility</p:attrName>
                                        </p:attrNameLst>
                                      </p:cBhvr>
                                      <p:to>
                                        <p:strVal val="visible"/>
                                      </p:to>
                                    </p:set>
                                    <p:anim calcmode="lin" valueType="num">
                                      <p:cBhvr additive="repl">
                                        <p:cTn id="498" dur="500" fill="hold"/>
                                        <p:tgtEl>
                                          <p:spTgt spid="3234"/>
                                        </p:tgtEl>
                                        <p:attrNameLst>
                                          <p:attrName>ppt_x</p:attrName>
                                        </p:attrNameLst>
                                      </p:cBhvr>
                                      <p:tavLst>
                                        <p:tav tm="0">
                                          <p:val>
                                            <p:strVal val="#ppt_x-#ppt_w/2"/>
                                          </p:val>
                                        </p:tav>
                                        <p:tav tm="100000">
                                          <p:val>
                                            <p:strVal val="#ppt_x"/>
                                          </p:val>
                                        </p:tav>
                                      </p:tavLst>
                                    </p:anim>
                                    <p:anim calcmode="lin" valueType="num">
                                      <p:cBhvr additive="repl">
                                        <p:cTn id="499" dur="500" fill="hold"/>
                                        <p:tgtEl>
                                          <p:spTgt spid="3234"/>
                                        </p:tgtEl>
                                        <p:attrNameLst>
                                          <p:attrName>ppt_y</p:attrName>
                                        </p:attrNameLst>
                                      </p:cBhvr>
                                      <p:tavLst>
                                        <p:tav tm="0">
                                          <p:val>
                                            <p:strVal val="#ppt_y"/>
                                          </p:val>
                                        </p:tav>
                                        <p:tav tm="100000">
                                          <p:val>
                                            <p:strVal val="#ppt_y"/>
                                          </p:val>
                                        </p:tav>
                                      </p:tavLst>
                                    </p:anim>
                                    <p:anim calcmode="lin" valueType="num">
                                      <p:cBhvr additive="repl">
                                        <p:cTn id="500" dur="500" fill="hold"/>
                                        <p:tgtEl>
                                          <p:spTgt spid="3234"/>
                                        </p:tgtEl>
                                        <p:attrNameLst>
                                          <p:attrName>ppt_w</p:attrName>
                                        </p:attrNameLst>
                                      </p:cBhvr>
                                      <p:tavLst>
                                        <p:tav tm="0">
                                          <p:val>
                                            <p:fltVal val="0"/>
                                          </p:val>
                                        </p:tav>
                                        <p:tav tm="100000">
                                          <p:val>
                                            <p:strVal val="#ppt_w"/>
                                          </p:val>
                                        </p:tav>
                                      </p:tavLst>
                                    </p:anim>
                                    <p:anim calcmode="lin" valueType="num">
                                      <p:cBhvr additive="repl">
                                        <p:cTn id="501" dur="500" fill="hold"/>
                                        <p:tgtEl>
                                          <p:spTgt spid="3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1" name="PlaceHolder 1"/>
          <p:cNvSpPr>
            <a:spLocks noGrp="1"/>
          </p:cNvSpPr>
          <p:nvPr>
            <p:ph type="title"/>
          </p:nvPr>
        </p:nvSpPr>
        <p:spPr>
          <a:xfrm rot="16200000">
            <a:off x="-1928520" y="2773440"/>
            <a:ext cx="5810400" cy="91440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istribution of strains on the two main dimensions of emotional reactivity</a:t>
            </a:r>
            <a:endParaRPr b="0" lang="en-US" sz="2400" spc="-1" strike="noStrike">
              <a:solidFill>
                <a:srgbClr val="ff3300"/>
              </a:solidFill>
              <a:latin typeface="Comic Sans MS"/>
            </a:endParaRPr>
          </a:p>
        </p:txBody>
      </p:sp>
      <p:sp>
        <p:nvSpPr>
          <p:cNvPr id="3432" name=""/>
          <p:cNvSpPr/>
          <p:nvPr/>
        </p:nvSpPr>
        <p:spPr>
          <a:xfrm>
            <a:off x="1270080" y="1035000"/>
            <a:ext cx="6254640" cy="5424480"/>
          </a:xfrm>
          <a:custGeom>
            <a:avLst/>
            <a:gdLst/>
            <a:ahLst/>
            <a:rect l="l" t="t" r="r" b="b"/>
            <a:pathLst>
              <a:path w="4327" h="3829">
                <a:moveTo>
                  <a:pt x="0" y="0"/>
                </a:moveTo>
                <a:lnTo>
                  <a:pt x="0" y="3828"/>
                </a:lnTo>
                <a:lnTo>
                  <a:pt x="4326" y="3828"/>
                </a:lnTo>
                <a:lnTo>
                  <a:pt x="4326"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33" name=""/>
          <p:cNvSpPr/>
          <p:nvPr/>
        </p:nvSpPr>
        <p:spPr>
          <a:xfrm>
            <a:off x="3409920" y="316080"/>
            <a:ext cx="1408320" cy="1186200"/>
          </a:xfrm>
          <a:prstGeom prst="rect">
            <a:avLst/>
          </a:prstGeom>
          <a:solidFill>
            <a:srgbClr val="ccccff"/>
          </a:solidFill>
          <a:ln w="12600">
            <a:solidFill>
              <a:srgbClr val="3333cc"/>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Factor 1</a:t>
            </a:r>
            <a:endParaRPr b="0" lang="en-US" sz="24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anxiety-</a:t>
            </a:r>
            <a:endParaRPr b="0" lang="en-US" sz="24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related)</a:t>
            </a:r>
            <a:endParaRPr b="0" lang="en-US" sz="2400" spc="-1" strike="noStrike">
              <a:solidFill>
                <a:srgbClr val="000000"/>
              </a:solidFill>
              <a:latin typeface="Comic Sans MS"/>
            </a:endParaRPr>
          </a:p>
        </p:txBody>
      </p:sp>
      <p:sp>
        <p:nvSpPr>
          <p:cNvPr id="3434" name=""/>
          <p:cNvSpPr/>
          <p:nvPr/>
        </p:nvSpPr>
        <p:spPr>
          <a:xfrm>
            <a:off x="6865560" y="2897280"/>
            <a:ext cx="1688760" cy="698760"/>
          </a:xfrm>
          <a:prstGeom prst="rect">
            <a:avLst/>
          </a:prstGeom>
          <a:solidFill>
            <a:srgbClr val="ccccff"/>
          </a:solidFill>
          <a:ln w="12600">
            <a:solidFill>
              <a:srgbClr val="3333cc"/>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actor 2</a:t>
            </a:r>
            <a:endParaRPr b="0" lang="en-US" sz="20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locomotion)</a:t>
            </a:r>
            <a:endParaRPr b="0" lang="en-US" sz="2000" spc="-1" strike="noStrike">
              <a:solidFill>
                <a:srgbClr val="000000"/>
              </a:solidFill>
              <a:latin typeface="Comic Sans MS"/>
            </a:endParaRPr>
          </a:p>
        </p:txBody>
      </p:sp>
      <p:sp>
        <p:nvSpPr>
          <p:cNvPr id="3435" name=""/>
          <p:cNvSpPr/>
          <p:nvPr/>
        </p:nvSpPr>
        <p:spPr>
          <a:xfrm>
            <a:off x="2416320" y="738360"/>
            <a:ext cx="5248080" cy="5840280"/>
          </a:xfrm>
          <a:custGeom>
            <a:avLst/>
            <a:gdLst/>
            <a:ahLst/>
            <a:rect l="l" t="t" r="r" b="b"/>
            <a:pathLst>
              <a:path w="3392" h="3187">
                <a:moveTo>
                  <a:pt x="0" y="0"/>
                </a:moveTo>
                <a:lnTo>
                  <a:pt x="0" y="3186"/>
                </a:lnTo>
                <a:lnTo>
                  <a:pt x="3391" y="3186"/>
                </a:lnTo>
                <a:lnTo>
                  <a:pt x="3391"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36" name=""/>
          <p:cNvSpPr/>
          <p:nvPr/>
        </p:nvSpPr>
        <p:spPr>
          <a:xfrm>
            <a:off x="2427120" y="3656160"/>
            <a:ext cx="522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37" name=""/>
          <p:cNvSpPr/>
          <p:nvPr/>
        </p:nvSpPr>
        <p:spPr>
          <a:xfrm flipV="1">
            <a:off x="2416320" y="364176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38" name=""/>
          <p:cNvSpPr/>
          <p:nvPr/>
        </p:nvSpPr>
        <p:spPr>
          <a:xfrm flipV="1">
            <a:off x="3727440" y="364176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39" name=""/>
          <p:cNvSpPr/>
          <p:nvPr/>
        </p:nvSpPr>
        <p:spPr>
          <a:xfrm flipV="1">
            <a:off x="6350040" y="364176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40" name=""/>
          <p:cNvSpPr/>
          <p:nvPr/>
        </p:nvSpPr>
        <p:spPr>
          <a:xfrm flipV="1">
            <a:off x="7662960" y="364176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41" name=""/>
          <p:cNvSpPr/>
          <p:nvPr/>
        </p:nvSpPr>
        <p:spPr>
          <a:xfrm flipV="1">
            <a:off x="5037120" y="720360"/>
            <a:ext cx="0" cy="5870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42" name=""/>
          <p:cNvSpPr/>
          <p:nvPr/>
        </p:nvSpPr>
        <p:spPr>
          <a:xfrm>
            <a:off x="4946760" y="6576840"/>
            <a:ext cx="7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43" name=""/>
          <p:cNvSpPr/>
          <p:nvPr/>
        </p:nvSpPr>
        <p:spPr>
          <a:xfrm>
            <a:off x="4946760" y="5116680"/>
            <a:ext cx="7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44" name=""/>
          <p:cNvSpPr/>
          <p:nvPr/>
        </p:nvSpPr>
        <p:spPr>
          <a:xfrm>
            <a:off x="4946760" y="2197080"/>
            <a:ext cx="7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45" name=""/>
          <p:cNvSpPr/>
          <p:nvPr/>
        </p:nvSpPr>
        <p:spPr>
          <a:xfrm>
            <a:off x="4946760" y="736560"/>
            <a:ext cx="7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46" name=""/>
          <p:cNvSpPr/>
          <p:nvPr/>
        </p:nvSpPr>
        <p:spPr>
          <a:xfrm>
            <a:off x="5483160" y="671400"/>
            <a:ext cx="192240" cy="2160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47" name=""/>
          <p:cNvSpPr/>
          <p:nvPr/>
        </p:nvSpPr>
        <p:spPr>
          <a:xfrm>
            <a:off x="4089240" y="2473200"/>
            <a:ext cx="192240" cy="216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48" name=""/>
          <p:cNvSpPr/>
          <p:nvPr/>
        </p:nvSpPr>
        <p:spPr>
          <a:xfrm>
            <a:off x="5079960" y="3838680"/>
            <a:ext cx="15228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49" name=""/>
          <p:cNvSpPr/>
          <p:nvPr/>
        </p:nvSpPr>
        <p:spPr>
          <a:xfrm>
            <a:off x="3025800" y="4535640"/>
            <a:ext cx="15228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0" name=""/>
          <p:cNvSpPr/>
          <p:nvPr/>
        </p:nvSpPr>
        <p:spPr>
          <a:xfrm>
            <a:off x="5789520" y="1549440"/>
            <a:ext cx="150840" cy="165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1" name=""/>
          <p:cNvSpPr/>
          <p:nvPr/>
        </p:nvSpPr>
        <p:spPr>
          <a:xfrm>
            <a:off x="4667400" y="2357280"/>
            <a:ext cx="15084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2" name=""/>
          <p:cNvSpPr/>
          <p:nvPr/>
        </p:nvSpPr>
        <p:spPr>
          <a:xfrm>
            <a:off x="6621480" y="5022720"/>
            <a:ext cx="15408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3" name=""/>
          <p:cNvSpPr/>
          <p:nvPr/>
        </p:nvSpPr>
        <p:spPr>
          <a:xfrm>
            <a:off x="5864400" y="4608360"/>
            <a:ext cx="15228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4" name=""/>
          <p:cNvSpPr/>
          <p:nvPr/>
        </p:nvSpPr>
        <p:spPr>
          <a:xfrm>
            <a:off x="7169040" y="5083200"/>
            <a:ext cx="190440" cy="2160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5" name=""/>
          <p:cNvSpPr/>
          <p:nvPr/>
        </p:nvSpPr>
        <p:spPr>
          <a:xfrm>
            <a:off x="3014640" y="4751280"/>
            <a:ext cx="192240" cy="216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6" name=""/>
          <p:cNvSpPr/>
          <p:nvPr/>
        </p:nvSpPr>
        <p:spPr>
          <a:xfrm>
            <a:off x="4782960" y="3699000"/>
            <a:ext cx="1508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7" name=""/>
          <p:cNvSpPr/>
          <p:nvPr/>
        </p:nvSpPr>
        <p:spPr>
          <a:xfrm>
            <a:off x="3919680" y="4206960"/>
            <a:ext cx="15084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58" name=""/>
          <p:cNvSpPr/>
          <p:nvPr/>
        </p:nvSpPr>
        <p:spPr>
          <a:xfrm>
            <a:off x="5670000" y="492120"/>
            <a:ext cx="882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cc99"/>
                </a:solidFill>
                <a:latin typeface="Comic Sans MS"/>
              </a:rPr>
              <a:t>SHR</a:t>
            </a:r>
            <a:endParaRPr b="0" lang="en-US" sz="2800" spc="-1" strike="noStrike">
              <a:solidFill>
                <a:srgbClr val="000000"/>
              </a:solidFill>
              <a:latin typeface="Comic Sans MS"/>
            </a:endParaRPr>
          </a:p>
        </p:txBody>
      </p:sp>
      <p:sp>
        <p:nvSpPr>
          <p:cNvPr id="3459" name=""/>
          <p:cNvSpPr/>
          <p:nvPr/>
        </p:nvSpPr>
        <p:spPr>
          <a:xfrm>
            <a:off x="3112560" y="2314440"/>
            <a:ext cx="882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cc99"/>
                </a:solidFill>
                <a:latin typeface="Comic Sans MS"/>
              </a:rPr>
              <a:t>SHR</a:t>
            </a:r>
            <a:endParaRPr b="0" lang="en-US" sz="2800" spc="-1" strike="noStrike">
              <a:solidFill>
                <a:srgbClr val="000000"/>
              </a:solidFill>
              <a:latin typeface="Comic Sans MS"/>
            </a:endParaRPr>
          </a:p>
        </p:txBody>
      </p:sp>
      <p:sp>
        <p:nvSpPr>
          <p:cNvPr id="3460" name=""/>
          <p:cNvSpPr/>
          <p:nvPr/>
        </p:nvSpPr>
        <p:spPr>
          <a:xfrm>
            <a:off x="5225760" y="363708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3461" name=""/>
          <p:cNvSpPr/>
          <p:nvPr/>
        </p:nvSpPr>
        <p:spPr>
          <a:xfrm>
            <a:off x="2368440" y="4214880"/>
            <a:ext cx="16200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Comic Sans MS"/>
            </a:endParaRPr>
          </a:p>
        </p:txBody>
      </p:sp>
      <p:sp>
        <p:nvSpPr>
          <p:cNvPr id="3462" name=""/>
          <p:cNvSpPr/>
          <p:nvPr/>
        </p:nvSpPr>
        <p:spPr>
          <a:xfrm>
            <a:off x="5943960" y="1333440"/>
            <a:ext cx="55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Comic Sans MS"/>
              </a:rPr>
              <a:t>BN</a:t>
            </a:r>
            <a:endParaRPr b="0" lang="en-US" sz="2000" spc="-1" strike="noStrike">
              <a:solidFill>
                <a:srgbClr val="000000"/>
              </a:solidFill>
              <a:latin typeface="Comic Sans MS"/>
            </a:endParaRPr>
          </a:p>
        </p:txBody>
      </p:sp>
      <p:sp>
        <p:nvSpPr>
          <p:cNvPr id="3463" name=""/>
          <p:cNvSpPr/>
          <p:nvPr/>
        </p:nvSpPr>
        <p:spPr>
          <a:xfrm>
            <a:off x="4191480" y="1940040"/>
            <a:ext cx="55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Comic Sans MS"/>
              </a:rPr>
              <a:t>BN</a:t>
            </a:r>
            <a:endParaRPr b="0" lang="en-US" sz="2000" spc="-1" strike="noStrike">
              <a:solidFill>
                <a:srgbClr val="000000"/>
              </a:solidFill>
              <a:latin typeface="Comic Sans MS"/>
            </a:endParaRPr>
          </a:p>
        </p:txBody>
      </p:sp>
      <p:sp>
        <p:nvSpPr>
          <p:cNvPr id="3464" name=""/>
          <p:cNvSpPr/>
          <p:nvPr/>
        </p:nvSpPr>
        <p:spPr>
          <a:xfrm>
            <a:off x="5946120" y="4873680"/>
            <a:ext cx="56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3465" name=""/>
          <p:cNvSpPr/>
          <p:nvPr/>
        </p:nvSpPr>
        <p:spPr>
          <a:xfrm>
            <a:off x="5947560" y="4390920"/>
            <a:ext cx="56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3466" name=""/>
          <p:cNvSpPr/>
          <p:nvPr/>
        </p:nvSpPr>
        <p:spPr>
          <a:xfrm>
            <a:off x="7419960" y="4929120"/>
            <a:ext cx="92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9900"/>
                </a:solidFill>
                <a:latin typeface="Comic Sans MS"/>
              </a:rPr>
              <a:t>LEW</a:t>
            </a:r>
            <a:endParaRPr b="0" lang="en-US" sz="2800" spc="-1" strike="noStrike">
              <a:solidFill>
                <a:srgbClr val="000000"/>
              </a:solidFill>
              <a:latin typeface="Comic Sans MS"/>
            </a:endParaRPr>
          </a:p>
        </p:txBody>
      </p:sp>
      <p:sp>
        <p:nvSpPr>
          <p:cNvPr id="3467" name=""/>
          <p:cNvSpPr/>
          <p:nvPr/>
        </p:nvSpPr>
        <p:spPr>
          <a:xfrm>
            <a:off x="2011320" y="4581360"/>
            <a:ext cx="92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9900"/>
                </a:solidFill>
                <a:latin typeface="Comic Sans MS"/>
              </a:rPr>
              <a:t>LEW</a:t>
            </a:r>
            <a:endParaRPr b="0" lang="en-US" sz="2800" spc="-1" strike="noStrike">
              <a:solidFill>
                <a:srgbClr val="000000"/>
              </a:solidFill>
              <a:latin typeface="Comic Sans MS"/>
            </a:endParaRPr>
          </a:p>
        </p:txBody>
      </p:sp>
      <p:sp>
        <p:nvSpPr>
          <p:cNvPr id="3468" name=""/>
          <p:cNvSpPr/>
          <p:nvPr/>
        </p:nvSpPr>
        <p:spPr>
          <a:xfrm>
            <a:off x="3615120" y="4340160"/>
            <a:ext cx="56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mic Sans MS"/>
              </a:rPr>
              <a:t>FIS</a:t>
            </a:r>
            <a:endParaRPr b="0" lang="en-US" sz="2000" spc="-1" strike="noStrike">
              <a:solidFill>
                <a:srgbClr val="000000"/>
              </a:solidFill>
              <a:latin typeface="Comic Sans MS"/>
            </a:endParaRPr>
          </a:p>
        </p:txBody>
      </p:sp>
      <p:sp>
        <p:nvSpPr>
          <p:cNvPr id="3469" name=""/>
          <p:cNvSpPr/>
          <p:nvPr/>
        </p:nvSpPr>
        <p:spPr>
          <a:xfrm>
            <a:off x="4107240" y="3678120"/>
            <a:ext cx="56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mic Sans MS"/>
              </a:rPr>
              <a:t>FIS</a:t>
            </a:r>
            <a:endParaRPr b="0" lang="en-US" sz="2000" spc="-1" strike="noStrike">
              <a:solidFill>
                <a:srgbClr val="000000"/>
              </a:solidFill>
              <a:latin typeface="Comic Sans MS"/>
            </a:endParaRPr>
          </a:p>
        </p:txBody>
      </p:sp>
      <p:sp>
        <p:nvSpPr>
          <p:cNvPr id="3470" name=""/>
          <p:cNvSpPr/>
          <p:nvPr/>
        </p:nvSpPr>
        <p:spPr>
          <a:xfrm>
            <a:off x="2456640" y="405936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3471" name=""/>
          <p:cNvSpPr/>
          <p:nvPr/>
        </p:nvSpPr>
        <p:spPr>
          <a:xfrm>
            <a:off x="7119720" y="1252440"/>
            <a:ext cx="116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emales</a:t>
            </a:r>
            <a:endParaRPr b="0" lang="en-US" sz="2000" spc="-1" strike="noStrike">
              <a:solidFill>
                <a:srgbClr val="000000"/>
              </a:solidFill>
              <a:latin typeface="Comic Sans MS"/>
            </a:endParaRPr>
          </a:p>
        </p:txBody>
      </p:sp>
      <p:sp>
        <p:nvSpPr>
          <p:cNvPr id="3472" name=""/>
          <p:cNvSpPr/>
          <p:nvPr/>
        </p:nvSpPr>
        <p:spPr>
          <a:xfrm>
            <a:off x="6999120" y="1370160"/>
            <a:ext cx="150840" cy="166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73" name=""/>
          <p:cNvSpPr/>
          <p:nvPr/>
        </p:nvSpPr>
        <p:spPr>
          <a:xfrm>
            <a:off x="7151040" y="795240"/>
            <a:ext cx="885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Males</a:t>
            </a:r>
            <a:endParaRPr b="0" lang="en-US" sz="2000" spc="-1" strike="noStrike">
              <a:solidFill>
                <a:srgbClr val="000000"/>
              </a:solidFill>
              <a:latin typeface="Comic Sans MS"/>
            </a:endParaRPr>
          </a:p>
        </p:txBody>
      </p:sp>
      <p:sp>
        <p:nvSpPr>
          <p:cNvPr id="3474" name=""/>
          <p:cNvSpPr/>
          <p:nvPr/>
        </p:nvSpPr>
        <p:spPr>
          <a:xfrm>
            <a:off x="6999120" y="911160"/>
            <a:ext cx="150840" cy="16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75" name=""/>
          <p:cNvSpPr/>
          <p:nvPr/>
        </p:nvSpPr>
        <p:spPr>
          <a:xfrm>
            <a:off x="6861240" y="762120"/>
            <a:ext cx="1450800" cy="93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76" name=""/>
          <p:cNvSpPr/>
          <p:nvPr/>
        </p:nvSpPr>
        <p:spPr>
          <a:xfrm>
            <a:off x="300600" y="61088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2EBB2AA6-B2AD-4BC5-B880-45ECC5BC8214}" type="datetime1">
              <a:rPr lang="en-US"/>
              <a:t>07/30/26</a:t>
            </a:fld>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7" name=""/>
          <p:cNvSpPr/>
          <p:nvPr/>
        </p:nvSpPr>
        <p:spPr>
          <a:xfrm>
            <a:off x="711360" y="378000"/>
            <a:ext cx="5047920" cy="66672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locomotor activity</a:t>
            </a:r>
            <a:endParaRPr b="0" lang="en-US" sz="3200" spc="-1" strike="noStrike">
              <a:solidFill>
                <a:srgbClr val="000000"/>
              </a:solidFill>
              <a:latin typeface="Comic Sans MS"/>
            </a:endParaRPr>
          </a:p>
        </p:txBody>
      </p:sp>
      <p:grpSp>
        <p:nvGrpSpPr>
          <p:cNvPr id="3478" name=""/>
          <p:cNvGrpSpPr/>
          <p:nvPr/>
        </p:nvGrpSpPr>
        <p:grpSpPr>
          <a:xfrm>
            <a:off x="7020000" y="289080"/>
            <a:ext cx="1682640" cy="844560"/>
            <a:chOff x="7020000" y="289080"/>
            <a:chExt cx="1682640" cy="844560"/>
          </a:xfrm>
        </p:grpSpPr>
        <p:sp>
          <p:nvSpPr>
            <p:cNvPr id="3479" name=""/>
            <p:cNvSpPr/>
            <p:nvPr/>
          </p:nvSpPr>
          <p:spPr>
            <a:xfrm>
              <a:off x="7788960" y="376200"/>
              <a:ext cx="659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W</a:t>
              </a:r>
              <a:endParaRPr b="0" lang="en-US" sz="1800" spc="-1" strike="noStrike">
                <a:solidFill>
                  <a:srgbClr val="000000"/>
                </a:solidFill>
                <a:latin typeface="Comic Sans MS"/>
              </a:endParaRPr>
            </a:p>
          </p:txBody>
        </p:sp>
        <p:sp>
          <p:nvSpPr>
            <p:cNvPr id="3480" name=""/>
            <p:cNvSpPr/>
            <p:nvPr/>
          </p:nvSpPr>
          <p:spPr>
            <a:xfrm>
              <a:off x="7314840" y="504720"/>
              <a:ext cx="461520" cy="119160"/>
            </a:xfrm>
            <a:custGeom>
              <a:avLst/>
              <a:gdLst/>
              <a:ahLst/>
              <a:rect l="l" t="t" r="r" b="b"/>
              <a:pathLst>
                <a:path w="291" h="75">
                  <a:moveTo>
                    <a:pt x="0" y="0"/>
                  </a:moveTo>
                  <a:lnTo>
                    <a:pt x="0" y="74"/>
                  </a:lnTo>
                  <a:lnTo>
                    <a:pt x="290" y="74"/>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1" name=""/>
            <p:cNvSpPr/>
            <p:nvPr/>
          </p:nvSpPr>
          <p:spPr>
            <a:xfrm>
              <a:off x="7314840" y="419040"/>
              <a:ext cx="471240" cy="27468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2" name=""/>
            <p:cNvSpPr/>
            <p:nvPr/>
          </p:nvSpPr>
          <p:spPr>
            <a:xfrm>
              <a:off x="7790400" y="674640"/>
              <a:ext cx="63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HR</a:t>
              </a:r>
              <a:endParaRPr b="0" lang="en-US" sz="1800" spc="-1" strike="noStrike">
                <a:solidFill>
                  <a:srgbClr val="000000"/>
                </a:solidFill>
                <a:latin typeface="Comic Sans MS"/>
              </a:endParaRPr>
            </a:p>
          </p:txBody>
        </p:sp>
        <p:sp>
          <p:nvSpPr>
            <p:cNvPr id="3483" name=""/>
            <p:cNvSpPr/>
            <p:nvPr/>
          </p:nvSpPr>
          <p:spPr>
            <a:xfrm>
              <a:off x="7314840" y="803160"/>
              <a:ext cx="461520" cy="1177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4" name=""/>
            <p:cNvSpPr/>
            <p:nvPr/>
          </p:nvSpPr>
          <p:spPr>
            <a:xfrm>
              <a:off x="7314840" y="717480"/>
              <a:ext cx="471240" cy="27144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5" name=""/>
            <p:cNvSpPr/>
            <p:nvPr/>
          </p:nvSpPr>
          <p:spPr>
            <a:xfrm>
              <a:off x="7020000" y="289080"/>
              <a:ext cx="16826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486" name=""/>
          <p:cNvSpPr/>
          <p:nvPr/>
        </p:nvSpPr>
        <p:spPr>
          <a:xfrm>
            <a:off x="1809720" y="351936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87" name=""/>
          <p:cNvSpPr/>
          <p:nvPr/>
        </p:nvSpPr>
        <p:spPr>
          <a:xfrm>
            <a:off x="1809720" y="175428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88" name=""/>
          <p:cNvSpPr/>
          <p:nvPr/>
        </p:nvSpPr>
        <p:spPr>
          <a:xfrm rot="16200000">
            <a:off x="5760" y="2406240"/>
            <a:ext cx="214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locomotion</a:t>
            </a:r>
            <a:endParaRPr b="0" lang="en-US" sz="2000" spc="-1" strike="noStrike">
              <a:solidFill>
                <a:srgbClr val="000000"/>
              </a:solidFill>
              <a:latin typeface="Comic Sans MS"/>
            </a:endParaRPr>
          </a:p>
        </p:txBody>
      </p:sp>
      <p:sp>
        <p:nvSpPr>
          <p:cNvPr id="3489" name=""/>
          <p:cNvSpPr/>
          <p:nvPr/>
        </p:nvSpPr>
        <p:spPr>
          <a:xfrm flipV="1">
            <a:off x="180504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90" name=""/>
          <p:cNvSpPr/>
          <p:nvPr/>
        </p:nvSpPr>
        <p:spPr>
          <a:xfrm>
            <a:off x="1714680" y="351936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91" name=""/>
          <p:cNvSpPr/>
          <p:nvPr/>
        </p:nvSpPr>
        <p:spPr>
          <a:xfrm>
            <a:off x="1714680" y="316548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92" name=""/>
          <p:cNvSpPr/>
          <p:nvPr/>
        </p:nvSpPr>
        <p:spPr>
          <a:xfrm>
            <a:off x="1714680" y="281304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93" name=""/>
          <p:cNvSpPr/>
          <p:nvPr/>
        </p:nvSpPr>
        <p:spPr>
          <a:xfrm>
            <a:off x="1714680" y="246060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94" name=""/>
          <p:cNvSpPr/>
          <p:nvPr/>
        </p:nvSpPr>
        <p:spPr>
          <a:xfrm>
            <a:off x="1714680" y="210672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95" name=""/>
          <p:cNvSpPr/>
          <p:nvPr/>
        </p:nvSpPr>
        <p:spPr>
          <a:xfrm>
            <a:off x="1714680" y="175428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96" name=""/>
          <p:cNvSpPr/>
          <p:nvPr/>
        </p:nvSpPr>
        <p:spPr>
          <a:xfrm>
            <a:off x="1366200" y="334476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497" name=""/>
          <p:cNvSpPr/>
          <p:nvPr/>
        </p:nvSpPr>
        <p:spPr>
          <a:xfrm>
            <a:off x="1259280" y="299412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3498" name=""/>
          <p:cNvSpPr/>
          <p:nvPr/>
        </p:nvSpPr>
        <p:spPr>
          <a:xfrm>
            <a:off x="1259280" y="263988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3499" name=""/>
          <p:cNvSpPr/>
          <p:nvPr/>
        </p:nvSpPr>
        <p:spPr>
          <a:xfrm>
            <a:off x="1259280" y="228744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0</a:t>
            </a:r>
            <a:endParaRPr b="0" lang="en-US" sz="1800" spc="-1" strike="noStrike">
              <a:solidFill>
                <a:srgbClr val="000000"/>
              </a:solidFill>
              <a:latin typeface="Comic Sans MS"/>
            </a:endParaRPr>
          </a:p>
        </p:txBody>
      </p:sp>
      <p:sp>
        <p:nvSpPr>
          <p:cNvPr id="3500" name=""/>
          <p:cNvSpPr/>
          <p:nvPr/>
        </p:nvSpPr>
        <p:spPr>
          <a:xfrm>
            <a:off x="1138320" y="1933560"/>
            <a:ext cx="574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a:t>
            </a:r>
            <a:endParaRPr b="0" lang="en-US" sz="1800" spc="-1" strike="noStrike">
              <a:solidFill>
                <a:srgbClr val="000000"/>
              </a:solidFill>
              <a:latin typeface="Comic Sans MS"/>
            </a:endParaRPr>
          </a:p>
        </p:txBody>
      </p:sp>
      <p:sp>
        <p:nvSpPr>
          <p:cNvPr id="3501" name=""/>
          <p:cNvSpPr/>
          <p:nvPr/>
        </p:nvSpPr>
        <p:spPr>
          <a:xfrm>
            <a:off x="1138320" y="1582560"/>
            <a:ext cx="574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a:t>
            </a:r>
            <a:endParaRPr b="0" lang="en-US" sz="1800" spc="-1" strike="noStrike">
              <a:solidFill>
                <a:srgbClr val="000000"/>
              </a:solidFill>
              <a:latin typeface="Comic Sans MS"/>
            </a:endParaRPr>
          </a:p>
        </p:txBody>
      </p:sp>
      <p:sp>
        <p:nvSpPr>
          <p:cNvPr id="3502" name=""/>
          <p:cNvSpPr/>
          <p:nvPr/>
        </p:nvSpPr>
        <p:spPr>
          <a:xfrm flipV="1">
            <a:off x="406404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03" name=""/>
          <p:cNvSpPr/>
          <p:nvPr/>
        </p:nvSpPr>
        <p:spPr>
          <a:xfrm>
            <a:off x="2054160" y="2165400"/>
            <a:ext cx="250920" cy="1352520"/>
          </a:xfrm>
          <a:custGeom>
            <a:avLst/>
            <a:gdLst/>
            <a:ahLst/>
            <a:rect l="l" t="t" r="r" b="b"/>
            <a:pathLst>
              <a:path w="178" h="960">
                <a:moveTo>
                  <a:pt x="177" y="959"/>
                </a:moveTo>
                <a:lnTo>
                  <a:pt x="177" y="0"/>
                </a:lnTo>
                <a:lnTo>
                  <a:pt x="0" y="0"/>
                </a:lnTo>
                <a:lnTo>
                  <a:pt x="0" y="959"/>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04" name=""/>
          <p:cNvSpPr/>
          <p:nvPr/>
        </p:nvSpPr>
        <p:spPr>
          <a:xfrm flipV="1">
            <a:off x="2181240" y="2065320"/>
            <a:ext cx="0" cy="10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05" name=""/>
          <p:cNvSpPr/>
          <p:nvPr/>
        </p:nvSpPr>
        <p:spPr>
          <a:xfrm>
            <a:off x="2138400" y="2071800"/>
            <a:ext cx="8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06" name=""/>
          <p:cNvSpPr/>
          <p:nvPr/>
        </p:nvSpPr>
        <p:spPr>
          <a:xfrm>
            <a:off x="2432160" y="2138400"/>
            <a:ext cx="241200" cy="1379520"/>
          </a:xfrm>
          <a:custGeom>
            <a:avLst/>
            <a:gdLst/>
            <a:ahLst/>
            <a:rect l="l" t="t" r="r" b="b"/>
            <a:pathLst>
              <a:path w="171" h="979">
                <a:moveTo>
                  <a:pt x="0" y="978"/>
                </a:moveTo>
                <a:lnTo>
                  <a:pt x="0" y="0"/>
                </a:lnTo>
                <a:lnTo>
                  <a:pt x="170" y="0"/>
                </a:lnTo>
                <a:lnTo>
                  <a:pt x="170" y="978"/>
                </a:lnTo>
                <a:lnTo>
                  <a:pt x="0" y="978"/>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07" name=""/>
          <p:cNvSpPr/>
          <p:nvPr/>
        </p:nvSpPr>
        <p:spPr>
          <a:xfrm flipV="1">
            <a:off x="2557440" y="2076120"/>
            <a:ext cx="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Comic Sans MS"/>
            </a:endParaRPr>
          </a:p>
        </p:txBody>
      </p:sp>
      <p:sp>
        <p:nvSpPr>
          <p:cNvPr id="3508" name=""/>
          <p:cNvSpPr/>
          <p:nvPr/>
        </p:nvSpPr>
        <p:spPr>
          <a:xfrm>
            <a:off x="2514600" y="2082960"/>
            <a:ext cx="8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09" name=""/>
          <p:cNvSpPr/>
          <p:nvPr/>
        </p:nvSpPr>
        <p:spPr>
          <a:xfrm>
            <a:off x="3186000" y="2752560"/>
            <a:ext cx="249480" cy="765360"/>
          </a:xfrm>
          <a:custGeom>
            <a:avLst/>
            <a:gdLst/>
            <a:ahLst/>
            <a:rect l="l" t="t" r="r" b="b"/>
            <a:pathLst>
              <a:path w="177" h="543">
                <a:moveTo>
                  <a:pt x="176" y="542"/>
                </a:moveTo>
                <a:lnTo>
                  <a:pt x="176" y="0"/>
                </a:lnTo>
                <a:lnTo>
                  <a:pt x="0" y="0"/>
                </a:lnTo>
                <a:lnTo>
                  <a:pt x="0" y="542"/>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10" name=""/>
          <p:cNvSpPr/>
          <p:nvPr/>
        </p:nvSpPr>
        <p:spPr>
          <a:xfrm flipV="1">
            <a:off x="3308400" y="2665440"/>
            <a:ext cx="0" cy="9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11" name=""/>
          <p:cNvSpPr/>
          <p:nvPr/>
        </p:nvSpPr>
        <p:spPr>
          <a:xfrm>
            <a:off x="3267000" y="267192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12" name=""/>
          <p:cNvSpPr/>
          <p:nvPr/>
        </p:nvSpPr>
        <p:spPr>
          <a:xfrm>
            <a:off x="3562200" y="2530440"/>
            <a:ext cx="249480" cy="987480"/>
          </a:xfrm>
          <a:custGeom>
            <a:avLst/>
            <a:gdLst/>
            <a:ahLst/>
            <a:rect l="l" t="t" r="r" b="b"/>
            <a:pathLst>
              <a:path w="177" h="701">
                <a:moveTo>
                  <a:pt x="176" y="700"/>
                </a:moveTo>
                <a:lnTo>
                  <a:pt x="176" y="0"/>
                </a:lnTo>
                <a:lnTo>
                  <a:pt x="0" y="0"/>
                </a:lnTo>
                <a:lnTo>
                  <a:pt x="0" y="700"/>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13" name=""/>
          <p:cNvSpPr/>
          <p:nvPr/>
        </p:nvSpPr>
        <p:spPr>
          <a:xfrm flipV="1">
            <a:off x="3686040" y="245412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Comic Sans MS"/>
            </a:endParaRPr>
          </a:p>
        </p:txBody>
      </p:sp>
      <p:sp>
        <p:nvSpPr>
          <p:cNvPr id="3514" name=""/>
          <p:cNvSpPr/>
          <p:nvPr/>
        </p:nvSpPr>
        <p:spPr>
          <a:xfrm>
            <a:off x="3643200" y="246060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15" name=""/>
          <p:cNvSpPr/>
          <p:nvPr/>
        </p:nvSpPr>
        <p:spPr>
          <a:xfrm>
            <a:off x="1809720" y="351936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16" name=""/>
          <p:cNvSpPr/>
          <p:nvPr/>
        </p:nvSpPr>
        <p:spPr>
          <a:xfrm>
            <a:off x="4765680" y="351936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17" name=""/>
          <p:cNvSpPr/>
          <p:nvPr/>
        </p:nvSpPr>
        <p:spPr>
          <a:xfrm>
            <a:off x="4765680" y="175428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18" name=""/>
          <p:cNvSpPr/>
          <p:nvPr/>
        </p:nvSpPr>
        <p:spPr>
          <a:xfrm flipV="1">
            <a:off x="475776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19" name=""/>
          <p:cNvSpPr/>
          <p:nvPr/>
        </p:nvSpPr>
        <p:spPr>
          <a:xfrm flipH="1" rot="5400000">
            <a:off x="6716160" y="2485440"/>
            <a:ext cx="251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tries closed arms</a:t>
            </a:r>
            <a:endParaRPr b="0" lang="en-US" sz="2000" spc="-1" strike="noStrike">
              <a:solidFill>
                <a:srgbClr val="000000"/>
              </a:solidFill>
              <a:latin typeface="Comic Sans MS"/>
            </a:endParaRPr>
          </a:p>
        </p:txBody>
      </p:sp>
      <p:sp>
        <p:nvSpPr>
          <p:cNvPr id="3520" name=""/>
          <p:cNvSpPr/>
          <p:nvPr/>
        </p:nvSpPr>
        <p:spPr>
          <a:xfrm flipV="1">
            <a:off x="701820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21" name=""/>
          <p:cNvSpPr/>
          <p:nvPr/>
        </p:nvSpPr>
        <p:spPr>
          <a:xfrm flipH="1">
            <a:off x="7013520" y="351936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22" name=""/>
          <p:cNvSpPr/>
          <p:nvPr/>
        </p:nvSpPr>
        <p:spPr>
          <a:xfrm flipH="1">
            <a:off x="7013520" y="293040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23" name=""/>
          <p:cNvSpPr/>
          <p:nvPr/>
        </p:nvSpPr>
        <p:spPr>
          <a:xfrm flipH="1">
            <a:off x="7013520" y="234144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24" name=""/>
          <p:cNvSpPr/>
          <p:nvPr/>
        </p:nvSpPr>
        <p:spPr>
          <a:xfrm flipH="1">
            <a:off x="7013520" y="175428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25" name=""/>
          <p:cNvSpPr/>
          <p:nvPr/>
        </p:nvSpPr>
        <p:spPr>
          <a:xfrm>
            <a:off x="7111440" y="336384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526" name=""/>
          <p:cNvSpPr/>
          <p:nvPr/>
        </p:nvSpPr>
        <p:spPr>
          <a:xfrm>
            <a:off x="7111440" y="277668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Comic Sans MS"/>
            </a:endParaRPr>
          </a:p>
        </p:txBody>
      </p:sp>
      <p:sp>
        <p:nvSpPr>
          <p:cNvPr id="3527" name=""/>
          <p:cNvSpPr/>
          <p:nvPr/>
        </p:nvSpPr>
        <p:spPr>
          <a:xfrm>
            <a:off x="7111440" y="218916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0" lang="en-US" sz="1800" spc="-1" strike="noStrike">
              <a:solidFill>
                <a:srgbClr val="000000"/>
              </a:solidFill>
              <a:latin typeface="Comic Sans MS"/>
            </a:endParaRPr>
          </a:p>
        </p:txBody>
      </p:sp>
      <p:sp>
        <p:nvSpPr>
          <p:cNvPr id="3528" name=""/>
          <p:cNvSpPr/>
          <p:nvPr/>
        </p:nvSpPr>
        <p:spPr>
          <a:xfrm>
            <a:off x="7091280" y="160164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a:t>
            </a:r>
            <a:endParaRPr b="0" lang="en-US" sz="1800" spc="-1" strike="noStrike">
              <a:solidFill>
                <a:srgbClr val="000000"/>
              </a:solidFill>
              <a:latin typeface="Comic Sans MS"/>
            </a:endParaRPr>
          </a:p>
        </p:txBody>
      </p:sp>
      <p:sp>
        <p:nvSpPr>
          <p:cNvPr id="3529" name=""/>
          <p:cNvSpPr/>
          <p:nvPr/>
        </p:nvSpPr>
        <p:spPr>
          <a:xfrm>
            <a:off x="5010120" y="2195640"/>
            <a:ext cx="250920" cy="1322280"/>
          </a:xfrm>
          <a:custGeom>
            <a:avLst/>
            <a:gdLst/>
            <a:ahLst/>
            <a:rect l="l" t="t" r="r" b="b"/>
            <a:pathLst>
              <a:path w="178" h="939">
                <a:moveTo>
                  <a:pt x="177" y="938"/>
                </a:moveTo>
                <a:lnTo>
                  <a:pt x="177" y="0"/>
                </a:lnTo>
                <a:lnTo>
                  <a:pt x="0" y="0"/>
                </a:lnTo>
                <a:lnTo>
                  <a:pt x="0" y="938"/>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30" name=""/>
          <p:cNvSpPr/>
          <p:nvPr/>
        </p:nvSpPr>
        <p:spPr>
          <a:xfrm flipV="1">
            <a:off x="5137200" y="204120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31" name=""/>
          <p:cNvSpPr/>
          <p:nvPr/>
        </p:nvSpPr>
        <p:spPr>
          <a:xfrm>
            <a:off x="5092560" y="2048040"/>
            <a:ext cx="8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32" name=""/>
          <p:cNvSpPr/>
          <p:nvPr/>
        </p:nvSpPr>
        <p:spPr>
          <a:xfrm>
            <a:off x="5388120" y="2341440"/>
            <a:ext cx="247680" cy="1176480"/>
          </a:xfrm>
          <a:custGeom>
            <a:avLst/>
            <a:gdLst/>
            <a:ahLst/>
            <a:rect l="l" t="t" r="r" b="b"/>
            <a:pathLst>
              <a:path w="177" h="835">
                <a:moveTo>
                  <a:pt x="176" y="834"/>
                </a:moveTo>
                <a:lnTo>
                  <a:pt x="176" y="0"/>
                </a:lnTo>
                <a:lnTo>
                  <a:pt x="0" y="0"/>
                </a:lnTo>
                <a:lnTo>
                  <a:pt x="0" y="834"/>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33" name=""/>
          <p:cNvSpPr/>
          <p:nvPr/>
        </p:nvSpPr>
        <p:spPr>
          <a:xfrm flipV="1">
            <a:off x="5511960" y="218880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34" name=""/>
          <p:cNvSpPr/>
          <p:nvPr/>
        </p:nvSpPr>
        <p:spPr>
          <a:xfrm>
            <a:off x="5468760" y="2195640"/>
            <a:ext cx="8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35" name=""/>
          <p:cNvSpPr/>
          <p:nvPr/>
        </p:nvSpPr>
        <p:spPr>
          <a:xfrm>
            <a:off x="6140520" y="2930400"/>
            <a:ext cx="250920" cy="587520"/>
          </a:xfrm>
          <a:custGeom>
            <a:avLst/>
            <a:gdLst/>
            <a:ahLst/>
            <a:rect l="l" t="t" r="r" b="b"/>
            <a:pathLst>
              <a:path w="177" h="417">
                <a:moveTo>
                  <a:pt x="176" y="416"/>
                </a:moveTo>
                <a:lnTo>
                  <a:pt x="176" y="0"/>
                </a:lnTo>
                <a:lnTo>
                  <a:pt x="0" y="0"/>
                </a:lnTo>
                <a:lnTo>
                  <a:pt x="0" y="416"/>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36" name=""/>
          <p:cNvSpPr/>
          <p:nvPr/>
        </p:nvSpPr>
        <p:spPr>
          <a:xfrm flipV="1">
            <a:off x="6264360" y="277776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37" name=""/>
          <p:cNvSpPr/>
          <p:nvPr/>
        </p:nvSpPr>
        <p:spPr>
          <a:xfrm>
            <a:off x="6221520" y="278460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38" name=""/>
          <p:cNvSpPr/>
          <p:nvPr/>
        </p:nvSpPr>
        <p:spPr>
          <a:xfrm>
            <a:off x="6516720" y="2784600"/>
            <a:ext cx="250920" cy="733320"/>
          </a:xfrm>
          <a:custGeom>
            <a:avLst/>
            <a:gdLst/>
            <a:ahLst/>
            <a:rect l="l" t="t" r="r" b="b"/>
            <a:pathLst>
              <a:path w="177" h="521">
                <a:moveTo>
                  <a:pt x="176" y="520"/>
                </a:moveTo>
                <a:lnTo>
                  <a:pt x="176" y="0"/>
                </a:lnTo>
                <a:lnTo>
                  <a:pt x="0" y="0"/>
                </a:lnTo>
                <a:lnTo>
                  <a:pt x="0" y="520"/>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39" name=""/>
          <p:cNvSpPr/>
          <p:nvPr/>
        </p:nvSpPr>
        <p:spPr>
          <a:xfrm flipV="1">
            <a:off x="6640560" y="263016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0" name=""/>
          <p:cNvSpPr/>
          <p:nvPr/>
        </p:nvSpPr>
        <p:spPr>
          <a:xfrm>
            <a:off x="6599160" y="263700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1" name=""/>
          <p:cNvSpPr/>
          <p:nvPr/>
        </p:nvSpPr>
        <p:spPr>
          <a:xfrm>
            <a:off x="1805040" y="4121280"/>
            <a:ext cx="2252520" cy="1758960"/>
          </a:xfrm>
          <a:custGeom>
            <a:avLst/>
            <a:gdLst/>
            <a:ahLst/>
            <a:rect l="l" t="t" r="r" b="b"/>
            <a:pathLst>
              <a:path w="1599" h="1248">
                <a:moveTo>
                  <a:pt x="0" y="0"/>
                </a:moveTo>
                <a:lnTo>
                  <a:pt x="0" y="1247"/>
                </a:lnTo>
                <a:lnTo>
                  <a:pt x="1598" y="1247"/>
                </a:lnTo>
                <a:lnTo>
                  <a:pt x="1598"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42" name=""/>
          <p:cNvSpPr/>
          <p:nvPr/>
        </p:nvSpPr>
        <p:spPr>
          <a:xfrm>
            <a:off x="1809720" y="412128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3" name=""/>
          <p:cNvSpPr/>
          <p:nvPr/>
        </p:nvSpPr>
        <p:spPr>
          <a:xfrm rot="16200000">
            <a:off x="-137160" y="4830840"/>
            <a:ext cx="24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omotion / 5 min</a:t>
            </a:r>
            <a:endParaRPr b="0" lang="en-US" sz="2000" spc="-1" strike="noStrike">
              <a:solidFill>
                <a:srgbClr val="000000"/>
              </a:solidFill>
              <a:latin typeface="Comic Sans MS"/>
            </a:endParaRPr>
          </a:p>
        </p:txBody>
      </p:sp>
      <p:sp>
        <p:nvSpPr>
          <p:cNvPr id="3544" name=""/>
          <p:cNvSpPr/>
          <p:nvPr/>
        </p:nvSpPr>
        <p:spPr>
          <a:xfrm flipV="1">
            <a:off x="1805040" y="4115880"/>
            <a:ext cx="0" cy="177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5" name=""/>
          <p:cNvSpPr/>
          <p:nvPr/>
        </p:nvSpPr>
        <p:spPr>
          <a:xfrm>
            <a:off x="1714680" y="588636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6" name=""/>
          <p:cNvSpPr/>
          <p:nvPr/>
        </p:nvSpPr>
        <p:spPr>
          <a:xfrm>
            <a:off x="1714680" y="529740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7" name=""/>
          <p:cNvSpPr/>
          <p:nvPr/>
        </p:nvSpPr>
        <p:spPr>
          <a:xfrm>
            <a:off x="1714680" y="470844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8" name=""/>
          <p:cNvSpPr/>
          <p:nvPr/>
        </p:nvSpPr>
        <p:spPr>
          <a:xfrm>
            <a:off x="1714680" y="4121280"/>
            <a:ext cx="8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49" name=""/>
          <p:cNvSpPr/>
          <p:nvPr/>
        </p:nvSpPr>
        <p:spPr>
          <a:xfrm>
            <a:off x="1421640" y="573264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550" name=""/>
          <p:cNvSpPr/>
          <p:nvPr/>
        </p:nvSpPr>
        <p:spPr>
          <a:xfrm>
            <a:off x="1294200" y="514368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551" name=""/>
          <p:cNvSpPr/>
          <p:nvPr/>
        </p:nvSpPr>
        <p:spPr>
          <a:xfrm>
            <a:off x="1294200" y="455616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3552" name=""/>
          <p:cNvSpPr/>
          <p:nvPr/>
        </p:nvSpPr>
        <p:spPr>
          <a:xfrm>
            <a:off x="1294200" y="396720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3553" name=""/>
          <p:cNvSpPr/>
          <p:nvPr/>
        </p:nvSpPr>
        <p:spPr>
          <a:xfrm>
            <a:off x="2054160" y="4856040"/>
            <a:ext cx="250920" cy="1028880"/>
          </a:xfrm>
          <a:custGeom>
            <a:avLst/>
            <a:gdLst/>
            <a:ahLst/>
            <a:rect l="l" t="t" r="r" b="b"/>
            <a:pathLst>
              <a:path w="178" h="731">
                <a:moveTo>
                  <a:pt x="177" y="730"/>
                </a:moveTo>
                <a:lnTo>
                  <a:pt x="177" y="0"/>
                </a:lnTo>
                <a:lnTo>
                  <a:pt x="0" y="0"/>
                </a:lnTo>
                <a:lnTo>
                  <a:pt x="0" y="73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54" name=""/>
          <p:cNvSpPr/>
          <p:nvPr/>
        </p:nvSpPr>
        <p:spPr>
          <a:xfrm flipV="1">
            <a:off x="2181240" y="4673160"/>
            <a:ext cx="0" cy="18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55" name=""/>
          <p:cNvSpPr/>
          <p:nvPr/>
        </p:nvSpPr>
        <p:spPr>
          <a:xfrm>
            <a:off x="2138400" y="4680000"/>
            <a:ext cx="8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56" name=""/>
          <p:cNvSpPr/>
          <p:nvPr/>
        </p:nvSpPr>
        <p:spPr>
          <a:xfrm>
            <a:off x="2432160" y="4481640"/>
            <a:ext cx="241200" cy="1403280"/>
          </a:xfrm>
          <a:custGeom>
            <a:avLst/>
            <a:gdLst/>
            <a:ahLst/>
            <a:rect l="l" t="t" r="r" b="b"/>
            <a:pathLst>
              <a:path w="171" h="996">
                <a:moveTo>
                  <a:pt x="0" y="995"/>
                </a:moveTo>
                <a:lnTo>
                  <a:pt x="0" y="0"/>
                </a:lnTo>
                <a:lnTo>
                  <a:pt x="170" y="0"/>
                </a:lnTo>
                <a:lnTo>
                  <a:pt x="170" y="995"/>
                </a:lnTo>
                <a:lnTo>
                  <a:pt x="0" y="995"/>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57" name=""/>
          <p:cNvSpPr/>
          <p:nvPr/>
        </p:nvSpPr>
        <p:spPr>
          <a:xfrm flipV="1">
            <a:off x="2557440" y="4379760"/>
            <a:ext cx="0" cy="1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58" name=""/>
          <p:cNvSpPr/>
          <p:nvPr/>
        </p:nvSpPr>
        <p:spPr>
          <a:xfrm>
            <a:off x="2514600" y="4384800"/>
            <a:ext cx="8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59" name=""/>
          <p:cNvSpPr/>
          <p:nvPr/>
        </p:nvSpPr>
        <p:spPr>
          <a:xfrm>
            <a:off x="3186000" y="4503600"/>
            <a:ext cx="249480" cy="1381320"/>
          </a:xfrm>
          <a:custGeom>
            <a:avLst/>
            <a:gdLst/>
            <a:ahLst/>
            <a:rect l="l" t="t" r="r" b="b"/>
            <a:pathLst>
              <a:path w="177" h="981">
                <a:moveTo>
                  <a:pt x="176" y="980"/>
                </a:moveTo>
                <a:lnTo>
                  <a:pt x="176" y="0"/>
                </a:lnTo>
                <a:lnTo>
                  <a:pt x="0" y="0"/>
                </a:lnTo>
                <a:lnTo>
                  <a:pt x="0" y="98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60" name=""/>
          <p:cNvSpPr/>
          <p:nvPr/>
        </p:nvSpPr>
        <p:spPr>
          <a:xfrm flipV="1">
            <a:off x="3308400" y="434952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61" name=""/>
          <p:cNvSpPr/>
          <p:nvPr/>
        </p:nvSpPr>
        <p:spPr>
          <a:xfrm>
            <a:off x="3267000" y="435600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62" name=""/>
          <p:cNvSpPr/>
          <p:nvPr/>
        </p:nvSpPr>
        <p:spPr>
          <a:xfrm>
            <a:off x="3562200" y="4768920"/>
            <a:ext cx="249480" cy="1116000"/>
          </a:xfrm>
          <a:custGeom>
            <a:avLst/>
            <a:gdLst/>
            <a:ahLst/>
            <a:rect l="l" t="t" r="r" b="b"/>
            <a:pathLst>
              <a:path w="177" h="793">
                <a:moveTo>
                  <a:pt x="176" y="792"/>
                </a:moveTo>
                <a:lnTo>
                  <a:pt x="176" y="0"/>
                </a:lnTo>
                <a:lnTo>
                  <a:pt x="0" y="0"/>
                </a:lnTo>
                <a:lnTo>
                  <a:pt x="0" y="792"/>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63" name=""/>
          <p:cNvSpPr/>
          <p:nvPr/>
        </p:nvSpPr>
        <p:spPr>
          <a:xfrm flipV="1">
            <a:off x="3686040" y="4644720"/>
            <a:ext cx="0" cy="128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64" name=""/>
          <p:cNvSpPr/>
          <p:nvPr/>
        </p:nvSpPr>
        <p:spPr>
          <a:xfrm>
            <a:off x="3643200" y="464976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65" name=""/>
          <p:cNvSpPr/>
          <p:nvPr/>
        </p:nvSpPr>
        <p:spPr>
          <a:xfrm>
            <a:off x="4765680" y="588636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66" name=""/>
          <p:cNvSpPr/>
          <p:nvPr/>
        </p:nvSpPr>
        <p:spPr>
          <a:xfrm>
            <a:off x="4765680" y="412128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67" name=""/>
          <p:cNvSpPr/>
          <p:nvPr/>
        </p:nvSpPr>
        <p:spPr>
          <a:xfrm flipV="1">
            <a:off x="4757760" y="4115880"/>
            <a:ext cx="0" cy="177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68" name=""/>
          <p:cNvSpPr/>
          <p:nvPr/>
        </p:nvSpPr>
        <p:spPr>
          <a:xfrm flipH="1" rot="5400000">
            <a:off x="6934680" y="4618080"/>
            <a:ext cx="22143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ocomotion/24 h</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housnads)</a:t>
            </a:r>
            <a:endParaRPr b="0" lang="en-US" sz="2000" spc="-1" strike="noStrike">
              <a:solidFill>
                <a:srgbClr val="000000"/>
              </a:solidFill>
              <a:latin typeface="Comic Sans MS"/>
            </a:endParaRPr>
          </a:p>
        </p:txBody>
      </p:sp>
      <p:sp>
        <p:nvSpPr>
          <p:cNvPr id="3569" name=""/>
          <p:cNvSpPr/>
          <p:nvPr/>
        </p:nvSpPr>
        <p:spPr>
          <a:xfrm flipV="1">
            <a:off x="7018200" y="4115880"/>
            <a:ext cx="0" cy="177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70" name=""/>
          <p:cNvSpPr/>
          <p:nvPr/>
        </p:nvSpPr>
        <p:spPr>
          <a:xfrm flipH="1">
            <a:off x="7013520" y="588636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71" name=""/>
          <p:cNvSpPr/>
          <p:nvPr/>
        </p:nvSpPr>
        <p:spPr>
          <a:xfrm flipH="1">
            <a:off x="7013520" y="544500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72" name=""/>
          <p:cNvSpPr/>
          <p:nvPr/>
        </p:nvSpPr>
        <p:spPr>
          <a:xfrm flipH="1">
            <a:off x="7013520" y="500364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73" name=""/>
          <p:cNvSpPr/>
          <p:nvPr/>
        </p:nvSpPr>
        <p:spPr>
          <a:xfrm flipH="1">
            <a:off x="7013520" y="456264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74" name=""/>
          <p:cNvSpPr/>
          <p:nvPr/>
        </p:nvSpPr>
        <p:spPr>
          <a:xfrm flipH="1">
            <a:off x="7013520" y="412128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75" name=""/>
          <p:cNvSpPr/>
          <p:nvPr/>
        </p:nvSpPr>
        <p:spPr>
          <a:xfrm>
            <a:off x="7173360" y="573264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576" name=""/>
          <p:cNvSpPr/>
          <p:nvPr/>
        </p:nvSpPr>
        <p:spPr>
          <a:xfrm>
            <a:off x="7173360" y="529128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3577" name=""/>
          <p:cNvSpPr/>
          <p:nvPr/>
        </p:nvSpPr>
        <p:spPr>
          <a:xfrm>
            <a:off x="7107120" y="484992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578" name=""/>
          <p:cNvSpPr/>
          <p:nvPr/>
        </p:nvSpPr>
        <p:spPr>
          <a:xfrm>
            <a:off x="7107120" y="440856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3579" name=""/>
          <p:cNvSpPr/>
          <p:nvPr/>
        </p:nvSpPr>
        <p:spPr>
          <a:xfrm>
            <a:off x="7107840" y="396720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580" name=""/>
          <p:cNvSpPr/>
          <p:nvPr/>
        </p:nvSpPr>
        <p:spPr>
          <a:xfrm>
            <a:off x="5010120" y="4464000"/>
            <a:ext cx="250920" cy="1420920"/>
          </a:xfrm>
          <a:custGeom>
            <a:avLst/>
            <a:gdLst/>
            <a:ahLst/>
            <a:rect l="l" t="t" r="r" b="b"/>
            <a:pathLst>
              <a:path w="178" h="1009">
                <a:moveTo>
                  <a:pt x="177" y="1008"/>
                </a:moveTo>
                <a:lnTo>
                  <a:pt x="177" y="0"/>
                </a:lnTo>
                <a:lnTo>
                  <a:pt x="0" y="0"/>
                </a:lnTo>
                <a:lnTo>
                  <a:pt x="0" y="1008"/>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81" name=""/>
          <p:cNvSpPr/>
          <p:nvPr/>
        </p:nvSpPr>
        <p:spPr>
          <a:xfrm flipV="1">
            <a:off x="5137200" y="438624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582" name=""/>
          <p:cNvSpPr/>
          <p:nvPr/>
        </p:nvSpPr>
        <p:spPr>
          <a:xfrm>
            <a:off x="5092560" y="4392720"/>
            <a:ext cx="8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83" name=""/>
          <p:cNvSpPr/>
          <p:nvPr/>
        </p:nvSpPr>
        <p:spPr>
          <a:xfrm>
            <a:off x="5388120" y="4533840"/>
            <a:ext cx="247680" cy="1351080"/>
          </a:xfrm>
          <a:custGeom>
            <a:avLst/>
            <a:gdLst/>
            <a:ahLst/>
            <a:rect l="l" t="t" r="r" b="b"/>
            <a:pathLst>
              <a:path w="177" h="960">
                <a:moveTo>
                  <a:pt x="176" y="959"/>
                </a:moveTo>
                <a:lnTo>
                  <a:pt x="176" y="0"/>
                </a:lnTo>
                <a:lnTo>
                  <a:pt x="0" y="0"/>
                </a:lnTo>
                <a:lnTo>
                  <a:pt x="0" y="959"/>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84" name=""/>
          <p:cNvSpPr/>
          <p:nvPr/>
        </p:nvSpPr>
        <p:spPr>
          <a:xfrm flipV="1">
            <a:off x="5511960" y="4459320"/>
            <a:ext cx="0" cy="79200"/>
          </a:xfrm>
          <a:prstGeom prst="line">
            <a:avLst/>
          </a:prstGeom>
          <a:ln w="190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mic Sans MS"/>
            </a:endParaRPr>
          </a:p>
        </p:txBody>
      </p:sp>
      <p:sp>
        <p:nvSpPr>
          <p:cNvPr id="3585" name=""/>
          <p:cNvSpPr/>
          <p:nvPr/>
        </p:nvSpPr>
        <p:spPr>
          <a:xfrm>
            <a:off x="5468760" y="4465800"/>
            <a:ext cx="8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86" name=""/>
          <p:cNvSpPr/>
          <p:nvPr/>
        </p:nvSpPr>
        <p:spPr>
          <a:xfrm>
            <a:off x="6140520" y="4613400"/>
            <a:ext cx="241200" cy="1271520"/>
          </a:xfrm>
          <a:custGeom>
            <a:avLst/>
            <a:gdLst/>
            <a:ahLst/>
            <a:rect l="l" t="t" r="r" b="b"/>
            <a:pathLst>
              <a:path w="171" h="903">
                <a:moveTo>
                  <a:pt x="0" y="902"/>
                </a:moveTo>
                <a:lnTo>
                  <a:pt x="0" y="0"/>
                </a:lnTo>
                <a:lnTo>
                  <a:pt x="170" y="0"/>
                </a:lnTo>
                <a:lnTo>
                  <a:pt x="170" y="902"/>
                </a:lnTo>
                <a:lnTo>
                  <a:pt x="0" y="902"/>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87" name=""/>
          <p:cNvSpPr/>
          <p:nvPr/>
        </p:nvSpPr>
        <p:spPr>
          <a:xfrm flipV="1">
            <a:off x="6264360" y="4530240"/>
            <a:ext cx="0" cy="79560"/>
          </a:xfrm>
          <a:prstGeom prst="line">
            <a:avLst/>
          </a:prstGeom>
          <a:ln w="190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Comic Sans MS"/>
            </a:endParaRPr>
          </a:p>
        </p:txBody>
      </p:sp>
      <p:sp>
        <p:nvSpPr>
          <p:cNvPr id="3588" name=""/>
          <p:cNvSpPr/>
          <p:nvPr/>
        </p:nvSpPr>
        <p:spPr>
          <a:xfrm>
            <a:off x="6221520" y="453564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89" name=""/>
          <p:cNvSpPr/>
          <p:nvPr/>
        </p:nvSpPr>
        <p:spPr>
          <a:xfrm>
            <a:off x="6516720" y="4684680"/>
            <a:ext cx="250920" cy="1200240"/>
          </a:xfrm>
          <a:custGeom>
            <a:avLst/>
            <a:gdLst/>
            <a:ahLst/>
            <a:rect l="l" t="t" r="r" b="b"/>
            <a:pathLst>
              <a:path w="177" h="853">
                <a:moveTo>
                  <a:pt x="176" y="852"/>
                </a:moveTo>
                <a:lnTo>
                  <a:pt x="176" y="0"/>
                </a:lnTo>
                <a:lnTo>
                  <a:pt x="0" y="0"/>
                </a:lnTo>
                <a:lnTo>
                  <a:pt x="0" y="852"/>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90" name=""/>
          <p:cNvSpPr/>
          <p:nvPr/>
        </p:nvSpPr>
        <p:spPr>
          <a:xfrm flipV="1">
            <a:off x="6640560" y="4581360"/>
            <a:ext cx="0" cy="108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91" name=""/>
          <p:cNvSpPr/>
          <p:nvPr/>
        </p:nvSpPr>
        <p:spPr>
          <a:xfrm>
            <a:off x="6599160" y="458640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92" name=""/>
          <p:cNvSpPr/>
          <p:nvPr/>
        </p:nvSpPr>
        <p:spPr>
          <a:xfrm>
            <a:off x="4765680" y="5886360"/>
            <a:ext cx="2247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593" name=""/>
          <p:cNvSpPr/>
          <p:nvPr/>
        </p:nvSpPr>
        <p:spPr>
          <a:xfrm>
            <a:off x="1783800" y="600084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3594" name=""/>
          <p:cNvSpPr/>
          <p:nvPr/>
        </p:nvSpPr>
        <p:spPr>
          <a:xfrm>
            <a:off x="3062160" y="600084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sp>
        <p:nvSpPr>
          <p:cNvPr id="3595" name=""/>
          <p:cNvSpPr/>
          <p:nvPr/>
        </p:nvSpPr>
        <p:spPr>
          <a:xfrm>
            <a:off x="4789080" y="600084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3596" name=""/>
          <p:cNvSpPr/>
          <p:nvPr/>
        </p:nvSpPr>
        <p:spPr>
          <a:xfrm>
            <a:off x="6051960" y="600228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sp>
        <p:nvSpPr>
          <p:cNvPr id="3597" name=""/>
          <p:cNvSpPr/>
          <p:nvPr/>
        </p:nvSpPr>
        <p:spPr>
          <a:xfrm>
            <a:off x="3579120" y="3691080"/>
            <a:ext cx="1792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ctivity cages</a:t>
            </a:r>
            <a:endParaRPr b="0" lang="en-US" sz="2000" spc="-1" strike="noStrike">
              <a:solidFill>
                <a:srgbClr val="000000"/>
              </a:solidFill>
              <a:latin typeface="Comic Sans MS"/>
            </a:endParaRPr>
          </a:p>
        </p:txBody>
      </p:sp>
      <p:sp>
        <p:nvSpPr>
          <p:cNvPr id="3598" name=""/>
          <p:cNvSpPr/>
          <p:nvPr/>
        </p:nvSpPr>
        <p:spPr>
          <a:xfrm>
            <a:off x="2246400" y="1195560"/>
            <a:ext cx="142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field</a:t>
            </a:r>
            <a:endParaRPr b="0" lang="en-US" sz="2000" spc="-1" strike="noStrike">
              <a:solidFill>
                <a:srgbClr val="000000"/>
              </a:solidFill>
              <a:latin typeface="Comic Sans MS"/>
            </a:endParaRPr>
          </a:p>
        </p:txBody>
      </p:sp>
      <p:sp>
        <p:nvSpPr>
          <p:cNvPr id="3599" name=""/>
          <p:cNvSpPr/>
          <p:nvPr/>
        </p:nvSpPr>
        <p:spPr>
          <a:xfrm>
            <a:off x="4639320" y="1179360"/>
            <a:ext cx="2472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evated plus maze</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E07839F4-64F3-4307-B1CE-6126C9D96C25}" type="datetime1">
              <a:rPr lang="en-US"/>
              <a:t>07/30/26</a:t>
            </a:fld>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0" name=""/>
          <p:cNvSpPr/>
          <p:nvPr/>
        </p:nvSpPr>
        <p:spPr>
          <a:xfrm>
            <a:off x="830160" y="399960"/>
            <a:ext cx="4857840" cy="64764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Emotional reactivity</a:t>
            </a:r>
            <a:endParaRPr b="0" lang="en-US" sz="3200" spc="-1" strike="noStrike">
              <a:solidFill>
                <a:srgbClr val="000000"/>
              </a:solidFill>
              <a:latin typeface="Comic Sans MS"/>
            </a:endParaRPr>
          </a:p>
        </p:txBody>
      </p:sp>
      <p:sp>
        <p:nvSpPr>
          <p:cNvPr id="3601" name=""/>
          <p:cNvSpPr/>
          <p:nvPr/>
        </p:nvSpPr>
        <p:spPr>
          <a:xfrm>
            <a:off x="1816200" y="3460680"/>
            <a:ext cx="243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02" name=""/>
          <p:cNvSpPr/>
          <p:nvPr/>
        </p:nvSpPr>
        <p:spPr>
          <a:xfrm>
            <a:off x="1816200" y="1673280"/>
            <a:ext cx="243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03" name=""/>
          <p:cNvSpPr/>
          <p:nvPr/>
        </p:nvSpPr>
        <p:spPr>
          <a:xfrm rot="16200000">
            <a:off x="-162360" y="2183040"/>
            <a:ext cx="2430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nner locomotion</a:t>
            </a:r>
            <a:endParaRPr b="0" lang="en-US" sz="2000" spc="-1" strike="noStrike">
              <a:solidFill>
                <a:srgbClr val="000000"/>
              </a:solidFill>
              <a:latin typeface="Comic Sans MS"/>
            </a:endParaRPr>
          </a:p>
        </p:txBody>
      </p:sp>
      <p:sp>
        <p:nvSpPr>
          <p:cNvPr id="3604" name=""/>
          <p:cNvSpPr/>
          <p:nvPr/>
        </p:nvSpPr>
        <p:spPr>
          <a:xfrm flipV="1">
            <a:off x="180972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05" name=""/>
          <p:cNvSpPr/>
          <p:nvPr/>
        </p:nvSpPr>
        <p:spPr>
          <a:xfrm>
            <a:off x="1712880" y="346068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06" name=""/>
          <p:cNvSpPr/>
          <p:nvPr/>
        </p:nvSpPr>
        <p:spPr>
          <a:xfrm>
            <a:off x="1712880" y="301464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07" name=""/>
          <p:cNvSpPr/>
          <p:nvPr/>
        </p:nvSpPr>
        <p:spPr>
          <a:xfrm>
            <a:off x="1712880" y="256716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08" name=""/>
          <p:cNvSpPr/>
          <p:nvPr/>
        </p:nvSpPr>
        <p:spPr>
          <a:xfrm>
            <a:off x="1712880" y="212076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09" name=""/>
          <p:cNvSpPr/>
          <p:nvPr/>
        </p:nvSpPr>
        <p:spPr>
          <a:xfrm>
            <a:off x="1712880" y="167328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10" name=""/>
          <p:cNvSpPr/>
          <p:nvPr/>
        </p:nvSpPr>
        <p:spPr>
          <a:xfrm>
            <a:off x="1393920" y="3295800"/>
            <a:ext cx="2505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611" name=""/>
          <p:cNvSpPr/>
          <p:nvPr/>
        </p:nvSpPr>
        <p:spPr>
          <a:xfrm>
            <a:off x="1378080" y="2801880"/>
            <a:ext cx="249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3612" name=""/>
          <p:cNvSpPr/>
          <p:nvPr/>
        </p:nvSpPr>
        <p:spPr>
          <a:xfrm>
            <a:off x="1316160" y="2416320"/>
            <a:ext cx="507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613" name=""/>
          <p:cNvSpPr/>
          <p:nvPr/>
        </p:nvSpPr>
        <p:spPr>
          <a:xfrm>
            <a:off x="1306440" y="1968480"/>
            <a:ext cx="5954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3614" name=""/>
          <p:cNvSpPr/>
          <p:nvPr/>
        </p:nvSpPr>
        <p:spPr>
          <a:xfrm>
            <a:off x="1303200" y="1523880"/>
            <a:ext cx="4669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615" name=""/>
          <p:cNvSpPr/>
          <p:nvPr/>
        </p:nvSpPr>
        <p:spPr>
          <a:xfrm flipV="1">
            <a:off x="423216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16" name=""/>
          <p:cNvSpPr/>
          <p:nvPr/>
        </p:nvSpPr>
        <p:spPr>
          <a:xfrm>
            <a:off x="2079720" y="3014640"/>
            <a:ext cx="263520" cy="436680"/>
          </a:xfrm>
          <a:custGeom>
            <a:avLst/>
            <a:gdLst/>
            <a:ahLst/>
            <a:rect l="l" t="t" r="r" b="b"/>
            <a:pathLst>
              <a:path w="183" h="305">
                <a:moveTo>
                  <a:pt x="0" y="304"/>
                </a:moveTo>
                <a:lnTo>
                  <a:pt x="0" y="0"/>
                </a:lnTo>
                <a:lnTo>
                  <a:pt x="182" y="0"/>
                </a:lnTo>
                <a:lnTo>
                  <a:pt x="182" y="304"/>
                </a:lnTo>
                <a:lnTo>
                  <a:pt x="0" y="304"/>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17" name=""/>
          <p:cNvSpPr/>
          <p:nvPr/>
        </p:nvSpPr>
        <p:spPr>
          <a:xfrm flipV="1">
            <a:off x="2212920" y="291780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18" name=""/>
          <p:cNvSpPr/>
          <p:nvPr/>
        </p:nvSpPr>
        <p:spPr>
          <a:xfrm>
            <a:off x="2165400" y="292428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19" name=""/>
          <p:cNvSpPr/>
          <p:nvPr/>
        </p:nvSpPr>
        <p:spPr>
          <a:xfrm>
            <a:off x="2482920" y="2120760"/>
            <a:ext cx="263520" cy="1330560"/>
          </a:xfrm>
          <a:custGeom>
            <a:avLst/>
            <a:gdLst/>
            <a:ahLst/>
            <a:rect l="l" t="t" r="r" b="b"/>
            <a:pathLst>
              <a:path w="183" h="928">
                <a:moveTo>
                  <a:pt x="0" y="927"/>
                </a:moveTo>
                <a:lnTo>
                  <a:pt x="0" y="0"/>
                </a:lnTo>
                <a:lnTo>
                  <a:pt x="182" y="0"/>
                </a:lnTo>
                <a:lnTo>
                  <a:pt x="182" y="927"/>
                </a:lnTo>
                <a:lnTo>
                  <a:pt x="0" y="92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20" name=""/>
          <p:cNvSpPr/>
          <p:nvPr/>
        </p:nvSpPr>
        <p:spPr>
          <a:xfrm flipV="1">
            <a:off x="2614680" y="1936440"/>
            <a:ext cx="0" cy="19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21" name=""/>
          <p:cNvSpPr/>
          <p:nvPr/>
        </p:nvSpPr>
        <p:spPr>
          <a:xfrm>
            <a:off x="2571840" y="1941480"/>
            <a:ext cx="9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22" name=""/>
          <p:cNvSpPr/>
          <p:nvPr/>
        </p:nvSpPr>
        <p:spPr>
          <a:xfrm>
            <a:off x="3290760" y="3281400"/>
            <a:ext cx="262080" cy="169920"/>
          </a:xfrm>
          <a:custGeom>
            <a:avLst/>
            <a:gdLst/>
            <a:ahLst/>
            <a:rect l="l" t="t" r="r" b="b"/>
            <a:pathLst>
              <a:path w="183" h="118">
                <a:moveTo>
                  <a:pt x="0" y="117"/>
                </a:moveTo>
                <a:lnTo>
                  <a:pt x="0" y="0"/>
                </a:lnTo>
                <a:lnTo>
                  <a:pt x="182" y="0"/>
                </a:lnTo>
                <a:lnTo>
                  <a:pt x="182" y="117"/>
                </a:lnTo>
                <a:lnTo>
                  <a:pt x="0" y="117"/>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23" name=""/>
          <p:cNvSpPr/>
          <p:nvPr/>
        </p:nvSpPr>
        <p:spPr>
          <a:xfrm flipV="1">
            <a:off x="3422520" y="3259080"/>
            <a:ext cx="0" cy="28800"/>
          </a:xfrm>
          <a:prstGeom prst="line">
            <a:avLst/>
          </a:prstGeom>
          <a:ln w="190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3624" name=""/>
          <p:cNvSpPr/>
          <p:nvPr/>
        </p:nvSpPr>
        <p:spPr>
          <a:xfrm>
            <a:off x="3378240" y="326556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25" name=""/>
          <p:cNvSpPr/>
          <p:nvPr/>
        </p:nvSpPr>
        <p:spPr>
          <a:xfrm>
            <a:off x="3695760" y="2924280"/>
            <a:ext cx="260280" cy="527040"/>
          </a:xfrm>
          <a:custGeom>
            <a:avLst/>
            <a:gdLst/>
            <a:ahLst/>
            <a:rect l="l" t="t" r="r" b="b"/>
            <a:pathLst>
              <a:path w="183" h="368">
                <a:moveTo>
                  <a:pt x="0" y="367"/>
                </a:moveTo>
                <a:lnTo>
                  <a:pt x="0" y="0"/>
                </a:lnTo>
                <a:lnTo>
                  <a:pt x="182" y="0"/>
                </a:lnTo>
                <a:lnTo>
                  <a:pt x="182" y="367"/>
                </a:lnTo>
                <a:lnTo>
                  <a:pt x="0" y="36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26" name=""/>
          <p:cNvSpPr/>
          <p:nvPr/>
        </p:nvSpPr>
        <p:spPr>
          <a:xfrm flipV="1">
            <a:off x="3828960" y="2828880"/>
            <a:ext cx="0" cy="1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27" name=""/>
          <p:cNvSpPr/>
          <p:nvPr/>
        </p:nvSpPr>
        <p:spPr>
          <a:xfrm>
            <a:off x="3781440" y="283536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28" name=""/>
          <p:cNvSpPr/>
          <p:nvPr/>
        </p:nvSpPr>
        <p:spPr>
          <a:xfrm>
            <a:off x="1816200" y="3460680"/>
            <a:ext cx="243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29" name=""/>
          <p:cNvSpPr/>
          <p:nvPr/>
        </p:nvSpPr>
        <p:spPr>
          <a:xfrm>
            <a:off x="1816200" y="5977080"/>
            <a:ext cx="243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0" name=""/>
          <p:cNvSpPr/>
          <p:nvPr/>
        </p:nvSpPr>
        <p:spPr>
          <a:xfrm>
            <a:off x="1816200" y="4189320"/>
            <a:ext cx="243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1" name=""/>
          <p:cNvSpPr/>
          <p:nvPr/>
        </p:nvSpPr>
        <p:spPr>
          <a:xfrm rot="16200000">
            <a:off x="-370440" y="4591800"/>
            <a:ext cx="2849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ime open arms (s)</a:t>
            </a:r>
            <a:endParaRPr b="0" lang="en-US" sz="2000" spc="-1" strike="noStrike">
              <a:solidFill>
                <a:srgbClr val="000000"/>
              </a:solidFill>
              <a:latin typeface="Comic Sans MS"/>
            </a:endParaRPr>
          </a:p>
        </p:txBody>
      </p:sp>
      <p:sp>
        <p:nvSpPr>
          <p:cNvPr id="3632" name=""/>
          <p:cNvSpPr/>
          <p:nvPr/>
        </p:nvSpPr>
        <p:spPr>
          <a:xfrm flipV="1">
            <a:off x="1809720" y="41832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3" name=""/>
          <p:cNvSpPr/>
          <p:nvPr/>
        </p:nvSpPr>
        <p:spPr>
          <a:xfrm>
            <a:off x="1712880" y="597708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4" name=""/>
          <p:cNvSpPr/>
          <p:nvPr/>
        </p:nvSpPr>
        <p:spPr>
          <a:xfrm>
            <a:off x="1712880" y="552924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5" name=""/>
          <p:cNvSpPr/>
          <p:nvPr/>
        </p:nvSpPr>
        <p:spPr>
          <a:xfrm>
            <a:off x="1712880" y="508320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6" name=""/>
          <p:cNvSpPr/>
          <p:nvPr/>
        </p:nvSpPr>
        <p:spPr>
          <a:xfrm>
            <a:off x="1712880" y="463716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7" name=""/>
          <p:cNvSpPr/>
          <p:nvPr/>
        </p:nvSpPr>
        <p:spPr>
          <a:xfrm>
            <a:off x="1712880" y="418932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38" name=""/>
          <p:cNvSpPr/>
          <p:nvPr/>
        </p:nvSpPr>
        <p:spPr>
          <a:xfrm>
            <a:off x="1393920" y="5815080"/>
            <a:ext cx="2505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639" name=""/>
          <p:cNvSpPr/>
          <p:nvPr/>
        </p:nvSpPr>
        <p:spPr>
          <a:xfrm>
            <a:off x="1316160" y="5365800"/>
            <a:ext cx="507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640" name=""/>
          <p:cNvSpPr/>
          <p:nvPr/>
        </p:nvSpPr>
        <p:spPr>
          <a:xfrm>
            <a:off x="1285920" y="4919760"/>
            <a:ext cx="5000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641" name=""/>
          <p:cNvSpPr/>
          <p:nvPr/>
        </p:nvSpPr>
        <p:spPr>
          <a:xfrm>
            <a:off x="1290600" y="4454640"/>
            <a:ext cx="4572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3642" name=""/>
          <p:cNvSpPr/>
          <p:nvPr/>
        </p:nvSpPr>
        <p:spPr>
          <a:xfrm>
            <a:off x="1300320" y="4006800"/>
            <a:ext cx="5428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3643" name=""/>
          <p:cNvSpPr/>
          <p:nvPr/>
        </p:nvSpPr>
        <p:spPr>
          <a:xfrm flipV="1">
            <a:off x="4232160" y="41832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44" name=""/>
          <p:cNvSpPr/>
          <p:nvPr/>
        </p:nvSpPr>
        <p:spPr>
          <a:xfrm>
            <a:off x="2079720" y="5349960"/>
            <a:ext cx="263520" cy="617400"/>
          </a:xfrm>
          <a:custGeom>
            <a:avLst/>
            <a:gdLst/>
            <a:ahLst/>
            <a:rect l="l" t="t" r="r" b="b"/>
            <a:pathLst>
              <a:path w="183" h="431">
                <a:moveTo>
                  <a:pt x="0" y="430"/>
                </a:moveTo>
                <a:lnTo>
                  <a:pt x="0" y="0"/>
                </a:lnTo>
                <a:lnTo>
                  <a:pt x="182" y="0"/>
                </a:lnTo>
                <a:lnTo>
                  <a:pt x="182" y="430"/>
                </a:lnTo>
                <a:lnTo>
                  <a:pt x="0" y="43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45" name=""/>
          <p:cNvSpPr/>
          <p:nvPr/>
        </p:nvSpPr>
        <p:spPr>
          <a:xfrm flipV="1">
            <a:off x="2212920" y="5167440"/>
            <a:ext cx="0" cy="18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46" name=""/>
          <p:cNvSpPr/>
          <p:nvPr/>
        </p:nvSpPr>
        <p:spPr>
          <a:xfrm>
            <a:off x="2165400" y="517212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47" name=""/>
          <p:cNvSpPr/>
          <p:nvPr/>
        </p:nvSpPr>
        <p:spPr>
          <a:xfrm>
            <a:off x="2482920" y="4637160"/>
            <a:ext cx="263520" cy="1330200"/>
          </a:xfrm>
          <a:custGeom>
            <a:avLst/>
            <a:gdLst/>
            <a:ahLst/>
            <a:rect l="l" t="t" r="r" b="b"/>
            <a:pathLst>
              <a:path w="183" h="929">
                <a:moveTo>
                  <a:pt x="0" y="928"/>
                </a:moveTo>
                <a:lnTo>
                  <a:pt x="0" y="0"/>
                </a:lnTo>
                <a:lnTo>
                  <a:pt x="182" y="0"/>
                </a:lnTo>
                <a:lnTo>
                  <a:pt x="182" y="928"/>
                </a:lnTo>
                <a:lnTo>
                  <a:pt x="0" y="928"/>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48" name=""/>
          <p:cNvSpPr/>
          <p:nvPr/>
        </p:nvSpPr>
        <p:spPr>
          <a:xfrm flipV="1">
            <a:off x="2614680" y="4273200"/>
            <a:ext cx="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49" name=""/>
          <p:cNvSpPr/>
          <p:nvPr/>
        </p:nvSpPr>
        <p:spPr>
          <a:xfrm>
            <a:off x="2571840" y="4280040"/>
            <a:ext cx="9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50" name=""/>
          <p:cNvSpPr/>
          <p:nvPr/>
        </p:nvSpPr>
        <p:spPr>
          <a:xfrm>
            <a:off x="3290760" y="5886360"/>
            <a:ext cx="262080" cy="81000"/>
          </a:xfrm>
          <a:custGeom>
            <a:avLst/>
            <a:gdLst/>
            <a:ahLst/>
            <a:rect l="l" t="t" r="r" b="b"/>
            <a:pathLst>
              <a:path w="183" h="57">
                <a:moveTo>
                  <a:pt x="0" y="56"/>
                </a:moveTo>
                <a:lnTo>
                  <a:pt x="0" y="0"/>
                </a:lnTo>
                <a:lnTo>
                  <a:pt x="182" y="0"/>
                </a:lnTo>
                <a:lnTo>
                  <a:pt x="182" y="56"/>
                </a:lnTo>
                <a:lnTo>
                  <a:pt x="0" y="56"/>
                </a:lnTo>
              </a:path>
            </a:pathLst>
          </a:custGeom>
          <a:solidFill>
            <a:srgbClr val="00ff00"/>
          </a:solidFill>
          <a:ln cap="rnd"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Comic Sans MS"/>
            </a:endParaRPr>
          </a:p>
        </p:txBody>
      </p:sp>
      <p:sp>
        <p:nvSpPr>
          <p:cNvPr id="3651" name=""/>
          <p:cNvSpPr/>
          <p:nvPr/>
        </p:nvSpPr>
        <p:spPr>
          <a:xfrm flipV="1">
            <a:off x="3422520" y="5835240"/>
            <a:ext cx="0" cy="57240"/>
          </a:xfrm>
          <a:prstGeom prst="line">
            <a:avLst/>
          </a:prstGeom>
          <a:ln w="190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3652" name=""/>
          <p:cNvSpPr/>
          <p:nvPr/>
        </p:nvSpPr>
        <p:spPr>
          <a:xfrm>
            <a:off x="3378240" y="584208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53" name=""/>
          <p:cNvSpPr/>
          <p:nvPr/>
        </p:nvSpPr>
        <p:spPr>
          <a:xfrm>
            <a:off x="3695760" y="5349960"/>
            <a:ext cx="260280" cy="617400"/>
          </a:xfrm>
          <a:custGeom>
            <a:avLst/>
            <a:gdLst/>
            <a:ahLst/>
            <a:rect l="l" t="t" r="r" b="b"/>
            <a:pathLst>
              <a:path w="183" h="431">
                <a:moveTo>
                  <a:pt x="0" y="430"/>
                </a:moveTo>
                <a:lnTo>
                  <a:pt x="0" y="0"/>
                </a:lnTo>
                <a:lnTo>
                  <a:pt x="182" y="0"/>
                </a:lnTo>
                <a:lnTo>
                  <a:pt x="182" y="430"/>
                </a:lnTo>
                <a:lnTo>
                  <a:pt x="0" y="430"/>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54" name=""/>
          <p:cNvSpPr/>
          <p:nvPr/>
        </p:nvSpPr>
        <p:spPr>
          <a:xfrm flipV="1">
            <a:off x="3828960" y="5167440"/>
            <a:ext cx="0" cy="18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55" name=""/>
          <p:cNvSpPr/>
          <p:nvPr/>
        </p:nvSpPr>
        <p:spPr>
          <a:xfrm>
            <a:off x="3781440" y="517212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56" name=""/>
          <p:cNvSpPr/>
          <p:nvPr/>
        </p:nvSpPr>
        <p:spPr>
          <a:xfrm>
            <a:off x="1816200" y="5977080"/>
            <a:ext cx="243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57" name=""/>
          <p:cNvSpPr/>
          <p:nvPr/>
        </p:nvSpPr>
        <p:spPr>
          <a:xfrm>
            <a:off x="2081160" y="2604960"/>
            <a:ext cx="222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658" name=""/>
          <p:cNvSpPr/>
          <p:nvPr/>
        </p:nvSpPr>
        <p:spPr>
          <a:xfrm>
            <a:off x="3319560" y="2900520"/>
            <a:ext cx="222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659" name=""/>
          <p:cNvSpPr/>
          <p:nvPr/>
        </p:nvSpPr>
        <p:spPr>
          <a:xfrm>
            <a:off x="4724280" y="5959440"/>
            <a:ext cx="243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0" name=""/>
          <p:cNvSpPr/>
          <p:nvPr/>
        </p:nvSpPr>
        <p:spPr>
          <a:xfrm>
            <a:off x="4724280" y="4172040"/>
            <a:ext cx="243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1" name=""/>
          <p:cNvSpPr/>
          <p:nvPr/>
        </p:nvSpPr>
        <p:spPr>
          <a:xfrm flipV="1">
            <a:off x="4719600" y="4165200"/>
            <a:ext cx="0" cy="180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2" name=""/>
          <p:cNvSpPr/>
          <p:nvPr/>
        </p:nvSpPr>
        <p:spPr>
          <a:xfrm flipH="1" rot="5400000">
            <a:off x="6770880" y="4580280"/>
            <a:ext cx="2379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entries</a:t>
            </a:r>
            <a:br>
              <a:rPr sz="2000"/>
            </a:br>
            <a:r>
              <a:rPr b="0" lang="fr-FR" sz="2000" spc="-1" strike="noStrike">
                <a:solidFill>
                  <a:srgbClr val="000000"/>
                </a:solidFill>
                <a:latin typeface="Comic Sans MS"/>
              </a:rPr>
              <a:t>open arms</a:t>
            </a:r>
            <a:endParaRPr b="0" lang="en-US" sz="2000" spc="-1" strike="noStrike">
              <a:solidFill>
                <a:srgbClr val="000000"/>
              </a:solidFill>
              <a:latin typeface="Comic Sans MS"/>
            </a:endParaRPr>
          </a:p>
        </p:txBody>
      </p:sp>
      <p:sp>
        <p:nvSpPr>
          <p:cNvPr id="3663" name=""/>
          <p:cNvSpPr/>
          <p:nvPr/>
        </p:nvSpPr>
        <p:spPr>
          <a:xfrm flipV="1">
            <a:off x="7142040" y="4165200"/>
            <a:ext cx="0" cy="180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4" name=""/>
          <p:cNvSpPr/>
          <p:nvPr/>
        </p:nvSpPr>
        <p:spPr>
          <a:xfrm flipH="1">
            <a:off x="7137360" y="595944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5" name=""/>
          <p:cNvSpPr/>
          <p:nvPr/>
        </p:nvSpPr>
        <p:spPr>
          <a:xfrm flipH="1">
            <a:off x="7137360" y="536256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6" name=""/>
          <p:cNvSpPr/>
          <p:nvPr/>
        </p:nvSpPr>
        <p:spPr>
          <a:xfrm flipH="1">
            <a:off x="7137360" y="476892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7" name=""/>
          <p:cNvSpPr/>
          <p:nvPr/>
        </p:nvSpPr>
        <p:spPr>
          <a:xfrm flipH="1">
            <a:off x="7137360" y="417204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8" name=""/>
          <p:cNvSpPr/>
          <p:nvPr/>
        </p:nvSpPr>
        <p:spPr>
          <a:xfrm>
            <a:off x="7364520" y="5764320"/>
            <a:ext cx="2048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669" name=""/>
          <p:cNvSpPr/>
          <p:nvPr/>
        </p:nvSpPr>
        <p:spPr>
          <a:xfrm>
            <a:off x="7245360" y="5178600"/>
            <a:ext cx="4460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670" name=""/>
          <p:cNvSpPr/>
          <p:nvPr/>
        </p:nvSpPr>
        <p:spPr>
          <a:xfrm>
            <a:off x="7245360" y="4591080"/>
            <a:ext cx="42552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671" name=""/>
          <p:cNvSpPr/>
          <p:nvPr/>
        </p:nvSpPr>
        <p:spPr>
          <a:xfrm>
            <a:off x="7194600" y="3979800"/>
            <a:ext cx="5335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3672" name=""/>
          <p:cNvSpPr/>
          <p:nvPr/>
        </p:nvSpPr>
        <p:spPr>
          <a:xfrm>
            <a:off x="4987800" y="4946760"/>
            <a:ext cx="263520" cy="1003320"/>
          </a:xfrm>
          <a:custGeom>
            <a:avLst/>
            <a:gdLst/>
            <a:ahLst/>
            <a:rect l="l" t="t" r="r" b="b"/>
            <a:pathLst>
              <a:path w="184" h="700">
                <a:moveTo>
                  <a:pt x="0" y="699"/>
                </a:moveTo>
                <a:lnTo>
                  <a:pt x="0" y="0"/>
                </a:lnTo>
                <a:lnTo>
                  <a:pt x="183" y="0"/>
                </a:lnTo>
                <a:lnTo>
                  <a:pt x="183" y="699"/>
                </a:lnTo>
                <a:lnTo>
                  <a:pt x="0" y="699"/>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73" name=""/>
          <p:cNvSpPr/>
          <p:nvPr/>
        </p:nvSpPr>
        <p:spPr>
          <a:xfrm flipV="1">
            <a:off x="5122800" y="4702320"/>
            <a:ext cx="0" cy="249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74" name=""/>
          <p:cNvSpPr/>
          <p:nvPr/>
        </p:nvSpPr>
        <p:spPr>
          <a:xfrm>
            <a:off x="5076720" y="470844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75" name=""/>
          <p:cNvSpPr/>
          <p:nvPr/>
        </p:nvSpPr>
        <p:spPr>
          <a:xfrm>
            <a:off x="5392800" y="4470480"/>
            <a:ext cx="263520" cy="1479600"/>
          </a:xfrm>
          <a:custGeom>
            <a:avLst/>
            <a:gdLst/>
            <a:ahLst/>
            <a:rect l="l" t="t" r="r" b="b"/>
            <a:pathLst>
              <a:path w="183" h="1032">
                <a:moveTo>
                  <a:pt x="0" y="1031"/>
                </a:moveTo>
                <a:lnTo>
                  <a:pt x="0" y="0"/>
                </a:lnTo>
                <a:lnTo>
                  <a:pt x="182" y="0"/>
                </a:lnTo>
                <a:lnTo>
                  <a:pt x="182" y="1031"/>
                </a:lnTo>
                <a:lnTo>
                  <a:pt x="0" y="1031"/>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76" name=""/>
          <p:cNvSpPr/>
          <p:nvPr/>
        </p:nvSpPr>
        <p:spPr>
          <a:xfrm flipV="1">
            <a:off x="5526000" y="4223880"/>
            <a:ext cx="0" cy="250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77" name=""/>
          <p:cNvSpPr/>
          <p:nvPr/>
        </p:nvSpPr>
        <p:spPr>
          <a:xfrm>
            <a:off x="5479920" y="4230720"/>
            <a:ext cx="93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78" name=""/>
          <p:cNvSpPr/>
          <p:nvPr/>
        </p:nvSpPr>
        <p:spPr>
          <a:xfrm>
            <a:off x="6202440" y="5661000"/>
            <a:ext cx="260280" cy="289080"/>
          </a:xfrm>
          <a:custGeom>
            <a:avLst/>
            <a:gdLst/>
            <a:ahLst/>
            <a:rect l="l" t="t" r="r" b="b"/>
            <a:pathLst>
              <a:path w="182" h="201">
                <a:moveTo>
                  <a:pt x="0" y="200"/>
                </a:moveTo>
                <a:lnTo>
                  <a:pt x="0" y="0"/>
                </a:lnTo>
                <a:lnTo>
                  <a:pt x="181" y="0"/>
                </a:lnTo>
                <a:lnTo>
                  <a:pt x="181" y="200"/>
                </a:lnTo>
                <a:lnTo>
                  <a:pt x="0" y="20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79" name=""/>
          <p:cNvSpPr/>
          <p:nvPr/>
        </p:nvSpPr>
        <p:spPr>
          <a:xfrm flipV="1">
            <a:off x="6334200" y="5537160"/>
            <a:ext cx="0" cy="13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0" name=""/>
          <p:cNvSpPr/>
          <p:nvPr/>
        </p:nvSpPr>
        <p:spPr>
          <a:xfrm>
            <a:off x="6288120" y="554184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1" name=""/>
          <p:cNvSpPr/>
          <p:nvPr/>
        </p:nvSpPr>
        <p:spPr>
          <a:xfrm>
            <a:off x="6603840" y="4587840"/>
            <a:ext cx="262080" cy="1362240"/>
          </a:xfrm>
          <a:custGeom>
            <a:avLst/>
            <a:gdLst/>
            <a:ahLst/>
            <a:rect l="l" t="t" r="r" b="b"/>
            <a:pathLst>
              <a:path w="183" h="950">
                <a:moveTo>
                  <a:pt x="0" y="949"/>
                </a:moveTo>
                <a:lnTo>
                  <a:pt x="0" y="0"/>
                </a:lnTo>
                <a:lnTo>
                  <a:pt x="182" y="0"/>
                </a:lnTo>
                <a:lnTo>
                  <a:pt x="182" y="949"/>
                </a:lnTo>
                <a:lnTo>
                  <a:pt x="0" y="949"/>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82" name=""/>
          <p:cNvSpPr/>
          <p:nvPr/>
        </p:nvSpPr>
        <p:spPr>
          <a:xfrm flipV="1">
            <a:off x="6737400" y="4284360"/>
            <a:ext cx="0" cy="30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3" name=""/>
          <p:cNvSpPr/>
          <p:nvPr/>
        </p:nvSpPr>
        <p:spPr>
          <a:xfrm>
            <a:off x="6692760" y="4290840"/>
            <a:ext cx="93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4" name=""/>
          <p:cNvSpPr/>
          <p:nvPr/>
        </p:nvSpPr>
        <p:spPr>
          <a:xfrm>
            <a:off x="4724280" y="5959440"/>
            <a:ext cx="243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5" name=""/>
          <p:cNvSpPr/>
          <p:nvPr/>
        </p:nvSpPr>
        <p:spPr>
          <a:xfrm>
            <a:off x="6210360" y="5140440"/>
            <a:ext cx="2221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686" name=""/>
          <p:cNvSpPr/>
          <p:nvPr/>
        </p:nvSpPr>
        <p:spPr>
          <a:xfrm>
            <a:off x="3289320" y="5477040"/>
            <a:ext cx="2239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687" name=""/>
          <p:cNvSpPr/>
          <p:nvPr/>
        </p:nvSpPr>
        <p:spPr>
          <a:xfrm>
            <a:off x="4708440" y="3460680"/>
            <a:ext cx="243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8" name=""/>
          <p:cNvSpPr/>
          <p:nvPr/>
        </p:nvSpPr>
        <p:spPr>
          <a:xfrm>
            <a:off x="4708440" y="1673280"/>
            <a:ext cx="243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89" name=""/>
          <p:cNvSpPr/>
          <p:nvPr/>
        </p:nvSpPr>
        <p:spPr>
          <a:xfrm flipV="1">
            <a:off x="470520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0" name=""/>
          <p:cNvSpPr/>
          <p:nvPr/>
        </p:nvSpPr>
        <p:spPr>
          <a:xfrm flipH="1" rot="5400000">
            <a:off x="6760800" y="2347200"/>
            <a:ext cx="23749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ime in white (s)</a:t>
            </a:r>
            <a:endParaRPr b="0" lang="en-US" sz="2000" spc="-1" strike="noStrike">
              <a:solidFill>
                <a:srgbClr val="000000"/>
              </a:solidFill>
              <a:latin typeface="Comic Sans MS"/>
            </a:endParaRPr>
          </a:p>
        </p:txBody>
      </p:sp>
      <p:sp>
        <p:nvSpPr>
          <p:cNvPr id="3691" name=""/>
          <p:cNvSpPr/>
          <p:nvPr/>
        </p:nvSpPr>
        <p:spPr>
          <a:xfrm flipV="1">
            <a:off x="712620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2" name=""/>
          <p:cNvSpPr/>
          <p:nvPr/>
        </p:nvSpPr>
        <p:spPr>
          <a:xfrm flipH="1">
            <a:off x="7120080" y="346068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3" name=""/>
          <p:cNvSpPr/>
          <p:nvPr/>
        </p:nvSpPr>
        <p:spPr>
          <a:xfrm flipH="1">
            <a:off x="7120080" y="301464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4" name=""/>
          <p:cNvSpPr/>
          <p:nvPr/>
        </p:nvSpPr>
        <p:spPr>
          <a:xfrm flipH="1">
            <a:off x="7120080" y="256860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5" name=""/>
          <p:cNvSpPr/>
          <p:nvPr/>
        </p:nvSpPr>
        <p:spPr>
          <a:xfrm flipH="1">
            <a:off x="7120080" y="212076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6" name=""/>
          <p:cNvSpPr/>
          <p:nvPr/>
        </p:nvSpPr>
        <p:spPr>
          <a:xfrm flipH="1">
            <a:off x="7120080" y="1673280"/>
            <a:ext cx="115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97" name=""/>
          <p:cNvSpPr/>
          <p:nvPr/>
        </p:nvSpPr>
        <p:spPr>
          <a:xfrm>
            <a:off x="7245360" y="3276720"/>
            <a:ext cx="2509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698" name=""/>
          <p:cNvSpPr/>
          <p:nvPr/>
        </p:nvSpPr>
        <p:spPr>
          <a:xfrm>
            <a:off x="7245360" y="2846520"/>
            <a:ext cx="279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3699" name=""/>
          <p:cNvSpPr/>
          <p:nvPr/>
        </p:nvSpPr>
        <p:spPr>
          <a:xfrm>
            <a:off x="7245360" y="2441520"/>
            <a:ext cx="5112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700" name=""/>
          <p:cNvSpPr/>
          <p:nvPr/>
        </p:nvSpPr>
        <p:spPr>
          <a:xfrm>
            <a:off x="7245360" y="1952640"/>
            <a:ext cx="528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3701" name=""/>
          <p:cNvSpPr/>
          <p:nvPr/>
        </p:nvSpPr>
        <p:spPr>
          <a:xfrm>
            <a:off x="7245360" y="1523880"/>
            <a:ext cx="4586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702" name=""/>
          <p:cNvSpPr/>
          <p:nvPr/>
        </p:nvSpPr>
        <p:spPr>
          <a:xfrm flipV="1">
            <a:off x="5106960" y="33656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03" name=""/>
          <p:cNvSpPr/>
          <p:nvPr/>
        </p:nvSpPr>
        <p:spPr>
          <a:xfrm>
            <a:off x="5062680" y="337032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04" name=""/>
          <p:cNvSpPr/>
          <p:nvPr/>
        </p:nvSpPr>
        <p:spPr>
          <a:xfrm>
            <a:off x="5378400" y="2381400"/>
            <a:ext cx="262080" cy="1071360"/>
          </a:xfrm>
          <a:custGeom>
            <a:avLst/>
            <a:gdLst/>
            <a:ahLst/>
            <a:rect l="l" t="t" r="r" b="b"/>
            <a:pathLst>
              <a:path w="183" h="748">
                <a:moveTo>
                  <a:pt x="0" y="747"/>
                </a:moveTo>
                <a:lnTo>
                  <a:pt x="0" y="0"/>
                </a:lnTo>
                <a:lnTo>
                  <a:pt x="182" y="0"/>
                </a:lnTo>
                <a:lnTo>
                  <a:pt x="182" y="747"/>
                </a:lnTo>
                <a:lnTo>
                  <a:pt x="0" y="74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05" name=""/>
          <p:cNvSpPr/>
          <p:nvPr/>
        </p:nvSpPr>
        <p:spPr>
          <a:xfrm flipV="1">
            <a:off x="5510160" y="18828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06" name=""/>
          <p:cNvSpPr/>
          <p:nvPr/>
        </p:nvSpPr>
        <p:spPr>
          <a:xfrm>
            <a:off x="5465880" y="1889280"/>
            <a:ext cx="9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07" name=""/>
          <p:cNvSpPr/>
          <p:nvPr/>
        </p:nvSpPr>
        <p:spPr>
          <a:xfrm flipV="1">
            <a:off x="6318360" y="33656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08" name=""/>
          <p:cNvSpPr/>
          <p:nvPr/>
        </p:nvSpPr>
        <p:spPr>
          <a:xfrm>
            <a:off x="6272280" y="337032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09" name=""/>
          <p:cNvSpPr/>
          <p:nvPr/>
        </p:nvSpPr>
        <p:spPr>
          <a:xfrm>
            <a:off x="6588000" y="2997360"/>
            <a:ext cx="263520" cy="455400"/>
          </a:xfrm>
          <a:custGeom>
            <a:avLst/>
            <a:gdLst/>
            <a:ahLst/>
            <a:rect l="l" t="t" r="r" b="b"/>
            <a:pathLst>
              <a:path w="183" h="318">
                <a:moveTo>
                  <a:pt x="0" y="317"/>
                </a:moveTo>
                <a:lnTo>
                  <a:pt x="0" y="0"/>
                </a:lnTo>
                <a:lnTo>
                  <a:pt x="182" y="0"/>
                </a:lnTo>
                <a:lnTo>
                  <a:pt x="182" y="317"/>
                </a:lnTo>
                <a:lnTo>
                  <a:pt x="0" y="31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10" name=""/>
          <p:cNvSpPr/>
          <p:nvPr/>
        </p:nvSpPr>
        <p:spPr>
          <a:xfrm flipV="1">
            <a:off x="6723000" y="2579400"/>
            <a:ext cx="0" cy="42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11" name=""/>
          <p:cNvSpPr/>
          <p:nvPr/>
        </p:nvSpPr>
        <p:spPr>
          <a:xfrm>
            <a:off x="6676920" y="258588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12" name=""/>
          <p:cNvSpPr/>
          <p:nvPr/>
        </p:nvSpPr>
        <p:spPr>
          <a:xfrm>
            <a:off x="4708440" y="3460680"/>
            <a:ext cx="243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13" name=""/>
          <p:cNvSpPr/>
          <p:nvPr/>
        </p:nvSpPr>
        <p:spPr>
          <a:xfrm>
            <a:off x="4981680" y="3035160"/>
            <a:ext cx="222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714" name=""/>
          <p:cNvSpPr/>
          <p:nvPr/>
        </p:nvSpPr>
        <p:spPr>
          <a:xfrm>
            <a:off x="6194520" y="3044880"/>
            <a:ext cx="225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715" name=""/>
          <p:cNvSpPr/>
          <p:nvPr/>
        </p:nvSpPr>
        <p:spPr>
          <a:xfrm>
            <a:off x="2181600" y="1265400"/>
            <a:ext cx="142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field</a:t>
            </a:r>
            <a:endParaRPr b="0" lang="en-US" sz="2000" spc="-1" strike="noStrike">
              <a:solidFill>
                <a:srgbClr val="000000"/>
              </a:solidFill>
              <a:latin typeface="Comic Sans MS"/>
            </a:endParaRPr>
          </a:p>
        </p:txBody>
      </p:sp>
      <p:sp>
        <p:nvSpPr>
          <p:cNvPr id="3716" name=""/>
          <p:cNvSpPr/>
          <p:nvPr/>
        </p:nvSpPr>
        <p:spPr>
          <a:xfrm>
            <a:off x="4581720" y="1265400"/>
            <a:ext cx="2569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lack and white box</a:t>
            </a:r>
            <a:endParaRPr b="0" lang="en-US" sz="2000" spc="-1" strike="noStrike">
              <a:solidFill>
                <a:srgbClr val="000000"/>
              </a:solidFill>
              <a:latin typeface="Comic Sans MS"/>
            </a:endParaRPr>
          </a:p>
        </p:txBody>
      </p:sp>
      <p:sp>
        <p:nvSpPr>
          <p:cNvPr id="3717" name=""/>
          <p:cNvSpPr/>
          <p:nvPr/>
        </p:nvSpPr>
        <p:spPr>
          <a:xfrm>
            <a:off x="3253320" y="3724200"/>
            <a:ext cx="2472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evated plus maze</a:t>
            </a:r>
            <a:endParaRPr b="0" lang="en-US" sz="2000" spc="-1" strike="noStrike">
              <a:solidFill>
                <a:srgbClr val="000000"/>
              </a:solidFill>
              <a:latin typeface="Comic Sans MS"/>
            </a:endParaRPr>
          </a:p>
        </p:txBody>
      </p:sp>
      <p:sp>
        <p:nvSpPr>
          <p:cNvPr id="3718" name=""/>
          <p:cNvSpPr/>
          <p:nvPr/>
        </p:nvSpPr>
        <p:spPr>
          <a:xfrm>
            <a:off x="1882440" y="599436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3719" name=""/>
          <p:cNvSpPr/>
          <p:nvPr/>
        </p:nvSpPr>
        <p:spPr>
          <a:xfrm>
            <a:off x="3182040" y="599436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sp>
        <p:nvSpPr>
          <p:cNvPr id="3720" name=""/>
          <p:cNvSpPr/>
          <p:nvPr/>
        </p:nvSpPr>
        <p:spPr>
          <a:xfrm>
            <a:off x="4814280" y="599436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3721" name=""/>
          <p:cNvSpPr/>
          <p:nvPr/>
        </p:nvSpPr>
        <p:spPr>
          <a:xfrm>
            <a:off x="6098040" y="599616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grpSp>
        <p:nvGrpSpPr>
          <p:cNvPr id="3722" name=""/>
          <p:cNvGrpSpPr/>
          <p:nvPr/>
        </p:nvGrpSpPr>
        <p:grpSpPr>
          <a:xfrm>
            <a:off x="7080120" y="344520"/>
            <a:ext cx="1683000" cy="844560"/>
            <a:chOff x="7080120" y="344520"/>
            <a:chExt cx="1683000" cy="844560"/>
          </a:xfrm>
        </p:grpSpPr>
        <p:sp>
          <p:nvSpPr>
            <p:cNvPr id="3723" name=""/>
            <p:cNvSpPr/>
            <p:nvPr/>
          </p:nvSpPr>
          <p:spPr>
            <a:xfrm>
              <a:off x="7849440" y="431640"/>
              <a:ext cx="659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W</a:t>
              </a:r>
              <a:endParaRPr b="0" lang="en-US" sz="1800" spc="-1" strike="noStrike">
                <a:solidFill>
                  <a:srgbClr val="000000"/>
                </a:solidFill>
                <a:latin typeface="Comic Sans MS"/>
              </a:endParaRPr>
            </a:p>
          </p:txBody>
        </p:sp>
        <p:sp>
          <p:nvSpPr>
            <p:cNvPr id="3724" name=""/>
            <p:cNvSpPr/>
            <p:nvPr/>
          </p:nvSpPr>
          <p:spPr>
            <a:xfrm>
              <a:off x="7374960" y="560160"/>
              <a:ext cx="461520" cy="119160"/>
            </a:xfrm>
            <a:custGeom>
              <a:avLst/>
              <a:gdLst/>
              <a:ahLst/>
              <a:rect l="l" t="t" r="r" b="b"/>
              <a:pathLst>
                <a:path w="291" h="75">
                  <a:moveTo>
                    <a:pt x="0" y="0"/>
                  </a:moveTo>
                  <a:lnTo>
                    <a:pt x="0" y="74"/>
                  </a:lnTo>
                  <a:lnTo>
                    <a:pt x="290" y="74"/>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25" name=""/>
            <p:cNvSpPr/>
            <p:nvPr/>
          </p:nvSpPr>
          <p:spPr>
            <a:xfrm>
              <a:off x="7374960" y="474480"/>
              <a:ext cx="471600" cy="27468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26" name=""/>
            <p:cNvSpPr/>
            <p:nvPr/>
          </p:nvSpPr>
          <p:spPr>
            <a:xfrm>
              <a:off x="7850880" y="730080"/>
              <a:ext cx="63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HR</a:t>
              </a:r>
              <a:endParaRPr b="0" lang="en-US" sz="1800" spc="-1" strike="noStrike">
                <a:solidFill>
                  <a:srgbClr val="000000"/>
                </a:solidFill>
                <a:latin typeface="Comic Sans MS"/>
              </a:endParaRPr>
            </a:p>
          </p:txBody>
        </p:sp>
        <p:sp>
          <p:nvSpPr>
            <p:cNvPr id="3727" name=""/>
            <p:cNvSpPr/>
            <p:nvPr/>
          </p:nvSpPr>
          <p:spPr>
            <a:xfrm>
              <a:off x="7374960" y="858600"/>
              <a:ext cx="461520" cy="1177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28" name=""/>
            <p:cNvSpPr/>
            <p:nvPr/>
          </p:nvSpPr>
          <p:spPr>
            <a:xfrm>
              <a:off x="7374960" y="772920"/>
              <a:ext cx="471600" cy="27144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29" name=""/>
            <p:cNvSpPr/>
            <p:nvPr/>
          </p:nvSpPr>
          <p:spPr>
            <a:xfrm>
              <a:off x="7080120" y="344520"/>
              <a:ext cx="168300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4CA2C8E-90D1-40A1-B1F3-5B22AC1C68B0}" type="datetime1">
              <a:rPr lang="en-US"/>
              <a:t>07/30/26</a:t>
            </a:fld>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30" name=""/>
          <p:cNvSpPr/>
          <p:nvPr/>
        </p:nvSpPr>
        <p:spPr>
          <a:xfrm>
            <a:off x="2151000" y="380880"/>
            <a:ext cx="5002200" cy="76212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breeding protocol</a:t>
            </a:r>
            <a:endParaRPr b="0" lang="en-US" sz="3200" spc="-1" strike="noStrike">
              <a:solidFill>
                <a:srgbClr val="000000"/>
              </a:solidFill>
              <a:latin typeface="Comic Sans MS"/>
            </a:endParaRPr>
          </a:p>
        </p:txBody>
      </p:sp>
      <p:grpSp>
        <p:nvGrpSpPr>
          <p:cNvPr id="3731" name=""/>
          <p:cNvGrpSpPr/>
          <p:nvPr/>
        </p:nvGrpSpPr>
        <p:grpSpPr>
          <a:xfrm>
            <a:off x="2755800" y="3154320"/>
            <a:ext cx="1001880" cy="726840"/>
            <a:chOff x="2755800" y="3154320"/>
            <a:chExt cx="1001880" cy="726840"/>
          </a:xfrm>
        </p:grpSpPr>
        <p:sp>
          <p:nvSpPr>
            <p:cNvPr id="3732" name=""/>
            <p:cNvSpPr/>
            <p:nvPr/>
          </p:nvSpPr>
          <p:spPr>
            <a:xfrm>
              <a:off x="2849400" y="3154320"/>
              <a:ext cx="908280" cy="72684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33" name=""/>
            <p:cNvSpPr/>
            <p:nvPr/>
          </p:nvSpPr>
          <p:spPr>
            <a:xfrm>
              <a:off x="2849400" y="3154320"/>
              <a:ext cx="908280" cy="72684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34" name=""/>
            <p:cNvSpPr/>
            <p:nvPr/>
          </p:nvSpPr>
          <p:spPr>
            <a:xfrm>
              <a:off x="2755800" y="315432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35" name=""/>
            <p:cNvSpPr/>
            <p:nvPr/>
          </p:nvSpPr>
          <p:spPr>
            <a:xfrm>
              <a:off x="2755800" y="315432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736" name=""/>
          <p:cNvSpPr/>
          <p:nvPr/>
        </p:nvSpPr>
        <p:spPr>
          <a:xfrm>
            <a:off x="2598840" y="3519360"/>
            <a:ext cx="12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37" name=""/>
          <p:cNvSpPr/>
          <p:nvPr/>
        </p:nvSpPr>
        <p:spPr>
          <a:xfrm>
            <a:off x="2759040" y="3156120"/>
            <a:ext cx="16848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38" name=""/>
          <p:cNvSpPr/>
          <p:nvPr/>
        </p:nvSpPr>
        <p:spPr>
          <a:xfrm>
            <a:off x="2575080" y="3336840"/>
            <a:ext cx="54252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39" name=""/>
          <p:cNvSpPr/>
          <p:nvPr/>
        </p:nvSpPr>
        <p:spPr>
          <a:xfrm>
            <a:off x="2575080" y="3336840"/>
            <a:ext cx="54252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40" name=""/>
          <p:cNvSpPr/>
          <p:nvPr/>
        </p:nvSpPr>
        <p:spPr>
          <a:xfrm flipH="1">
            <a:off x="2560320" y="3519360"/>
            <a:ext cx="29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41" name=""/>
          <p:cNvSpPr/>
          <p:nvPr/>
        </p:nvSpPr>
        <p:spPr>
          <a:xfrm>
            <a:off x="3786120" y="3519360"/>
            <a:ext cx="3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42" name=""/>
          <p:cNvSpPr/>
          <p:nvPr/>
        </p:nvSpPr>
        <p:spPr>
          <a:xfrm>
            <a:off x="2585880" y="3519360"/>
            <a:ext cx="24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743" name=""/>
          <p:cNvGrpSpPr/>
          <p:nvPr/>
        </p:nvGrpSpPr>
        <p:grpSpPr>
          <a:xfrm>
            <a:off x="6847200" y="3135240"/>
            <a:ext cx="1004400" cy="726840"/>
            <a:chOff x="6847200" y="3135240"/>
            <a:chExt cx="1004400" cy="726840"/>
          </a:xfrm>
        </p:grpSpPr>
        <p:sp>
          <p:nvSpPr>
            <p:cNvPr id="3744" name=""/>
            <p:cNvSpPr/>
            <p:nvPr/>
          </p:nvSpPr>
          <p:spPr>
            <a:xfrm>
              <a:off x="6940440" y="3135240"/>
              <a:ext cx="91116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45" name=""/>
            <p:cNvSpPr/>
            <p:nvPr/>
          </p:nvSpPr>
          <p:spPr>
            <a:xfrm>
              <a:off x="6940440" y="3135240"/>
              <a:ext cx="91116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46" name=""/>
            <p:cNvSpPr/>
            <p:nvPr/>
          </p:nvSpPr>
          <p:spPr>
            <a:xfrm>
              <a:off x="6847200" y="3135240"/>
              <a:ext cx="9072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47" name=""/>
            <p:cNvSpPr/>
            <p:nvPr/>
          </p:nvSpPr>
          <p:spPr>
            <a:xfrm>
              <a:off x="6847200" y="3135240"/>
              <a:ext cx="9072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748" name=""/>
          <p:cNvSpPr/>
          <p:nvPr/>
        </p:nvSpPr>
        <p:spPr>
          <a:xfrm>
            <a:off x="6689880" y="3500280"/>
            <a:ext cx="12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49" name=""/>
          <p:cNvSpPr/>
          <p:nvPr/>
        </p:nvSpPr>
        <p:spPr>
          <a:xfrm>
            <a:off x="6850080" y="3137040"/>
            <a:ext cx="1681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50" name=""/>
          <p:cNvSpPr/>
          <p:nvPr/>
        </p:nvSpPr>
        <p:spPr>
          <a:xfrm>
            <a:off x="6665760" y="3317760"/>
            <a:ext cx="54252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51" name=""/>
          <p:cNvSpPr/>
          <p:nvPr/>
        </p:nvSpPr>
        <p:spPr>
          <a:xfrm>
            <a:off x="6665760" y="3317760"/>
            <a:ext cx="54252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52" name=""/>
          <p:cNvSpPr/>
          <p:nvPr/>
        </p:nvSpPr>
        <p:spPr>
          <a:xfrm flipH="1">
            <a:off x="6651360" y="3500280"/>
            <a:ext cx="29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53" name=""/>
          <p:cNvSpPr/>
          <p:nvPr/>
        </p:nvSpPr>
        <p:spPr>
          <a:xfrm>
            <a:off x="7878600" y="3500280"/>
            <a:ext cx="31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54" name=""/>
          <p:cNvSpPr/>
          <p:nvPr/>
        </p:nvSpPr>
        <p:spPr>
          <a:xfrm>
            <a:off x="6676920" y="3500280"/>
            <a:ext cx="24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755" name=""/>
          <p:cNvGrpSpPr/>
          <p:nvPr/>
        </p:nvGrpSpPr>
        <p:grpSpPr>
          <a:xfrm>
            <a:off x="1019520" y="3154320"/>
            <a:ext cx="1002240" cy="726840"/>
            <a:chOff x="1019520" y="3154320"/>
            <a:chExt cx="1002240" cy="726840"/>
          </a:xfrm>
        </p:grpSpPr>
        <p:sp>
          <p:nvSpPr>
            <p:cNvPr id="3756" name=""/>
            <p:cNvSpPr/>
            <p:nvPr/>
          </p:nvSpPr>
          <p:spPr>
            <a:xfrm>
              <a:off x="1019520" y="3154320"/>
              <a:ext cx="9072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57" name=""/>
            <p:cNvSpPr/>
            <p:nvPr/>
          </p:nvSpPr>
          <p:spPr>
            <a:xfrm>
              <a:off x="1019520" y="3154320"/>
              <a:ext cx="9072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58" name=""/>
            <p:cNvSpPr/>
            <p:nvPr/>
          </p:nvSpPr>
          <p:spPr>
            <a:xfrm>
              <a:off x="1111320" y="315432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59" name=""/>
            <p:cNvSpPr/>
            <p:nvPr/>
          </p:nvSpPr>
          <p:spPr>
            <a:xfrm>
              <a:off x="1111320" y="315432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760" name=""/>
          <p:cNvSpPr/>
          <p:nvPr/>
        </p:nvSpPr>
        <p:spPr>
          <a:xfrm flipH="1">
            <a:off x="901440" y="3519360"/>
            <a:ext cx="133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61" name=""/>
          <p:cNvSpPr/>
          <p:nvPr/>
        </p:nvSpPr>
        <p:spPr>
          <a:xfrm>
            <a:off x="1844640" y="3156120"/>
            <a:ext cx="16848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62" name=""/>
          <p:cNvSpPr/>
          <p:nvPr/>
        </p:nvSpPr>
        <p:spPr>
          <a:xfrm>
            <a:off x="1659600" y="3336840"/>
            <a:ext cx="538560" cy="3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63" name=""/>
          <p:cNvSpPr/>
          <p:nvPr/>
        </p:nvSpPr>
        <p:spPr>
          <a:xfrm>
            <a:off x="1659600" y="3336840"/>
            <a:ext cx="538560" cy="3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64" name=""/>
          <p:cNvSpPr/>
          <p:nvPr/>
        </p:nvSpPr>
        <p:spPr>
          <a:xfrm>
            <a:off x="1946160" y="35193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65" name=""/>
          <p:cNvSpPr/>
          <p:nvPr/>
        </p:nvSpPr>
        <p:spPr>
          <a:xfrm flipH="1">
            <a:off x="627120" y="3519360"/>
            <a:ext cx="41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66" name=""/>
          <p:cNvSpPr/>
          <p:nvPr/>
        </p:nvSpPr>
        <p:spPr>
          <a:xfrm flipH="1">
            <a:off x="1920600" y="3519360"/>
            <a:ext cx="29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67" name=""/>
          <p:cNvSpPr/>
          <p:nvPr/>
        </p:nvSpPr>
        <p:spPr>
          <a:xfrm>
            <a:off x="2390760" y="2381400"/>
            <a:ext cx="0" cy="303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68" name=""/>
          <p:cNvSpPr/>
          <p:nvPr/>
        </p:nvSpPr>
        <p:spPr>
          <a:xfrm>
            <a:off x="2289240" y="2627280"/>
            <a:ext cx="204840" cy="390600"/>
          </a:xfrm>
          <a:custGeom>
            <a:avLst/>
            <a:gdLst/>
            <a:ahLst/>
            <a:rect l="l" t="t" r="r" b="b"/>
            <a:pathLst>
              <a:path w="129" h="246">
                <a:moveTo>
                  <a:pt x="128" y="0"/>
                </a:moveTo>
                <a:lnTo>
                  <a:pt x="0" y="0"/>
                </a:lnTo>
                <a:lnTo>
                  <a:pt x="64" y="245"/>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69" name=""/>
          <p:cNvSpPr/>
          <p:nvPr/>
        </p:nvSpPr>
        <p:spPr>
          <a:xfrm>
            <a:off x="6481800" y="2362320"/>
            <a:ext cx="0" cy="303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70" name=""/>
          <p:cNvSpPr/>
          <p:nvPr/>
        </p:nvSpPr>
        <p:spPr>
          <a:xfrm>
            <a:off x="6380280" y="2608200"/>
            <a:ext cx="204840" cy="390600"/>
          </a:xfrm>
          <a:custGeom>
            <a:avLst/>
            <a:gdLst/>
            <a:ahLst/>
            <a:rect l="l" t="t" r="r" b="b"/>
            <a:pathLst>
              <a:path w="129" h="246">
                <a:moveTo>
                  <a:pt x="128" y="0"/>
                </a:moveTo>
                <a:lnTo>
                  <a:pt x="0" y="0"/>
                </a:lnTo>
                <a:lnTo>
                  <a:pt x="64" y="245"/>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3771" name=""/>
          <p:cNvGrpSpPr/>
          <p:nvPr/>
        </p:nvGrpSpPr>
        <p:grpSpPr>
          <a:xfrm>
            <a:off x="5110560" y="3135240"/>
            <a:ext cx="1002240" cy="726840"/>
            <a:chOff x="5110560" y="3135240"/>
            <a:chExt cx="1002240" cy="726840"/>
          </a:xfrm>
        </p:grpSpPr>
        <p:sp>
          <p:nvSpPr>
            <p:cNvPr id="3772" name=""/>
            <p:cNvSpPr/>
            <p:nvPr/>
          </p:nvSpPr>
          <p:spPr>
            <a:xfrm>
              <a:off x="5110560" y="3135240"/>
              <a:ext cx="9072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73" name=""/>
            <p:cNvSpPr/>
            <p:nvPr/>
          </p:nvSpPr>
          <p:spPr>
            <a:xfrm>
              <a:off x="5110560" y="3135240"/>
              <a:ext cx="9072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74" name=""/>
            <p:cNvSpPr/>
            <p:nvPr/>
          </p:nvSpPr>
          <p:spPr>
            <a:xfrm>
              <a:off x="5202360" y="313524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75" name=""/>
            <p:cNvSpPr/>
            <p:nvPr/>
          </p:nvSpPr>
          <p:spPr>
            <a:xfrm>
              <a:off x="5202360" y="313524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776" name=""/>
          <p:cNvSpPr/>
          <p:nvPr/>
        </p:nvSpPr>
        <p:spPr>
          <a:xfrm flipH="1">
            <a:off x="4992480" y="3500280"/>
            <a:ext cx="133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77" name=""/>
          <p:cNvSpPr/>
          <p:nvPr/>
        </p:nvSpPr>
        <p:spPr>
          <a:xfrm>
            <a:off x="5935680" y="3137040"/>
            <a:ext cx="1681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78" name=""/>
          <p:cNvSpPr/>
          <p:nvPr/>
        </p:nvSpPr>
        <p:spPr>
          <a:xfrm>
            <a:off x="5750280" y="3317760"/>
            <a:ext cx="542160" cy="361800"/>
          </a:xfrm>
          <a:custGeom>
            <a:avLst/>
            <a:gdLst/>
            <a:ahLst/>
            <a:rect l="l" t="t" r="r" b="b"/>
            <a:pathLst>
              <a:path stroke="0" w="21600" h="21600">
                <a:moveTo>
                  <a:pt x="10737" y="0"/>
                </a:moveTo>
                <a:arcTo wR="10800" hR="10800" stAng="-5420163" swAng="5420163"/>
                <a:lnTo>
                  <a:pt x="10800" y="10800"/>
                </a:lnTo>
                <a:close/>
              </a:path>
              <a:path fill="none" w="21600" h="21600">
                <a:moveTo>
                  <a:pt x="10737" y="0"/>
                </a:moveTo>
                <a:arcTo wR="10800" hR="10800" stAng="-5420163" swAng="5420163"/>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79" name=""/>
          <p:cNvSpPr/>
          <p:nvPr/>
        </p:nvSpPr>
        <p:spPr>
          <a:xfrm>
            <a:off x="5750280" y="3317760"/>
            <a:ext cx="542160" cy="361800"/>
          </a:xfrm>
          <a:custGeom>
            <a:avLst/>
            <a:gdLst/>
            <a:ahLst/>
            <a:rect l="l" t="t" r="r" b="b"/>
            <a:pathLst>
              <a:path stroke="0" w="21600" h="21600">
                <a:moveTo>
                  <a:pt x="10737" y="0"/>
                </a:moveTo>
                <a:arcTo wR="10800" hR="10800" stAng="-5420163" swAng="5420163"/>
                <a:lnTo>
                  <a:pt x="10800" y="10800"/>
                </a:lnTo>
                <a:close/>
              </a:path>
              <a:path fill="none" w="21600" h="21600">
                <a:moveTo>
                  <a:pt x="10737" y="0"/>
                </a:moveTo>
                <a:arcTo wR="10800" hR="10800" stAng="-5420163" swAng="542016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80" name=""/>
          <p:cNvSpPr/>
          <p:nvPr/>
        </p:nvSpPr>
        <p:spPr>
          <a:xfrm>
            <a:off x="6037200" y="3500280"/>
            <a:ext cx="24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81" name=""/>
          <p:cNvSpPr/>
          <p:nvPr/>
        </p:nvSpPr>
        <p:spPr>
          <a:xfrm flipH="1">
            <a:off x="4719240" y="3500280"/>
            <a:ext cx="41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82" name=""/>
          <p:cNvSpPr/>
          <p:nvPr/>
        </p:nvSpPr>
        <p:spPr>
          <a:xfrm flipH="1">
            <a:off x="6011640" y="3500280"/>
            <a:ext cx="29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83" name=""/>
          <p:cNvSpPr/>
          <p:nvPr/>
        </p:nvSpPr>
        <p:spPr>
          <a:xfrm>
            <a:off x="2206800" y="3700440"/>
            <a:ext cx="13633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84" name=""/>
          <p:cNvSpPr/>
          <p:nvPr/>
        </p:nvSpPr>
        <p:spPr>
          <a:xfrm>
            <a:off x="1704240" y="3632040"/>
            <a:ext cx="1118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6600"/>
                </a:solidFill>
                <a:latin typeface="Comic Sans MS"/>
              </a:rPr>
              <a:t>F</a:t>
            </a:r>
            <a:r>
              <a:rPr b="0" lang="en-US" sz="1600" spc="-1" strike="noStrike">
                <a:solidFill>
                  <a:srgbClr val="996600"/>
                </a:solidFill>
                <a:latin typeface="Comic Sans MS"/>
              </a:rPr>
              <a:t>1 </a:t>
            </a:r>
            <a:r>
              <a:rPr b="0" lang="en-US" sz="2000" spc="-1" strike="noStrike">
                <a:solidFill>
                  <a:srgbClr val="996600"/>
                </a:solidFill>
                <a:latin typeface="Comic Sans MS"/>
              </a:rPr>
              <a:t>/</a:t>
            </a:r>
            <a:r>
              <a:rPr b="0" lang="en-US" sz="1600" spc="-1" strike="noStrike">
                <a:solidFill>
                  <a:srgbClr val="996600"/>
                </a:solidFill>
                <a:latin typeface="Comic Sans MS"/>
              </a:rPr>
              <a:t> </a:t>
            </a:r>
            <a:r>
              <a:rPr b="0" lang="en-US" sz="2000" spc="-1" strike="noStrike">
                <a:solidFill>
                  <a:srgbClr val="996600"/>
                </a:solidFill>
                <a:latin typeface="Comic Sans MS"/>
              </a:rPr>
              <a:t>SHR</a:t>
            </a:r>
            <a:endParaRPr b="0" lang="en-US" sz="2000" spc="-1" strike="noStrike">
              <a:solidFill>
                <a:srgbClr val="000000"/>
              </a:solidFill>
              <a:latin typeface="Comic Sans MS"/>
            </a:endParaRPr>
          </a:p>
        </p:txBody>
      </p:sp>
      <p:sp>
        <p:nvSpPr>
          <p:cNvPr id="3785" name=""/>
          <p:cNvSpPr/>
          <p:nvPr/>
        </p:nvSpPr>
        <p:spPr>
          <a:xfrm>
            <a:off x="6389640" y="3683160"/>
            <a:ext cx="1271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86" name=""/>
          <p:cNvSpPr/>
          <p:nvPr/>
        </p:nvSpPr>
        <p:spPr>
          <a:xfrm>
            <a:off x="5739840" y="3614760"/>
            <a:ext cx="1155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6600"/>
                </a:solidFill>
                <a:latin typeface="Comic Sans MS"/>
              </a:rPr>
              <a:t>F</a:t>
            </a:r>
            <a:r>
              <a:rPr b="0" lang="en-US" sz="1600" spc="-1" strike="noStrike">
                <a:solidFill>
                  <a:srgbClr val="996600"/>
                </a:solidFill>
                <a:latin typeface="Comic Sans MS"/>
              </a:rPr>
              <a:t>1 </a:t>
            </a:r>
            <a:r>
              <a:rPr b="0" lang="en-US" sz="2000" spc="-1" strike="noStrike">
                <a:solidFill>
                  <a:srgbClr val="996600"/>
                </a:solidFill>
                <a:latin typeface="Comic Sans MS"/>
              </a:rPr>
              <a:t>/ LEW</a:t>
            </a:r>
            <a:endParaRPr b="0" lang="en-US" sz="2000" spc="-1" strike="noStrike">
              <a:solidFill>
                <a:srgbClr val="000000"/>
              </a:solidFill>
              <a:latin typeface="Comic Sans MS"/>
            </a:endParaRPr>
          </a:p>
        </p:txBody>
      </p:sp>
      <p:sp>
        <p:nvSpPr>
          <p:cNvPr id="3787" name=""/>
          <p:cNvSpPr/>
          <p:nvPr/>
        </p:nvSpPr>
        <p:spPr>
          <a:xfrm>
            <a:off x="2390760" y="4105440"/>
            <a:ext cx="0" cy="295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88" name=""/>
          <p:cNvSpPr/>
          <p:nvPr/>
        </p:nvSpPr>
        <p:spPr>
          <a:xfrm>
            <a:off x="2289240" y="4343400"/>
            <a:ext cx="204840" cy="382680"/>
          </a:xfrm>
          <a:custGeom>
            <a:avLst/>
            <a:gdLst/>
            <a:ahLst/>
            <a:rect l="l" t="t" r="r" b="b"/>
            <a:pathLst>
              <a:path w="129" h="241">
                <a:moveTo>
                  <a:pt x="128" y="0"/>
                </a:moveTo>
                <a:lnTo>
                  <a:pt x="0" y="0"/>
                </a:lnTo>
                <a:lnTo>
                  <a:pt x="64" y="240"/>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89" name=""/>
          <p:cNvSpPr/>
          <p:nvPr/>
        </p:nvSpPr>
        <p:spPr>
          <a:xfrm>
            <a:off x="6572160" y="4086360"/>
            <a:ext cx="0" cy="295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90" name=""/>
          <p:cNvSpPr/>
          <p:nvPr/>
        </p:nvSpPr>
        <p:spPr>
          <a:xfrm>
            <a:off x="6472080" y="4324320"/>
            <a:ext cx="204840" cy="382680"/>
          </a:xfrm>
          <a:custGeom>
            <a:avLst/>
            <a:gdLst/>
            <a:ahLst/>
            <a:rect l="l" t="t" r="r" b="b"/>
            <a:pathLst>
              <a:path w="129" h="241">
                <a:moveTo>
                  <a:pt x="128" y="0"/>
                </a:moveTo>
                <a:lnTo>
                  <a:pt x="0" y="0"/>
                </a:lnTo>
                <a:lnTo>
                  <a:pt x="63" y="240"/>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3791" name=""/>
          <p:cNvGrpSpPr/>
          <p:nvPr/>
        </p:nvGrpSpPr>
        <p:grpSpPr>
          <a:xfrm>
            <a:off x="1384200" y="4991040"/>
            <a:ext cx="1001880" cy="726840"/>
            <a:chOff x="1384200" y="4991040"/>
            <a:chExt cx="1001880" cy="726840"/>
          </a:xfrm>
        </p:grpSpPr>
        <p:sp>
          <p:nvSpPr>
            <p:cNvPr id="3792" name=""/>
            <p:cNvSpPr/>
            <p:nvPr/>
          </p:nvSpPr>
          <p:spPr>
            <a:xfrm>
              <a:off x="1477800" y="4991040"/>
              <a:ext cx="90828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93" name=""/>
            <p:cNvSpPr/>
            <p:nvPr/>
          </p:nvSpPr>
          <p:spPr>
            <a:xfrm>
              <a:off x="1477800" y="4991040"/>
              <a:ext cx="90828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fafd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94" name=""/>
            <p:cNvSpPr/>
            <p:nvPr/>
          </p:nvSpPr>
          <p:spPr>
            <a:xfrm>
              <a:off x="1384200" y="499104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95" name=""/>
            <p:cNvSpPr/>
            <p:nvPr/>
          </p:nvSpPr>
          <p:spPr>
            <a:xfrm>
              <a:off x="1384200" y="499104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fafd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796" name=""/>
          <p:cNvSpPr/>
          <p:nvPr/>
        </p:nvSpPr>
        <p:spPr>
          <a:xfrm>
            <a:off x="1227240" y="5354640"/>
            <a:ext cx="12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97" name=""/>
          <p:cNvSpPr/>
          <p:nvPr/>
        </p:nvSpPr>
        <p:spPr>
          <a:xfrm>
            <a:off x="1387440" y="4992840"/>
            <a:ext cx="16848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98" name=""/>
          <p:cNvSpPr/>
          <p:nvPr/>
        </p:nvSpPr>
        <p:spPr>
          <a:xfrm>
            <a:off x="1203480" y="517356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799" name=""/>
          <p:cNvSpPr/>
          <p:nvPr/>
        </p:nvSpPr>
        <p:spPr>
          <a:xfrm>
            <a:off x="1203480" y="517356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00" name=""/>
          <p:cNvSpPr/>
          <p:nvPr/>
        </p:nvSpPr>
        <p:spPr>
          <a:xfrm flipH="1">
            <a:off x="1188720" y="535464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01" name=""/>
          <p:cNvSpPr/>
          <p:nvPr/>
        </p:nvSpPr>
        <p:spPr>
          <a:xfrm>
            <a:off x="2416320" y="5354640"/>
            <a:ext cx="314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02" name=""/>
          <p:cNvSpPr/>
          <p:nvPr/>
        </p:nvSpPr>
        <p:spPr>
          <a:xfrm>
            <a:off x="1214280" y="5354640"/>
            <a:ext cx="24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803" name=""/>
          <p:cNvGrpSpPr/>
          <p:nvPr/>
        </p:nvGrpSpPr>
        <p:grpSpPr>
          <a:xfrm>
            <a:off x="1749240" y="5173560"/>
            <a:ext cx="1004400" cy="726840"/>
            <a:chOff x="1749240" y="5173560"/>
            <a:chExt cx="1004400" cy="726840"/>
          </a:xfrm>
        </p:grpSpPr>
        <p:sp>
          <p:nvSpPr>
            <p:cNvPr id="3804" name=""/>
            <p:cNvSpPr/>
            <p:nvPr/>
          </p:nvSpPr>
          <p:spPr>
            <a:xfrm>
              <a:off x="1843200" y="517356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05" name=""/>
            <p:cNvSpPr/>
            <p:nvPr/>
          </p:nvSpPr>
          <p:spPr>
            <a:xfrm>
              <a:off x="1843200" y="517356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081d58"/>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06" name=""/>
            <p:cNvSpPr/>
            <p:nvPr/>
          </p:nvSpPr>
          <p:spPr>
            <a:xfrm>
              <a:off x="1749240" y="517356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07" name=""/>
            <p:cNvSpPr/>
            <p:nvPr/>
          </p:nvSpPr>
          <p:spPr>
            <a:xfrm>
              <a:off x="1749240" y="517356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081d58"/>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808" name=""/>
          <p:cNvSpPr/>
          <p:nvPr/>
        </p:nvSpPr>
        <p:spPr>
          <a:xfrm>
            <a:off x="1592280" y="5538960"/>
            <a:ext cx="12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09" name=""/>
          <p:cNvSpPr/>
          <p:nvPr/>
        </p:nvSpPr>
        <p:spPr>
          <a:xfrm>
            <a:off x="1752480" y="5175360"/>
            <a:ext cx="1699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10" name=""/>
          <p:cNvSpPr/>
          <p:nvPr/>
        </p:nvSpPr>
        <p:spPr>
          <a:xfrm>
            <a:off x="1568520" y="5356080"/>
            <a:ext cx="54540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11" name=""/>
          <p:cNvSpPr/>
          <p:nvPr/>
        </p:nvSpPr>
        <p:spPr>
          <a:xfrm>
            <a:off x="1568520" y="5356080"/>
            <a:ext cx="54540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12" name=""/>
          <p:cNvSpPr/>
          <p:nvPr/>
        </p:nvSpPr>
        <p:spPr>
          <a:xfrm flipH="1">
            <a:off x="1554120" y="553896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13" name=""/>
          <p:cNvSpPr/>
          <p:nvPr/>
        </p:nvSpPr>
        <p:spPr>
          <a:xfrm>
            <a:off x="2781360" y="5538960"/>
            <a:ext cx="314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14" name=""/>
          <p:cNvSpPr/>
          <p:nvPr/>
        </p:nvSpPr>
        <p:spPr>
          <a:xfrm>
            <a:off x="1579680" y="5538960"/>
            <a:ext cx="24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815" name=""/>
          <p:cNvGrpSpPr/>
          <p:nvPr/>
        </p:nvGrpSpPr>
        <p:grpSpPr>
          <a:xfrm>
            <a:off x="2206440" y="5356080"/>
            <a:ext cx="1004400" cy="726840"/>
            <a:chOff x="2206440" y="5356080"/>
            <a:chExt cx="1004400" cy="726840"/>
          </a:xfrm>
        </p:grpSpPr>
        <p:sp>
          <p:nvSpPr>
            <p:cNvPr id="3816" name=""/>
            <p:cNvSpPr/>
            <p:nvPr/>
          </p:nvSpPr>
          <p:spPr>
            <a:xfrm>
              <a:off x="2300400" y="535608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17" name=""/>
            <p:cNvSpPr/>
            <p:nvPr/>
          </p:nvSpPr>
          <p:spPr>
            <a:xfrm>
              <a:off x="2300400" y="5356080"/>
              <a:ext cx="91044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f95ab7"/>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18" name=""/>
            <p:cNvSpPr/>
            <p:nvPr/>
          </p:nvSpPr>
          <p:spPr>
            <a:xfrm>
              <a:off x="2206440" y="535608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19" name=""/>
            <p:cNvSpPr/>
            <p:nvPr/>
          </p:nvSpPr>
          <p:spPr>
            <a:xfrm>
              <a:off x="2206440" y="535608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f95ab7"/>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820" name=""/>
          <p:cNvSpPr/>
          <p:nvPr/>
        </p:nvSpPr>
        <p:spPr>
          <a:xfrm>
            <a:off x="2049480" y="5721480"/>
            <a:ext cx="12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21" name=""/>
          <p:cNvSpPr/>
          <p:nvPr/>
        </p:nvSpPr>
        <p:spPr>
          <a:xfrm>
            <a:off x="2209680" y="5357880"/>
            <a:ext cx="169920" cy="169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22" name=""/>
          <p:cNvSpPr/>
          <p:nvPr/>
        </p:nvSpPr>
        <p:spPr>
          <a:xfrm>
            <a:off x="2027160" y="5540400"/>
            <a:ext cx="54252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23" name=""/>
          <p:cNvSpPr/>
          <p:nvPr/>
        </p:nvSpPr>
        <p:spPr>
          <a:xfrm>
            <a:off x="2027160" y="5540400"/>
            <a:ext cx="54252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24" name=""/>
          <p:cNvSpPr/>
          <p:nvPr/>
        </p:nvSpPr>
        <p:spPr>
          <a:xfrm flipH="1">
            <a:off x="2011320" y="572148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25" name=""/>
          <p:cNvSpPr/>
          <p:nvPr/>
        </p:nvSpPr>
        <p:spPr>
          <a:xfrm>
            <a:off x="3238560" y="5721480"/>
            <a:ext cx="3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26" name=""/>
          <p:cNvSpPr/>
          <p:nvPr/>
        </p:nvSpPr>
        <p:spPr>
          <a:xfrm>
            <a:off x="2036880" y="5721480"/>
            <a:ext cx="24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827" name=""/>
          <p:cNvGrpSpPr/>
          <p:nvPr/>
        </p:nvGrpSpPr>
        <p:grpSpPr>
          <a:xfrm>
            <a:off x="5750280" y="4971960"/>
            <a:ext cx="1000800" cy="726840"/>
            <a:chOff x="5750280" y="4971960"/>
            <a:chExt cx="1000800" cy="726840"/>
          </a:xfrm>
        </p:grpSpPr>
        <p:sp>
          <p:nvSpPr>
            <p:cNvPr id="3828" name=""/>
            <p:cNvSpPr/>
            <p:nvPr/>
          </p:nvSpPr>
          <p:spPr>
            <a:xfrm>
              <a:off x="5843520" y="4971960"/>
              <a:ext cx="90756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29" name=""/>
            <p:cNvSpPr/>
            <p:nvPr/>
          </p:nvSpPr>
          <p:spPr>
            <a:xfrm>
              <a:off x="5843520" y="4971960"/>
              <a:ext cx="90756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00ae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30" name=""/>
            <p:cNvSpPr/>
            <p:nvPr/>
          </p:nvSpPr>
          <p:spPr>
            <a:xfrm>
              <a:off x="5750280" y="4971960"/>
              <a:ext cx="90720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31" name=""/>
            <p:cNvSpPr/>
            <p:nvPr/>
          </p:nvSpPr>
          <p:spPr>
            <a:xfrm>
              <a:off x="5750280" y="4971960"/>
              <a:ext cx="90720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ae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832" name=""/>
          <p:cNvSpPr/>
          <p:nvPr/>
        </p:nvSpPr>
        <p:spPr>
          <a:xfrm>
            <a:off x="5592600" y="5335560"/>
            <a:ext cx="122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33" name=""/>
          <p:cNvSpPr/>
          <p:nvPr/>
        </p:nvSpPr>
        <p:spPr>
          <a:xfrm>
            <a:off x="5753160" y="4973760"/>
            <a:ext cx="1681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34" name=""/>
          <p:cNvSpPr/>
          <p:nvPr/>
        </p:nvSpPr>
        <p:spPr>
          <a:xfrm>
            <a:off x="5568840" y="515448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35" name=""/>
          <p:cNvSpPr/>
          <p:nvPr/>
        </p:nvSpPr>
        <p:spPr>
          <a:xfrm>
            <a:off x="5568840" y="515448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36" name=""/>
          <p:cNvSpPr/>
          <p:nvPr/>
        </p:nvSpPr>
        <p:spPr>
          <a:xfrm flipH="1">
            <a:off x="5554440" y="533556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37" name=""/>
          <p:cNvSpPr/>
          <p:nvPr/>
        </p:nvSpPr>
        <p:spPr>
          <a:xfrm>
            <a:off x="6781680" y="5335560"/>
            <a:ext cx="314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38" name=""/>
          <p:cNvSpPr/>
          <p:nvPr/>
        </p:nvSpPr>
        <p:spPr>
          <a:xfrm>
            <a:off x="5580000" y="5335560"/>
            <a:ext cx="24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839" name=""/>
          <p:cNvGrpSpPr/>
          <p:nvPr/>
        </p:nvGrpSpPr>
        <p:grpSpPr>
          <a:xfrm>
            <a:off x="6114960" y="5154480"/>
            <a:ext cx="1004760" cy="726840"/>
            <a:chOff x="6114960" y="5154480"/>
            <a:chExt cx="1004760" cy="726840"/>
          </a:xfrm>
        </p:grpSpPr>
        <p:sp>
          <p:nvSpPr>
            <p:cNvPr id="3840" name=""/>
            <p:cNvSpPr/>
            <p:nvPr/>
          </p:nvSpPr>
          <p:spPr>
            <a:xfrm>
              <a:off x="6208560" y="5154480"/>
              <a:ext cx="91116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41" name=""/>
            <p:cNvSpPr/>
            <p:nvPr/>
          </p:nvSpPr>
          <p:spPr>
            <a:xfrm>
              <a:off x="6208560" y="5154480"/>
              <a:ext cx="91116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42" name=""/>
            <p:cNvSpPr/>
            <p:nvPr/>
          </p:nvSpPr>
          <p:spPr>
            <a:xfrm>
              <a:off x="6114960" y="515448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43" name=""/>
            <p:cNvSpPr/>
            <p:nvPr/>
          </p:nvSpPr>
          <p:spPr>
            <a:xfrm>
              <a:off x="6114960" y="515448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844" name=""/>
          <p:cNvSpPr/>
          <p:nvPr/>
        </p:nvSpPr>
        <p:spPr>
          <a:xfrm>
            <a:off x="5958000" y="5519880"/>
            <a:ext cx="12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45" name=""/>
          <p:cNvSpPr/>
          <p:nvPr/>
        </p:nvSpPr>
        <p:spPr>
          <a:xfrm>
            <a:off x="6118200" y="5156280"/>
            <a:ext cx="1699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46" name=""/>
          <p:cNvSpPr/>
          <p:nvPr/>
        </p:nvSpPr>
        <p:spPr>
          <a:xfrm>
            <a:off x="5934240" y="5337000"/>
            <a:ext cx="54540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47" name=""/>
          <p:cNvSpPr/>
          <p:nvPr/>
        </p:nvSpPr>
        <p:spPr>
          <a:xfrm>
            <a:off x="5934240" y="5337000"/>
            <a:ext cx="54540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48" name=""/>
          <p:cNvSpPr/>
          <p:nvPr/>
        </p:nvSpPr>
        <p:spPr>
          <a:xfrm flipH="1">
            <a:off x="5919480" y="551988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49" name=""/>
          <p:cNvSpPr/>
          <p:nvPr/>
        </p:nvSpPr>
        <p:spPr>
          <a:xfrm>
            <a:off x="7147080" y="5519880"/>
            <a:ext cx="3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50" name=""/>
          <p:cNvSpPr/>
          <p:nvPr/>
        </p:nvSpPr>
        <p:spPr>
          <a:xfrm>
            <a:off x="5945040" y="5519880"/>
            <a:ext cx="24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851" name=""/>
          <p:cNvGrpSpPr/>
          <p:nvPr/>
        </p:nvGrpSpPr>
        <p:grpSpPr>
          <a:xfrm>
            <a:off x="6572160" y="5337000"/>
            <a:ext cx="1004760" cy="726840"/>
            <a:chOff x="6572160" y="5337000"/>
            <a:chExt cx="1004760" cy="726840"/>
          </a:xfrm>
        </p:grpSpPr>
        <p:sp>
          <p:nvSpPr>
            <p:cNvPr id="3852" name=""/>
            <p:cNvSpPr/>
            <p:nvPr/>
          </p:nvSpPr>
          <p:spPr>
            <a:xfrm>
              <a:off x="6665760" y="5337000"/>
              <a:ext cx="91116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53" name=""/>
            <p:cNvSpPr/>
            <p:nvPr/>
          </p:nvSpPr>
          <p:spPr>
            <a:xfrm>
              <a:off x="6665760" y="5337000"/>
              <a:ext cx="91116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b2b2b2"/>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54" name=""/>
            <p:cNvSpPr/>
            <p:nvPr/>
          </p:nvSpPr>
          <p:spPr>
            <a:xfrm>
              <a:off x="6572160" y="533700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55" name=""/>
            <p:cNvSpPr/>
            <p:nvPr/>
          </p:nvSpPr>
          <p:spPr>
            <a:xfrm>
              <a:off x="6572160" y="5337000"/>
              <a:ext cx="9079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b2b2b2"/>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856" name=""/>
          <p:cNvSpPr/>
          <p:nvPr/>
        </p:nvSpPr>
        <p:spPr>
          <a:xfrm>
            <a:off x="6415200" y="5702400"/>
            <a:ext cx="12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57" name=""/>
          <p:cNvSpPr/>
          <p:nvPr/>
        </p:nvSpPr>
        <p:spPr>
          <a:xfrm>
            <a:off x="6575400" y="5338800"/>
            <a:ext cx="169920" cy="169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58" name=""/>
          <p:cNvSpPr/>
          <p:nvPr/>
        </p:nvSpPr>
        <p:spPr>
          <a:xfrm>
            <a:off x="6392880" y="5521320"/>
            <a:ext cx="54252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59" name=""/>
          <p:cNvSpPr/>
          <p:nvPr/>
        </p:nvSpPr>
        <p:spPr>
          <a:xfrm>
            <a:off x="6392880" y="5521320"/>
            <a:ext cx="54252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60" name=""/>
          <p:cNvSpPr/>
          <p:nvPr/>
        </p:nvSpPr>
        <p:spPr>
          <a:xfrm flipH="1">
            <a:off x="6376680" y="57024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61" name=""/>
          <p:cNvSpPr/>
          <p:nvPr/>
        </p:nvSpPr>
        <p:spPr>
          <a:xfrm>
            <a:off x="7604280" y="5702400"/>
            <a:ext cx="3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62" name=""/>
          <p:cNvSpPr/>
          <p:nvPr/>
        </p:nvSpPr>
        <p:spPr>
          <a:xfrm>
            <a:off x="6402240" y="5702400"/>
            <a:ext cx="24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63" name=""/>
          <p:cNvSpPr/>
          <p:nvPr/>
        </p:nvSpPr>
        <p:spPr>
          <a:xfrm>
            <a:off x="1668960" y="5834160"/>
            <a:ext cx="1208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a:t>
            </a:r>
            <a:r>
              <a:rPr b="0" lang="en-US" sz="1600" spc="-1" strike="noStrike">
                <a:solidFill>
                  <a:srgbClr val="000000"/>
                </a:solidFill>
                <a:latin typeface="Comic Sans MS"/>
              </a:rPr>
              <a:t>2</a:t>
            </a:r>
            <a:r>
              <a:rPr b="0" lang="en-US" sz="2000" spc="-1" strike="noStrike">
                <a:solidFill>
                  <a:srgbClr val="000000"/>
                </a:solidFill>
                <a:latin typeface="Comic Sans MS"/>
              </a:rPr>
              <a:t> / SHR </a:t>
            </a:r>
            <a:endParaRPr b="0" lang="en-US" sz="2000" spc="-1" strike="noStrike">
              <a:solidFill>
                <a:srgbClr val="000000"/>
              </a:solidFill>
              <a:latin typeface="Comic Sans MS"/>
            </a:endParaRPr>
          </a:p>
        </p:txBody>
      </p:sp>
      <p:sp>
        <p:nvSpPr>
          <p:cNvPr id="3864" name=""/>
          <p:cNvSpPr/>
          <p:nvPr/>
        </p:nvSpPr>
        <p:spPr>
          <a:xfrm>
            <a:off x="6078240" y="5815080"/>
            <a:ext cx="1167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a:t>
            </a:r>
            <a:r>
              <a:rPr b="0" lang="en-US" sz="1600" spc="-1" strike="noStrike">
                <a:solidFill>
                  <a:srgbClr val="000000"/>
                </a:solidFill>
                <a:latin typeface="Comic Sans MS"/>
              </a:rPr>
              <a:t>2</a:t>
            </a:r>
            <a:r>
              <a:rPr b="0" lang="en-US" sz="2000" spc="-1" strike="noStrike">
                <a:solidFill>
                  <a:srgbClr val="000000"/>
                </a:solidFill>
                <a:latin typeface="Comic Sans MS"/>
              </a:rPr>
              <a:t> / LEW</a:t>
            </a:r>
            <a:endParaRPr b="0" lang="en-US" sz="2000" spc="-1" strike="noStrike">
              <a:solidFill>
                <a:srgbClr val="000000"/>
              </a:solidFill>
              <a:latin typeface="Comic Sans MS"/>
            </a:endParaRPr>
          </a:p>
        </p:txBody>
      </p:sp>
      <p:grpSp>
        <p:nvGrpSpPr>
          <p:cNvPr id="3865" name=""/>
          <p:cNvGrpSpPr/>
          <p:nvPr/>
        </p:nvGrpSpPr>
        <p:grpSpPr>
          <a:xfrm>
            <a:off x="942840" y="1455840"/>
            <a:ext cx="1003320" cy="726840"/>
            <a:chOff x="942840" y="1455840"/>
            <a:chExt cx="1003320" cy="726840"/>
          </a:xfrm>
        </p:grpSpPr>
        <p:sp>
          <p:nvSpPr>
            <p:cNvPr id="3866" name=""/>
            <p:cNvSpPr/>
            <p:nvPr/>
          </p:nvSpPr>
          <p:spPr>
            <a:xfrm>
              <a:off x="942840" y="145584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67" name=""/>
            <p:cNvSpPr/>
            <p:nvPr/>
          </p:nvSpPr>
          <p:spPr>
            <a:xfrm>
              <a:off x="942840" y="145584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f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68" name=""/>
            <p:cNvSpPr/>
            <p:nvPr/>
          </p:nvSpPr>
          <p:spPr>
            <a:xfrm>
              <a:off x="1035000" y="1455840"/>
              <a:ext cx="91116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69" name=""/>
            <p:cNvSpPr/>
            <p:nvPr/>
          </p:nvSpPr>
          <p:spPr>
            <a:xfrm>
              <a:off x="1035000" y="1455840"/>
              <a:ext cx="91116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f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870" name=""/>
          <p:cNvSpPr/>
          <p:nvPr/>
        </p:nvSpPr>
        <p:spPr>
          <a:xfrm flipH="1">
            <a:off x="825120" y="1819440"/>
            <a:ext cx="133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71" name=""/>
          <p:cNvSpPr/>
          <p:nvPr/>
        </p:nvSpPr>
        <p:spPr>
          <a:xfrm>
            <a:off x="1768320" y="1457280"/>
            <a:ext cx="16848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72" name=""/>
          <p:cNvSpPr/>
          <p:nvPr/>
        </p:nvSpPr>
        <p:spPr>
          <a:xfrm>
            <a:off x="1582560" y="1638360"/>
            <a:ext cx="539640" cy="361800"/>
          </a:xfrm>
          <a:custGeom>
            <a:avLst/>
            <a:gdLst/>
            <a:ahLst/>
            <a:rect l="l" t="t" r="r" b="b"/>
            <a:pathLst>
              <a:path stroke="0" w="21600" h="21600">
                <a:moveTo>
                  <a:pt x="10800" y="0"/>
                </a:moveTo>
                <a:arcTo wR="10800" hR="10800" stAng="-5400000" swAng="5369713"/>
                <a:lnTo>
                  <a:pt x="10800" y="10800"/>
                </a:lnTo>
                <a:close/>
              </a:path>
              <a:path fill="none" w="21600" h="21600">
                <a:moveTo>
                  <a:pt x="10800" y="0"/>
                </a:moveTo>
                <a:arcTo wR="10800" hR="10800" stAng="-5400000" swAng="5369713"/>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73" name=""/>
          <p:cNvSpPr/>
          <p:nvPr/>
        </p:nvSpPr>
        <p:spPr>
          <a:xfrm>
            <a:off x="1582560" y="1638360"/>
            <a:ext cx="539640" cy="361800"/>
          </a:xfrm>
          <a:custGeom>
            <a:avLst/>
            <a:gdLst/>
            <a:ahLst/>
            <a:rect l="l" t="t" r="r" b="b"/>
            <a:pathLst>
              <a:path stroke="0" w="21600" h="21600">
                <a:moveTo>
                  <a:pt x="10800" y="0"/>
                </a:moveTo>
                <a:arcTo wR="10800" hR="10800" stAng="-5400000" swAng="5369713"/>
                <a:lnTo>
                  <a:pt x="10800" y="10800"/>
                </a:lnTo>
                <a:close/>
              </a:path>
              <a:path fill="none" w="21600" h="21600">
                <a:moveTo>
                  <a:pt x="10800" y="0"/>
                </a:moveTo>
                <a:arcTo wR="10800" hR="10800" stAng="-5400000" swAng="536971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74" name=""/>
          <p:cNvSpPr/>
          <p:nvPr/>
        </p:nvSpPr>
        <p:spPr>
          <a:xfrm>
            <a:off x="1870200" y="181944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75" name=""/>
          <p:cNvSpPr/>
          <p:nvPr/>
        </p:nvSpPr>
        <p:spPr>
          <a:xfrm flipH="1">
            <a:off x="550800" y="1819440"/>
            <a:ext cx="41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76" name=""/>
          <p:cNvSpPr/>
          <p:nvPr/>
        </p:nvSpPr>
        <p:spPr>
          <a:xfrm flipH="1">
            <a:off x="1844280" y="1819440"/>
            <a:ext cx="29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77" name=""/>
          <p:cNvSpPr/>
          <p:nvPr/>
        </p:nvSpPr>
        <p:spPr>
          <a:xfrm>
            <a:off x="2773440" y="1455840"/>
            <a:ext cx="90756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78" name=""/>
          <p:cNvSpPr/>
          <p:nvPr/>
        </p:nvSpPr>
        <p:spPr>
          <a:xfrm>
            <a:off x="2679480" y="145584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79" name=""/>
          <p:cNvSpPr/>
          <p:nvPr/>
        </p:nvSpPr>
        <p:spPr>
          <a:xfrm>
            <a:off x="2779560" y="1461960"/>
            <a:ext cx="895320" cy="714600"/>
          </a:xfrm>
          <a:custGeom>
            <a:avLst/>
            <a:gdLst/>
            <a:ahLst/>
            <a:rect l="l" t="t" r="r" b="b"/>
            <a:pathLst>
              <a:path stroke="0" w="21600" h="21600">
                <a:moveTo>
                  <a:pt x="0" y="10752"/>
                </a:moveTo>
                <a:arcTo wR="10800" hR="10800" stAng="-10784722" swAng="5372531"/>
                <a:lnTo>
                  <a:pt x="10800" y="10800"/>
                </a:lnTo>
                <a:close/>
              </a:path>
              <a:path fill="none" w="21600" h="21600">
                <a:moveTo>
                  <a:pt x="0" y="10752"/>
                </a:moveTo>
                <a:arcTo wR="10800" hR="10800" stAng="-10784722" swAng="5372531"/>
              </a:path>
            </a:pathLst>
          </a:custGeom>
          <a:solidFill>
            <a:srgbClr val="00cc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80" name=""/>
          <p:cNvSpPr/>
          <p:nvPr/>
        </p:nvSpPr>
        <p:spPr>
          <a:xfrm>
            <a:off x="2673000" y="1449360"/>
            <a:ext cx="920880" cy="739800"/>
          </a:xfrm>
          <a:custGeom>
            <a:avLst/>
            <a:gdLst/>
            <a:ahLst/>
            <a:rect l="l" t="t" r="r" b="b"/>
            <a:pathLst>
              <a:path stroke="0" w="21600" h="21600">
                <a:moveTo>
                  <a:pt x="10763" y="0"/>
                </a:moveTo>
                <a:arcTo wR="10800" hR="10800" stAng="-5411874" swAng="5397044"/>
                <a:lnTo>
                  <a:pt x="10800" y="10800"/>
                </a:lnTo>
                <a:close/>
              </a:path>
              <a:path fill="none" w="21600" h="21600">
                <a:moveTo>
                  <a:pt x="10763" y="0"/>
                </a:moveTo>
                <a:arcTo wR="10800" hR="10800" stAng="-5411874" swAng="5397044"/>
              </a:path>
            </a:pathLst>
          </a:custGeom>
          <a:solidFill>
            <a:srgbClr val="00cc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81" name=""/>
          <p:cNvSpPr/>
          <p:nvPr/>
        </p:nvSpPr>
        <p:spPr>
          <a:xfrm>
            <a:off x="2522520" y="1819440"/>
            <a:ext cx="12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82" name=""/>
          <p:cNvSpPr/>
          <p:nvPr/>
        </p:nvSpPr>
        <p:spPr>
          <a:xfrm>
            <a:off x="2682720" y="1457280"/>
            <a:ext cx="16848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83" name=""/>
          <p:cNvSpPr/>
          <p:nvPr/>
        </p:nvSpPr>
        <p:spPr>
          <a:xfrm>
            <a:off x="2498760" y="163836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84" name=""/>
          <p:cNvSpPr/>
          <p:nvPr/>
        </p:nvSpPr>
        <p:spPr>
          <a:xfrm>
            <a:off x="2498760" y="163836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85" name=""/>
          <p:cNvSpPr/>
          <p:nvPr/>
        </p:nvSpPr>
        <p:spPr>
          <a:xfrm flipH="1">
            <a:off x="2484360" y="1819440"/>
            <a:ext cx="30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86" name=""/>
          <p:cNvSpPr/>
          <p:nvPr/>
        </p:nvSpPr>
        <p:spPr>
          <a:xfrm>
            <a:off x="3710160" y="1819440"/>
            <a:ext cx="31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87" name=""/>
          <p:cNvSpPr/>
          <p:nvPr/>
        </p:nvSpPr>
        <p:spPr>
          <a:xfrm>
            <a:off x="2509920" y="1819440"/>
            <a:ext cx="24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3888" name=""/>
          <p:cNvGrpSpPr/>
          <p:nvPr/>
        </p:nvGrpSpPr>
        <p:grpSpPr>
          <a:xfrm>
            <a:off x="5033880" y="1436760"/>
            <a:ext cx="1003320" cy="726840"/>
            <a:chOff x="5033880" y="1436760"/>
            <a:chExt cx="1003320" cy="726840"/>
          </a:xfrm>
        </p:grpSpPr>
        <p:sp>
          <p:nvSpPr>
            <p:cNvPr id="3889" name=""/>
            <p:cNvSpPr/>
            <p:nvPr/>
          </p:nvSpPr>
          <p:spPr>
            <a:xfrm>
              <a:off x="5033880" y="143676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90" name=""/>
            <p:cNvSpPr/>
            <p:nvPr/>
          </p:nvSpPr>
          <p:spPr>
            <a:xfrm>
              <a:off x="5033880" y="143676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cc99"/>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91" name=""/>
            <p:cNvSpPr/>
            <p:nvPr/>
          </p:nvSpPr>
          <p:spPr>
            <a:xfrm>
              <a:off x="5126040" y="1436760"/>
              <a:ext cx="91116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92" name=""/>
            <p:cNvSpPr/>
            <p:nvPr/>
          </p:nvSpPr>
          <p:spPr>
            <a:xfrm>
              <a:off x="5126040" y="1436760"/>
              <a:ext cx="91116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cc99"/>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893" name=""/>
          <p:cNvSpPr/>
          <p:nvPr/>
        </p:nvSpPr>
        <p:spPr>
          <a:xfrm flipH="1">
            <a:off x="4916520" y="1800360"/>
            <a:ext cx="133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94" name=""/>
          <p:cNvSpPr/>
          <p:nvPr/>
        </p:nvSpPr>
        <p:spPr>
          <a:xfrm>
            <a:off x="5859360" y="1438200"/>
            <a:ext cx="16848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95" name=""/>
          <p:cNvSpPr/>
          <p:nvPr/>
        </p:nvSpPr>
        <p:spPr>
          <a:xfrm>
            <a:off x="5676840" y="1619280"/>
            <a:ext cx="539280" cy="361800"/>
          </a:xfrm>
          <a:custGeom>
            <a:avLst/>
            <a:gdLst/>
            <a:ahLst/>
            <a:rect l="l" t="t" r="r" b="b"/>
            <a:pathLst>
              <a:path stroke="0" w="21600" h="21600">
                <a:moveTo>
                  <a:pt x="10737" y="0"/>
                </a:moveTo>
                <a:arcTo wR="10800" hR="10800" stAng="-5420074" swAng="5389697"/>
                <a:lnTo>
                  <a:pt x="10800" y="10800"/>
                </a:lnTo>
                <a:close/>
              </a:path>
              <a:path fill="none" w="21600" h="21600">
                <a:moveTo>
                  <a:pt x="10737" y="0"/>
                </a:moveTo>
                <a:arcTo wR="10800" hR="10800" stAng="-5420074" swAng="538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96" name=""/>
          <p:cNvSpPr/>
          <p:nvPr/>
        </p:nvSpPr>
        <p:spPr>
          <a:xfrm>
            <a:off x="5676840" y="1619280"/>
            <a:ext cx="539280" cy="361800"/>
          </a:xfrm>
          <a:custGeom>
            <a:avLst/>
            <a:gdLst/>
            <a:ahLst/>
            <a:rect l="l" t="t" r="r" b="b"/>
            <a:pathLst>
              <a:path stroke="0" w="21600" h="21600">
                <a:moveTo>
                  <a:pt x="10737" y="0"/>
                </a:moveTo>
                <a:arcTo wR="10800" hR="10800" stAng="-5420074" swAng="5389697"/>
                <a:lnTo>
                  <a:pt x="10800" y="10800"/>
                </a:lnTo>
                <a:close/>
              </a:path>
              <a:path fill="none" w="21600" h="21600">
                <a:moveTo>
                  <a:pt x="10737" y="0"/>
                </a:moveTo>
                <a:arcTo wR="10800" hR="10800" stAng="-5420074" swAng="538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897" name=""/>
          <p:cNvSpPr/>
          <p:nvPr/>
        </p:nvSpPr>
        <p:spPr>
          <a:xfrm>
            <a:off x="5961240" y="1800360"/>
            <a:ext cx="24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98" name=""/>
          <p:cNvSpPr/>
          <p:nvPr/>
        </p:nvSpPr>
        <p:spPr>
          <a:xfrm flipH="1">
            <a:off x="4643280" y="1800360"/>
            <a:ext cx="41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99" name=""/>
          <p:cNvSpPr/>
          <p:nvPr/>
        </p:nvSpPr>
        <p:spPr>
          <a:xfrm flipH="1">
            <a:off x="5935320" y="1800360"/>
            <a:ext cx="299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00" name=""/>
          <p:cNvSpPr/>
          <p:nvPr/>
        </p:nvSpPr>
        <p:spPr>
          <a:xfrm>
            <a:off x="6613560" y="1800360"/>
            <a:ext cx="12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01" name=""/>
          <p:cNvSpPr/>
          <p:nvPr/>
        </p:nvSpPr>
        <p:spPr>
          <a:xfrm flipH="1">
            <a:off x="6575400" y="1800360"/>
            <a:ext cx="30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02" name=""/>
          <p:cNvSpPr/>
          <p:nvPr/>
        </p:nvSpPr>
        <p:spPr>
          <a:xfrm>
            <a:off x="6864480" y="1436760"/>
            <a:ext cx="91044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903" name=""/>
          <p:cNvGrpSpPr/>
          <p:nvPr/>
        </p:nvGrpSpPr>
        <p:grpSpPr>
          <a:xfrm>
            <a:off x="6770520" y="1436760"/>
            <a:ext cx="1004400" cy="726840"/>
            <a:chOff x="6770520" y="1436760"/>
            <a:chExt cx="1004400" cy="726840"/>
          </a:xfrm>
        </p:grpSpPr>
        <p:sp>
          <p:nvSpPr>
            <p:cNvPr id="3904" name=""/>
            <p:cNvSpPr/>
            <p:nvPr/>
          </p:nvSpPr>
          <p:spPr>
            <a:xfrm>
              <a:off x="6864480" y="1436760"/>
              <a:ext cx="91044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05" name=""/>
            <p:cNvSpPr/>
            <p:nvPr/>
          </p:nvSpPr>
          <p:spPr>
            <a:xfrm>
              <a:off x="6770520" y="143676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3906" name=""/>
          <p:cNvSpPr/>
          <p:nvPr/>
        </p:nvSpPr>
        <p:spPr>
          <a:xfrm>
            <a:off x="6770520" y="1436760"/>
            <a:ext cx="9079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07" name=""/>
          <p:cNvSpPr/>
          <p:nvPr/>
        </p:nvSpPr>
        <p:spPr>
          <a:xfrm>
            <a:off x="6773760" y="1438200"/>
            <a:ext cx="16848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08" name=""/>
          <p:cNvSpPr/>
          <p:nvPr/>
        </p:nvSpPr>
        <p:spPr>
          <a:xfrm>
            <a:off x="6589800" y="161928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09" name=""/>
          <p:cNvSpPr/>
          <p:nvPr/>
        </p:nvSpPr>
        <p:spPr>
          <a:xfrm>
            <a:off x="6589800" y="1619280"/>
            <a:ext cx="54252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10" name=""/>
          <p:cNvSpPr/>
          <p:nvPr/>
        </p:nvSpPr>
        <p:spPr>
          <a:xfrm>
            <a:off x="7802640" y="1800360"/>
            <a:ext cx="31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11" name=""/>
          <p:cNvSpPr/>
          <p:nvPr/>
        </p:nvSpPr>
        <p:spPr>
          <a:xfrm>
            <a:off x="6600960" y="1800360"/>
            <a:ext cx="24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12" name=""/>
          <p:cNvSpPr/>
          <p:nvPr/>
        </p:nvSpPr>
        <p:spPr>
          <a:xfrm>
            <a:off x="1033560" y="1909800"/>
            <a:ext cx="145404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13" name=""/>
          <p:cNvSpPr/>
          <p:nvPr/>
        </p:nvSpPr>
        <p:spPr>
          <a:xfrm>
            <a:off x="660600" y="1879560"/>
            <a:ext cx="134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ff00"/>
                </a:solidFill>
                <a:latin typeface="Comic Sans MS"/>
              </a:rPr>
              <a:t>LEW male</a:t>
            </a:r>
            <a:endParaRPr b="0" lang="en-US" sz="2000" spc="-1" strike="noStrike">
              <a:solidFill>
                <a:srgbClr val="000000"/>
              </a:solidFill>
              <a:latin typeface="Comic Sans MS"/>
            </a:endParaRPr>
          </a:p>
        </p:txBody>
      </p:sp>
      <p:sp>
        <p:nvSpPr>
          <p:cNvPr id="3914" name=""/>
          <p:cNvSpPr/>
          <p:nvPr/>
        </p:nvSpPr>
        <p:spPr>
          <a:xfrm>
            <a:off x="2679840" y="1911240"/>
            <a:ext cx="145404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15" name=""/>
          <p:cNvSpPr/>
          <p:nvPr/>
        </p:nvSpPr>
        <p:spPr>
          <a:xfrm>
            <a:off x="2342160" y="1879560"/>
            <a:ext cx="1554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cc99"/>
                </a:solidFill>
                <a:latin typeface="Comic Sans MS"/>
              </a:rPr>
              <a:t>SHR female</a:t>
            </a:r>
            <a:endParaRPr b="0" lang="en-US" sz="2000" spc="-1" strike="noStrike">
              <a:solidFill>
                <a:srgbClr val="000000"/>
              </a:solidFill>
              <a:latin typeface="Comic Sans MS"/>
            </a:endParaRPr>
          </a:p>
        </p:txBody>
      </p:sp>
      <p:sp>
        <p:nvSpPr>
          <p:cNvPr id="3916" name=""/>
          <p:cNvSpPr/>
          <p:nvPr/>
        </p:nvSpPr>
        <p:spPr>
          <a:xfrm>
            <a:off x="6770520" y="1890720"/>
            <a:ext cx="145440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17" name=""/>
          <p:cNvSpPr/>
          <p:nvPr/>
        </p:nvSpPr>
        <p:spPr>
          <a:xfrm>
            <a:off x="6340680" y="1879560"/>
            <a:ext cx="157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ff00"/>
                </a:solidFill>
                <a:latin typeface="Comic Sans MS"/>
              </a:rPr>
              <a:t>LEW female</a:t>
            </a:r>
            <a:endParaRPr b="0" lang="en-US" sz="2000" spc="-1" strike="noStrike">
              <a:solidFill>
                <a:srgbClr val="000000"/>
              </a:solidFill>
              <a:latin typeface="Comic Sans MS"/>
            </a:endParaRPr>
          </a:p>
        </p:txBody>
      </p:sp>
      <p:sp>
        <p:nvSpPr>
          <p:cNvPr id="3918" name=""/>
          <p:cNvSpPr/>
          <p:nvPr/>
        </p:nvSpPr>
        <p:spPr>
          <a:xfrm>
            <a:off x="5124600" y="1892160"/>
            <a:ext cx="145404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19" name=""/>
          <p:cNvSpPr/>
          <p:nvPr/>
        </p:nvSpPr>
        <p:spPr>
          <a:xfrm>
            <a:off x="4729680" y="1879560"/>
            <a:ext cx="132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cc99"/>
                </a:solidFill>
                <a:latin typeface="Comic Sans MS"/>
              </a:rPr>
              <a:t>SHR male</a:t>
            </a:r>
            <a:endParaRPr b="0" lang="en-US" sz="2000" spc="-1" strike="noStrike">
              <a:solidFill>
                <a:srgbClr val="000000"/>
              </a:solidFill>
              <a:latin typeface="Comic Sans MS"/>
            </a:endParaRPr>
          </a:p>
        </p:txBody>
      </p:sp>
      <p:sp>
        <p:nvSpPr>
          <p:cNvPr id="3920" name=""/>
          <p:cNvSpPr/>
          <p:nvPr/>
        </p:nvSpPr>
        <p:spPr>
          <a:xfrm>
            <a:off x="6888240" y="1800360"/>
            <a:ext cx="77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21" name=""/>
          <p:cNvSpPr/>
          <p:nvPr/>
        </p:nvSpPr>
        <p:spPr>
          <a:xfrm>
            <a:off x="2571840" y="1461960"/>
            <a:ext cx="1041120" cy="73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F1F91D9-1635-4F71-8E91-8186235E346E}" type="datetime1">
              <a:rPr lang="en-US"/>
              <a:t>07/30/2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0" y="0"/>
            <a:ext cx="9144000" cy="6858000"/>
          </a:xfrm>
          <a:prstGeom prst="rect">
            <a:avLst/>
          </a:prstGeom>
          <a:ln w="0">
            <a:noFill/>
          </a:ln>
        </p:spPr>
      </p:pic>
      <p:sp>
        <p:nvSpPr>
          <p:cNvPr id="661" name="PlaceHolder 1"/>
          <p:cNvSpPr>
            <a:spLocks noGrp="1"/>
          </p:cNvSpPr>
          <p:nvPr>
            <p:ph/>
          </p:nvPr>
        </p:nvSpPr>
        <p:spPr>
          <a:xfrm>
            <a:off x="225360" y="1722600"/>
            <a:ext cx="8669520" cy="3867120"/>
          </a:xfrm>
          <a:prstGeom prst="rect">
            <a:avLst/>
          </a:prstGeom>
          <a:noFill/>
          <a:ln w="19080">
            <a:solidFill>
              <a:srgbClr val="ff3300"/>
            </a:solidFill>
            <a:miter/>
          </a:ln>
        </p:spPr>
        <p:txBody>
          <a:bodyPr lIns="90000" rIns="90000" tIns="46800" bIns="46800" anchor="t">
            <a:normAutofit fontScale="97000"/>
          </a:bodyPr>
          <a:p>
            <a:pPr marL="332640" indent="-33264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What are the experimental approaches to </a:t>
            </a:r>
            <a:r>
              <a:rPr b="1" lang="en-US" sz="2400" spc="-1" strike="noStrike">
                <a:solidFill>
                  <a:srgbClr val="006600"/>
                </a:solidFill>
                <a:latin typeface="Comic Sans MS"/>
              </a:rPr>
              <a:t>emotions</a:t>
            </a:r>
            <a:r>
              <a:rPr b="0" lang="en-US" sz="2400" spc="-1" strike="noStrike">
                <a:solidFill>
                  <a:srgbClr val="006600"/>
                </a:solidFill>
                <a:latin typeface="Comic Sans MS"/>
              </a:rPr>
              <a:t> ?</a:t>
            </a:r>
            <a:endParaRPr b="1" lang="en-US" sz="2400" spc="-1" strike="noStrike">
              <a:solidFill>
                <a:srgbClr val="006600"/>
              </a:solidFill>
              <a:latin typeface="Comic Sans MS"/>
            </a:endParaRPr>
          </a:p>
          <a:p>
            <a:pPr marL="332640" indent="-33264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Can we define stable </a:t>
            </a:r>
            <a:r>
              <a:rPr b="1" lang="en-US" sz="2400" spc="-1" strike="noStrike">
                <a:solidFill>
                  <a:srgbClr val="006600"/>
                </a:solidFill>
                <a:latin typeface="Comic Sans MS"/>
              </a:rPr>
              <a:t>dimensions of temperament</a:t>
            </a:r>
            <a:r>
              <a:rPr b="0" lang="en-US" sz="2400" spc="-1" strike="noStrike">
                <a:solidFill>
                  <a:srgbClr val="006600"/>
                </a:solidFill>
                <a:latin typeface="Comic Sans MS"/>
              </a:rPr>
              <a:t> in experimental animals, as psychologists do in humans ?</a:t>
            </a:r>
            <a:endParaRPr b="1" lang="en-US" sz="2400" spc="-1" strike="noStrike">
              <a:solidFill>
                <a:srgbClr val="006600"/>
              </a:solidFill>
              <a:latin typeface="Comic Sans MS"/>
            </a:endParaRPr>
          </a:p>
          <a:p>
            <a:pPr marL="332640" indent="-33264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Are there </a:t>
            </a:r>
            <a:r>
              <a:rPr b="1" lang="en-US" sz="2400" spc="-1" strike="noStrike">
                <a:solidFill>
                  <a:srgbClr val="006600"/>
                </a:solidFill>
                <a:latin typeface="Comic Sans MS"/>
              </a:rPr>
              <a:t>genetic factors</a:t>
            </a:r>
            <a:r>
              <a:rPr b="0" lang="en-US" sz="2400" spc="-1" strike="noStrike">
                <a:solidFill>
                  <a:srgbClr val="006600"/>
                </a:solidFill>
                <a:latin typeface="Comic Sans MS"/>
              </a:rPr>
              <a:t> involved in the individual variations along dimensions of temperament in animals ?</a:t>
            </a:r>
            <a:endParaRPr b="1" lang="en-US" sz="2400" spc="-1" strike="noStrike">
              <a:solidFill>
                <a:srgbClr val="006600"/>
              </a:solidFill>
              <a:latin typeface="Comic Sans MS"/>
            </a:endParaRPr>
          </a:p>
          <a:p>
            <a:pPr marL="332640" indent="-33264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rategies to investigate the </a:t>
            </a:r>
            <a:r>
              <a:rPr b="1" lang="en-US" sz="2400" spc="-1" strike="noStrike">
                <a:solidFill>
                  <a:srgbClr val="006600"/>
                </a:solidFill>
                <a:latin typeface="Comic Sans MS"/>
              </a:rPr>
              <a:t>molecular bases</a:t>
            </a:r>
            <a:r>
              <a:rPr b="0" lang="en-US" sz="2400" spc="-1" strike="noStrike">
                <a:solidFill>
                  <a:srgbClr val="006600"/>
                </a:solidFill>
                <a:latin typeface="Comic Sans MS"/>
              </a:rPr>
              <a:t> of genetic variability in emotional behaviors ?</a:t>
            </a:r>
            <a:endParaRPr b="1" lang="en-US" sz="2400" spc="-1" strike="noStrike">
              <a:solidFill>
                <a:srgbClr val="006600"/>
              </a:solidFill>
              <a:latin typeface="Comic Sans MS"/>
            </a:endParaRPr>
          </a:p>
          <a:p>
            <a:pPr marL="332640" indent="-33264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How to use genetic approaches to explore behavioral responses to challenges ?</a:t>
            </a:r>
            <a:endParaRPr b="1" lang="en-US" sz="2400" spc="-1" strike="noStrike">
              <a:solidFill>
                <a:srgbClr val="0066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grpSp>
        <p:nvGrpSpPr>
          <p:cNvPr id="662" name=""/>
          <p:cNvGrpSpPr/>
          <p:nvPr/>
        </p:nvGrpSpPr>
        <p:grpSpPr>
          <a:xfrm>
            <a:off x="7156080" y="6068880"/>
            <a:ext cx="1981080" cy="785160"/>
            <a:chOff x="7156080" y="6068880"/>
            <a:chExt cx="1981080" cy="785160"/>
          </a:xfrm>
        </p:grpSpPr>
        <p:sp>
          <p:nvSpPr>
            <p:cNvPr id="663" name=""/>
            <p:cNvSpPr/>
            <p:nvPr/>
          </p:nvSpPr>
          <p:spPr>
            <a:xfrm flipH="1">
              <a:off x="721188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664" name=""/>
            <p:cNvSpPr/>
            <p:nvPr/>
          </p:nvSpPr>
          <p:spPr>
            <a:xfrm flipH="1" flipV="1">
              <a:off x="7228440" y="6387120"/>
              <a:ext cx="680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665" name=""/>
            <p:cNvSpPr/>
            <p:nvPr/>
          </p:nvSpPr>
          <p:spPr>
            <a:xfrm flipH="1">
              <a:off x="715608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666" name=""/>
            <p:cNvSpPr/>
            <p:nvPr/>
          </p:nvSpPr>
          <p:spPr>
            <a:xfrm flipH="1">
              <a:off x="719100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667" name=""/>
            <p:cNvSpPr/>
            <p:nvPr/>
          </p:nvSpPr>
          <p:spPr>
            <a:xfrm flipH="1">
              <a:off x="721620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68" name=""/>
            <p:cNvSpPr/>
            <p:nvPr/>
          </p:nvSpPr>
          <p:spPr>
            <a:xfrm>
              <a:off x="728136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669" name=""/>
            <p:cNvSpPr/>
            <p:nvPr/>
          </p:nvSpPr>
          <p:spPr>
            <a:xfrm>
              <a:off x="7227360" y="6616080"/>
              <a:ext cx="277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670" name=""/>
            <p:cNvSpPr/>
            <p:nvPr/>
          </p:nvSpPr>
          <p:spPr>
            <a:xfrm>
              <a:off x="7167600" y="6704640"/>
              <a:ext cx="6336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671" name=""/>
            <p:cNvSpPr/>
            <p:nvPr/>
          </p:nvSpPr>
          <p:spPr>
            <a:xfrm flipV="1">
              <a:off x="733428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672" name=""/>
            <p:cNvSpPr/>
            <p:nvPr/>
          </p:nvSpPr>
          <p:spPr>
            <a:xfrm>
              <a:off x="735228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673" name=""/>
            <p:cNvSpPr/>
            <p:nvPr/>
          </p:nvSpPr>
          <p:spPr>
            <a:xfrm>
              <a:off x="732996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674" name=""/>
            <p:cNvSpPr/>
            <p:nvPr/>
          </p:nvSpPr>
          <p:spPr>
            <a:xfrm flipH="1">
              <a:off x="727812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675" name=""/>
            <p:cNvSpPr/>
            <p:nvPr/>
          </p:nvSpPr>
          <p:spPr>
            <a:xfrm>
              <a:off x="732996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76" name=""/>
            <p:cNvSpPr/>
            <p:nvPr/>
          </p:nvSpPr>
          <p:spPr>
            <a:xfrm>
              <a:off x="733428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677" name=""/>
            <p:cNvSpPr/>
            <p:nvPr/>
          </p:nvSpPr>
          <p:spPr>
            <a:xfrm>
              <a:off x="7353720" y="6630480"/>
              <a:ext cx="709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678" name=""/>
            <p:cNvSpPr/>
            <p:nvPr/>
          </p:nvSpPr>
          <p:spPr>
            <a:xfrm>
              <a:off x="7227360" y="6197400"/>
              <a:ext cx="2772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679" name=""/>
            <p:cNvSpPr/>
            <p:nvPr/>
          </p:nvSpPr>
          <p:spPr>
            <a:xfrm flipH="1">
              <a:off x="717552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680" name=""/>
            <p:cNvSpPr/>
            <p:nvPr/>
          </p:nvSpPr>
          <p:spPr>
            <a:xfrm flipH="1">
              <a:off x="7157520" y="6474240"/>
              <a:ext cx="83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681" name=""/>
            <p:cNvSpPr/>
            <p:nvPr/>
          </p:nvSpPr>
          <p:spPr>
            <a:xfrm flipH="1">
              <a:off x="718812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682" name=""/>
            <p:cNvSpPr/>
            <p:nvPr/>
          </p:nvSpPr>
          <p:spPr>
            <a:xfrm>
              <a:off x="7184160" y="6090120"/>
              <a:ext cx="5148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683" name=""/>
            <p:cNvSpPr/>
            <p:nvPr/>
          </p:nvSpPr>
          <p:spPr>
            <a:xfrm>
              <a:off x="7266240" y="6090120"/>
              <a:ext cx="3168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684" name=""/>
            <p:cNvSpPr/>
            <p:nvPr/>
          </p:nvSpPr>
          <p:spPr>
            <a:xfrm>
              <a:off x="727452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685" name=""/>
            <p:cNvSpPr/>
            <p:nvPr/>
          </p:nvSpPr>
          <p:spPr>
            <a:xfrm flipH="1">
              <a:off x="726768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686" name=""/>
            <p:cNvSpPr/>
            <p:nvPr/>
          </p:nvSpPr>
          <p:spPr>
            <a:xfrm>
              <a:off x="7334280" y="6575760"/>
              <a:ext cx="69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687" name=""/>
            <p:cNvSpPr/>
            <p:nvPr/>
          </p:nvSpPr>
          <p:spPr>
            <a:xfrm>
              <a:off x="732996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88" name=""/>
            <p:cNvSpPr/>
            <p:nvPr/>
          </p:nvSpPr>
          <p:spPr>
            <a:xfrm flipH="1">
              <a:off x="735336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689" name=""/>
            <p:cNvSpPr/>
            <p:nvPr/>
          </p:nvSpPr>
          <p:spPr>
            <a:xfrm flipH="1" flipV="1">
              <a:off x="7287120" y="6613560"/>
              <a:ext cx="7488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690" name=""/>
            <p:cNvSpPr/>
            <p:nvPr/>
          </p:nvSpPr>
          <p:spPr>
            <a:xfrm flipH="1">
              <a:off x="7378920" y="6275880"/>
              <a:ext cx="194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691" name=""/>
            <p:cNvSpPr/>
            <p:nvPr/>
          </p:nvSpPr>
          <p:spPr>
            <a:xfrm>
              <a:off x="7252560" y="6592680"/>
              <a:ext cx="633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692" name=""/>
            <p:cNvSpPr/>
            <p:nvPr/>
          </p:nvSpPr>
          <p:spPr>
            <a:xfrm flipH="1" flipV="1">
              <a:off x="728100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693" name=""/>
            <p:cNvSpPr/>
            <p:nvPr/>
          </p:nvSpPr>
          <p:spPr>
            <a:xfrm flipH="1">
              <a:off x="7417440" y="638568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694" name=""/>
            <p:cNvSpPr/>
            <p:nvPr/>
          </p:nvSpPr>
          <p:spPr>
            <a:xfrm>
              <a:off x="741492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695" name=""/>
            <p:cNvSpPr/>
            <p:nvPr/>
          </p:nvSpPr>
          <p:spPr>
            <a:xfrm>
              <a:off x="7417440" y="6314040"/>
              <a:ext cx="655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96" name=""/>
            <p:cNvSpPr/>
            <p:nvPr/>
          </p:nvSpPr>
          <p:spPr>
            <a:xfrm>
              <a:off x="741492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97" name=""/>
            <p:cNvSpPr/>
            <p:nvPr/>
          </p:nvSpPr>
          <p:spPr>
            <a:xfrm flipH="1">
              <a:off x="7482960" y="6311880"/>
              <a:ext cx="5940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698" name=""/>
            <p:cNvSpPr/>
            <p:nvPr/>
          </p:nvSpPr>
          <p:spPr>
            <a:xfrm flipH="1" flipV="1">
              <a:off x="7498080" y="6387120"/>
              <a:ext cx="709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699" name=""/>
            <p:cNvSpPr/>
            <p:nvPr/>
          </p:nvSpPr>
          <p:spPr>
            <a:xfrm flipH="1">
              <a:off x="742860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00" name=""/>
            <p:cNvSpPr/>
            <p:nvPr/>
          </p:nvSpPr>
          <p:spPr>
            <a:xfrm flipH="1">
              <a:off x="7462080" y="6360480"/>
              <a:ext cx="165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701" name=""/>
            <p:cNvSpPr/>
            <p:nvPr/>
          </p:nvSpPr>
          <p:spPr>
            <a:xfrm flipH="1">
              <a:off x="7487280" y="6505920"/>
              <a:ext cx="525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02" name=""/>
            <p:cNvSpPr/>
            <p:nvPr/>
          </p:nvSpPr>
          <p:spPr>
            <a:xfrm>
              <a:off x="7553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703" name=""/>
            <p:cNvSpPr/>
            <p:nvPr/>
          </p:nvSpPr>
          <p:spPr>
            <a:xfrm>
              <a:off x="7498440" y="661608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04" name=""/>
            <p:cNvSpPr/>
            <p:nvPr/>
          </p:nvSpPr>
          <p:spPr>
            <a:xfrm flipV="1">
              <a:off x="7444080" y="6670440"/>
              <a:ext cx="529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705" name=""/>
            <p:cNvSpPr/>
            <p:nvPr/>
          </p:nvSpPr>
          <p:spPr>
            <a:xfrm flipV="1">
              <a:off x="7605360" y="6444360"/>
              <a:ext cx="63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706" name=""/>
            <p:cNvSpPr/>
            <p:nvPr/>
          </p:nvSpPr>
          <p:spPr>
            <a:xfrm>
              <a:off x="7621920" y="6476760"/>
              <a:ext cx="32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07" name=""/>
            <p:cNvSpPr/>
            <p:nvPr/>
          </p:nvSpPr>
          <p:spPr>
            <a:xfrm>
              <a:off x="7602840" y="6341040"/>
              <a:ext cx="302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708" name=""/>
            <p:cNvSpPr/>
            <p:nvPr/>
          </p:nvSpPr>
          <p:spPr>
            <a:xfrm flipH="1">
              <a:off x="7549200" y="6282360"/>
              <a:ext cx="500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709" name=""/>
            <p:cNvSpPr/>
            <p:nvPr/>
          </p:nvSpPr>
          <p:spPr>
            <a:xfrm>
              <a:off x="760284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10" name=""/>
            <p:cNvSpPr/>
            <p:nvPr/>
          </p:nvSpPr>
          <p:spPr>
            <a:xfrm>
              <a:off x="7606800" y="6201720"/>
              <a:ext cx="6228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711" name=""/>
            <p:cNvSpPr/>
            <p:nvPr/>
          </p:nvSpPr>
          <p:spPr>
            <a:xfrm>
              <a:off x="7627680" y="6630480"/>
              <a:ext cx="6804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712" name=""/>
            <p:cNvSpPr/>
            <p:nvPr/>
          </p:nvSpPr>
          <p:spPr>
            <a:xfrm>
              <a:off x="7498440" y="6197400"/>
              <a:ext cx="302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713" name=""/>
            <p:cNvSpPr/>
            <p:nvPr/>
          </p:nvSpPr>
          <p:spPr>
            <a:xfrm flipH="1">
              <a:off x="7446960" y="62251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14" name=""/>
            <p:cNvSpPr/>
            <p:nvPr/>
          </p:nvSpPr>
          <p:spPr>
            <a:xfrm flipH="1">
              <a:off x="74300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715" name=""/>
            <p:cNvSpPr/>
            <p:nvPr/>
          </p:nvSpPr>
          <p:spPr>
            <a:xfrm flipH="1">
              <a:off x="7459200" y="6525000"/>
              <a:ext cx="219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716" name=""/>
            <p:cNvSpPr/>
            <p:nvPr/>
          </p:nvSpPr>
          <p:spPr>
            <a:xfrm>
              <a:off x="7456680" y="609012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717" name=""/>
            <p:cNvSpPr/>
            <p:nvPr/>
          </p:nvSpPr>
          <p:spPr>
            <a:xfrm>
              <a:off x="75398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718" name=""/>
            <p:cNvSpPr/>
            <p:nvPr/>
          </p:nvSpPr>
          <p:spPr>
            <a:xfrm>
              <a:off x="7545600" y="6391800"/>
              <a:ext cx="597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719" name=""/>
            <p:cNvSpPr/>
            <p:nvPr/>
          </p:nvSpPr>
          <p:spPr>
            <a:xfrm flipH="1">
              <a:off x="7538760" y="6518880"/>
              <a:ext cx="72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720" name=""/>
            <p:cNvSpPr/>
            <p:nvPr/>
          </p:nvSpPr>
          <p:spPr>
            <a:xfrm>
              <a:off x="760680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721" name=""/>
            <p:cNvSpPr/>
            <p:nvPr/>
          </p:nvSpPr>
          <p:spPr>
            <a:xfrm>
              <a:off x="760284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22" name=""/>
            <p:cNvSpPr/>
            <p:nvPr/>
          </p:nvSpPr>
          <p:spPr>
            <a:xfrm flipH="1">
              <a:off x="7624440" y="6123600"/>
              <a:ext cx="6804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723" name=""/>
            <p:cNvSpPr/>
            <p:nvPr/>
          </p:nvSpPr>
          <p:spPr>
            <a:xfrm flipH="1" flipV="1">
              <a:off x="755964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724" name=""/>
            <p:cNvSpPr/>
            <p:nvPr/>
          </p:nvSpPr>
          <p:spPr>
            <a:xfrm flipH="1">
              <a:off x="7649640" y="6275880"/>
              <a:ext cx="176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725" name=""/>
            <p:cNvSpPr/>
            <p:nvPr/>
          </p:nvSpPr>
          <p:spPr>
            <a:xfrm>
              <a:off x="7523280" y="6592680"/>
              <a:ext cx="62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26" name=""/>
            <p:cNvSpPr/>
            <p:nvPr/>
          </p:nvSpPr>
          <p:spPr>
            <a:xfrm flipH="1" flipV="1">
              <a:off x="7556760" y="6676560"/>
              <a:ext cx="8064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727" name=""/>
            <p:cNvSpPr/>
            <p:nvPr/>
          </p:nvSpPr>
          <p:spPr>
            <a:xfrm flipH="1">
              <a:off x="769104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728" name=""/>
            <p:cNvSpPr/>
            <p:nvPr/>
          </p:nvSpPr>
          <p:spPr>
            <a:xfrm>
              <a:off x="768600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29" name=""/>
            <p:cNvSpPr/>
            <p:nvPr/>
          </p:nvSpPr>
          <p:spPr>
            <a:xfrm>
              <a:off x="7690320" y="6343560"/>
              <a:ext cx="65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30" name=""/>
            <p:cNvSpPr/>
            <p:nvPr/>
          </p:nvSpPr>
          <p:spPr>
            <a:xfrm>
              <a:off x="768600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31" name=""/>
            <p:cNvSpPr/>
            <p:nvPr/>
          </p:nvSpPr>
          <p:spPr>
            <a:xfrm flipH="1">
              <a:off x="77763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732" name=""/>
            <p:cNvSpPr/>
            <p:nvPr/>
          </p:nvSpPr>
          <p:spPr>
            <a:xfrm flipH="1" flipV="1">
              <a:off x="7791120" y="6387120"/>
              <a:ext cx="6948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733" name=""/>
            <p:cNvSpPr/>
            <p:nvPr/>
          </p:nvSpPr>
          <p:spPr>
            <a:xfrm flipH="1">
              <a:off x="771912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34" name=""/>
            <p:cNvSpPr/>
            <p:nvPr/>
          </p:nvSpPr>
          <p:spPr>
            <a:xfrm flipH="1" flipV="1">
              <a:off x="7719120" y="641304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735" name=""/>
            <p:cNvSpPr/>
            <p:nvPr/>
          </p:nvSpPr>
          <p:spPr>
            <a:xfrm flipH="1">
              <a:off x="7780320" y="6505920"/>
              <a:ext cx="511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36" name=""/>
            <p:cNvSpPr/>
            <p:nvPr/>
          </p:nvSpPr>
          <p:spPr>
            <a:xfrm>
              <a:off x="78472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737" name=""/>
            <p:cNvSpPr/>
            <p:nvPr/>
          </p:nvSpPr>
          <p:spPr>
            <a:xfrm>
              <a:off x="7791480" y="661608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38" name=""/>
            <p:cNvSpPr/>
            <p:nvPr/>
          </p:nvSpPr>
          <p:spPr>
            <a:xfrm>
              <a:off x="7736040" y="6689880"/>
              <a:ext cx="5292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739" name=""/>
            <p:cNvSpPr/>
            <p:nvPr/>
          </p:nvSpPr>
          <p:spPr>
            <a:xfrm flipV="1">
              <a:off x="7898760" y="6444360"/>
              <a:ext cx="637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740" name=""/>
            <p:cNvSpPr/>
            <p:nvPr/>
          </p:nvSpPr>
          <p:spPr>
            <a:xfrm>
              <a:off x="7915320" y="647676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41" name=""/>
            <p:cNvSpPr/>
            <p:nvPr/>
          </p:nvSpPr>
          <p:spPr>
            <a:xfrm>
              <a:off x="7893000" y="6341040"/>
              <a:ext cx="3204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742" name=""/>
            <p:cNvSpPr/>
            <p:nvPr/>
          </p:nvSpPr>
          <p:spPr>
            <a:xfrm flipH="1">
              <a:off x="784332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743" name=""/>
            <p:cNvSpPr/>
            <p:nvPr/>
          </p:nvSpPr>
          <p:spPr>
            <a:xfrm>
              <a:off x="7893000" y="61070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44" name=""/>
            <p:cNvSpPr/>
            <p:nvPr/>
          </p:nvSpPr>
          <p:spPr>
            <a:xfrm>
              <a:off x="7899840" y="6201720"/>
              <a:ext cx="6084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745" name=""/>
            <p:cNvSpPr/>
            <p:nvPr/>
          </p:nvSpPr>
          <p:spPr>
            <a:xfrm>
              <a:off x="7919640" y="6630480"/>
              <a:ext cx="6660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746" name=""/>
            <p:cNvSpPr/>
            <p:nvPr/>
          </p:nvSpPr>
          <p:spPr>
            <a:xfrm>
              <a:off x="7791480" y="6197400"/>
              <a:ext cx="291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747" name=""/>
            <p:cNvSpPr/>
            <p:nvPr/>
          </p:nvSpPr>
          <p:spPr>
            <a:xfrm flipH="1">
              <a:off x="7738920" y="625500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748" name=""/>
            <p:cNvSpPr/>
            <p:nvPr/>
          </p:nvSpPr>
          <p:spPr>
            <a:xfrm flipH="1">
              <a:off x="7721640" y="6474240"/>
              <a:ext cx="817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749" name=""/>
            <p:cNvSpPr/>
            <p:nvPr/>
          </p:nvSpPr>
          <p:spPr>
            <a:xfrm flipH="1">
              <a:off x="7751160" y="652500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750" name=""/>
            <p:cNvSpPr/>
            <p:nvPr/>
          </p:nvSpPr>
          <p:spPr>
            <a:xfrm>
              <a:off x="7747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751" name=""/>
            <p:cNvSpPr/>
            <p:nvPr/>
          </p:nvSpPr>
          <p:spPr>
            <a:xfrm>
              <a:off x="783180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752" name=""/>
            <p:cNvSpPr/>
            <p:nvPr/>
          </p:nvSpPr>
          <p:spPr>
            <a:xfrm>
              <a:off x="7840440" y="6391800"/>
              <a:ext cx="568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753" name=""/>
            <p:cNvSpPr/>
            <p:nvPr/>
          </p:nvSpPr>
          <p:spPr>
            <a:xfrm flipH="1">
              <a:off x="7831440" y="6518880"/>
              <a:ext cx="72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754" name=""/>
            <p:cNvSpPr/>
            <p:nvPr/>
          </p:nvSpPr>
          <p:spPr>
            <a:xfrm>
              <a:off x="7898760" y="657576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755" name=""/>
            <p:cNvSpPr/>
            <p:nvPr/>
          </p:nvSpPr>
          <p:spPr>
            <a:xfrm>
              <a:off x="7893000" y="6227280"/>
              <a:ext cx="32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56" name=""/>
            <p:cNvSpPr/>
            <p:nvPr/>
          </p:nvSpPr>
          <p:spPr>
            <a:xfrm flipH="1">
              <a:off x="7916400" y="6123600"/>
              <a:ext cx="6948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757" name=""/>
            <p:cNvSpPr/>
            <p:nvPr/>
          </p:nvSpPr>
          <p:spPr>
            <a:xfrm flipH="1" flipV="1">
              <a:off x="7851240" y="6613560"/>
              <a:ext cx="7632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758" name=""/>
            <p:cNvSpPr/>
            <p:nvPr/>
          </p:nvSpPr>
          <p:spPr>
            <a:xfrm flipH="1">
              <a:off x="7941600" y="6275880"/>
              <a:ext cx="205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759" name=""/>
            <p:cNvSpPr/>
            <p:nvPr/>
          </p:nvSpPr>
          <p:spPr>
            <a:xfrm>
              <a:off x="7815240" y="6592680"/>
              <a:ext cx="6372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60" name=""/>
            <p:cNvSpPr/>
            <p:nvPr/>
          </p:nvSpPr>
          <p:spPr>
            <a:xfrm flipH="1" flipV="1">
              <a:off x="7846920" y="6691680"/>
              <a:ext cx="846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761" name=""/>
            <p:cNvSpPr/>
            <p:nvPr/>
          </p:nvSpPr>
          <p:spPr>
            <a:xfrm flipH="1">
              <a:off x="7981920" y="638568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762" name=""/>
            <p:cNvSpPr/>
            <p:nvPr/>
          </p:nvSpPr>
          <p:spPr>
            <a:xfrm>
              <a:off x="7977960" y="61700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63" name=""/>
            <p:cNvSpPr/>
            <p:nvPr/>
          </p:nvSpPr>
          <p:spPr>
            <a:xfrm>
              <a:off x="7983360" y="631404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64" name=""/>
            <p:cNvSpPr/>
            <p:nvPr/>
          </p:nvSpPr>
          <p:spPr>
            <a:xfrm>
              <a:off x="797796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65" name=""/>
            <p:cNvSpPr/>
            <p:nvPr/>
          </p:nvSpPr>
          <p:spPr>
            <a:xfrm flipH="1">
              <a:off x="7704000" y="6668640"/>
              <a:ext cx="356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766" name=""/>
            <p:cNvSpPr/>
            <p:nvPr/>
          </p:nvSpPr>
          <p:spPr>
            <a:xfrm flipH="1">
              <a:off x="808920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767" name=""/>
            <p:cNvSpPr/>
            <p:nvPr/>
          </p:nvSpPr>
          <p:spPr>
            <a:xfrm flipH="1" flipV="1">
              <a:off x="8105400" y="6413040"/>
              <a:ext cx="680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768" name=""/>
            <p:cNvSpPr/>
            <p:nvPr/>
          </p:nvSpPr>
          <p:spPr>
            <a:xfrm flipH="1">
              <a:off x="8033400" y="6201720"/>
              <a:ext cx="87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769" name=""/>
            <p:cNvSpPr/>
            <p:nvPr/>
          </p:nvSpPr>
          <p:spPr>
            <a:xfrm flipH="1">
              <a:off x="806832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770" name=""/>
            <p:cNvSpPr/>
            <p:nvPr/>
          </p:nvSpPr>
          <p:spPr>
            <a:xfrm flipH="1">
              <a:off x="8092080" y="6531120"/>
              <a:ext cx="54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71" name=""/>
            <p:cNvSpPr/>
            <p:nvPr/>
          </p:nvSpPr>
          <p:spPr>
            <a:xfrm>
              <a:off x="81601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772" name=""/>
            <p:cNvSpPr/>
            <p:nvPr/>
          </p:nvSpPr>
          <p:spPr>
            <a:xfrm>
              <a:off x="810288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73" name=""/>
            <p:cNvSpPr/>
            <p:nvPr/>
          </p:nvSpPr>
          <p:spPr>
            <a:xfrm>
              <a:off x="8044560" y="6732000"/>
              <a:ext cx="651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74" name=""/>
            <p:cNvSpPr/>
            <p:nvPr/>
          </p:nvSpPr>
          <p:spPr>
            <a:xfrm>
              <a:off x="8211600" y="648288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75" name=""/>
            <p:cNvSpPr/>
            <p:nvPr/>
          </p:nvSpPr>
          <p:spPr>
            <a:xfrm>
              <a:off x="8229600" y="650592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76" name=""/>
            <p:cNvSpPr/>
            <p:nvPr/>
          </p:nvSpPr>
          <p:spPr>
            <a:xfrm>
              <a:off x="8206200" y="636660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77" name=""/>
            <p:cNvSpPr/>
            <p:nvPr/>
          </p:nvSpPr>
          <p:spPr>
            <a:xfrm flipH="1">
              <a:off x="815544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78" name=""/>
            <p:cNvSpPr/>
            <p:nvPr/>
          </p:nvSpPr>
          <p:spPr>
            <a:xfrm>
              <a:off x="8165880" y="610704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79" name=""/>
            <p:cNvSpPr/>
            <p:nvPr/>
          </p:nvSpPr>
          <p:spPr>
            <a:xfrm>
              <a:off x="821304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780" name=""/>
            <p:cNvSpPr/>
            <p:nvPr/>
          </p:nvSpPr>
          <p:spPr>
            <a:xfrm>
              <a:off x="8233920" y="6653880"/>
              <a:ext cx="6516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781" name=""/>
            <p:cNvSpPr/>
            <p:nvPr/>
          </p:nvSpPr>
          <p:spPr>
            <a:xfrm>
              <a:off x="810288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82" name=""/>
            <p:cNvSpPr/>
            <p:nvPr/>
          </p:nvSpPr>
          <p:spPr>
            <a:xfrm flipH="1">
              <a:off x="8054280" y="6282360"/>
              <a:ext cx="45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783" name=""/>
            <p:cNvSpPr/>
            <p:nvPr/>
          </p:nvSpPr>
          <p:spPr>
            <a:xfrm flipH="1">
              <a:off x="803628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784" name=""/>
            <p:cNvSpPr/>
            <p:nvPr/>
          </p:nvSpPr>
          <p:spPr>
            <a:xfrm flipH="1">
              <a:off x="8066880" y="6554880"/>
              <a:ext cx="205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785" name=""/>
            <p:cNvSpPr/>
            <p:nvPr/>
          </p:nvSpPr>
          <p:spPr>
            <a:xfrm>
              <a:off x="8060040" y="6115680"/>
              <a:ext cx="540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786" name=""/>
            <p:cNvSpPr/>
            <p:nvPr/>
          </p:nvSpPr>
          <p:spPr>
            <a:xfrm>
              <a:off x="8125560" y="6090120"/>
              <a:ext cx="288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787" name=""/>
            <p:cNvSpPr/>
            <p:nvPr/>
          </p:nvSpPr>
          <p:spPr>
            <a:xfrm>
              <a:off x="815328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788" name=""/>
            <p:cNvSpPr/>
            <p:nvPr/>
          </p:nvSpPr>
          <p:spPr>
            <a:xfrm flipH="1">
              <a:off x="8146080" y="6546240"/>
              <a:ext cx="6912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789" name=""/>
            <p:cNvSpPr/>
            <p:nvPr/>
          </p:nvSpPr>
          <p:spPr>
            <a:xfrm>
              <a:off x="8211600" y="6603120"/>
              <a:ext cx="694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790" name=""/>
            <p:cNvSpPr/>
            <p:nvPr/>
          </p:nvSpPr>
          <p:spPr>
            <a:xfrm>
              <a:off x="8206200" y="6255000"/>
              <a:ext cx="327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791" name=""/>
            <p:cNvSpPr/>
            <p:nvPr/>
          </p:nvSpPr>
          <p:spPr>
            <a:xfrm flipH="1">
              <a:off x="8271360" y="6096600"/>
              <a:ext cx="691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792" name=""/>
            <p:cNvSpPr/>
            <p:nvPr/>
          </p:nvSpPr>
          <p:spPr>
            <a:xfrm flipH="1" flipV="1">
              <a:off x="816696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793" name=""/>
            <p:cNvSpPr/>
            <p:nvPr/>
          </p:nvSpPr>
          <p:spPr>
            <a:xfrm flipH="1">
              <a:off x="825444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794" name=""/>
            <p:cNvSpPr/>
            <p:nvPr/>
          </p:nvSpPr>
          <p:spPr>
            <a:xfrm>
              <a:off x="8128080" y="662220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95" name=""/>
            <p:cNvSpPr/>
            <p:nvPr/>
          </p:nvSpPr>
          <p:spPr>
            <a:xfrm flipH="1">
              <a:off x="8296200" y="6413040"/>
              <a:ext cx="223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796" name=""/>
            <p:cNvSpPr/>
            <p:nvPr/>
          </p:nvSpPr>
          <p:spPr>
            <a:xfrm>
              <a:off x="8292240" y="6227280"/>
              <a:ext cx="291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97" name=""/>
            <p:cNvSpPr/>
            <p:nvPr/>
          </p:nvSpPr>
          <p:spPr>
            <a:xfrm>
              <a:off x="8296200" y="634356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98" name=""/>
            <p:cNvSpPr/>
            <p:nvPr/>
          </p:nvSpPr>
          <p:spPr>
            <a:xfrm>
              <a:off x="8292240" y="6531120"/>
              <a:ext cx="29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99" name=""/>
            <p:cNvSpPr/>
            <p:nvPr/>
          </p:nvSpPr>
          <p:spPr>
            <a:xfrm flipH="1">
              <a:off x="8360280" y="6343560"/>
              <a:ext cx="59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800" name=""/>
            <p:cNvSpPr/>
            <p:nvPr/>
          </p:nvSpPr>
          <p:spPr>
            <a:xfrm flipH="1" flipV="1">
              <a:off x="837684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01" name=""/>
            <p:cNvSpPr/>
            <p:nvPr/>
          </p:nvSpPr>
          <p:spPr>
            <a:xfrm flipH="1">
              <a:off x="8305560" y="6201720"/>
              <a:ext cx="84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802" name=""/>
            <p:cNvSpPr/>
            <p:nvPr/>
          </p:nvSpPr>
          <p:spPr>
            <a:xfrm flipH="1">
              <a:off x="8339400" y="6385680"/>
              <a:ext cx="1656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803" name=""/>
            <p:cNvSpPr/>
            <p:nvPr/>
          </p:nvSpPr>
          <p:spPr>
            <a:xfrm flipH="1">
              <a:off x="836388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04" name=""/>
            <p:cNvSpPr/>
            <p:nvPr/>
          </p:nvSpPr>
          <p:spPr>
            <a:xfrm>
              <a:off x="84312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805" name=""/>
            <p:cNvSpPr/>
            <p:nvPr/>
          </p:nvSpPr>
          <p:spPr>
            <a:xfrm>
              <a:off x="8375760" y="66434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06" name=""/>
            <p:cNvSpPr/>
            <p:nvPr/>
          </p:nvSpPr>
          <p:spPr>
            <a:xfrm flipV="1">
              <a:off x="8322840" y="669852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07" name=""/>
            <p:cNvSpPr/>
            <p:nvPr/>
          </p:nvSpPr>
          <p:spPr>
            <a:xfrm>
              <a:off x="848412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08" name=""/>
            <p:cNvSpPr/>
            <p:nvPr/>
          </p:nvSpPr>
          <p:spPr>
            <a:xfrm>
              <a:off x="850068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09" name=""/>
            <p:cNvSpPr/>
            <p:nvPr/>
          </p:nvSpPr>
          <p:spPr>
            <a:xfrm>
              <a:off x="8478360" y="636660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10" name=""/>
            <p:cNvSpPr/>
            <p:nvPr/>
          </p:nvSpPr>
          <p:spPr>
            <a:xfrm flipH="1">
              <a:off x="8429760" y="6309720"/>
              <a:ext cx="48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11" name=""/>
            <p:cNvSpPr/>
            <p:nvPr/>
          </p:nvSpPr>
          <p:spPr>
            <a:xfrm>
              <a:off x="8396640" y="6081480"/>
              <a:ext cx="496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12" name=""/>
            <p:cNvSpPr/>
            <p:nvPr/>
          </p:nvSpPr>
          <p:spPr>
            <a:xfrm>
              <a:off x="8484120" y="6229440"/>
              <a:ext cx="6228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813" name=""/>
            <p:cNvSpPr/>
            <p:nvPr/>
          </p:nvSpPr>
          <p:spPr>
            <a:xfrm>
              <a:off x="85035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814" name=""/>
            <p:cNvSpPr/>
            <p:nvPr/>
          </p:nvSpPr>
          <p:spPr>
            <a:xfrm>
              <a:off x="837576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15" name=""/>
            <p:cNvSpPr/>
            <p:nvPr/>
          </p:nvSpPr>
          <p:spPr>
            <a:xfrm flipH="1">
              <a:off x="8323560" y="625500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16" name=""/>
            <p:cNvSpPr/>
            <p:nvPr/>
          </p:nvSpPr>
          <p:spPr>
            <a:xfrm flipH="1">
              <a:off x="8307360" y="6501600"/>
              <a:ext cx="835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817" name=""/>
            <p:cNvSpPr/>
            <p:nvPr/>
          </p:nvSpPr>
          <p:spPr>
            <a:xfrm flipH="1">
              <a:off x="8336520" y="6554880"/>
              <a:ext cx="22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18" name=""/>
            <p:cNvSpPr/>
            <p:nvPr/>
          </p:nvSpPr>
          <p:spPr>
            <a:xfrm>
              <a:off x="8353440" y="6115680"/>
              <a:ext cx="511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819" name=""/>
            <p:cNvSpPr/>
            <p:nvPr/>
          </p:nvSpPr>
          <p:spPr>
            <a:xfrm>
              <a:off x="84157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820" name=""/>
            <p:cNvSpPr/>
            <p:nvPr/>
          </p:nvSpPr>
          <p:spPr>
            <a:xfrm>
              <a:off x="842436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821" name=""/>
            <p:cNvSpPr/>
            <p:nvPr/>
          </p:nvSpPr>
          <p:spPr>
            <a:xfrm flipH="1">
              <a:off x="8417160" y="6546240"/>
              <a:ext cx="7344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822" name=""/>
            <p:cNvSpPr/>
            <p:nvPr/>
          </p:nvSpPr>
          <p:spPr>
            <a:xfrm>
              <a:off x="8484120" y="6603120"/>
              <a:ext cx="680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823" name=""/>
            <p:cNvSpPr/>
            <p:nvPr/>
          </p:nvSpPr>
          <p:spPr>
            <a:xfrm>
              <a:off x="8478360" y="6255000"/>
              <a:ext cx="316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24" name=""/>
            <p:cNvSpPr/>
            <p:nvPr/>
          </p:nvSpPr>
          <p:spPr>
            <a:xfrm flipH="1">
              <a:off x="8504640" y="6096600"/>
              <a:ext cx="651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825" name=""/>
            <p:cNvSpPr/>
            <p:nvPr/>
          </p:nvSpPr>
          <p:spPr>
            <a:xfrm flipH="1" flipV="1">
              <a:off x="8436960" y="6641280"/>
              <a:ext cx="7488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826" name=""/>
            <p:cNvSpPr/>
            <p:nvPr/>
          </p:nvSpPr>
          <p:spPr>
            <a:xfrm flipH="1">
              <a:off x="8525520" y="6301440"/>
              <a:ext cx="205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827" name=""/>
            <p:cNvSpPr/>
            <p:nvPr/>
          </p:nvSpPr>
          <p:spPr>
            <a:xfrm>
              <a:off x="8400600" y="6622200"/>
              <a:ext cx="622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28" name=""/>
            <p:cNvSpPr/>
            <p:nvPr/>
          </p:nvSpPr>
          <p:spPr>
            <a:xfrm flipH="1" flipV="1">
              <a:off x="8433720" y="6708960"/>
              <a:ext cx="817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829" name=""/>
            <p:cNvSpPr/>
            <p:nvPr/>
          </p:nvSpPr>
          <p:spPr>
            <a:xfrm flipH="1">
              <a:off x="856692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830" name=""/>
            <p:cNvSpPr/>
            <p:nvPr/>
          </p:nvSpPr>
          <p:spPr>
            <a:xfrm>
              <a:off x="8563320" y="617004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31" name=""/>
            <p:cNvSpPr/>
            <p:nvPr/>
          </p:nvSpPr>
          <p:spPr>
            <a:xfrm>
              <a:off x="8567280" y="637092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32" name=""/>
            <p:cNvSpPr/>
            <p:nvPr/>
          </p:nvSpPr>
          <p:spPr>
            <a:xfrm>
              <a:off x="8563320" y="653112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33" name=""/>
            <p:cNvSpPr/>
            <p:nvPr/>
          </p:nvSpPr>
          <p:spPr>
            <a:xfrm flipH="1">
              <a:off x="8651880" y="6343560"/>
              <a:ext cx="6084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834" name=""/>
            <p:cNvSpPr/>
            <p:nvPr/>
          </p:nvSpPr>
          <p:spPr>
            <a:xfrm flipH="1" flipV="1">
              <a:off x="8668800" y="6413040"/>
              <a:ext cx="69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35" name=""/>
            <p:cNvSpPr/>
            <p:nvPr/>
          </p:nvSpPr>
          <p:spPr>
            <a:xfrm flipH="1">
              <a:off x="8596440" y="6176520"/>
              <a:ext cx="860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836" name=""/>
            <p:cNvSpPr/>
            <p:nvPr/>
          </p:nvSpPr>
          <p:spPr>
            <a:xfrm flipH="1" flipV="1">
              <a:off x="8596440" y="6442560"/>
              <a:ext cx="860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837" name=""/>
            <p:cNvSpPr/>
            <p:nvPr/>
          </p:nvSpPr>
          <p:spPr>
            <a:xfrm flipH="1">
              <a:off x="8655840" y="6531120"/>
              <a:ext cx="529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38" name=""/>
            <p:cNvSpPr/>
            <p:nvPr/>
          </p:nvSpPr>
          <p:spPr>
            <a:xfrm>
              <a:off x="872316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839" name=""/>
            <p:cNvSpPr/>
            <p:nvPr/>
          </p:nvSpPr>
          <p:spPr>
            <a:xfrm>
              <a:off x="8667720" y="664344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40" name=""/>
            <p:cNvSpPr/>
            <p:nvPr/>
          </p:nvSpPr>
          <p:spPr>
            <a:xfrm>
              <a:off x="8613360" y="6716880"/>
              <a:ext cx="540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841" name=""/>
            <p:cNvSpPr/>
            <p:nvPr/>
          </p:nvSpPr>
          <p:spPr>
            <a:xfrm>
              <a:off x="8776080" y="6482880"/>
              <a:ext cx="633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42" name=""/>
            <p:cNvSpPr/>
            <p:nvPr/>
          </p:nvSpPr>
          <p:spPr>
            <a:xfrm>
              <a:off x="8792640" y="650592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43" name=""/>
            <p:cNvSpPr/>
            <p:nvPr/>
          </p:nvSpPr>
          <p:spPr>
            <a:xfrm>
              <a:off x="8771760" y="636660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44" name=""/>
            <p:cNvSpPr/>
            <p:nvPr/>
          </p:nvSpPr>
          <p:spPr>
            <a:xfrm flipH="1">
              <a:off x="8719920" y="6309720"/>
              <a:ext cx="500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45" name=""/>
            <p:cNvSpPr/>
            <p:nvPr/>
          </p:nvSpPr>
          <p:spPr>
            <a:xfrm>
              <a:off x="8668800" y="6075360"/>
              <a:ext cx="4824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846" name=""/>
            <p:cNvSpPr/>
            <p:nvPr/>
          </p:nvSpPr>
          <p:spPr>
            <a:xfrm>
              <a:off x="8778600" y="6229440"/>
              <a:ext cx="5976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847" name=""/>
            <p:cNvSpPr/>
            <p:nvPr/>
          </p:nvSpPr>
          <p:spPr>
            <a:xfrm>
              <a:off x="8795160" y="6658200"/>
              <a:ext cx="69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848" name=""/>
            <p:cNvSpPr/>
            <p:nvPr/>
          </p:nvSpPr>
          <p:spPr>
            <a:xfrm>
              <a:off x="8667720" y="622728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49" name=""/>
            <p:cNvSpPr/>
            <p:nvPr/>
          </p:nvSpPr>
          <p:spPr>
            <a:xfrm flipH="1">
              <a:off x="8617680" y="6282360"/>
              <a:ext cx="48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50" name=""/>
            <p:cNvSpPr/>
            <p:nvPr/>
          </p:nvSpPr>
          <p:spPr>
            <a:xfrm flipH="1">
              <a:off x="8599320" y="650160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851" name=""/>
            <p:cNvSpPr/>
            <p:nvPr/>
          </p:nvSpPr>
          <p:spPr>
            <a:xfrm flipH="1">
              <a:off x="862992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52" name=""/>
            <p:cNvSpPr/>
            <p:nvPr/>
          </p:nvSpPr>
          <p:spPr>
            <a:xfrm>
              <a:off x="858420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853" name=""/>
            <p:cNvSpPr/>
            <p:nvPr/>
          </p:nvSpPr>
          <p:spPr>
            <a:xfrm>
              <a:off x="8709120" y="6115680"/>
              <a:ext cx="3024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854" name=""/>
            <p:cNvSpPr/>
            <p:nvPr/>
          </p:nvSpPr>
          <p:spPr>
            <a:xfrm>
              <a:off x="8716320" y="6417360"/>
              <a:ext cx="583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855" name=""/>
            <p:cNvSpPr/>
            <p:nvPr/>
          </p:nvSpPr>
          <p:spPr>
            <a:xfrm flipH="1">
              <a:off x="8709120" y="6546240"/>
              <a:ext cx="72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856" name=""/>
            <p:cNvSpPr/>
            <p:nvPr/>
          </p:nvSpPr>
          <p:spPr>
            <a:xfrm>
              <a:off x="8778600" y="6603120"/>
              <a:ext cx="637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857" name=""/>
            <p:cNvSpPr/>
            <p:nvPr/>
          </p:nvSpPr>
          <p:spPr>
            <a:xfrm>
              <a:off x="8771760" y="6255000"/>
              <a:ext cx="302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58" name=""/>
            <p:cNvSpPr/>
            <p:nvPr/>
          </p:nvSpPr>
          <p:spPr>
            <a:xfrm flipH="1">
              <a:off x="8732520" y="609660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859" name=""/>
            <p:cNvSpPr/>
            <p:nvPr/>
          </p:nvSpPr>
          <p:spPr>
            <a:xfrm flipH="1" flipV="1">
              <a:off x="8730000" y="6641280"/>
              <a:ext cx="734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860" name=""/>
            <p:cNvSpPr/>
            <p:nvPr/>
          </p:nvSpPr>
          <p:spPr>
            <a:xfrm flipH="1">
              <a:off x="881748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861" name=""/>
            <p:cNvSpPr/>
            <p:nvPr/>
          </p:nvSpPr>
          <p:spPr>
            <a:xfrm>
              <a:off x="8693640" y="6622200"/>
              <a:ext cx="62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62" name=""/>
            <p:cNvSpPr/>
            <p:nvPr/>
          </p:nvSpPr>
          <p:spPr>
            <a:xfrm flipH="1" flipV="1">
              <a:off x="8721720" y="6720840"/>
              <a:ext cx="871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863" name=""/>
            <p:cNvSpPr/>
            <p:nvPr/>
          </p:nvSpPr>
          <p:spPr>
            <a:xfrm flipH="1">
              <a:off x="8858880" y="6413040"/>
              <a:ext cx="2052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864" name=""/>
            <p:cNvSpPr/>
            <p:nvPr/>
          </p:nvSpPr>
          <p:spPr>
            <a:xfrm>
              <a:off x="8813520" y="614484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65" name=""/>
            <p:cNvSpPr/>
            <p:nvPr/>
          </p:nvSpPr>
          <p:spPr>
            <a:xfrm>
              <a:off x="8817840" y="6121800"/>
              <a:ext cx="63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66" name=""/>
            <p:cNvSpPr/>
            <p:nvPr/>
          </p:nvSpPr>
          <p:spPr>
            <a:xfrm>
              <a:off x="8853840" y="653112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67" name=""/>
            <p:cNvSpPr/>
            <p:nvPr/>
          </p:nvSpPr>
          <p:spPr>
            <a:xfrm flipH="1">
              <a:off x="8579520" y="6639120"/>
              <a:ext cx="3852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868" name=""/>
            <p:cNvSpPr/>
            <p:nvPr/>
          </p:nvSpPr>
          <p:spPr>
            <a:xfrm>
              <a:off x="8019720" y="616212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69" name=""/>
            <p:cNvSpPr/>
            <p:nvPr/>
          </p:nvSpPr>
          <p:spPr>
            <a:xfrm>
              <a:off x="8250480" y="61894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70" name=""/>
            <p:cNvSpPr/>
            <p:nvPr/>
          </p:nvSpPr>
          <p:spPr>
            <a:xfrm flipV="1">
              <a:off x="8004240" y="6660000"/>
              <a:ext cx="4032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71" name=""/>
            <p:cNvSpPr/>
            <p:nvPr/>
          </p:nvSpPr>
          <p:spPr>
            <a:xfrm>
              <a:off x="8210160" y="6068880"/>
              <a:ext cx="44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872" name=""/>
            <p:cNvSpPr/>
            <p:nvPr/>
          </p:nvSpPr>
          <p:spPr>
            <a:xfrm>
              <a:off x="7997400" y="663480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73" name=""/>
            <p:cNvSpPr/>
            <p:nvPr/>
          </p:nvSpPr>
          <p:spPr>
            <a:xfrm>
              <a:off x="8563320" y="6301440"/>
              <a:ext cx="50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74" name=""/>
            <p:cNvSpPr/>
            <p:nvPr/>
          </p:nvSpPr>
          <p:spPr>
            <a:xfrm flipV="1">
              <a:off x="8853840" y="6227280"/>
              <a:ext cx="136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875" name=""/>
            <p:cNvSpPr/>
            <p:nvPr/>
          </p:nvSpPr>
          <p:spPr>
            <a:xfrm flipH="1">
              <a:off x="8010720" y="6446880"/>
              <a:ext cx="4716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876" name=""/>
            <p:cNvSpPr/>
            <p:nvPr/>
          </p:nvSpPr>
          <p:spPr>
            <a:xfrm flipH="1">
              <a:off x="8807760" y="6390000"/>
              <a:ext cx="8352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877" name=""/>
            <p:cNvSpPr/>
            <p:nvPr/>
          </p:nvSpPr>
          <p:spPr>
            <a:xfrm flipH="1">
              <a:off x="7993080" y="6083640"/>
              <a:ext cx="846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878" name=""/>
            <p:cNvSpPr/>
            <p:nvPr/>
          </p:nvSpPr>
          <p:spPr>
            <a:xfrm flipH="1">
              <a:off x="8180640" y="6140520"/>
              <a:ext cx="8172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879" name=""/>
            <p:cNvSpPr/>
            <p:nvPr/>
          </p:nvSpPr>
          <p:spPr>
            <a:xfrm flipH="1">
              <a:off x="8924760" y="6311880"/>
              <a:ext cx="597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880" name=""/>
            <p:cNvSpPr/>
            <p:nvPr/>
          </p:nvSpPr>
          <p:spPr>
            <a:xfrm flipH="1" flipV="1">
              <a:off x="8942760" y="6387120"/>
              <a:ext cx="6624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881" name=""/>
            <p:cNvSpPr/>
            <p:nvPr/>
          </p:nvSpPr>
          <p:spPr>
            <a:xfrm flipH="1">
              <a:off x="8905320" y="6360480"/>
              <a:ext cx="151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82" name=""/>
            <p:cNvSpPr/>
            <p:nvPr/>
          </p:nvSpPr>
          <p:spPr>
            <a:xfrm flipH="1">
              <a:off x="8927280" y="6505920"/>
              <a:ext cx="54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883" name=""/>
            <p:cNvSpPr/>
            <p:nvPr/>
          </p:nvSpPr>
          <p:spPr>
            <a:xfrm>
              <a:off x="8995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84" name=""/>
            <p:cNvSpPr/>
            <p:nvPr/>
          </p:nvSpPr>
          <p:spPr>
            <a:xfrm>
              <a:off x="8896680" y="667476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885" name=""/>
            <p:cNvSpPr/>
            <p:nvPr/>
          </p:nvSpPr>
          <p:spPr>
            <a:xfrm flipV="1">
              <a:off x="9048600" y="6444360"/>
              <a:ext cx="622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886" name=""/>
            <p:cNvSpPr/>
            <p:nvPr/>
          </p:nvSpPr>
          <p:spPr>
            <a:xfrm>
              <a:off x="9062280" y="6476760"/>
              <a:ext cx="3312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87" name=""/>
            <p:cNvSpPr/>
            <p:nvPr/>
          </p:nvSpPr>
          <p:spPr>
            <a:xfrm>
              <a:off x="9044280" y="6341040"/>
              <a:ext cx="288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888" name=""/>
            <p:cNvSpPr/>
            <p:nvPr/>
          </p:nvSpPr>
          <p:spPr>
            <a:xfrm flipH="1">
              <a:off x="8992440" y="6282360"/>
              <a:ext cx="48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89" name=""/>
            <p:cNvSpPr/>
            <p:nvPr/>
          </p:nvSpPr>
          <p:spPr>
            <a:xfrm>
              <a:off x="9044280" y="610704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90" name=""/>
            <p:cNvSpPr/>
            <p:nvPr/>
          </p:nvSpPr>
          <p:spPr>
            <a:xfrm>
              <a:off x="9049680" y="6201720"/>
              <a:ext cx="59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891" name=""/>
            <p:cNvSpPr/>
            <p:nvPr/>
          </p:nvSpPr>
          <p:spPr>
            <a:xfrm>
              <a:off x="8938440" y="6197400"/>
              <a:ext cx="3204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892" name=""/>
            <p:cNvSpPr/>
            <p:nvPr/>
          </p:nvSpPr>
          <p:spPr>
            <a:xfrm flipH="1">
              <a:off x="8888400" y="6255000"/>
              <a:ext cx="47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93" name=""/>
            <p:cNvSpPr/>
            <p:nvPr/>
          </p:nvSpPr>
          <p:spPr>
            <a:xfrm flipH="1">
              <a:off x="8901000" y="6525000"/>
              <a:ext cx="223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894" name=""/>
            <p:cNvSpPr/>
            <p:nvPr/>
          </p:nvSpPr>
          <p:spPr>
            <a:xfrm>
              <a:off x="8896680" y="609012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895" name=""/>
            <p:cNvSpPr/>
            <p:nvPr/>
          </p:nvSpPr>
          <p:spPr>
            <a:xfrm>
              <a:off x="8981640" y="6090120"/>
              <a:ext cx="302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896" name=""/>
            <p:cNvSpPr/>
            <p:nvPr/>
          </p:nvSpPr>
          <p:spPr>
            <a:xfrm>
              <a:off x="8987400" y="6391800"/>
              <a:ext cx="58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897" name=""/>
            <p:cNvSpPr/>
            <p:nvPr/>
          </p:nvSpPr>
          <p:spPr>
            <a:xfrm flipH="1">
              <a:off x="8980200" y="6518880"/>
              <a:ext cx="7092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898" name=""/>
            <p:cNvSpPr/>
            <p:nvPr/>
          </p:nvSpPr>
          <p:spPr>
            <a:xfrm>
              <a:off x="9048600" y="6575760"/>
              <a:ext cx="666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899" name=""/>
            <p:cNvSpPr/>
            <p:nvPr/>
          </p:nvSpPr>
          <p:spPr>
            <a:xfrm>
              <a:off x="9044280" y="6227280"/>
              <a:ext cx="288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00" name=""/>
            <p:cNvSpPr/>
            <p:nvPr/>
          </p:nvSpPr>
          <p:spPr>
            <a:xfrm flipH="1">
              <a:off x="9065160" y="6123600"/>
              <a:ext cx="69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901" name=""/>
            <p:cNvSpPr/>
            <p:nvPr/>
          </p:nvSpPr>
          <p:spPr>
            <a:xfrm flipH="1" flipV="1">
              <a:off x="9001080" y="6613560"/>
              <a:ext cx="734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902" name=""/>
            <p:cNvSpPr/>
            <p:nvPr/>
          </p:nvSpPr>
          <p:spPr>
            <a:xfrm flipH="1">
              <a:off x="9090000" y="6275880"/>
              <a:ext cx="2232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903" name=""/>
            <p:cNvSpPr/>
            <p:nvPr/>
          </p:nvSpPr>
          <p:spPr>
            <a:xfrm>
              <a:off x="8966520" y="6592680"/>
              <a:ext cx="60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904" name=""/>
            <p:cNvSpPr/>
            <p:nvPr/>
          </p:nvSpPr>
          <p:spPr>
            <a:xfrm flipH="1" flipV="1">
              <a:off x="8993880" y="6691680"/>
              <a:ext cx="860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905" name=""/>
            <p:cNvSpPr/>
            <p:nvPr/>
          </p:nvSpPr>
          <p:spPr>
            <a:xfrm>
              <a:off x="8951040" y="6634800"/>
              <a:ext cx="540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906" name=""/>
            <p:cNvSpPr/>
            <p:nvPr/>
          </p:nvSpPr>
          <p:spPr>
            <a:xfrm>
              <a:off x="735228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07" name=""/>
            <p:cNvSpPr/>
            <p:nvPr/>
          </p:nvSpPr>
          <p:spPr>
            <a:xfrm>
              <a:off x="7203600" y="6755400"/>
              <a:ext cx="5112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908" name=""/>
            <p:cNvSpPr/>
            <p:nvPr/>
          </p:nvSpPr>
          <p:spPr>
            <a:xfrm>
              <a:off x="728712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909" name=""/>
            <p:cNvSpPr/>
            <p:nvPr/>
          </p:nvSpPr>
          <p:spPr>
            <a:xfrm flipH="1">
              <a:off x="737424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910" name=""/>
            <p:cNvSpPr/>
            <p:nvPr/>
          </p:nvSpPr>
          <p:spPr>
            <a:xfrm>
              <a:off x="7621920" y="677628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11" name=""/>
            <p:cNvSpPr/>
            <p:nvPr/>
          </p:nvSpPr>
          <p:spPr>
            <a:xfrm>
              <a:off x="7474680" y="6755400"/>
              <a:ext cx="540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912" name=""/>
            <p:cNvSpPr/>
            <p:nvPr/>
          </p:nvSpPr>
          <p:spPr>
            <a:xfrm>
              <a:off x="755964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913" name=""/>
            <p:cNvSpPr/>
            <p:nvPr/>
          </p:nvSpPr>
          <p:spPr>
            <a:xfrm flipH="1">
              <a:off x="7646760" y="6791400"/>
              <a:ext cx="6804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914" name=""/>
            <p:cNvSpPr/>
            <p:nvPr/>
          </p:nvSpPr>
          <p:spPr>
            <a:xfrm>
              <a:off x="9105480" y="661608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915" name=""/>
            <p:cNvSpPr/>
            <p:nvPr/>
          </p:nvSpPr>
          <p:spPr>
            <a:xfrm>
              <a:off x="7915320" y="6776280"/>
              <a:ext cx="511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16" name=""/>
            <p:cNvSpPr/>
            <p:nvPr/>
          </p:nvSpPr>
          <p:spPr>
            <a:xfrm>
              <a:off x="776808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917" name=""/>
            <p:cNvSpPr/>
            <p:nvPr/>
          </p:nvSpPr>
          <p:spPr>
            <a:xfrm>
              <a:off x="7853040" y="6755400"/>
              <a:ext cx="288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918" name=""/>
            <p:cNvSpPr/>
            <p:nvPr/>
          </p:nvSpPr>
          <p:spPr>
            <a:xfrm flipH="1">
              <a:off x="7937640" y="6791400"/>
              <a:ext cx="6840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919" name=""/>
            <p:cNvSpPr/>
            <p:nvPr/>
          </p:nvSpPr>
          <p:spPr>
            <a:xfrm>
              <a:off x="8186400" y="677628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20" name=""/>
            <p:cNvSpPr/>
            <p:nvPr/>
          </p:nvSpPr>
          <p:spPr>
            <a:xfrm>
              <a:off x="808380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921" name=""/>
            <p:cNvSpPr/>
            <p:nvPr/>
          </p:nvSpPr>
          <p:spPr>
            <a:xfrm>
              <a:off x="8145000" y="6755400"/>
              <a:ext cx="302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922" name=""/>
            <p:cNvSpPr/>
            <p:nvPr/>
          </p:nvSpPr>
          <p:spPr>
            <a:xfrm flipH="1">
              <a:off x="8292960" y="6765840"/>
              <a:ext cx="6660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923" name=""/>
            <p:cNvSpPr/>
            <p:nvPr/>
          </p:nvSpPr>
          <p:spPr>
            <a:xfrm>
              <a:off x="8415720" y="6746760"/>
              <a:ext cx="514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24" name=""/>
            <p:cNvSpPr/>
            <p:nvPr/>
          </p:nvSpPr>
          <p:spPr>
            <a:xfrm>
              <a:off x="8375760" y="6784560"/>
              <a:ext cx="4968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925" name=""/>
            <p:cNvSpPr/>
            <p:nvPr/>
          </p:nvSpPr>
          <p:spPr>
            <a:xfrm>
              <a:off x="843696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26" name=""/>
            <p:cNvSpPr/>
            <p:nvPr/>
          </p:nvSpPr>
          <p:spPr>
            <a:xfrm flipH="1">
              <a:off x="8522640" y="676584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927" name=""/>
            <p:cNvSpPr/>
            <p:nvPr/>
          </p:nvSpPr>
          <p:spPr>
            <a:xfrm>
              <a:off x="8691120" y="6740640"/>
              <a:ext cx="4536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928" name=""/>
            <p:cNvSpPr/>
            <p:nvPr/>
          </p:nvSpPr>
          <p:spPr>
            <a:xfrm>
              <a:off x="8603640" y="6755400"/>
              <a:ext cx="5256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929" name=""/>
            <p:cNvSpPr/>
            <p:nvPr/>
          </p:nvSpPr>
          <p:spPr>
            <a:xfrm>
              <a:off x="8728920" y="6784560"/>
              <a:ext cx="316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30" name=""/>
            <p:cNvSpPr/>
            <p:nvPr/>
          </p:nvSpPr>
          <p:spPr>
            <a:xfrm flipH="1">
              <a:off x="8754840" y="6765840"/>
              <a:ext cx="655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931" name=""/>
            <p:cNvSpPr/>
            <p:nvPr/>
          </p:nvSpPr>
          <p:spPr>
            <a:xfrm>
              <a:off x="8834400" y="6784560"/>
              <a:ext cx="302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32" name=""/>
            <p:cNvSpPr/>
            <p:nvPr/>
          </p:nvSpPr>
          <p:spPr>
            <a:xfrm>
              <a:off x="8903880" y="6816600"/>
              <a:ext cx="608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33" name=""/>
            <p:cNvSpPr/>
            <p:nvPr/>
          </p:nvSpPr>
          <p:spPr>
            <a:xfrm>
              <a:off x="8231040" y="6738120"/>
              <a:ext cx="4536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934" name=""/>
            <p:cNvSpPr/>
            <p:nvPr/>
          </p:nvSpPr>
          <p:spPr>
            <a:xfrm flipH="1">
              <a:off x="8201520" y="6809760"/>
              <a:ext cx="835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935" name=""/>
            <p:cNvSpPr/>
            <p:nvPr/>
          </p:nvSpPr>
          <p:spPr>
            <a:xfrm>
              <a:off x="9062280" y="6803640"/>
              <a:ext cx="529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36" name=""/>
            <p:cNvSpPr/>
            <p:nvPr/>
          </p:nvSpPr>
          <p:spPr>
            <a:xfrm>
              <a:off x="8876160" y="675540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937" name=""/>
            <p:cNvSpPr/>
            <p:nvPr/>
          </p:nvSpPr>
          <p:spPr>
            <a:xfrm>
              <a:off x="9001080" y="6755400"/>
              <a:ext cx="3168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938" name=""/>
            <p:cNvSpPr/>
            <p:nvPr/>
          </p:nvSpPr>
          <p:spPr>
            <a:xfrm flipH="1">
              <a:off x="9045360" y="6708960"/>
              <a:ext cx="680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939" name=""/>
            <p:cNvSpPr/>
            <p:nvPr/>
          </p:nvSpPr>
          <p:spPr>
            <a:xfrm>
              <a:off x="9113760" y="6474240"/>
              <a:ext cx="136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940" name=""/>
            <p:cNvSpPr/>
            <p:nvPr/>
          </p:nvSpPr>
          <p:spPr>
            <a:xfrm>
              <a:off x="7747200" y="6812280"/>
              <a:ext cx="5292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941" name=""/>
            <p:cNvSpPr/>
            <p:nvPr/>
          </p:nvSpPr>
          <p:spPr>
            <a:xfrm>
              <a:off x="8019720" y="6831000"/>
              <a:ext cx="52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942" name=""/>
            <p:cNvSpPr/>
            <p:nvPr/>
          </p:nvSpPr>
          <p:spPr>
            <a:xfrm flipV="1">
              <a:off x="7178760" y="6816240"/>
              <a:ext cx="6372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943" name=""/>
            <p:cNvSpPr/>
            <p:nvPr/>
          </p:nvSpPr>
          <p:spPr>
            <a:xfrm flipH="1">
              <a:off x="8642520" y="6809760"/>
              <a:ext cx="8064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944" name=""/>
            <p:cNvSpPr/>
            <p:nvPr/>
          </p:nvSpPr>
          <p:spPr>
            <a:xfrm flipH="1" flipV="1">
              <a:off x="7455240" y="6778080"/>
              <a:ext cx="7344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945" name=""/>
            <p:cNvSpPr/>
            <p:nvPr/>
          </p:nvSpPr>
          <p:spPr>
            <a:xfrm flipH="1" flipV="1">
              <a:off x="845784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946" name=""/>
            <p:cNvSpPr/>
            <p:nvPr/>
          </p:nvSpPr>
          <p:spPr>
            <a:xfrm flipH="1" flipV="1">
              <a:off x="8563320" y="6778080"/>
              <a:ext cx="72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947" name=""/>
          <p:cNvSpPr/>
          <p:nvPr/>
        </p:nvSpPr>
        <p:spPr>
          <a:xfrm>
            <a:off x="7157880" y="6141960"/>
            <a:ext cx="198612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ÉNÉTIQUE</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ET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948" name=""/>
          <p:cNvSpPr/>
          <p:nvPr/>
        </p:nvSpPr>
        <p:spPr>
          <a:xfrm>
            <a:off x="1473120" y="6442200"/>
            <a:ext cx="1905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E06D-FE4A-417A-862D-EE14306BED18}"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949" name=""/>
          <p:cNvSpPr/>
          <p:nvPr/>
        </p:nvSpPr>
        <p:spPr>
          <a:xfrm>
            <a:off x="685800" y="6440400"/>
            <a:ext cx="72540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950" name=""/>
          <p:cNvSpPr/>
          <p:nvPr/>
        </p:nvSpPr>
        <p:spPr>
          <a:xfrm>
            <a:off x="0" y="6470640"/>
            <a:ext cx="9144000" cy="1440"/>
          </a:xfrm>
          <a:prstGeom prst="line">
            <a:avLst/>
          </a:prstGeom>
          <a:ln w="2844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mic Sans MS"/>
            </a:endParaRPr>
          </a:p>
        </p:txBody>
      </p:sp>
      <p:sp>
        <p:nvSpPr>
          <p:cNvPr id="951" name="PlaceHolder 2"/>
          <p:cNvSpPr>
            <a:spLocks noGrp="1"/>
          </p:cNvSpPr>
          <p:nvPr>
            <p:ph type="title"/>
          </p:nvPr>
        </p:nvSpPr>
        <p:spPr>
          <a:xfrm>
            <a:off x="888840" y="393840"/>
            <a:ext cx="7485120" cy="76176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Questions</a:t>
            </a:r>
            <a:endParaRPr b="0" lang="en-US" sz="3200" spc="-1" strike="noStrike">
              <a:solidFill>
                <a:srgbClr val="ff3300"/>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D45BB04C-B0AC-46B9-ACB4-7AD882F541E6}" type="datetime1">
              <a:rPr lang="en-US"/>
              <a:t>07/30/26</a:t>
            </a:fld>
          </a:p>
        </p:txBody>
      </p:sp>
    </p:spTree>
  </p:cSld>
  <p:transition spd="med">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6">
                                  <p:stCondLst>
                                    <p:cond delay="0"/>
                                  </p:stCondLst>
                                  <p:childTnLst>
                                    <p:set>
                                      <p:cBhvr>
                                        <p:cTn id="33" dur="1" fill="hold">
                                          <p:stCondLst>
                                            <p:cond delay="0"/>
                                          </p:stCondLst>
                                        </p:cTn>
                                        <p:tgtEl>
                                          <p:spTgt spid="661">
                                            <p:txEl>
                                              <p:pRg st="0" end="0"/>
                                            </p:txEl>
                                          </p:spTgt>
                                        </p:tgtEl>
                                        <p:attrNameLst>
                                          <p:attrName>style.visibility</p:attrName>
                                        </p:attrNameLst>
                                      </p:cBhvr>
                                      <p:to>
                                        <p:strVal val="visible"/>
                                      </p:to>
                                    </p:set>
                                    <p:anim calcmode="lin" valueType="num">
                                      <p:cBhvr additive="base">
                                        <p:cTn id="34" dur="500" fill="hold"/>
                                        <p:tgtEl>
                                          <p:spTgt spid="661">
                                            <p:txEl>
                                              <p:pRg st="0" end="0"/>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6">
                                  <p:stCondLst>
                                    <p:cond delay="0"/>
                                  </p:stCondLst>
                                  <p:childTnLst>
                                    <p:set>
                                      <p:cBhvr>
                                        <p:cTn id="39" dur="1" fill="hold">
                                          <p:stCondLst>
                                            <p:cond delay="0"/>
                                          </p:stCondLst>
                                        </p:cTn>
                                        <p:tgtEl>
                                          <p:spTgt spid="661">
                                            <p:txEl>
                                              <p:pRg st="1" end="1"/>
                                            </p:txEl>
                                          </p:spTgt>
                                        </p:tgtEl>
                                        <p:attrNameLst>
                                          <p:attrName>style.visibility</p:attrName>
                                        </p:attrNameLst>
                                      </p:cBhvr>
                                      <p:to>
                                        <p:strVal val="visible"/>
                                      </p:to>
                                    </p:set>
                                    <p:anim calcmode="lin" valueType="num">
                                      <p:cBhvr additive="base">
                                        <p:cTn id="40" dur="500" fill="hold"/>
                                        <p:tgtEl>
                                          <p:spTgt spid="661">
                                            <p:txEl>
                                              <p:pRg st="1" end="1"/>
                                            </p:txEl>
                                          </p:spTgt>
                                        </p:tgtEl>
                                        <p:attrNameLst>
                                          <p:attrName>ppt_x</p:attrName>
                                        </p:attrNameLst>
                                      </p:cBhvr>
                                      <p:tavLst>
                                        <p:tav tm="0">
                                          <p:val>
                                            <p:strVal val="1+#ppt_w/2"/>
                                          </p:val>
                                        </p:tav>
                                        <p:tav tm="100000">
                                          <p:val>
                                            <p:strVal val="#ppt_x"/>
                                          </p:val>
                                        </p:tav>
                                      </p:tavLst>
                                    </p:anim>
                                    <p:anim calcmode="lin" valueType="num">
                                      <p:cBhvr additive="base">
                                        <p:cTn id="41"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6">
                                  <p:stCondLst>
                                    <p:cond delay="0"/>
                                  </p:stCondLst>
                                  <p:childTnLst>
                                    <p:set>
                                      <p:cBhvr>
                                        <p:cTn id="45" dur="1" fill="hold">
                                          <p:stCondLst>
                                            <p:cond delay="0"/>
                                          </p:stCondLst>
                                        </p:cTn>
                                        <p:tgtEl>
                                          <p:spTgt spid="661">
                                            <p:txEl>
                                              <p:pRg st="2" end="2"/>
                                            </p:txEl>
                                          </p:spTgt>
                                        </p:tgtEl>
                                        <p:attrNameLst>
                                          <p:attrName>style.visibility</p:attrName>
                                        </p:attrNameLst>
                                      </p:cBhvr>
                                      <p:to>
                                        <p:strVal val="visible"/>
                                      </p:to>
                                    </p:set>
                                    <p:anim calcmode="lin" valueType="num">
                                      <p:cBhvr additive="base">
                                        <p:cTn id="46" dur="500" fill="hold"/>
                                        <p:tgtEl>
                                          <p:spTgt spid="661">
                                            <p:txEl>
                                              <p:pRg st="2" end="2"/>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6">
                                  <p:stCondLst>
                                    <p:cond delay="0"/>
                                  </p:stCondLst>
                                  <p:childTnLst>
                                    <p:set>
                                      <p:cBhvr>
                                        <p:cTn id="51" dur="1" fill="hold">
                                          <p:stCondLst>
                                            <p:cond delay="0"/>
                                          </p:stCondLst>
                                        </p:cTn>
                                        <p:tgtEl>
                                          <p:spTgt spid="661">
                                            <p:txEl>
                                              <p:pRg st="3" end="3"/>
                                            </p:txEl>
                                          </p:spTgt>
                                        </p:tgtEl>
                                        <p:attrNameLst>
                                          <p:attrName>style.visibility</p:attrName>
                                        </p:attrNameLst>
                                      </p:cBhvr>
                                      <p:to>
                                        <p:strVal val="visible"/>
                                      </p:to>
                                    </p:set>
                                    <p:anim calcmode="lin" valueType="num">
                                      <p:cBhvr additive="base">
                                        <p:cTn id="52" dur="500" fill="hold"/>
                                        <p:tgtEl>
                                          <p:spTgt spid="661">
                                            <p:txEl>
                                              <p:pRg st="3" end="3"/>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6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6">
                                  <p:stCondLst>
                                    <p:cond delay="0"/>
                                  </p:stCondLst>
                                  <p:childTnLst>
                                    <p:set>
                                      <p:cBhvr>
                                        <p:cTn id="57" dur="1" fill="hold">
                                          <p:stCondLst>
                                            <p:cond delay="0"/>
                                          </p:stCondLst>
                                        </p:cTn>
                                        <p:tgtEl>
                                          <p:spTgt spid="661">
                                            <p:txEl>
                                              <p:pRg st="4" end="4"/>
                                            </p:txEl>
                                          </p:spTgt>
                                        </p:tgtEl>
                                        <p:attrNameLst>
                                          <p:attrName>style.visibility</p:attrName>
                                        </p:attrNameLst>
                                      </p:cBhvr>
                                      <p:to>
                                        <p:strVal val="visible"/>
                                      </p:to>
                                    </p:set>
                                    <p:anim calcmode="lin" valueType="num">
                                      <p:cBhvr additive="base">
                                        <p:cTn id="58" dur="500" fill="hold"/>
                                        <p:tgtEl>
                                          <p:spTgt spid="661">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6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2" name=""/>
          <p:cNvSpPr/>
          <p:nvPr/>
        </p:nvSpPr>
        <p:spPr>
          <a:xfrm>
            <a:off x="1017720" y="476280"/>
            <a:ext cx="3154320" cy="72396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genotyping</a:t>
            </a:r>
            <a:endParaRPr b="0" lang="en-US" sz="3200" spc="-1" strike="noStrike">
              <a:solidFill>
                <a:srgbClr val="000000"/>
              </a:solidFill>
              <a:latin typeface="Comic Sans MS"/>
            </a:endParaRPr>
          </a:p>
        </p:txBody>
      </p:sp>
      <p:sp>
        <p:nvSpPr>
          <p:cNvPr id="3923" name=""/>
          <p:cNvSpPr/>
          <p:nvPr/>
        </p:nvSpPr>
        <p:spPr>
          <a:xfrm>
            <a:off x="451440" y="1706400"/>
            <a:ext cx="2608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6600"/>
                </a:solidFill>
                <a:latin typeface="Comic Sans MS"/>
              </a:rPr>
              <a:t> </a:t>
            </a:r>
            <a:r>
              <a:rPr b="0" lang="fr-FR" sz="2800" spc="-1" strike="noStrike">
                <a:solidFill>
                  <a:srgbClr val="006600"/>
                </a:solidFill>
                <a:latin typeface="Comic Sans MS"/>
              </a:rPr>
              <a:t>microsatelites</a:t>
            </a:r>
            <a:endParaRPr b="0" lang="en-US" sz="2800" spc="-1" strike="noStrike">
              <a:solidFill>
                <a:srgbClr val="000000"/>
              </a:solidFill>
              <a:latin typeface="Comic Sans MS"/>
            </a:endParaRPr>
          </a:p>
        </p:txBody>
      </p:sp>
      <p:sp>
        <p:nvSpPr>
          <p:cNvPr id="3924" name=""/>
          <p:cNvSpPr/>
          <p:nvPr/>
        </p:nvSpPr>
        <p:spPr>
          <a:xfrm>
            <a:off x="514440" y="1916280"/>
            <a:ext cx="258840" cy="12528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Comic Sans MS"/>
            </a:endParaRPr>
          </a:p>
        </p:txBody>
      </p:sp>
      <p:sp>
        <p:nvSpPr>
          <p:cNvPr id="3925" name=""/>
          <p:cNvSpPr/>
          <p:nvPr/>
        </p:nvSpPr>
        <p:spPr>
          <a:xfrm>
            <a:off x="514440" y="4884840"/>
            <a:ext cx="258840" cy="12528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Comic Sans MS"/>
            </a:endParaRPr>
          </a:p>
        </p:txBody>
      </p:sp>
      <p:sp>
        <p:nvSpPr>
          <p:cNvPr id="3926" name=""/>
          <p:cNvSpPr/>
          <p:nvPr/>
        </p:nvSpPr>
        <p:spPr>
          <a:xfrm>
            <a:off x="507240" y="4675320"/>
            <a:ext cx="208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6600"/>
                </a:solidFill>
                <a:latin typeface="Comic Sans MS"/>
              </a:rPr>
              <a:t>genotyping</a:t>
            </a:r>
            <a:endParaRPr b="0" lang="en-US" sz="2800" spc="-1" strike="noStrike">
              <a:solidFill>
                <a:srgbClr val="000000"/>
              </a:solidFill>
              <a:latin typeface="Comic Sans MS"/>
            </a:endParaRPr>
          </a:p>
        </p:txBody>
      </p:sp>
      <p:sp>
        <p:nvSpPr>
          <p:cNvPr id="3927" name=""/>
          <p:cNvSpPr/>
          <p:nvPr/>
        </p:nvSpPr>
        <p:spPr>
          <a:xfrm>
            <a:off x="737640" y="5241960"/>
            <a:ext cx="70700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mic Sans MS"/>
              </a:rPr>
              <a:t>Detection of alleles in every F2 and for every microsatelite</a:t>
            </a:r>
            <a:endParaRPr b="0" lang="en-US" sz="2000" spc="-1" strike="noStrike">
              <a:solidFill>
                <a:srgbClr val="000000"/>
              </a:solidFill>
              <a:latin typeface="Comic Sans MS"/>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mic Sans MS"/>
              </a:rPr>
              <a:t>	</a:t>
            </a:r>
            <a:r>
              <a:rPr b="0" lang="fr-FR" sz="2000" spc="-1" strike="noStrike">
                <a:solidFill>
                  <a:srgbClr val="000000"/>
                </a:solidFill>
                <a:latin typeface="Comic Sans MS"/>
              </a:rPr>
              <a:t>PCR + gel electrophoresis</a:t>
            </a:r>
            <a:endParaRPr b="0" lang="en-US" sz="2000" spc="-1" strike="noStrike">
              <a:solidFill>
                <a:srgbClr val="000000"/>
              </a:solidFill>
              <a:latin typeface="Comic Sans MS"/>
            </a:endParaRPr>
          </a:p>
        </p:txBody>
      </p:sp>
      <p:sp>
        <p:nvSpPr>
          <p:cNvPr id="3928" name=""/>
          <p:cNvSpPr/>
          <p:nvPr/>
        </p:nvSpPr>
        <p:spPr>
          <a:xfrm>
            <a:off x="1092240" y="2724120"/>
            <a:ext cx="29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29" name=""/>
          <p:cNvSpPr/>
          <p:nvPr/>
        </p:nvSpPr>
        <p:spPr>
          <a:xfrm>
            <a:off x="1092240" y="3481560"/>
            <a:ext cx="348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30" name=""/>
          <p:cNvSpPr/>
          <p:nvPr/>
        </p:nvSpPr>
        <p:spPr>
          <a:xfrm>
            <a:off x="2212920" y="2592360"/>
            <a:ext cx="33336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31" name=""/>
          <p:cNvSpPr/>
          <p:nvPr/>
        </p:nvSpPr>
        <p:spPr>
          <a:xfrm>
            <a:off x="1873080" y="2592360"/>
            <a:ext cx="33192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32" name=""/>
          <p:cNvSpPr/>
          <p:nvPr/>
        </p:nvSpPr>
        <p:spPr>
          <a:xfrm>
            <a:off x="2548080" y="3343320"/>
            <a:ext cx="29052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33" name=""/>
          <p:cNvSpPr/>
          <p:nvPr/>
        </p:nvSpPr>
        <p:spPr>
          <a:xfrm>
            <a:off x="2840040" y="3343320"/>
            <a:ext cx="29052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34" name=""/>
          <p:cNvSpPr/>
          <p:nvPr/>
        </p:nvSpPr>
        <p:spPr>
          <a:xfrm>
            <a:off x="2212920" y="3343320"/>
            <a:ext cx="33336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35" name=""/>
          <p:cNvSpPr/>
          <p:nvPr/>
        </p:nvSpPr>
        <p:spPr>
          <a:xfrm>
            <a:off x="517680" y="4118040"/>
            <a:ext cx="331560" cy="2617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36" name=""/>
          <p:cNvSpPr/>
          <p:nvPr/>
        </p:nvSpPr>
        <p:spPr>
          <a:xfrm flipH="1">
            <a:off x="4162320" y="3627360"/>
            <a:ext cx="416160" cy="125640"/>
          </a:xfrm>
          <a:prstGeom prst="rightArrow">
            <a:avLst>
              <a:gd name="adj1" fmla="val 50000"/>
              <a:gd name="adj2" fmla="val 165631"/>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3937" name=""/>
          <p:cNvSpPr/>
          <p:nvPr/>
        </p:nvSpPr>
        <p:spPr>
          <a:xfrm>
            <a:off x="4658760" y="2494080"/>
            <a:ext cx="118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ff00"/>
                </a:solidFill>
                <a:latin typeface="Comic Sans MS"/>
              </a:rPr>
              <a:t>allele 1</a:t>
            </a:r>
            <a:endParaRPr b="0" lang="en-US" sz="2400" spc="-1" strike="noStrike">
              <a:solidFill>
                <a:srgbClr val="000000"/>
              </a:solidFill>
              <a:latin typeface="Comic Sans MS"/>
            </a:endParaRPr>
          </a:p>
        </p:txBody>
      </p:sp>
      <p:sp>
        <p:nvSpPr>
          <p:cNvPr id="3938" name=""/>
          <p:cNvSpPr/>
          <p:nvPr/>
        </p:nvSpPr>
        <p:spPr>
          <a:xfrm>
            <a:off x="4681080" y="3114720"/>
            <a:ext cx="118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3333cc"/>
                </a:solidFill>
                <a:latin typeface="Comic Sans MS"/>
              </a:rPr>
              <a:t>allele 2</a:t>
            </a:r>
            <a:endParaRPr b="0" lang="en-US" sz="2400" spc="-1" strike="noStrike">
              <a:solidFill>
                <a:srgbClr val="000000"/>
              </a:solidFill>
              <a:latin typeface="Comic Sans MS"/>
            </a:endParaRPr>
          </a:p>
        </p:txBody>
      </p:sp>
      <p:sp>
        <p:nvSpPr>
          <p:cNvPr id="3939" name=""/>
          <p:cNvSpPr/>
          <p:nvPr/>
        </p:nvSpPr>
        <p:spPr>
          <a:xfrm>
            <a:off x="892800" y="4067280"/>
            <a:ext cx="335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Comic Sans MS"/>
              </a:rPr>
              <a:t>= nucleotidic repeats (e.g. CA)</a:t>
            </a:r>
            <a:endParaRPr b="0" lang="en-US" sz="1800" spc="-1" strike="noStrike">
              <a:solidFill>
                <a:srgbClr val="000000"/>
              </a:solidFill>
              <a:latin typeface="Comic Sans MS"/>
            </a:endParaRPr>
          </a:p>
        </p:txBody>
      </p:sp>
      <p:sp>
        <p:nvSpPr>
          <p:cNvPr id="3940" name=""/>
          <p:cNvSpPr/>
          <p:nvPr/>
        </p:nvSpPr>
        <p:spPr>
          <a:xfrm flipH="1">
            <a:off x="3617280" y="2860560"/>
            <a:ext cx="415800" cy="125640"/>
          </a:xfrm>
          <a:prstGeom prst="rightArrow">
            <a:avLst>
              <a:gd name="adj1" fmla="val 50000"/>
              <a:gd name="adj2" fmla="val 165488"/>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3941" name=""/>
          <p:cNvSpPr/>
          <p:nvPr/>
        </p:nvSpPr>
        <p:spPr>
          <a:xfrm>
            <a:off x="1878120" y="3341520"/>
            <a:ext cx="331560" cy="2653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42" name=""/>
          <p:cNvSpPr/>
          <p:nvPr/>
        </p:nvSpPr>
        <p:spPr>
          <a:xfrm>
            <a:off x="4749840" y="4054320"/>
            <a:ext cx="1103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rimer</a:t>
            </a:r>
            <a:endParaRPr b="0" lang="en-US" sz="1800" spc="-1" strike="noStrike">
              <a:solidFill>
                <a:srgbClr val="000000"/>
              </a:solidFill>
              <a:latin typeface="Comic Sans MS"/>
            </a:endParaRPr>
          </a:p>
        </p:txBody>
      </p:sp>
      <p:sp>
        <p:nvSpPr>
          <p:cNvPr id="3943" name=""/>
          <p:cNvSpPr/>
          <p:nvPr/>
        </p:nvSpPr>
        <p:spPr>
          <a:xfrm>
            <a:off x="4405320" y="4173480"/>
            <a:ext cx="415800" cy="125640"/>
          </a:xfrm>
          <a:prstGeom prst="rightArrow">
            <a:avLst>
              <a:gd name="adj1" fmla="val 50000"/>
              <a:gd name="adj2" fmla="val 165488"/>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3944" name=""/>
          <p:cNvSpPr/>
          <p:nvPr/>
        </p:nvSpPr>
        <p:spPr>
          <a:xfrm>
            <a:off x="1117440" y="2478240"/>
            <a:ext cx="416160" cy="125280"/>
          </a:xfrm>
          <a:prstGeom prst="rightArrow">
            <a:avLst>
              <a:gd name="adj1" fmla="val 50000"/>
              <a:gd name="adj2" fmla="val 166107"/>
            </a:avLst>
          </a:prstGeom>
          <a:solidFill>
            <a:srgbClr val="006600"/>
          </a:solidFill>
          <a:ln w="12600">
            <a:solidFill>
              <a:srgbClr val="0066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Comic Sans MS"/>
            </a:endParaRPr>
          </a:p>
        </p:txBody>
      </p:sp>
      <p:sp>
        <p:nvSpPr>
          <p:cNvPr id="3945" name=""/>
          <p:cNvSpPr/>
          <p:nvPr/>
        </p:nvSpPr>
        <p:spPr>
          <a:xfrm>
            <a:off x="1117440" y="3240000"/>
            <a:ext cx="416160" cy="125640"/>
          </a:xfrm>
          <a:prstGeom prst="rightArrow">
            <a:avLst>
              <a:gd name="adj1" fmla="val 50000"/>
              <a:gd name="adj2" fmla="val 165631"/>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3946" name=""/>
          <p:cNvSpPr/>
          <p:nvPr/>
        </p:nvSpPr>
        <p:spPr>
          <a:xfrm>
            <a:off x="6362640" y="1862280"/>
            <a:ext cx="2090880" cy="295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947" name=""/>
          <p:cNvSpPr/>
          <p:nvPr/>
        </p:nvSpPr>
        <p:spPr>
          <a:xfrm>
            <a:off x="6567480" y="3792600"/>
            <a:ext cx="25704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3948" name=""/>
          <p:cNvSpPr/>
          <p:nvPr/>
        </p:nvSpPr>
        <p:spPr>
          <a:xfrm>
            <a:off x="6921360" y="3602160"/>
            <a:ext cx="25740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3949" name=""/>
          <p:cNvSpPr/>
          <p:nvPr/>
        </p:nvSpPr>
        <p:spPr>
          <a:xfrm>
            <a:off x="7275600" y="3792600"/>
            <a:ext cx="25704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3950" name=""/>
          <p:cNvSpPr/>
          <p:nvPr/>
        </p:nvSpPr>
        <p:spPr>
          <a:xfrm>
            <a:off x="7985160" y="3602160"/>
            <a:ext cx="25704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grpSp>
        <p:nvGrpSpPr>
          <p:cNvPr id="3951" name=""/>
          <p:cNvGrpSpPr/>
          <p:nvPr/>
        </p:nvGrpSpPr>
        <p:grpSpPr>
          <a:xfrm>
            <a:off x="7629480" y="3602160"/>
            <a:ext cx="257400" cy="264960"/>
            <a:chOff x="7629480" y="3602160"/>
            <a:chExt cx="257400" cy="264960"/>
          </a:xfrm>
        </p:grpSpPr>
        <p:sp>
          <p:nvSpPr>
            <p:cNvPr id="3952" name=""/>
            <p:cNvSpPr/>
            <p:nvPr/>
          </p:nvSpPr>
          <p:spPr>
            <a:xfrm>
              <a:off x="7629480" y="3792600"/>
              <a:ext cx="25740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3953" name=""/>
            <p:cNvSpPr/>
            <p:nvPr/>
          </p:nvSpPr>
          <p:spPr>
            <a:xfrm>
              <a:off x="7629480" y="3602160"/>
              <a:ext cx="25740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grpSp>
      <p:sp>
        <p:nvSpPr>
          <p:cNvPr id="3954" name=""/>
          <p:cNvSpPr/>
          <p:nvPr/>
        </p:nvSpPr>
        <p:spPr>
          <a:xfrm rot="16200000">
            <a:off x="6080760" y="929160"/>
            <a:ext cx="106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LEWIS</a:t>
            </a:r>
            <a:endParaRPr b="0" lang="en-US" sz="2400" spc="-1" strike="noStrike">
              <a:solidFill>
                <a:srgbClr val="000000"/>
              </a:solidFill>
              <a:latin typeface="Comic Sans MS"/>
            </a:endParaRPr>
          </a:p>
        </p:txBody>
      </p:sp>
      <p:sp>
        <p:nvSpPr>
          <p:cNvPr id="3955" name=""/>
          <p:cNvSpPr/>
          <p:nvPr/>
        </p:nvSpPr>
        <p:spPr>
          <a:xfrm rot="16200000">
            <a:off x="6620760" y="1157040"/>
            <a:ext cx="7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HR</a:t>
            </a:r>
            <a:endParaRPr b="0" lang="en-US" sz="2400" spc="-1" strike="noStrike">
              <a:solidFill>
                <a:srgbClr val="000000"/>
              </a:solidFill>
              <a:latin typeface="Comic Sans MS"/>
            </a:endParaRPr>
          </a:p>
        </p:txBody>
      </p:sp>
      <p:sp>
        <p:nvSpPr>
          <p:cNvPr id="3956" name=""/>
          <p:cNvSpPr/>
          <p:nvPr/>
        </p:nvSpPr>
        <p:spPr>
          <a:xfrm>
            <a:off x="7562520" y="108108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2</a:t>
            </a:r>
            <a:endParaRPr b="0" lang="en-US" sz="1800" spc="-1" strike="noStrike">
              <a:solidFill>
                <a:srgbClr val="000000"/>
              </a:solidFill>
              <a:latin typeface="Comic Sans MS"/>
            </a:endParaRPr>
          </a:p>
        </p:txBody>
      </p:sp>
      <p:sp>
        <p:nvSpPr>
          <p:cNvPr id="3957" name=""/>
          <p:cNvSpPr/>
          <p:nvPr/>
        </p:nvSpPr>
        <p:spPr>
          <a:xfrm rot="5400000">
            <a:off x="7719120" y="1033920"/>
            <a:ext cx="158760" cy="1090800"/>
          </a:xfrm>
          <a:custGeom>
            <a:avLst/>
            <a:gdLst>
              <a:gd name="textAreaLeft" fmla="*/ 46440 w 158760"/>
              <a:gd name="textAreaRight" fmla="*/ 159120 w 158760"/>
              <a:gd name="textAreaTop" fmla="*/ 23760 h 1090800"/>
              <a:gd name="textAreaBottom" fmla="*/ 1067040 h 1090800"/>
            </a:gdLst>
            <a:ahLst/>
            <a:rect l="textAreaLeft" t="textAreaTop" r="textAreaRight" b="textAreaBottom"/>
            <a:pathLst>
              <a:path w="21600" h="21600">
                <a:moveTo>
                  <a:pt x="21600" y="0"/>
                </a:moveTo>
                <a:cubicBezTo>
                  <a:pt x="10800" y="0"/>
                  <a:pt x="0" y="475"/>
                  <a:pt x="0" y="950"/>
                </a:cubicBezTo>
                <a:lnTo>
                  <a:pt x="0" y="20650"/>
                </a:lnTo>
                <a:cubicBezTo>
                  <a:pt x="0" y="21125"/>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1E2F957C-49EC-4348-AB6F-9A31BC9E4F2A}" type="datetime1">
              <a:rPr lang="en-US"/>
              <a:t>07/30/26</a:t>
            </a:fld>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8" name=""/>
          <p:cNvSpPr/>
          <p:nvPr/>
        </p:nvSpPr>
        <p:spPr>
          <a:xfrm>
            <a:off x="2284560" y="565200"/>
            <a:ext cx="5114880" cy="70308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F2 (SHR x LEW) - QTL</a:t>
            </a:r>
            <a:endParaRPr b="0" lang="en-US" sz="3200" spc="-1" strike="noStrike">
              <a:solidFill>
                <a:srgbClr val="000000"/>
              </a:solidFill>
              <a:latin typeface="Comic Sans MS"/>
            </a:endParaRPr>
          </a:p>
        </p:txBody>
      </p:sp>
      <p:sp>
        <p:nvSpPr>
          <p:cNvPr id="3959" name=""/>
          <p:cNvSpPr/>
          <p:nvPr/>
        </p:nvSpPr>
        <p:spPr>
          <a:xfrm>
            <a:off x="1002960" y="1676520"/>
            <a:ext cx="172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mic Sans MS"/>
              </a:rPr>
              <a:t>Phenotype</a:t>
            </a:r>
            <a:endParaRPr b="0" lang="en-US" sz="2400" spc="-1" strike="noStrike">
              <a:solidFill>
                <a:srgbClr val="000000"/>
              </a:solidFill>
              <a:latin typeface="Comic Sans MS"/>
            </a:endParaRPr>
          </a:p>
        </p:txBody>
      </p:sp>
      <p:sp>
        <p:nvSpPr>
          <p:cNvPr id="3960" name=""/>
          <p:cNvSpPr/>
          <p:nvPr/>
        </p:nvSpPr>
        <p:spPr>
          <a:xfrm>
            <a:off x="3593160" y="1676520"/>
            <a:ext cx="68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Chr</a:t>
            </a:r>
            <a:endParaRPr b="0" lang="en-US" sz="2400" spc="-1" strike="noStrike">
              <a:solidFill>
                <a:srgbClr val="000000"/>
              </a:solidFill>
              <a:latin typeface="Comic Sans MS"/>
            </a:endParaRPr>
          </a:p>
        </p:txBody>
      </p:sp>
      <p:sp>
        <p:nvSpPr>
          <p:cNvPr id="3961" name=""/>
          <p:cNvSpPr/>
          <p:nvPr/>
        </p:nvSpPr>
        <p:spPr>
          <a:xfrm>
            <a:off x="4703760" y="1676520"/>
            <a:ext cx="713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Lod</a:t>
            </a:r>
            <a:endParaRPr b="0" lang="en-US" sz="2400" spc="-1" strike="noStrike">
              <a:solidFill>
                <a:srgbClr val="000000"/>
              </a:solidFill>
              <a:latin typeface="Comic Sans MS"/>
            </a:endParaRPr>
          </a:p>
        </p:txBody>
      </p:sp>
      <p:sp>
        <p:nvSpPr>
          <p:cNvPr id="3962" name=""/>
          <p:cNvSpPr/>
          <p:nvPr/>
        </p:nvSpPr>
        <p:spPr>
          <a:xfrm>
            <a:off x="5726160" y="1676520"/>
            <a:ext cx="993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 Var</a:t>
            </a:r>
            <a:endParaRPr b="0" lang="en-US" sz="2400" spc="-1" strike="noStrike">
              <a:solidFill>
                <a:srgbClr val="000000"/>
              </a:solidFill>
              <a:latin typeface="Comic Sans MS"/>
            </a:endParaRPr>
          </a:p>
        </p:txBody>
      </p:sp>
      <p:sp>
        <p:nvSpPr>
          <p:cNvPr id="3963" name=""/>
          <p:cNvSpPr/>
          <p:nvPr/>
        </p:nvSpPr>
        <p:spPr>
          <a:xfrm>
            <a:off x="6782400" y="1676520"/>
            <a:ext cx="1738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Population</a:t>
            </a:r>
            <a:endParaRPr b="0" lang="en-US" sz="2400" spc="-1" strike="noStrike">
              <a:solidFill>
                <a:srgbClr val="000000"/>
              </a:solidFill>
              <a:latin typeface="Comic Sans MS"/>
            </a:endParaRPr>
          </a:p>
        </p:txBody>
      </p:sp>
      <p:sp>
        <p:nvSpPr>
          <p:cNvPr id="3964" name=""/>
          <p:cNvSpPr/>
          <p:nvPr/>
        </p:nvSpPr>
        <p:spPr>
          <a:xfrm>
            <a:off x="616320" y="2313000"/>
            <a:ext cx="2296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Outer locomotion</a:t>
            </a:r>
            <a:endParaRPr b="0" lang="en-US" sz="2000" spc="-1" strike="noStrike">
              <a:solidFill>
                <a:srgbClr val="000000"/>
              </a:solidFill>
              <a:latin typeface="Comic Sans MS"/>
            </a:endParaRPr>
          </a:p>
        </p:txBody>
      </p:sp>
      <p:sp>
        <p:nvSpPr>
          <p:cNvPr id="3965" name=""/>
          <p:cNvSpPr/>
          <p:nvPr/>
        </p:nvSpPr>
        <p:spPr>
          <a:xfrm>
            <a:off x="3784320" y="231300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5</a:t>
            </a:r>
            <a:endParaRPr b="0" lang="en-US" sz="2000" spc="-1" strike="noStrike">
              <a:solidFill>
                <a:srgbClr val="000000"/>
              </a:solidFill>
              <a:latin typeface="Comic Sans MS"/>
            </a:endParaRPr>
          </a:p>
        </p:txBody>
      </p:sp>
      <p:sp>
        <p:nvSpPr>
          <p:cNvPr id="3966" name=""/>
          <p:cNvSpPr/>
          <p:nvPr/>
        </p:nvSpPr>
        <p:spPr>
          <a:xfrm>
            <a:off x="4795200" y="231300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3.7</a:t>
            </a:r>
            <a:endParaRPr b="0" lang="en-US" sz="2000" spc="-1" strike="noStrike">
              <a:solidFill>
                <a:srgbClr val="000000"/>
              </a:solidFill>
              <a:latin typeface="Comic Sans MS"/>
            </a:endParaRPr>
          </a:p>
        </p:txBody>
      </p:sp>
      <p:sp>
        <p:nvSpPr>
          <p:cNvPr id="3967" name=""/>
          <p:cNvSpPr/>
          <p:nvPr/>
        </p:nvSpPr>
        <p:spPr>
          <a:xfrm>
            <a:off x="5973120" y="231300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8.4</a:t>
            </a:r>
            <a:endParaRPr b="0" lang="en-US" sz="2000" spc="-1" strike="noStrike">
              <a:solidFill>
                <a:srgbClr val="000000"/>
              </a:solidFill>
              <a:latin typeface="Comic Sans MS"/>
            </a:endParaRPr>
          </a:p>
        </p:txBody>
      </p:sp>
      <p:sp>
        <p:nvSpPr>
          <p:cNvPr id="3968" name=""/>
          <p:cNvSpPr/>
          <p:nvPr/>
        </p:nvSpPr>
        <p:spPr>
          <a:xfrm>
            <a:off x="7338240" y="231300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3969" name=""/>
          <p:cNvSpPr/>
          <p:nvPr/>
        </p:nvSpPr>
        <p:spPr>
          <a:xfrm>
            <a:off x="597600" y="2908440"/>
            <a:ext cx="2468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Central locomotion</a:t>
            </a:r>
            <a:endParaRPr b="0" lang="en-US" sz="2000" spc="-1" strike="noStrike">
              <a:solidFill>
                <a:srgbClr val="000000"/>
              </a:solidFill>
              <a:latin typeface="Comic Sans MS"/>
            </a:endParaRPr>
          </a:p>
        </p:txBody>
      </p:sp>
      <p:sp>
        <p:nvSpPr>
          <p:cNvPr id="3970" name=""/>
          <p:cNvSpPr/>
          <p:nvPr/>
        </p:nvSpPr>
        <p:spPr>
          <a:xfrm>
            <a:off x="3784320" y="290844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4</a:t>
            </a:r>
            <a:endParaRPr b="0" lang="en-US" sz="2000" spc="-1" strike="noStrike">
              <a:solidFill>
                <a:srgbClr val="000000"/>
              </a:solidFill>
              <a:latin typeface="Comic Sans MS"/>
            </a:endParaRPr>
          </a:p>
        </p:txBody>
      </p:sp>
      <p:sp>
        <p:nvSpPr>
          <p:cNvPr id="3971" name=""/>
          <p:cNvSpPr/>
          <p:nvPr/>
        </p:nvSpPr>
        <p:spPr>
          <a:xfrm>
            <a:off x="4704480" y="29131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10.4</a:t>
            </a:r>
            <a:endParaRPr b="0" lang="en-US" sz="2000" spc="-1" strike="noStrike">
              <a:solidFill>
                <a:srgbClr val="000000"/>
              </a:solidFill>
              <a:latin typeface="Comic Sans MS"/>
            </a:endParaRPr>
          </a:p>
        </p:txBody>
      </p:sp>
      <p:sp>
        <p:nvSpPr>
          <p:cNvPr id="3972" name=""/>
          <p:cNvSpPr/>
          <p:nvPr/>
        </p:nvSpPr>
        <p:spPr>
          <a:xfrm>
            <a:off x="5882400" y="290844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61.3</a:t>
            </a:r>
            <a:endParaRPr b="0" lang="en-US" sz="2000" spc="-1" strike="noStrike">
              <a:solidFill>
                <a:srgbClr val="000000"/>
              </a:solidFill>
              <a:latin typeface="Comic Sans MS"/>
            </a:endParaRPr>
          </a:p>
        </p:txBody>
      </p:sp>
      <p:sp>
        <p:nvSpPr>
          <p:cNvPr id="3973" name=""/>
          <p:cNvSpPr/>
          <p:nvPr/>
        </p:nvSpPr>
        <p:spPr>
          <a:xfrm>
            <a:off x="7185960" y="290844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3333cc"/>
                </a:solidFill>
                <a:latin typeface="Comic Sans MS"/>
              </a:rPr>
              <a:t>female</a:t>
            </a:r>
            <a:endParaRPr b="0" lang="en-US" sz="2000" spc="-1" strike="noStrike">
              <a:solidFill>
                <a:srgbClr val="000000"/>
              </a:solidFill>
              <a:latin typeface="Comic Sans MS"/>
            </a:endParaRPr>
          </a:p>
        </p:txBody>
      </p:sp>
      <p:sp>
        <p:nvSpPr>
          <p:cNvPr id="3974" name=""/>
          <p:cNvSpPr/>
          <p:nvPr/>
        </p:nvSpPr>
        <p:spPr>
          <a:xfrm>
            <a:off x="626400" y="3505320"/>
            <a:ext cx="271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Open arm entries (%)</a:t>
            </a:r>
            <a:endParaRPr b="0" lang="en-US" sz="2000" spc="-1" strike="noStrike">
              <a:solidFill>
                <a:srgbClr val="000000"/>
              </a:solidFill>
              <a:latin typeface="Comic Sans MS"/>
            </a:endParaRPr>
          </a:p>
        </p:txBody>
      </p:sp>
      <p:sp>
        <p:nvSpPr>
          <p:cNvPr id="3975" name=""/>
          <p:cNvSpPr/>
          <p:nvPr/>
        </p:nvSpPr>
        <p:spPr>
          <a:xfrm>
            <a:off x="3784320" y="350532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6</a:t>
            </a:r>
            <a:endParaRPr b="0" lang="en-US" sz="2000" spc="-1" strike="noStrike">
              <a:solidFill>
                <a:srgbClr val="000000"/>
              </a:solidFill>
              <a:latin typeface="Comic Sans MS"/>
            </a:endParaRPr>
          </a:p>
        </p:txBody>
      </p:sp>
      <p:sp>
        <p:nvSpPr>
          <p:cNvPr id="3976" name=""/>
          <p:cNvSpPr/>
          <p:nvPr/>
        </p:nvSpPr>
        <p:spPr>
          <a:xfrm>
            <a:off x="4795200" y="350532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2.8</a:t>
            </a:r>
            <a:endParaRPr b="0" lang="en-US" sz="2000" spc="-1" strike="noStrike">
              <a:solidFill>
                <a:srgbClr val="000000"/>
              </a:solidFill>
              <a:latin typeface="Comic Sans MS"/>
            </a:endParaRPr>
          </a:p>
        </p:txBody>
      </p:sp>
      <p:sp>
        <p:nvSpPr>
          <p:cNvPr id="3977" name=""/>
          <p:cNvSpPr/>
          <p:nvPr/>
        </p:nvSpPr>
        <p:spPr>
          <a:xfrm>
            <a:off x="5973120" y="350532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6.5</a:t>
            </a:r>
            <a:endParaRPr b="0" lang="en-US" sz="2000" spc="-1" strike="noStrike">
              <a:solidFill>
                <a:srgbClr val="000000"/>
              </a:solidFill>
              <a:latin typeface="Comic Sans MS"/>
            </a:endParaRPr>
          </a:p>
        </p:txBody>
      </p:sp>
      <p:sp>
        <p:nvSpPr>
          <p:cNvPr id="3978" name=""/>
          <p:cNvSpPr/>
          <p:nvPr/>
        </p:nvSpPr>
        <p:spPr>
          <a:xfrm>
            <a:off x="7338240" y="350532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3979" name=""/>
          <p:cNvSpPr/>
          <p:nvPr/>
        </p:nvSpPr>
        <p:spPr>
          <a:xfrm>
            <a:off x="627120" y="4100400"/>
            <a:ext cx="2429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Closed arm entries</a:t>
            </a:r>
            <a:endParaRPr b="0" lang="en-US" sz="2000" spc="-1" strike="noStrike">
              <a:solidFill>
                <a:srgbClr val="000000"/>
              </a:solidFill>
              <a:latin typeface="Comic Sans MS"/>
            </a:endParaRPr>
          </a:p>
        </p:txBody>
      </p:sp>
      <p:sp>
        <p:nvSpPr>
          <p:cNvPr id="3980" name=""/>
          <p:cNvSpPr/>
          <p:nvPr/>
        </p:nvSpPr>
        <p:spPr>
          <a:xfrm>
            <a:off x="3784320" y="410040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7</a:t>
            </a:r>
            <a:endParaRPr b="0" lang="en-US" sz="2000" spc="-1" strike="noStrike">
              <a:solidFill>
                <a:srgbClr val="000000"/>
              </a:solidFill>
              <a:latin typeface="Comic Sans MS"/>
            </a:endParaRPr>
          </a:p>
        </p:txBody>
      </p:sp>
      <p:sp>
        <p:nvSpPr>
          <p:cNvPr id="3981" name=""/>
          <p:cNvSpPr/>
          <p:nvPr/>
        </p:nvSpPr>
        <p:spPr>
          <a:xfrm>
            <a:off x="4795200" y="410040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2.9</a:t>
            </a:r>
            <a:endParaRPr b="0" lang="en-US" sz="2000" spc="-1" strike="noStrike">
              <a:solidFill>
                <a:srgbClr val="000000"/>
              </a:solidFill>
              <a:latin typeface="Comic Sans MS"/>
            </a:endParaRPr>
          </a:p>
        </p:txBody>
      </p:sp>
      <p:sp>
        <p:nvSpPr>
          <p:cNvPr id="3982" name=""/>
          <p:cNvSpPr/>
          <p:nvPr/>
        </p:nvSpPr>
        <p:spPr>
          <a:xfrm>
            <a:off x="5882400" y="410040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18.4</a:t>
            </a:r>
            <a:endParaRPr b="0" lang="en-US" sz="2000" spc="-1" strike="noStrike">
              <a:solidFill>
                <a:srgbClr val="000000"/>
              </a:solidFill>
              <a:latin typeface="Comic Sans MS"/>
            </a:endParaRPr>
          </a:p>
        </p:txBody>
      </p:sp>
      <p:sp>
        <p:nvSpPr>
          <p:cNvPr id="3983" name=""/>
          <p:cNvSpPr/>
          <p:nvPr/>
        </p:nvSpPr>
        <p:spPr>
          <a:xfrm>
            <a:off x="7338240" y="410040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3984" name=""/>
          <p:cNvSpPr/>
          <p:nvPr/>
        </p:nvSpPr>
        <p:spPr>
          <a:xfrm>
            <a:off x="686160" y="4695840"/>
            <a:ext cx="218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Arterial pressure</a:t>
            </a:r>
            <a:endParaRPr b="0" lang="en-US" sz="2000" spc="-1" strike="noStrike">
              <a:solidFill>
                <a:srgbClr val="000000"/>
              </a:solidFill>
              <a:latin typeface="Comic Sans MS"/>
            </a:endParaRPr>
          </a:p>
        </p:txBody>
      </p:sp>
      <p:sp>
        <p:nvSpPr>
          <p:cNvPr id="3985" name=""/>
          <p:cNvSpPr/>
          <p:nvPr/>
        </p:nvSpPr>
        <p:spPr>
          <a:xfrm>
            <a:off x="3784320" y="469584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6</a:t>
            </a:r>
            <a:endParaRPr b="0" lang="en-US" sz="2000" spc="-1" strike="noStrike">
              <a:solidFill>
                <a:srgbClr val="000000"/>
              </a:solidFill>
              <a:latin typeface="Comic Sans MS"/>
            </a:endParaRPr>
          </a:p>
        </p:txBody>
      </p:sp>
      <p:sp>
        <p:nvSpPr>
          <p:cNvPr id="3986" name=""/>
          <p:cNvSpPr/>
          <p:nvPr/>
        </p:nvSpPr>
        <p:spPr>
          <a:xfrm>
            <a:off x="4795200" y="469584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4.0</a:t>
            </a:r>
            <a:endParaRPr b="0" lang="en-US" sz="2000" spc="-1" strike="noStrike">
              <a:solidFill>
                <a:srgbClr val="000000"/>
              </a:solidFill>
              <a:latin typeface="Comic Sans MS"/>
            </a:endParaRPr>
          </a:p>
        </p:txBody>
      </p:sp>
      <p:sp>
        <p:nvSpPr>
          <p:cNvPr id="3987" name=""/>
          <p:cNvSpPr/>
          <p:nvPr/>
        </p:nvSpPr>
        <p:spPr>
          <a:xfrm>
            <a:off x="5900760" y="469584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22.3</a:t>
            </a:r>
            <a:endParaRPr b="0" lang="en-US" sz="2000" spc="-1" strike="noStrike">
              <a:solidFill>
                <a:srgbClr val="000000"/>
              </a:solidFill>
              <a:latin typeface="Comic Sans MS"/>
            </a:endParaRPr>
          </a:p>
        </p:txBody>
      </p:sp>
      <p:sp>
        <p:nvSpPr>
          <p:cNvPr id="3988" name=""/>
          <p:cNvSpPr/>
          <p:nvPr/>
        </p:nvSpPr>
        <p:spPr>
          <a:xfrm>
            <a:off x="7282080" y="469584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male</a:t>
            </a:r>
            <a:endParaRPr b="0" lang="en-US" sz="2000" spc="-1" strike="noStrike">
              <a:solidFill>
                <a:srgbClr val="000000"/>
              </a:solidFill>
              <a:latin typeface="Comic Sans MS"/>
            </a:endParaRPr>
          </a:p>
        </p:txBody>
      </p:sp>
      <p:sp>
        <p:nvSpPr>
          <p:cNvPr id="3989" name=""/>
          <p:cNvSpPr/>
          <p:nvPr/>
        </p:nvSpPr>
        <p:spPr>
          <a:xfrm>
            <a:off x="686160" y="5291280"/>
            <a:ext cx="218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Arterial pressure</a:t>
            </a:r>
            <a:endParaRPr b="0" lang="en-US" sz="2000" spc="-1" strike="noStrike">
              <a:solidFill>
                <a:srgbClr val="000000"/>
              </a:solidFill>
              <a:latin typeface="Comic Sans MS"/>
            </a:endParaRPr>
          </a:p>
        </p:txBody>
      </p:sp>
      <p:sp>
        <p:nvSpPr>
          <p:cNvPr id="3990" name=""/>
          <p:cNvSpPr/>
          <p:nvPr/>
        </p:nvSpPr>
        <p:spPr>
          <a:xfrm>
            <a:off x="3694680" y="5291280"/>
            <a:ext cx="47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12</a:t>
            </a:r>
            <a:endParaRPr b="0" lang="en-US" sz="2000" spc="-1" strike="noStrike">
              <a:solidFill>
                <a:srgbClr val="000000"/>
              </a:solidFill>
              <a:latin typeface="Comic Sans MS"/>
            </a:endParaRPr>
          </a:p>
        </p:txBody>
      </p:sp>
      <p:sp>
        <p:nvSpPr>
          <p:cNvPr id="3991" name=""/>
          <p:cNvSpPr/>
          <p:nvPr/>
        </p:nvSpPr>
        <p:spPr>
          <a:xfrm>
            <a:off x="4795200" y="529128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4.2</a:t>
            </a:r>
            <a:endParaRPr b="0" lang="en-US" sz="2000" spc="-1" strike="noStrike">
              <a:solidFill>
                <a:srgbClr val="000000"/>
              </a:solidFill>
              <a:latin typeface="Comic Sans MS"/>
            </a:endParaRPr>
          </a:p>
        </p:txBody>
      </p:sp>
      <p:sp>
        <p:nvSpPr>
          <p:cNvPr id="3992" name=""/>
          <p:cNvSpPr/>
          <p:nvPr/>
        </p:nvSpPr>
        <p:spPr>
          <a:xfrm>
            <a:off x="5882400" y="529128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10.7</a:t>
            </a:r>
            <a:endParaRPr b="0" lang="en-US" sz="2000" spc="-1" strike="noStrike">
              <a:solidFill>
                <a:srgbClr val="000000"/>
              </a:solidFill>
              <a:latin typeface="Comic Sans MS"/>
            </a:endParaRPr>
          </a:p>
        </p:txBody>
      </p:sp>
      <p:sp>
        <p:nvSpPr>
          <p:cNvPr id="3993" name=""/>
          <p:cNvSpPr/>
          <p:nvPr/>
        </p:nvSpPr>
        <p:spPr>
          <a:xfrm>
            <a:off x="7338240" y="529128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3994" name=""/>
          <p:cNvSpPr/>
          <p:nvPr/>
        </p:nvSpPr>
        <p:spPr>
          <a:xfrm>
            <a:off x="674640" y="2133720"/>
            <a:ext cx="7743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95" name=""/>
          <p:cNvSpPr/>
          <p:nvPr/>
        </p:nvSpPr>
        <p:spPr>
          <a:xfrm>
            <a:off x="3427560" y="1577880"/>
            <a:ext cx="0" cy="430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996" name=""/>
          <p:cNvSpPr/>
          <p:nvPr/>
        </p:nvSpPr>
        <p:spPr>
          <a:xfrm>
            <a:off x="390240" y="6114960"/>
            <a:ext cx="45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Molecular Psychiatry 4:453, 1999</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F7387DBD-FE08-45DB-932A-1BE1A88C9DDA}" type="datetime1">
              <a:rPr lang="en-US"/>
              <a:t>07/30/26</a:t>
            </a:fld>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97" name=""/>
          <p:cNvSpPr/>
          <p:nvPr/>
        </p:nvSpPr>
        <p:spPr>
          <a:xfrm rot="16200000">
            <a:off x="-244440" y="3768480"/>
            <a:ext cx="17953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d score</a:t>
            </a:r>
            <a:endParaRPr b="0" lang="en-US" sz="2800" spc="-1" strike="noStrike">
              <a:solidFill>
                <a:srgbClr val="000000"/>
              </a:solidFill>
              <a:latin typeface="Comic Sans MS"/>
            </a:endParaRPr>
          </a:p>
        </p:txBody>
      </p:sp>
      <p:sp>
        <p:nvSpPr>
          <p:cNvPr id="3998" name=""/>
          <p:cNvSpPr/>
          <p:nvPr/>
        </p:nvSpPr>
        <p:spPr>
          <a:xfrm>
            <a:off x="4539240" y="5904000"/>
            <a:ext cx="673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M</a:t>
            </a:r>
            <a:endParaRPr b="0" lang="en-US" sz="2800" spc="-1" strike="noStrike">
              <a:solidFill>
                <a:srgbClr val="000000"/>
              </a:solidFill>
              <a:latin typeface="Comic Sans MS"/>
            </a:endParaRPr>
          </a:p>
        </p:txBody>
      </p:sp>
      <p:sp>
        <p:nvSpPr>
          <p:cNvPr id="3999" name=""/>
          <p:cNvSpPr/>
          <p:nvPr/>
        </p:nvSpPr>
        <p:spPr>
          <a:xfrm flipV="1">
            <a:off x="224172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0" name=""/>
          <p:cNvSpPr/>
          <p:nvPr/>
        </p:nvSpPr>
        <p:spPr>
          <a:xfrm flipV="1">
            <a:off x="285120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1" name=""/>
          <p:cNvSpPr/>
          <p:nvPr/>
        </p:nvSpPr>
        <p:spPr>
          <a:xfrm flipV="1">
            <a:off x="339876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2" name=""/>
          <p:cNvSpPr/>
          <p:nvPr/>
        </p:nvSpPr>
        <p:spPr>
          <a:xfrm flipV="1">
            <a:off x="4545000" y="207324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3" name=""/>
          <p:cNvSpPr/>
          <p:nvPr/>
        </p:nvSpPr>
        <p:spPr>
          <a:xfrm flipV="1">
            <a:off x="375912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4" name=""/>
          <p:cNvSpPr/>
          <p:nvPr/>
        </p:nvSpPr>
        <p:spPr>
          <a:xfrm flipV="1">
            <a:off x="391644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5" name=""/>
          <p:cNvSpPr/>
          <p:nvPr/>
        </p:nvSpPr>
        <p:spPr>
          <a:xfrm flipV="1">
            <a:off x="526248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6" name=""/>
          <p:cNvSpPr/>
          <p:nvPr/>
        </p:nvSpPr>
        <p:spPr>
          <a:xfrm flipV="1">
            <a:off x="5529240" y="207324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7" name=""/>
          <p:cNvSpPr/>
          <p:nvPr/>
        </p:nvSpPr>
        <p:spPr>
          <a:xfrm flipV="1">
            <a:off x="5622840" y="2081160"/>
            <a:ext cx="84240" cy="37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8" name=""/>
          <p:cNvSpPr/>
          <p:nvPr/>
        </p:nvSpPr>
        <p:spPr>
          <a:xfrm flipV="1">
            <a:off x="652932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9" name=""/>
          <p:cNvSpPr/>
          <p:nvPr/>
        </p:nvSpPr>
        <p:spPr>
          <a:xfrm flipV="1">
            <a:off x="5994360" y="2093400"/>
            <a:ext cx="55440" cy="357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10" name=""/>
          <p:cNvSpPr/>
          <p:nvPr/>
        </p:nvSpPr>
        <p:spPr>
          <a:xfrm flipV="1">
            <a:off x="803268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11" name=""/>
          <p:cNvSpPr/>
          <p:nvPr/>
        </p:nvSpPr>
        <p:spPr>
          <a:xfrm flipV="1">
            <a:off x="169380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12" name=""/>
          <p:cNvSpPr/>
          <p:nvPr/>
        </p:nvSpPr>
        <p:spPr>
          <a:xfrm rot="16200000">
            <a:off x="1167480" y="139248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3</a:t>
            </a:r>
            <a:endParaRPr b="0" lang="en-US" sz="1600" spc="-1" strike="noStrike">
              <a:solidFill>
                <a:srgbClr val="000000"/>
              </a:solidFill>
              <a:latin typeface="Comic Sans MS"/>
            </a:endParaRPr>
          </a:p>
        </p:txBody>
      </p:sp>
      <p:sp>
        <p:nvSpPr>
          <p:cNvPr id="4013" name=""/>
          <p:cNvSpPr/>
          <p:nvPr/>
        </p:nvSpPr>
        <p:spPr>
          <a:xfrm rot="16200000">
            <a:off x="1741320" y="14378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1</a:t>
            </a:r>
            <a:endParaRPr b="0" lang="en-US" sz="1600" spc="-1" strike="noStrike">
              <a:solidFill>
                <a:srgbClr val="000000"/>
              </a:solidFill>
              <a:latin typeface="Comic Sans MS"/>
            </a:endParaRPr>
          </a:p>
        </p:txBody>
      </p:sp>
      <p:sp>
        <p:nvSpPr>
          <p:cNvPr id="4014" name=""/>
          <p:cNvSpPr/>
          <p:nvPr/>
        </p:nvSpPr>
        <p:spPr>
          <a:xfrm rot="16200000">
            <a:off x="2388240" y="144972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59</a:t>
            </a:r>
            <a:endParaRPr b="0" lang="en-US" sz="1600" spc="-1" strike="noStrike">
              <a:solidFill>
                <a:srgbClr val="000000"/>
              </a:solidFill>
              <a:latin typeface="Comic Sans MS"/>
            </a:endParaRPr>
          </a:p>
        </p:txBody>
      </p:sp>
      <p:sp>
        <p:nvSpPr>
          <p:cNvPr id="4015" name=""/>
          <p:cNvSpPr/>
          <p:nvPr/>
        </p:nvSpPr>
        <p:spPr>
          <a:xfrm rot="16200000">
            <a:off x="2924280" y="1473120"/>
            <a:ext cx="945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6</a:t>
            </a:r>
            <a:endParaRPr b="0" lang="en-US" sz="1600" spc="-1" strike="noStrike">
              <a:solidFill>
                <a:srgbClr val="000000"/>
              </a:solidFill>
              <a:latin typeface="Comic Sans MS"/>
            </a:endParaRPr>
          </a:p>
        </p:txBody>
      </p:sp>
      <p:sp>
        <p:nvSpPr>
          <p:cNvPr id="4016" name=""/>
          <p:cNvSpPr/>
          <p:nvPr/>
        </p:nvSpPr>
        <p:spPr>
          <a:xfrm rot="16200000">
            <a:off x="3174840" y="140760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27</a:t>
            </a:r>
            <a:endParaRPr b="0" lang="en-US" sz="1600" spc="-1" strike="noStrike">
              <a:solidFill>
                <a:srgbClr val="000000"/>
              </a:solidFill>
              <a:latin typeface="Comic Sans MS"/>
            </a:endParaRPr>
          </a:p>
        </p:txBody>
      </p:sp>
      <p:sp>
        <p:nvSpPr>
          <p:cNvPr id="4017" name=""/>
          <p:cNvSpPr/>
          <p:nvPr/>
        </p:nvSpPr>
        <p:spPr>
          <a:xfrm rot="16200000">
            <a:off x="3512160" y="1463040"/>
            <a:ext cx="940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it16</a:t>
            </a:r>
            <a:endParaRPr b="0" lang="en-US" sz="1600" spc="-1" strike="noStrike">
              <a:solidFill>
                <a:srgbClr val="000000"/>
              </a:solidFill>
              <a:latin typeface="Comic Sans MS"/>
            </a:endParaRPr>
          </a:p>
        </p:txBody>
      </p:sp>
      <p:sp>
        <p:nvSpPr>
          <p:cNvPr id="4018" name=""/>
          <p:cNvSpPr/>
          <p:nvPr/>
        </p:nvSpPr>
        <p:spPr>
          <a:xfrm rot="16200000">
            <a:off x="3995640" y="14234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7</a:t>
            </a:r>
            <a:endParaRPr b="0" lang="en-US" sz="1600" spc="-1" strike="noStrike">
              <a:solidFill>
                <a:srgbClr val="000000"/>
              </a:solidFill>
              <a:latin typeface="Comic Sans MS"/>
            </a:endParaRPr>
          </a:p>
        </p:txBody>
      </p:sp>
      <p:sp>
        <p:nvSpPr>
          <p:cNvPr id="4019" name=""/>
          <p:cNvSpPr/>
          <p:nvPr/>
        </p:nvSpPr>
        <p:spPr>
          <a:xfrm rot="16200000">
            <a:off x="4494960" y="144648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37</a:t>
            </a:r>
            <a:endParaRPr b="0" lang="en-US" sz="1600" spc="-1" strike="noStrike">
              <a:solidFill>
                <a:srgbClr val="000000"/>
              </a:solidFill>
              <a:latin typeface="Comic Sans MS"/>
            </a:endParaRPr>
          </a:p>
        </p:txBody>
      </p:sp>
      <p:sp>
        <p:nvSpPr>
          <p:cNvPr id="4020" name=""/>
          <p:cNvSpPr/>
          <p:nvPr/>
        </p:nvSpPr>
        <p:spPr>
          <a:xfrm rot="16200000">
            <a:off x="4728240" y="144972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76</a:t>
            </a:r>
            <a:endParaRPr b="0" lang="en-US" sz="1600" spc="-1" strike="noStrike">
              <a:solidFill>
                <a:srgbClr val="000000"/>
              </a:solidFill>
              <a:latin typeface="Comic Sans MS"/>
            </a:endParaRPr>
          </a:p>
        </p:txBody>
      </p:sp>
      <p:sp>
        <p:nvSpPr>
          <p:cNvPr id="4021" name=""/>
          <p:cNvSpPr/>
          <p:nvPr/>
        </p:nvSpPr>
        <p:spPr>
          <a:xfrm rot="16200000">
            <a:off x="5037120" y="1473120"/>
            <a:ext cx="945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4</a:t>
            </a:r>
            <a:endParaRPr b="0" lang="en-US" sz="1600" spc="-1" strike="noStrike">
              <a:solidFill>
                <a:srgbClr val="000000"/>
              </a:solidFill>
              <a:latin typeface="Comic Sans MS"/>
            </a:endParaRPr>
          </a:p>
        </p:txBody>
      </p:sp>
      <p:sp>
        <p:nvSpPr>
          <p:cNvPr id="4022" name=""/>
          <p:cNvSpPr/>
          <p:nvPr/>
        </p:nvSpPr>
        <p:spPr>
          <a:xfrm rot="16200000">
            <a:off x="5271120" y="144972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30</a:t>
            </a:r>
            <a:endParaRPr b="0" lang="en-US" sz="1600" spc="-1" strike="noStrike">
              <a:solidFill>
                <a:srgbClr val="000000"/>
              </a:solidFill>
              <a:latin typeface="Comic Sans MS"/>
            </a:endParaRPr>
          </a:p>
        </p:txBody>
      </p:sp>
      <p:sp>
        <p:nvSpPr>
          <p:cNvPr id="4023" name=""/>
          <p:cNvSpPr/>
          <p:nvPr/>
        </p:nvSpPr>
        <p:spPr>
          <a:xfrm rot="16200000">
            <a:off x="5543280" y="14234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6</a:t>
            </a:r>
            <a:endParaRPr b="0" lang="en-US" sz="1600" spc="-1" strike="noStrike">
              <a:solidFill>
                <a:srgbClr val="000000"/>
              </a:solidFill>
              <a:latin typeface="Comic Sans MS"/>
            </a:endParaRPr>
          </a:p>
        </p:txBody>
      </p:sp>
      <p:sp>
        <p:nvSpPr>
          <p:cNvPr id="4024" name=""/>
          <p:cNvSpPr/>
          <p:nvPr/>
        </p:nvSpPr>
        <p:spPr>
          <a:xfrm rot="16200000">
            <a:off x="6068160" y="146556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14</a:t>
            </a:r>
            <a:endParaRPr b="0" lang="en-US" sz="1600" spc="-1" strike="noStrike">
              <a:solidFill>
                <a:srgbClr val="000000"/>
              </a:solidFill>
              <a:latin typeface="Comic Sans MS"/>
            </a:endParaRPr>
          </a:p>
        </p:txBody>
      </p:sp>
      <p:sp>
        <p:nvSpPr>
          <p:cNvPr id="4025" name=""/>
          <p:cNvSpPr/>
          <p:nvPr/>
        </p:nvSpPr>
        <p:spPr>
          <a:xfrm rot="16200000">
            <a:off x="7515000" y="14108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22</a:t>
            </a:r>
            <a:endParaRPr b="0" lang="en-US" sz="1600" spc="-1" strike="noStrike">
              <a:solidFill>
                <a:srgbClr val="000000"/>
              </a:solidFill>
              <a:latin typeface="Comic Sans MS"/>
            </a:endParaRPr>
          </a:p>
        </p:txBody>
      </p:sp>
      <p:sp>
        <p:nvSpPr>
          <p:cNvPr id="4026" name=""/>
          <p:cNvSpPr/>
          <p:nvPr/>
        </p:nvSpPr>
        <p:spPr>
          <a:xfrm>
            <a:off x="4984920" y="2092320"/>
            <a:ext cx="83880" cy="34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27" name=""/>
          <p:cNvSpPr/>
          <p:nvPr/>
        </p:nvSpPr>
        <p:spPr>
          <a:xfrm>
            <a:off x="6692400" y="1436760"/>
            <a:ext cx="1088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RNO4</a:t>
            </a:r>
            <a:endParaRPr b="0" lang="en-US" sz="2800" spc="-1" strike="noStrike">
              <a:solidFill>
                <a:srgbClr val="000000"/>
              </a:solidFill>
              <a:latin typeface="Comic Sans MS"/>
            </a:endParaRPr>
          </a:p>
        </p:txBody>
      </p:sp>
      <p:grpSp>
        <p:nvGrpSpPr>
          <p:cNvPr id="4028" name=""/>
          <p:cNvGrpSpPr/>
          <p:nvPr/>
        </p:nvGrpSpPr>
        <p:grpSpPr>
          <a:xfrm>
            <a:off x="1241280" y="2455560"/>
            <a:ext cx="7242120" cy="3203280"/>
            <a:chOff x="1241280" y="2455560"/>
            <a:chExt cx="7242120" cy="3203280"/>
          </a:xfrm>
        </p:grpSpPr>
        <p:sp>
          <p:nvSpPr>
            <p:cNvPr id="4029" name=""/>
            <p:cNvSpPr/>
            <p:nvPr/>
          </p:nvSpPr>
          <p:spPr>
            <a:xfrm>
              <a:off x="1313280" y="2455920"/>
              <a:ext cx="7168680" cy="3159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030" name=""/>
            <p:cNvSpPr/>
            <p:nvPr/>
          </p:nvSpPr>
          <p:spPr>
            <a:xfrm>
              <a:off x="1313280" y="5614920"/>
              <a:ext cx="71686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031" name=""/>
            <p:cNvSpPr/>
            <p:nvPr/>
          </p:nvSpPr>
          <p:spPr>
            <a:xfrm flipV="1">
              <a:off x="1760040" y="5614560"/>
              <a:ext cx="180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2" name=""/>
            <p:cNvSpPr/>
            <p:nvPr/>
          </p:nvSpPr>
          <p:spPr>
            <a:xfrm flipV="1">
              <a:off x="265644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3" name=""/>
            <p:cNvSpPr/>
            <p:nvPr/>
          </p:nvSpPr>
          <p:spPr>
            <a:xfrm flipV="1">
              <a:off x="355248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4" name=""/>
            <p:cNvSpPr/>
            <p:nvPr/>
          </p:nvSpPr>
          <p:spPr>
            <a:xfrm flipV="1">
              <a:off x="444852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5" name=""/>
            <p:cNvSpPr/>
            <p:nvPr/>
          </p:nvSpPr>
          <p:spPr>
            <a:xfrm flipV="1">
              <a:off x="534456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6" name=""/>
            <p:cNvSpPr/>
            <p:nvPr/>
          </p:nvSpPr>
          <p:spPr>
            <a:xfrm flipV="1">
              <a:off x="624096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7" name=""/>
            <p:cNvSpPr/>
            <p:nvPr/>
          </p:nvSpPr>
          <p:spPr>
            <a:xfrm flipV="1">
              <a:off x="7137000" y="5614560"/>
              <a:ext cx="180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8" name=""/>
            <p:cNvSpPr/>
            <p:nvPr/>
          </p:nvSpPr>
          <p:spPr>
            <a:xfrm flipV="1">
              <a:off x="8033040" y="5614560"/>
              <a:ext cx="180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4039" name=""/>
            <p:cNvSpPr/>
            <p:nvPr/>
          </p:nvSpPr>
          <p:spPr>
            <a:xfrm>
              <a:off x="1313280" y="2455920"/>
              <a:ext cx="7168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040" name=""/>
            <p:cNvSpPr/>
            <p:nvPr/>
          </p:nvSpPr>
          <p:spPr>
            <a:xfrm flipV="1">
              <a:off x="1313280" y="2455560"/>
              <a:ext cx="1440" cy="315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041" name=""/>
            <p:cNvSpPr/>
            <p:nvPr/>
          </p:nvSpPr>
          <p:spPr>
            <a:xfrm>
              <a:off x="1241280" y="5428080"/>
              <a:ext cx="72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042" name=""/>
            <p:cNvSpPr/>
            <p:nvPr/>
          </p:nvSpPr>
          <p:spPr>
            <a:xfrm>
              <a:off x="1241280" y="4685400"/>
              <a:ext cx="72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043" name=""/>
            <p:cNvSpPr/>
            <p:nvPr/>
          </p:nvSpPr>
          <p:spPr>
            <a:xfrm>
              <a:off x="1241280" y="3942720"/>
              <a:ext cx="720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044" name=""/>
            <p:cNvSpPr/>
            <p:nvPr/>
          </p:nvSpPr>
          <p:spPr>
            <a:xfrm>
              <a:off x="1241280" y="3198960"/>
              <a:ext cx="720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045" name=""/>
            <p:cNvSpPr/>
            <p:nvPr/>
          </p:nvSpPr>
          <p:spPr>
            <a:xfrm>
              <a:off x="1241280" y="2455920"/>
              <a:ext cx="72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046" name=""/>
            <p:cNvSpPr/>
            <p:nvPr/>
          </p:nvSpPr>
          <p:spPr>
            <a:xfrm flipV="1">
              <a:off x="8481960" y="2455560"/>
              <a:ext cx="1440" cy="315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047" name=""/>
            <p:cNvSpPr/>
            <p:nvPr/>
          </p:nvSpPr>
          <p:spPr>
            <a:xfrm flipV="1">
              <a:off x="1760040" y="2742120"/>
              <a:ext cx="6363000" cy="2683800"/>
            </a:xfrm>
            <a:custGeom>
              <a:avLst/>
              <a:gdLst/>
              <a:ahLst/>
              <a:rect l="l" t="t" r="r" b="b"/>
              <a:pathLst>
                <a:path w="4438" h="2973">
                  <a:moveTo>
                    <a:pt x="0" y="395"/>
                  </a:moveTo>
                  <a:lnTo>
                    <a:pt x="3" y="400"/>
                  </a:lnTo>
                  <a:lnTo>
                    <a:pt x="5" y="404"/>
                  </a:lnTo>
                  <a:lnTo>
                    <a:pt x="8" y="408"/>
                  </a:lnTo>
                  <a:lnTo>
                    <a:pt x="10" y="412"/>
                  </a:lnTo>
                  <a:lnTo>
                    <a:pt x="13" y="417"/>
                  </a:lnTo>
                  <a:lnTo>
                    <a:pt x="15" y="421"/>
                  </a:lnTo>
                  <a:lnTo>
                    <a:pt x="18" y="425"/>
                  </a:lnTo>
                  <a:lnTo>
                    <a:pt x="20" y="430"/>
                  </a:lnTo>
                  <a:lnTo>
                    <a:pt x="23" y="435"/>
                  </a:lnTo>
                  <a:lnTo>
                    <a:pt x="25" y="439"/>
                  </a:lnTo>
                  <a:lnTo>
                    <a:pt x="28" y="444"/>
                  </a:lnTo>
                  <a:lnTo>
                    <a:pt x="30" y="449"/>
                  </a:lnTo>
                  <a:lnTo>
                    <a:pt x="33" y="454"/>
                  </a:lnTo>
                  <a:lnTo>
                    <a:pt x="35" y="459"/>
                  </a:lnTo>
                  <a:lnTo>
                    <a:pt x="38" y="464"/>
                  </a:lnTo>
                  <a:lnTo>
                    <a:pt x="40" y="470"/>
                  </a:lnTo>
                  <a:lnTo>
                    <a:pt x="43" y="476"/>
                  </a:lnTo>
                  <a:lnTo>
                    <a:pt x="45" y="481"/>
                  </a:lnTo>
                  <a:lnTo>
                    <a:pt x="48" y="488"/>
                  </a:lnTo>
                  <a:lnTo>
                    <a:pt x="50" y="494"/>
                  </a:lnTo>
                  <a:lnTo>
                    <a:pt x="53" y="500"/>
                  </a:lnTo>
                  <a:lnTo>
                    <a:pt x="55" y="507"/>
                  </a:lnTo>
                  <a:lnTo>
                    <a:pt x="58" y="514"/>
                  </a:lnTo>
                  <a:lnTo>
                    <a:pt x="60" y="521"/>
                  </a:lnTo>
                  <a:lnTo>
                    <a:pt x="63" y="528"/>
                  </a:lnTo>
                  <a:lnTo>
                    <a:pt x="65" y="536"/>
                  </a:lnTo>
                  <a:lnTo>
                    <a:pt x="68" y="544"/>
                  </a:lnTo>
                  <a:lnTo>
                    <a:pt x="70" y="553"/>
                  </a:lnTo>
                  <a:lnTo>
                    <a:pt x="73" y="561"/>
                  </a:lnTo>
                  <a:lnTo>
                    <a:pt x="75" y="570"/>
                  </a:lnTo>
                  <a:lnTo>
                    <a:pt x="78" y="579"/>
                  </a:lnTo>
                  <a:lnTo>
                    <a:pt x="80" y="588"/>
                  </a:lnTo>
                  <a:lnTo>
                    <a:pt x="83" y="597"/>
                  </a:lnTo>
                  <a:lnTo>
                    <a:pt x="85" y="607"/>
                  </a:lnTo>
                  <a:lnTo>
                    <a:pt x="88" y="617"/>
                  </a:lnTo>
                  <a:lnTo>
                    <a:pt x="90" y="627"/>
                  </a:lnTo>
                  <a:lnTo>
                    <a:pt x="93" y="637"/>
                  </a:lnTo>
                  <a:lnTo>
                    <a:pt x="95" y="647"/>
                  </a:lnTo>
                  <a:lnTo>
                    <a:pt x="98" y="657"/>
                  </a:lnTo>
                  <a:lnTo>
                    <a:pt x="100" y="667"/>
                  </a:lnTo>
                  <a:lnTo>
                    <a:pt x="103" y="678"/>
                  </a:lnTo>
                  <a:lnTo>
                    <a:pt x="105" y="688"/>
                  </a:lnTo>
                  <a:lnTo>
                    <a:pt x="108" y="699"/>
                  </a:lnTo>
                  <a:lnTo>
                    <a:pt x="110" y="709"/>
                  </a:lnTo>
                  <a:lnTo>
                    <a:pt x="113" y="720"/>
                  </a:lnTo>
                  <a:lnTo>
                    <a:pt x="115" y="731"/>
                  </a:lnTo>
                  <a:lnTo>
                    <a:pt x="118" y="741"/>
                  </a:lnTo>
                  <a:lnTo>
                    <a:pt x="120" y="752"/>
                  </a:lnTo>
                  <a:lnTo>
                    <a:pt x="123" y="763"/>
                  </a:lnTo>
                  <a:lnTo>
                    <a:pt x="125" y="773"/>
                  </a:lnTo>
                  <a:lnTo>
                    <a:pt x="128" y="784"/>
                  </a:lnTo>
                  <a:lnTo>
                    <a:pt x="130" y="794"/>
                  </a:lnTo>
                  <a:lnTo>
                    <a:pt x="133" y="805"/>
                  </a:lnTo>
                  <a:lnTo>
                    <a:pt x="135" y="815"/>
                  </a:lnTo>
                  <a:lnTo>
                    <a:pt x="138" y="826"/>
                  </a:lnTo>
                  <a:lnTo>
                    <a:pt x="140" y="836"/>
                  </a:lnTo>
                  <a:lnTo>
                    <a:pt x="143" y="847"/>
                  </a:lnTo>
                  <a:lnTo>
                    <a:pt x="145" y="857"/>
                  </a:lnTo>
                  <a:lnTo>
                    <a:pt x="148" y="867"/>
                  </a:lnTo>
                  <a:lnTo>
                    <a:pt x="150" y="877"/>
                  </a:lnTo>
                  <a:lnTo>
                    <a:pt x="153" y="888"/>
                  </a:lnTo>
                  <a:lnTo>
                    <a:pt x="155" y="898"/>
                  </a:lnTo>
                  <a:lnTo>
                    <a:pt x="158" y="908"/>
                  </a:lnTo>
                  <a:lnTo>
                    <a:pt x="160" y="918"/>
                  </a:lnTo>
                  <a:lnTo>
                    <a:pt x="163" y="928"/>
                  </a:lnTo>
                  <a:lnTo>
                    <a:pt x="165" y="937"/>
                  </a:lnTo>
                  <a:lnTo>
                    <a:pt x="168" y="947"/>
                  </a:lnTo>
                  <a:lnTo>
                    <a:pt x="170" y="957"/>
                  </a:lnTo>
                  <a:lnTo>
                    <a:pt x="173" y="967"/>
                  </a:lnTo>
                  <a:lnTo>
                    <a:pt x="175" y="976"/>
                  </a:lnTo>
                  <a:lnTo>
                    <a:pt x="178" y="986"/>
                  </a:lnTo>
                  <a:lnTo>
                    <a:pt x="180" y="995"/>
                  </a:lnTo>
                  <a:lnTo>
                    <a:pt x="183" y="1004"/>
                  </a:lnTo>
                  <a:lnTo>
                    <a:pt x="185" y="1014"/>
                  </a:lnTo>
                  <a:lnTo>
                    <a:pt x="188" y="1023"/>
                  </a:lnTo>
                  <a:lnTo>
                    <a:pt x="190" y="1032"/>
                  </a:lnTo>
                  <a:lnTo>
                    <a:pt x="193" y="1041"/>
                  </a:lnTo>
                  <a:lnTo>
                    <a:pt x="195" y="1049"/>
                  </a:lnTo>
                  <a:lnTo>
                    <a:pt x="198" y="1058"/>
                  </a:lnTo>
                  <a:lnTo>
                    <a:pt x="200" y="1067"/>
                  </a:lnTo>
                  <a:lnTo>
                    <a:pt x="203" y="1075"/>
                  </a:lnTo>
                  <a:lnTo>
                    <a:pt x="205" y="1084"/>
                  </a:lnTo>
                  <a:lnTo>
                    <a:pt x="208" y="1092"/>
                  </a:lnTo>
                  <a:lnTo>
                    <a:pt x="210" y="1100"/>
                  </a:lnTo>
                  <a:lnTo>
                    <a:pt x="213" y="1109"/>
                  </a:lnTo>
                  <a:lnTo>
                    <a:pt x="215" y="1117"/>
                  </a:lnTo>
                  <a:lnTo>
                    <a:pt x="218" y="1125"/>
                  </a:lnTo>
                  <a:lnTo>
                    <a:pt x="220" y="1133"/>
                  </a:lnTo>
                  <a:lnTo>
                    <a:pt x="223" y="1141"/>
                  </a:lnTo>
                  <a:lnTo>
                    <a:pt x="225" y="1149"/>
                  </a:lnTo>
                  <a:lnTo>
                    <a:pt x="228" y="1157"/>
                  </a:lnTo>
                  <a:lnTo>
                    <a:pt x="230" y="1165"/>
                  </a:lnTo>
                  <a:lnTo>
                    <a:pt x="233" y="1173"/>
                  </a:lnTo>
                  <a:lnTo>
                    <a:pt x="235" y="1180"/>
                  </a:lnTo>
                  <a:lnTo>
                    <a:pt x="238" y="1188"/>
                  </a:lnTo>
                  <a:lnTo>
                    <a:pt x="240" y="1196"/>
                  </a:lnTo>
                  <a:lnTo>
                    <a:pt x="243" y="1204"/>
                  </a:lnTo>
                  <a:lnTo>
                    <a:pt x="245" y="1211"/>
                  </a:lnTo>
                  <a:lnTo>
                    <a:pt x="248" y="1219"/>
                  </a:lnTo>
                  <a:lnTo>
                    <a:pt x="250" y="1226"/>
                  </a:lnTo>
                  <a:lnTo>
                    <a:pt x="253" y="1234"/>
                  </a:lnTo>
                  <a:lnTo>
                    <a:pt x="255" y="1242"/>
                  </a:lnTo>
                  <a:lnTo>
                    <a:pt x="258" y="1249"/>
                  </a:lnTo>
                  <a:lnTo>
                    <a:pt x="260" y="1257"/>
                  </a:lnTo>
                  <a:lnTo>
                    <a:pt x="263" y="1264"/>
                  </a:lnTo>
                  <a:lnTo>
                    <a:pt x="265" y="1272"/>
                  </a:lnTo>
                  <a:lnTo>
                    <a:pt x="268" y="1279"/>
                  </a:lnTo>
                  <a:lnTo>
                    <a:pt x="270" y="1286"/>
                  </a:lnTo>
                  <a:lnTo>
                    <a:pt x="273" y="1293"/>
                  </a:lnTo>
                  <a:lnTo>
                    <a:pt x="275" y="1300"/>
                  </a:lnTo>
                  <a:lnTo>
                    <a:pt x="278" y="1307"/>
                  </a:lnTo>
                  <a:lnTo>
                    <a:pt x="280" y="1314"/>
                  </a:lnTo>
                  <a:lnTo>
                    <a:pt x="283" y="1321"/>
                  </a:lnTo>
                  <a:lnTo>
                    <a:pt x="285" y="1328"/>
                  </a:lnTo>
                  <a:lnTo>
                    <a:pt x="288" y="1334"/>
                  </a:lnTo>
                  <a:lnTo>
                    <a:pt x="290" y="1340"/>
                  </a:lnTo>
                  <a:lnTo>
                    <a:pt x="293" y="1347"/>
                  </a:lnTo>
                  <a:lnTo>
                    <a:pt x="295" y="1353"/>
                  </a:lnTo>
                  <a:lnTo>
                    <a:pt x="298" y="1358"/>
                  </a:lnTo>
                  <a:lnTo>
                    <a:pt x="300" y="1364"/>
                  </a:lnTo>
                  <a:lnTo>
                    <a:pt x="303" y="1369"/>
                  </a:lnTo>
                  <a:lnTo>
                    <a:pt x="305" y="1375"/>
                  </a:lnTo>
                  <a:lnTo>
                    <a:pt x="308" y="1380"/>
                  </a:lnTo>
                  <a:lnTo>
                    <a:pt x="310" y="1385"/>
                  </a:lnTo>
                  <a:lnTo>
                    <a:pt x="313" y="1389"/>
                  </a:lnTo>
                  <a:lnTo>
                    <a:pt x="315" y="1393"/>
                  </a:lnTo>
                  <a:lnTo>
                    <a:pt x="318" y="1397"/>
                  </a:lnTo>
                  <a:lnTo>
                    <a:pt x="320" y="1400"/>
                  </a:lnTo>
                  <a:lnTo>
                    <a:pt x="323" y="1404"/>
                  </a:lnTo>
                  <a:lnTo>
                    <a:pt x="325" y="1407"/>
                  </a:lnTo>
                  <a:lnTo>
                    <a:pt x="328" y="1410"/>
                  </a:lnTo>
                  <a:lnTo>
                    <a:pt x="330" y="1413"/>
                  </a:lnTo>
                  <a:lnTo>
                    <a:pt x="333" y="1416"/>
                  </a:lnTo>
                  <a:lnTo>
                    <a:pt x="335" y="1419"/>
                  </a:lnTo>
                  <a:lnTo>
                    <a:pt x="338" y="1422"/>
                  </a:lnTo>
                  <a:lnTo>
                    <a:pt x="340" y="1425"/>
                  </a:lnTo>
                  <a:lnTo>
                    <a:pt x="343" y="1428"/>
                  </a:lnTo>
                  <a:lnTo>
                    <a:pt x="345" y="1431"/>
                  </a:lnTo>
                  <a:lnTo>
                    <a:pt x="348" y="1435"/>
                  </a:lnTo>
                  <a:lnTo>
                    <a:pt x="350" y="1438"/>
                  </a:lnTo>
                  <a:lnTo>
                    <a:pt x="353" y="1441"/>
                  </a:lnTo>
                  <a:lnTo>
                    <a:pt x="355" y="1445"/>
                  </a:lnTo>
                  <a:lnTo>
                    <a:pt x="358" y="1449"/>
                  </a:lnTo>
                  <a:lnTo>
                    <a:pt x="360" y="1453"/>
                  </a:lnTo>
                  <a:lnTo>
                    <a:pt x="363" y="1457"/>
                  </a:lnTo>
                  <a:lnTo>
                    <a:pt x="365" y="1462"/>
                  </a:lnTo>
                  <a:lnTo>
                    <a:pt x="368" y="1466"/>
                  </a:lnTo>
                  <a:lnTo>
                    <a:pt x="370" y="1472"/>
                  </a:lnTo>
                  <a:lnTo>
                    <a:pt x="373" y="1477"/>
                  </a:lnTo>
                  <a:lnTo>
                    <a:pt x="375" y="1483"/>
                  </a:lnTo>
                  <a:lnTo>
                    <a:pt x="378" y="1489"/>
                  </a:lnTo>
                  <a:lnTo>
                    <a:pt x="380" y="1496"/>
                  </a:lnTo>
                  <a:lnTo>
                    <a:pt x="383" y="1504"/>
                  </a:lnTo>
                  <a:lnTo>
                    <a:pt x="385" y="1512"/>
                  </a:lnTo>
                  <a:lnTo>
                    <a:pt x="388" y="1520"/>
                  </a:lnTo>
                  <a:lnTo>
                    <a:pt x="390" y="1528"/>
                  </a:lnTo>
                  <a:lnTo>
                    <a:pt x="393" y="1536"/>
                  </a:lnTo>
                  <a:lnTo>
                    <a:pt x="395" y="1545"/>
                  </a:lnTo>
                  <a:lnTo>
                    <a:pt x="398" y="1554"/>
                  </a:lnTo>
                  <a:lnTo>
                    <a:pt x="400" y="1563"/>
                  </a:lnTo>
                  <a:lnTo>
                    <a:pt x="403" y="1573"/>
                  </a:lnTo>
                  <a:lnTo>
                    <a:pt x="405" y="1582"/>
                  </a:lnTo>
                  <a:lnTo>
                    <a:pt x="408" y="1592"/>
                  </a:lnTo>
                  <a:lnTo>
                    <a:pt x="410" y="1602"/>
                  </a:lnTo>
                  <a:lnTo>
                    <a:pt x="413" y="1612"/>
                  </a:lnTo>
                  <a:lnTo>
                    <a:pt x="415" y="1622"/>
                  </a:lnTo>
                  <a:lnTo>
                    <a:pt x="418" y="1632"/>
                  </a:lnTo>
                  <a:lnTo>
                    <a:pt x="420" y="1642"/>
                  </a:lnTo>
                  <a:lnTo>
                    <a:pt x="423" y="1652"/>
                  </a:lnTo>
                  <a:lnTo>
                    <a:pt x="425" y="1662"/>
                  </a:lnTo>
                  <a:lnTo>
                    <a:pt x="428" y="1672"/>
                  </a:lnTo>
                  <a:lnTo>
                    <a:pt x="430" y="1682"/>
                  </a:lnTo>
                  <a:lnTo>
                    <a:pt x="433" y="1692"/>
                  </a:lnTo>
                  <a:lnTo>
                    <a:pt x="435" y="1702"/>
                  </a:lnTo>
                  <a:lnTo>
                    <a:pt x="438" y="1712"/>
                  </a:lnTo>
                  <a:lnTo>
                    <a:pt x="440" y="1721"/>
                  </a:lnTo>
                  <a:lnTo>
                    <a:pt x="443" y="1731"/>
                  </a:lnTo>
                  <a:lnTo>
                    <a:pt x="445" y="1740"/>
                  </a:lnTo>
                  <a:lnTo>
                    <a:pt x="448" y="1748"/>
                  </a:lnTo>
                  <a:lnTo>
                    <a:pt x="450" y="1757"/>
                  </a:lnTo>
                  <a:lnTo>
                    <a:pt x="453" y="1766"/>
                  </a:lnTo>
                  <a:lnTo>
                    <a:pt x="455" y="1774"/>
                  </a:lnTo>
                  <a:lnTo>
                    <a:pt x="458" y="1783"/>
                  </a:lnTo>
                  <a:lnTo>
                    <a:pt x="460" y="1791"/>
                  </a:lnTo>
                  <a:lnTo>
                    <a:pt x="463" y="1799"/>
                  </a:lnTo>
                  <a:lnTo>
                    <a:pt x="465" y="1808"/>
                  </a:lnTo>
                  <a:lnTo>
                    <a:pt x="468" y="1816"/>
                  </a:lnTo>
                  <a:lnTo>
                    <a:pt x="470" y="1824"/>
                  </a:lnTo>
                  <a:lnTo>
                    <a:pt x="473" y="1831"/>
                  </a:lnTo>
                  <a:lnTo>
                    <a:pt x="475" y="1839"/>
                  </a:lnTo>
                  <a:lnTo>
                    <a:pt x="478" y="1847"/>
                  </a:lnTo>
                  <a:lnTo>
                    <a:pt x="480" y="1854"/>
                  </a:lnTo>
                  <a:lnTo>
                    <a:pt x="483" y="1862"/>
                  </a:lnTo>
                  <a:lnTo>
                    <a:pt x="485" y="1869"/>
                  </a:lnTo>
                  <a:lnTo>
                    <a:pt x="488" y="1877"/>
                  </a:lnTo>
                  <a:lnTo>
                    <a:pt x="490" y="1884"/>
                  </a:lnTo>
                  <a:lnTo>
                    <a:pt x="493" y="1891"/>
                  </a:lnTo>
                  <a:lnTo>
                    <a:pt x="495" y="1898"/>
                  </a:lnTo>
                  <a:lnTo>
                    <a:pt x="498" y="1905"/>
                  </a:lnTo>
                  <a:lnTo>
                    <a:pt x="500" y="1912"/>
                  </a:lnTo>
                  <a:lnTo>
                    <a:pt x="503" y="1919"/>
                  </a:lnTo>
                  <a:lnTo>
                    <a:pt x="505" y="1926"/>
                  </a:lnTo>
                  <a:lnTo>
                    <a:pt x="508" y="1933"/>
                  </a:lnTo>
                  <a:lnTo>
                    <a:pt x="510" y="1940"/>
                  </a:lnTo>
                  <a:lnTo>
                    <a:pt x="513" y="1946"/>
                  </a:lnTo>
                  <a:lnTo>
                    <a:pt x="515" y="1953"/>
                  </a:lnTo>
                  <a:lnTo>
                    <a:pt x="518" y="1959"/>
                  </a:lnTo>
                  <a:lnTo>
                    <a:pt x="520" y="1966"/>
                  </a:lnTo>
                  <a:lnTo>
                    <a:pt x="523" y="1972"/>
                  </a:lnTo>
                  <a:lnTo>
                    <a:pt x="525" y="1979"/>
                  </a:lnTo>
                  <a:lnTo>
                    <a:pt x="528" y="1985"/>
                  </a:lnTo>
                  <a:lnTo>
                    <a:pt x="530" y="1991"/>
                  </a:lnTo>
                  <a:lnTo>
                    <a:pt x="533" y="1997"/>
                  </a:lnTo>
                  <a:lnTo>
                    <a:pt x="535" y="2003"/>
                  </a:lnTo>
                  <a:lnTo>
                    <a:pt x="538" y="2009"/>
                  </a:lnTo>
                  <a:lnTo>
                    <a:pt x="540" y="2015"/>
                  </a:lnTo>
                  <a:lnTo>
                    <a:pt x="543" y="2021"/>
                  </a:lnTo>
                  <a:lnTo>
                    <a:pt x="545" y="2027"/>
                  </a:lnTo>
                  <a:lnTo>
                    <a:pt x="548" y="2033"/>
                  </a:lnTo>
                  <a:lnTo>
                    <a:pt x="550" y="2039"/>
                  </a:lnTo>
                  <a:lnTo>
                    <a:pt x="553" y="2044"/>
                  </a:lnTo>
                  <a:lnTo>
                    <a:pt x="555" y="2050"/>
                  </a:lnTo>
                  <a:lnTo>
                    <a:pt x="558" y="2056"/>
                  </a:lnTo>
                  <a:lnTo>
                    <a:pt x="560" y="2061"/>
                  </a:lnTo>
                  <a:lnTo>
                    <a:pt x="563" y="2067"/>
                  </a:lnTo>
                  <a:lnTo>
                    <a:pt x="565" y="2072"/>
                  </a:lnTo>
                  <a:lnTo>
                    <a:pt x="568" y="2077"/>
                  </a:lnTo>
                  <a:lnTo>
                    <a:pt x="570" y="2082"/>
                  </a:lnTo>
                  <a:lnTo>
                    <a:pt x="573" y="2087"/>
                  </a:lnTo>
                  <a:lnTo>
                    <a:pt x="575" y="2091"/>
                  </a:lnTo>
                  <a:lnTo>
                    <a:pt x="578" y="2096"/>
                  </a:lnTo>
                  <a:lnTo>
                    <a:pt x="580" y="2101"/>
                  </a:lnTo>
                  <a:lnTo>
                    <a:pt x="583" y="2106"/>
                  </a:lnTo>
                  <a:lnTo>
                    <a:pt x="585" y="2110"/>
                  </a:lnTo>
                  <a:lnTo>
                    <a:pt x="588" y="2115"/>
                  </a:lnTo>
                  <a:lnTo>
                    <a:pt x="590" y="2119"/>
                  </a:lnTo>
                  <a:lnTo>
                    <a:pt x="593" y="2124"/>
                  </a:lnTo>
                  <a:lnTo>
                    <a:pt x="595" y="2128"/>
                  </a:lnTo>
                  <a:lnTo>
                    <a:pt x="598" y="2132"/>
                  </a:lnTo>
                  <a:lnTo>
                    <a:pt x="600" y="2137"/>
                  </a:lnTo>
                  <a:lnTo>
                    <a:pt x="603" y="2141"/>
                  </a:lnTo>
                  <a:lnTo>
                    <a:pt x="605" y="2145"/>
                  </a:lnTo>
                  <a:lnTo>
                    <a:pt x="608" y="2149"/>
                  </a:lnTo>
                  <a:lnTo>
                    <a:pt x="610" y="2153"/>
                  </a:lnTo>
                  <a:lnTo>
                    <a:pt x="613" y="2157"/>
                  </a:lnTo>
                  <a:lnTo>
                    <a:pt x="615" y="2161"/>
                  </a:lnTo>
                  <a:lnTo>
                    <a:pt x="618" y="2165"/>
                  </a:lnTo>
                  <a:lnTo>
                    <a:pt x="620" y="2169"/>
                  </a:lnTo>
                  <a:lnTo>
                    <a:pt x="623" y="2173"/>
                  </a:lnTo>
                  <a:lnTo>
                    <a:pt x="625" y="2177"/>
                  </a:lnTo>
                  <a:lnTo>
                    <a:pt x="628" y="2180"/>
                  </a:lnTo>
                  <a:lnTo>
                    <a:pt x="630" y="2184"/>
                  </a:lnTo>
                  <a:lnTo>
                    <a:pt x="633" y="2187"/>
                  </a:lnTo>
                  <a:lnTo>
                    <a:pt x="635" y="2190"/>
                  </a:lnTo>
                  <a:lnTo>
                    <a:pt x="638" y="2194"/>
                  </a:lnTo>
                  <a:lnTo>
                    <a:pt x="640" y="2197"/>
                  </a:lnTo>
                  <a:lnTo>
                    <a:pt x="643" y="2200"/>
                  </a:lnTo>
                  <a:lnTo>
                    <a:pt x="645" y="2203"/>
                  </a:lnTo>
                  <a:lnTo>
                    <a:pt x="648" y="2206"/>
                  </a:lnTo>
                  <a:lnTo>
                    <a:pt x="650" y="2209"/>
                  </a:lnTo>
                  <a:lnTo>
                    <a:pt x="653" y="2212"/>
                  </a:lnTo>
                  <a:lnTo>
                    <a:pt x="655" y="2215"/>
                  </a:lnTo>
                  <a:lnTo>
                    <a:pt x="658" y="2218"/>
                  </a:lnTo>
                  <a:lnTo>
                    <a:pt x="660" y="2221"/>
                  </a:lnTo>
                  <a:lnTo>
                    <a:pt x="663" y="2223"/>
                  </a:lnTo>
                  <a:lnTo>
                    <a:pt x="665" y="2226"/>
                  </a:lnTo>
                  <a:lnTo>
                    <a:pt x="668" y="2229"/>
                  </a:lnTo>
                  <a:lnTo>
                    <a:pt x="670" y="2231"/>
                  </a:lnTo>
                  <a:lnTo>
                    <a:pt x="673" y="2234"/>
                  </a:lnTo>
                  <a:lnTo>
                    <a:pt x="675" y="2237"/>
                  </a:lnTo>
                  <a:lnTo>
                    <a:pt x="678" y="2239"/>
                  </a:lnTo>
                  <a:lnTo>
                    <a:pt x="680" y="2242"/>
                  </a:lnTo>
                  <a:lnTo>
                    <a:pt x="683" y="2244"/>
                  </a:lnTo>
                  <a:lnTo>
                    <a:pt x="685" y="2247"/>
                  </a:lnTo>
                  <a:lnTo>
                    <a:pt x="688" y="2249"/>
                  </a:lnTo>
                  <a:lnTo>
                    <a:pt x="690" y="2251"/>
                  </a:lnTo>
                  <a:lnTo>
                    <a:pt x="693" y="2253"/>
                  </a:lnTo>
                  <a:lnTo>
                    <a:pt x="695" y="2255"/>
                  </a:lnTo>
                  <a:lnTo>
                    <a:pt x="698" y="2257"/>
                  </a:lnTo>
                  <a:lnTo>
                    <a:pt x="700" y="2259"/>
                  </a:lnTo>
                  <a:lnTo>
                    <a:pt x="703" y="2261"/>
                  </a:lnTo>
                  <a:lnTo>
                    <a:pt x="705" y="2263"/>
                  </a:lnTo>
                  <a:lnTo>
                    <a:pt x="708" y="2265"/>
                  </a:lnTo>
                  <a:lnTo>
                    <a:pt x="710" y="2266"/>
                  </a:lnTo>
                  <a:lnTo>
                    <a:pt x="713" y="2268"/>
                  </a:lnTo>
                  <a:lnTo>
                    <a:pt x="715" y="2270"/>
                  </a:lnTo>
                  <a:lnTo>
                    <a:pt x="718" y="2272"/>
                  </a:lnTo>
                  <a:lnTo>
                    <a:pt x="720" y="2273"/>
                  </a:lnTo>
                  <a:lnTo>
                    <a:pt x="723" y="2275"/>
                  </a:lnTo>
                  <a:lnTo>
                    <a:pt x="725" y="2276"/>
                  </a:lnTo>
                  <a:lnTo>
                    <a:pt x="728" y="2278"/>
                  </a:lnTo>
                  <a:lnTo>
                    <a:pt x="730" y="2280"/>
                  </a:lnTo>
                  <a:lnTo>
                    <a:pt x="733" y="2281"/>
                  </a:lnTo>
                  <a:lnTo>
                    <a:pt x="735" y="2283"/>
                  </a:lnTo>
                  <a:lnTo>
                    <a:pt x="738" y="2284"/>
                  </a:lnTo>
                  <a:lnTo>
                    <a:pt x="740" y="2285"/>
                  </a:lnTo>
                  <a:lnTo>
                    <a:pt x="743" y="2287"/>
                  </a:lnTo>
                  <a:lnTo>
                    <a:pt x="745" y="2288"/>
                  </a:lnTo>
                  <a:lnTo>
                    <a:pt x="748" y="2289"/>
                  </a:lnTo>
                  <a:lnTo>
                    <a:pt x="750" y="2291"/>
                  </a:lnTo>
                  <a:lnTo>
                    <a:pt x="753" y="2293"/>
                  </a:lnTo>
                  <a:lnTo>
                    <a:pt x="755" y="2295"/>
                  </a:lnTo>
                  <a:lnTo>
                    <a:pt x="757" y="2297"/>
                  </a:lnTo>
                  <a:lnTo>
                    <a:pt x="760" y="2299"/>
                  </a:lnTo>
                  <a:lnTo>
                    <a:pt x="763" y="2301"/>
                  </a:lnTo>
                  <a:lnTo>
                    <a:pt x="765" y="2303"/>
                  </a:lnTo>
                  <a:lnTo>
                    <a:pt x="768" y="2305"/>
                  </a:lnTo>
                  <a:lnTo>
                    <a:pt x="770" y="2307"/>
                  </a:lnTo>
                  <a:lnTo>
                    <a:pt x="773" y="2308"/>
                  </a:lnTo>
                  <a:lnTo>
                    <a:pt x="775" y="2310"/>
                  </a:lnTo>
                  <a:lnTo>
                    <a:pt x="777" y="2311"/>
                  </a:lnTo>
                  <a:lnTo>
                    <a:pt x="780" y="2312"/>
                  </a:lnTo>
                  <a:lnTo>
                    <a:pt x="783" y="2313"/>
                  </a:lnTo>
                  <a:lnTo>
                    <a:pt x="785" y="2314"/>
                  </a:lnTo>
                  <a:lnTo>
                    <a:pt x="788" y="2315"/>
                  </a:lnTo>
                  <a:lnTo>
                    <a:pt x="790" y="2315"/>
                  </a:lnTo>
                  <a:lnTo>
                    <a:pt x="793" y="2316"/>
                  </a:lnTo>
                  <a:lnTo>
                    <a:pt x="795" y="2316"/>
                  </a:lnTo>
                  <a:lnTo>
                    <a:pt x="797" y="2316"/>
                  </a:lnTo>
                  <a:lnTo>
                    <a:pt x="800" y="2315"/>
                  </a:lnTo>
                  <a:lnTo>
                    <a:pt x="803" y="2314"/>
                  </a:lnTo>
                  <a:lnTo>
                    <a:pt x="805" y="2314"/>
                  </a:lnTo>
                  <a:lnTo>
                    <a:pt x="808" y="2312"/>
                  </a:lnTo>
                  <a:lnTo>
                    <a:pt x="810" y="2311"/>
                  </a:lnTo>
                  <a:lnTo>
                    <a:pt x="813" y="2309"/>
                  </a:lnTo>
                  <a:lnTo>
                    <a:pt x="815" y="2306"/>
                  </a:lnTo>
                  <a:lnTo>
                    <a:pt x="818" y="2303"/>
                  </a:lnTo>
                  <a:lnTo>
                    <a:pt x="820" y="2299"/>
                  </a:lnTo>
                  <a:lnTo>
                    <a:pt x="823" y="2296"/>
                  </a:lnTo>
                  <a:lnTo>
                    <a:pt x="825" y="2292"/>
                  </a:lnTo>
                  <a:lnTo>
                    <a:pt x="828" y="2289"/>
                  </a:lnTo>
                  <a:lnTo>
                    <a:pt x="830" y="2285"/>
                  </a:lnTo>
                  <a:lnTo>
                    <a:pt x="833" y="2282"/>
                  </a:lnTo>
                  <a:lnTo>
                    <a:pt x="835" y="2279"/>
                  </a:lnTo>
                  <a:lnTo>
                    <a:pt x="838" y="2276"/>
                  </a:lnTo>
                  <a:lnTo>
                    <a:pt x="840" y="2273"/>
                  </a:lnTo>
                  <a:lnTo>
                    <a:pt x="843" y="2271"/>
                  </a:lnTo>
                  <a:lnTo>
                    <a:pt x="845" y="2270"/>
                  </a:lnTo>
                  <a:lnTo>
                    <a:pt x="848" y="2269"/>
                  </a:lnTo>
                  <a:lnTo>
                    <a:pt x="850" y="2269"/>
                  </a:lnTo>
                  <a:lnTo>
                    <a:pt x="853" y="2269"/>
                  </a:lnTo>
                  <a:lnTo>
                    <a:pt x="855" y="2270"/>
                  </a:lnTo>
                  <a:lnTo>
                    <a:pt x="858" y="2272"/>
                  </a:lnTo>
                  <a:lnTo>
                    <a:pt x="860" y="2275"/>
                  </a:lnTo>
                  <a:lnTo>
                    <a:pt x="863" y="2278"/>
                  </a:lnTo>
                  <a:lnTo>
                    <a:pt x="865" y="2283"/>
                  </a:lnTo>
                  <a:lnTo>
                    <a:pt x="868" y="2289"/>
                  </a:lnTo>
                  <a:lnTo>
                    <a:pt x="870" y="2296"/>
                  </a:lnTo>
                  <a:lnTo>
                    <a:pt x="873" y="2304"/>
                  </a:lnTo>
                  <a:lnTo>
                    <a:pt x="875" y="2314"/>
                  </a:lnTo>
                  <a:lnTo>
                    <a:pt x="878" y="2327"/>
                  </a:lnTo>
                  <a:lnTo>
                    <a:pt x="880" y="2341"/>
                  </a:lnTo>
                  <a:lnTo>
                    <a:pt x="883" y="2356"/>
                  </a:lnTo>
                  <a:lnTo>
                    <a:pt x="885" y="2373"/>
                  </a:lnTo>
                  <a:lnTo>
                    <a:pt x="888" y="2390"/>
                  </a:lnTo>
                  <a:lnTo>
                    <a:pt x="890" y="2408"/>
                  </a:lnTo>
                  <a:lnTo>
                    <a:pt x="893" y="2427"/>
                  </a:lnTo>
                  <a:lnTo>
                    <a:pt x="895" y="2447"/>
                  </a:lnTo>
                  <a:lnTo>
                    <a:pt x="898" y="2467"/>
                  </a:lnTo>
                  <a:lnTo>
                    <a:pt x="900" y="2488"/>
                  </a:lnTo>
                  <a:lnTo>
                    <a:pt x="903" y="2509"/>
                  </a:lnTo>
                  <a:lnTo>
                    <a:pt x="905" y="2530"/>
                  </a:lnTo>
                  <a:lnTo>
                    <a:pt x="908" y="2551"/>
                  </a:lnTo>
                  <a:lnTo>
                    <a:pt x="910" y="2573"/>
                  </a:lnTo>
                  <a:lnTo>
                    <a:pt x="913" y="2595"/>
                  </a:lnTo>
                  <a:lnTo>
                    <a:pt x="915" y="2616"/>
                  </a:lnTo>
                  <a:lnTo>
                    <a:pt x="918" y="2637"/>
                  </a:lnTo>
                  <a:lnTo>
                    <a:pt x="920" y="2658"/>
                  </a:lnTo>
                  <a:lnTo>
                    <a:pt x="923" y="2679"/>
                  </a:lnTo>
                  <a:lnTo>
                    <a:pt x="925" y="2698"/>
                  </a:lnTo>
                  <a:lnTo>
                    <a:pt x="928" y="2718"/>
                  </a:lnTo>
                  <a:lnTo>
                    <a:pt x="930" y="2736"/>
                  </a:lnTo>
                  <a:lnTo>
                    <a:pt x="933" y="2754"/>
                  </a:lnTo>
                  <a:lnTo>
                    <a:pt x="935" y="2771"/>
                  </a:lnTo>
                  <a:lnTo>
                    <a:pt x="938" y="2787"/>
                  </a:lnTo>
                  <a:lnTo>
                    <a:pt x="940" y="2800"/>
                  </a:lnTo>
                  <a:lnTo>
                    <a:pt x="943" y="2812"/>
                  </a:lnTo>
                  <a:lnTo>
                    <a:pt x="945" y="2823"/>
                  </a:lnTo>
                  <a:lnTo>
                    <a:pt x="948" y="2833"/>
                  </a:lnTo>
                  <a:lnTo>
                    <a:pt x="950" y="2842"/>
                  </a:lnTo>
                  <a:lnTo>
                    <a:pt x="953" y="2850"/>
                  </a:lnTo>
                  <a:lnTo>
                    <a:pt x="955" y="2858"/>
                  </a:lnTo>
                  <a:lnTo>
                    <a:pt x="958" y="2864"/>
                  </a:lnTo>
                  <a:lnTo>
                    <a:pt x="960" y="2870"/>
                  </a:lnTo>
                  <a:lnTo>
                    <a:pt x="963" y="2875"/>
                  </a:lnTo>
                  <a:lnTo>
                    <a:pt x="965" y="2880"/>
                  </a:lnTo>
                  <a:lnTo>
                    <a:pt x="968" y="2884"/>
                  </a:lnTo>
                  <a:lnTo>
                    <a:pt x="970" y="2888"/>
                  </a:lnTo>
                  <a:lnTo>
                    <a:pt x="973" y="2891"/>
                  </a:lnTo>
                  <a:lnTo>
                    <a:pt x="975" y="2893"/>
                  </a:lnTo>
                  <a:lnTo>
                    <a:pt x="978" y="2895"/>
                  </a:lnTo>
                  <a:lnTo>
                    <a:pt x="980" y="2897"/>
                  </a:lnTo>
                  <a:lnTo>
                    <a:pt x="983" y="2899"/>
                  </a:lnTo>
                  <a:lnTo>
                    <a:pt x="985" y="2900"/>
                  </a:lnTo>
                  <a:lnTo>
                    <a:pt x="988" y="2901"/>
                  </a:lnTo>
                  <a:lnTo>
                    <a:pt x="990" y="2902"/>
                  </a:lnTo>
                  <a:lnTo>
                    <a:pt x="993" y="2903"/>
                  </a:lnTo>
                  <a:lnTo>
                    <a:pt x="995" y="2904"/>
                  </a:lnTo>
                  <a:lnTo>
                    <a:pt x="998" y="2904"/>
                  </a:lnTo>
                  <a:lnTo>
                    <a:pt x="1000" y="2905"/>
                  </a:lnTo>
                  <a:lnTo>
                    <a:pt x="1003" y="2907"/>
                  </a:lnTo>
                  <a:lnTo>
                    <a:pt x="1005" y="2908"/>
                  </a:lnTo>
                  <a:lnTo>
                    <a:pt x="1008" y="2910"/>
                  </a:lnTo>
                  <a:lnTo>
                    <a:pt x="1010" y="2912"/>
                  </a:lnTo>
                  <a:lnTo>
                    <a:pt x="1013" y="2914"/>
                  </a:lnTo>
                  <a:lnTo>
                    <a:pt x="1015" y="2916"/>
                  </a:lnTo>
                  <a:lnTo>
                    <a:pt x="1018" y="2918"/>
                  </a:lnTo>
                  <a:lnTo>
                    <a:pt x="1020" y="2920"/>
                  </a:lnTo>
                  <a:lnTo>
                    <a:pt x="1023" y="2922"/>
                  </a:lnTo>
                  <a:lnTo>
                    <a:pt x="1025" y="2924"/>
                  </a:lnTo>
                  <a:lnTo>
                    <a:pt x="1028" y="2926"/>
                  </a:lnTo>
                  <a:lnTo>
                    <a:pt x="1030" y="2928"/>
                  </a:lnTo>
                  <a:lnTo>
                    <a:pt x="1033" y="2931"/>
                  </a:lnTo>
                  <a:lnTo>
                    <a:pt x="1035" y="2933"/>
                  </a:lnTo>
                  <a:lnTo>
                    <a:pt x="1038" y="2935"/>
                  </a:lnTo>
                  <a:lnTo>
                    <a:pt x="1040" y="2937"/>
                  </a:lnTo>
                  <a:lnTo>
                    <a:pt x="1043" y="2939"/>
                  </a:lnTo>
                  <a:lnTo>
                    <a:pt x="1045" y="2942"/>
                  </a:lnTo>
                  <a:lnTo>
                    <a:pt x="1048" y="2944"/>
                  </a:lnTo>
                  <a:lnTo>
                    <a:pt x="1050" y="2946"/>
                  </a:lnTo>
                  <a:lnTo>
                    <a:pt x="1053" y="2948"/>
                  </a:lnTo>
                  <a:lnTo>
                    <a:pt x="1055" y="2950"/>
                  </a:lnTo>
                  <a:lnTo>
                    <a:pt x="1058" y="2952"/>
                  </a:lnTo>
                  <a:lnTo>
                    <a:pt x="1060" y="2954"/>
                  </a:lnTo>
                  <a:lnTo>
                    <a:pt x="1063" y="2956"/>
                  </a:lnTo>
                  <a:lnTo>
                    <a:pt x="1065" y="2957"/>
                  </a:lnTo>
                  <a:lnTo>
                    <a:pt x="1068" y="2958"/>
                  </a:lnTo>
                  <a:lnTo>
                    <a:pt x="1070" y="2959"/>
                  </a:lnTo>
                  <a:lnTo>
                    <a:pt x="1073" y="2960"/>
                  </a:lnTo>
                  <a:lnTo>
                    <a:pt x="1075" y="2961"/>
                  </a:lnTo>
                  <a:lnTo>
                    <a:pt x="1078" y="2961"/>
                  </a:lnTo>
                  <a:lnTo>
                    <a:pt x="1080" y="2962"/>
                  </a:lnTo>
                  <a:lnTo>
                    <a:pt x="1083" y="2963"/>
                  </a:lnTo>
                  <a:lnTo>
                    <a:pt x="1085" y="2963"/>
                  </a:lnTo>
                  <a:lnTo>
                    <a:pt x="1088" y="2964"/>
                  </a:lnTo>
                  <a:lnTo>
                    <a:pt x="1090" y="2964"/>
                  </a:lnTo>
                  <a:lnTo>
                    <a:pt x="1093" y="2965"/>
                  </a:lnTo>
                  <a:lnTo>
                    <a:pt x="1095" y="2965"/>
                  </a:lnTo>
                  <a:lnTo>
                    <a:pt x="1098" y="2966"/>
                  </a:lnTo>
                  <a:lnTo>
                    <a:pt x="1100" y="2966"/>
                  </a:lnTo>
                  <a:lnTo>
                    <a:pt x="1103" y="2967"/>
                  </a:lnTo>
                  <a:lnTo>
                    <a:pt x="1105" y="2967"/>
                  </a:lnTo>
                  <a:lnTo>
                    <a:pt x="1108" y="2967"/>
                  </a:lnTo>
                  <a:lnTo>
                    <a:pt x="1110" y="2968"/>
                  </a:lnTo>
                  <a:lnTo>
                    <a:pt x="1113" y="2968"/>
                  </a:lnTo>
                  <a:lnTo>
                    <a:pt x="1115" y="2968"/>
                  </a:lnTo>
                  <a:lnTo>
                    <a:pt x="1118" y="2969"/>
                  </a:lnTo>
                  <a:lnTo>
                    <a:pt x="1120" y="2969"/>
                  </a:lnTo>
                  <a:lnTo>
                    <a:pt x="1123" y="2969"/>
                  </a:lnTo>
                  <a:lnTo>
                    <a:pt x="1125" y="2969"/>
                  </a:lnTo>
                  <a:lnTo>
                    <a:pt x="1128" y="2969"/>
                  </a:lnTo>
                  <a:lnTo>
                    <a:pt x="1130" y="2969"/>
                  </a:lnTo>
                  <a:lnTo>
                    <a:pt x="1133" y="2968"/>
                  </a:lnTo>
                  <a:lnTo>
                    <a:pt x="1135" y="2968"/>
                  </a:lnTo>
                  <a:lnTo>
                    <a:pt x="1138" y="2968"/>
                  </a:lnTo>
                  <a:lnTo>
                    <a:pt x="1140" y="2968"/>
                  </a:lnTo>
                  <a:lnTo>
                    <a:pt x="1143" y="2967"/>
                  </a:lnTo>
                  <a:lnTo>
                    <a:pt x="1145" y="2967"/>
                  </a:lnTo>
                  <a:lnTo>
                    <a:pt x="1148" y="2967"/>
                  </a:lnTo>
                  <a:lnTo>
                    <a:pt x="1150" y="2967"/>
                  </a:lnTo>
                  <a:lnTo>
                    <a:pt x="1153" y="2966"/>
                  </a:lnTo>
                  <a:lnTo>
                    <a:pt x="1155" y="2966"/>
                  </a:lnTo>
                  <a:lnTo>
                    <a:pt x="1158" y="2966"/>
                  </a:lnTo>
                  <a:lnTo>
                    <a:pt x="1160" y="2966"/>
                  </a:lnTo>
                  <a:lnTo>
                    <a:pt x="1163" y="2966"/>
                  </a:lnTo>
                  <a:lnTo>
                    <a:pt x="1165" y="2966"/>
                  </a:lnTo>
                  <a:lnTo>
                    <a:pt x="1168" y="2966"/>
                  </a:lnTo>
                  <a:lnTo>
                    <a:pt x="1170" y="2966"/>
                  </a:lnTo>
                  <a:lnTo>
                    <a:pt x="1173" y="2966"/>
                  </a:lnTo>
                  <a:lnTo>
                    <a:pt x="1175" y="2966"/>
                  </a:lnTo>
                  <a:lnTo>
                    <a:pt x="1178" y="2966"/>
                  </a:lnTo>
                  <a:lnTo>
                    <a:pt x="1180" y="2966"/>
                  </a:lnTo>
                  <a:lnTo>
                    <a:pt x="1183" y="2966"/>
                  </a:lnTo>
                  <a:lnTo>
                    <a:pt x="1185" y="2967"/>
                  </a:lnTo>
                  <a:lnTo>
                    <a:pt x="1188" y="2967"/>
                  </a:lnTo>
                  <a:lnTo>
                    <a:pt x="1190" y="2968"/>
                  </a:lnTo>
                  <a:lnTo>
                    <a:pt x="1193" y="2968"/>
                  </a:lnTo>
                  <a:lnTo>
                    <a:pt x="1195" y="2968"/>
                  </a:lnTo>
                  <a:lnTo>
                    <a:pt x="1198" y="2969"/>
                  </a:lnTo>
                  <a:lnTo>
                    <a:pt x="1200" y="2969"/>
                  </a:lnTo>
                  <a:lnTo>
                    <a:pt x="1203" y="2970"/>
                  </a:lnTo>
                  <a:lnTo>
                    <a:pt x="1205" y="2970"/>
                  </a:lnTo>
                  <a:lnTo>
                    <a:pt x="1208" y="2971"/>
                  </a:lnTo>
                  <a:lnTo>
                    <a:pt x="1210" y="2971"/>
                  </a:lnTo>
                  <a:lnTo>
                    <a:pt x="1213" y="2972"/>
                  </a:lnTo>
                  <a:lnTo>
                    <a:pt x="1215" y="2972"/>
                  </a:lnTo>
                  <a:lnTo>
                    <a:pt x="1218" y="2973"/>
                  </a:lnTo>
                  <a:lnTo>
                    <a:pt x="1220" y="2973"/>
                  </a:lnTo>
                  <a:lnTo>
                    <a:pt x="1223" y="2973"/>
                  </a:lnTo>
                  <a:lnTo>
                    <a:pt x="1225" y="2973"/>
                  </a:lnTo>
                  <a:lnTo>
                    <a:pt x="1228" y="2973"/>
                  </a:lnTo>
                  <a:lnTo>
                    <a:pt x="1230" y="2973"/>
                  </a:lnTo>
                  <a:lnTo>
                    <a:pt x="1233" y="2973"/>
                  </a:lnTo>
                  <a:lnTo>
                    <a:pt x="1235" y="2973"/>
                  </a:lnTo>
                  <a:lnTo>
                    <a:pt x="1238" y="2972"/>
                  </a:lnTo>
                  <a:lnTo>
                    <a:pt x="1240" y="2971"/>
                  </a:lnTo>
                  <a:lnTo>
                    <a:pt x="1243" y="2970"/>
                  </a:lnTo>
                  <a:lnTo>
                    <a:pt x="1245" y="2969"/>
                  </a:lnTo>
                  <a:lnTo>
                    <a:pt x="1248" y="2968"/>
                  </a:lnTo>
                  <a:lnTo>
                    <a:pt x="1250" y="2967"/>
                  </a:lnTo>
                  <a:lnTo>
                    <a:pt x="1253" y="2965"/>
                  </a:lnTo>
                  <a:lnTo>
                    <a:pt x="1255" y="2962"/>
                  </a:lnTo>
                  <a:lnTo>
                    <a:pt x="1258" y="2960"/>
                  </a:lnTo>
                  <a:lnTo>
                    <a:pt x="1260" y="2957"/>
                  </a:lnTo>
                  <a:lnTo>
                    <a:pt x="1263" y="2954"/>
                  </a:lnTo>
                  <a:lnTo>
                    <a:pt x="1265" y="2951"/>
                  </a:lnTo>
                  <a:lnTo>
                    <a:pt x="1268" y="2948"/>
                  </a:lnTo>
                  <a:lnTo>
                    <a:pt x="1270" y="2944"/>
                  </a:lnTo>
                  <a:lnTo>
                    <a:pt x="1273" y="2941"/>
                  </a:lnTo>
                  <a:lnTo>
                    <a:pt x="1275" y="2937"/>
                  </a:lnTo>
                  <a:lnTo>
                    <a:pt x="1278" y="2933"/>
                  </a:lnTo>
                  <a:lnTo>
                    <a:pt x="1280" y="2929"/>
                  </a:lnTo>
                  <a:lnTo>
                    <a:pt x="1283" y="2925"/>
                  </a:lnTo>
                  <a:lnTo>
                    <a:pt x="1285" y="2921"/>
                  </a:lnTo>
                  <a:lnTo>
                    <a:pt x="1288" y="2917"/>
                  </a:lnTo>
                  <a:lnTo>
                    <a:pt x="1290" y="2912"/>
                  </a:lnTo>
                  <a:lnTo>
                    <a:pt x="1293" y="2908"/>
                  </a:lnTo>
                  <a:lnTo>
                    <a:pt x="1295" y="2903"/>
                  </a:lnTo>
                  <a:lnTo>
                    <a:pt x="1298" y="2899"/>
                  </a:lnTo>
                  <a:lnTo>
                    <a:pt x="1300" y="2894"/>
                  </a:lnTo>
                  <a:lnTo>
                    <a:pt x="1303" y="2889"/>
                  </a:lnTo>
                  <a:lnTo>
                    <a:pt x="1305" y="2884"/>
                  </a:lnTo>
                  <a:lnTo>
                    <a:pt x="1308" y="2880"/>
                  </a:lnTo>
                  <a:lnTo>
                    <a:pt x="1310" y="2875"/>
                  </a:lnTo>
                  <a:lnTo>
                    <a:pt x="1313" y="2870"/>
                  </a:lnTo>
                  <a:lnTo>
                    <a:pt x="1315" y="2865"/>
                  </a:lnTo>
                  <a:lnTo>
                    <a:pt x="1318" y="2861"/>
                  </a:lnTo>
                  <a:lnTo>
                    <a:pt x="1320" y="2856"/>
                  </a:lnTo>
                  <a:lnTo>
                    <a:pt x="1323" y="2851"/>
                  </a:lnTo>
                  <a:lnTo>
                    <a:pt x="1325" y="2846"/>
                  </a:lnTo>
                  <a:lnTo>
                    <a:pt x="1328" y="2842"/>
                  </a:lnTo>
                  <a:lnTo>
                    <a:pt x="1330" y="2837"/>
                  </a:lnTo>
                  <a:lnTo>
                    <a:pt x="1333" y="2832"/>
                  </a:lnTo>
                  <a:lnTo>
                    <a:pt x="1335" y="2827"/>
                  </a:lnTo>
                  <a:lnTo>
                    <a:pt x="1338" y="2823"/>
                  </a:lnTo>
                  <a:lnTo>
                    <a:pt x="1340" y="2818"/>
                  </a:lnTo>
                  <a:lnTo>
                    <a:pt x="1343" y="2813"/>
                  </a:lnTo>
                  <a:lnTo>
                    <a:pt x="1345" y="2808"/>
                  </a:lnTo>
                  <a:lnTo>
                    <a:pt x="1348" y="2803"/>
                  </a:lnTo>
                  <a:lnTo>
                    <a:pt x="1350" y="2799"/>
                  </a:lnTo>
                  <a:lnTo>
                    <a:pt x="1353" y="2794"/>
                  </a:lnTo>
                  <a:lnTo>
                    <a:pt x="1355" y="2789"/>
                  </a:lnTo>
                  <a:lnTo>
                    <a:pt x="1358" y="2784"/>
                  </a:lnTo>
                  <a:lnTo>
                    <a:pt x="1360" y="2779"/>
                  </a:lnTo>
                  <a:lnTo>
                    <a:pt x="1363" y="2774"/>
                  </a:lnTo>
                  <a:lnTo>
                    <a:pt x="1365" y="2769"/>
                  </a:lnTo>
                  <a:lnTo>
                    <a:pt x="1368" y="2764"/>
                  </a:lnTo>
                  <a:lnTo>
                    <a:pt x="1370" y="2759"/>
                  </a:lnTo>
                  <a:lnTo>
                    <a:pt x="1373" y="2754"/>
                  </a:lnTo>
                  <a:lnTo>
                    <a:pt x="1375" y="2749"/>
                  </a:lnTo>
                  <a:lnTo>
                    <a:pt x="1378" y="2744"/>
                  </a:lnTo>
                  <a:lnTo>
                    <a:pt x="1380" y="2739"/>
                  </a:lnTo>
                  <a:lnTo>
                    <a:pt x="1383" y="2734"/>
                  </a:lnTo>
                  <a:lnTo>
                    <a:pt x="1385" y="2729"/>
                  </a:lnTo>
                  <a:lnTo>
                    <a:pt x="1388" y="2723"/>
                  </a:lnTo>
                  <a:lnTo>
                    <a:pt x="1390" y="2718"/>
                  </a:lnTo>
                  <a:lnTo>
                    <a:pt x="1393" y="2713"/>
                  </a:lnTo>
                  <a:lnTo>
                    <a:pt x="1395" y="2708"/>
                  </a:lnTo>
                  <a:lnTo>
                    <a:pt x="1398" y="2703"/>
                  </a:lnTo>
                  <a:lnTo>
                    <a:pt x="1400" y="2698"/>
                  </a:lnTo>
                  <a:lnTo>
                    <a:pt x="1403" y="2693"/>
                  </a:lnTo>
                  <a:lnTo>
                    <a:pt x="1405" y="2688"/>
                  </a:lnTo>
                  <a:lnTo>
                    <a:pt x="1408" y="2684"/>
                  </a:lnTo>
                  <a:lnTo>
                    <a:pt x="1410" y="2679"/>
                  </a:lnTo>
                  <a:lnTo>
                    <a:pt x="1413" y="2675"/>
                  </a:lnTo>
                  <a:lnTo>
                    <a:pt x="1415" y="2670"/>
                  </a:lnTo>
                  <a:lnTo>
                    <a:pt x="1418" y="2666"/>
                  </a:lnTo>
                  <a:lnTo>
                    <a:pt x="1420" y="2662"/>
                  </a:lnTo>
                  <a:lnTo>
                    <a:pt x="1423" y="2658"/>
                  </a:lnTo>
                  <a:lnTo>
                    <a:pt x="1425" y="2654"/>
                  </a:lnTo>
                  <a:lnTo>
                    <a:pt x="1428" y="2651"/>
                  </a:lnTo>
                  <a:lnTo>
                    <a:pt x="1430" y="2648"/>
                  </a:lnTo>
                  <a:lnTo>
                    <a:pt x="1433" y="2644"/>
                  </a:lnTo>
                  <a:lnTo>
                    <a:pt x="1435" y="2641"/>
                  </a:lnTo>
                  <a:lnTo>
                    <a:pt x="1438" y="2639"/>
                  </a:lnTo>
                  <a:lnTo>
                    <a:pt x="1440" y="2637"/>
                  </a:lnTo>
                  <a:lnTo>
                    <a:pt x="1443" y="2635"/>
                  </a:lnTo>
                  <a:lnTo>
                    <a:pt x="1445" y="2633"/>
                  </a:lnTo>
                  <a:lnTo>
                    <a:pt x="1448" y="2632"/>
                  </a:lnTo>
                  <a:lnTo>
                    <a:pt x="1450" y="2630"/>
                  </a:lnTo>
                  <a:lnTo>
                    <a:pt x="1453" y="2629"/>
                  </a:lnTo>
                  <a:lnTo>
                    <a:pt x="1455" y="2628"/>
                  </a:lnTo>
                  <a:lnTo>
                    <a:pt x="1458" y="2627"/>
                  </a:lnTo>
                  <a:lnTo>
                    <a:pt x="1460" y="2627"/>
                  </a:lnTo>
                  <a:lnTo>
                    <a:pt x="1463" y="2626"/>
                  </a:lnTo>
                  <a:lnTo>
                    <a:pt x="1465" y="2626"/>
                  </a:lnTo>
                  <a:lnTo>
                    <a:pt x="1468" y="2625"/>
                  </a:lnTo>
                  <a:lnTo>
                    <a:pt x="1470" y="2625"/>
                  </a:lnTo>
                  <a:lnTo>
                    <a:pt x="1473" y="2625"/>
                  </a:lnTo>
                  <a:lnTo>
                    <a:pt x="1475" y="2625"/>
                  </a:lnTo>
                  <a:lnTo>
                    <a:pt x="1478" y="2625"/>
                  </a:lnTo>
                  <a:lnTo>
                    <a:pt x="1480" y="2625"/>
                  </a:lnTo>
                  <a:lnTo>
                    <a:pt x="1483" y="2625"/>
                  </a:lnTo>
                  <a:lnTo>
                    <a:pt x="1485" y="2625"/>
                  </a:lnTo>
                  <a:lnTo>
                    <a:pt x="1488" y="2625"/>
                  </a:lnTo>
                  <a:lnTo>
                    <a:pt x="1490" y="2625"/>
                  </a:lnTo>
                  <a:lnTo>
                    <a:pt x="1493" y="2625"/>
                  </a:lnTo>
                  <a:lnTo>
                    <a:pt x="1495" y="2625"/>
                  </a:lnTo>
                  <a:lnTo>
                    <a:pt x="1498" y="2625"/>
                  </a:lnTo>
                  <a:lnTo>
                    <a:pt x="1500" y="2625"/>
                  </a:lnTo>
                  <a:lnTo>
                    <a:pt x="1503" y="2624"/>
                  </a:lnTo>
                  <a:lnTo>
                    <a:pt x="1505" y="2624"/>
                  </a:lnTo>
                  <a:lnTo>
                    <a:pt x="1508" y="2624"/>
                  </a:lnTo>
                  <a:lnTo>
                    <a:pt x="1510" y="2624"/>
                  </a:lnTo>
                  <a:lnTo>
                    <a:pt x="1513" y="2623"/>
                  </a:lnTo>
                  <a:lnTo>
                    <a:pt x="1515" y="2623"/>
                  </a:lnTo>
                  <a:lnTo>
                    <a:pt x="1518" y="2622"/>
                  </a:lnTo>
                  <a:lnTo>
                    <a:pt x="1520" y="2622"/>
                  </a:lnTo>
                  <a:lnTo>
                    <a:pt x="1523" y="2622"/>
                  </a:lnTo>
                  <a:lnTo>
                    <a:pt x="1525" y="2621"/>
                  </a:lnTo>
                  <a:lnTo>
                    <a:pt x="1528" y="2621"/>
                  </a:lnTo>
                  <a:lnTo>
                    <a:pt x="1530" y="2620"/>
                  </a:lnTo>
                  <a:lnTo>
                    <a:pt x="1533" y="2620"/>
                  </a:lnTo>
                  <a:lnTo>
                    <a:pt x="1535" y="2619"/>
                  </a:lnTo>
                  <a:lnTo>
                    <a:pt x="1538" y="2619"/>
                  </a:lnTo>
                  <a:lnTo>
                    <a:pt x="1540" y="2618"/>
                  </a:lnTo>
                  <a:lnTo>
                    <a:pt x="1543" y="2618"/>
                  </a:lnTo>
                  <a:lnTo>
                    <a:pt x="1545" y="2618"/>
                  </a:lnTo>
                  <a:lnTo>
                    <a:pt x="1548" y="2617"/>
                  </a:lnTo>
                  <a:lnTo>
                    <a:pt x="1550" y="2617"/>
                  </a:lnTo>
                  <a:lnTo>
                    <a:pt x="1553" y="2617"/>
                  </a:lnTo>
                  <a:lnTo>
                    <a:pt x="1555" y="2617"/>
                  </a:lnTo>
                  <a:lnTo>
                    <a:pt x="1558" y="2616"/>
                  </a:lnTo>
                  <a:lnTo>
                    <a:pt x="1560" y="2616"/>
                  </a:lnTo>
                  <a:lnTo>
                    <a:pt x="1563" y="2616"/>
                  </a:lnTo>
                  <a:lnTo>
                    <a:pt x="1565" y="2617"/>
                  </a:lnTo>
                  <a:lnTo>
                    <a:pt x="1568" y="2617"/>
                  </a:lnTo>
                  <a:lnTo>
                    <a:pt x="1570" y="2618"/>
                  </a:lnTo>
                  <a:lnTo>
                    <a:pt x="1573" y="2619"/>
                  </a:lnTo>
                  <a:lnTo>
                    <a:pt x="1575" y="2619"/>
                  </a:lnTo>
                  <a:lnTo>
                    <a:pt x="1578" y="2620"/>
                  </a:lnTo>
                  <a:lnTo>
                    <a:pt x="1580" y="2621"/>
                  </a:lnTo>
                  <a:lnTo>
                    <a:pt x="1583" y="2622"/>
                  </a:lnTo>
                  <a:lnTo>
                    <a:pt x="1585" y="2622"/>
                  </a:lnTo>
                  <a:lnTo>
                    <a:pt x="1588" y="2623"/>
                  </a:lnTo>
                  <a:lnTo>
                    <a:pt x="1590" y="2624"/>
                  </a:lnTo>
                  <a:lnTo>
                    <a:pt x="1593" y="2625"/>
                  </a:lnTo>
                  <a:lnTo>
                    <a:pt x="1595" y="2626"/>
                  </a:lnTo>
                  <a:lnTo>
                    <a:pt x="1598" y="2627"/>
                  </a:lnTo>
                  <a:lnTo>
                    <a:pt x="1600" y="2628"/>
                  </a:lnTo>
                  <a:lnTo>
                    <a:pt x="1603" y="2629"/>
                  </a:lnTo>
                  <a:lnTo>
                    <a:pt x="1605" y="2630"/>
                  </a:lnTo>
                  <a:lnTo>
                    <a:pt x="1608" y="2631"/>
                  </a:lnTo>
                  <a:lnTo>
                    <a:pt x="1610" y="2632"/>
                  </a:lnTo>
                  <a:lnTo>
                    <a:pt x="1613" y="2633"/>
                  </a:lnTo>
                  <a:lnTo>
                    <a:pt x="1615" y="2634"/>
                  </a:lnTo>
                  <a:lnTo>
                    <a:pt x="1618" y="2634"/>
                  </a:lnTo>
                  <a:lnTo>
                    <a:pt x="1620" y="2635"/>
                  </a:lnTo>
                  <a:lnTo>
                    <a:pt x="1623" y="2636"/>
                  </a:lnTo>
                  <a:lnTo>
                    <a:pt x="1625" y="2637"/>
                  </a:lnTo>
                  <a:lnTo>
                    <a:pt x="1628" y="2637"/>
                  </a:lnTo>
                  <a:lnTo>
                    <a:pt x="1630" y="2637"/>
                  </a:lnTo>
                  <a:lnTo>
                    <a:pt x="1633" y="2638"/>
                  </a:lnTo>
                  <a:lnTo>
                    <a:pt x="1635" y="2638"/>
                  </a:lnTo>
                  <a:lnTo>
                    <a:pt x="1638" y="2638"/>
                  </a:lnTo>
                  <a:lnTo>
                    <a:pt x="1640" y="2639"/>
                  </a:lnTo>
                  <a:lnTo>
                    <a:pt x="1643" y="2639"/>
                  </a:lnTo>
                  <a:lnTo>
                    <a:pt x="1645" y="2639"/>
                  </a:lnTo>
                  <a:lnTo>
                    <a:pt x="1648" y="2639"/>
                  </a:lnTo>
                  <a:lnTo>
                    <a:pt x="1650" y="2639"/>
                  </a:lnTo>
                  <a:lnTo>
                    <a:pt x="1653" y="2639"/>
                  </a:lnTo>
                  <a:lnTo>
                    <a:pt x="1655" y="2639"/>
                  </a:lnTo>
                  <a:lnTo>
                    <a:pt x="1658" y="2639"/>
                  </a:lnTo>
                  <a:lnTo>
                    <a:pt x="1660" y="2638"/>
                  </a:lnTo>
                  <a:lnTo>
                    <a:pt x="1663" y="2638"/>
                  </a:lnTo>
                  <a:lnTo>
                    <a:pt x="1665" y="2638"/>
                  </a:lnTo>
                  <a:lnTo>
                    <a:pt x="1668" y="2638"/>
                  </a:lnTo>
                  <a:lnTo>
                    <a:pt x="1670" y="2637"/>
                  </a:lnTo>
                  <a:lnTo>
                    <a:pt x="1673" y="2637"/>
                  </a:lnTo>
                  <a:lnTo>
                    <a:pt x="1675" y="2637"/>
                  </a:lnTo>
                  <a:lnTo>
                    <a:pt x="1678" y="2636"/>
                  </a:lnTo>
                  <a:lnTo>
                    <a:pt x="1680" y="2636"/>
                  </a:lnTo>
                  <a:lnTo>
                    <a:pt x="1683" y="2635"/>
                  </a:lnTo>
                  <a:lnTo>
                    <a:pt x="1685" y="2635"/>
                  </a:lnTo>
                  <a:lnTo>
                    <a:pt x="1688" y="2634"/>
                  </a:lnTo>
                  <a:lnTo>
                    <a:pt x="1690" y="2633"/>
                  </a:lnTo>
                  <a:lnTo>
                    <a:pt x="1693" y="2633"/>
                  </a:lnTo>
                  <a:lnTo>
                    <a:pt x="1695" y="2632"/>
                  </a:lnTo>
                  <a:lnTo>
                    <a:pt x="1698" y="2631"/>
                  </a:lnTo>
                  <a:lnTo>
                    <a:pt x="1700" y="2630"/>
                  </a:lnTo>
                  <a:lnTo>
                    <a:pt x="1702" y="2629"/>
                  </a:lnTo>
                  <a:lnTo>
                    <a:pt x="1705" y="2628"/>
                  </a:lnTo>
                  <a:lnTo>
                    <a:pt x="1708" y="2628"/>
                  </a:lnTo>
                  <a:lnTo>
                    <a:pt x="1710" y="2627"/>
                  </a:lnTo>
                  <a:lnTo>
                    <a:pt x="1713" y="2626"/>
                  </a:lnTo>
                  <a:lnTo>
                    <a:pt x="1715" y="2625"/>
                  </a:lnTo>
                  <a:lnTo>
                    <a:pt x="1718" y="2624"/>
                  </a:lnTo>
                  <a:lnTo>
                    <a:pt x="1720" y="2623"/>
                  </a:lnTo>
                  <a:lnTo>
                    <a:pt x="1723" y="2622"/>
                  </a:lnTo>
                  <a:lnTo>
                    <a:pt x="1725" y="2620"/>
                  </a:lnTo>
                  <a:lnTo>
                    <a:pt x="1728" y="2619"/>
                  </a:lnTo>
                  <a:lnTo>
                    <a:pt x="1730" y="2618"/>
                  </a:lnTo>
                  <a:lnTo>
                    <a:pt x="1733" y="2617"/>
                  </a:lnTo>
                  <a:lnTo>
                    <a:pt x="1735" y="2616"/>
                  </a:lnTo>
                  <a:lnTo>
                    <a:pt x="1738" y="2615"/>
                  </a:lnTo>
                  <a:lnTo>
                    <a:pt x="1740" y="2613"/>
                  </a:lnTo>
                  <a:lnTo>
                    <a:pt x="1742" y="2612"/>
                  </a:lnTo>
                  <a:lnTo>
                    <a:pt x="1745" y="2611"/>
                  </a:lnTo>
                  <a:lnTo>
                    <a:pt x="1748" y="2609"/>
                  </a:lnTo>
                  <a:lnTo>
                    <a:pt x="1750" y="2608"/>
                  </a:lnTo>
                  <a:lnTo>
                    <a:pt x="1753" y="2606"/>
                  </a:lnTo>
                  <a:lnTo>
                    <a:pt x="1755" y="2605"/>
                  </a:lnTo>
                  <a:lnTo>
                    <a:pt x="1758" y="2603"/>
                  </a:lnTo>
                  <a:lnTo>
                    <a:pt x="1760" y="2601"/>
                  </a:lnTo>
                  <a:lnTo>
                    <a:pt x="1763" y="2599"/>
                  </a:lnTo>
                  <a:lnTo>
                    <a:pt x="1765" y="2597"/>
                  </a:lnTo>
                  <a:lnTo>
                    <a:pt x="1768" y="2595"/>
                  </a:lnTo>
                  <a:lnTo>
                    <a:pt x="1770" y="2593"/>
                  </a:lnTo>
                  <a:lnTo>
                    <a:pt x="1773" y="2591"/>
                  </a:lnTo>
                  <a:lnTo>
                    <a:pt x="1775" y="2589"/>
                  </a:lnTo>
                  <a:lnTo>
                    <a:pt x="1778" y="2587"/>
                  </a:lnTo>
                  <a:lnTo>
                    <a:pt x="1780" y="2585"/>
                  </a:lnTo>
                  <a:lnTo>
                    <a:pt x="1782" y="2583"/>
                  </a:lnTo>
                  <a:lnTo>
                    <a:pt x="1785" y="2581"/>
                  </a:lnTo>
                  <a:lnTo>
                    <a:pt x="1788" y="2578"/>
                  </a:lnTo>
                  <a:lnTo>
                    <a:pt x="1790" y="2576"/>
                  </a:lnTo>
                  <a:lnTo>
                    <a:pt x="1793" y="2574"/>
                  </a:lnTo>
                  <a:lnTo>
                    <a:pt x="1795" y="2572"/>
                  </a:lnTo>
                  <a:lnTo>
                    <a:pt x="1798" y="2570"/>
                  </a:lnTo>
                  <a:lnTo>
                    <a:pt x="1800" y="2567"/>
                  </a:lnTo>
                  <a:lnTo>
                    <a:pt x="1803" y="2565"/>
                  </a:lnTo>
                  <a:lnTo>
                    <a:pt x="1805" y="2563"/>
                  </a:lnTo>
                  <a:lnTo>
                    <a:pt x="1808" y="2561"/>
                  </a:lnTo>
                  <a:lnTo>
                    <a:pt x="1810" y="2558"/>
                  </a:lnTo>
                  <a:lnTo>
                    <a:pt x="1813" y="2556"/>
                  </a:lnTo>
                  <a:lnTo>
                    <a:pt x="1815" y="2553"/>
                  </a:lnTo>
                  <a:lnTo>
                    <a:pt x="1818" y="2551"/>
                  </a:lnTo>
                  <a:lnTo>
                    <a:pt x="1820" y="2549"/>
                  </a:lnTo>
                  <a:lnTo>
                    <a:pt x="1822" y="2546"/>
                  </a:lnTo>
                  <a:lnTo>
                    <a:pt x="1825" y="2544"/>
                  </a:lnTo>
                  <a:lnTo>
                    <a:pt x="1827" y="2541"/>
                  </a:lnTo>
                  <a:lnTo>
                    <a:pt x="1830" y="2538"/>
                  </a:lnTo>
                  <a:lnTo>
                    <a:pt x="1833" y="2535"/>
                  </a:lnTo>
                  <a:lnTo>
                    <a:pt x="1835" y="2533"/>
                  </a:lnTo>
                  <a:lnTo>
                    <a:pt x="1838" y="2530"/>
                  </a:lnTo>
                  <a:lnTo>
                    <a:pt x="1840" y="2526"/>
                  </a:lnTo>
                  <a:lnTo>
                    <a:pt x="1843" y="2523"/>
                  </a:lnTo>
                  <a:lnTo>
                    <a:pt x="1845" y="2520"/>
                  </a:lnTo>
                  <a:lnTo>
                    <a:pt x="1848" y="2516"/>
                  </a:lnTo>
                  <a:lnTo>
                    <a:pt x="1850" y="2512"/>
                  </a:lnTo>
                  <a:lnTo>
                    <a:pt x="1853" y="2508"/>
                  </a:lnTo>
                  <a:lnTo>
                    <a:pt x="1855" y="2504"/>
                  </a:lnTo>
                  <a:lnTo>
                    <a:pt x="1858" y="2500"/>
                  </a:lnTo>
                  <a:lnTo>
                    <a:pt x="1860" y="2495"/>
                  </a:lnTo>
                  <a:lnTo>
                    <a:pt x="1862" y="2490"/>
                  </a:lnTo>
                  <a:lnTo>
                    <a:pt x="1865" y="2485"/>
                  </a:lnTo>
                  <a:lnTo>
                    <a:pt x="1867" y="2480"/>
                  </a:lnTo>
                  <a:lnTo>
                    <a:pt x="1870" y="2475"/>
                  </a:lnTo>
                  <a:lnTo>
                    <a:pt x="1873" y="2469"/>
                  </a:lnTo>
                  <a:lnTo>
                    <a:pt x="1875" y="2463"/>
                  </a:lnTo>
                  <a:lnTo>
                    <a:pt x="1878" y="2456"/>
                  </a:lnTo>
                  <a:lnTo>
                    <a:pt x="1880" y="2448"/>
                  </a:lnTo>
                  <a:lnTo>
                    <a:pt x="1883" y="2441"/>
                  </a:lnTo>
                  <a:lnTo>
                    <a:pt x="1885" y="2433"/>
                  </a:lnTo>
                  <a:lnTo>
                    <a:pt x="1888" y="2425"/>
                  </a:lnTo>
                  <a:lnTo>
                    <a:pt x="1890" y="2417"/>
                  </a:lnTo>
                  <a:lnTo>
                    <a:pt x="1893" y="2409"/>
                  </a:lnTo>
                  <a:lnTo>
                    <a:pt x="1895" y="2401"/>
                  </a:lnTo>
                  <a:lnTo>
                    <a:pt x="1898" y="2392"/>
                  </a:lnTo>
                  <a:lnTo>
                    <a:pt x="1900" y="2384"/>
                  </a:lnTo>
                  <a:lnTo>
                    <a:pt x="1902" y="2375"/>
                  </a:lnTo>
                  <a:lnTo>
                    <a:pt x="1905" y="2367"/>
                  </a:lnTo>
                  <a:lnTo>
                    <a:pt x="1907" y="2358"/>
                  </a:lnTo>
                  <a:lnTo>
                    <a:pt x="1910" y="2350"/>
                  </a:lnTo>
                  <a:lnTo>
                    <a:pt x="1913" y="2341"/>
                  </a:lnTo>
                  <a:lnTo>
                    <a:pt x="1915" y="2333"/>
                  </a:lnTo>
                  <a:lnTo>
                    <a:pt x="1918" y="2325"/>
                  </a:lnTo>
                  <a:lnTo>
                    <a:pt x="1920" y="2317"/>
                  </a:lnTo>
                  <a:lnTo>
                    <a:pt x="1923" y="2309"/>
                  </a:lnTo>
                  <a:lnTo>
                    <a:pt x="1925" y="2302"/>
                  </a:lnTo>
                  <a:lnTo>
                    <a:pt x="1928" y="2294"/>
                  </a:lnTo>
                  <a:lnTo>
                    <a:pt x="1930" y="2287"/>
                  </a:lnTo>
                  <a:lnTo>
                    <a:pt x="1933" y="2281"/>
                  </a:lnTo>
                  <a:lnTo>
                    <a:pt x="1935" y="2274"/>
                  </a:lnTo>
                  <a:lnTo>
                    <a:pt x="1938" y="2268"/>
                  </a:lnTo>
                  <a:lnTo>
                    <a:pt x="1940" y="2263"/>
                  </a:lnTo>
                  <a:lnTo>
                    <a:pt x="1943" y="2258"/>
                  </a:lnTo>
                  <a:lnTo>
                    <a:pt x="1945" y="2253"/>
                  </a:lnTo>
                  <a:lnTo>
                    <a:pt x="1948" y="2248"/>
                  </a:lnTo>
                  <a:lnTo>
                    <a:pt x="1950" y="2244"/>
                  </a:lnTo>
                  <a:lnTo>
                    <a:pt x="1953" y="2240"/>
                  </a:lnTo>
                  <a:lnTo>
                    <a:pt x="1955" y="2237"/>
                  </a:lnTo>
                  <a:lnTo>
                    <a:pt x="1958" y="2233"/>
                  </a:lnTo>
                  <a:lnTo>
                    <a:pt x="1960" y="2230"/>
                  </a:lnTo>
                  <a:lnTo>
                    <a:pt x="1963" y="2227"/>
                  </a:lnTo>
                  <a:lnTo>
                    <a:pt x="1965" y="2224"/>
                  </a:lnTo>
                  <a:lnTo>
                    <a:pt x="1968" y="2221"/>
                  </a:lnTo>
                  <a:lnTo>
                    <a:pt x="1970" y="2218"/>
                  </a:lnTo>
                  <a:lnTo>
                    <a:pt x="1973" y="2216"/>
                  </a:lnTo>
                  <a:lnTo>
                    <a:pt x="1975" y="2213"/>
                  </a:lnTo>
                  <a:lnTo>
                    <a:pt x="1978" y="2210"/>
                  </a:lnTo>
                  <a:lnTo>
                    <a:pt x="1980" y="2208"/>
                  </a:lnTo>
                  <a:lnTo>
                    <a:pt x="1983" y="2205"/>
                  </a:lnTo>
                  <a:lnTo>
                    <a:pt x="1985" y="2203"/>
                  </a:lnTo>
                  <a:lnTo>
                    <a:pt x="1988" y="2200"/>
                  </a:lnTo>
                  <a:lnTo>
                    <a:pt x="1990" y="2198"/>
                  </a:lnTo>
                  <a:lnTo>
                    <a:pt x="1993" y="2195"/>
                  </a:lnTo>
                  <a:lnTo>
                    <a:pt x="1995" y="2192"/>
                  </a:lnTo>
                  <a:lnTo>
                    <a:pt x="1998" y="2189"/>
                  </a:lnTo>
                  <a:lnTo>
                    <a:pt x="2000" y="2186"/>
                  </a:lnTo>
                  <a:lnTo>
                    <a:pt x="2003" y="2182"/>
                  </a:lnTo>
                  <a:lnTo>
                    <a:pt x="2005" y="2177"/>
                  </a:lnTo>
                  <a:lnTo>
                    <a:pt x="2008" y="2173"/>
                  </a:lnTo>
                  <a:lnTo>
                    <a:pt x="2010" y="2169"/>
                  </a:lnTo>
                  <a:lnTo>
                    <a:pt x="2013" y="2164"/>
                  </a:lnTo>
                  <a:lnTo>
                    <a:pt x="2015" y="2159"/>
                  </a:lnTo>
                  <a:lnTo>
                    <a:pt x="2018" y="2154"/>
                  </a:lnTo>
                  <a:lnTo>
                    <a:pt x="2020" y="2149"/>
                  </a:lnTo>
                  <a:lnTo>
                    <a:pt x="2023" y="2144"/>
                  </a:lnTo>
                  <a:lnTo>
                    <a:pt x="2025" y="2138"/>
                  </a:lnTo>
                  <a:lnTo>
                    <a:pt x="2028" y="2133"/>
                  </a:lnTo>
                  <a:lnTo>
                    <a:pt x="2030" y="2127"/>
                  </a:lnTo>
                  <a:lnTo>
                    <a:pt x="2033" y="2122"/>
                  </a:lnTo>
                  <a:lnTo>
                    <a:pt x="2035" y="2116"/>
                  </a:lnTo>
                  <a:lnTo>
                    <a:pt x="2038" y="2110"/>
                  </a:lnTo>
                  <a:lnTo>
                    <a:pt x="2040" y="2104"/>
                  </a:lnTo>
                  <a:lnTo>
                    <a:pt x="2043" y="2098"/>
                  </a:lnTo>
                  <a:lnTo>
                    <a:pt x="2045" y="2092"/>
                  </a:lnTo>
                  <a:lnTo>
                    <a:pt x="2048" y="2086"/>
                  </a:lnTo>
                  <a:lnTo>
                    <a:pt x="2050" y="2080"/>
                  </a:lnTo>
                  <a:lnTo>
                    <a:pt x="2053" y="2074"/>
                  </a:lnTo>
                  <a:lnTo>
                    <a:pt x="2055" y="2067"/>
                  </a:lnTo>
                  <a:lnTo>
                    <a:pt x="2058" y="2061"/>
                  </a:lnTo>
                  <a:lnTo>
                    <a:pt x="2060" y="2055"/>
                  </a:lnTo>
                  <a:lnTo>
                    <a:pt x="2063" y="2048"/>
                  </a:lnTo>
                  <a:lnTo>
                    <a:pt x="2065" y="2042"/>
                  </a:lnTo>
                  <a:lnTo>
                    <a:pt x="2068" y="2035"/>
                  </a:lnTo>
                  <a:lnTo>
                    <a:pt x="2070" y="2029"/>
                  </a:lnTo>
                  <a:lnTo>
                    <a:pt x="2073" y="2022"/>
                  </a:lnTo>
                  <a:lnTo>
                    <a:pt x="2075" y="2015"/>
                  </a:lnTo>
                  <a:lnTo>
                    <a:pt x="2078" y="2009"/>
                  </a:lnTo>
                  <a:lnTo>
                    <a:pt x="2080" y="2002"/>
                  </a:lnTo>
                  <a:lnTo>
                    <a:pt x="2083" y="1995"/>
                  </a:lnTo>
                  <a:lnTo>
                    <a:pt x="2085" y="1989"/>
                  </a:lnTo>
                  <a:lnTo>
                    <a:pt x="2088" y="1982"/>
                  </a:lnTo>
                  <a:lnTo>
                    <a:pt x="2090" y="1975"/>
                  </a:lnTo>
                  <a:lnTo>
                    <a:pt x="2093" y="1968"/>
                  </a:lnTo>
                  <a:lnTo>
                    <a:pt x="2095" y="1962"/>
                  </a:lnTo>
                  <a:lnTo>
                    <a:pt x="2098" y="1955"/>
                  </a:lnTo>
                  <a:lnTo>
                    <a:pt x="2100" y="1948"/>
                  </a:lnTo>
                  <a:lnTo>
                    <a:pt x="2103" y="1941"/>
                  </a:lnTo>
                  <a:lnTo>
                    <a:pt x="2105" y="1934"/>
                  </a:lnTo>
                  <a:lnTo>
                    <a:pt x="2108" y="1927"/>
                  </a:lnTo>
                  <a:lnTo>
                    <a:pt x="2110" y="1920"/>
                  </a:lnTo>
                  <a:lnTo>
                    <a:pt x="2113" y="1912"/>
                  </a:lnTo>
                  <a:lnTo>
                    <a:pt x="2115" y="1905"/>
                  </a:lnTo>
                  <a:lnTo>
                    <a:pt x="2118" y="1898"/>
                  </a:lnTo>
                  <a:lnTo>
                    <a:pt x="2120" y="1891"/>
                  </a:lnTo>
                  <a:lnTo>
                    <a:pt x="2123" y="1883"/>
                  </a:lnTo>
                  <a:lnTo>
                    <a:pt x="2125" y="1876"/>
                  </a:lnTo>
                  <a:lnTo>
                    <a:pt x="2128" y="1868"/>
                  </a:lnTo>
                  <a:lnTo>
                    <a:pt x="2130" y="1860"/>
                  </a:lnTo>
                  <a:lnTo>
                    <a:pt x="2133" y="1852"/>
                  </a:lnTo>
                  <a:lnTo>
                    <a:pt x="2135" y="1844"/>
                  </a:lnTo>
                  <a:lnTo>
                    <a:pt x="2138" y="1836"/>
                  </a:lnTo>
                  <a:lnTo>
                    <a:pt x="2140" y="1828"/>
                  </a:lnTo>
                  <a:lnTo>
                    <a:pt x="2143" y="1819"/>
                  </a:lnTo>
                  <a:lnTo>
                    <a:pt x="2145" y="1811"/>
                  </a:lnTo>
                  <a:lnTo>
                    <a:pt x="2148" y="1802"/>
                  </a:lnTo>
                  <a:lnTo>
                    <a:pt x="2150" y="1794"/>
                  </a:lnTo>
                  <a:lnTo>
                    <a:pt x="2153" y="1785"/>
                  </a:lnTo>
                  <a:lnTo>
                    <a:pt x="2155" y="1776"/>
                  </a:lnTo>
                  <a:lnTo>
                    <a:pt x="2158" y="1767"/>
                  </a:lnTo>
                  <a:lnTo>
                    <a:pt x="2160" y="1758"/>
                  </a:lnTo>
                  <a:lnTo>
                    <a:pt x="2163" y="1749"/>
                  </a:lnTo>
                  <a:lnTo>
                    <a:pt x="2165" y="1740"/>
                  </a:lnTo>
                  <a:lnTo>
                    <a:pt x="2168" y="1731"/>
                  </a:lnTo>
                  <a:lnTo>
                    <a:pt x="2170" y="1721"/>
                  </a:lnTo>
                  <a:lnTo>
                    <a:pt x="2173" y="1712"/>
                  </a:lnTo>
                  <a:lnTo>
                    <a:pt x="2175" y="1702"/>
                  </a:lnTo>
                  <a:lnTo>
                    <a:pt x="2178" y="1692"/>
                  </a:lnTo>
                  <a:lnTo>
                    <a:pt x="2180" y="1682"/>
                  </a:lnTo>
                  <a:lnTo>
                    <a:pt x="2183" y="1672"/>
                  </a:lnTo>
                  <a:lnTo>
                    <a:pt x="2185" y="1662"/>
                  </a:lnTo>
                  <a:lnTo>
                    <a:pt x="2188" y="1652"/>
                  </a:lnTo>
                  <a:lnTo>
                    <a:pt x="2190" y="1641"/>
                  </a:lnTo>
                  <a:lnTo>
                    <a:pt x="2193" y="1631"/>
                  </a:lnTo>
                  <a:lnTo>
                    <a:pt x="2195" y="1621"/>
                  </a:lnTo>
                  <a:lnTo>
                    <a:pt x="2198" y="1610"/>
                  </a:lnTo>
                  <a:lnTo>
                    <a:pt x="2200" y="1599"/>
                  </a:lnTo>
                  <a:lnTo>
                    <a:pt x="2203" y="1588"/>
                  </a:lnTo>
                  <a:lnTo>
                    <a:pt x="2205" y="1577"/>
                  </a:lnTo>
                  <a:lnTo>
                    <a:pt x="2208" y="1566"/>
                  </a:lnTo>
                  <a:lnTo>
                    <a:pt x="2210" y="1554"/>
                  </a:lnTo>
                  <a:lnTo>
                    <a:pt x="2213" y="1543"/>
                  </a:lnTo>
                  <a:lnTo>
                    <a:pt x="2215" y="1531"/>
                  </a:lnTo>
                  <a:lnTo>
                    <a:pt x="2218" y="1519"/>
                  </a:lnTo>
                  <a:lnTo>
                    <a:pt x="2220" y="1506"/>
                  </a:lnTo>
                  <a:lnTo>
                    <a:pt x="2223" y="1494"/>
                  </a:lnTo>
                  <a:lnTo>
                    <a:pt x="2225" y="1482"/>
                  </a:lnTo>
                  <a:lnTo>
                    <a:pt x="2228" y="1469"/>
                  </a:lnTo>
                  <a:lnTo>
                    <a:pt x="2230" y="1456"/>
                  </a:lnTo>
                  <a:lnTo>
                    <a:pt x="2233" y="1443"/>
                  </a:lnTo>
                  <a:lnTo>
                    <a:pt x="2235" y="1429"/>
                  </a:lnTo>
                  <a:lnTo>
                    <a:pt x="2238" y="1416"/>
                  </a:lnTo>
                  <a:lnTo>
                    <a:pt x="2240" y="1402"/>
                  </a:lnTo>
                  <a:lnTo>
                    <a:pt x="2243" y="1388"/>
                  </a:lnTo>
                  <a:lnTo>
                    <a:pt x="2245" y="1374"/>
                  </a:lnTo>
                  <a:lnTo>
                    <a:pt x="2248" y="1359"/>
                  </a:lnTo>
                  <a:lnTo>
                    <a:pt x="2250" y="1345"/>
                  </a:lnTo>
                  <a:lnTo>
                    <a:pt x="2253" y="1330"/>
                  </a:lnTo>
                  <a:lnTo>
                    <a:pt x="2255" y="1314"/>
                  </a:lnTo>
                  <a:lnTo>
                    <a:pt x="2258" y="1299"/>
                  </a:lnTo>
                  <a:lnTo>
                    <a:pt x="2260" y="1283"/>
                  </a:lnTo>
                  <a:lnTo>
                    <a:pt x="2263" y="1267"/>
                  </a:lnTo>
                  <a:lnTo>
                    <a:pt x="2265" y="1252"/>
                  </a:lnTo>
                  <a:lnTo>
                    <a:pt x="2268" y="1236"/>
                  </a:lnTo>
                  <a:lnTo>
                    <a:pt x="2270" y="1220"/>
                  </a:lnTo>
                  <a:lnTo>
                    <a:pt x="2273" y="1205"/>
                  </a:lnTo>
                  <a:lnTo>
                    <a:pt x="2275" y="1189"/>
                  </a:lnTo>
                  <a:lnTo>
                    <a:pt x="2278" y="1174"/>
                  </a:lnTo>
                  <a:lnTo>
                    <a:pt x="2280" y="1159"/>
                  </a:lnTo>
                  <a:lnTo>
                    <a:pt x="2283" y="1145"/>
                  </a:lnTo>
                  <a:lnTo>
                    <a:pt x="2285" y="1131"/>
                  </a:lnTo>
                  <a:lnTo>
                    <a:pt x="2288" y="1117"/>
                  </a:lnTo>
                  <a:lnTo>
                    <a:pt x="2290" y="1103"/>
                  </a:lnTo>
                  <a:lnTo>
                    <a:pt x="2293" y="1090"/>
                  </a:lnTo>
                  <a:lnTo>
                    <a:pt x="2295" y="1078"/>
                  </a:lnTo>
                  <a:lnTo>
                    <a:pt x="2298" y="1066"/>
                  </a:lnTo>
                  <a:lnTo>
                    <a:pt x="2300" y="1054"/>
                  </a:lnTo>
                  <a:lnTo>
                    <a:pt x="2303" y="1043"/>
                  </a:lnTo>
                  <a:lnTo>
                    <a:pt x="2305" y="1033"/>
                  </a:lnTo>
                  <a:lnTo>
                    <a:pt x="2308" y="1024"/>
                  </a:lnTo>
                  <a:lnTo>
                    <a:pt x="2310" y="1015"/>
                  </a:lnTo>
                  <a:lnTo>
                    <a:pt x="2313" y="1007"/>
                  </a:lnTo>
                  <a:lnTo>
                    <a:pt x="2315" y="1002"/>
                  </a:lnTo>
                  <a:lnTo>
                    <a:pt x="2318" y="997"/>
                  </a:lnTo>
                  <a:lnTo>
                    <a:pt x="2320" y="993"/>
                  </a:lnTo>
                  <a:lnTo>
                    <a:pt x="2322" y="989"/>
                  </a:lnTo>
                  <a:lnTo>
                    <a:pt x="2325" y="987"/>
                  </a:lnTo>
                  <a:lnTo>
                    <a:pt x="2328" y="985"/>
                  </a:lnTo>
                  <a:lnTo>
                    <a:pt x="2330" y="983"/>
                  </a:lnTo>
                  <a:lnTo>
                    <a:pt x="2333" y="982"/>
                  </a:lnTo>
                  <a:lnTo>
                    <a:pt x="2335" y="981"/>
                  </a:lnTo>
                  <a:lnTo>
                    <a:pt x="2338" y="981"/>
                  </a:lnTo>
                  <a:lnTo>
                    <a:pt x="2340" y="981"/>
                  </a:lnTo>
                  <a:lnTo>
                    <a:pt x="2342" y="982"/>
                  </a:lnTo>
                  <a:lnTo>
                    <a:pt x="2345" y="983"/>
                  </a:lnTo>
                  <a:lnTo>
                    <a:pt x="2348" y="983"/>
                  </a:lnTo>
                  <a:lnTo>
                    <a:pt x="2350" y="985"/>
                  </a:lnTo>
                  <a:lnTo>
                    <a:pt x="2353" y="986"/>
                  </a:lnTo>
                  <a:lnTo>
                    <a:pt x="2355" y="987"/>
                  </a:lnTo>
                  <a:lnTo>
                    <a:pt x="2358" y="988"/>
                  </a:lnTo>
                  <a:lnTo>
                    <a:pt x="2360" y="990"/>
                  </a:lnTo>
                  <a:lnTo>
                    <a:pt x="2362" y="991"/>
                  </a:lnTo>
                  <a:lnTo>
                    <a:pt x="2365" y="992"/>
                  </a:lnTo>
                  <a:lnTo>
                    <a:pt x="2368" y="993"/>
                  </a:lnTo>
                  <a:lnTo>
                    <a:pt x="2370" y="994"/>
                  </a:lnTo>
                  <a:lnTo>
                    <a:pt x="2373" y="994"/>
                  </a:lnTo>
                  <a:lnTo>
                    <a:pt x="2375" y="994"/>
                  </a:lnTo>
                  <a:lnTo>
                    <a:pt x="2378" y="994"/>
                  </a:lnTo>
                  <a:lnTo>
                    <a:pt x="2380" y="993"/>
                  </a:lnTo>
                  <a:lnTo>
                    <a:pt x="2382" y="991"/>
                  </a:lnTo>
                  <a:lnTo>
                    <a:pt x="2385" y="990"/>
                  </a:lnTo>
                  <a:lnTo>
                    <a:pt x="2388" y="988"/>
                  </a:lnTo>
                  <a:lnTo>
                    <a:pt x="2390" y="985"/>
                  </a:lnTo>
                  <a:lnTo>
                    <a:pt x="2393" y="983"/>
                  </a:lnTo>
                  <a:lnTo>
                    <a:pt x="2395" y="980"/>
                  </a:lnTo>
                  <a:lnTo>
                    <a:pt x="2398" y="978"/>
                  </a:lnTo>
                  <a:lnTo>
                    <a:pt x="2400" y="975"/>
                  </a:lnTo>
                  <a:lnTo>
                    <a:pt x="2402" y="971"/>
                  </a:lnTo>
                  <a:lnTo>
                    <a:pt x="2405" y="968"/>
                  </a:lnTo>
                  <a:lnTo>
                    <a:pt x="2408" y="965"/>
                  </a:lnTo>
                  <a:lnTo>
                    <a:pt x="2410" y="961"/>
                  </a:lnTo>
                  <a:lnTo>
                    <a:pt x="2413" y="958"/>
                  </a:lnTo>
                  <a:lnTo>
                    <a:pt x="2415" y="954"/>
                  </a:lnTo>
                  <a:lnTo>
                    <a:pt x="2418" y="951"/>
                  </a:lnTo>
                  <a:lnTo>
                    <a:pt x="2420" y="947"/>
                  </a:lnTo>
                  <a:lnTo>
                    <a:pt x="2422" y="943"/>
                  </a:lnTo>
                  <a:lnTo>
                    <a:pt x="2425" y="940"/>
                  </a:lnTo>
                  <a:lnTo>
                    <a:pt x="2428" y="936"/>
                  </a:lnTo>
                  <a:lnTo>
                    <a:pt x="2430" y="933"/>
                  </a:lnTo>
                  <a:lnTo>
                    <a:pt x="2433" y="929"/>
                  </a:lnTo>
                  <a:lnTo>
                    <a:pt x="2435" y="926"/>
                  </a:lnTo>
                  <a:lnTo>
                    <a:pt x="2438" y="923"/>
                  </a:lnTo>
                  <a:lnTo>
                    <a:pt x="2440" y="921"/>
                  </a:lnTo>
                  <a:lnTo>
                    <a:pt x="2442" y="919"/>
                  </a:lnTo>
                  <a:lnTo>
                    <a:pt x="2445" y="917"/>
                  </a:lnTo>
                  <a:lnTo>
                    <a:pt x="2447" y="916"/>
                  </a:lnTo>
                  <a:lnTo>
                    <a:pt x="2450" y="914"/>
                  </a:lnTo>
                  <a:lnTo>
                    <a:pt x="2453" y="913"/>
                  </a:lnTo>
                  <a:lnTo>
                    <a:pt x="2455" y="911"/>
                  </a:lnTo>
                  <a:lnTo>
                    <a:pt x="2458" y="910"/>
                  </a:lnTo>
                  <a:lnTo>
                    <a:pt x="2460" y="909"/>
                  </a:lnTo>
                  <a:lnTo>
                    <a:pt x="2462" y="907"/>
                  </a:lnTo>
                  <a:lnTo>
                    <a:pt x="2465" y="906"/>
                  </a:lnTo>
                  <a:lnTo>
                    <a:pt x="2467" y="905"/>
                  </a:lnTo>
                  <a:lnTo>
                    <a:pt x="2470" y="904"/>
                  </a:lnTo>
                  <a:lnTo>
                    <a:pt x="2473" y="903"/>
                  </a:lnTo>
                  <a:lnTo>
                    <a:pt x="2475" y="902"/>
                  </a:lnTo>
                  <a:lnTo>
                    <a:pt x="2478" y="900"/>
                  </a:lnTo>
                  <a:lnTo>
                    <a:pt x="2480" y="899"/>
                  </a:lnTo>
                  <a:lnTo>
                    <a:pt x="2482" y="898"/>
                  </a:lnTo>
                  <a:lnTo>
                    <a:pt x="2485" y="896"/>
                  </a:lnTo>
                  <a:lnTo>
                    <a:pt x="2487" y="895"/>
                  </a:lnTo>
                  <a:lnTo>
                    <a:pt x="2490" y="893"/>
                  </a:lnTo>
                  <a:lnTo>
                    <a:pt x="2493" y="891"/>
                  </a:lnTo>
                  <a:lnTo>
                    <a:pt x="2495" y="889"/>
                  </a:lnTo>
                  <a:lnTo>
                    <a:pt x="2498" y="887"/>
                  </a:lnTo>
                  <a:lnTo>
                    <a:pt x="2500" y="885"/>
                  </a:lnTo>
                  <a:lnTo>
                    <a:pt x="2502" y="883"/>
                  </a:lnTo>
                  <a:lnTo>
                    <a:pt x="2505" y="880"/>
                  </a:lnTo>
                  <a:lnTo>
                    <a:pt x="2507" y="876"/>
                  </a:lnTo>
                  <a:lnTo>
                    <a:pt x="2510" y="873"/>
                  </a:lnTo>
                  <a:lnTo>
                    <a:pt x="2513" y="870"/>
                  </a:lnTo>
                  <a:lnTo>
                    <a:pt x="2515" y="866"/>
                  </a:lnTo>
                  <a:lnTo>
                    <a:pt x="2518" y="862"/>
                  </a:lnTo>
                  <a:lnTo>
                    <a:pt x="2520" y="858"/>
                  </a:lnTo>
                  <a:lnTo>
                    <a:pt x="2522" y="854"/>
                  </a:lnTo>
                  <a:lnTo>
                    <a:pt x="2525" y="850"/>
                  </a:lnTo>
                  <a:lnTo>
                    <a:pt x="2527" y="846"/>
                  </a:lnTo>
                  <a:lnTo>
                    <a:pt x="2530" y="841"/>
                  </a:lnTo>
                  <a:lnTo>
                    <a:pt x="2533" y="837"/>
                  </a:lnTo>
                  <a:lnTo>
                    <a:pt x="2535" y="832"/>
                  </a:lnTo>
                  <a:lnTo>
                    <a:pt x="2538" y="827"/>
                  </a:lnTo>
                  <a:lnTo>
                    <a:pt x="2540" y="822"/>
                  </a:lnTo>
                  <a:lnTo>
                    <a:pt x="2542" y="817"/>
                  </a:lnTo>
                  <a:lnTo>
                    <a:pt x="2545" y="812"/>
                  </a:lnTo>
                  <a:lnTo>
                    <a:pt x="2547" y="806"/>
                  </a:lnTo>
                  <a:lnTo>
                    <a:pt x="2550" y="801"/>
                  </a:lnTo>
                  <a:lnTo>
                    <a:pt x="2553" y="795"/>
                  </a:lnTo>
                  <a:lnTo>
                    <a:pt x="2555" y="789"/>
                  </a:lnTo>
                  <a:lnTo>
                    <a:pt x="2558" y="783"/>
                  </a:lnTo>
                  <a:lnTo>
                    <a:pt x="2560" y="777"/>
                  </a:lnTo>
                  <a:lnTo>
                    <a:pt x="2563" y="771"/>
                  </a:lnTo>
                  <a:lnTo>
                    <a:pt x="2565" y="766"/>
                  </a:lnTo>
                  <a:lnTo>
                    <a:pt x="2568" y="760"/>
                  </a:lnTo>
                  <a:lnTo>
                    <a:pt x="2570" y="754"/>
                  </a:lnTo>
                  <a:lnTo>
                    <a:pt x="2573" y="748"/>
                  </a:lnTo>
                  <a:lnTo>
                    <a:pt x="2575" y="742"/>
                  </a:lnTo>
                  <a:lnTo>
                    <a:pt x="2578" y="736"/>
                  </a:lnTo>
                  <a:lnTo>
                    <a:pt x="2580" y="730"/>
                  </a:lnTo>
                  <a:lnTo>
                    <a:pt x="2583" y="724"/>
                  </a:lnTo>
                  <a:lnTo>
                    <a:pt x="2585" y="717"/>
                  </a:lnTo>
                  <a:lnTo>
                    <a:pt x="2588" y="711"/>
                  </a:lnTo>
                  <a:lnTo>
                    <a:pt x="2590" y="704"/>
                  </a:lnTo>
                  <a:lnTo>
                    <a:pt x="2593" y="697"/>
                  </a:lnTo>
                  <a:lnTo>
                    <a:pt x="2595" y="690"/>
                  </a:lnTo>
                  <a:lnTo>
                    <a:pt x="2598" y="683"/>
                  </a:lnTo>
                  <a:lnTo>
                    <a:pt x="2600" y="676"/>
                  </a:lnTo>
                  <a:lnTo>
                    <a:pt x="2603" y="669"/>
                  </a:lnTo>
                  <a:lnTo>
                    <a:pt x="2605" y="662"/>
                  </a:lnTo>
                  <a:lnTo>
                    <a:pt x="2608" y="654"/>
                  </a:lnTo>
                  <a:lnTo>
                    <a:pt x="2610" y="647"/>
                  </a:lnTo>
                  <a:lnTo>
                    <a:pt x="2613" y="639"/>
                  </a:lnTo>
                  <a:lnTo>
                    <a:pt x="2615" y="631"/>
                  </a:lnTo>
                  <a:lnTo>
                    <a:pt x="2618" y="623"/>
                  </a:lnTo>
                  <a:lnTo>
                    <a:pt x="2620" y="615"/>
                  </a:lnTo>
                  <a:lnTo>
                    <a:pt x="2623" y="607"/>
                  </a:lnTo>
                  <a:lnTo>
                    <a:pt x="2625" y="599"/>
                  </a:lnTo>
                  <a:lnTo>
                    <a:pt x="2628" y="590"/>
                  </a:lnTo>
                  <a:lnTo>
                    <a:pt x="2630" y="581"/>
                  </a:lnTo>
                  <a:lnTo>
                    <a:pt x="2633" y="572"/>
                  </a:lnTo>
                  <a:lnTo>
                    <a:pt x="2635" y="563"/>
                  </a:lnTo>
                  <a:lnTo>
                    <a:pt x="2638" y="554"/>
                  </a:lnTo>
                  <a:lnTo>
                    <a:pt x="2640" y="545"/>
                  </a:lnTo>
                  <a:lnTo>
                    <a:pt x="2643" y="536"/>
                  </a:lnTo>
                  <a:lnTo>
                    <a:pt x="2645" y="527"/>
                  </a:lnTo>
                  <a:lnTo>
                    <a:pt x="2648" y="519"/>
                  </a:lnTo>
                  <a:lnTo>
                    <a:pt x="2650" y="511"/>
                  </a:lnTo>
                  <a:lnTo>
                    <a:pt x="2653" y="503"/>
                  </a:lnTo>
                  <a:lnTo>
                    <a:pt x="2655" y="496"/>
                  </a:lnTo>
                  <a:lnTo>
                    <a:pt x="2658" y="489"/>
                  </a:lnTo>
                  <a:lnTo>
                    <a:pt x="2660" y="482"/>
                  </a:lnTo>
                  <a:lnTo>
                    <a:pt x="2663" y="476"/>
                  </a:lnTo>
                  <a:lnTo>
                    <a:pt x="2665" y="470"/>
                  </a:lnTo>
                  <a:lnTo>
                    <a:pt x="2668" y="465"/>
                  </a:lnTo>
                  <a:lnTo>
                    <a:pt x="2670" y="461"/>
                  </a:lnTo>
                  <a:lnTo>
                    <a:pt x="2673" y="457"/>
                  </a:lnTo>
                  <a:lnTo>
                    <a:pt x="2675" y="454"/>
                  </a:lnTo>
                  <a:lnTo>
                    <a:pt x="2678" y="452"/>
                  </a:lnTo>
                  <a:lnTo>
                    <a:pt x="2680" y="450"/>
                  </a:lnTo>
                  <a:lnTo>
                    <a:pt x="2683" y="450"/>
                  </a:lnTo>
                  <a:lnTo>
                    <a:pt x="2685" y="450"/>
                  </a:lnTo>
                  <a:lnTo>
                    <a:pt x="2688" y="451"/>
                  </a:lnTo>
                  <a:lnTo>
                    <a:pt x="2690" y="454"/>
                  </a:lnTo>
                  <a:lnTo>
                    <a:pt x="2693" y="459"/>
                  </a:lnTo>
                  <a:lnTo>
                    <a:pt x="2695" y="464"/>
                  </a:lnTo>
                  <a:lnTo>
                    <a:pt x="2698" y="470"/>
                  </a:lnTo>
                  <a:lnTo>
                    <a:pt x="2700" y="477"/>
                  </a:lnTo>
                  <a:lnTo>
                    <a:pt x="2703" y="484"/>
                  </a:lnTo>
                  <a:lnTo>
                    <a:pt x="2705" y="492"/>
                  </a:lnTo>
                  <a:lnTo>
                    <a:pt x="2708" y="500"/>
                  </a:lnTo>
                  <a:lnTo>
                    <a:pt x="2710" y="509"/>
                  </a:lnTo>
                  <a:lnTo>
                    <a:pt x="2713" y="518"/>
                  </a:lnTo>
                  <a:lnTo>
                    <a:pt x="2715" y="527"/>
                  </a:lnTo>
                  <a:lnTo>
                    <a:pt x="2718" y="537"/>
                  </a:lnTo>
                  <a:lnTo>
                    <a:pt x="2720" y="546"/>
                  </a:lnTo>
                  <a:lnTo>
                    <a:pt x="2723" y="556"/>
                  </a:lnTo>
                  <a:lnTo>
                    <a:pt x="2725" y="566"/>
                  </a:lnTo>
                  <a:lnTo>
                    <a:pt x="2728" y="575"/>
                  </a:lnTo>
                  <a:lnTo>
                    <a:pt x="2730" y="585"/>
                  </a:lnTo>
                  <a:lnTo>
                    <a:pt x="2733" y="594"/>
                  </a:lnTo>
                  <a:lnTo>
                    <a:pt x="2735" y="602"/>
                  </a:lnTo>
                  <a:lnTo>
                    <a:pt x="2738" y="611"/>
                  </a:lnTo>
                  <a:lnTo>
                    <a:pt x="2740" y="619"/>
                  </a:lnTo>
                  <a:lnTo>
                    <a:pt x="2743" y="626"/>
                  </a:lnTo>
                  <a:lnTo>
                    <a:pt x="2745" y="633"/>
                  </a:lnTo>
                  <a:lnTo>
                    <a:pt x="2748" y="640"/>
                  </a:lnTo>
                  <a:lnTo>
                    <a:pt x="2750" y="645"/>
                  </a:lnTo>
                  <a:lnTo>
                    <a:pt x="2753" y="649"/>
                  </a:lnTo>
                  <a:lnTo>
                    <a:pt x="2755" y="652"/>
                  </a:lnTo>
                  <a:lnTo>
                    <a:pt x="2758" y="654"/>
                  </a:lnTo>
                  <a:lnTo>
                    <a:pt x="2760" y="655"/>
                  </a:lnTo>
                  <a:lnTo>
                    <a:pt x="2763" y="656"/>
                  </a:lnTo>
                  <a:lnTo>
                    <a:pt x="2765" y="657"/>
                  </a:lnTo>
                  <a:lnTo>
                    <a:pt x="2768" y="656"/>
                  </a:lnTo>
                  <a:lnTo>
                    <a:pt x="2770" y="655"/>
                  </a:lnTo>
                  <a:lnTo>
                    <a:pt x="2773" y="654"/>
                  </a:lnTo>
                  <a:lnTo>
                    <a:pt x="2775" y="652"/>
                  </a:lnTo>
                  <a:lnTo>
                    <a:pt x="2778" y="650"/>
                  </a:lnTo>
                  <a:lnTo>
                    <a:pt x="2780" y="647"/>
                  </a:lnTo>
                  <a:lnTo>
                    <a:pt x="2783" y="644"/>
                  </a:lnTo>
                  <a:lnTo>
                    <a:pt x="2785" y="641"/>
                  </a:lnTo>
                  <a:lnTo>
                    <a:pt x="2788" y="638"/>
                  </a:lnTo>
                  <a:lnTo>
                    <a:pt x="2790" y="634"/>
                  </a:lnTo>
                  <a:lnTo>
                    <a:pt x="2793" y="630"/>
                  </a:lnTo>
                  <a:lnTo>
                    <a:pt x="2795" y="626"/>
                  </a:lnTo>
                  <a:lnTo>
                    <a:pt x="2798" y="621"/>
                  </a:lnTo>
                  <a:lnTo>
                    <a:pt x="2800" y="617"/>
                  </a:lnTo>
                  <a:lnTo>
                    <a:pt x="2803" y="613"/>
                  </a:lnTo>
                  <a:lnTo>
                    <a:pt x="2805" y="608"/>
                  </a:lnTo>
                  <a:lnTo>
                    <a:pt x="2808" y="604"/>
                  </a:lnTo>
                  <a:lnTo>
                    <a:pt x="2810" y="600"/>
                  </a:lnTo>
                  <a:lnTo>
                    <a:pt x="2813" y="595"/>
                  </a:lnTo>
                  <a:lnTo>
                    <a:pt x="2815" y="592"/>
                  </a:lnTo>
                  <a:lnTo>
                    <a:pt x="2818" y="589"/>
                  </a:lnTo>
                  <a:lnTo>
                    <a:pt x="2820" y="586"/>
                  </a:lnTo>
                  <a:lnTo>
                    <a:pt x="2823" y="583"/>
                  </a:lnTo>
                  <a:lnTo>
                    <a:pt x="2825" y="581"/>
                  </a:lnTo>
                  <a:lnTo>
                    <a:pt x="2828" y="578"/>
                  </a:lnTo>
                  <a:lnTo>
                    <a:pt x="2830" y="575"/>
                  </a:lnTo>
                  <a:lnTo>
                    <a:pt x="2833" y="573"/>
                  </a:lnTo>
                  <a:lnTo>
                    <a:pt x="2835" y="571"/>
                  </a:lnTo>
                  <a:lnTo>
                    <a:pt x="2838" y="568"/>
                  </a:lnTo>
                  <a:lnTo>
                    <a:pt x="2840" y="566"/>
                  </a:lnTo>
                  <a:lnTo>
                    <a:pt x="2843" y="564"/>
                  </a:lnTo>
                  <a:lnTo>
                    <a:pt x="2845" y="562"/>
                  </a:lnTo>
                  <a:lnTo>
                    <a:pt x="2848" y="560"/>
                  </a:lnTo>
                  <a:lnTo>
                    <a:pt x="2850" y="558"/>
                  </a:lnTo>
                  <a:lnTo>
                    <a:pt x="2853" y="556"/>
                  </a:lnTo>
                  <a:lnTo>
                    <a:pt x="2855" y="554"/>
                  </a:lnTo>
                  <a:lnTo>
                    <a:pt x="2858" y="552"/>
                  </a:lnTo>
                  <a:lnTo>
                    <a:pt x="2860" y="551"/>
                  </a:lnTo>
                  <a:lnTo>
                    <a:pt x="2863" y="549"/>
                  </a:lnTo>
                  <a:lnTo>
                    <a:pt x="2865" y="547"/>
                  </a:lnTo>
                  <a:lnTo>
                    <a:pt x="2868" y="545"/>
                  </a:lnTo>
                  <a:lnTo>
                    <a:pt x="2870" y="543"/>
                  </a:lnTo>
                  <a:lnTo>
                    <a:pt x="2873" y="542"/>
                  </a:lnTo>
                  <a:lnTo>
                    <a:pt x="2875" y="540"/>
                  </a:lnTo>
                  <a:lnTo>
                    <a:pt x="2878" y="537"/>
                  </a:lnTo>
                  <a:lnTo>
                    <a:pt x="2880" y="535"/>
                  </a:lnTo>
                  <a:lnTo>
                    <a:pt x="2883" y="533"/>
                  </a:lnTo>
                  <a:lnTo>
                    <a:pt x="2885" y="530"/>
                  </a:lnTo>
                  <a:lnTo>
                    <a:pt x="2888" y="528"/>
                  </a:lnTo>
                  <a:lnTo>
                    <a:pt x="2890" y="525"/>
                  </a:lnTo>
                  <a:lnTo>
                    <a:pt x="2893" y="523"/>
                  </a:lnTo>
                  <a:lnTo>
                    <a:pt x="2895" y="520"/>
                  </a:lnTo>
                  <a:lnTo>
                    <a:pt x="2898" y="518"/>
                  </a:lnTo>
                  <a:lnTo>
                    <a:pt x="2900" y="516"/>
                  </a:lnTo>
                  <a:lnTo>
                    <a:pt x="2903" y="513"/>
                  </a:lnTo>
                  <a:lnTo>
                    <a:pt x="2905" y="511"/>
                  </a:lnTo>
                  <a:lnTo>
                    <a:pt x="2908" y="508"/>
                  </a:lnTo>
                  <a:lnTo>
                    <a:pt x="2910" y="506"/>
                  </a:lnTo>
                  <a:lnTo>
                    <a:pt x="2913" y="504"/>
                  </a:lnTo>
                  <a:lnTo>
                    <a:pt x="2915" y="501"/>
                  </a:lnTo>
                  <a:lnTo>
                    <a:pt x="2918" y="499"/>
                  </a:lnTo>
                  <a:lnTo>
                    <a:pt x="2920" y="497"/>
                  </a:lnTo>
                  <a:lnTo>
                    <a:pt x="2923" y="495"/>
                  </a:lnTo>
                  <a:lnTo>
                    <a:pt x="2925" y="493"/>
                  </a:lnTo>
                  <a:lnTo>
                    <a:pt x="2928" y="491"/>
                  </a:lnTo>
                  <a:lnTo>
                    <a:pt x="2930" y="488"/>
                  </a:lnTo>
                  <a:lnTo>
                    <a:pt x="2933" y="486"/>
                  </a:lnTo>
                  <a:lnTo>
                    <a:pt x="2935" y="485"/>
                  </a:lnTo>
                  <a:lnTo>
                    <a:pt x="2938" y="483"/>
                  </a:lnTo>
                  <a:lnTo>
                    <a:pt x="2940" y="481"/>
                  </a:lnTo>
                  <a:lnTo>
                    <a:pt x="2943" y="479"/>
                  </a:lnTo>
                  <a:lnTo>
                    <a:pt x="2945" y="478"/>
                  </a:lnTo>
                  <a:lnTo>
                    <a:pt x="2948" y="476"/>
                  </a:lnTo>
                  <a:lnTo>
                    <a:pt x="2950" y="474"/>
                  </a:lnTo>
                  <a:lnTo>
                    <a:pt x="2953" y="473"/>
                  </a:lnTo>
                  <a:lnTo>
                    <a:pt x="2955" y="471"/>
                  </a:lnTo>
                  <a:lnTo>
                    <a:pt x="2958" y="470"/>
                  </a:lnTo>
                  <a:lnTo>
                    <a:pt x="2960" y="469"/>
                  </a:lnTo>
                  <a:lnTo>
                    <a:pt x="2963" y="467"/>
                  </a:lnTo>
                  <a:lnTo>
                    <a:pt x="2965" y="466"/>
                  </a:lnTo>
                  <a:lnTo>
                    <a:pt x="2968" y="465"/>
                  </a:lnTo>
                  <a:lnTo>
                    <a:pt x="2970" y="464"/>
                  </a:lnTo>
                  <a:lnTo>
                    <a:pt x="2973" y="462"/>
                  </a:lnTo>
                  <a:lnTo>
                    <a:pt x="2975" y="461"/>
                  </a:lnTo>
                  <a:lnTo>
                    <a:pt x="2978" y="460"/>
                  </a:lnTo>
                  <a:lnTo>
                    <a:pt x="2980" y="459"/>
                  </a:lnTo>
                  <a:lnTo>
                    <a:pt x="2983" y="458"/>
                  </a:lnTo>
                  <a:lnTo>
                    <a:pt x="2985" y="457"/>
                  </a:lnTo>
                  <a:lnTo>
                    <a:pt x="2988" y="456"/>
                  </a:lnTo>
                  <a:lnTo>
                    <a:pt x="2990" y="455"/>
                  </a:lnTo>
                  <a:lnTo>
                    <a:pt x="2993" y="454"/>
                  </a:lnTo>
                  <a:lnTo>
                    <a:pt x="2995" y="453"/>
                  </a:lnTo>
                  <a:lnTo>
                    <a:pt x="2998" y="452"/>
                  </a:lnTo>
                  <a:lnTo>
                    <a:pt x="3000" y="450"/>
                  </a:lnTo>
                  <a:lnTo>
                    <a:pt x="3003" y="449"/>
                  </a:lnTo>
                  <a:lnTo>
                    <a:pt x="3005" y="448"/>
                  </a:lnTo>
                  <a:lnTo>
                    <a:pt x="3008" y="447"/>
                  </a:lnTo>
                  <a:lnTo>
                    <a:pt x="3010" y="446"/>
                  </a:lnTo>
                  <a:lnTo>
                    <a:pt x="3013" y="445"/>
                  </a:lnTo>
                  <a:lnTo>
                    <a:pt x="3015" y="444"/>
                  </a:lnTo>
                  <a:lnTo>
                    <a:pt x="3018" y="444"/>
                  </a:lnTo>
                  <a:lnTo>
                    <a:pt x="3020" y="443"/>
                  </a:lnTo>
                  <a:lnTo>
                    <a:pt x="3023" y="442"/>
                  </a:lnTo>
                  <a:lnTo>
                    <a:pt x="3025" y="441"/>
                  </a:lnTo>
                  <a:lnTo>
                    <a:pt x="3028" y="439"/>
                  </a:lnTo>
                  <a:lnTo>
                    <a:pt x="3030" y="438"/>
                  </a:lnTo>
                  <a:lnTo>
                    <a:pt x="3033" y="437"/>
                  </a:lnTo>
                  <a:lnTo>
                    <a:pt x="3035" y="436"/>
                  </a:lnTo>
                  <a:lnTo>
                    <a:pt x="3038" y="435"/>
                  </a:lnTo>
                  <a:lnTo>
                    <a:pt x="3040" y="434"/>
                  </a:lnTo>
                  <a:lnTo>
                    <a:pt x="3043" y="433"/>
                  </a:lnTo>
                  <a:lnTo>
                    <a:pt x="3045" y="432"/>
                  </a:lnTo>
                  <a:lnTo>
                    <a:pt x="3048" y="431"/>
                  </a:lnTo>
                  <a:lnTo>
                    <a:pt x="3050" y="430"/>
                  </a:lnTo>
                  <a:lnTo>
                    <a:pt x="3053" y="429"/>
                  </a:lnTo>
                  <a:lnTo>
                    <a:pt x="3055" y="428"/>
                  </a:lnTo>
                  <a:lnTo>
                    <a:pt x="3058" y="427"/>
                  </a:lnTo>
                  <a:lnTo>
                    <a:pt x="3060" y="426"/>
                  </a:lnTo>
                  <a:lnTo>
                    <a:pt x="3063" y="425"/>
                  </a:lnTo>
                  <a:lnTo>
                    <a:pt x="3065" y="424"/>
                  </a:lnTo>
                  <a:lnTo>
                    <a:pt x="3068" y="423"/>
                  </a:lnTo>
                  <a:lnTo>
                    <a:pt x="3070" y="422"/>
                  </a:lnTo>
                  <a:lnTo>
                    <a:pt x="3073" y="421"/>
                  </a:lnTo>
                  <a:lnTo>
                    <a:pt x="3075" y="420"/>
                  </a:lnTo>
                  <a:lnTo>
                    <a:pt x="3078" y="419"/>
                  </a:lnTo>
                  <a:lnTo>
                    <a:pt x="3080" y="417"/>
                  </a:lnTo>
                  <a:lnTo>
                    <a:pt x="3083" y="416"/>
                  </a:lnTo>
                  <a:lnTo>
                    <a:pt x="3085" y="415"/>
                  </a:lnTo>
                  <a:lnTo>
                    <a:pt x="3088" y="414"/>
                  </a:lnTo>
                  <a:lnTo>
                    <a:pt x="3090" y="413"/>
                  </a:lnTo>
                  <a:lnTo>
                    <a:pt x="3093" y="412"/>
                  </a:lnTo>
                  <a:lnTo>
                    <a:pt x="3095" y="411"/>
                  </a:lnTo>
                  <a:lnTo>
                    <a:pt x="3098" y="410"/>
                  </a:lnTo>
                  <a:lnTo>
                    <a:pt x="3100" y="408"/>
                  </a:lnTo>
                  <a:lnTo>
                    <a:pt x="3103" y="407"/>
                  </a:lnTo>
                  <a:lnTo>
                    <a:pt x="3105" y="406"/>
                  </a:lnTo>
                  <a:lnTo>
                    <a:pt x="3108" y="405"/>
                  </a:lnTo>
                  <a:lnTo>
                    <a:pt x="3110" y="404"/>
                  </a:lnTo>
                  <a:lnTo>
                    <a:pt x="3113" y="403"/>
                  </a:lnTo>
                  <a:lnTo>
                    <a:pt x="3115" y="401"/>
                  </a:lnTo>
                  <a:lnTo>
                    <a:pt x="3118" y="400"/>
                  </a:lnTo>
                  <a:lnTo>
                    <a:pt x="3120" y="399"/>
                  </a:lnTo>
                  <a:lnTo>
                    <a:pt x="3123" y="398"/>
                  </a:lnTo>
                  <a:lnTo>
                    <a:pt x="3125" y="397"/>
                  </a:lnTo>
                  <a:lnTo>
                    <a:pt x="3128" y="395"/>
                  </a:lnTo>
                  <a:lnTo>
                    <a:pt x="3130" y="394"/>
                  </a:lnTo>
                  <a:lnTo>
                    <a:pt x="3133" y="393"/>
                  </a:lnTo>
                  <a:lnTo>
                    <a:pt x="3135" y="392"/>
                  </a:lnTo>
                  <a:lnTo>
                    <a:pt x="3138" y="390"/>
                  </a:lnTo>
                  <a:lnTo>
                    <a:pt x="3140" y="389"/>
                  </a:lnTo>
                  <a:lnTo>
                    <a:pt x="3143" y="388"/>
                  </a:lnTo>
                  <a:lnTo>
                    <a:pt x="3145" y="387"/>
                  </a:lnTo>
                  <a:lnTo>
                    <a:pt x="3148" y="385"/>
                  </a:lnTo>
                  <a:lnTo>
                    <a:pt x="3150" y="384"/>
                  </a:lnTo>
                  <a:lnTo>
                    <a:pt x="3153" y="383"/>
                  </a:lnTo>
                  <a:lnTo>
                    <a:pt x="3155" y="382"/>
                  </a:lnTo>
                  <a:lnTo>
                    <a:pt x="3158" y="380"/>
                  </a:lnTo>
                  <a:lnTo>
                    <a:pt x="3160" y="379"/>
                  </a:lnTo>
                  <a:lnTo>
                    <a:pt x="3163" y="378"/>
                  </a:lnTo>
                  <a:lnTo>
                    <a:pt x="3165" y="377"/>
                  </a:lnTo>
                  <a:lnTo>
                    <a:pt x="3168" y="375"/>
                  </a:lnTo>
                  <a:lnTo>
                    <a:pt x="3170" y="374"/>
                  </a:lnTo>
                  <a:lnTo>
                    <a:pt x="3173" y="373"/>
                  </a:lnTo>
                  <a:lnTo>
                    <a:pt x="3175" y="371"/>
                  </a:lnTo>
                  <a:lnTo>
                    <a:pt x="3178" y="370"/>
                  </a:lnTo>
                  <a:lnTo>
                    <a:pt x="3180" y="369"/>
                  </a:lnTo>
                  <a:lnTo>
                    <a:pt x="3183" y="367"/>
                  </a:lnTo>
                  <a:lnTo>
                    <a:pt x="3185" y="366"/>
                  </a:lnTo>
                  <a:lnTo>
                    <a:pt x="3188" y="365"/>
                  </a:lnTo>
                  <a:lnTo>
                    <a:pt x="3190" y="364"/>
                  </a:lnTo>
                  <a:lnTo>
                    <a:pt x="3193" y="362"/>
                  </a:lnTo>
                  <a:lnTo>
                    <a:pt x="3195" y="361"/>
                  </a:lnTo>
                  <a:lnTo>
                    <a:pt x="3198" y="360"/>
                  </a:lnTo>
                  <a:lnTo>
                    <a:pt x="3200" y="358"/>
                  </a:lnTo>
                  <a:lnTo>
                    <a:pt x="3203" y="357"/>
                  </a:lnTo>
                  <a:lnTo>
                    <a:pt x="3205" y="356"/>
                  </a:lnTo>
                  <a:lnTo>
                    <a:pt x="3208" y="354"/>
                  </a:lnTo>
                  <a:lnTo>
                    <a:pt x="3210" y="353"/>
                  </a:lnTo>
                  <a:lnTo>
                    <a:pt x="3213" y="352"/>
                  </a:lnTo>
                  <a:lnTo>
                    <a:pt x="3215" y="350"/>
                  </a:lnTo>
                  <a:lnTo>
                    <a:pt x="3218" y="349"/>
                  </a:lnTo>
                  <a:lnTo>
                    <a:pt x="3220" y="348"/>
                  </a:lnTo>
                  <a:lnTo>
                    <a:pt x="3223" y="346"/>
                  </a:lnTo>
                  <a:lnTo>
                    <a:pt x="3225" y="345"/>
                  </a:lnTo>
                  <a:lnTo>
                    <a:pt x="3228" y="343"/>
                  </a:lnTo>
                  <a:lnTo>
                    <a:pt x="3230" y="342"/>
                  </a:lnTo>
                  <a:lnTo>
                    <a:pt x="3233" y="340"/>
                  </a:lnTo>
                  <a:lnTo>
                    <a:pt x="3235" y="339"/>
                  </a:lnTo>
                  <a:lnTo>
                    <a:pt x="3238" y="338"/>
                  </a:lnTo>
                  <a:lnTo>
                    <a:pt x="3240" y="336"/>
                  </a:lnTo>
                  <a:lnTo>
                    <a:pt x="3243" y="335"/>
                  </a:lnTo>
                  <a:lnTo>
                    <a:pt x="3245" y="333"/>
                  </a:lnTo>
                  <a:lnTo>
                    <a:pt x="3248" y="331"/>
                  </a:lnTo>
                  <a:lnTo>
                    <a:pt x="3250" y="330"/>
                  </a:lnTo>
                  <a:lnTo>
                    <a:pt x="3253" y="328"/>
                  </a:lnTo>
                  <a:lnTo>
                    <a:pt x="3255" y="326"/>
                  </a:lnTo>
                  <a:lnTo>
                    <a:pt x="3258" y="325"/>
                  </a:lnTo>
                  <a:lnTo>
                    <a:pt x="3260" y="323"/>
                  </a:lnTo>
                  <a:lnTo>
                    <a:pt x="3263" y="321"/>
                  </a:lnTo>
                  <a:lnTo>
                    <a:pt x="3265" y="320"/>
                  </a:lnTo>
                  <a:lnTo>
                    <a:pt x="3268" y="318"/>
                  </a:lnTo>
                  <a:lnTo>
                    <a:pt x="3270" y="316"/>
                  </a:lnTo>
                  <a:lnTo>
                    <a:pt x="3273" y="314"/>
                  </a:lnTo>
                  <a:lnTo>
                    <a:pt x="3275" y="313"/>
                  </a:lnTo>
                  <a:lnTo>
                    <a:pt x="3278" y="311"/>
                  </a:lnTo>
                  <a:lnTo>
                    <a:pt x="3280" y="309"/>
                  </a:lnTo>
                  <a:lnTo>
                    <a:pt x="3283" y="308"/>
                  </a:lnTo>
                  <a:lnTo>
                    <a:pt x="3285" y="306"/>
                  </a:lnTo>
                  <a:lnTo>
                    <a:pt x="3288" y="305"/>
                  </a:lnTo>
                  <a:lnTo>
                    <a:pt x="3290" y="303"/>
                  </a:lnTo>
                  <a:lnTo>
                    <a:pt x="3293" y="301"/>
                  </a:lnTo>
                  <a:lnTo>
                    <a:pt x="3295" y="300"/>
                  </a:lnTo>
                  <a:lnTo>
                    <a:pt x="3298" y="299"/>
                  </a:lnTo>
                  <a:lnTo>
                    <a:pt x="3300" y="297"/>
                  </a:lnTo>
                  <a:lnTo>
                    <a:pt x="3303" y="296"/>
                  </a:lnTo>
                  <a:lnTo>
                    <a:pt x="3305" y="295"/>
                  </a:lnTo>
                  <a:lnTo>
                    <a:pt x="3308" y="294"/>
                  </a:lnTo>
                  <a:lnTo>
                    <a:pt x="3310" y="293"/>
                  </a:lnTo>
                  <a:lnTo>
                    <a:pt x="3313" y="292"/>
                  </a:lnTo>
                  <a:lnTo>
                    <a:pt x="3315" y="291"/>
                  </a:lnTo>
                  <a:lnTo>
                    <a:pt x="3318" y="290"/>
                  </a:lnTo>
                  <a:lnTo>
                    <a:pt x="3320" y="289"/>
                  </a:lnTo>
                  <a:lnTo>
                    <a:pt x="3323" y="289"/>
                  </a:lnTo>
                  <a:lnTo>
                    <a:pt x="3325" y="288"/>
                  </a:lnTo>
                  <a:lnTo>
                    <a:pt x="3328" y="288"/>
                  </a:lnTo>
                  <a:lnTo>
                    <a:pt x="3330" y="287"/>
                  </a:lnTo>
                  <a:lnTo>
                    <a:pt x="3333" y="287"/>
                  </a:lnTo>
                  <a:lnTo>
                    <a:pt x="3335" y="286"/>
                  </a:lnTo>
                  <a:lnTo>
                    <a:pt x="3338" y="286"/>
                  </a:lnTo>
                  <a:lnTo>
                    <a:pt x="3340" y="285"/>
                  </a:lnTo>
                  <a:lnTo>
                    <a:pt x="3343" y="285"/>
                  </a:lnTo>
                  <a:lnTo>
                    <a:pt x="3345" y="285"/>
                  </a:lnTo>
                  <a:lnTo>
                    <a:pt x="3348" y="284"/>
                  </a:lnTo>
                  <a:lnTo>
                    <a:pt x="3350" y="284"/>
                  </a:lnTo>
                  <a:lnTo>
                    <a:pt x="3353" y="283"/>
                  </a:lnTo>
                  <a:lnTo>
                    <a:pt x="3355" y="283"/>
                  </a:lnTo>
                  <a:lnTo>
                    <a:pt x="3358" y="282"/>
                  </a:lnTo>
                  <a:lnTo>
                    <a:pt x="3360" y="282"/>
                  </a:lnTo>
                  <a:lnTo>
                    <a:pt x="3363" y="281"/>
                  </a:lnTo>
                  <a:lnTo>
                    <a:pt x="3365" y="281"/>
                  </a:lnTo>
                  <a:lnTo>
                    <a:pt x="3368" y="280"/>
                  </a:lnTo>
                  <a:lnTo>
                    <a:pt x="3370" y="279"/>
                  </a:lnTo>
                  <a:lnTo>
                    <a:pt x="3373" y="278"/>
                  </a:lnTo>
                  <a:lnTo>
                    <a:pt x="3375" y="278"/>
                  </a:lnTo>
                  <a:lnTo>
                    <a:pt x="3378" y="276"/>
                  </a:lnTo>
                  <a:lnTo>
                    <a:pt x="3380" y="275"/>
                  </a:lnTo>
                  <a:lnTo>
                    <a:pt x="3383" y="274"/>
                  </a:lnTo>
                  <a:lnTo>
                    <a:pt x="3385" y="273"/>
                  </a:lnTo>
                  <a:lnTo>
                    <a:pt x="3388" y="271"/>
                  </a:lnTo>
                  <a:lnTo>
                    <a:pt x="3390" y="270"/>
                  </a:lnTo>
                  <a:lnTo>
                    <a:pt x="3393" y="268"/>
                  </a:lnTo>
                  <a:lnTo>
                    <a:pt x="3395" y="267"/>
                  </a:lnTo>
                  <a:lnTo>
                    <a:pt x="3398" y="265"/>
                  </a:lnTo>
                  <a:lnTo>
                    <a:pt x="3400" y="264"/>
                  </a:lnTo>
                  <a:lnTo>
                    <a:pt x="3403" y="262"/>
                  </a:lnTo>
                  <a:lnTo>
                    <a:pt x="3405" y="260"/>
                  </a:lnTo>
                  <a:lnTo>
                    <a:pt x="3408" y="258"/>
                  </a:lnTo>
                  <a:lnTo>
                    <a:pt x="3410" y="256"/>
                  </a:lnTo>
                  <a:lnTo>
                    <a:pt x="3413" y="255"/>
                  </a:lnTo>
                  <a:lnTo>
                    <a:pt x="3415" y="253"/>
                  </a:lnTo>
                  <a:lnTo>
                    <a:pt x="3418" y="251"/>
                  </a:lnTo>
                  <a:lnTo>
                    <a:pt x="3420" y="249"/>
                  </a:lnTo>
                  <a:lnTo>
                    <a:pt x="3423" y="247"/>
                  </a:lnTo>
                  <a:lnTo>
                    <a:pt x="3425" y="245"/>
                  </a:lnTo>
                  <a:lnTo>
                    <a:pt x="3428" y="243"/>
                  </a:lnTo>
                  <a:lnTo>
                    <a:pt x="3430" y="241"/>
                  </a:lnTo>
                  <a:lnTo>
                    <a:pt x="3433" y="239"/>
                  </a:lnTo>
                  <a:lnTo>
                    <a:pt x="3435" y="237"/>
                  </a:lnTo>
                  <a:lnTo>
                    <a:pt x="3438" y="236"/>
                  </a:lnTo>
                  <a:lnTo>
                    <a:pt x="3440" y="234"/>
                  </a:lnTo>
                  <a:lnTo>
                    <a:pt x="3443" y="232"/>
                  </a:lnTo>
                  <a:lnTo>
                    <a:pt x="3445" y="230"/>
                  </a:lnTo>
                  <a:lnTo>
                    <a:pt x="3448" y="228"/>
                  </a:lnTo>
                  <a:lnTo>
                    <a:pt x="3450" y="227"/>
                  </a:lnTo>
                  <a:lnTo>
                    <a:pt x="3453" y="225"/>
                  </a:lnTo>
                  <a:lnTo>
                    <a:pt x="3455" y="223"/>
                  </a:lnTo>
                  <a:lnTo>
                    <a:pt x="3458" y="221"/>
                  </a:lnTo>
                  <a:lnTo>
                    <a:pt x="3460" y="219"/>
                  </a:lnTo>
                  <a:lnTo>
                    <a:pt x="3463" y="218"/>
                  </a:lnTo>
                  <a:lnTo>
                    <a:pt x="3465" y="216"/>
                  </a:lnTo>
                  <a:lnTo>
                    <a:pt x="3468" y="214"/>
                  </a:lnTo>
                  <a:lnTo>
                    <a:pt x="3470" y="213"/>
                  </a:lnTo>
                  <a:lnTo>
                    <a:pt x="3473" y="211"/>
                  </a:lnTo>
                  <a:lnTo>
                    <a:pt x="3475" y="209"/>
                  </a:lnTo>
                  <a:lnTo>
                    <a:pt x="3478" y="207"/>
                  </a:lnTo>
                  <a:lnTo>
                    <a:pt x="3480" y="206"/>
                  </a:lnTo>
                  <a:lnTo>
                    <a:pt x="3483" y="204"/>
                  </a:lnTo>
                  <a:lnTo>
                    <a:pt x="3485" y="202"/>
                  </a:lnTo>
                  <a:lnTo>
                    <a:pt x="3488" y="201"/>
                  </a:lnTo>
                  <a:lnTo>
                    <a:pt x="3490" y="199"/>
                  </a:lnTo>
                  <a:lnTo>
                    <a:pt x="3493" y="197"/>
                  </a:lnTo>
                  <a:lnTo>
                    <a:pt x="3495" y="196"/>
                  </a:lnTo>
                  <a:lnTo>
                    <a:pt x="3498" y="194"/>
                  </a:lnTo>
                  <a:lnTo>
                    <a:pt x="3500" y="192"/>
                  </a:lnTo>
                  <a:lnTo>
                    <a:pt x="3503" y="191"/>
                  </a:lnTo>
                  <a:lnTo>
                    <a:pt x="3505" y="189"/>
                  </a:lnTo>
                  <a:lnTo>
                    <a:pt x="3508" y="187"/>
                  </a:lnTo>
                  <a:lnTo>
                    <a:pt x="3510" y="185"/>
                  </a:lnTo>
                  <a:lnTo>
                    <a:pt x="3513" y="184"/>
                  </a:lnTo>
                  <a:lnTo>
                    <a:pt x="3515" y="182"/>
                  </a:lnTo>
                  <a:lnTo>
                    <a:pt x="3518" y="180"/>
                  </a:lnTo>
                  <a:lnTo>
                    <a:pt x="3520" y="178"/>
                  </a:lnTo>
                  <a:lnTo>
                    <a:pt x="3523" y="177"/>
                  </a:lnTo>
                  <a:lnTo>
                    <a:pt x="3525" y="175"/>
                  </a:lnTo>
                  <a:lnTo>
                    <a:pt x="3528" y="173"/>
                  </a:lnTo>
                  <a:lnTo>
                    <a:pt x="3530" y="171"/>
                  </a:lnTo>
                  <a:lnTo>
                    <a:pt x="3533" y="170"/>
                  </a:lnTo>
                  <a:lnTo>
                    <a:pt x="3535" y="168"/>
                  </a:lnTo>
                  <a:lnTo>
                    <a:pt x="3538" y="166"/>
                  </a:lnTo>
                  <a:lnTo>
                    <a:pt x="3540" y="164"/>
                  </a:lnTo>
                  <a:lnTo>
                    <a:pt x="3543" y="163"/>
                  </a:lnTo>
                  <a:lnTo>
                    <a:pt x="3545" y="161"/>
                  </a:lnTo>
                  <a:lnTo>
                    <a:pt x="3548" y="159"/>
                  </a:lnTo>
                  <a:lnTo>
                    <a:pt x="3550" y="157"/>
                  </a:lnTo>
                  <a:lnTo>
                    <a:pt x="3553" y="156"/>
                  </a:lnTo>
                  <a:lnTo>
                    <a:pt x="3555" y="154"/>
                  </a:lnTo>
                  <a:lnTo>
                    <a:pt x="3558" y="152"/>
                  </a:lnTo>
                  <a:lnTo>
                    <a:pt x="3560" y="150"/>
                  </a:lnTo>
                  <a:lnTo>
                    <a:pt x="3563" y="149"/>
                  </a:lnTo>
                  <a:lnTo>
                    <a:pt x="3565" y="147"/>
                  </a:lnTo>
                  <a:lnTo>
                    <a:pt x="3568" y="145"/>
                  </a:lnTo>
                  <a:lnTo>
                    <a:pt x="3570" y="144"/>
                  </a:lnTo>
                  <a:lnTo>
                    <a:pt x="3573" y="142"/>
                  </a:lnTo>
                  <a:lnTo>
                    <a:pt x="3575" y="140"/>
                  </a:lnTo>
                  <a:lnTo>
                    <a:pt x="3578" y="138"/>
                  </a:lnTo>
                  <a:lnTo>
                    <a:pt x="3580" y="137"/>
                  </a:lnTo>
                  <a:lnTo>
                    <a:pt x="3583" y="135"/>
                  </a:lnTo>
                  <a:lnTo>
                    <a:pt x="3585" y="133"/>
                  </a:lnTo>
                  <a:lnTo>
                    <a:pt x="3588" y="132"/>
                  </a:lnTo>
                  <a:lnTo>
                    <a:pt x="3590" y="130"/>
                  </a:lnTo>
                  <a:lnTo>
                    <a:pt x="3593" y="128"/>
                  </a:lnTo>
                  <a:lnTo>
                    <a:pt x="3595" y="127"/>
                  </a:lnTo>
                  <a:lnTo>
                    <a:pt x="3598" y="125"/>
                  </a:lnTo>
                  <a:lnTo>
                    <a:pt x="3600" y="123"/>
                  </a:lnTo>
                  <a:lnTo>
                    <a:pt x="3603" y="122"/>
                  </a:lnTo>
                  <a:lnTo>
                    <a:pt x="3605" y="120"/>
                  </a:lnTo>
                  <a:lnTo>
                    <a:pt x="3608" y="118"/>
                  </a:lnTo>
                  <a:lnTo>
                    <a:pt x="3610" y="117"/>
                  </a:lnTo>
                  <a:lnTo>
                    <a:pt x="3613" y="115"/>
                  </a:lnTo>
                  <a:lnTo>
                    <a:pt x="3615" y="113"/>
                  </a:lnTo>
                  <a:lnTo>
                    <a:pt x="3618" y="112"/>
                  </a:lnTo>
                  <a:lnTo>
                    <a:pt x="3620" y="110"/>
                  </a:lnTo>
                  <a:lnTo>
                    <a:pt x="3623" y="108"/>
                  </a:lnTo>
                  <a:lnTo>
                    <a:pt x="3625" y="107"/>
                  </a:lnTo>
                  <a:lnTo>
                    <a:pt x="3628" y="105"/>
                  </a:lnTo>
                  <a:lnTo>
                    <a:pt x="3630" y="104"/>
                  </a:lnTo>
                  <a:lnTo>
                    <a:pt x="3633" y="102"/>
                  </a:lnTo>
                  <a:lnTo>
                    <a:pt x="3635" y="100"/>
                  </a:lnTo>
                  <a:lnTo>
                    <a:pt x="3638" y="99"/>
                  </a:lnTo>
                  <a:lnTo>
                    <a:pt x="3640" y="97"/>
                  </a:lnTo>
                  <a:lnTo>
                    <a:pt x="3643" y="96"/>
                  </a:lnTo>
                  <a:lnTo>
                    <a:pt x="3645" y="94"/>
                  </a:lnTo>
                  <a:lnTo>
                    <a:pt x="3648" y="93"/>
                  </a:lnTo>
                  <a:lnTo>
                    <a:pt x="3650" y="91"/>
                  </a:lnTo>
                  <a:lnTo>
                    <a:pt x="3653" y="89"/>
                  </a:lnTo>
                  <a:lnTo>
                    <a:pt x="3655" y="88"/>
                  </a:lnTo>
                  <a:lnTo>
                    <a:pt x="3658" y="86"/>
                  </a:lnTo>
                  <a:lnTo>
                    <a:pt x="3660" y="85"/>
                  </a:lnTo>
                  <a:lnTo>
                    <a:pt x="3663" y="83"/>
                  </a:lnTo>
                  <a:lnTo>
                    <a:pt x="3665" y="82"/>
                  </a:lnTo>
                  <a:lnTo>
                    <a:pt x="3668" y="80"/>
                  </a:lnTo>
                  <a:lnTo>
                    <a:pt x="3670" y="79"/>
                  </a:lnTo>
                  <a:lnTo>
                    <a:pt x="3673" y="77"/>
                  </a:lnTo>
                  <a:lnTo>
                    <a:pt x="3675" y="76"/>
                  </a:lnTo>
                  <a:lnTo>
                    <a:pt x="3678" y="75"/>
                  </a:lnTo>
                  <a:lnTo>
                    <a:pt x="3680" y="73"/>
                  </a:lnTo>
                  <a:lnTo>
                    <a:pt x="3683" y="72"/>
                  </a:lnTo>
                  <a:lnTo>
                    <a:pt x="3685" y="70"/>
                  </a:lnTo>
                  <a:lnTo>
                    <a:pt x="3688" y="69"/>
                  </a:lnTo>
                  <a:lnTo>
                    <a:pt x="3690" y="67"/>
                  </a:lnTo>
                  <a:lnTo>
                    <a:pt x="3693" y="66"/>
                  </a:lnTo>
                  <a:lnTo>
                    <a:pt x="3695" y="65"/>
                  </a:lnTo>
                  <a:lnTo>
                    <a:pt x="3698" y="63"/>
                  </a:lnTo>
                  <a:lnTo>
                    <a:pt x="3700" y="62"/>
                  </a:lnTo>
                  <a:lnTo>
                    <a:pt x="3703" y="61"/>
                  </a:lnTo>
                  <a:lnTo>
                    <a:pt x="3705" y="60"/>
                  </a:lnTo>
                  <a:lnTo>
                    <a:pt x="3708" y="58"/>
                  </a:lnTo>
                  <a:lnTo>
                    <a:pt x="3710" y="57"/>
                  </a:lnTo>
                  <a:lnTo>
                    <a:pt x="3713" y="56"/>
                  </a:lnTo>
                  <a:lnTo>
                    <a:pt x="3715" y="54"/>
                  </a:lnTo>
                  <a:lnTo>
                    <a:pt x="3717" y="53"/>
                  </a:lnTo>
                  <a:lnTo>
                    <a:pt x="3720" y="52"/>
                  </a:lnTo>
                  <a:lnTo>
                    <a:pt x="3723" y="51"/>
                  </a:lnTo>
                  <a:lnTo>
                    <a:pt x="3725" y="49"/>
                  </a:lnTo>
                  <a:lnTo>
                    <a:pt x="3728" y="48"/>
                  </a:lnTo>
                  <a:lnTo>
                    <a:pt x="3730" y="47"/>
                  </a:lnTo>
                  <a:lnTo>
                    <a:pt x="3733" y="46"/>
                  </a:lnTo>
                  <a:lnTo>
                    <a:pt x="3735" y="45"/>
                  </a:lnTo>
                  <a:lnTo>
                    <a:pt x="3738" y="44"/>
                  </a:lnTo>
                  <a:lnTo>
                    <a:pt x="3740" y="42"/>
                  </a:lnTo>
                  <a:lnTo>
                    <a:pt x="3743" y="41"/>
                  </a:lnTo>
                  <a:lnTo>
                    <a:pt x="3745" y="40"/>
                  </a:lnTo>
                  <a:lnTo>
                    <a:pt x="3748" y="39"/>
                  </a:lnTo>
                  <a:lnTo>
                    <a:pt x="3750" y="38"/>
                  </a:lnTo>
                  <a:lnTo>
                    <a:pt x="3753" y="37"/>
                  </a:lnTo>
                  <a:lnTo>
                    <a:pt x="3755" y="36"/>
                  </a:lnTo>
                  <a:lnTo>
                    <a:pt x="3758" y="35"/>
                  </a:lnTo>
                  <a:lnTo>
                    <a:pt x="3760" y="34"/>
                  </a:lnTo>
                  <a:lnTo>
                    <a:pt x="3763" y="33"/>
                  </a:lnTo>
                  <a:lnTo>
                    <a:pt x="3765" y="32"/>
                  </a:lnTo>
                  <a:lnTo>
                    <a:pt x="3768" y="31"/>
                  </a:lnTo>
                  <a:lnTo>
                    <a:pt x="3770" y="30"/>
                  </a:lnTo>
                  <a:lnTo>
                    <a:pt x="3773" y="29"/>
                  </a:lnTo>
                  <a:lnTo>
                    <a:pt x="3775" y="28"/>
                  </a:lnTo>
                  <a:lnTo>
                    <a:pt x="3778" y="27"/>
                  </a:lnTo>
                  <a:lnTo>
                    <a:pt x="3780" y="26"/>
                  </a:lnTo>
                  <a:lnTo>
                    <a:pt x="3783" y="26"/>
                  </a:lnTo>
                  <a:lnTo>
                    <a:pt x="3785" y="25"/>
                  </a:lnTo>
                  <a:lnTo>
                    <a:pt x="3788" y="24"/>
                  </a:lnTo>
                  <a:lnTo>
                    <a:pt x="3790" y="23"/>
                  </a:lnTo>
                  <a:lnTo>
                    <a:pt x="3793" y="22"/>
                  </a:lnTo>
                  <a:lnTo>
                    <a:pt x="3795" y="21"/>
                  </a:lnTo>
                  <a:lnTo>
                    <a:pt x="3797" y="21"/>
                  </a:lnTo>
                  <a:lnTo>
                    <a:pt x="3800" y="20"/>
                  </a:lnTo>
                  <a:lnTo>
                    <a:pt x="3803" y="19"/>
                  </a:lnTo>
                  <a:lnTo>
                    <a:pt x="3805" y="18"/>
                  </a:lnTo>
                  <a:lnTo>
                    <a:pt x="3808" y="18"/>
                  </a:lnTo>
                  <a:lnTo>
                    <a:pt x="3810" y="17"/>
                  </a:lnTo>
                  <a:lnTo>
                    <a:pt x="3813" y="16"/>
                  </a:lnTo>
                  <a:lnTo>
                    <a:pt x="3815" y="15"/>
                  </a:lnTo>
                  <a:lnTo>
                    <a:pt x="3818" y="15"/>
                  </a:lnTo>
                  <a:lnTo>
                    <a:pt x="3820" y="14"/>
                  </a:lnTo>
                  <a:lnTo>
                    <a:pt x="3823" y="14"/>
                  </a:lnTo>
                  <a:lnTo>
                    <a:pt x="3825" y="13"/>
                  </a:lnTo>
                  <a:lnTo>
                    <a:pt x="3828" y="13"/>
                  </a:lnTo>
                  <a:lnTo>
                    <a:pt x="3830" y="12"/>
                  </a:lnTo>
                  <a:lnTo>
                    <a:pt x="3833" y="11"/>
                  </a:lnTo>
                  <a:lnTo>
                    <a:pt x="3835" y="11"/>
                  </a:lnTo>
                  <a:lnTo>
                    <a:pt x="3838" y="10"/>
                  </a:lnTo>
                  <a:lnTo>
                    <a:pt x="3840" y="10"/>
                  </a:lnTo>
                  <a:lnTo>
                    <a:pt x="3842" y="9"/>
                  </a:lnTo>
                  <a:lnTo>
                    <a:pt x="3845" y="9"/>
                  </a:lnTo>
                  <a:lnTo>
                    <a:pt x="3848" y="9"/>
                  </a:lnTo>
                  <a:lnTo>
                    <a:pt x="3850" y="8"/>
                  </a:lnTo>
                  <a:lnTo>
                    <a:pt x="3853" y="8"/>
                  </a:lnTo>
                  <a:lnTo>
                    <a:pt x="3855" y="7"/>
                  </a:lnTo>
                  <a:lnTo>
                    <a:pt x="3858" y="7"/>
                  </a:lnTo>
                  <a:lnTo>
                    <a:pt x="3860" y="6"/>
                  </a:lnTo>
                  <a:lnTo>
                    <a:pt x="3863" y="6"/>
                  </a:lnTo>
                  <a:lnTo>
                    <a:pt x="3865" y="6"/>
                  </a:lnTo>
                  <a:lnTo>
                    <a:pt x="3868" y="5"/>
                  </a:lnTo>
                  <a:lnTo>
                    <a:pt x="3870" y="5"/>
                  </a:lnTo>
                  <a:lnTo>
                    <a:pt x="3873" y="5"/>
                  </a:lnTo>
                  <a:lnTo>
                    <a:pt x="3875" y="4"/>
                  </a:lnTo>
                  <a:lnTo>
                    <a:pt x="3877" y="4"/>
                  </a:lnTo>
                  <a:lnTo>
                    <a:pt x="3880" y="4"/>
                  </a:lnTo>
                  <a:lnTo>
                    <a:pt x="3883" y="3"/>
                  </a:lnTo>
                  <a:lnTo>
                    <a:pt x="3885" y="3"/>
                  </a:lnTo>
                  <a:lnTo>
                    <a:pt x="3888" y="3"/>
                  </a:lnTo>
                  <a:lnTo>
                    <a:pt x="3890" y="3"/>
                  </a:lnTo>
                  <a:lnTo>
                    <a:pt x="3893" y="2"/>
                  </a:lnTo>
                  <a:lnTo>
                    <a:pt x="3895" y="2"/>
                  </a:lnTo>
                  <a:lnTo>
                    <a:pt x="3898" y="2"/>
                  </a:lnTo>
                  <a:lnTo>
                    <a:pt x="3900" y="2"/>
                  </a:lnTo>
                  <a:lnTo>
                    <a:pt x="3903" y="2"/>
                  </a:lnTo>
                  <a:lnTo>
                    <a:pt x="3905" y="1"/>
                  </a:lnTo>
                  <a:lnTo>
                    <a:pt x="3908" y="1"/>
                  </a:lnTo>
                  <a:lnTo>
                    <a:pt x="3910" y="1"/>
                  </a:lnTo>
                  <a:lnTo>
                    <a:pt x="3913" y="1"/>
                  </a:lnTo>
                  <a:lnTo>
                    <a:pt x="3915" y="1"/>
                  </a:lnTo>
                  <a:lnTo>
                    <a:pt x="3918" y="1"/>
                  </a:lnTo>
                  <a:lnTo>
                    <a:pt x="3920" y="0"/>
                  </a:lnTo>
                  <a:lnTo>
                    <a:pt x="3922" y="0"/>
                  </a:lnTo>
                  <a:lnTo>
                    <a:pt x="3925" y="0"/>
                  </a:lnTo>
                  <a:lnTo>
                    <a:pt x="3928" y="0"/>
                  </a:lnTo>
                  <a:lnTo>
                    <a:pt x="3930" y="0"/>
                  </a:lnTo>
                  <a:lnTo>
                    <a:pt x="3933" y="0"/>
                  </a:lnTo>
                  <a:lnTo>
                    <a:pt x="3935" y="0"/>
                  </a:lnTo>
                  <a:lnTo>
                    <a:pt x="3938" y="0"/>
                  </a:lnTo>
                  <a:lnTo>
                    <a:pt x="3940" y="0"/>
                  </a:lnTo>
                  <a:lnTo>
                    <a:pt x="3943" y="0"/>
                  </a:lnTo>
                  <a:lnTo>
                    <a:pt x="3945" y="0"/>
                  </a:lnTo>
                  <a:lnTo>
                    <a:pt x="3948" y="0"/>
                  </a:lnTo>
                  <a:lnTo>
                    <a:pt x="3950" y="0"/>
                  </a:lnTo>
                  <a:lnTo>
                    <a:pt x="3953" y="0"/>
                  </a:lnTo>
                  <a:lnTo>
                    <a:pt x="3955" y="0"/>
                  </a:lnTo>
                  <a:lnTo>
                    <a:pt x="3957" y="0"/>
                  </a:lnTo>
                  <a:lnTo>
                    <a:pt x="3960" y="0"/>
                  </a:lnTo>
                  <a:lnTo>
                    <a:pt x="3963" y="0"/>
                  </a:lnTo>
                  <a:lnTo>
                    <a:pt x="3965" y="0"/>
                  </a:lnTo>
                  <a:lnTo>
                    <a:pt x="3967" y="0"/>
                  </a:lnTo>
                  <a:lnTo>
                    <a:pt x="3970" y="0"/>
                  </a:lnTo>
                  <a:lnTo>
                    <a:pt x="3973" y="0"/>
                  </a:lnTo>
                  <a:lnTo>
                    <a:pt x="3975" y="0"/>
                  </a:lnTo>
                  <a:lnTo>
                    <a:pt x="3978" y="0"/>
                  </a:lnTo>
                  <a:lnTo>
                    <a:pt x="3980" y="0"/>
                  </a:lnTo>
                  <a:lnTo>
                    <a:pt x="3983" y="0"/>
                  </a:lnTo>
                  <a:lnTo>
                    <a:pt x="3985" y="1"/>
                  </a:lnTo>
                  <a:lnTo>
                    <a:pt x="3988" y="1"/>
                  </a:lnTo>
                  <a:lnTo>
                    <a:pt x="3990" y="1"/>
                  </a:lnTo>
                  <a:lnTo>
                    <a:pt x="3993" y="1"/>
                  </a:lnTo>
                  <a:lnTo>
                    <a:pt x="3995" y="1"/>
                  </a:lnTo>
                  <a:lnTo>
                    <a:pt x="3998" y="1"/>
                  </a:lnTo>
                  <a:lnTo>
                    <a:pt x="4000" y="1"/>
                  </a:lnTo>
                  <a:lnTo>
                    <a:pt x="4003" y="1"/>
                  </a:lnTo>
                  <a:lnTo>
                    <a:pt x="4005" y="2"/>
                  </a:lnTo>
                  <a:lnTo>
                    <a:pt x="4008" y="2"/>
                  </a:lnTo>
                  <a:lnTo>
                    <a:pt x="4010" y="2"/>
                  </a:lnTo>
                  <a:lnTo>
                    <a:pt x="4013" y="2"/>
                  </a:lnTo>
                  <a:lnTo>
                    <a:pt x="4015" y="2"/>
                  </a:lnTo>
                  <a:lnTo>
                    <a:pt x="4018" y="3"/>
                  </a:lnTo>
                  <a:lnTo>
                    <a:pt x="4020" y="3"/>
                  </a:lnTo>
                  <a:lnTo>
                    <a:pt x="4023" y="3"/>
                  </a:lnTo>
                  <a:lnTo>
                    <a:pt x="4025" y="3"/>
                  </a:lnTo>
                  <a:lnTo>
                    <a:pt x="4028" y="3"/>
                  </a:lnTo>
                  <a:lnTo>
                    <a:pt x="4030" y="4"/>
                  </a:lnTo>
                  <a:lnTo>
                    <a:pt x="4033" y="4"/>
                  </a:lnTo>
                  <a:lnTo>
                    <a:pt x="4035" y="4"/>
                  </a:lnTo>
                  <a:lnTo>
                    <a:pt x="4037" y="4"/>
                  </a:lnTo>
                  <a:lnTo>
                    <a:pt x="4040" y="5"/>
                  </a:lnTo>
                  <a:lnTo>
                    <a:pt x="4043" y="5"/>
                  </a:lnTo>
                  <a:lnTo>
                    <a:pt x="4045" y="5"/>
                  </a:lnTo>
                  <a:lnTo>
                    <a:pt x="4048" y="5"/>
                  </a:lnTo>
                  <a:lnTo>
                    <a:pt x="4050" y="6"/>
                  </a:lnTo>
                  <a:lnTo>
                    <a:pt x="4053" y="6"/>
                  </a:lnTo>
                  <a:lnTo>
                    <a:pt x="4055" y="6"/>
                  </a:lnTo>
                  <a:lnTo>
                    <a:pt x="4058" y="6"/>
                  </a:lnTo>
                  <a:lnTo>
                    <a:pt x="4060" y="7"/>
                  </a:lnTo>
                  <a:lnTo>
                    <a:pt x="4063" y="7"/>
                  </a:lnTo>
                  <a:lnTo>
                    <a:pt x="4065" y="7"/>
                  </a:lnTo>
                  <a:lnTo>
                    <a:pt x="4068" y="8"/>
                  </a:lnTo>
                  <a:lnTo>
                    <a:pt x="4070" y="8"/>
                  </a:lnTo>
                  <a:lnTo>
                    <a:pt x="4073" y="8"/>
                  </a:lnTo>
                  <a:lnTo>
                    <a:pt x="4075" y="9"/>
                  </a:lnTo>
                  <a:lnTo>
                    <a:pt x="4077" y="9"/>
                  </a:lnTo>
                  <a:lnTo>
                    <a:pt x="4080" y="9"/>
                  </a:lnTo>
                  <a:lnTo>
                    <a:pt x="4082" y="10"/>
                  </a:lnTo>
                  <a:lnTo>
                    <a:pt x="4085" y="10"/>
                  </a:lnTo>
                  <a:lnTo>
                    <a:pt x="4088" y="10"/>
                  </a:lnTo>
                  <a:lnTo>
                    <a:pt x="4090" y="11"/>
                  </a:lnTo>
                  <a:lnTo>
                    <a:pt x="4093" y="11"/>
                  </a:lnTo>
                  <a:lnTo>
                    <a:pt x="4095" y="12"/>
                  </a:lnTo>
                  <a:lnTo>
                    <a:pt x="4098" y="12"/>
                  </a:lnTo>
                  <a:lnTo>
                    <a:pt x="4100" y="12"/>
                  </a:lnTo>
                  <a:lnTo>
                    <a:pt x="4103" y="13"/>
                  </a:lnTo>
                  <a:lnTo>
                    <a:pt x="4105" y="13"/>
                  </a:lnTo>
                  <a:lnTo>
                    <a:pt x="4108" y="13"/>
                  </a:lnTo>
                  <a:lnTo>
                    <a:pt x="4110" y="14"/>
                  </a:lnTo>
                  <a:lnTo>
                    <a:pt x="4113" y="14"/>
                  </a:lnTo>
                  <a:lnTo>
                    <a:pt x="4115" y="15"/>
                  </a:lnTo>
                  <a:lnTo>
                    <a:pt x="4117" y="15"/>
                  </a:lnTo>
                  <a:lnTo>
                    <a:pt x="4120" y="15"/>
                  </a:lnTo>
                  <a:lnTo>
                    <a:pt x="4122" y="16"/>
                  </a:lnTo>
                  <a:lnTo>
                    <a:pt x="4125" y="16"/>
                  </a:lnTo>
                  <a:lnTo>
                    <a:pt x="4128" y="17"/>
                  </a:lnTo>
                  <a:lnTo>
                    <a:pt x="4130" y="17"/>
                  </a:lnTo>
                  <a:lnTo>
                    <a:pt x="4133" y="17"/>
                  </a:lnTo>
                  <a:lnTo>
                    <a:pt x="4135" y="18"/>
                  </a:lnTo>
                  <a:lnTo>
                    <a:pt x="4138" y="18"/>
                  </a:lnTo>
                  <a:lnTo>
                    <a:pt x="4140" y="19"/>
                  </a:lnTo>
                  <a:lnTo>
                    <a:pt x="4143" y="19"/>
                  </a:lnTo>
                  <a:lnTo>
                    <a:pt x="4145" y="20"/>
                  </a:lnTo>
                  <a:lnTo>
                    <a:pt x="4148" y="20"/>
                  </a:lnTo>
                  <a:lnTo>
                    <a:pt x="4150" y="20"/>
                  </a:lnTo>
                  <a:lnTo>
                    <a:pt x="4153" y="21"/>
                  </a:lnTo>
                  <a:lnTo>
                    <a:pt x="4155" y="21"/>
                  </a:lnTo>
                  <a:lnTo>
                    <a:pt x="4157" y="22"/>
                  </a:lnTo>
                  <a:lnTo>
                    <a:pt x="4160" y="22"/>
                  </a:lnTo>
                  <a:lnTo>
                    <a:pt x="4162" y="23"/>
                  </a:lnTo>
                  <a:lnTo>
                    <a:pt x="4165" y="23"/>
                  </a:lnTo>
                  <a:lnTo>
                    <a:pt x="4168" y="24"/>
                  </a:lnTo>
                  <a:lnTo>
                    <a:pt x="4170" y="24"/>
                  </a:lnTo>
                  <a:lnTo>
                    <a:pt x="4173" y="24"/>
                  </a:lnTo>
                  <a:lnTo>
                    <a:pt x="4175" y="25"/>
                  </a:lnTo>
                  <a:lnTo>
                    <a:pt x="4178" y="25"/>
                  </a:lnTo>
                  <a:lnTo>
                    <a:pt x="4180" y="26"/>
                  </a:lnTo>
                  <a:lnTo>
                    <a:pt x="4183" y="26"/>
                  </a:lnTo>
                  <a:lnTo>
                    <a:pt x="4185" y="27"/>
                  </a:lnTo>
                  <a:lnTo>
                    <a:pt x="4188" y="27"/>
                  </a:lnTo>
                  <a:lnTo>
                    <a:pt x="4190" y="28"/>
                  </a:lnTo>
                  <a:lnTo>
                    <a:pt x="4193" y="28"/>
                  </a:lnTo>
                  <a:lnTo>
                    <a:pt x="4195" y="29"/>
                  </a:lnTo>
                  <a:lnTo>
                    <a:pt x="4198" y="29"/>
                  </a:lnTo>
                  <a:lnTo>
                    <a:pt x="4200" y="30"/>
                  </a:lnTo>
                  <a:lnTo>
                    <a:pt x="4203" y="30"/>
                  </a:lnTo>
                  <a:lnTo>
                    <a:pt x="4205" y="31"/>
                  </a:lnTo>
                  <a:lnTo>
                    <a:pt x="4208" y="31"/>
                  </a:lnTo>
                  <a:lnTo>
                    <a:pt x="4210" y="32"/>
                  </a:lnTo>
                  <a:lnTo>
                    <a:pt x="4213" y="32"/>
                  </a:lnTo>
                  <a:lnTo>
                    <a:pt x="4215" y="33"/>
                  </a:lnTo>
                  <a:lnTo>
                    <a:pt x="4218" y="33"/>
                  </a:lnTo>
                  <a:lnTo>
                    <a:pt x="4220" y="34"/>
                  </a:lnTo>
                  <a:lnTo>
                    <a:pt x="4223" y="34"/>
                  </a:lnTo>
                  <a:lnTo>
                    <a:pt x="4225" y="35"/>
                  </a:lnTo>
                  <a:lnTo>
                    <a:pt x="4228" y="35"/>
                  </a:lnTo>
                  <a:lnTo>
                    <a:pt x="4230" y="36"/>
                  </a:lnTo>
                  <a:lnTo>
                    <a:pt x="4233" y="36"/>
                  </a:lnTo>
                  <a:lnTo>
                    <a:pt x="4235" y="37"/>
                  </a:lnTo>
                  <a:lnTo>
                    <a:pt x="4238" y="37"/>
                  </a:lnTo>
                  <a:lnTo>
                    <a:pt x="4240" y="38"/>
                  </a:lnTo>
                  <a:lnTo>
                    <a:pt x="4243" y="38"/>
                  </a:lnTo>
                  <a:lnTo>
                    <a:pt x="4245" y="39"/>
                  </a:lnTo>
                  <a:lnTo>
                    <a:pt x="4248" y="39"/>
                  </a:lnTo>
                  <a:lnTo>
                    <a:pt x="4250" y="40"/>
                  </a:lnTo>
                  <a:lnTo>
                    <a:pt x="4253" y="41"/>
                  </a:lnTo>
                  <a:lnTo>
                    <a:pt x="4255" y="41"/>
                  </a:lnTo>
                  <a:lnTo>
                    <a:pt x="4258" y="42"/>
                  </a:lnTo>
                  <a:lnTo>
                    <a:pt x="4260" y="42"/>
                  </a:lnTo>
                  <a:lnTo>
                    <a:pt x="4263" y="43"/>
                  </a:lnTo>
                  <a:lnTo>
                    <a:pt x="4265" y="43"/>
                  </a:lnTo>
                  <a:lnTo>
                    <a:pt x="4268" y="44"/>
                  </a:lnTo>
                  <a:lnTo>
                    <a:pt x="4270" y="44"/>
                  </a:lnTo>
                  <a:lnTo>
                    <a:pt x="4273" y="45"/>
                  </a:lnTo>
                  <a:lnTo>
                    <a:pt x="4275" y="45"/>
                  </a:lnTo>
                  <a:lnTo>
                    <a:pt x="4278" y="46"/>
                  </a:lnTo>
                  <a:lnTo>
                    <a:pt x="4280" y="46"/>
                  </a:lnTo>
                  <a:lnTo>
                    <a:pt x="4283" y="47"/>
                  </a:lnTo>
                  <a:lnTo>
                    <a:pt x="4285" y="48"/>
                  </a:lnTo>
                  <a:lnTo>
                    <a:pt x="4288" y="48"/>
                  </a:lnTo>
                  <a:lnTo>
                    <a:pt x="4290" y="49"/>
                  </a:lnTo>
                  <a:lnTo>
                    <a:pt x="4293" y="49"/>
                  </a:lnTo>
                  <a:lnTo>
                    <a:pt x="4295" y="50"/>
                  </a:lnTo>
                  <a:lnTo>
                    <a:pt x="4298" y="50"/>
                  </a:lnTo>
                  <a:lnTo>
                    <a:pt x="4300" y="51"/>
                  </a:lnTo>
                  <a:lnTo>
                    <a:pt x="4303" y="51"/>
                  </a:lnTo>
                  <a:lnTo>
                    <a:pt x="4305" y="52"/>
                  </a:lnTo>
                  <a:lnTo>
                    <a:pt x="4308" y="52"/>
                  </a:lnTo>
                  <a:lnTo>
                    <a:pt x="4310" y="53"/>
                  </a:lnTo>
                  <a:lnTo>
                    <a:pt x="4313" y="54"/>
                  </a:lnTo>
                  <a:lnTo>
                    <a:pt x="4315" y="54"/>
                  </a:lnTo>
                  <a:lnTo>
                    <a:pt x="4318" y="55"/>
                  </a:lnTo>
                  <a:lnTo>
                    <a:pt x="4320" y="55"/>
                  </a:lnTo>
                  <a:lnTo>
                    <a:pt x="4323" y="56"/>
                  </a:lnTo>
                  <a:lnTo>
                    <a:pt x="4325" y="56"/>
                  </a:lnTo>
                  <a:lnTo>
                    <a:pt x="4328" y="57"/>
                  </a:lnTo>
                  <a:lnTo>
                    <a:pt x="4330" y="57"/>
                  </a:lnTo>
                  <a:lnTo>
                    <a:pt x="4333" y="58"/>
                  </a:lnTo>
                  <a:lnTo>
                    <a:pt x="4335" y="59"/>
                  </a:lnTo>
                  <a:lnTo>
                    <a:pt x="4338" y="59"/>
                  </a:lnTo>
                  <a:lnTo>
                    <a:pt x="4340" y="60"/>
                  </a:lnTo>
                  <a:lnTo>
                    <a:pt x="4343" y="60"/>
                  </a:lnTo>
                  <a:lnTo>
                    <a:pt x="4345" y="61"/>
                  </a:lnTo>
                  <a:lnTo>
                    <a:pt x="4348" y="61"/>
                  </a:lnTo>
                  <a:lnTo>
                    <a:pt x="4350" y="62"/>
                  </a:lnTo>
                  <a:lnTo>
                    <a:pt x="4353" y="62"/>
                  </a:lnTo>
                  <a:lnTo>
                    <a:pt x="4355" y="63"/>
                  </a:lnTo>
                  <a:lnTo>
                    <a:pt x="4358" y="64"/>
                  </a:lnTo>
                  <a:lnTo>
                    <a:pt x="4360" y="64"/>
                  </a:lnTo>
                  <a:lnTo>
                    <a:pt x="4363" y="65"/>
                  </a:lnTo>
                  <a:lnTo>
                    <a:pt x="4365" y="65"/>
                  </a:lnTo>
                  <a:lnTo>
                    <a:pt x="4368" y="66"/>
                  </a:lnTo>
                  <a:lnTo>
                    <a:pt x="4370" y="66"/>
                  </a:lnTo>
                  <a:lnTo>
                    <a:pt x="4373" y="67"/>
                  </a:lnTo>
                  <a:lnTo>
                    <a:pt x="4375" y="68"/>
                  </a:lnTo>
                  <a:lnTo>
                    <a:pt x="4378" y="68"/>
                  </a:lnTo>
                  <a:lnTo>
                    <a:pt x="4380" y="69"/>
                  </a:lnTo>
                  <a:lnTo>
                    <a:pt x="4383" y="69"/>
                  </a:lnTo>
                  <a:lnTo>
                    <a:pt x="4385" y="70"/>
                  </a:lnTo>
                  <a:lnTo>
                    <a:pt x="4388" y="70"/>
                  </a:lnTo>
                  <a:lnTo>
                    <a:pt x="4390" y="71"/>
                  </a:lnTo>
                  <a:lnTo>
                    <a:pt x="4393" y="72"/>
                  </a:lnTo>
                  <a:lnTo>
                    <a:pt x="4395" y="72"/>
                  </a:lnTo>
                  <a:lnTo>
                    <a:pt x="4398" y="73"/>
                  </a:lnTo>
                  <a:lnTo>
                    <a:pt x="4400" y="73"/>
                  </a:lnTo>
                  <a:lnTo>
                    <a:pt x="4403" y="74"/>
                  </a:lnTo>
                  <a:lnTo>
                    <a:pt x="4405" y="74"/>
                  </a:lnTo>
                  <a:lnTo>
                    <a:pt x="4408" y="75"/>
                  </a:lnTo>
                  <a:lnTo>
                    <a:pt x="4410" y="76"/>
                  </a:lnTo>
                  <a:lnTo>
                    <a:pt x="4413" y="76"/>
                  </a:lnTo>
                  <a:lnTo>
                    <a:pt x="4415" y="77"/>
                  </a:lnTo>
                  <a:lnTo>
                    <a:pt x="4418" y="77"/>
                  </a:lnTo>
                  <a:lnTo>
                    <a:pt x="4420" y="78"/>
                  </a:lnTo>
                  <a:lnTo>
                    <a:pt x="4423" y="79"/>
                  </a:lnTo>
                  <a:lnTo>
                    <a:pt x="4425" y="79"/>
                  </a:lnTo>
                  <a:lnTo>
                    <a:pt x="4428" y="80"/>
                  </a:lnTo>
                  <a:lnTo>
                    <a:pt x="4430" y="80"/>
                  </a:lnTo>
                  <a:lnTo>
                    <a:pt x="4433" y="81"/>
                  </a:lnTo>
                  <a:lnTo>
                    <a:pt x="4435" y="81"/>
                  </a:lnTo>
                  <a:lnTo>
                    <a:pt x="4438" y="82"/>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048" name=""/>
            <p:cNvSpPr/>
            <p:nvPr/>
          </p:nvSpPr>
          <p:spPr>
            <a:xfrm flipV="1">
              <a:off x="1760040" y="4728240"/>
              <a:ext cx="6363000" cy="689040"/>
            </a:xfrm>
            <a:custGeom>
              <a:avLst/>
              <a:gdLst/>
              <a:ahLst/>
              <a:rect l="l" t="t" r="r" b="b"/>
              <a:pathLst>
                <a:path w="4438" h="764">
                  <a:moveTo>
                    <a:pt x="0" y="0"/>
                  </a:moveTo>
                  <a:lnTo>
                    <a:pt x="3" y="1"/>
                  </a:lnTo>
                  <a:lnTo>
                    <a:pt x="5" y="1"/>
                  </a:lnTo>
                  <a:lnTo>
                    <a:pt x="8" y="1"/>
                  </a:lnTo>
                  <a:lnTo>
                    <a:pt x="10" y="2"/>
                  </a:lnTo>
                  <a:lnTo>
                    <a:pt x="13" y="2"/>
                  </a:lnTo>
                  <a:lnTo>
                    <a:pt x="15" y="2"/>
                  </a:lnTo>
                  <a:lnTo>
                    <a:pt x="18" y="3"/>
                  </a:lnTo>
                  <a:lnTo>
                    <a:pt x="20" y="3"/>
                  </a:lnTo>
                  <a:lnTo>
                    <a:pt x="23" y="3"/>
                  </a:lnTo>
                  <a:lnTo>
                    <a:pt x="25" y="4"/>
                  </a:lnTo>
                  <a:lnTo>
                    <a:pt x="28" y="4"/>
                  </a:lnTo>
                  <a:lnTo>
                    <a:pt x="30" y="5"/>
                  </a:lnTo>
                  <a:lnTo>
                    <a:pt x="33" y="5"/>
                  </a:lnTo>
                  <a:lnTo>
                    <a:pt x="35" y="5"/>
                  </a:lnTo>
                  <a:lnTo>
                    <a:pt x="38" y="6"/>
                  </a:lnTo>
                  <a:lnTo>
                    <a:pt x="40" y="6"/>
                  </a:lnTo>
                  <a:lnTo>
                    <a:pt x="43" y="6"/>
                  </a:lnTo>
                  <a:lnTo>
                    <a:pt x="45" y="7"/>
                  </a:lnTo>
                  <a:lnTo>
                    <a:pt x="48" y="7"/>
                  </a:lnTo>
                  <a:lnTo>
                    <a:pt x="50" y="8"/>
                  </a:lnTo>
                  <a:lnTo>
                    <a:pt x="53" y="8"/>
                  </a:lnTo>
                  <a:lnTo>
                    <a:pt x="55" y="8"/>
                  </a:lnTo>
                  <a:lnTo>
                    <a:pt x="58" y="9"/>
                  </a:lnTo>
                  <a:lnTo>
                    <a:pt x="60" y="9"/>
                  </a:lnTo>
                  <a:lnTo>
                    <a:pt x="63" y="10"/>
                  </a:lnTo>
                  <a:lnTo>
                    <a:pt x="65" y="10"/>
                  </a:lnTo>
                  <a:lnTo>
                    <a:pt x="68" y="11"/>
                  </a:lnTo>
                  <a:lnTo>
                    <a:pt x="70" y="11"/>
                  </a:lnTo>
                  <a:lnTo>
                    <a:pt x="73" y="12"/>
                  </a:lnTo>
                  <a:lnTo>
                    <a:pt x="75" y="12"/>
                  </a:lnTo>
                  <a:lnTo>
                    <a:pt x="78" y="13"/>
                  </a:lnTo>
                  <a:lnTo>
                    <a:pt x="80" y="13"/>
                  </a:lnTo>
                  <a:lnTo>
                    <a:pt x="83" y="14"/>
                  </a:lnTo>
                  <a:lnTo>
                    <a:pt x="85" y="14"/>
                  </a:lnTo>
                  <a:lnTo>
                    <a:pt x="88" y="15"/>
                  </a:lnTo>
                  <a:lnTo>
                    <a:pt x="90" y="15"/>
                  </a:lnTo>
                  <a:lnTo>
                    <a:pt x="93" y="16"/>
                  </a:lnTo>
                  <a:lnTo>
                    <a:pt x="95" y="16"/>
                  </a:lnTo>
                  <a:lnTo>
                    <a:pt x="98" y="17"/>
                  </a:lnTo>
                  <a:lnTo>
                    <a:pt x="100" y="18"/>
                  </a:lnTo>
                  <a:lnTo>
                    <a:pt x="103" y="18"/>
                  </a:lnTo>
                  <a:lnTo>
                    <a:pt x="105" y="19"/>
                  </a:lnTo>
                  <a:lnTo>
                    <a:pt x="108" y="19"/>
                  </a:lnTo>
                  <a:lnTo>
                    <a:pt x="110" y="20"/>
                  </a:lnTo>
                  <a:lnTo>
                    <a:pt x="113" y="20"/>
                  </a:lnTo>
                  <a:lnTo>
                    <a:pt x="115" y="21"/>
                  </a:lnTo>
                  <a:lnTo>
                    <a:pt x="118" y="22"/>
                  </a:lnTo>
                  <a:lnTo>
                    <a:pt x="120" y="22"/>
                  </a:lnTo>
                  <a:lnTo>
                    <a:pt x="123" y="23"/>
                  </a:lnTo>
                  <a:lnTo>
                    <a:pt x="125" y="23"/>
                  </a:lnTo>
                  <a:lnTo>
                    <a:pt x="128" y="24"/>
                  </a:lnTo>
                  <a:lnTo>
                    <a:pt x="130" y="25"/>
                  </a:lnTo>
                  <a:lnTo>
                    <a:pt x="133" y="25"/>
                  </a:lnTo>
                  <a:lnTo>
                    <a:pt x="135" y="26"/>
                  </a:lnTo>
                  <a:lnTo>
                    <a:pt x="138" y="26"/>
                  </a:lnTo>
                  <a:lnTo>
                    <a:pt x="140" y="27"/>
                  </a:lnTo>
                  <a:lnTo>
                    <a:pt x="143" y="28"/>
                  </a:lnTo>
                  <a:lnTo>
                    <a:pt x="145" y="28"/>
                  </a:lnTo>
                  <a:lnTo>
                    <a:pt x="148" y="29"/>
                  </a:lnTo>
                  <a:lnTo>
                    <a:pt x="150" y="30"/>
                  </a:lnTo>
                  <a:lnTo>
                    <a:pt x="153" y="30"/>
                  </a:lnTo>
                  <a:lnTo>
                    <a:pt x="155" y="31"/>
                  </a:lnTo>
                  <a:lnTo>
                    <a:pt x="158" y="31"/>
                  </a:lnTo>
                  <a:lnTo>
                    <a:pt x="160" y="32"/>
                  </a:lnTo>
                  <a:lnTo>
                    <a:pt x="163" y="33"/>
                  </a:lnTo>
                  <a:lnTo>
                    <a:pt x="165" y="33"/>
                  </a:lnTo>
                  <a:lnTo>
                    <a:pt x="168" y="34"/>
                  </a:lnTo>
                  <a:lnTo>
                    <a:pt x="170" y="35"/>
                  </a:lnTo>
                  <a:lnTo>
                    <a:pt x="173" y="35"/>
                  </a:lnTo>
                  <a:lnTo>
                    <a:pt x="175" y="36"/>
                  </a:lnTo>
                  <a:lnTo>
                    <a:pt x="178" y="37"/>
                  </a:lnTo>
                  <a:lnTo>
                    <a:pt x="180" y="37"/>
                  </a:lnTo>
                  <a:lnTo>
                    <a:pt x="183" y="38"/>
                  </a:lnTo>
                  <a:lnTo>
                    <a:pt x="185" y="38"/>
                  </a:lnTo>
                  <a:lnTo>
                    <a:pt x="188" y="39"/>
                  </a:lnTo>
                  <a:lnTo>
                    <a:pt x="190" y="40"/>
                  </a:lnTo>
                  <a:lnTo>
                    <a:pt x="193" y="40"/>
                  </a:lnTo>
                  <a:lnTo>
                    <a:pt x="195" y="41"/>
                  </a:lnTo>
                  <a:lnTo>
                    <a:pt x="198" y="42"/>
                  </a:lnTo>
                  <a:lnTo>
                    <a:pt x="200" y="42"/>
                  </a:lnTo>
                  <a:lnTo>
                    <a:pt x="203" y="43"/>
                  </a:lnTo>
                  <a:lnTo>
                    <a:pt x="205" y="43"/>
                  </a:lnTo>
                  <a:lnTo>
                    <a:pt x="208" y="44"/>
                  </a:lnTo>
                  <a:lnTo>
                    <a:pt x="210" y="45"/>
                  </a:lnTo>
                  <a:lnTo>
                    <a:pt x="213" y="45"/>
                  </a:lnTo>
                  <a:lnTo>
                    <a:pt x="215" y="46"/>
                  </a:lnTo>
                  <a:lnTo>
                    <a:pt x="218" y="47"/>
                  </a:lnTo>
                  <a:lnTo>
                    <a:pt x="220" y="47"/>
                  </a:lnTo>
                  <a:lnTo>
                    <a:pt x="223" y="48"/>
                  </a:lnTo>
                  <a:lnTo>
                    <a:pt x="225" y="48"/>
                  </a:lnTo>
                  <a:lnTo>
                    <a:pt x="228" y="49"/>
                  </a:lnTo>
                  <a:lnTo>
                    <a:pt x="230" y="50"/>
                  </a:lnTo>
                  <a:lnTo>
                    <a:pt x="233" y="50"/>
                  </a:lnTo>
                  <a:lnTo>
                    <a:pt x="235" y="51"/>
                  </a:lnTo>
                  <a:lnTo>
                    <a:pt x="238" y="52"/>
                  </a:lnTo>
                  <a:lnTo>
                    <a:pt x="240" y="52"/>
                  </a:lnTo>
                  <a:lnTo>
                    <a:pt x="243" y="53"/>
                  </a:lnTo>
                  <a:lnTo>
                    <a:pt x="245" y="53"/>
                  </a:lnTo>
                  <a:lnTo>
                    <a:pt x="248" y="54"/>
                  </a:lnTo>
                  <a:lnTo>
                    <a:pt x="250" y="55"/>
                  </a:lnTo>
                  <a:lnTo>
                    <a:pt x="253" y="55"/>
                  </a:lnTo>
                  <a:lnTo>
                    <a:pt x="255" y="56"/>
                  </a:lnTo>
                  <a:lnTo>
                    <a:pt x="258" y="57"/>
                  </a:lnTo>
                  <a:lnTo>
                    <a:pt x="260" y="57"/>
                  </a:lnTo>
                  <a:lnTo>
                    <a:pt x="263" y="58"/>
                  </a:lnTo>
                  <a:lnTo>
                    <a:pt x="265" y="59"/>
                  </a:lnTo>
                  <a:lnTo>
                    <a:pt x="268" y="59"/>
                  </a:lnTo>
                  <a:lnTo>
                    <a:pt x="270" y="60"/>
                  </a:lnTo>
                  <a:lnTo>
                    <a:pt x="273" y="61"/>
                  </a:lnTo>
                  <a:lnTo>
                    <a:pt x="275" y="61"/>
                  </a:lnTo>
                  <a:lnTo>
                    <a:pt x="278" y="62"/>
                  </a:lnTo>
                  <a:lnTo>
                    <a:pt x="280" y="63"/>
                  </a:lnTo>
                  <a:lnTo>
                    <a:pt x="283" y="63"/>
                  </a:lnTo>
                  <a:lnTo>
                    <a:pt x="285" y="64"/>
                  </a:lnTo>
                  <a:lnTo>
                    <a:pt x="288" y="65"/>
                  </a:lnTo>
                  <a:lnTo>
                    <a:pt x="290" y="65"/>
                  </a:lnTo>
                  <a:lnTo>
                    <a:pt x="293" y="66"/>
                  </a:lnTo>
                  <a:lnTo>
                    <a:pt x="295" y="66"/>
                  </a:lnTo>
                  <a:lnTo>
                    <a:pt x="298" y="67"/>
                  </a:lnTo>
                  <a:lnTo>
                    <a:pt x="300" y="67"/>
                  </a:lnTo>
                  <a:lnTo>
                    <a:pt x="303" y="68"/>
                  </a:lnTo>
                  <a:lnTo>
                    <a:pt x="305" y="68"/>
                  </a:lnTo>
                  <a:lnTo>
                    <a:pt x="308" y="69"/>
                  </a:lnTo>
                  <a:lnTo>
                    <a:pt x="310" y="69"/>
                  </a:lnTo>
                  <a:lnTo>
                    <a:pt x="313" y="69"/>
                  </a:lnTo>
                  <a:lnTo>
                    <a:pt x="315" y="70"/>
                  </a:lnTo>
                  <a:lnTo>
                    <a:pt x="318" y="70"/>
                  </a:lnTo>
                  <a:lnTo>
                    <a:pt x="320" y="71"/>
                  </a:lnTo>
                  <a:lnTo>
                    <a:pt x="323" y="71"/>
                  </a:lnTo>
                  <a:lnTo>
                    <a:pt x="325" y="72"/>
                  </a:lnTo>
                  <a:lnTo>
                    <a:pt x="328" y="72"/>
                  </a:lnTo>
                  <a:lnTo>
                    <a:pt x="330" y="72"/>
                  </a:lnTo>
                  <a:lnTo>
                    <a:pt x="333" y="73"/>
                  </a:lnTo>
                  <a:lnTo>
                    <a:pt x="335" y="73"/>
                  </a:lnTo>
                  <a:lnTo>
                    <a:pt x="338" y="73"/>
                  </a:lnTo>
                  <a:lnTo>
                    <a:pt x="340" y="74"/>
                  </a:lnTo>
                  <a:lnTo>
                    <a:pt x="343" y="74"/>
                  </a:lnTo>
                  <a:lnTo>
                    <a:pt x="345" y="74"/>
                  </a:lnTo>
                  <a:lnTo>
                    <a:pt x="348" y="74"/>
                  </a:lnTo>
                  <a:lnTo>
                    <a:pt x="350" y="75"/>
                  </a:lnTo>
                  <a:lnTo>
                    <a:pt x="353" y="75"/>
                  </a:lnTo>
                  <a:lnTo>
                    <a:pt x="355" y="75"/>
                  </a:lnTo>
                  <a:lnTo>
                    <a:pt x="358" y="76"/>
                  </a:lnTo>
                  <a:lnTo>
                    <a:pt x="360" y="76"/>
                  </a:lnTo>
                  <a:lnTo>
                    <a:pt x="363" y="76"/>
                  </a:lnTo>
                  <a:lnTo>
                    <a:pt x="365" y="77"/>
                  </a:lnTo>
                  <a:lnTo>
                    <a:pt x="368" y="77"/>
                  </a:lnTo>
                  <a:lnTo>
                    <a:pt x="370" y="78"/>
                  </a:lnTo>
                  <a:lnTo>
                    <a:pt x="373" y="78"/>
                  </a:lnTo>
                  <a:lnTo>
                    <a:pt x="375" y="79"/>
                  </a:lnTo>
                  <a:lnTo>
                    <a:pt x="378" y="79"/>
                  </a:lnTo>
                  <a:lnTo>
                    <a:pt x="380" y="80"/>
                  </a:lnTo>
                  <a:lnTo>
                    <a:pt x="383" y="81"/>
                  </a:lnTo>
                  <a:lnTo>
                    <a:pt x="385" y="82"/>
                  </a:lnTo>
                  <a:lnTo>
                    <a:pt x="388" y="82"/>
                  </a:lnTo>
                  <a:lnTo>
                    <a:pt x="390" y="83"/>
                  </a:lnTo>
                  <a:lnTo>
                    <a:pt x="393" y="84"/>
                  </a:lnTo>
                  <a:lnTo>
                    <a:pt x="395" y="85"/>
                  </a:lnTo>
                  <a:lnTo>
                    <a:pt x="398" y="86"/>
                  </a:lnTo>
                  <a:lnTo>
                    <a:pt x="400" y="87"/>
                  </a:lnTo>
                  <a:lnTo>
                    <a:pt x="403" y="88"/>
                  </a:lnTo>
                  <a:lnTo>
                    <a:pt x="405" y="89"/>
                  </a:lnTo>
                  <a:lnTo>
                    <a:pt x="408" y="90"/>
                  </a:lnTo>
                  <a:lnTo>
                    <a:pt x="410" y="91"/>
                  </a:lnTo>
                  <a:lnTo>
                    <a:pt x="413" y="93"/>
                  </a:lnTo>
                  <a:lnTo>
                    <a:pt x="415" y="94"/>
                  </a:lnTo>
                  <a:lnTo>
                    <a:pt x="418" y="95"/>
                  </a:lnTo>
                  <a:lnTo>
                    <a:pt x="420" y="97"/>
                  </a:lnTo>
                  <a:lnTo>
                    <a:pt x="423" y="98"/>
                  </a:lnTo>
                  <a:lnTo>
                    <a:pt x="425" y="99"/>
                  </a:lnTo>
                  <a:lnTo>
                    <a:pt x="428" y="101"/>
                  </a:lnTo>
                  <a:lnTo>
                    <a:pt x="430" y="102"/>
                  </a:lnTo>
                  <a:lnTo>
                    <a:pt x="433" y="104"/>
                  </a:lnTo>
                  <a:lnTo>
                    <a:pt x="435" y="106"/>
                  </a:lnTo>
                  <a:lnTo>
                    <a:pt x="438" y="107"/>
                  </a:lnTo>
                  <a:lnTo>
                    <a:pt x="440" y="109"/>
                  </a:lnTo>
                  <a:lnTo>
                    <a:pt x="443" y="111"/>
                  </a:lnTo>
                  <a:lnTo>
                    <a:pt x="445" y="114"/>
                  </a:lnTo>
                  <a:lnTo>
                    <a:pt x="448" y="116"/>
                  </a:lnTo>
                  <a:lnTo>
                    <a:pt x="450" y="118"/>
                  </a:lnTo>
                  <a:lnTo>
                    <a:pt x="453" y="120"/>
                  </a:lnTo>
                  <a:lnTo>
                    <a:pt x="455" y="123"/>
                  </a:lnTo>
                  <a:lnTo>
                    <a:pt x="458" y="125"/>
                  </a:lnTo>
                  <a:lnTo>
                    <a:pt x="460" y="127"/>
                  </a:lnTo>
                  <a:lnTo>
                    <a:pt x="463" y="130"/>
                  </a:lnTo>
                  <a:lnTo>
                    <a:pt x="465" y="133"/>
                  </a:lnTo>
                  <a:lnTo>
                    <a:pt x="468" y="135"/>
                  </a:lnTo>
                  <a:lnTo>
                    <a:pt x="470" y="138"/>
                  </a:lnTo>
                  <a:lnTo>
                    <a:pt x="473" y="141"/>
                  </a:lnTo>
                  <a:lnTo>
                    <a:pt x="475" y="144"/>
                  </a:lnTo>
                  <a:lnTo>
                    <a:pt x="478" y="147"/>
                  </a:lnTo>
                  <a:lnTo>
                    <a:pt x="480" y="150"/>
                  </a:lnTo>
                  <a:lnTo>
                    <a:pt x="483" y="153"/>
                  </a:lnTo>
                  <a:lnTo>
                    <a:pt x="485" y="156"/>
                  </a:lnTo>
                  <a:lnTo>
                    <a:pt x="488" y="159"/>
                  </a:lnTo>
                  <a:lnTo>
                    <a:pt x="490" y="162"/>
                  </a:lnTo>
                  <a:lnTo>
                    <a:pt x="493" y="166"/>
                  </a:lnTo>
                  <a:lnTo>
                    <a:pt x="495" y="169"/>
                  </a:lnTo>
                  <a:lnTo>
                    <a:pt x="498" y="173"/>
                  </a:lnTo>
                  <a:lnTo>
                    <a:pt x="500" y="177"/>
                  </a:lnTo>
                  <a:lnTo>
                    <a:pt x="503" y="181"/>
                  </a:lnTo>
                  <a:lnTo>
                    <a:pt x="505" y="185"/>
                  </a:lnTo>
                  <a:lnTo>
                    <a:pt x="508" y="189"/>
                  </a:lnTo>
                  <a:lnTo>
                    <a:pt x="510" y="193"/>
                  </a:lnTo>
                  <a:lnTo>
                    <a:pt x="513" y="197"/>
                  </a:lnTo>
                  <a:lnTo>
                    <a:pt x="515" y="201"/>
                  </a:lnTo>
                  <a:lnTo>
                    <a:pt x="518" y="206"/>
                  </a:lnTo>
                  <a:lnTo>
                    <a:pt x="520" y="210"/>
                  </a:lnTo>
                  <a:lnTo>
                    <a:pt x="523" y="215"/>
                  </a:lnTo>
                  <a:lnTo>
                    <a:pt x="525" y="219"/>
                  </a:lnTo>
                  <a:lnTo>
                    <a:pt x="528" y="224"/>
                  </a:lnTo>
                  <a:lnTo>
                    <a:pt x="530" y="229"/>
                  </a:lnTo>
                  <a:lnTo>
                    <a:pt x="533" y="233"/>
                  </a:lnTo>
                  <a:lnTo>
                    <a:pt x="535" y="238"/>
                  </a:lnTo>
                  <a:lnTo>
                    <a:pt x="538" y="243"/>
                  </a:lnTo>
                  <a:lnTo>
                    <a:pt x="540" y="248"/>
                  </a:lnTo>
                  <a:lnTo>
                    <a:pt x="543" y="253"/>
                  </a:lnTo>
                  <a:lnTo>
                    <a:pt x="545" y="258"/>
                  </a:lnTo>
                  <a:lnTo>
                    <a:pt x="548" y="263"/>
                  </a:lnTo>
                  <a:lnTo>
                    <a:pt x="550" y="268"/>
                  </a:lnTo>
                  <a:lnTo>
                    <a:pt x="553" y="273"/>
                  </a:lnTo>
                  <a:lnTo>
                    <a:pt x="555" y="278"/>
                  </a:lnTo>
                  <a:lnTo>
                    <a:pt x="558" y="283"/>
                  </a:lnTo>
                  <a:lnTo>
                    <a:pt x="560" y="288"/>
                  </a:lnTo>
                  <a:lnTo>
                    <a:pt x="563" y="293"/>
                  </a:lnTo>
                  <a:lnTo>
                    <a:pt x="565" y="299"/>
                  </a:lnTo>
                  <a:lnTo>
                    <a:pt x="568" y="304"/>
                  </a:lnTo>
                  <a:lnTo>
                    <a:pt x="570" y="309"/>
                  </a:lnTo>
                  <a:lnTo>
                    <a:pt x="573" y="315"/>
                  </a:lnTo>
                  <a:lnTo>
                    <a:pt x="575" y="320"/>
                  </a:lnTo>
                  <a:lnTo>
                    <a:pt x="578" y="325"/>
                  </a:lnTo>
                  <a:lnTo>
                    <a:pt x="580" y="331"/>
                  </a:lnTo>
                  <a:lnTo>
                    <a:pt x="583" y="336"/>
                  </a:lnTo>
                  <a:lnTo>
                    <a:pt x="585" y="341"/>
                  </a:lnTo>
                  <a:lnTo>
                    <a:pt x="588" y="347"/>
                  </a:lnTo>
                  <a:lnTo>
                    <a:pt x="590" y="352"/>
                  </a:lnTo>
                  <a:lnTo>
                    <a:pt x="593" y="357"/>
                  </a:lnTo>
                  <a:lnTo>
                    <a:pt x="595" y="363"/>
                  </a:lnTo>
                  <a:lnTo>
                    <a:pt x="598" y="368"/>
                  </a:lnTo>
                  <a:lnTo>
                    <a:pt x="600" y="373"/>
                  </a:lnTo>
                  <a:lnTo>
                    <a:pt x="603" y="379"/>
                  </a:lnTo>
                  <a:lnTo>
                    <a:pt x="605" y="384"/>
                  </a:lnTo>
                  <a:lnTo>
                    <a:pt x="608" y="389"/>
                  </a:lnTo>
                  <a:lnTo>
                    <a:pt x="610" y="394"/>
                  </a:lnTo>
                  <a:lnTo>
                    <a:pt x="613" y="399"/>
                  </a:lnTo>
                  <a:lnTo>
                    <a:pt x="615" y="405"/>
                  </a:lnTo>
                  <a:lnTo>
                    <a:pt x="618" y="410"/>
                  </a:lnTo>
                  <a:lnTo>
                    <a:pt x="620" y="415"/>
                  </a:lnTo>
                  <a:lnTo>
                    <a:pt x="623" y="420"/>
                  </a:lnTo>
                  <a:lnTo>
                    <a:pt x="625" y="425"/>
                  </a:lnTo>
                  <a:lnTo>
                    <a:pt x="628" y="430"/>
                  </a:lnTo>
                  <a:lnTo>
                    <a:pt x="630" y="434"/>
                  </a:lnTo>
                  <a:lnTo>
                    <a:pt x="633" y="439"/>
                  </a:lnTo>
                  <a:lnTo>
                    <a:pt x="635" y="444"/>
                  </a:lnTo>
                  <a:lnTo>
                    <a:pt x="638" y="449"/>
                  </a:lnTo>
                  <a:lnTo>
                    <a:pt x="640" y="453"/>
                  </a:lnTo>
                  <a:lnTo>
                    <a:pt x="643" y="458"/>
                  </a:lnTo>
                  <a:lnTo>
                    <a:pt x="645" y="462"/>
                  </a:lnTo>
                  <a:lnTo>
                    <a:pt x="648" y="467"/>
                  </a:lnTo>
                  <a:lnTo>
                    <a:pt x="650" y="471"/>
                  </a:lnTo>
                  <a:lnTo>
                    <a:pt x="653" y="475"/>
                  </a:lnTo>
                  <a:lnTo>
                    <a:pt x="655" y="480"/>
                  </a:lnTo>
                  <a:lnTo>
                    <a:pt x="658" y="484"/>
                  </a:lnTo>
                  <a:lnTo>
                    <a:pt x="660" y="488"/>
                  </a:lnTo>
                  <a:lnTo>
                    <a:pt x="663" y="492"/>
                  </a:lnTo>
                  <a:lnTo>
                    <a:pt x="665" y="496"/>
                  </a:lnTo>
                  <a:lnTo>
                    <a:pt x="668" y="500"/>
                  </a:lnTo>
                  <a:lnTo>
                    <a:pt x="670" y="504"/>
                  </a:lnTo>
                  <a:lnTo>
                    <a:pt x="673" y="508"/>
                  </a:lnTo>
                  <a:lnTo>
                    <a:pt x="675" y="512"/>
                  </a:lnTo>
                  <a:lnTo>
                    <a:pt x="678" y="516"/>
                  </a:lnTo>
                  <a:lnTo>
                    <a:pt x="680" y="520"/>
                  </a:lnTo>
                  <a:lnTo>
                    <a:pt x="683" y="523"/>
                  </a:lnTo>
                  <a:lnTo>
                    <a:pt x="685" y="527"/>
                  </a:lnTo>
                  <a:lnTo>
                    <a:pt x="688" y="530"/>
                  </a:lnTo>
                  <a:lnTo>
                    <a:pt x="690" y="533"/>
                  </a:lnTo>
                  <a:lnTo>
                    <a:pt x="693" y="537"/>
                  </a:lnTo>
                  <a:lnTo>
                    <a:pt x="695" y="540"/>
                  </a:lnTo>
                  <a:lnTo>
                    <a:pt x="698" y="543"/>
                  </a:lnTo>
                  <a:lnTo>
                    <a:pt x="700" y="546"/>
                  </a:lnTo>
                  <a:lnTo>
                    <a:pt x="703" y="548"/>
                  </a:lnTo>
                  <a:lnTo>
                    <a:pt x="705" y="551"/>
                  </a:lnTo>
                  <a:lnTo>
                    <a:pt x="708" y="554"/>
                  </a:lnTo>
                  <a:lnTo>
                    <a:pt x="710" y="557"/>
                  </a:lnTo>
                  <a:lnTo>
                    <a:pt x="713" y="559"/>
                  </a:lnTo>
                  <a:lnTo>
                    <a:pt x="715" y="562"/>
                  </a:lnTo>
                  <a:lnTo>
                    <a:pt x="718" y="564"/>
                  </a:lnTo>
                  <a:lnTo>
                    <a:pt x="720" y="566"/>
                  </a:lnTo>
                  <a:lnTo>
                    <a:pt x="723" y="569"/>
                  </a:lnTo>
                  <a:lnTo>
                    <a:pt x="725" y="571"/>
                  </a:lnTo>
                  <a:lnTo>
                    <a:pt x="728" y="573"/>
                  </a:lnTo>
                  <a:lnTo>
                    <a:pt x="730" y="575"/>
                  </a:lnTo>
                  <a:lnTo>
                    <a:pt x="733" y="577"/>
                  </a:lnTo>
                  <a:lnTo>
                    <a:pt x="735" y="579"/>
                  </a:lnTo>
                  <a:lnTo>
                    <a:pt x="738" y="581"/>
                  </a:lnTo>
                  <a:lnTo>
                    <a:pt x="740" y="583"/>
                  </a:lnTo>
                  <a:lnTo>
                    <a:pt x="743" y="584"/>
                  </a:lnTo>
                  <a:lnTo>
                    <a:pt x="745" y="586"/>
                  </a:lnTo>
                  <a:lnTo>
                    <a:pt x="748" y="587"/>
                  </a:lnTo>
                  <a:lnTo>
                    <a:pt x="750" y="589"/>
                  </a:lnTo>
                  <a:lnTo>
                    <a:pt x="753" y="590"/>
                  </a:lnTo>
                  <a:lnTo>
                    <a:pt x="755" y="591"/>
                  </a:lnTo>
                  <a:lnTo>
                    <a:pt x="757" y="592"/>
                  </a:lnTo>
                  <a:lnTo>
                    <a:pt x="760" y="593"/>
                  </a:lnTo>
                  <a:lnTo>
                    <a:pt x="763" y="594"/>
                  </a:lnTo>
                  <a:lnTo>
                    <a:pt x="765" y="595"/>
                  </a:lnTo>
                  <a:lnTo>
                    <a:pt x="768" y="596"/>
                  </a:lnTo>
                  <a:lnTo>
                    <a:pt x="770" y="596"/>
                  </a:lnTo>
                  <a:lnTo>
                    <a:pt x="773" y="597"/>
                  </a:lnTo>
                  <a:lnTo>
                    <a:pt x="775" y="598"/>
                  </a:lnTo>
                  <a:lnTo>
                    <a:pt x="777" y="598"/>
                  </a:lnTo>
                  <a:lnTo>
                    <a:pt x="780" y="598"/>
                  </a:lnTo>
                  <a:lnTo>
                    <a:pt x="783" y="599"/>
                  </a:lnTo>
                  <a:lnTo>
                    <a:pt x="785" y="599"/>
                  </a:lnTo>
                  <a:lnTo>
                    <a:pt x="788" y="599"/>
                  </a:lnTo>
                  <a:lnTo>
                    <a:pt x="790" y="599"/>
                  </a:lnTo>
                  <a:lnTo>
                    <a:pt x="793" y="599"/>
                  </a:lnTo>
                  <a:lnTo>
                    <a:pt x="795" y="599"/>
                  </a:lnTo>
                  <a:lnTo>
                    <a:pt x="797" y="599"/>
                  </a:lnTo>
                  <a:lnTo>
                    <a:pt x="800" y="599"/>
                  </a:lnTo>
                  <a:lnTo>
                    <a:pt x="803" y="598"/>
                  </a:lnTo>
                  <a:lnTo>
                    <a:pt x="805" y="598"/>
                  </a:lnTo>
                  <a:lnTo>
                    <a:pt x="808" y="597"/>
                  </a:lnTo>
                  <a:lnTo>
                    <a:pt x="810" y="597"/>
                  </a:lnTo>
                  <a:lnTo>
                    <a:pt x="813" y="596"/>
                  </a:lnTo>
                  <a:lnTo>
                    <a:pt x="815" y="595"/>
                  </a:lnTo>
                  <a:lnTo>
                    <a:pt x="818" y="594"/>
                  </a:lnTo>
                  <a:lnTo>
                    <a:pt x="820" y="593"/>
                  </a:lnTo>
                  <a:lnTo>
                    <a:pt x="823" y="592"/>
                  </a:lnTo>
                  <a:lnTo>
                    <a:pt x="825" y="591"/>
                  </a:lnTo>
                  <a:lnTo>
                    <a:pt x="828" y="589"/>
                  </a:lnTo>
                  <a:lnTo>
                    <a:pt x="830" y="588"/>
                  </a:lnTo>
                  <a:lnTo>
                    <a:pt x="833" y="587"/>
                  </a:lnTo>
                  <a:lnTo>
                    <a:pt x="835" y="586"/>
                  </a:lnTo>
                  <a:lnTo>
                    <a:pt x="838" y="585"/>
                  </a:lnTo>
                  <a:lnTo>
                    <a:pt x="840" y="584"/>
                  </a:lnTo>
                  <a:lnTo>
                    <a:pt x="843" y="583"/>
                  </a:lnTo>
                  <a:lnTo>
                    <a:pt x="845" y="582"/>
                  </a:lnTo>
                  <a:lnTo>
                    <a:pt x="848" y="581"/>
                  </a:lnTo>
                  <a:lnTo>
                    <a:pt x="850" y="580"/>
                  </a:lnTo>
                  <a:lnTo>
                    <a:pt x="853" y="579"/>
                  </a:lnTo>
                  <a:lnTo>
                    <a:pt x="855" y="578"/>
                  </a:lnTo>
                  <a:lnTo>
                    <a:pt x="858" y="578"/>
                  </a:lnTo>
                  <a:lnTo>
                    <a:pt x="860" y="578"/>
                  </a:lnTo>
                  <a:lnTo>
                    <a:pt x="863" y="577"/>
                  </a:lnTo>
                  <a:lnTo>
                    <a:pt x="865" y="577"/>
                  </a:lnTo>
                  <a:lnTo>
                    <a:pt x="868" y="577"/>
                  </a:lnTo>
                  <a:lnTo>
                    <a:pt x="870" y="578"/>
                  </a:lnTo>
                  <a:lnTo>
                    <a:pt x="873" y="578"/>
                  </a:lnTo>
                  <a:lnTo>
                    <a:pt x="875" y="579"/>
                  </a:lnTo>
                  <a:lnTo>
                    <a:pt x="878" y="580"/>
                  </a:lnTo>
                  <a:lnTo>
                    <a:pt x="880" y="581"/>
                  </a:lnTo>
                  <a:lnTo>
                    <a:pt x="883" y="583"/>
                  </a:lnTo>
                  <a:lnTo>
                    <a:pt x="885" y="585"/>
                  </a:lnTo>
                  <a:lnTo>
                    <a:pt x="888" y="586"/>
                  </a:lnTo>
                  <a:lnTo>
                    <a:pt x="890" y="588"/>
                  </a:lnTo>
                  <a:lnTo>
                    <a:pt x="893" y="591"/>
                  </a:lnTo>
                  <a:lnTo>
                    <a:pt x="895" y="593"/>
                  </a:lnTo>
                  <a:lnTo>
                    <a:pt x="898" y="595"/>
                  </a:lnTo>
                  <a:lnTo>
                    <a:pt x="900" y="598"/>
                  </a:lnTo>
                  <a:lnTo>
                    <a:pt x="903" y="601"/>
                  </a:lnTo>
                  <a:lnTo>
                    <a:pt x="905" y="603"/>
                  </a:lnTo>
                  <a:lnTo>
                    <a:pt x="908" y="606"/>
                  </a:lnTo>
                  <a:lnTo>
                    <a:pt x="910" y="609"/>
                  </a:lnTo>
                  <a:lnTo>
                    <a:pt x="913" y="612"/>
                  </a:lnTo>
                  <a:lnTo>
                    <a:pt x="915" y="615"/>
                  </a:lnTo>
                  <a:lnTo>
                    <a:pt x="918" y="618"/>
                  </a:lnTo>
                  <a:lnTo>
                    <a:pt x="920" y="621"/>
                  </a:lnTo>
                  <a:lnTo>
                    <a:pt x="923" y="624"/>
                  </a:lnTo>
                  <a:lnTo>
                    <a:pt x="925" y="627"/>
                  </a:lnTo>
                  <a:lnTo>
                    <a:pt x="928" y="630"/>
                  </a:lnTo>
                  <a:lnTo>
                    <a:pt x="930" y="633"/>
                  </a:lnTo>
                  <a:lnTo>
                    <a:pt x="933" y="636"/>
                  </a:lnTo>
                  <a:lnTo>
                    <a:pt x="935" y="639"/>
                  </a:lnTo>
                  <a:lnTo>
                    <a:pt x="938" y="642"/>
                  </a:lnTo>
                  <a:lnTo>
                    <a:pt x="940" y="645"/>
                  </a:lnTo>
                  <a:lnTo>
                    <a:pt x="943" y="648"/>
                  </a:lnTo>
                  <a:lnTo>
                    <a:pt x="945" y="650"/>
                  </a:lnTo>
                  <a:lnTo>
                    <a:pt x="948" y="653"/>
                  </a:lnTo>
                  <a:lnTo>
                    <a:pt x="950" y="655"/>
                  </a:lnTo>
                  <a:lnTo>
                    <a:pt x="953" y="657"/>
                  </a:lnTo>
                  <a:lnTo>
                    <a:pt x="955" y="660"/>
                  </a:lnTo>
                  <a:lnTo>
                    <a:pt x="958" y="662"/>
                  </a:lnTo>
                  <a:lnTo>
                    <a:pt x="960" y="664"/>
                  </a:lnTo>
                  <a:lnTo>
                    <a:pt x="963" y="666"/>
                  </a:lnTo>
                  <a:lnTo>
                    <a:pt x="965" y="668"/>
                  </a:lnTo>
                  <a:lnTo>
                    <a:pt x="968" y="670"/>
                  </a:lnTo>
                  <a:lnTo>
                    <a:pt x="970" y="672"/>
                  </a:lnTo>
                  <a:lnTo>
                    <a:pt x="973" y="674"/>
                  </a:lnTo>
                  <a:lnTo>
                    <a:pt x="975" y="676"/>
                  </a:lnTo>
                  <a:lnTo>
                    <a:pt x="978" y="678"/>
                  </a:lnTo>
                  <a:lnTo>
                    <a:pt x="980" y="680"/>
                  </a:lnTo>
                  <a:lnTo>
                    <a:pt x="983" y="682"/>
                  </a:lnTo>
                  <a:lnTo>
                    <a:pt x="985" y="684"/>
                  </a:lnTo>
                  <a:lnTo>
                    <a:pt x="988" y="685"/>
                  </a:lnTo>
                  <a:lnTo>
                    <a:pt x="990" y="687"/>
                  </a:lnTo>
                  <a:lnTo>
                    <a:pt x="993" y="689"/>
                  </a:lnTo>
                  <a:lnTo>
                    <a:pt x="995" y="690"/>
                  </a:lnTo>
                  <a:lnTo>
                    <a:pt x="998" y="692"/>
                  </a:lnTo>
                  <a:lnTo>
                    <a:pt x="1000" y="694"/>
                  </a:lnTo>
                  <a:lnTo>
                    <a:pt x="1003" y="695"/>
                  </a:lnTo>
                  <a:lnTo>
                    <a:pt x="1005" y="697"/>
                  </a:lnTo>
                  <a:lnTo>
                    <a:pt x="1008" y="699"/>
                  </a:lnTo>
                  <a:lnTo>
                    <a:pt x="1010" y="700"/>
                  </a:lnTo>
                  <a:lnTo>
                    <a:pt x="1013" y="702"/>
                  </a:lnTo>
                  <a:lnTo>
                    <a:pt x="1015" y="704"/>
                  </a:lnTo>
                  <a:lnTo>
                    <a:pt x="1018" y="705"/>
                  </a:lnTo>
                  <a:lnTo>
                    <a:pt x="1020" y="707"/>
                  </a:lnTo>
                  <a:lnTo>
                    <a:pt x="1023" y="708"/>
                  </a:lnTo>
                  <a:lnTo>
                    <a:pt x="1025" y="710"/>
                  </a:lnTo>
                  <a:lnTo>
                    <a:pt x="1028" y="711"/>
                  </a:lnTo>
                  <a:lnTo>
                    <a:pt x="1030" y="713"/>
                  </a:lnTo>
                  <a:lnTo>
                    <a:pt x="1033" y="714"/>
                  </a:lnTo>
                  <a:lnTo>
                    <a:pt x="1035" y="716"/>
                  </a:lnTo>
                  <a:lnTo>
                    <a:pt x="1038" y="717"/>
                  </a:lnTo>
                  <a:lnTo>
                    <a:pt x="1040" y="718"/>
                  </a:lnTo>
                  <a:lnTo>
                    <a:pt x="1043" y="720"/>
                  </a:lnTo>
                  <a:lnTo>
                    <a:pt x="1045" y="721"/>
                  </a:lnTo>
                  <a:lnTo>
                    <a:pt x="1048" y="722"/>
                  </a:lnTo>
                  <a:lnTo>
                    <a:pt x="1050" y="724"/>
                  </a:lnTo>
                  <a:lnTo>
                    <a:pt x="1053" y="725"/>
                  </a:lnTo>
                  <a:lnTo>
                    <a:pt x="1055" y="726"/>
                  </a:lnTo>
                  <a:lnTo>
                    <a:pt x="1058" y="728"/>
                  </a:lnTo>
                  <a:lnTo>
                    <a:pt x="1060" y="729"/>
                  </a:lnTo>
                  <a:lnTo>
                    <a:pt x="1063" y="730"/>
                  </a:lnTo>
                  <a:lnTo>
                    <a:pt x="1065" y="731"/>
                  </a:lnTo>
                  <a:lnTo>
                    <a:pt x="1068" y="732"/>
                  </a:lnTo>
                  <a:lnTo>
                    <a:pt x="1070" y="733"/>
                  </a:lnTo>
                  <a:lnTo>
                    <a:pt x="1073" y="734"/>
                  </a:lnTo>
                  <a:lnTo>
                    <a:pt x="1075" y="735"/>
                  </a:lnTo>
                  <a:lnTo>
                    <a:pt x="1078" y="736"/>
                  </a:lnTo>
                  <a:lnTo>
                    <a:pt x="1080" y="737"/>
                  </a:lnTo>
                  <a:lnTo>
                    <a:pt x="1083" y="738"/>
                  </a:lnTo>
                  <a:lnTo>
                    <a:pt x="1085" y="739"/>
                  </a:lnTo>
                  <a:lnTo>
                    <a:pt x="1088" y="740"/>
                  </a:lnTo>
                  <a:lnTo>
                    <a:pt x="1090" y="741"/>
                  </a:lnTo>
                  <a:lnTo>
                    <a:pt x="1093" y="742"/>
                  </a:lnTo>
                  <a:lnTo>
                    <a:pt x="1095" y="742"/>
                  </a:lnTo>
                  <a:lnTo>
                    <a:pt x="1098" y="743"/>
                  </a:lnTo>
                  <a:lnTo>
                    <a:pt x="1100" y="744"/>
                  </a:lnTo>
                  <a:lnTo>
                    <a:pt x="1103" y="745"/>
                  </a:lnTo>
                  <a:lnTo>
                    <a:pt x="1105" y="745"/>
                  </a:lnTo>
                  <a:lnTo>
                    <a:pt x="1108" y="746"/>
                  </a:lnTo>
                  <a:lnTo>
                    <a:pt x="1110" y="747"/>
                  </a:lnTo>
                  <a:lnTo>
                    <a:pt x="1113" y="747"/>
                  </a:lnTo>
                  <a:lnTo>
                    <a:pt x="1115" y="748"/>
                  </a:lnTo>
                  <a:lnTo>
                    <a:pt x="1118" y="749"/>
                  </a:lnTo>
                  <a:lnTo>
                    <a:pt x="1120" y="749"/>
                  </a:lnTo>
                  <a:lnTo>
                    <a:pt x="1123" y="750"/>
                  </a:lnTo>
                  <a:lnTo>
                    <a:pt x="1125" y="750"/>
                  </a:lnTo>
                  <a:lnTo>
                    <a:pt x="1128" y="750"/>
                  </a:lnTo>
                  <a:lnTo>
                    <a:pt x="1130" y="751"/>
                  </a:lnTo>
                  <a:lnTo>
                    <a:pt x="1133" y="751"/>
                  </a:lnTo>
                  <a:lnTo>
                    <a:pt x="1135" y="751"/>
                  </a:lnTo>
                  <a:lnTo>
                    <a:pt x="1138" y="752"/>
                  </a:lnTo>
                  <a:lnTo>
                    <a:pt x="1140" y="752"/>
                  </a:lnTo>
                  <a:lnTo>
                    <a:pt x="1143" y="752"/>
                  </a:lnTo>
                  <a:lnTo>
                    <a:pt x="1145" y="752"/>
                  </a:lnTo>
                  <a:lnTo>
                    <a:pt x="1148" y="752"/>
                  </a:lnTo>
                  <a:lnTo>
                    <a:pt x="1150" y="752"/>
                  </a:lnTo>
                  <a:lnTo>
                    <a:pt x="1153" y="752"/>
                  </a:lnTo>
                  <a:lnTo>
                    <a:pt x="1155" y="753"/>
                  </a:lnTo>
                  <a:lnTo>
                    <a:pt x="1158" y="753"/>
                  </a:lnTo>
                  <a:lnTo>
                    <a:pt x="1160" y="753"/>
                  </a:lnTo>
                  <a:lnTo>
                    <a:pt x="1163" y="753"/>
                  </a:lnTo>
                  <a:lnTo>
                    <a:pt x="1165" y="753"/>
                  </a:lnTo>
                  <a:lnTo>
                    <a:pt x="1168" y="753"/>
                  </a:lnTo>
                  <a:lnTo>
                    <a:pt x="1170" y="753"/>
                  </a:lnTo>
                  <a:lnTo>
                    <a:pt x="1173" y="753"/>
                  </a:lnTo>
                  <a:lnTo>
                    <a:pt x="1175" y="753"/>
                  </a:lnTo>
                  <a:lnTo>
                    <a:pt x="1178" y="753"/>
                  </a:lnTo>
                  <a:lnTo>
                    <a:pt x="1180" y="753"/>
                  </a:lnTo>
                  <a:lnTo>
                    <a:pt x="1183" y="753"/>
                  </a:lnTo>
                  <a:lnTo>
                    <a:pt x="1185" y="753"/>
                  </a:lnTo>
                  <a:lnTo>
                    <a:pt x="1188" y="753"/>
                  </a:lnTo>
                  <a:lnTo>
                    <a:pt x="1190" y="753"/>
                  </a:lnTo>
                  <a:lnTo>
                    <a:pt x="1193" y="753"/>
                  </a:lnTo>
                  <a:lnTo>
                    <a:pt x="1195" y="753"/>
                  </a:lnTo>
                  <a:lnTo>
                    <a:pt x="1198" y="753"/>
                  </a:lnTo>
                  <a:lnTo>
                    <a:pt x="1200" y="753"/>
                  </a:lnTo>
                  <a:lnTo>
                    <a:pt x="1203" y="753"/>
                  </a:lnTo>
                  <a:lnTo>
                    <a:pt x="1205" y="753"/>
                  </a:lnTo>
                  <a:lnTo>
                    <a:pt x="1208" y="753"/>
                  </a:lnTo>
                  <a:lnTo>
                    <a:pt x="1210" y="753"/>
                  </a:lnTo>
                  <a:lnTo>
                    <a:pt x="1213" y="753"/>
                  </a:lnTo>
                  <a:lnTo>
                    <a:pt x="1215" y="753"/>
                  </a:lnTo>
                  <a:lnTo>
                    <a:pt x="1218" y="753"/>
                  </a:lnTo>
                  <a:lnTo>
                    <a:pt x="1220" y="753"/>
                  </a:lnTo>
                  <a:lnTo>
                    <a:pt x="1223" y="753"/>
                  </a:lnTo>
                  <a:lnTo>
                    <a:pt x="1225" y="753"/>
                  </a:lnTo>
                  <a:lnTo>
                    <a:pt x="1228" y="753"/>
                  </a:lnTo>
                  <a:lnTo>
                    <a:pt x="1230" y="753"/>
                  </a:lnTo>
                  <a:lnTo>
                    <a:pt x="1233" y="753"/>
                  </a:lnTo>
                  <a:lnTo>
                    <a:pt x="1235" y="753"/>
                  </a:lnTo>
                  <a:lnTo>
                    <a:pt x="1238" y="753"/>
                  </a:lnTo>
                  <a:lnTo>
                    <a:pt x="1240" y="753"/>
                  </a:lnTo>
                  <a:lnTo>
                    <a:pt x="1243" y="753"/>
                  </a:lnTo>
                  <a:lnTo>
                    <a:pt x="1245" y="753"/>
                  </a:lnTo>
                  <a:lnTo>
                    <a:pt x="1248" y="753"/>
                  </a:lnTo>
                  <a:lnTo>
                    <a:pt x="1250" y="753"/>
                  </a:lnTo>
                  <a:lnTo>
                    <a:pt x="1253" y="754"/>
                  </a:lnTo>
                  <a:lnTo>
                    <a:pt x="1255" y="754"/>
                  </a:lnTo>
                  <a:lnTo>
                    <a:pt x="1258" y="754"/>
                  </a:lnTo>
                  <a:lnTo>
                    <a:pt x="1260" y="754"/>
                  </a:lnTo>
                  <a:lnTo>
                    <a:pt x="1263" y="754"/>
                  </a:lnTo>
                  <a:lnTo>
                    <a:pt x="1265" y="754"/>
                  </a:lnTo>
                  <a:lnTo>
                    <a:pt x="1268" y="754"/>
                  </a:lnTo>
                  <a:lnTo>
                    <a:pt x="1270" y="754"/>
                  </a:lnTo>
                  <a:lnTo>
                    <a:pt x="1273" y="754"/>
                  </a:lnTo>
                  <a:lnTo>
                    <a:pt x="1275" y="754"/>
                  </a:lnTo>
                  <a:lnTo>
                    <a:pt x="1278" y="754"/>
                  </a:lnTo>
                  <a:lnTo>
                    <a:pt x="1280" y="754"/>
                  </a:lnTo>
                  <a:lnTo>
                    <a:pt x="1283" y="754"/>
                  </a:lnTo>
                  <a:lnTo>
                    <a:pt x="1285" y="755"/>
                  </a:lnTo>
                  <a:lnTo>
                    <a:pt x="1288" y="755"/>
                  </a:lnTo>
                  <a:lnTo>
                    <a:pt x="1290" y="755"/>
                  </a:lnTo>
                  <a:lnTo>
                    <a:pt x="1293" y="755"/>
                  </a:lnTo>
                  <a:lnTo>
                    <a:pt x="1295" y="755"/>
                  </a:lnTo>
                  <a:lnTo>
                    <a:pt x="1298" y="755"/>
                  </a:lnTo>
                  <a:lnTo>
                    <a:pt x="1300" y="755"/>
                  </a:lnTo>
                  <a:lnTo>
                    <a:pt x="1303" y="755"/>
                  </a:lnTo>
                  <a:lnTo>
                    <a:pt x="1305" y="755"/>
                  </a:lnTo>
                  <a:lnTo>
                    <a:pt x="1308" y="754"/>
                  </a:lnTo>
                  <a:lnTo>
                    <a:pt x="1310" y="754"/>
                  </a:lnTo>
                  <a:lnTo>
                    <a:pt x="1313" y="754"/>
                  </a:lnTo>
                  <a:lnTo>
                    <a:pt x="1315" y="753"/>
                  </a:lnTo>
                  <a:lnTo>
                    <a:pt x="1318" y="752"/>
                  </a:lnTo>
                  <a:lnTo>
                    <a:pt x="1320" y="751"/>
                  </a:lnTo>
                  <a:lnTo>
                    <a:pt x="1323" y="750"/>
                  </a:lnTo>
                  <a:lnTo>
                    <a:pt x="1325" y="750"/>
                  </a:lnTo>
                  <a:lnTo>
                    <a:pt x="1328" y="749"/>
                  </a:lnTo>
                  <a:lnTo>
                    <a:pt x="1330" y="748"/>
                  </a:lnTo>
                  <a:lnTo>
                    <a:pt x="1333" y="747"/>
                  </a:lnTo>
                  <a:lnTo>
                    <a:pt x="1335" y="746"/>
                  </a:lnTo>
                  <a:lnTo>
                    <a:pt x="1338" y="745"/>
                  </a:lnTo>
                  <a:lnTo>
                    <a:pt x="1340" y="744"/>
                  </a:lnTo>
                  <a:lnTo>
                    <a:pt x="1343" y="744"/>
                  </a:lnTo>
                  <a:lnTo>
                    <a:pt x="1345" y="743"/>
                  </a:lnTo>
                  <a:lnTo>
                    <a:pt x="1348" y="743"/>
                  </a:lnTo>
                  <a:lnTo>
                    <a:pt x="1350" y="742"/>
                  </a:lnTo>
                  <a:lnTo>
                    <a:pt x="1353" y="742"/>
                  </a:lnTo>
                  <a:lnTo>
                    <a:pt x="1355" y="741"/>
                  </a:lnTo>
                  <a:lnTo>
                    <a:pt x="1358" y="741"/>
                  </a:lnTo>
                  <a:lnTo>
                    <a:pt x="1360" y="741"/>
                  </a:lnTo>
                  <a:lnTo>
                    <a:pt x="1363" y="741"/>
                  </a:lnTo>
                  <a:lnTo>
                    <a:pt x="1365" y="742"/>
                  </a:lnTo>
                  <a:lnTo>
                    <a:pt x="1368" y="742"/>
                  </a:lnTo>
                  <a:lnTo>
                    <a:pt x="1370" y="742"/>
                  </a:lnTo>
                  <a:lnTo>
                    <a:pt x="1373" y="743"/>
                  </a:lnTo>
                  <a:lnTo>
                    <a:pt x="1375" y="744"/>
                  </a:lnTo>
                  <a:lnTo>
                    <a:pt x="1378" y="746"/>
                  </a:lnTo>
                  <a:lnTo>
                    <a:pt x="1380" y="747"/>
                  </a:lnTo>
                  <a:lnTo>
                    <a:pt x="1383" y="749"/>
                  </a:lnTo>
                  <a:lnTo>
                    <a:pt x="1385" y="751"/>
                  </a:lnTo>
                  <a:lnTo>
                    <a:pt x="1388" y="753"/>
                  </a:lnTo>
                  <a:lnTo>
                    <a:pt x="1390" y="755"/>
                  </a:lnTo>
                  <a:lnTo>
                    <a:pt x="1393" y="757"/>
                  </a:lnTo>
                  <a:lnTo>
                    <a:pt x="1395" y="759"/>
                  </a:lnTo>
                  <a:lnTo>
                    <a:pt x="1398" y="760"/>
                  </a:lnTo>
                  <a:lnTo>
                    <a:pt x="1400" y="761"/>
                  </a:lnTo>
                  <a:lnTo>
                    <a:pt x="1403" y="762"/>
                  </a:lnTo>
                  <a:lnTo>
                    <a:pt x="1405" y="763"/>
                  </a:lnTo>
                  <a:lnTo>
                    <a:pt x="1408" y="764"/>
                  </a:lnTo>
                  <a:lnTo>
                    <a:pt x="1410" y="764"/>
                  </a:lnTo>
                  <a:lnTo>
                    <a:pt x="1413" y="763"/>
                  </a:lnTo>
                  <a:lnTo>
                    <a:pt x="1415" y="763"/>
                  </a:lnTo>
                  <a:lnTo>
                    <a:pt x="1418" y="761"/>
                  </a:lnTo>
                  <a:lnTo>
                    <a:pt x="1420" y="760"/>
                  </a:lnTo>
                  <a:lnTo>
                    <a:pt x="1423" y="757"/>
                  </a:lnTo>
                  <a:lnTo>
                    <a:pt x="1425" y="754"/>
                  </a:lnTo>
                  <a:lnTo>
                    <a:pt x="1428" y="751"/>
                  </a:lnTo>
                  <a:lnTo>
                    <a:pt x="1430" y="746"/>
                  </a:lnTo>
                  <a:lnTo>
                    <a:pt x="1433" y="741"/>
                  </a:lnTo>
                  <a:lnTo>
                    <a:pt x="1435" y="735"/>
                  </a:lnTo>
                  <a:lnTo>
                    <a:pt x="1438" y="728"/>
                  </a:lnTo>
                  <a:lnTo>
                    <a:pt x="1440" y="719"/>
                  </a:lnTo>
                  <a:lnTo>
                    <a:pt x="1443" y="709"/>
                  </a:lnTo>
                  <a:lnTo>
                    <a:pt x="1445" y="699"/>
                  </a:lnTo>
                  <a:lnTo>
                    <a:pt x="1448" y="687"/>
                  </a:lnTo>
                  <a:lnTo>
                    <a:pt x="1450" y="675"/>
                  </a:lnTo>
                  <a:lnTo>
                    <a:pt x="1453" y="663"/>
                  </a:lnTo>
                  <a:lnTo>
                    <a:pt x="1455" y="650"/>
                  </a:lnTo>
                  <a:lnTo>
                    <a:pt x="1458" y="637"/>
                  </a:lnTo>
                  <a:lnTo>
                    <a:pt x="1460" y="623"/>
                  </a:lnTo>
                  <a:lnTo>
                    <a:pt x="1463" y="609"/>
                  </a:lnTo>
                  <a:lnTo>
                    <a:pt x="1465" y="595"/>
                  </a:lnTo>
                  <a:lnTo>
                    <a:pt x="1468" y="581"/>
                  </a:lnTo>
                  <a:lnTo>
                    <a:pt x="1470" y="567"/>
                  </a:lnTo>
                  <a:lnTo>
                    <a:pt x="1473" y="553"/>
                  </a:lnTo>
                  <a:lnTo>
                    <a:pt x="1475" y="539"/>
                  </a:lnTo>
                  <a:lnTo>
                    <a:pt x="1478" y="525"/>
                  </a:lnTo>
                  <a:lnTo>
                    <a:pt x="1480" y="511"/>
                  </a:lnTo>
                  <a:lnTo>
                    <a:pt x="1483" y="498"/>
                  </a:lnTo>
                  <a:lnTo>
                    <a:pt x="1485" y="485"/>
                  </a:lnTo>
                  <a:lnTo>
                    <a:pt x="1488" y="472"/>
                  </a:lnTo>
                  <a:lnTo>
                    <a:pt x="1490" y="460"/>
                  </a:lnTo>
                  <a:lnTo>
                    <a:pt x="1493" y="449"/>
                  </a:lnTo>
                  <a:lnTo>
                    <a:pt x="1495" y="438"/>
                  </a:lnTo>
                  <a:lnTo>
                    <a:pt x="1498" y="428"/>
                  </a:lnTo>
                  <a:lnTo>
                    <a:pt x="1500" y="419"/>
                  </a:lnTo>
                  <a:lnTo>
                    <a:pt x="1503" y="412"/>
                  </a:lnTo>
                  <a:lnTo>
                    <a:pt x="1505" y="406"/>
                  </a:lnTo>
                  <a:lnTo>
                    <a:pt x="1508" y="400"/>
                  </a:lnTo>
                  <a:lnTo>
                    <a:pt x="1510" y="395"/>
                  </a:lnTo>
                  <a:lnTo>
                    <a:pt x="1513" y="391"/>
                  </a:lnTo>
                  <a:lnTo>
                    <a:pt x="1515" y="388"/>
                  </a:lnTo>
                  <a:lnTo>
                    <a:pt x="1518" y="385"/>
                  </a:lnTo>
                  <a:lnTo>
                    <a:pt x="1520" y="383"/>
                  </a:lnTo>
                  <a:lnTo>
                    <a:pt x="1523" y="382"/>
                  </a:lnTo>
                  <a:lnTo>
                    <a:pt x="1525" y="380"/>
                  </a:lnTo>
                  <a:lnTo>
                    <a:pt x="1528" y="380"/>
                  </a:lnTo>
                  <a:lnTo>
                    <a:pt x="1530" y="379"/>
                  </a:lnTo>
                  <a:lnTo>
                    <a:pt x="1533" y="379"/>
                  </a:lnTo>
                  <a:lnTo>
                    <a:pt x="1535" y="380"/>
                  </a:lnTo>
                  <a:lnTo>
                    <a:pt x="1538" y="380"/>
                  </a:lnTo>
                  <a:lnTo>
                    <a:pt x="1540" y="381"/>
                  </a:lnTo>
                  <a:lnTo>
                    <a:pt x="1543" y="382"/>
                  </a:lnTo>
                  <a:lnTo>
                    <a:pt x="1545" y="383"/>
                  </a:lnTo>
                  <a:lnTo>
                    <a:pt x="1548" y="384"/>
                  </a:lnTo>
                  <a:lnTo>
                    <a:pt x="1550" y="385"/>
                  </a:lnTo>
                  <a:lnTo>
                    <a:pt x="1553" y="387"/>
                  </a:lnTo>
                  <a:lnTo>
                    <a:pt x="1555" y="388"/>
                  </a:lnTo>
                  <a:lnTo>
                    <a:pt x="1558" y="389"/>
                  </a:lnTo>
                  <a:lnTo>
                    <a:pt x="1560" y="390"/>
                  </a:lnTo>
                  <a:lnTo>
                    <a:pt x="1563" y="391"/>
                  </a:lnTo>
                  <a:lnTo>
                    <a:pt x="1565" y="391"/>
                  </a:lnTo>
                  <a:lnTo>
                    <a:pt x="1568" y="391"/>
                  </a:lnTo>
                  <a:lnTo>
                    <a:pt x="1570" y="391"/>
                  </a:lnTo>
                  <a:lnTo>
                    <a:pt x="1573" y="390"/>
                  </a:lnTo>
                  <a:lnTo>
                    <a:pt x="1575" y="389"/>
                  </a:lnTo>
                  <a:lnTo>
                    <a:pt x="1578" y="388"/>
                  </a:lnTo>
                  <a:lnTo>
                    <a:pt x="1580" y="387"/>
                  </a:lnTo>
                  <a:lnTo>
                    <a:pt x="1583" y="386"/>
                  </a:lnTo>
                  <a:lnTo>
                    <a:pt x="1585" y="385"/>
                  </a:lnTo>
                  <a:lnTo>
                    <a:pt x="1588" y="384"/>
                  </a:lnTo>
                  <a:lnTo>
                    <a:pt x="1590" y="382"/>
                  </a:lnTo>
                  <a:lnTo>
                    <a:pt x="1593" y="380"/>
                  </a:lnTo>
                  <a:lnTo>
                    <a:pt x="1595" y="379"/>
                  </a:lnTo>
                  <a:lnTo>
                    <a:pt x="1598" y="377"/>
                  </a:lnTo>
                  <a:lnTo>
                    <a:pt x="1600" y="375"/>
                  </a:lnTo>
                  <a:lnTo>
                    <a:pt x="1603" y="373"/>
                  </a:lnTo>
                  <a:lnTo>
                    <a:pt x="1605" y="371"/>
                  </a:lnTo>
                  <a:lnTo>
                    <a:pt x="1608" y="369"/>
                  </a:lnTo>
                  <a:lnTo>
                    <a:pt x="1610" y="367"/>
                  </a:lnTo>
                  <a:lnTo>
                    <a:pt x="1613" y="365"/>
                  </a:lnTo>
                  <a:lnTo>
                    <a:pt x="1615" y="363"/>
                  </a:lnTo>
                  <a:lnTo>
                    <a:pt x="1618" y="361"/>
                  </a:lnTo>
                  <a:lnTo>
                    <a:pt x="1620" y="359"/>
                  </a:lnTo>
                  <a:lnTo>
                    <a:pt x="1623" y="357"/>
                  </a:lnTo>
                  <a:lnTo>
                    <a:pt x="1625" y="355"/>
                  </a:lnTo>
                  <a:lnTo>
                    <a:pt x="1628" y="354"/>
                  </a:lnTo>
                  <a:lnTo>
                    <a:pt x="1630" y="353"/>
                  </a:lnTo>
                  <a:lnTo>
                    <a:pt x="1633" y="352"/>
                  </a:lnTo>
                  <a:lnTo>
                    <a:pt x="1635" y="350"/>
                  </a:lnTo>
                  <a:lnTo>
                    <a:pt x="1638" y="349"/>
                  </a:lnTo>
                  <a:lnTo>
                    <a:pt x="1640" y="349"/>
                  </a:lnTo>
                  <a:lnTo>
                    <a:pt x="1643" y="348"/>
                  </a:lnTo>
                  <a:lnTo>
                    <a:pt x="1645" y="347"/>
                  </a:lnTo>
                  <a:lnTo>
                    <a:pt x="1648" y="346"/>
                  </a:lnTo>
                  <a:lnTo>
                    <a:pt x="1650" y="345"/>
                  </a:lnTo>
                  <a:lnTo>
                    <a:pt x="1653" y="344"/>
                  </a:lnTo>
                  <a:lnTo>
                    <a:pt x="1655" y="344"/>
                  </a:lnTo>
                  <a:lnTo>
                    <a:pt x="1658" y="343"/>
                  </a:lnTo>
                  <a:lnTo>
                    <a:pt x="1660" y="342"/>
                  </a:lnTo>
                  <a:lnTo>
                    <a:pt x="1663" y="342"/>
                  </a:lnTo>
                  <a:lnTo>
                    <a:pt x="1665" y="341"/>
                  </a:lnTo>
                  <a:lnTo>
                    <a:pt x="1668" y="341"/>
                  </a:lnTo>
                  <a:lnTo>
                    <a:pt x="1670" y="340"/>
                  </a:lnTo>
                  <a:lnTo>
                    <a:pt x="1673" y="340"/>
                  </a:lnTo>
                  <a:lnTo>
                    <a:pt x="1675" y="340"/>
                  </a:lnTo>
                  <a:lnTo>
                    <a:pt x="1678" y="339"/>
                  </a:lnTo>
                  <a:lnTo>
                    <a:pt x="1680" y="339"/>
                  </a:lnTo>
                  <a:lnTo>
                    <a:pt x="1683" y="339"/>
                  </a:lnTo>
                  <a:lnTo>
                    <a:pt x="1685" y="339"/>
                  </a:lnTo>
                  <a:lnTo>
                    <a:pt x="1688" y="339"/>
                  </a:lnTo>
                  <a:lnTo>
                    <a:pt x="1690" y="339"/>
                  </a:lnTo>
                  <a:lnTo>
                    <a:pt x="1693" y="339"/>
                  </a:lnTo>
                  <a:lnTo>
                    <a:pt x="1695" y="339"/>
                  </a:lnTo>
                  <a:lnTo>
                    <a:pt x="1698" y="340"/>
                  </a:lnTo>
                  <a:lnTo>
                    <a:pt x="1700" y="340"/>
                  </a:lnTo>
                  <a:lnTo>
                    <a:pt x="1702" y="341"/>
                  </a:lnTo>
                  <a:lnTo>
                    <a:pt x="1705" y="341"/>
                  </a:lnTo>
                  <a:lnTo>
                    <a:pt x="1708" y="342"/>
                  </a:lnTo>
                  <a:lnTo>
                    <a:pt x="1710" y="342"/>
                  </a:lnTo>
                  <a:lnTo>
                    <a:pt x="1713" y="343"/>
                  </a:lnTo>
                  <a:lnTo>
                    <a:pt x="1715" y="344"/>
                  </a:lnTo>
                  <a:lnTo>
                    <a:pt x="1718" y="344"/>
                  </a:lnTo>
                  <a:lnTo>
                    <a:pt x="1720" y="345"/>
                  </a:lnTo>
                  <a:lnTo>
                    <a:pt x="1723" y="346"/>
                  </a:lnTo>
                  <a:lnTo>
                    <a:pt x="1725" y="347"/>
                  </a:lnTo>
                  <a:lnTo>
                    <a:pt x="1728" y="348"/>
                  </a:lnTo>
                  <a:lnTo>
                    <a:pt x="1730" y="349"/>
                  </a:lnTo>
                  <a:lnTo>
                    <a:pt x="1733" y="350"/>
                  </a:lnTo>
                  <a:lnTo>
                    <a:pt x="1735" y="351"/>
                  </a:lnTo>
                  <a:lnTo>
                    <a:pt x="1738" y="352"/>
                  </a:lnTo>
                  <a:lnTo>
                    <a:pt x="1740" y="353"/>
                  </a:lnTo>
                  <a:lnTo>
                    <a:pt x="1742" y="354"/>
                  </a:lnTo>
                  <a:lnTo>
                    <a:pt x="1745" y="355"/>
                  </a:lnTo>
                  <a:lnTo>
                    <a:pt x="1748" y="356"/>
                  </a:lnTo>
                  <a:lnTo>
                    <a:pt x="1750" y="357"/>
                  </a:lnTo>
                  <a:lnTo>
                    <a:pt x="1753" y="359"/>
                  </a:lnTo>
                  <a:lnTo>
                    <a:pt x="1755" y="360"/>
                  </a:lnTo>
                  <a:lnTo>
                    <a:pt x="1758" y="361"/>
                  </a:lnTo>
                  <a:lnTo>
                    <a:pt x="1760" y="363"/>
                  </a:lnTo>
                  <a:lnTo>
                    <a:pt x="1763" y="364"/>
                  </a:lnTo>
                  <a:lnTo>
                    <a:pt x="1765" y="366"/>
                  </a:lnTo>
                  <a:lnTo>
                    <a:pt x="1768" y="367"/>
                  </a:lnTo>
                  <a:lnTo>
                    <a:pt x="1770" y="369"/>
                  </a:lnTo>
                  <a:lnTo>
                    <a:pt x="1773" y="370"/>
                  </a:lnTo>
                  <a:lnTo>
                    <a:pt x="1775" y="372"/>
                  </a:lnTo>
                  <a:lnTo>
                    <a:pt x="1778" y="373"/>
                  </a:lnTo>
                  <a:lnTo>
                    <a:pt x="1780" y="375"/>
                  </a:lnTo>
                  <a:lnTo>
                    <a:pt x="1782" y="376"/>
                  </a:lnTo>
                  <a:lnTo>
                    <a:pt x="1785" y="378"/>
                  </a:lnTo>
                  <a:lnTo>
                    <a:pt x="1788" y="379"/>
                  </a:lnTo>
                  <a:lnTo>
                    <a:pt x="1790" y="381"/>
                  </a:lnTo>
                  <a:lnTo>
                    <a:pt x="1793" y="383"/>
                  </a:lnTo>
                  <a:lnTo>
                    <a:pt x="1795" y="384"/>
                  </a:lnTo>
                  <a:lnTo>
                    <a:pt x="1798" y="386"/>
                  </a:lnTo>
                  <a:lnTo>
                    <a:pt x="1800" y="387"/>
                  </a:lnTo>
                  <a:lnTo>
                    <a:pt x="1803" y="389"/>
                  </a:lnTo>
                  <a:lnTo>
                    <a:pt x="1805" y="391"/>
                  </a:lnTo>
                  <a:lnTo>
                    <a:pt x="1808" y="392"/>
                  </a:lnTo>
                  <a:lnTo>
                    <a:pt x="1810" y="394"/>
                  </a:lnTo>
                  <a:lnTo>
                    <a:pt x="1813" y="395"/>
                  </a:lnTo>
                  <a:lnTo>
                    <a:pt x="1815" y="397"/>
                  </a:lnTo>
                  <a:lnTo>
                    <a:pt x="1818" y="398"/>
                  </a:lnTo>
                  <a:lnTo>
                    <a:pt x="1820" y="400"/>
                  </a:lnTo>
                  <a:lnTo>
                    <a:pt x="1822" y="401"/>
                  </a:lnTo>
                  <a:lnTo>
                    <a:pt x="1825" y="403"/>
                  </a:lnTo>
                  <a:lnTo>
                    <a:pt x="1827" y="405"/>
                  </a:lnTo>
                  <a:lnTo>
                    <a:pt x="1830" y="406"/>
                  </a:lnTo>
                  <a:lnTo>
                    <a:pt x="1833" y="408"/>
                  </a:lnTo>
                  <a:lnTo>
                    <a:pt x="1835" y="409"/>
                  </a:lnTo>
                  <a:lnTo>
                    <a:pt x="1838" y="411"/>
                  </a:lnTo>
                  <a:lnTo>
                    <a:pt x="1840" y="412"/>
                  </a:lnTo>
                  <a:lnTo>
                    <a:pt x="1843" y="414"/>
                  </a:lnTo>
                  <a:lnTo>
                    <a:pt x="1845" y="415"/>
                  </a:lnTo>
                  <a:lnTo>
                    <a:pt x="1848" y="417"/>
                  </a:lnTo>
                  <a:lnTo>
                    <a:pt x="1850" y="418"/>
                  </a:lnTo>
                  <a:lnTo>
                    <a:pt x="1853" y="420"/>
                  </a:lnTo>
                  <a:lnTo>
                    <a:pt x="1855" y="421"/>
                  </a:lnTo>
                  <a:lnTo>
                    <a:pt x="1858" y="423"/>
                  </a:lnTo>
                  <a:lnTo>
                    <a:pt x="1860" y="424"/>
                  </a:lnTo>
                  <a:lnTo>
                    <a:pt x="1862" y="426"/>
                  </a:lnTo>
                  <a:lnTo>
                    <a:pt x="1865" y="427"/>
                  </a:lnTo>
                  <a:lnTo>
                    <a:pt x="1867" y="429"/>
                  </a:lnTo>
                  <a:lnTo>
                    <a:pt x="1870" y="430"/>
                  </a:lnTo>
                  <a:lnTo>
                    <a:pt x="1873" y="432"/>
                  </a:lnTo>
                  <a:lnTo>
                    <a:pt x="1875" y="433"/>
                  </a:lnTo>
                  <a:lnTo>
                    <a:pt x="1878" y="435"/>
                  </a:lnTo>
                  <a:lnTo>
                    <a:pt x="1880" y="436"/>
                  </a:lnTo>
                  <a:lnTo>
                    <a:pt x="1883" y="438"/>
                  </a:lnTo>
                  <a:lnTo>
                    <a:pt x="1885" y="439"/>
                  </a:lnTo>
                  <a:lnTo>
                    <a:pt x="1888" y="441"/>
                  </a:lnTo>
                  <a:lnTo>
                    <a:pt x="1890" y="442"/>
                  </a:lnTo>
                  <a:lnTo>
                    <a:pt x="1893" y="443"/>
                  </a:lnTo>
                  <a:lnTo>
                    <a:pt x="1895" y="445"/>
                  </a:lnTo>
                  <a:lnTo>
                    <a:pt x="1898" y="446"/>
                  </a:lnTo>
                  <a:lnTo>
                    <a:pt x="1900" y="448"/>
                  </a:lnTo>
                  <a:lnTo>
                    <a:pt x="1902" y="449"/>
                  </a:lnTo>
                  <a:lnTo>
                    <a:pt x="1905" y="451"/>
                  </a:lnTo>
                  <a:lnTo>
                    <a:pt x="1907" y="452"/>
                  </a:lnTo>
                  <a:lnTo>
                    <a:pt x="1910" y="453"/>
                  </a:lnTo>
                  <a:lnTo>
                    <a:pt x="1913" y="455"/>
                  </a:lnTo>
                  <a:lnTo>
                    <a:pt x="1915" y="456"/>
                  </a:lnTo>
                  <a:lnTo>
                    <a:pt x="1918" y="457"/>
                  </a:lnTo>
                  <a:lnTo>
                    <a:pt x="1920" y="458"/>
                  </a:lnTo>
                  <a:lnTo>
                    <a:pt x="1923" y="459"/>
                  </a:lnTo>
                  <a:lnTo>
                    <a:pt x="1925" y="461"/>
                  </a:lnTo>
                  <a:lnTo>
                    <a:pt x="1928" y="462"/>
                  </a:lnTo>
                  <a:lnTo>
                    <a:pt x="1930" y="463"/>
                  </a:lnTo>
                  <a:lnTo>
                    <a:pt x="1933" y="464"/>
                  </a:lnTo>
                  <a:lnTo>
                    <a:pt x="1935" y="465"/>
                  </a:lnTo>
                  <a:lnTo>
                    <a:pt x="1938" y="466"/>
                  </a:lnTo>
                  <a:lnTo>
                    <a:pt x="1940" y="466"/>
                  </a:lnTo>
                  <a:lnTo>
                    <a:pt x="1943" y="467"/>
                  </a:lnTo>
                  <a:lnTo>
                    <a:pt x="1945" y="468"/>
                  </a:lnTo>
                  <a:lnTo>
                    <a:pt x="1948" y="468"/>
                  </a:lnTo>
                  <a:lnTo>
                    <a:pt x="1950" y="469"/>
                  </a:lnTo>
                  <a:lnTo>
                    <a:pt x="1953" y="469"/>
                  </a:lnTo>
                  <a:lnTo>
                    <a:pt x="1955" y="470"/>
                  </a:lnTo>
                  <a:lnTo>
                    <a:pt x="1958" y="470"/>
                  </a:lnTo>
                  <a:lnTo>
                    <a:pt x="1960" y="471"/>
                  </a:lnTo>
                  <a:lnTo>
                    <a:pt x="1963" y="471"/>
                  </a:lnTo>
                  <a:lnTo>
                    <a:pt x="1965" y="471"/>
                  </a:lnTo>
                  <a:lnTo>
                    <a:pt x="1968" y="472"/>
                  </a:lnTo>
                  <a:lnTo>
                    <a:pt x="1970" y="472"/>
                  </a:lnTo>
                  <a:lnTo>
                    <a:pt x="1973" y="472"/>
                  </a:lnTo>
                  <a:lnTo>
                    <a:pt x="1975" y="472"/>
                  </a:lnTo>
                  <a:lnTo>
                    <a:pt x="1978" y="472"/>
                  </a:lnTo>
                  <a:lnTo>
                    <a:pt x="1980" y="473"/>
                  </a:lnTo>
                  <a:lnTo>
                    <a:pt x="1983" y="473"/>
                  </a:lnTo>
                  <a:lnTo>
                    <a:pt x="1985" y="473"/>
                  </a:lnTo>
                  <a:lnTo>
                    <a:pt x="1988" y="473"/>
                  </a:lnTo>
                  <a:lnTo>
                    <a:pt x="1990" y="473"/>
                  </a:lnTo>
                  <a:lnTo>
                    <a:pt x="1993" y="473"/>
                  </a:lnTo>
                  <a:lnTo>
                    <a:pt x="1995" y="473"/>
                  </a:lnTo>
                  <a:lnTo>
                    <a:pt x="1998" y="473"/>
                  </a:lnTo>
                  <a:lnTo>
                    <a:pt x="2000" y="473"/>
                  </a:lnTo>
                  <a:lnTo>
                    <a:pt x="2003" y="472"/>
                  </a:lnTo>
                  <a:lnTo>
                    <a:pt x="2005" y="472"/>
                  </a:lnTo>
                  <a:lnTo>
                    <a:pt x="2008" y="472"/>
                  </a:lnTo>
                  <a:lnTo>
                    <a:pt x="2010" y="472"/>
                  </a:lnTo>
                  <a:lnTo>
                    <a:pt x="2013" y="472"/>
                  </a:lnTo>
                  <a:lnTo>
                    <a:pt x="2015" y="472"/>
                  </a:lnTo>
                  <a:lnTo>
                    <a:pt x="2018" y="471"/>
                  </a:lnTo>
                  <a:lnTo>
                    <a:pt x="2020" y="471"/>
                  </a:lnTo>
                  <a:lnTo>
                    <a:pt x="2023" y="471"/>
                  </a:lnTo>
                  <a:lnTo>
                    <a:pt x="2025" y="471"/>
                  </a:lnTo>
                  <a:lnTo>
                    <a:pt x="2028" y="471"/>
                  </a:lnTo>
                  <a:lnTo>
                    <a:pt x="2030" y="470"/>
                  </a:lnTo>
                  <a:lnTo>
                    <a:pt x="2033" y="470"/>
                  </a:lnTo>
                  <a:lnTo>
                    <a:pt x="2035" y="470"/>
                  </a:lnTo>
                  <a:lnTo>
                    <a:pt x="2038" y="470"/>
                  </a:lnTo>
                  <a:lnTo>
                    <a:pt x="2040" y="469"/>
                  </a:lnTo>
                  <a:lnTo>
                    <a:pt x="2043" y="469"/>
                  </a:lnTo>
                  <a:lnTo>
                    <a:pt x="2045" y="469"/>
                  </a:lnTo>
                  <a:lnTo>
                    <a:pt x="2048" y="469"/>
                  </a:lnTo>
                  <a:lnTo>
                    <a:pt x="2050" y="468"/>
                  </a:lnTo>
                  <a:lnTo>
                    <a:pt x="2053" y="468"/>
                  </a:lnTo>
                  <a:lnTo>
                    <a:pt x="2055" y="468"/>
                  </a:lnTo>
                  <a:lnTo>
                    <a:pt x="2058" y="468"/>
                  </a:lnTo>
                  <a:lnTo>
                    <a:pt x="2060" y="468"/>
                  </a:lnTo>
                  <a:lnTo>
                    <a:pt x="2063" y="468"/>
                  </a:lnTo>
                  <a:lnTo>
                    <a:pt x="2065" y="468"/>
                  </a:lnTo>
                  <a:lnTo>
                    <a:pt x="2068" y="467"/>
                  </a:lnTo>
                  <a:lnTo>
                    <a:pt x="2070" y="467"/>
                  </a:lnTo>
                  <a:lnTo>
                    <a:pt x="2073" y="467"/>
                  </a:lnTo>
                  <a:lnTo>
                    <a:pt x="2075" y="467"/>
                  </a:lnTo>
                  <a:lnTo>
                    <a:pt x="2078" y="467"/>
                  </a:lnTo>
                  <a:lnTo>
                    <a:pt x="2080" y="467"/>
                  </a:lnTo>
                  <a:lnTo>
                    <a:pt x="2083" y="467"/>
                  </a:lnTo>
                  <a:lnTo>
                    <a:pt x="2085" y="467"/>
                  </a:lnTo>
                  <a:lnTo>
                    <a:pt x="2088" y="467"/>
                  </a:lnTo>
                  <a:lnTo>
                    <a:pt x="2090" y="467"/>
                  </a:lnTo>
                  <a:lnTo>
                    <a:pt x="2093" y="467"/>
                  </a:lnTo>
                  <a:lnTo>
                    <a:pt x="2095" y="467"/>
                  </a:lnTo>
                  <a:lnTo>
                    <a:pt x="2098" y="467"/>
                  </a:lnTo>
                  <a:lnTo>
                    <a:pt x="2100" y="468"/>
                  </a:lnTo>
                  <a:lnTo>
                    <a:pt x="2103" y="468"/>
                  </a:lnTo>
                  <a:lnTo>
                    <a:pt x="2105" y="468"/>
                  </a:lnTo>
                  <a:lnTo>
                    <a:pt x="2108" y="468"/>
                  </a:lnTo>
                  <a:lnTo>
                    <a:pt x="2110" y="468"/>
                  </a:lnTo>
                  <a:lnTo>
                    <a:pt x="2113" y="468"/>
                  </a:lnTo>
                  <a:lnTo>
                    <a:pt x="2115" y="468"/>
                  </a:lnTo>
                  <a:lnTo>
                    <a:pt x="2118" y="469"/>
                  </a:lnTo>
                  <a:lnTo>
                    <a:pt x="2120" y="469"/>
                  </a:lnTo>
                  <a:lnTo>
                    <a:pt x="2123" y="469"/>
                  </a:lnTo>
                  <a:lnTo>
                    <a:pt x="2125" y="469"/>
                  </a:lnTo>
                  <a:lnTo>
                    <a:pt x="2128" y="470"/>
                  </a:lnTo>
                  <a:lnTo>
                    <a:pt x="2130" y="470"/>
                  </a:lnTo>
                  <a:lnTo>
                    <a:pt x="2133" y="470"/>
                  </a:lnTo>
                  <a:lnTo>
                    <a:pt x="2135" y="471"/>
                  </a:lnTo>
                  <a:lnTo>
                    <a:pt x="2138" y="471"/>
                  </a:lnTo>
                  <a:lnTo>
                    <a:pt x="2140" y="471"/>
                  </a:lnTo>
                  <a:lnTo>
                    <a:pt x="2143" y="472"/>
                  </a:lnTo>
                  <a:lnTo>
                    <a:pt x="2145" y="472"/>
                  </a:lnTo>
                  <a:lnTo>
                    <a:pt x="2148" y="472"/>
                  </a:lnTo>
                  <a:lnTo>
                    <a:pt x="2150" y="473"/>
                  </a:lnTo>
                  <a:lnTo>
                    <a:pt x="2153" y="473"/>
                  </a:lnTo>
                  <a:lnTo>
                    <a:pt x="2155" y="474"/>
                  </a:lnTo>
                  <a:lnTo>
                    <a:pt x="2158" y="474"/>
                  </a:lnTo>
                  <a:lnTo>
                    <a:pt x="2160" y="475"/>
                  </a:lnTo>
                  <a:lnTo>
                    <a:pt x="2163" y="475"/>
                  </a:lnTo>
                  <a:lnTo>
                    <a:pt x="2165" y="476"/>
                  </a:lnTo>
                  <a:lnTo>
                    <a:pt x="2168" y="476"/>
                  </a:lnTo>
                  <a:lnTo>
                    <a:pt x="2170" y="477"/>
                  </a:lnTo>
                  <a:lnTo>
                    <a:pt x="2173" y="477"/>
                  </a:lnTo>
                  <a:lnTo>
                    <a:pt x="2175" y="478"/>
                  </a:lnTo>
                  <a:lnTo>
                    <a:pt x="2178" y="478"/>
                  </a:lnTo>
                  <a:lnTo>
                    <a:pt x="2180" y="479"/>
                  </a:lnTo>
                  <a:lnTo>
                    <a:pt x="2183" y="480"/>
                  </a:lnTo>
                  <a:lnTo>
                    <a:pt x="2185" y="480"/>
                  </a:lnTo>
                  <a:lnTo>
                    <a:pt x="2188" y="481"/>
                  </a:lnTo>
                  <a:lnTo>
                    <a:pt x="2190" y="482"/>
                  </a:lnTo>
                  <a:lnTo>
                    <a:pt x="2193" y="482"/>
                  </a:lnTo>
                  <a:lnTo>
                    <a:pt x="2195" y="483"/>
                  </a:lnTo>
                  <a:lnTo>
                    <a:pt x="2198" y="484"/>
                  </a:lnTo>
                  <a:lnTo>
                    <a:pt x="2200" y="484"/>
                  </a:lnTo>
                  <a:lnTo>
                    <a:pt x="2203" y="485"/>
                  </a:lnTo>
                  <a:lnTo>
                    <a:pt x="2205" y="486"/>
                  </a:lnTo>
                  <a:lnTo>
                    <a:pt x="2208" y="487"/>
                  </a:lnTo>
                  <a:lnTo>
                    <a:pt x="2210" y="487"/>
                  </a:lnTo>
                  <a:lnTo>
                    <a:pt x="2213" y="488"/>
                  </a:lnTo>
                  <a:lnTo>
                    <a:pt x="2215" y="489"/>
                  </a:lnTo>
                  <a:lnTo>
                    <a:pt x="2218" y="490"/>
                  </a:lnTo>
                  <a:lnTo>
                    <a:pt x="2220" y="491"/>
                  </a:lnTo>
                  <a:lnTo>
                    <a:pt x="2223" y="492"/>
                  </a:lnTo>
                  <a:lnTo>
                    <a:pt x="2225" y="493"/>
                  </a:lnTo>
                  <a:lnTo>
                    <a:pt x="2228" y="494"/>
                  </a:lnTo>
                  <a:lnTo>
                    <a:pt x="2230" y="495"/>
                  </a:lnTo>
                  <a:lnTo>
                    <a:pt x="2233" y="496"/>
                  </a:lnTo>
                  <a:lnTo>
                    <a:pt x="2235" y="497"/>
                  </a:lnTo>
                  <a:lnTo>
                    <a:pt x="2238" y="498"/>
                  </a:lnTo>
                  <a:lnTo>
                    <a:pt x="2240" y="499"/>
                  </a:lnTo>
                  <a:lnTo>
                    <a:pt x="2243" y="501"/>
                  </a:lnTo>
                  <a:lnTo>
                    <a:pt x="2245" y="502"/>
                  </a:lnTo>
                  <a:lnTo>
                    <a:pt x="2248" y="503"/>
                  </a:lnTo>
                  <a:lnTo>
                    <a:pt x="2250" y="504"/>
                  </a:lnTo>
                  <a:lnTo>
                    <a:pt x="2253" y="506"/>
                  </a:lnTo>
                  <a:lnTo>
                    <a:pt x="2255" y="507"/>
                  </a:lnTo>
                  <a:lnTo>
                    <a:pt x="2258" y="509"/>
                  </a:lnTo>
                  <a:lnTo>
                    <a:pt x="2260" y="510"/>
                  </a:lnTo>
                  <a:lnTo>
                    <a:pt x="2263" y="512"/>
                  </a:lnTo>
                  <a:lnTo>
                    <a:pt x="2265" y="514"/>
                  </a:lnTo>
                  <a:lnTo>
                    <a:pt x="2268" y="515"/>
                  </a:lnTo>
                  <a:lnTo>
                    <a:pt x="2270" y="517"/>
                  </a:lnTo>
                  <a:lnTo>
                    <a:pt x="2273" y="518"/>
                  </a:lnTo>
                  <a:lnTo>
                    <a:pt x="2275" y="520"/>
                  </a:lnTo>
                  <a:lnTo>
                    <a:pt x="2278" y="522"/>
                  </a:lnTo>
                  <a:lnTo>
                    <a:pt x="2280" y="523"/>
                  </a:lnTo>
                  <a:lnTo>
                    <a:pt x="2283" y="525"/>
                  </a:lnTo>
                  <a:lnTo>
                    <a:pt x="2285" y="526"/>
                  </a:lnTo>
                  <a:lnTo>
                    <a:pt x="2288" y="528"/>
                  </a:lnTo>
                  <a:lnTo>
                    <a:pt x="2290" y="529"/>
                  </a:lnTo>
                  <a:lnTo>
                    <a:pt x="2293" y="530"/>
                  </a:lnTo>
                  <a:lnTo>
                    <a:pt x="2295" y="532"/>
                  </a:lnTo>
                  <a:lnTo>
                    <a:pt x="2298" y="533"/>
                  </a:lnTo>
                  <a:lnTo>
                    <a:pt x="2300" y="534"/>
                  </a:lnTo>
                  <a:lnTo>
                    <a:pt x="2303" y="535"/>
                  </a:lnTo>
                  <a:lnTo>
                    <a:pt x="2305" y="536"/>
                  </a:lnTo>
                  <a:lnTo>
                    <a:pt x="2308" y="537"/>
                  </a:lnTo>
                  <a:lnTo>
                    <a:pt x="2310" y="538"/>
                  </a:lnTo>
                  <a:lnTo>
                    <a:pt x="2313" y="539"/>
                  </a:lnTo>
                  <a:lnTo>
                    <a:pt x="2315" y="539"/>
                  </a:lnTo>
                  <a:lnTo>
                    <a:pt x="2318" y="540"/>
                  </a:lnTo>
                  <a:lnTo>
                    <a:pt x="2320" y="540"/>
                  </a:lnTo>
                  <a:lnTo>
                    <a:pt x="2322" y="540"/>
                  </a:lnTo>
                  <a:lnTo>
                    <a:pt x="2325" y="541"/>
                  </a:lnTo>
                  <a:lnTo>
                    <a:pt x="2328" y="541"/>
                  </a:lnTo>
                  <a:lnTo>
                    <a:pt x="2330" y="541"/>
                  </a:lnTo>
                  <a:lnTo>
                    <a:pt x="2333" y="541"/>
                  </a:lnTo>
                  <a:lnTo>
                    <a:pt x="2335" y="541"/>
                  </a:lnTo>
                  <a:lnTo>
                    <a:pt x="2338" y="541"/>
                  </a:lnTo>
                  <a:lnTo>
                    <a:pt x="2340" y="541"/>
                  </a:lnTo>
                  <a:lnTo>
                    <a:pt x="2342" y="541"/>
                  </a:lnTo>
                  <a:lnTo>
                    <a:pt x="2345" y="541"/>
                  </a:lnTo>
                  <a:lnTo>
                    <a:pt x="2348" y="541"/>
                  </a:lnTo>
                  <a:lnTo>
                    <a:pt x="2350" y="540"/>
                  </a:lnTo>
                  <a:lnTo>
                    <a:pt x="2353" y="540"/>
                  </a:lnTo>
                  <a:lnTo>
                    <a:pt x="2355" y="540"/>
                  </a:lnTo>
                  <a:lnTo>
                    <a:pt x="2358" y="540"/>
                  </a:lnTo>
                  <a:lnTo>
                    <a:pt x="2360" y="540"/>
                  </a:lnTo>
                  <a:lnTo>
                    <a:pt x="2362" y="540"/>
                  </a:lnTo>
                  <a:lnTo>
                    <a:pt x="2365" y="540"/>
                  </a:lnTo>
                  <a:lnTo>
                    <a:pt x="2368" y="541"/>
                  </a:lnTo>
                  <a:lnTo>
                    <a:pt x="2370" y="541"/>
                  </a:lnTo>
                  <a:lnTo>
                    <a:pt x="2373" y="541"/>
                  </a:lnTo>
                  <a:lnTo>
                    <a:pt x="2375" y="541"/>
                  </a:lnTo>
                  <a:lnTo>
                    <a:pt x="2378" y="542"/>
                  </a:lnTo>
                  <a:lnTo>
                    <a:pt x="2380" y="542"/>
                  </a:lnTo>
                  <a:lnTo>
                    <a:pt x="2382" y="542"/>
                  </a:lnTo>
                  <a:lnTo>
                    <a:pt x="2385" y="543"/>
                  </a:lnTo>
                  <a:lnTo>
                    <a:pt x="2388" y="543"/>
                  </a:lnTo>
                  <a:lnTo>
                    <a:pt x="2390" y="544"/>
                  </a:lnTo>
                  <a:lnTo>
                    <a:pt x="2393" y="544"/>
                  </a:lnTo>
                  <a:lnTo>
                    <a:pt x="2395" y="545"/>
                  </a:lnTo>
                  <a:lnTo>
                    <a:pt x="2398" y="546"/>
                  </a:lnTo>
                  <a:lnTo>
                    <a:pt x="2400" y="547"/>
                  </a:lnTo>
                  <a:lnTo>
                    <a:pt x="2402" y="548"/>
                  </a:lnTo>
                  <a:lnTo>
                    <a:pt x="2405" y="549"/>
                  </a:lnTo>
                  <a:lnTo>
                    <a:pt x="2408" y="550"/>
                  </a:lnTo>
                  <a:lnTo>
                    <a:pt x="2410" y="551"/>
                  </a:lnTo>
                  <a:lnTo>
                    <a:pt x="2413" y="552"/>
                  </a:lnTo>
                  <a:lnTo>
                    <a:pt x="2415" y="553"/>
                  </a:lnTo>
                  <a:lnTo>
                    <a:pt x="2418" y="554"/>
                  </a:lnTo>
                  <a:lnTo>
                    <a:pt x="2420" y="555"/>
                  </a:lnTo>
                  <a:lnTo>
                    <a:pt x="2422" y="556"/>
                  </a:lnTo>
                  <a:lnTo>
                    <a:pt x="2425" y="557"/>
                  </a:lnTo>
                  <a:lnTo>
                    <a:pt x="2428" y="559"/>
                  </a:lnTo>
                  <a:lnTo>
                    <a:pt x="2430" y="560"/>
                  </a:lnTo>
                  <a:lnTo>
                    <a:pt x="2433" y="561"/>
                  </a:lnTo>
                  <a:lnTo>
                    <a:pt x="2435" y="562"/>
                  </a:lnTo>
                  <a:lnTo>
                    <a:pt x="2438" y="564"/>
                  </a:lnTo>
                  <a:lnTo>
                    <a:pt x="2440" y="565"/>
                  </a:lnTo>
                  <a:lnTo>
                    <a:pt x="2442" y="566"/>
                  </a:lnTo>
                  <a:lnTo>
                    <a:pt x="2445" y="566"/>
                  </a:lnTo>
                  <a:lnTo>
                    <a:pt x="2447" y="567"/>
                  </a:lnTo>
                  <a:lnTo>
                    <a:pt x="2450" y="568"/>
                  </a:lnTo>
                  <a:lnTo>
                    <a:pt x="2453" y="569"/>
                  </a:lnTo>
                  <a:lnTo>
                    <a:pt x="2455" y="570"/>
                  </a:lnTo>
                  <a:lnTo>
                    <a:pt x="2458" y="570"/>
                  </a:lnTo>
                  <a:lnTo>
                    <a:pt x="2460" y="571"/>
                  </a:lnTo>
                  <a:lnTo>
                    <a:pt x="2462" y="572"/>
                  </a:lnTo>
                  <a:lnTo>
                    <a:pt x="2465" y="572"/>
                  </a:lnTo>
                  <a:lnTo>
                    <a:pt x="2467" y="572"/>
                  </a:lnTo>
                  <a:lnTo>
                    <a:pt x="2470" y="572"/>
                  </a:lnTo>
                  <a:lnTo>
                    <a:pt x="2473" y="572"/>
                  </a:lnTo>
                  <a:lnTo>
                    <a:pt x="2475" y="572"/>
                  </a:lnTo>
                  <a:lnTo>
                    <a:pt x="2478" y="572"/>
                  </a:lnTo>
                  <a:lnTo>
                    <a:pt x="2480" y="572"/>
                  </a:lnTo>
                  <a:lnTo>
                    <a:pt x="2482" y="571"/>
                  </a:lnTo>
                  <a:lnTo>
                    <a:pt x="2485" y="570"/>
                  </a:lnTo>
                  <a:lnTo>
                    <a:pt x="2487" y="569"/>
                  </a:lnTo>
                  <a:lnTo>
                    <a:pt x="2490" y="568"/>
                  </a:lnTo>
                  <a:lnTo>
                    <a:pt x="2493" y="566"/>
                  </a:lnTo>
                  <a:lnTo>
                    <a:pt x="2495" y="565"/>
                  </a:lnTo>
                  <a:lnTo>
                    <a:pt x="2498" y="563"/>
                  </a:lnTo>
                  <a:lnTo>
                    <a:pt x="2500" y="560"/>
                  </a:lnTo>
                  <a:lnTo>
                    <a:pt x="2502" y="557"/>
                  </a:lnTo>
                  <a:lnTo>
                    <a:pt x="2505" y="554"/>
                  </a:lnTo>
                  <a:lnTo>
                    <a:pt x="2507" y="551"/>
                  </a:lnTo>
                  <a:lnTo>
                    <a:pt x="2510" y="547"/>
                  </a:lnTo>
                  <a:lnTo>
                    <a:pt x="2513" y="543"/>
                  </a:lnTo>
                  <a:lnTo>
                    <a:pt x="2515" y="539"/>
                  </a:lnTo>
                  <a:lnTo>
                    <a:pt x="2518" y="535"/>
                  </a:lnTo>
                  <a:lnTo>
                    <a:pt x="2520" y="530"/>
                  </a:lnTo>
                  <a:lnTo>
                    <a:pt x="2522" y="525"/>
                  </a:lnTo>
                  <a:lnTo>
                    <a:pt x="2525" y="520"/>
                  </a:lnTo>
                  <a:lnTo>
                    <a:pt x="2527" y="515"/>
                  </a:lnTo>
                  <a:lnTo>
                    <a:pt x="2530" y="510"/>
                  </a:lnTo>
                  <a:lnTo>
                    <a:pt x="2533" y="504"/>
                  </a:lnTo>
                  <a:lnTo>
                    <a:pt x="2535" y="498"/>
                  </a:lnTo>
                  <a:lnTo>
                    <a:pt x="2538" y="492"/>
                  </a:lnTo>
                  <a:lnTo>
                    <a:pt x="2540" y="486"/>
                  </a:lnTo>
                  <a:lnTo>
                    <a:pt x="2542" y="480"/>
                  </a:lnTo>
                  <a:lnTo>
                    <a:pt x="2545" y="474"/>
                  </a:lnTo>
                  <a:lnTo>
                    <a:pt x="2547" y="467"/>
                  </a:lnTo>
                  <a:lnTo>
                    <a:pt x="2550" y="460"/>
                  </a:lnTo>
                  <a:lnTo>
                    <a:pt x="2553" y="454"/>
                  </a:lnTo>
                  <a:lnTo>
                    <a:pt x="2555" y="447"/>
                  </a:lnTo>
                  <a:lnTo>
                    <a:pt x="2558" y="440"/>
                  </a:lnTo>
                  <a:lnTo>
                    <a:pt x="2560" y="432"/>
                  </a:lnTo>
                  <a:lnTo>
                    <a:pt x="2563" y="425"/>
                  </a:lnTo>
                  <a:lnTo>
                    <a:pt x="2565" y="418"/>
                  </a:lnTo>
                  <a:lnTo>
                    <a:pt x="2568" y="410"/>
                  </a:lnTo>
                  <a:lnTo>
                    <a:pt x="2570" y="403"/>
                  </a:lnTo>
                  <a:lnTo>
                    <a:pt x="2573" y="395"/>
                  </a:lnTo>
                  <a:lnTo>
                    <a:pt x="2575" y="388"/>
                  </a:lnTo>
                  <a:lnTo>
                    <a:pt x="2578" y="380"/>
                  </a:lnTo>
                  <a:lnTo>
                    <a:pt x="2580" y="373"/>
                  </a:lnTo>
                  <a:lnTo>
                    <a:pt x="2583" y="365"/>
                  </a:lnTo>
                  <a:lnTo>
                    <a:pt x="2585" y="357"/>
                  </a:lnTo>
                  <a:lnTo>
                    <a:pt x="2588" y="349"/>
                  </a:lnTo>
                  <a:lnTo>
                    <a:pt x="2590" y="342"/>
                  </a:lnTo>
                  <a:lnTo>
                    <a:pt x="2593" y="334"/>
                  </a:lnTo>
                  <a:lnTo>
                    <a:pt x="2595" y="326"/>
                  </a:lnTo>
                  <a:lnTo>
                    <a:pt x="2598" y="319"/>
                  </a:lnTo>
                  <a:lnTo>
                    <a:pt x="2600" y="311"/>
                  </a:lnTo>
                  <a:lnTo>
                    <a:pt x="2603" y="304"/>
                  </a:lnTo>
                  <a:lnTo>
                    <a:pt x="2605" y="296"/>
                  </a:lnTo>
                  <a:lnTo>
                    <a:pt x="2608" y="289"/>
                  </a:lnTo>
                  <a:lnTo>
                    <a:pt x="2610" y="281"/>
                  </a:lnTo>
                  <a:lnTo>
                    <a:pt x="2613" y="274"/>
                  </a:lnTo>
                  <a:lnTo>
                    <a:pt x="2615" y="267"/>
                  </a:lnTo>
                  <a:lnTo>
                    <a:pt x="2618" y="260"/>
                  </a:lnTo>
                  <a:lnTo>
                    <a:pt x="2620" y="253"/>
                  </a:lnTo>
                  <a:lnTo>
                    <a:pt x="2623" y="247"/>
                  </a:lnTo>
                  <a:lnTo>
                    <a:pt x="2625" y="240"/>
                  </a:lnTo>
                  <a:lnTo>
                    <a:pt x="2628" y="234"/>
                  </a:lnTo>
                  <a:lnTo>
                    <a:pt x="2630" y="227"/>
                  </a:lnTo>
                  <a:lnTo>
                    <a:pt x="2633" y="221"/>
                  </a:lnTo>
                  <a:lnTo>
                    <a:pt x="2635" y="216"/>
                  </a:lnTo>
                  <a:lnTo>
                    <a:pt x="2638" y="210"/>
                  </a:lnTo>
                  <a:lnTo>
                    <a:pt x="2640" y="204"/>
                  </a:lnTo>
                  <a:lnTo>
                    <a:pt x="2643" y="199"/>
                  </a:lnTo>
                  <a:lnTo>
                    <a:pt x="2645" y="194"/>
                  </a:lnTo>
                  <a:lnTo>
                    <a:pt x="2648" y="189"/>
                  </a:lnTo>
                  <a:lnTo>
                    <a:pt x="2650" y="184"/>
                  </a:lnTo>
                  <a:lnTo>
                    <a:pt x="2653" y="179"/>
                  </a:lnTo>
                  <a:lnTo>
                    <a:pt x="2655" y="174"/>
                  </a:lnTo>
                  <a:lnTo>
                    <a:pt x="2658" y="170"/>
                  </a:lnTo>
                  <a:lnTo>
                    <a:pt x="2660" y="166"/>
                  </a:lnTo>
                  <a:lnTo>
                    <a:pt x="2663" y="162"/>
                  </a:lnTo>
                  <a:lnTo>
                    <a:pt x="2665" y="158"/>
                  </a:lnTo>
                  <a:lnTo>
                    <a:pt x="2668" y="154"/>
                  </a:lnTo>
                  <a:lnTo>
                    <a:pt x="2670" y="151"/>
                  </a:lnTo>
                  <a:lnTo>
                    <a:pt x="2673" y="148"/>
                  </a:lnTo>
                  <a:lnTo>
                    <a:pt x="2675" y="144"/>
                  </a:lnTo>
                  <a:lnTo>
                    <a:pt x="2678" y="141"/>
                  </a:lnTo>
                  <a:lnTo>
                    <a:pt x="2680" y="139"/>
                  </a:lnTo>
                  <a:lnTo>
                    <a:pt x="2683" y="136"/>
                  </a:lnTo>
                  <a:lnTo>
                    <a:pt x="2685" y="134"/>
                  </a:lnTo>
                  <a:lnTo>
                    <a:pt x="2688" y="132"/>
                  </a:lnTo>
                  <a:lnTo>
                    <a:pt x="2690" y="130"/>
                  </a:lnTo>
                  <a:lnTo>
                    <a:pt x="2693" y="129"/>
                  </a:lnTo>
                  <a:lnTo>
                    <a:pt x="2695" y="128"/>
                  </a:lnTo>
                  <a:lnTo>
                    <a:pt x="2698" y="127"/>
                  </a:lnTo>
                  <a:lnTo>
                    <a:pt x="2700" y="126"/>
                  </a:lnTo>
                  <a:lnTo>
                    <a:pt x="2703" y="125"/>
                  </a:lnTo>
                  <a:lnTo>
                    <a:pt x="2705" y="125"/>
                  </a:lnTo>
                  <a:lnTo>
                    <a:pt x="2708" y="125"/>
                  </a:lnTo>
                  <a:lnTo>
                    <a:pt x="2710" y="124"/>
                  </a:lnTo>
                  <a:lnTo>
                    <a:pt x="2713" y="124"/>
                  </a:lnTo>
                  <a:lnTo>
                    <a:pt x="2715" y="124"/>
                  </a:lnTo>
                  <a:lnTo>
                    <a:pt x="2718" y="125"/>
                  </a:lnTo>
                  <a:lnTo>
                    <a:pt x="2720" y="125"/>
                  </a:lnTo>
                  <a:lnTo>
                    <a:pt x="2723" y="125"/>
                  </a:lnTo>
                  <a:lnTo>
                    <a:pt x="2725" y="125"/>
                  </a:lnTo>
                  <a:lnTo>
                    <a:pt x="2728" y="126"/>
                  </a:lnTo>
                  <a:lnTo>
                    <a:pt x="2730" y="126"/>
                  </a:lnTo>
                  <a:lnTo>
                    <a:pt x="2733" y="127"/>
                  </a:lnTo>
                  <a:lnTo>
                    <a:pt x="2735" y="128"/>
                  </a:lnTo>
                  <a:lnTo>
                    <a:pt x="2738" y="128"/>
                  </a:lnTo>
                  <a:lnTo>
                    <a:pt x="2740" y="129"/>
                  </a:lnTo>
                  <a:lnTo>
                    <a:pt x="2743" y="130"/>
                  </a:lnTo>
                  <a:lnTo>
                    <a:pt x="2745" y="130"/>
                  </a:lnTo>
                  <a:lnTo>
                    <a:pt x="2748" y="131"/>
                  </a:lnTo>
                  <a:lnTo>
                    <a:pt x="2750" y="132"/>
                  </a:lnTo>
                  <a:lnTo>
                    <a:pt x="2753" y="133"/>
                  </a:lnTo>
                  <a:lnTo>
                    <a:pt x="2755" y="134"/>
                  </a:lnTo>
                  <a:lnTo>
                    <a:pt x="2758" y="135"/>
                  </a:lnTo>
                  <a:lnTo>
                    <a:pt x="2760" y="136"/>
                  </a:lnTo>
                  <a:lnTo>
                    <a:pt x="2763" y="137"/>
                  </a:lnTo>
                  <a:lnTo>
                    <a:pt x="2765" y="137"/>
                  </a:lnTo>
                  <a:lnTo>
                    <a:pt x="2768" y="138"/>
                  </a:lnTo>
                  <a:lnTo>
                    <a:pt x="2770" y="139"/>
                  </a:lnTo>
                  <a:lnTo>
                    <a:pt x="2773" y="140"/>
                  </a:lnTo>
                  <a:lnTo>
                    <a:pt x="2775" y="141"/>
                  </a:lnTo>
                  <a:lnTo>
                    <a:pt x="2778" y="142"/>
                  </a:lnTo>
                  <a:lnTo>
                    <a:pt x="2780" y="143"/>
                  </a:lnTo>
                  <a:lnTo>
                    <a:pt x="2783" y="144"/>
                  </a:lnTo>
                  <a:lnTo>
                    <a:pt x="2785" y="145"/>
                  </a:lnTo>
                  <a:lnTo>
                    <a:pt x="2788" y="146"/>
                  </a:lnTo>
                  <a:lnTo>
                    <a:pt x="2790" y="147"/>
                  </a:lnTo>
                  <a:lnTo>
                    <a:pt x="2793" y="148"/>
                  </a:lnTo>
                  <a:lnTo>
                    <a:pt x="2795" y="149"/>
                  </a:lnTo>
                  <a:lnTo>
                    <a:pt x="2798" y="150"/>
                  </a:lnTo>
                  <a:lnTo>
                    <a:pt x="2800" y="152"/>
                  </a:lnTo>
                  <a:lnTo>
                    <a:pt x="2803" y="153"/>
                  </a:lnTo>
                  <a:lnTo>
                    <a:pt x="2805" y="154"/>
                  </a:lnTo>
                  <a:lnTo>
                    <a:pt x="2808" y="155"/>
                  </a:lnTo>
                  <a:lnTo>
                    <a:pt x="2810" y="156"/>
                  </a:lnTo>
                  <a:lnTo>
                    <a:pt x="2813" y="158"/>
                  </a:lnTo>
                  <a:lnTo>
                    <a:pt x="2815" y="159"/>
                  </a:lnTo>
                  <a:lnTo>
                    <a:pt x="2818" y="161"/>
                  </a:lnTo>
                  <a:lnTo>
                    <a:pt x="2820" y="163"/>
                  </a:lnTo>
                  <a:lnTo>
                    <a:pt x="2823" y="165"/>
                  </a:lnTo>
                  <a:lnTo>
                    <a:pt x="2825" y="166"/>
                  </a:lnTo>
                  <a:lnTo>
                    <a:pt x="2828" y="168"/>
                  </a:lnTo>
                  <a:lnTo>
                    <a:pt x="2830" y="170"/>
                  </a:lnTo>
                  <a:lnTo>
                    <a:pt x="2833" y="172"/>
                  </a:lnTo>
                  <a:lnTo>
                    <a:pt x="2835" y="174"/>
                  </a:lnTo>
                  <a:lnTo>
                    <a:pt x="2838" y="176"/>
                  </a:lnTo>
                  <a:lnTo>
                    <a:pt x="2840" y="178"/>
                  </a:lnTo>
                  <a:lnTo>
                    <a:pt x="2843" y="180"/>
                  </a:lnTo>
                  <a:lnTo>
                    <a:pt x="2845" y="182"/>
                  </a:lnTo>
                  <a:lnTo>
                    <a:pt x="2848" y="184"/>
                  </a:lnTo>
                  <a:lnTo>
                    <a:pt x="2850" y="186"/>
                  </a:lnTo>
                  <a:lnTo>
                    <a:pt x="2853" y="188"/>
                  </a:lnTo>
                  <a:lnTo>
                    <a:pt x="2855" y="190"/>
                  </a:lnTo>
                  <a:lnTo>
                    <a:pt x="2858" y="193"/>
                  </a:lnTo>
                  <a:lnTo>
                    <a:pt x="2860" y="195"/>
                  </a:lnTo>
                  <a:lnTo>
                    <a:pt x="2863" y="197"/>
                  </a:lnTo>
                  <a:lnTo>
                    <a:pt x="2865" y="199"/>
                  </a:lnTo>
                  <a:lnTo>
                    <a:pt x="2868" y="202"/>
                  </a:lnTo>
                  <a:lnTo>
                    <a:pt x="2870" y="204"/>
                  </a:lnTo>
                  <a:lnTo>
                    <a:pt x="2873" y="206"/>
                  </a:lnTo>
                  <a:lnTo>
                    <a:pt x="2875" y="208"/>
                  </a:lnTo>
                  <a:lnTo>
                    <a:pt x="2878" y="210"/>
                  </a:lnTo>
                  <a:lnTo>
                    <a:pt x="2880" y="213"/>
                  </a:lnTo>
                  <a:lnTo>
                    <a:pt x="2883" y="215"/>
                  </a:lnTo>
                  <a:lnTo>
                    <a:pt x="2885" y="217"/>
                  </a:lnTo>
                  <a:lnTo>
                    <a:pt x="2888" y="219"/>
                  </a:lnTo>
                  <a:lnTo>
                    <a:pt x="2890" y="221"/>
                  </a:lnTo>
                  <a:lnTo>
                    <a:pt x="2893" y="223"/>
                  </a:lnTo>
                  <a:lnTo>
                    <a:pt x="2895" y="226"/>
                  </a:lnTo>
                  <a:lnTo>
                    <a:pt x="2898" y="228"/>
                  </a:lnTo>
                  <a:lnTo>
                    <a:pt x="2900" y="230"/>
                  </a:lnTo>
                  <a:lnTo>
                    <a:pt x="2903" y="232"/>
                  </a:lnTo>
                  <a:lnTo>
                    <a:pt x="2905" y="234"/>
                  </a:lnTo>
                  <a:lnTo>
                    <a:pt x="2908" y="236"/>
                  </a:lnTo>
                  <a:lnTo>
                    <a:pt x="2910" y="239"/>
                  </a:lnTo>
                  <a:lnTo>
                    <a:pt x="2913" y="241"/>
                  </a:lnTo>
                  <a:lnTo>
                    <a:pt x="2915" y="243"/>
                  </a:lnTo>
                  <a:lnTo>
                    <a:pt x="2918" y="245"/>
                  </a:lnTo>
                  <a:lnTo>
                    <a:pt x="2920" y="247"/>
                  </a:lnTo>
                  <a:lnTo>
                    <a:pt x="2923" y="249"/>
                  </a:lnTo>
                  <a:lnTo>
                    <a:pt x="2925" y="251"/>
                  </a:lnTo>
                  <a:lnTo>
                    <a:pt x="2928" y="254"/>
                  </a:lnTo>
                  <a:lnTo>
                    <a:pt x="2930" y="256"/>
                  </a:lnTo>
                  <a:lnTo>
                    <a:pt x="2933" y="258"/>
                  </a:lnTo>
                  <a:lnTo>
                    <a:pt x="2935" y="260"/>
                  </a:lnTo>
                  <a:lnTo>
                    <a:pt x="2938" y="262"/>
                  </a:lnTo>
                  <a:lnTo>
                    <a:pt x="2940" y="264"/>
                  </a:lnTo>
                  <a:lnTo>
                    <a:pt x="2943" y="266"/>
                  </a:lnTo>
                  <a:lnTo>
                    <a:pt x="2945" y="268"/>
                  </a:lnTo>
                  <a:lnTo>
                    <a:pt x="2948" y="269"/>
                  </a:lnTo>
                  <a:lnTo>
                    <a:pt x="2950" y="271"/>
                  </a:lnTo>
                  <a:lnTo>
                    <a:pt x="2953" y="273"/>
                  </a:lnTo>
                  <a:lnTo>
                    <a:pt x="2955" y="275"/>
                  </a:lnTo>
                  <a:lnTo>
                    <a:pt x="2958" y="276"/>
                  </a:lnTo>
                  <a:lnTo>
                    <a:pt x="2960" y="278"/>
                  </a:lnTo>
                  <a:lnTo>
                    <a:pt x="2963" y="279"/>
                  </a:lnTo>
                  <a:lnTo>
                    <a:pt x="2965" y="281"/>
                  </a:lnTo>
                  <a:lnTo>
                    <a:pt x="2968" y="282"/>
                  </a:lnTo>
                  <a:lnTo>
                    <a:pt x="2970" y="283"/>
                  </a:lnTo>
                  <a:lnTo>
                    <a:pt x="2973" y="285"/>
                  </a:lnTo>
                  <a:lnTo>
                    <a:pt x="2975" y="286"/>
                  </a:lnTo>
                  <a:lnTo>
                    <a:pt x="2978" y="287"/>
                  </a:lnTo>
                  <a:lnTo>
                    <a:pt x="2980" y="287"/>
                  </a:lnTo>
                  <a:lnTo>
                    <a:pt x="2983" y="288"/>
                  </a:lnTo>
                  <a:lnTo>
                    <a:pt x="2985" y="289"/>
                  </a:lnTo>
                  <a:lnTo>
                    <a:pt x="2988" y="289"/>
                  </a:lnTo>
                  <a:lnTo>
                    <a:pt x="2990" y="289"/>
                  </a:lnTo>
                  <a:lnTo>
                    <a:pt x="2993" y="290"/>
                  </a:lnTo>
                  <a:lnTo>
                    <a:pt x="2995" y="290"/>
                  </a:lnTo>
                  <a:lnTo>
                    <a:pt x="2998" y="289"/>
                  </a:lnTo>
                  <a:lnTo>
                    <a:pt x="3000" y="289"/>
                  </a:lnTo>
                  <a:lnTo>
                    <a:pt x="3003" y="288"/>
                  </a:lnTo>
                  <a:lnTo>
                    <a:pt x="3005" y="287"/>
                  </a:lnTo>
                  <a:lnTo>
                    <a:pt x="3008" y="286"/>
                  </a:lnTo>
                  <a:lnTo>
                    <a:pt x="3010" y="284"/>
                  </a:lnTo>
                  <a:lnTo>
                    <a:pt x="3013" y="283"/>
                  </a:lnTo>
                  <a:lnTo>
                    <a:pt x="3015" y="281"/>
                  </a:lnTo>
                  <a:lnTo>
                    <a:pt x="3018" y="279"/>
                  </a:lnTo>
                  <a:lnTo>
                    <a:pt x="3020" y="278"/>
                  </a:lnTo>
                  <a:lnTo>
                    <a:pt x="3023" y="276"/>
                  </a:lnTo>
                  <a:lnTo>
                    <a:pt x="3025" y="273"/>
                  </a:lnTo>
                  <a:lnTo>
                    <a:pt x="3028" y="271"/>
                  </a:lnTo>
                  <a:lnTo>
                    <a:pt x="3030" y="269"/>
                  </a:lnTo>
                  <a:lnTo>
                    <a:pt x="3033" y="267"/>
                  </a:lnTo>
                  <a:lnTo>
                    <a:pt x="3035" y="264"/>
                  </a:lnTo>
                  <a:lnTo>
                    <a:pt x="3038" y="262"/>
                  </a:lnTo>
                  <a:lnTo>
                    <a:pt x="3040" y="259"/>
                  </a:lnTo>
                  <a:lnTo>
                    <a:pt x="3043" y="257"/>
                  </a:lnTo>
                  <a:lnTo>
                    <a:pt x="3045" y="254"/>
                  </a:lnTo>
                  <a:lnTo>
                    <a:pt x="3048" y="252"/>
                  </a:lnTo>
                  <a:lnTo>
                    <a:pt x="3050" y="249"/>
                  </a:lnTo>
                  <a:lnTo>
                    <a:pt x="3053" y="247"/>
                  </a:lnTo>
                  <a:lnTo>
                    <a:pt x="3055" y="244"/>
                  </a:lnTo>
                  <a:lnTo>
                    <a:pt x="3058" y="242"/>
                  </a:lnTo>
                  <a:lnTo>
                    <a:pt x="3060" y="239"/>
                  </a:lnTo>
                  <a:lnTo>
                    <a:pt x="3063" y="237"/>
                  </a:lnTo>
                  <a:lnTo>
                    <a:pt x="3065" y="234"/>
                  </a:lnTo>
                  <a:lnTo>
                    <a:pt x="3068" y="232"/>
                  </a:lnTo>
                  <a:lnTo>
                    <a:pt x="3070" y="229"/>
                  </a:lnTo>
                  <a:lnTo>
                    <a:pt x="3073" y="227"/>
                  </a:lnTo>
                  <a:lnTo>
                    <a:pt x="3075" y="225"/>
                  </a:lnTo>
                  <a:lnTo>
                    <a:pt x="3078" y="222"/>
                  </a:lnTo>
                  <a:lnTo>
                    <a:pt x="3080" y="220"/>
                  </a:lnTo>
                  <a:lnTo>
                    <a:pt x="3083" y="218"/>
                  </a:lnTo>
                  <a:lnTo>
                    <a:pt x="3085" y="216"/>
                  </a:lnTo>
                  <a:lnTo>
                    <a:pt x="3088" y="214"/>
                  </a:lnTo>
                  <a:lnTo>
                    <a:pt x="3090" y="212"/>
                  </a:lnTo>
                  <a:lnTo>
                    <a:pt x="3093" y="209"/>
                  </a:lnTo>
                  <a:lnTo>
                    <a:pt x="3095" y="207"/>
                  </a:lnTo>
                  <a:lnTo>
                    <a:pt x="3098" y="205"/>
                  </a:lnTo>
                  <a:lnTo>
                    <a:pt x="3100" y="203"/>
                  </a:lnTo>
                  <a:lnTo>
                    <a:pt x="3103" y="201"/>
                  </a:lnTo>
                  <a:lnTo>
                    <a:pt x="3105" y="199"/>
                  </a:lnTo>
                  <a:lnTo>
                    <a:pt x="3108" y="197"/>
                  </a:lnTo>
                  <a:lnTo>
                    <a:pt x="3110" y="195"/>
                  </a:lnTo>
                  <a:lnTo>
                    <a:pt x="3113" y="194"/>
                  </a:lnTo>
                  <a:lnTo>
                    <a:pt x="3115" y="192"/>
                  </a:lnTo>
                  <a:lnTo>
                    <a:pt x="3118" y="190"/>
                  </a:lnTo>
                  <a:lnTo>
                    <a:pt x="3120" y="188"/>
                  </a:lnTo>
                  <a:lnTo>
                    <a:pt x="3123" y="186"/>
                  </a:lnTo>
                  <a:lnTo>
                    <a:pt x="3125" y="184"/>
                  </a:lnTo>
                  <a:lnTo>
                    <a:pt x="3128" y="182"/>
                  </a:lnTo>
                  <a:lnTo>
                    <a:pt x="3130" y="180"/>
                  </a:lnTo>
                  <a:lnTo>
                    <a:pt x="3133" y="178"/>
                  </a:lnTo>
                  <a:lnTo>
                    <a:pt x="3135" y="176"/>
                  </a:lnTo>
                  <a:lnTo>
                    <a:pt x="3138" y="174"/>
                  </a:lnTo>
                  <a:lnTo>
                    <a:pt x="3140" y="172"/>
                  </a:lnTo>
                  <a:lnTo>
                    <a:pt x="3143" y="170"/>
                  </a:lnTo>
                  <a:lnTo>
                    <a:pt x="3145" y="168"/>
                  </a:lnTo>
                  <a:lnTo>
                    <a:pt x="3148" y="166"/>
                  </a:lnTo>
                  <a:lnTo>
                    <a:pt x="3150" y="164"/>
                  </a:lnTo>
                  <a:lnTo>
                    <a:pt x="3153" y="162"/>
                  </a:lnTo>
                  <a:lnTo>
                    <a:pt x="3155" y="160"/>
                  </a:lnTo>
                  <a:lnTo>
                    <a:pt x="3158" y="157"/>
                  </a:lnTo>
                  <a:lnTo>
                    <a:pt x="3160" y="155"/>
                  </a:lnTo>
                  <a:lnTo>
                    <a:pt x="3163" y="153"/>
                  </a:lnTo>
                  <a:lnTo>
                    <a:pt x="3165" y="151"/>
                  </a:lnTo>
                  <a:lnTo>
                    <a:pt x="3168" y="149"/>
                  </a:lnTo>
                  <a:lnTo>
                    <a:pt x="3170" y="148"/>
                  </a:lnTo>
                  <a:lnTo>
                    <a:pt x="3173" y="146"/>
                  </a:lnTo>
                  <a:lnTo>
                    <a:pt x="3175" y="144"/>
                  </a:lnTo>
                  <a:lnTo>
                    <a:pt x="3178" y="142"/>
                  </a:lnTo>
                  <a:lnTo>
                    <a:pt x="3180" y="140"/>
                  </a:lnTo>
                  <a:lnTo>
                    <a:pt x="3183" y="138"/>
                  </a:lnTo>
                  <a:lnTo>
                    <a:pt x="3185" y="136"/>
                  </a:lnTo>
                  <a:lnTo>
                    <a:pt x="3188" y="134"/>
                  </a:lnTo>
                  <a:lnTo>
                    <a:pt x="3190" y="132"/>
                  </a:lnTo>
                  <a:lnTo>
                    <a:pt x="3193" y="130"/>
                  </a:lnTo>
                  <a:lnTo>
                    <a:pt x="3195" y="128"/>
                  </a:lnTo>
                  <a:lnTo>
                    <a:pt x="3198" y="126"/>
                  </a:lnTo>
                  <a:lnTo>
                    <a:pt x="3200" y="125"/>
                  </a:lnTo>
                  <a:lnTo>
                    <a:pt x="3203" y="123"/>
                  </a:lnTo>
                  <a:lnTo>
                    <a:pt x="3205" y="121"/>
                  </a:lnTo>
                  <a:lnTo>
                    <a:pt x="3208" y="119"/>
                  </a:lnTo>
                  <a:lnTo>
                    <a:pt x="3210" y="117"/>
                  </a:lnTo>
                  <a:lnTo>
                    <a:pt x="3213" y="115"/>
                  </a:lnTo>
                  <a:lnTo>
                    <a:pt x="3215" y="114"/>
                  </a:lnTo>
                  <a:lnTo>
                    <a:pt x="3218" y="112"/>
                  </a:lnTo>
                  <a:lnTo>
                    <a:pt x="3220" y="110"/>
                  </a:lnTo>
                  <a:lnTo>
                    <a:pt x="3223" y="108"/>
                  </a:lnTo>
                  <a:lnTo>
                    <a:pt x="3225" y="106"/>
                  </a:lnTo>
                  <a:lnTo>
                    <a:pt x="3228" y="105"/>
                  </a:lnTo>
                  <a:lnTo>
                    <a:pt x="3230" y="103"/>
                  </a:lnTo>
                  <a:lnTo>
                    <a:pt x="3233" y="101"/>
                  </a:lnTo>
                  <a:lnTo>
                    <a:pt x="3235" y="99"/>
                  </a:lnTo>
                  <a:lnTo>
                    <a:pt x="3238" y="98"/>
                  </a:lnTo>
                  <a:lnTo>
                    <a:pt x="3240" y="96"/>
                  </a:lnTo>
                  <a:lnTo>
                    <a:pt x="3243" y="94"/>
                  </a:lnTo>
                  <a:lnTo>
                    <a:pt x="3245" y="92"/>
                  </a:lnTo>
                  <a:lnTo>
                    <a:pt x="3248" y="91"/>
                  </a:lnTo>
                  <a:lnTo>
                    <a:pt x="3250" y="89"/>
                  </a:lnTo>
                  <a:lnTo>
                    <a:pt x="3253" y="87"/>
                  </a:lnTo>
                  <a:lnTo>
                    <a:pt x="3255" y="86"/>
                  </a:lnTo>
                  <a:lnTo>
                    <a:pt x="3258" y="84"/>
                  </a:lnTo>
                  <a:lnTo>
                    <a:pt x="3260" y="82"/>
                  </a:lnTo>
                  <a:lnTo>
                    <a:pt x="3263" y="81"/>
                  </a:lnTo>
                  <a:lnTo>
                    <a:pt x="3265" y="79"/>
                  </a:lnTo>
                  <a:lnTo>
                    <a:pt x="3268" y="77"/>
                  </a:lnTo>
                  <a:lnTo>
                    <a:pt x="3270" y="76"/>
                  </a:lnTo>
                  <a:lnTo>
                    <a:pt x="3273" y="74"/>
                  </a:lnTo>
                  <a:lnTo>
                    <a:pt x="3275" y="73"/>
                  </a:lnTo>
                  <a:lnTo>
                    <a:pt x="3278" y="71"/>
                  </a:lnTo>
                  <a:lnTo>
                    <a:pt x="3280" y="70"/>
                  </a:lnTo>
                  <a:lnTo>
                    <a:pt x="3283" y="68"/>
                  </a:lnTo>
                  <a:lnTo>
                    <a:pt x="3285" y="67"/>
                  </a:lnTo>
                  <a:lnTo>
                    <a:pt x="3288" y="65"/>
                  </a:lnTo>
                  <a:lnTo>
                    <a:pt x="3290" y="64"/>
                  </a:lnTo>
                  <a:lnTo>
                    <a:pt x="3293" y="62"/>
                  </a:lnTo>
                  <a:lnTo>
                    <a:pt x="3295" y="61"/>
                  </a:lnTo>
                  <a:lnTo>
                    <a:pt x="3298" y="60"/>
                  </a:lnTo>
                  <a:lnTo>
                    <a:pt x="3300" y="59"/>
                  </a:lnTo>
                  <a:lnTo>
                    <a:pt x="3303" y="57"/>
                  </a:lnTo>
                  <a:lnTo>
                    <a:pt x="3305" y="56"/>
                  </a:lnTo>
                  <a:lnTo>
                    <a:pt x="3308" y="55"/>
                  </a:lnTo>
                  <a:lnTo>
                    <a:pt x="3310" y="54"/>
                  </a:lnTo>
                  <a:lnTo>
                    <a:pt x="3313" y="53"/>
                  </a:lnTo>
                  <a:lnTo>
                    <a:pt x="3315" y="52"/>
                  </a:lnTo>
                  <a:lnTo>
                    <a:pt x="3318" y="51"/>
                  </a:lnTo>
                  <a:lnTo>
                    <a:pt x="3320" y="51"/>
                  </a:lnTo>
                  <a:lnTo>
                    <a:pt x="3323" y="50"/>
                  </a:lnTo>
                  <a:lnTo>
                    <a:pt x="3325" y="49"/>
                  </a:lnTo>
                  <a:lnTo>
                    <a:pt x="3328" y="49"/>
                  </a:lnTo>
                  <a:lnTo>
                    <a:pt x="3330" y="48"/>
                  </a:lnTo>
                  <a:lnTo>
                    <a:pt x="3333" y="48"/>
                  </a:lnTo>
                  <a:lnTo>
                    <a:pt x="3335" y="47"/>
                  </a:lnTo>
                  <a:lnTo>
                    <a:pt x="3338" y="47"/>
                  </a:lnTo>
                  <a:lnTo>
                    <a:pt x="3340" y="46"/>
                  </a:lnTo>
                  <a:lnTo>
                    <a:pt x="3343" y="46"/>
                  </a:lnTo>
                  <a:lnTo>
                    <a:pt x="3345" y="45"/>
                  </a:lnTo>
                  <a:lnTo>
                    <a:pt x="3348" y="45"/>
                  </a:lnTo>
                  <a:lnTo>
                    <a:pt x="3350" y="45"/>
                  </a:lnTo>
                  <a:lnTo>
                    <a:pt x="3353" y="45"/>
                  </a:lnTo>
                  <a:lnTo>
                    <a:pt x="3355" y="44"/>
                  </a:lnTo>
                  <a:lnTo>
                    <a:pt x="3358" y="44"/>
                  </a:lnTo>
                  <a:lnTo>
                    <a:pt x="3360" y="44"/>
                  </a:lnTo>
                  <a:lnTo>
                    <a:pt x="3363" y="44"/>
                  </a:lnTo>
                  <a:lnTo>
                    <a:pt x="3365" y="43"/>
                  </a:lnTo>
                  <a:lnTo>
                    <a:pt x="3368" y="43"/>
                  </a:lnTo>
                  <a:lnTo>
                    <a:pt x="3370" y="43"/>
                  </a:lnTo>
                  <a:lnTo>
                    <a:pt x="3373" y="43"/>
                  </a:lnTo>
                  <a:lnTo>
                    <a:pt x="3375" y="43"/>
                  </a:lnTo>
                  <a:lnTo>
                    <a:pt x="3378" y="43"/>
                  </a:lnTo>
                  <a:lnTo>
                    <a:pt x="3380" y="43"/>
                  </a:lnTo>
                  <a:lnTo>
                    <a:pt x="3383" y="43"/>
                  </a:lnTo>
                  <a:lnTo>
                    <a:pt x="3385" y="42"/>
                  </a:lnTo>
                  <a:lnTo>
                    <a:pt x="3388" y="42"/>
                  </a:lnTo>
                  <a:lnTo>
                    <a:pt x="3390" y="42"/>
                  </a:lnTo>
                  <a:lnTo>
                    <a:pt x="3393" y="42"/>
                  </a:lnTo>
                  <a:lnTo>
                    <a:pt x="3395" y="42"/>
                  </a:lnTo>
                  <a:lnTo>
                    <a:pt x="3398" y="42"/>
                  </a:lnTo>
                  <a:lnTo>
                    <a:pt x="3400" y="42"/>
                  </a:lnTo>
                  <a:lnTo>
                    <a:pt x="3403" y="42"/>
                  </a:lnTo>
                  <a:lnTo>
                    <a:pt x="3405" y="42"/>
                  </a:lnTo>
                  <a:lnTo>
                    <a:pt x="3408" y="42"/>
                  </a:lnTo>
                  <a:lnTo>
                    <a:pt x="3410" y="42"/>
                  </a:lnTo>
                  <a:lnTo>
                    <a:pt x="3413" y="42"/>
                  </a:lnTo>
                  <a:lnTo>
                    <a:pt x="3415" y="42"/>
                  </a:lnTo>
                  <a:lnTo>
                    <a:pt x="3418" y="42"/>
                  </a:lnTo>
                  <a:lnTo>
                    <a:pt x="3420" y="42"/>
                  </a:lnTo>
                  <a:lnTo>
                    <a:pt x="3423" y="42"/>
                  </a:lnTo>
                  <a:lnTo>
                    <a:pt x="3425" y="42"/>
                  </a:lnTo>
                  <a:lnTo>
                    <a:pt x="3428" y="41"/>
                  </a:lnTo>
                  <a:lnTo>
                    <a:pt x="3430" y="41"/>
                  </a:lnTo>
                  <a:lnTo>
                    <a:pt x="3433" y="41"/>
                  </a:lnTo>
                  <a:lnTo>
                    <a:pt x="3435" y="41"/>
                  </a:lnTo>
                  <a:lnTo>
                    <a:pt x="3438" y="41"/>
                  </a:lnTo>
                  <a:lnTo>
                    <a:pt x="3440" y="41"/>
                  </a:lnTo>
                  <a:lnTo>
                    <a:pt x="3443" y="41"/>
                  </a:lnTo>
                  <a:lnTo>
                    <a:pt x="3445" y="41"/>
                  </a:lnTo>
                  <a:lnTo>
                    <a:pt x="3448" y="41"/>
                  </a:lnTo>
                  <a:lnTo>
                    <a:pt x="3450" y="41"/>
                  </a:lnTo>
                  <a:lnTo>
                    <a:pt x="3453" y="41"/>
                  </a:lnTo>
                  <a:lnTo>
                    <a:pt x="3455" y="41"/>
                  </a:lnTo>
                  <a:lnTo>
                    <a:pt x="3458" y="40"/>
                  </a:lnTo>
                  <a:lnTo>
                    <a:pt x="3460" y="40"/>
                  </a:lnTo>
                  <a:lnTo>
                    <a:pt x="3463" y="40"/>
                  </a:lnTo>
                  <a:lnTo>
                    <a:pt x="3465" y="40"/>
                  </a:lnTo>
                  <a:lnTo>
                    <a:pt x="3468" y="40"/>
                  </a:lnTo>
                  <a:lnTo>
                    <a:pt x="3470" y="40"/>
                  </a:lnTo>
                  <a:lnTo>
                    <a:pt x="3473" y="40"/>
                  </a:lnTo>
                  <a:lnTo>
                    <a:pt x="3475" y="40"/>
                  </a:lnTo>
                  <a:lnTo>
                    <a:pt x="3478" y="39"/>
                  </a:lnTo>
                  <a:lnTo>
                    <a:pt x="3480" y="39"/>
                  </a:lnTo>
                  <a:lnTo>
                    <a:pt x="3483" y="39"/>
                  </a:lnTo>
                  <a:lnTo>
                    <a:pt x="3485" y="39"/>
                  </a:lnTo>
                  <a:lnTo>
                    <a:pt x="3488" y="39"/>
                  </a:lnTo>
                  <a:lnTo>
                    <a:pt x="3490" y="39"/>
                  </a:lnTo>
                  <a:lnTo>
                    <a:pt x="3493" y="39"/>
                  </a:lnTo>
                  <a:lnTo>
                    <a:pt x="3495" y="38"/>
                  </a:lnTo>
                  <a:lnTo>
                    <a:pt x="3498" y="38"/>
                  </a:lnTo>
                  <a:lnTo>
                    <a:pt x="3500" y="38"/>
                  </a:lnTo>
                  <a:lnTo>
                    <a:pt x="3503" y="38"/>
                  </a:lnTo>
                  <a:lnTo>
                    <a:pt x="3505" y="38"/>
                  </a:lnTo>
                  <a:lnTo>
                    <a:pt x="3508" y="38"/>
                  </a:lnTo>
                  <a:lnTo>
                    <a:pt x="3510" y="38"/>
                  </a:lnTo>
                  <a:lnTo>
                    <a:pt x="3513" y="38"/>
                  </a:lnTo>
                  <a:lnTo>
                    <a:pt x="3515" y="38"/>
                  </a:lnTo>
                  <a:lnTo>
                    <a:pt x="3518" y="37"/>
                  </a:lnTo>
                  <a:lnTo>
                    <a:pt x="3520" y="37"/>
                  </a:lnTo>
                  <a:lnTo>
                    <a:pt x="3523" y="37"/>
                  </a:lnTo>
                  <a:lnTo>
                    <a:pt x="3525" y="37"/>
                  </a:lnTo>
                  <a:lnTo>
                    <a:pt x="3528" y="37"/>
                  </a:lnTo>
                  <a:lnTo>
                    <a:pt x="3530" y="37"/>
                  </a:lnTo>
                  <a:lnTo>
                    <a:pt x="3533" y="37"/>
                  </a:lnTo>
                  <a:lnTo>
                    <a:pt x="3535" y="37"/>
                  </a:lnTo>
                  <a:lnTo>
                    <a:pt x="3538" y="36"/>
                  </a:lnTo>
                  <a:lnTo>
                    <a:pt x="3540" y="36"/>
                  </a:lnTo>
                  <a:lnTo>
                    <a:pt x="3543" y="36"/>
                  </a:lnTo>
                  <a:lnTo>
                    <a:pt x="3545" y="36"/>
                  </a:lnTo>
                  <a:lnTo>
                    <a:pt x="3548" y="36"/>
                  </a:lnTo>
                  <a:lnTo>
                    <a:pt x="3550" y="36"/>
                  </a:lnTo>
                  <a:lnTo>
                    <a:pt x="3553" y="36"/>
                  </a:lnTo>
                  <a:lnTo>
                    <a:pt x="3555" y="36"/>
                  </a:lnTo>
                  <a:lnTo>
                    <a:pt x="3558" y="36"/>
                  </a:lnTo>
                  <a:lnTo>
                    <a:pt x="3560" y="35"/>
                  </a:lnTo>
                  <a:lnTo>
                    <a:pt x="3563" y="35"/>
                  </a:lnTo>
                  <a:lnTo>
                    <a:pt x="3565" y="35"/>
                  </a:lnTo>
                  <a:lnTo>
                    <a:pt x="3568" y="35"/>
                  </a:lnTo>
                  <a:lnTo>
                    <a:pt x="3570" y="35"/>
                  </a:lnTo>
                  <a:lnTo>
                    <a:pt x="3573" y="35"/>
                  </a:lnTo>
                  <a:lnTo>
                    <a:pt x="3575" y="35"/>
                  </a:lnTo>
                  <a:lnTo>
                    <a:pt x="3578" y="35"/>
                  </a:lnTo>
                  <a:lnTo>
                    <a:pt x="3580" y="34"/>
                  </a:lnTo>
                  <a:lnTo>
                    <a:pt x="3583" y="34"/>
                  </a:lnTo>
                  <a:lnTo>
                    <a:pt x="3585" y="34"/>
                  </a:lnTo>
                  <a:lnTo>
                    <a:pt x="3588" y="34"/>
                  </a:lnTo>
                  <a:lnTo>
                    <a:pt x="3590" y="34"/>
                  </a:lnTo>
                  <a:lnTo>
                    <a:pt x="3593" y="34"/>
                  </a:lnTo>
                  <a:lnTo>
                    <a:pt x="3595" y="34"/>
                  </a:lnTo>
                  <a:lnTo>
                    <a:pt x="3598" y="34"/>
                  </a:lnTo>
                  <a:lnTo>
                    <a:pt x="3600" y="33"/>
                  </a:lnTo>
                  <a:lnTo>
                    <a:pt x="3603" y="33"/>
                  </a:lnTo>
                  <a:lnTo>
                    <a:pt x="3605" y="33"/>
                  </a:lnTo>
                  <a:lnTo>
                    <a:pt x="3608" y="33"/>
                  </a:lnTo>
                  <a:lnTo>
                    <a:pt x="3610" y="33"/>
                  </a:lnTo>
                  <a:lnTo>
                    <a:pt x="3613" y="33"/>
                  </a:lnTo>
                  <a:lnTo>
                    <a:pt x="3615" y="33"/>
                  </a:lnTo>
                  <a:lnTo>
                    <a:pt x="3618" y="32"/>
                  </a:lnTo>
                  <a:lnTo>
                    <a:pt x="3620" y="32"/>
                  </a:lnTo>
                  <a:lnTo>
                    <a:pt x="3623" y="32"/>
                  </a:lnTo>
                  <a:lnTo>
                    <a:pt x="3625" y="32"/>
                  </a:lnTo>
                  <a:lnTo>
                    <a:pt x="3628" y="32"/>
                  </a:lnTo>
                  <a:lnTo>
                    <a:pt x="3630" y="32"/>
                  </a:lnTo>
                  <a:lnTo>
                    <a:pt x="3633" y="32"/>
                  </a:lnTo>
                  <a:lnTo>
                    <a:pt x="3635" y="31"/>
                  </a:lnTo>
                  <a:lnTo>
                    <a:pt x="3638" y="31"/>
                  </a:lnTo>
                  <a:lnTo>
                    <a:pt x="3640" y="31"/>
                  </a:lnTo>
                  <a:lnTo>
                    <a:pt x="3643" y="31"/>
                  </a:lnTo>
                  <a:lnTo>
                    <a:pt x="3645" y="31"/>
                  </a:lnTo>
                  <a:lnTo>
                    <a:pt x="3648" y="31"/>
                  </a:lnTo>
                  <a:lnTo>
                    <a:pt x="3650" y="31"/>
                  </a:lnTo>
                  <a:lnTo>
                    <a:pt x="3653" y="31"/>
                  </a:lnTo>
                  <a:lnTo>
                    <a:pt x="3655" y="30"/>
                  </a:lnTo>
                  <a:lnTo>
                    <a:pt x="3658" y="30"/>
                  </a:lnTo>
                  <a:lnTo>
                    <a:pt x="3660" y="30"/>
                  </a:lnTo>
                  <a:lnTo>
                    <a:pt x="3663" y="30"/>
                  </a:lnTo>
                  <a:lnTo>
                    <a:pt x="3665" y="30"/>
                  </a:lnTo>
                  <a:lnTo>
                    <a:pt x="3668" y="30"/>
                  </a:lnTo>
                  <a:lnTo>
                    <a:pt x="3670" y="30"/>
                  </a:lnTo>
                  <a:lnTo>
                    <a:pt x="3673" y="29"/>
                  </a:lnTo>
                  <a:lnTo>
                    <a:pt x="3675" y="29"/>
                  </a:lnTo>
                  <a:lnTo>
                    <a:pt x="3678" y="29"/>
                  </a:lnTo>
                  <a:lnTo>
                    <a:pt x="3680" y="29"/>
                  </a:lnTo>
                  <a:lnTo>
                    <a:pt x="3683" y="29"/>
                  </a:lnTo>
                  <a:lnTo>
                    <a:pt x="3685" y="29"/>
                  </a:lnTo>
                  <a:lnTo>
                    <a:pt x="3688" y="29"/>
                  </a:lnTo>
                  <a:lnTo>
                    <a:pt x="3690" y="29"/>
                  </a:lnTo>
                  <a:lnTo>
                    <a:pt x="3693" y="29"/>
                  </a:lnTo>
                  <a:lnTo>
                    <a:pt x="3695" y="28"/>
                  </a:lnTo>
                  <a:lnTo>
                    <a:pt x="3698" y="28"/>
                  </a:lnTo>
                  <a:lnTo>
                    <a:pt x="3700" y="28"/>
                  </a:lnTo>
                  <a:lnTo>
                    <a:pt x="3703" y="28"/>
                  </a:lnTo>
                  <a:lnTo>
                    <a:pt x="3705" y="28"/>
                  </a:lnTo>
                  <a:lnTo>
                    <a:pt x="3708" y="28"/>
                  </a:lnTo>
                  <a:lnTo>
                    <a:pt x="3710" y="28"/>
                  </a:lnTo>
                  <a:lnTo>
                    <a:pt x="3713" y="28"/>
                  </a:lnTo>
                  <a:lnTo>
                    <a:pt x="3715" y="28"/>
                  </a:lnTo>
                  <a:lnTo>
                    <a:pt x="3717" y="27"/>
                  </a:lnTo>
                  <a:lnTo>
                    <a:pt x="3720" y="27"/>
                  </a:lnTo>
                  <a:lnTo>
                    <a:pt x="3723" y="27"/>
                  </a:lnTo>
                  <a:lnTo>
                    <a:pt x="3725" y="27"/>
                  </a:lnTo>
                  <a:lnTo>
                    <a:pt x="3728" y="27"/>
                  </a:lnTo>
                  <a:lnTo>
                    <a:pt x="3730" y="27"/>
                  </a:lnTo>
                  <a:lnTo>
                    <a:pt x="3733" y="27"/>
                  </a:lnTo>
                  <a:lnTo>
                    <a:pt x="3735" y="27"/>
                  </a:lnTo>
                  <a:lnTo>
                    <a:pt x="3738" y="27"/>
                  </a:lnTo>
                  <a:lnTo>
                    <a:pt x="3740" y="27"/>
                  </a:lnTo>
                  <a:lnTo>
                    <a:pt x="3743" y="27"/>
                  </a:lnTo>
                  <a:lnTo>
                    <a:pt x="3745" y="26"/>
                  </a:lnTo>
                  <a:lnTo>
                    <a:pt x="3748" y="26"/>
                  </a:lnTo>
                  <a:lnTo>
                    <a:pt x="3750" y="26"/>
                  </a:lnTo>
                  <a:lnTo>
                    <a:pt x="3753" y="26"/>
                  </a:lnTo>
                  <a:lnTo>
                    <a:pt x="3755" y="26"/>
                  </a:lnTo>
                  <a:lnTo>
                    <a:pt x="3758" y="26"/>
                  </a:lnTo>
                  <a:lnTo>
                    <a:pt x="3760" y="26"/>
                  </a:lnTo>
                  <a:lnTo>
                    <a:pt x="3763" y="26"/>
                  </a:lnTo>
                  <a:lnTo>
                    <a:pt x="3765" y="26"/>
                  </a:lnTo>
                  <a:lnTo>
                    <a:pt x="3768" y="26"/>
                  </a:lnTo>
                  <a:lnTo>
                    <a:pt x="3770" y="26"/>
                  </a:lnTo>
                  <a:lnTo>
                    <a:pt x="3773" y="26"/>
                  </a:lnTo>
                  <a:lnTo>
                    <a:pt x="3775" y="26"/>
                  </a:lnTo>
                  <a:lnTo>
                    <a:pt x="3778" y="26"/>
                  </a:lnTo>
                  <a:lnTo>
                    <a:pt x="3780" y="26"/>
                  </a:lnTo>
                  <a:lnTo>
                    <a:pt x="3783" y="25"/>
                  </a:lnTo>
                  <a:lnTo>
                    <a:pt x="3785" y="25"/>
                  </a:lnTo>
                  <a:lnTo>
                    <a:pt x="3788" y="25"/>
                  </a:lnTo>
                  <a:lnTo>
                    <a:pt x="3790" y="25"/>
                  </a:lnTo>
                  <a:lnTo>
                    <a:pt x="3793" y="25"/>
                  </a:lnTo>
                  <a:lnTo>
                    <a:pt x="3795" y="25"/>
                  </a:lnTo>
                  <a:lnTo>
                    <a:pt x="3797" y="25"/>
                  </a:lnTo>
                  <a:lnTo>
                    <a:pt x="3800" y="25"/>
                  </a:lnTo>
                  <a:lnTo>
                    <a:pt x="3803" y="25"/>
                  </a:lnTo>
                  <a:lnTo>
                    <a:pt x="3805" y="25"/>
                  </a:lnTo>
                  <a:lnTo>
                    <a:pt x="3808" y="25"/>
                  </a:lnTo>
                  <a:lnTo>
                    <a:pt x="3810" y="25"/>
                  </a:lnTo>
                  <a:lnTo>
                    <a:pt x="3813" y="25"/>
                  </a:lnTo>
                  <a:lnTo>
                    <a:pt x="3815" y="25"/>
                  </a:lnTo>
                  <a:lnTo>
                    <a:pt x="3818" y="25"/>
                  </a:lnTo>
                  <a:lnTo>
                    <a:pt x="3820" y="25"/>
                  </a:lnTo>
                  <a:lnTo>
                    <a:pt x="3823" y="25"/>
                  </a:lnTo>
                  <a:lnTo>
                    <a:pt x="3825" y="25"/>
                  </a:lnTo>
                  <a:lnTo>
                    <a:pt x="3828" y="25"/>
                  </a:lnTo>
                  <a:lnTo>
                    <a:pt x="3830" y="25"/>
                  </a:lnTo>
                  <a:lnTo>
                    <a:pt x="3833" y="25"/>
                  </a:lnTo>
                  <a:lnTo>
                    <a:pt x="3835" y="25"/>
                  </a:lnTo>
                  <a:lnTo>
                    <a:pt x="3838" y="25"/>
                  </a:lnTo>
                  <a:lnTo>
                    <a:pt x="3840" y="25"/>
                  </a:lnTo>
                  <a:lnTo>
                    <a:pt x="3842" y="25"/>
                  </a:lnTo>
                  <a:lnTo>
                    <a:pt x="3845" y="25"/>
                  </a:lnTo>
                  <a:lnTo>
                    <a:pt x="3848" y="25"/>
                  </a:lnTo>
                  <a:lnTo>
                    <a:pt x="3850" y="25"/>
                  </a:lnTo>
                  <a:lnTo>
                    <a:pt x="3853" y="25"/>
                  </a:lnTo>
                  <a:lnTo>
                    <a:pt x="3855" y="25"/>
                  </a:lnTo>
                  <a:lnTo>
                    <a:pt x="3858" y="25"/>
                  </a:lnTo>
                  <a:lnTo>
                    <a:pt x="3860" y="25"/>
                  </a:lnTo>
                  <a:lnTo>
                    <a:pt x="3863" y="25"/>
                  </a:lnTo>
                  <a:lnTo>
                    <a:pt x="3865" y="25"/>
                  </a:lnTo>
                  <a:lnTo>
                    <a:pt x="3868" y="25"/>
                  </a:lnTo>
                  <a:lnTo>
                    <a:pt x="3870" y="25"/>
                  </a:lnTo>
                  <a:lnTo>
                    <a:pt x="3873" y="25"/>
                  </a:lnTo>
                  <a:lnTo>
                    <a:pt x="3875" y="25"/>
                  </a:lnTo>
                  <a:lnTo>
                    <a:pt x="3877" y="25"/>
                  </a:lnTo>
                  <a:lnTo>
                    <a:pt x="3880" y="26"/>
                  </a:lnTo>
                  <a:lnTo>
                    <a:pt x="3883" y="26"/>
                  </a:lnTo>
                  <a:lnTo>
                    <a:pt x="3885" y="26"/>
                  </a:lnTo>
                  <a:lnTo>
                    <a:pt x="3888" y="26"/>
                  </a:lnTo>
                  <a:lnTo>
                    <a:pt x="3890" y="26"/>
                  </a:lnTo>
                  <a:lnTo>
                    <a:pt x="3893" y="26"/>
                  </a:lnTo>
                  <a:lnTo>
                    <a:pt x="3895" y="26"/>
                  </a:lnTo>
                  <a:lnTo>
                    <a:pt x="3898" y="26"/>
                  </a:lnTo>
                  <a:lnTo>
                    <a:pt x="3900" y="26"/>
                  </a:lnTo>
                  <a:lnTo>
                    <a:pt x="3903" y="26"/>
                  </a:lnTo>
                  <a:lnTo>
                    <a:pt x="3905" y="26"/>
                  </a:lnTo>
                  <a:lnTo>
                    <a:pt x="3908" y="26"/>
                  </a:lnTo>
                  <a:lnTo>
                    <a:pt x="3910" y="26"/>
                  </a:lnTo>
                  <a:lnTo>
                    <a:pt x="3913" y="26"/>
                  </a:lnTo>
                  <a:lnTo>
                    <a:pt x="3915" y="27"/>
                  </a:lnTo>
                  <a:lnTo>
                    <a:pt x="3918" y="27"/>
                  </a:lnTo>
                  <a:lnTo>
                    <a:pt x="3920" y="27"/>
                  </a:lnTo>
                  <a:lnTo>
                    <a:pt x="3922" y="27"/>
                  </a:lnTo>
                  <a:lnTo>
                    <a:pt x="3925" y="27"/>
                  </a:lnTo>
                  <a:lnTo>
                    <a:pt x="3928" y="27"/>
                  </a:lnTo>
                  <a:lnTo>
                    <a:pt x="3930" y="27"/>
                  </a:lnTo>
                  <a:lnTo>
                    <a:pt x="3933" y="27"/>
                  </a:lnTo>
                  <a:lnTo>
                    <a:pt x="3935" y="27"/>
                  </a:lnTo>
                  <a:lnTo>
                    <a:pt x="3938" y="27"/>
                  </a:lnTo>
                  <a:lnTo>
                    <a:pt x="3940" y="28"/>
                  </a:lnTo>
                  <a:lnTo>
                    <a:pt x="3943" y="28"/>
                  </a:lnTo>
                  <a:lnTo>
                    <a:pt x="3945" y="28"/>
                  </a:lnTo>
                  <a:lnTo>
                    <a:pt x="3948" y="28"/>
                  </a:lnTo>
                  <a:lnTo>
                    <a:pt x="3950" y="28"/>
                  </a:lnTo>
                  <a:lnTo>
                    <a:pt x="3953" y="28"/>
                  </a:lnTo>
                  <a:lnTo>
                    <a:pt x="3955" y="29"/>
                  </a:lnTo>
                  <a:lnTo>
                    <a:pt x="3957" y="29"/>
                  </a:lnTo>
                  <a:lnTo>
                    <a:pt x="3960" y="29"/>
                  </a:lnTo>
                  <a:lnTo>
                    <a:pt x="3963" y="29"/>
                  </a:lnTo>
                  <a:lnTo>
                    <a:pt x="3965" y="29"/>
                  </a:lnTo>
                  <a:lnTo>
                    <a:pt x="3967" y="30"/>
                  </a:lnTo>
                  <a:lnTo>
                    <a:pt x="3970" y="30"/>
                  </a:lnTo>
                  <a:lnTo>
                    <a:pt x="3973" y="30"/>
                  </a:lnTo>
                  <a:lnTo>
                    <a:pt x="3975" y="30"/>
                  </a:lnTo>
                  <a:lnTo>
                    <a:pt x="3978" y="30"/>
                  </a:lnTo>
                  <a:lnTo>
                    <a:pt x="3980" y="31"/>
                  </a:lnTo>
                  <a:lnTo>
                    <a:pt x="3983" y="31"/>
                  </a:lnTo>
                  <a:lnTo>
                    <a:pt x="3985" y="31"/>
                  </a:lnTo>
                  <a:lnTo>
                    <a:pt x="3988" y="31"/>
                  </a:lnTo>
                  <a:lnTo>
                    <a:pt x="3990" y="32"/>
                  </a:lnTo>
                  <a:lnTo>
                    <a:pt x="3993" y="32"/>
                  </a:lnTo>
                  <a:lnTo>
                    <a:pt x="3995" y="32"/>
                  </a:lnTo>
                  <a:lnTo>
                    <a:pt x="3998" y="32"/>
                  </a:lnTo>
                  <a:lnTo>
                    <a:pt x="4000" y="32"/>
                  </a:lnTo>
                  <a:lnTo>
                    <a:pt x="4003" y="33"/>
                  </a:lnTo>
                  <a:lnTo>
                    <a:pt x="4005" y="33"/>
                  </a:lnTo>
                  <a:lnTo>
                    <a:pt x="4008" y="33"/>
                  </a:lnTo>
                  <a:lnTo>
                    <a:pt x="4010" y="33"/>
                  </a:lnTo>
                  <a:lnTo>
                    <a:pt x="4013" y="34"/>
                  </a:lnTo>
                  <a:lnTo>
                    <a:pt x="4015" y="34"/>
                  </a:lnTo>
                  <a:lnTo>
                    <a:pt x="4018" y="34"/>
                  </a:lnTo>
                  <a:lnTo>
                    <a:pt x="4020" y="35"/>
                  </a:lnTo>
                  <a:lnTo>
                    <a:pt x="4023" y="35"/>
                  </a:lnTo>
                  <a:lnTo>
                    <a:pt x="4025" y="35"/>
                  </a:lnTo>
                  <a:lnTo>
                    <a:pt x="4028" y="35"/>
                  </a:lnTo>
                  <a:lnTo>
                    <a:pt x="4030" y="36"/>
                  </a:lnTo>
                  <a:lnTo>
                    <a:pt x="4033" y="36"/>
                  </a:lnTo>
                  <a:lnTo>
                    <a:pt x="4035" y="36"/>
                  </a:lnTo>
                  <a:lnTo>
                    <a:pt x="4037" y="36"/>
                  </a:lnTo>
                  <a:lnTo>
                    <a:pt x="4040" y="37"/>
                  </a:lnTo>
                  <a:lnTo>
                    <a:pt x="4043" y="37"/>
                  </a:lnTo>
                  <a:lnTo>
                    <a:pt x="4045" y="37"/>
                  </a:lnTo>
                  <a:lnTo>
                    <a:pt x="4048" y="38"/>
                  </a:lnTo>
                  <a:lnTo>
                    <a:pt x="4050" y="38"/>
                  </a:lnTo>
                  <a:lnTo>
                    <a:pt x="4053" y="38"/>
                  </a:lnTo>
                  <a:lnTo>
                    <a:pt x="4055" y="39"/>
                  </a:lnTo>
                  <a:lnTo>
                    <a:pt x="4058" y="39"/>
                  </a:lnTo>
                  <a:lnTo>
                    <a:pt x="4060" y="39"/>
                  </a:lnTo>
                  <a:lnTo>
                    <a:pt x="4063" y="39"/>
                  </a:lnTo>
                  <a:lnTo>
                    <a:pt x="4065" y="40"/>
                  </a:lnTo>
                  <a:lnTo>
                    <a:pt x="4068" y="40"/>
                  </a:lnTo>
                  <a:lnTo>
                    <a:pt x="4070" y="40"/>
                  </a:lnTo>
                  <a:lnTo>
                    <a:pt x="4073" y="41"/>
                  </a:lnTo>
                  <a:lnTo>
                    <a:pt x="4075" y="41"/>
                  </a:lnTo>
                  <a:lnTo>
                    <a:pt x="4077" y="42"/>
                  </a:lnTo>
                  <a:lnTo>
                    <a:pt x="4080" y="42"/>
                  </a:lnTo>
                  <a:lnTo>
                    <a:pt x="4082" y="42"/>
                  </a:lnTo>
                  <a:lnTo>
                    <a:pt x="4085" y="43"/>
                  </a:lnTo>
                  <a:lnTo>
                    <a:pt x="4088" y="43"/>
                  </a:lnTo>
                  <a:lnTo>
                    <a:pt x="4090" y="43"/>
                  </a:lnTo>
                  <a:lnTo>
                    <a:pt x="4093" y="44"/>
                  </a:lnTo>
                  <a:lnTo>
                    <a:pt x="4095" y="44"/>
                  </a:lnTo>
                  <a:lnTo>
                    <a:pt x="4098" y="44"/>
                  </a:lnTo>
                  <a:lnTo>
                    <a:pt x="4100" y="45"/>
                  </a:lnTo>
                  <a:lnTo>
                    <a:pt x="4103" y="45"/>
                  </a:lnTo>
                  <a:lnTo>
                    <a:pt x="4105" y="45"/>
                  </a:lnTo>
                  <a:lnTo>
                    <a:pt x="4108" y="46"/>
                  </a:lnTo>
                  <a:lnTo>
                    <a:pt x="4110" y="46"/>
                  </a:lnTo>
                  <a:lnTo>
                    <a:pt x="4113" y="47"/>
                  </a:lnTo>
                  <a:lnTo>
                    <a:pt x="4115" y="47"/>
                  </a:lnTo>
                  <a:lnTo>
                    <a:pt x="4117" y="47"/>
                  </a:lnTo>
                  <a:lnTo>
                    <a:pt x="4120" y="48"/>
                  </a:lnTo>
                  <a:lnTo>
                    <a:pt x="4122" y="48"/>
                  </a:lnTo>
                  <a:lnTo>
                    <a:pt x="4125" y="48"/>
                  </a:lnTo>
                  <a:lnTo>
                    <a:pt x="4128" y="49"/>
                  </a:lnTo>
                  <a:lnTo>
                    <a:pt x="4130" y="49"/>
                  </a:lnTo>
                  <a:lnTo>
                    <a:pt x="4133" y="50"/>
                  </a:lnTo>
                  <a:lnTo>
                    <a:pt x="4135" y="50"/>
                  </a:lnTo>
                  <a:lnTo>
                    <a:pt x="4138" y="50"/>
                  </a:lnTo>
                  <a:lnTo>
                    <a:pt x="4140" y="51"/>
                  </a:lnTo>
                  <a:lnTo>
                    <a:pt x="4143" y="51"/>
                  </a:lnTo>
                  <a:lnTo>
                    <a:pt x="4145" y="52"/>
                  </a:lnTo>
                  <a:lnTo>
                    <a:pt x="4148" y="52"/>
                  </a:lnTo>
                  <a:lnTo>
                    <a:pt x="4150" y="52"/>
                  </a:lnTo>
                  <a:lnTo>
                    <a:pt x="4153" y="53"/>
                  </a:lnTo>
                  <a:lnTo>
                    <a:pt x="4155" y="53"/>
                  </a:lnTo>
                  <a:lnTo>
                    <a:pt x="4157" y="54"/>
                  </a:lnTo>
                  <a:lnTo>
                    <a:pt x="4160" y="54"/>
                  </a:lnTo>
                  <a:lnTo>
                    <a:pt x="4162" y="54"/>
                  </a:lnTo>
                  <a:lnTo>
                    <a:pt x="4165" y="55"/>
                  </a:lnTo>
                  <a:lnTo>
                    <a:pt x="4168" y="55"/>
                  </a:lnTo>
                  <a:lnTo>
                    <a:pt x="4170" y="56"/>
                  </a:lnTo>
                  <a:lnTo>
                    <a:pt x="4173" y="56"/>
                  </a:lnTo>
                  <a:lnTo>
                    <a:pt x="4175" y="56"/>
                  </a:lnTo>
                  <a:lnTo>
                    <a:pt x="4178" y="57"/>
                  </a:lnTo>
                  <a:lnTo>
                    <a:pt x="4180" y="57"/>
                  </a:lnTo>
                  <a:lnTo>
                    <a:pt x="4183" y="58"/>
                  </a:lnTo>
                  <a:lnTo>
                    <a:pt x="4185" y="58"/>
                  </a:lnTo>
                  <a:lnTo>
                    <a:pt x="4188" y="58"/>
                  </a:lnTo>
                  <a:lnTo>
                    <a:pt x="4190" y="59"/>
                  </a:lnTo>
                  <a:lnTo>
                    <a:pt x="4193" y="59"/>
                  </a:lnTo>
                  <a:lnTo>
                    <a:pt x="4195" y="60"/>
                  </a:lnTo>
                  <a:lnTo>
                    <a:pt x="4198" y="60"/>
                  </a:lnTo>
                  <a:lnTo>
                    <a:pt x="4200" y="60"/>
                  </a:lnTo>
                  <a:lnTo>
                    <a:pt x="4203" y="61"/>
                  </a:lnTo>
                  <a:lnTo>
                    <a:pt x="4205" y="61"/>
                  </a:lnTo>
                  <a:lnTo>
                    <a:pt x="4208" y="62"/>
                  </a:lnTo>
                  <a:lnTo>
                    <a:pt x="4210" y="62"/>
                  </a:lnTo>
                  <a:lnTo>
                    <a:pt x="4213" y="63"/>
                  </a:lnTo>
                  <a:lnTo>
                    <a:pt x="4215" y="63"/>
                  </a:lnTo>
                  <a:lnTo>
                    <a:pt x="4218" y="63"/>
                  </a:lnTo>
                  <a:lnTo>
                    <a:pt x="4220" y="64"/>
                  </a:lnTo>
                  <a:lnTo>
                    <a:pt x="4223" y="64"/>
                  </a:lnTo>
                  <a:lnTo>
                    <a:pt x="4225" y="65"/>
                  </a:lnTo>
                  <a:lnTo>
                    <a:pt x="4228" y="65"/>
                  </a:lnTo>
                  <a:lnTo>
                    <a:pt x="4230" y="66"/>
                  </a:lnTo>
                  <a:lnTo>
                    <a:pt x="4233" y="66"/>
                  </a:lnTo>
                  <a:lnTo>
                    <a:pt x="4235" y="66"/>
                  </a:lnTo>
                  <a:lnTo>
                    <a:pt x="4238" y="67"/>
                  </a:lnTo>
                  <a:lnTo>
                    <a:pt x="4240" y="67"/>
                  </a:lnTo>
                  <a:lnTo>
                    <a:pt x="4243" y="68"/>
                  </a:lnTo>
                  <a:lnTo>
                    <a:pt x="4245" y="68"/>
                  </a:lnTo>
                  <a:lnTo>
                    <a:pt x="4248" y="69"/>
                  </a:lnTo>
                  <a:lnTo>
                    <a:pt x="4250" y="69"/>
                  </a:lnTo>
                  <a:lnTo>
                    <a:pt x="4253" y="70"/>
                  </a:lnTo>
                  <a:lnTo>
                    <a:pt x="4255" y="70"/>
                  </a:lnTo>
                  <a:lnTo>
                    <a:pt x="4258" y="70"/>
                  </a:lnTo>
                  <a:lnTo>
                    <a:pt x="4260" y="71"/>
                  </a:lnTo>
                  <a:lnTo>
                    <a:pt x="4263" y="71"/>
                  </a:lnTo>
                  <a:lnTo>
                    <a:pt x="4265" y="72"/>
                  </a:lnTo>
                  <a:lnTo>
                    <a:pt x="4268" y="72"/>
                  </a:lnTo>
                  <a:lnTo>
                    <a:pt x="4270" y="73"/>
                  </a:lnTo>
                  <a:lnTo>
                    <a:pt x="4273" y="73"/>
                  </a:lnTo>
                  <a:lnTo>
                    <a:pt x="4275" y="74"/>
                  </a:lnTo>
                  <a:lnTo>
                    <a:pt x="4278" y="74"/>
                  </a:lnTo>
                  <a:lnTo>
                    <a:pt x="4280" y="74"/>
                  </a:lnTo>
                  <a:lnTo>
                    <a:pt x="4283" y="75"/>
                  </a:lnTo>
                  <a:lnTo>
                    <a:pt x="4285" y="75"/>
                  </a:lnTo>
                  <a:lnTo>
                    <a:pt x="4288" y="76"/>
                  </a:lnTo>
                  <a:lnTo>
                    <a:pt x="4290" y="76"/>
                  </a:lnTo>
                  <a:lnTo>
                    <a:pt x="4293" y="77"/>
                  </a:lnTo>
                  <a:lnTo>
                    <a:pt x="4295" y="77"/>
                  </a:lnTo>
                  <a:lnTo>
                    <a:pt x="4298" y="78"/>
                  </a:lnTo>
                  <a:lnTo>
                    <a:pt x="4300" y="78"/>
                  </a:lnTo>
                  <a:lnTo>
                    <a:pt x="4303" y="78"/>
                  </a:lnTo>
                  <a:lnTo>
                    <a:pt x="4305" y="79"/>
                  </a:lnTo>
                  <a:lnTo>
                    <a:pt x="4308" y="79"/>
                  </a:lnTo>
                  <a:lnTo>
                    <a:pt x="4310" y="80"/>
                  </a:lnTo>
                  <a:lnTo>
                    <a:pt x="4313" y="80"/>
                  </a:lnTo>
                  <a:lnTo>
                    <a:pt x="4315" y="81"/>
                  </a:lnTo>
                  <a:lnTo>
                    <a:pt x="4318" y="81"/>
                  </a:lnTo>
                  <a:lnTo>
                    <a:pt x="4320" y="82"/>
                  </a:lnTo>
                  <a:lnTo>
                    <a:pt x="4323" y="82"/>
                  </a:lnTo>
                  <a:lnTo>
                    <a:pt x="4325" y="82"/>
                  </a:lnTo>
                  <a:lnTo>
                    <a:pt x="4328" y="83"/>
                  </a:lnTo>
                  <a:lnTo>
                    <a:pt x="4330" y="83"/>
                  </a:lnTo>
                  <a:lnTo>
                    <a:pt x="4333" y="84"/>
                  </a:lnTo>
                  <a:lnTo>
                    <a:pt x="4335" y="84"/>
                  </a:lnTo>
                  <a:lnTo>
                    <a:pt x="4338" y="85"/>
                  </a:lnTo>
                  <a:lnTo>
                    <a:pt x="4340" y="85"/>
                  </a:lnTo>
                  <a:lnTo>
                    <a:pt x="4343" y="86"/>
                  </a:lnTo>
                  <a:lnTo>
                    <a:pt x="4345" y="86"/>
                  </a:lnTo>
                  <a:lnTo>
                    <a:pt x="4348" y="86"/>
                  </a:lnTo>
                  <a:lnTo>
                    <a:pt x="4350" y="87"/>
                  </a:lnTo>
                  <a:lnTo>
                    <a:pt x="4353" y="87"/>
                  </a:lnTo>
                  <a:lnTo>
                    <a:pt x="4355" y="88"/>
                  </a:lnTo>
                  <a:lnTo>
                    <a:pt x="4358" y="88"/>
                  </a:lnTo>
                  <a:lnTo>
                    <a:pt x="4360" y="89"/>
                  </a:lnTo>
                  <a:lnTo>
                    <a:pt x="4363" y="89"/>
                  </a:lnTo>
                  <a:lnTo>
                    <a:pt x="4365" y="90"/>
                  </a:lnTo>
                  <a:lnTo>
                    <a:pt x="4368" y="90"/>
                  </a:lnTo>
                  <a:lnTo>
                    <a:pt x="4370" y="90"/>
                  </a:lnTo>
                  <a:lnTo>
                    <a:pt x="4373" y="91"/>
                  </a:lnTo>
                  <a:lnTo>
                    <a:pt x="4375" y="91"/>
                  </a:lnTo>
                  <a:lnTo>
                    <a:pt x="4378" y="92"/>
                  </a:lnTo>
                  <a:lnTo>
                    <a:pt x="4380" y="92"/>
                  </a:lnTo>
                  <a:lnTo>
                    <a:pt x="4383" y="93"/>
                  </a:lnTo>
                  <a:lnTo>
                    <a:pt x="4385" y="93"/>
                  </a:lnTo>
                  <a:lnTo>
                    <a:pt x="4388" y="93"/>
                  </a:lnTo>
                  <a:lnTo>
                    <a:pt x="4390" y="94"/>
                  </a:lnTo>
                  <a:lnTo>
                    <a:pt x="4393" y="94"/>
                  </a:lnTo>
                  <a:lnTo>
                    <a:pt x="4395" y="95"/>
                  </a:lnTo>
                  <a:lnTo>
                    <a:pt x="4398" y="95"/>
                  </a:lnTo>
                  <a:lnTo>
                    <a:pt x="4400" y="96"/>
                  </a:lnTo>
                  <a:lnTo>
                    <a:pt x="4403" y="96"/>
                  </a:lnTo>
                  <a:lnTo>
                    <a:pt x="4405" y="96"/>
                  </a:lnTo>
                  <a:lnTo>
                    <a:pt x="4408" y="97"/>
                  </a:lnTo>
                  <a:lnTo>
                    <a:pt x="4410" y="97"/>
                  </a:lnTo>
                  <a:lnTo>
                    <a:pt x="4413" y="98"/>
                  </a:lnTo>
                  <a:lnTo>
                    <a:pt x="4415" y="98"/>
                  </a:lnTo>
                  <a:lnTo>
                    <a:pt x="4418" y="99"/>
                  </a:lnTo>
                  <a:lnTo>
                    <a:pt x="4420" y="99"/>
                  </a:lnTo>
                  <a:lnTo>
                    <a:pt x="4423" y="99"/>
                  </a:lnTo>
                  <a:lnTo>
                    <a:pt x="4425" y="100"/>
                  </a:lnTo>
                  <a:lnTo>
                    <a:pt x="4428" y="100"/>
                  </a:lnTo>
                  <a:lnTo>
                    <a:pt x="4430" y="101"/>
                  </a:lnTo>
                  <a:lnTo>
                    <a:pt x="4433" y="101"/>
                  </a:lnTo>
                  <a:lnTo>
                    <a:pt x="4435" y="102"/>
                  </a:lnTo>
                  <a:lnTo>
                    <a:pt x="4438" y="102"/>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049" name=""/>
            <p:cNvSpPr/>
            <p:nvPr/>
          </p:nvSpPr>
          <p:spPr>
            <a:xfrm flipV="1">
              <a:off x="1760040" y="4642560"/>
              <a:ext cx="6363000" cy="781560"/>
            </a:xfrm>
            <a:custGeom>
              <a:avLst/>
              <a:gdLst/>
              <a:ahLst/>
              <a:rect l="l" t="t" r="r" b="b"/>
              <a:pathLst>
                <a:path w="4438" h="865">
                  <a:moveTo>
                    <a:pt x="0" y="113"/>
                  </a:moveTo>
                  <a:lnTo>
                    <a:pt x="3" y="112"/>
                  </a:lnTo>
                  <a:lnTo>
                    <a:pt x="5" y="110"/>
                  </a:lnTo>
                  <a:lnTo>
                    <a:pt x="8" y="109"/>
                  </a:lnTo>
                  <a:lnTo>
                    <a:pt x="10" y="107"/>
                  </a:lnTo>
                  <a:lnTo>
                    <a:pt x="13" y="106"/>
                  </a:lnTo>
                  <a:lnTo>
                    <a:pt x="15" y="105"/>
                  </a:lnTo>
                  <a:lnTo>
                    <a:pt x="18" y="103"/>
                  </a:lnTo>
                  <a:lnTo>
                    <a:pt x="20" y="102"/>
                  </a:lnTo>
                  <a:lnTo>
                    <a:pt x="23" y="101"/>
                  </a:lnTo>
                  <a:lnTo>
                    <a:pt x="25" y="99"/>
                  </a:lnTo>
                  <a:lnTo>
                    <a:pt x="28" y="98"/>
                  </a:lnTo>
                  <a:lnTo>
                    <a:pt x="30" y="97"/>
                  </a:lnTo>
                  <a:lnTo>
                    <a:pt x="33" y="95"/>
                  </a:lnTo>
                  <a:lnTo>
                    <a:pt x="35" y="94"/>
                  </a:lnTo>
                  <a:lnTo>
                    <a:pt x="38" y="92"/>
                  </a:lnTo>
                  <a:lnTo>
                    <a:pt x="40" y="91"/>
                  </a:lnTo>
                  <a:lnTo>
                    <a:pt x="43" y="90"/>
                  </a:lnTo>
                  <a:lnTo>
                    <a:pt x="45" y="88"/>
                  </a:lnTo>
                  <a:lnTo>
                    <a:pt x="48" y="87"/>
                  </a:lnTo>
                  <a:lnTo>
                    <a:pt x="50" y="85"/>
                  </a:lnTo>
                  <a:lnTo>
                    <a:pt x="53" y="84"/>
                  </a:lnTo>
                  <a:lnTo>
                    <a:pt x="55" y="83"/>
                  </a:lnTo>
                  <a:lnTo>
                    <a:pt x="58" y="81"/>
                  </a:lnTo>
                  <a:lnTo>
                    <a:pt x="60" y="80"/>
                  </a:lnTo>
                  <a:lnTo>
                    <a:pt x="63" y="78"/>
                  </a:lnTo>
                  <a:lnTo>
                    <a:pt x="65" y="77"/>
                  </a:lnTo>
                  <a:lnTo>
                    <a:pt x="68" y="76"/>
                  </a:lnTo>
                  <a:lnTo>
                    <a:pt x="70" y="74"/>
                  </a:lnTo>
                  <a:lnTo>
                    <a:pt x="73" y="73"/>
                  </a:lnTo>
                  <a:lnTo>
                    <a:pt x="75" y="71"/>
                  </a:lnTo>
                  <a:lnTo>
                    <a:pt x="78" y="70"/>
                  </a:lnTo>
                  <a:lnTo>
                    <a:pt x="80" y="69"/>
                  </a:lnTo>
                  <a:lnTo>
                    <a:pt x="83" y="67"/>
                  </a:lnTo>
                  <a:lnTo>
                    <a:pt x="85" y="66"/>
                  </a:lnTo>
                  <a:lnTo>
                    <a:pt x="88" y="64"/>
                  </a:lnTo>
                  <a:lnTo>
                    <a:pt x="90" y="63"/>
                  </a:lnTo>
                  <a:lnTo>
                    <a:pt x="93" y="61"/>
                  </a:lnTo>
                  <a:lnTo>
                    <a:pt x="95" y="60"/>
                  </a:lnTo>
                  <a:lnTo>
                    <a:pt x="98" y="59"/>
                  </a:lnTo>
                  <a:lnTo>
                    <a:pt x="100" y="57"/>
                  </a:lnTo>
                  <a:lnTo>
                    <a:pt x="103" y="56"/>
                  </a:lnTo>
                  <a:lnTo>
                    <a:pt x="105" y="54"/>
                  </a:lnTo>
                  <a:lnTo>
                    <a:pt x="108" y="53"/>
                  </a:lnTo>
                  <a:lnTo>
                    <a:pt x="110" y="51"/>
                  </a:lnTo>
                  <a:lnTo>
                    <a:pt x="113" y="49"/>
                  </a:lnTo>
                  <a:lnTo>
                    <a:pt x="115" y="48"/>
                  </a:lnTo>
                  <a:lnTo>
                    <a:pt x="118" y="46"/>
                  </a:lnTo>
                  <a:lnTo>
                    <a:pt x="120" y="45"/>
                  </a:lnTo>
                  <a:lnTo>
                    <a:pt x="123" y="43"/>
                  </a:lnTo>
                  <a:lnTo>
                    <a:pt x="125" y="42"/>
                  </a:lnTo>
                  <a:lnTo>
                    <a:pt x="128" y="40"/>
                  </a:lnTo>
                  <a:lnTo>
                    <a:pt x="130" y="39"/>
                  </a:lnTo>
                  <a:lnTo>
                    <a:pt x="133" y="37"/>
                  </a:lnTo>
                  <a:lnTo>
                    <a:pt x="135" y="36"/>
                  </a:lnTo>
                  <a:lnTo>
                    <a:pt x="138" y="34"/>
                  </a:lnTo>
                  <a:lnTo>
                    <a:pt x="140" y="32"/>
                  </a:lnTo>
                  <a:lnTo>
                    <a:pt x="143" y="31"/>
                  </a:lnTo>
                  <a:lnTo>
                    <a:pt x="145" y="29"/>
                  </a:lnTo>
                  <a:lnTo>
                    <a:pt x="148" y="28"/>
                  </a:lnTo>
                  <a:lnTo>
                    <a:pt x="150" y="26"/>
                  </a:lnTo>
                  <a:lnTo>
                    <a:pt x="153" y="25"/>
                  </a:lnTo>
                  <a:lnTo>
                    <a:pt x="155" y="23"/>
                  </a:lnTo>
                  <a:lnTo>
                    <a:pt x="158" y="22"/>
                  </a:lnTo>
                  <a:lnTo>
                    <a:pt x="160" y="20"/>
                  </a:lnTo>
                  <a:lnTo>
                    <a:pt x="163" y="19"/>
                  </a:lnTo>
                  <a:lnTo>
                    <a:pt x="165" y="18"/>
                  </a:lnTo>
                  <a:lnTo>
                    <a:pt x="168" y="16"/>
                  </a:lnTo>
                  <a:lnTo>
                    <a:pt x="170" y="15"/>
                  </a:lnTo>
                  <a:lnTo>
                    <a:pt x="173" y="14"/>
                  </a:lnTo>
                  <a:lnTo>
                    <a:pt x="175" y="12"/>
                  </a:lnTo>
                  <a:lnTo>
                    <a:pt x="178" y="11"/>
                  </a:lnTo>
                  <a:lnTo>
                    <a:pt x="180" y="10"/>
                  </a:lnTo>
                  <a:lnTo>
                    <a:pt x="183" y="9"/>
                  </a:lnTo>
                  <a:lnTo>
                    <a:pt x="185" y="8"/>
                  </a:lnTo>
                  <a:lnTo>
                    <a:pt x="188" y="7"/>
                  </a:lnTo>
                  <a:lnTo>
                    <a:pt x="190" y="6"/>
                  </a:lnTo>
                  <a:lnTo>
                    <a:pt x="193" y="5"/>
                  </a:lnTo>
                  <a:lnTo>
                    <a:pt x="195" y="4"/>
                  </a:lnTo>
                  <a:lnTo>
                    <a:pt x="198" y="4"/>
                  </a:lnTo>
                  <a:lnTo>
                    <a:pt x="200" y="3"/>
                  </a:lnTo>
                  <a:lnTo>
                    <a:pt x="203" y="2"/>
                  </a:lnTo>
                  <a:lnTo>
                    <a:pt x="205" y="2"/>
                  </a:lnTo>
                  <a:lnTo>
                    <a:pt x="208" y="2"/>
                  </a:lnTo>
                  <a:lnTo>
                    <a:pt x="210" y="1"/>
                  </a:lnTo>
                  <a:lnTo>
                    <a:pt x="213" y="1"/>
                  </a:lnTo>
                  <a:lnTo>
                    <a:pt x="215" y="0"/>
                  </a:lnTo>
                  <a:lnTo>
                    <a:pt x="218" y="0"/>
                  </a:lnTo>
                  <a:lnTo>
                    <a:pt x="220" y="0"/>
                  </a:lnTo>
                  <a:lnTo>
                    <a:pt x="223" y="0"/>
                  </a:lnTo>
                  <a:lnTo>
                    <a:pt x="225" y="0"/>
                  </a:lnTo>
                  <a:lnTo>
                    <a:pt x="228" y="0"/>
                  </a:lnTo>
                  <a:lnTo>
                    <a:pt x="230" y="0"/>
                  </a:lnTo>
                  <a:lnTo>
                    <a:pt x="233" y="0"/>
                  </a:lnTo>
                  <a:lnTo>
                    <a:pt x="235" y="0"/>
                  </a:lnTo>
                  <a:lnTo>
                    <a:pt x="238" y="0"/>
                  </a:lnTo>
                  <a:lnTo>
                    <a:pt x="240" y="0"/>
                  </a:lnTo>
                  <a:lnTo>
                    <a:pt x="243" y="0"/>
                  </a:lnTo>
                  <a:lnTo>
                    <a:pt x="245" y="0"/>
                  </a:lnTo>
                  <a:lnTo>
                    <a:pt x="248" y="1"/>
                  </a:lnTo>
                  <a:lnTo>
                    <a:pt x="250" y="1"/>
                  </a:lnTo>
                  <a:lnTo>
                    <a:pt x="253" y="1"/>
                  </a:lnTo>
                  <a:lnTo>
                    <a:pt x="255" y="2"/>
                  </a:lnTo>
                  <a:lnTo>
                    <a:pt x="258" y="2"/>
                  </a:lnTo>
                  <a:lnTo>
                    <a:pt x="260" y="3"/>
                  </a:lnTo>
                  <a:lnTo>
                    <a:pt x="263" y="4"/>
                  </a:lnTo>
                  <a:lnTo>
                    <a:pt x="265" y="4"/>
                  </a:lnTo>
                  <a:lnTo>
                    <a:pt x="268" y="5"/>
                  </a:lnTo>
                  <a:lnTo>
                    <a:pt x="270" y="6"/>
                  </a:lnTo>
                  <a:lnTo>
                    <a:pt x="273" y="6"/>
                  </a:lnTo>
                  <a:lnTo>
                    <a:pt x="275" y="7"/>
                  </a:lnTo>
                  <a:lnTo>
                    <a:pt x="278" y="8"/>
                  </a:lnTo>
                  <a:lnTo>
                    <a:pt x="280" y="9"/>
                  </a:lnTo>
                  <a:lnTo>
                    <a:pt x="283" y="9"/>
                  </a:lnTo>
                  <a:lnTo>
                    <a:pt x="285" y="10"/>
                  </a:lnTo>
                  <a:lnTo>
                    <a:pt x="288" y="11"/>
                  </a:lnTo>
                  <a:lnTo>
                    <a:pt x="290" y="12"/>
                  </a:lnTo>
                  <a:lnTo>
                    <a:pt x="293" y="13"/>
                  </a:lnTo>
                  <a:lnTo>
                    <a:pt x="295" y="14"/>
                  </a:lnTo>
                  <a:lnTo>
                    <a:pt x="298" y="14"/>
                  </a:lnTo>
                  <a:lnTo>
                    <a:pt x="300" y="15"/>
                  </a:lnTo>
                  <a:lnTo>
                    <a:pt x="303" y="16"/>
                  </a:lnTo>
                  <a:lnTo>
                    <a:pt x="305" y="17"/>
                  </a:lnTo>
                  <a:lnTo>
                    <a:pt x="308" y="18"/>
                  </a:lnTo>
                  <a:lnTo>
                    <a:pt x="310" y="19"/>
                  </a:lnTo>
                  <a:lnTo>
                    <a:pt x="313" y="19"/>
                  </a:lnTo>
                  <a:lnTo>
                    <a:pt x="315" y="20"/>
                  </a:lnTo>
                  <a:lnTo>
                    <a:pt x="318" y="21"/>
                  </a:lnTo>
                  <a:lnTo>
                    <a:pt x="320" y="22"/>
                  </a:lnTo>
                  <a:lnTo>
                    <a:pt x="323" y="23"/>
                  </a:lnTo>
                  <a:lnTo>
                    <a:pt x="325" y="24"/>
                  </a:lnTo>
                  <a:lnTo>
                    <a:pt x="328" y="25"/>
                  </a:lnTo>
                  <a:lnTo>
                    <a:pt x="330" y="25"/>
                  </a:lnTo>
                  <a:lnTo>
                    <a:pt x="333" y="26"/>
                  </a:lnTo>
                  <a:lnTo>
                    <a:pt x="335" y="27"/>
                  </a:lnTo>
                  <a:lnTo>
                    <a:pt x="338" y="28"/>
                  </a:lnTo>
                  <a:lnTo>
                    <a:pt x="340" y="29"/>
                  </a:lnTo>
                  <a:lnTo>
                    <a:pt x="343" y="29"/>
                  </a:lnTo>
                  <a:lnTo>
                    <a:pt x="345" y="30"/>
                  </a:lnTo>
                  <a:lnTo>
                    <a:pt x="348" y="31"/>
                  </a:lnTo>
                  <a:lnTo>
                    <a:pt x="350" y="31"/>
                  </a:lnTo>
                  <a:lnTo>
                    <a:pt x="353" y="32"/>
                  </a:lnTo>
                  <a:lnTo>
                    <a:pt x="355" y="33"/>
                  </a:lnTo>
                  <a:lnTo>
                    <a:pt x="358" y="33"/>
                  </a:lnTo>
                  <a:lnTo>
                    <a:pt x="360" y="34"/>
                  </a:lnTo>
                  <a:lnTo>
                    <a:pt x="363" y="35"/>
                  </a:lnTo>
                  <a:lnTo>
                    <a:pt x="365" y="35"/>
                  </a:lnTo>
                  <a:lnTo>
                    <a:pt x="368" y="36"/>
                  </a:lnTo>
                  <a:lnTo>
                    <a:pt x="370" y="36"/>
                  </a:lnTo>
                  <a:lnTo>
                    <a:pt x="373" y="37"/>
                  </a:lnTo>
                  <a:lnTo>
                    <a:pt x="375" y="37"/>
                  </a:lnTo>
                  <a:lnTo>
                    <a:pt x="378" y="38"/>
                  </a:lnTo>
                  <a:lnTo>
                    <a:pt x="380" y="38"/>
                  </a:lnTo>
                  <a:lnTo>
                    <a:pt x="383" y="38"/>
                  </a:lnTo>
                  <a:lnTo>
                    <a:pt x="385" y="39"/>
                  </a:lnTo>
                  <a:lnTo>
                    <a:pt x="388" y="39"/>
                  </a:lnTo>
                  <a:lnTo>
                    <a:pt x="390" y="40"/>
                  </a:lnTo>
                  <a:lnTo>
                    <a:pt x="393" y="40"/>
                  </a:lnTo>
                  <a:lnTo>
                    <a:pt x="395" y="40"/>
                  </a:lnTo>
                  <a:lnTo>
                    <a:pt x="398" y="41"/>
                  </a:lnTo>
                  <a:lnTo>
                    <a:pt x="400" y="41"/>
                  </a:lnTo>
                  <a:lnTo>
                    <a:pt x="403" y="41"/>
                  </a:lnTo>
                  <a:lnTo>
                    <a:pt x="405" y="41"/>
                  </a:lnTo>
                  <a:lnTo>
                    <a:pt x="408" y="42"/>
                  </a:lnTo>
                  <a:lnTo>
                    <a:pt x="410" y="42"/>
                  </a:lnTo>
                  <a:lnTo>
                    <a:pt x="413" y="42"/>
                  </a:lnTo>
                  <a:lnTo>
                    <a:pt x="415" y="42"/>
                  </a:lnTo>
                  <a:lnTo>
                    <a:pt x="418" y="43"/>
                  </a:lnTo>
                  <a:lnTo>
                    <a:pt x="420" y="43"/>
                  </a:lnTo>
                  <a:lnTo>
                    <a:pt x="423" y="43"/>
                  </a:lnTo>
                  <a:lnTo>
                    <a:pt x="425" y="43"/>
                  </a:lnTo>
                  <a:lnTo>
                    <a:pt x="428" y="44"/>
                  </a:lnTo>
                  <a:lnTo>
                    <a:pt x="430" y="44"/>
                  </a:lnTo>
                  <a:lnTo>
                    <a:pt x="433" y="44"/>
                  </a:lnTo>
                  <a:lnTo>
                    <a:pt x="435" y="44"/>
                  </a:lnTo>
                  <a:lnTo>
                    <a:pt x="438" y="45"/>
                  </a:lnTo>
                  <a:lnTo>
                    <a:pt x="440" y="45"/>
                  </a:lnTo>
                  <a:lnTo>
                    <a:pt x="443" y="45"/>
                  </a:lnTo>
                  <a:lnTo>
                    <a:pt x="445" y="45"/>
                  </a:lnTo>
                  <a:lnTo>
                    <a:pt x="448" y="46"/>
                  </a:lnTo>
                  <a:lnTo>
                    <a:pt x="450" y="46"/>
                  </a:lnTo>
                  <a:lnTo>
                    <a:pt x="453" y="46"/>
                  </a:lnTo>
                  <a:lnTo>
                    <a:pt x="455" y="47"/>
                  </a:lnTo>
                  <a:lnTo>
                    <a:pt x="458" y="47"/>
                  </a:lnTo>
                  <a:lnTo>
                    <a:pt x="460" y="47"/>
                  </a:lnTo>
                  <a:lnTo>
                    <a:pt x="463" y="48"/>
                  </a:lnTo>
                  <a:lnTo>
                    <a:pt x="465" y="48"/>
                  </a:lnTo>
                  <a:lnTo>
                    <a:pt x="468" y="48"/>
                  </a:lnTo>
                  <a:lnTo>
                    <a:pt x="470" y="49"/>
                  </a:lnTo>
                  <a:lnTo>
                    <a:pt x="473" y="49"/>
                  </a:lnTo>
                  <a:lnTo>
                    <a:pt x="475" y="49"/>
                  </a:lnTo>
                  <a:lnTo>
                    <a:pt x="478" y="50"/>
                  </a:lnTo>
                  <a:lnTo>
                    <a:pt x="480" y="50"/>
                  </a:lnTo>
                  <a:lnTo>
                    <a:pt x="483" y="51"/>
                  </a:lnTo>
                  <a:lnTo>
                    <a:pt x="485" y="51"/>
                  </a:lnTo>
                  <a:lnTo>
                    <a:pt x="488" y="51"/>
                  </a:lnTo>
                  <a:lnTo>
                    <a:pt x="490" y="52"/>
                  </a:lnTo>
                  <a:lnTo>
                    <a:pt x="493" y="52"/>
                  </a:lnTo>
                  <a:lnTo>
                    <a:pt x="495" y="52"/>
                  </a:lnTo>
                  <a:lnTo>
                    <a:pt x="498" y="53"/>
                  </a:lnTo>
                  <a:lnTo>
                    <a:pt x="500" y="53"/>
                  </a:lnTo>
                  <a:lnTo>
                    <a:pt x="503" y="54"/>
                  </a:lnTo>
                  <a:lnTo>
                    <a:pt x="505" y="54"/>
                  </a:lnTo>
                  <a:lnTo>
                    <a:pt x="508" y="54"/>
                  </a:lnTo>
                  <a:lnTo>
                    <a:pt x="510" y="55"/>
                  </a:lnTo>
                  <a:lnTo>
                    <a:pt x="513" y="55"/>
                  </a:lnTo>
                  <a:lnTo>
                    <a:pt x="515" y="55"/>
                  </a:lnTo>
                  <a:lnTo>
                    <a:pt x="518" y="56"/>
                  </a:lnTo>
                  <a:lnTo>
                    <a:pt x="520" y="56"/>
                  </a:lnTo>
                  <a:lnTo>
                    <a:pt x="523" y="57"/>
                  </a:lnTo>
                  <a:lnTo>
                    <a:pt x="525" y="57"/>
                  </a:lnTo>
                  <a:lnTo>
                    <a:pt x="528" y="57"/>
                  </a:lnTo>
                  <a:lnTo>
                    <a:pt x="530" y="58"/>
                  </a:lnTo>
                  <a:lnTo>
                    <a:pt x="533" y="58"/>
                  </a:lnTo>
                  <a:lnTo>
                    <a:pt x="535" y="59"/>
                  </a:lnTo>
                  <a:lnTo>
                    <a:pt x="538" y="59"/>
                  </a:lnTo>
                  <a:lnTo>
                    <a:pt x="540" y="59"/>
                  </a:lnTo>
                  <a:lnTo>
                    <a:pt x="543" y="60"/>
                  </a:lnTo>
                  <a:lnTo>
                    <a:pt x="545" y="60"/>
                  </a:lnTo>
                  <a:lnTo>
                    <a:pt x="548" y="61"/>
                  </a:lnTo>
                  <a:lnTo>
                    <a:pt x="550" y="61"/>
                  </a:lnTo>
                  <a:lnTo>
                    <a:pt x="553" y="61"/>
                  </a:lnTo>
                  <a:lnTo>
                    <a:pt x="555" y="62"/>
                  </a:lnTo>
                  <a:lnTo>
                    <a:pt x="558" y="62"/>
                  </a:lnTo>
                  <a:lnTo>
                    <a:pt x="560" y="63"/>
                  </a:lnTo>
                  <a:lnTo>
                    <a:pt x="563" y="63"/>
                  </a:lnTo>
                  <a:lnTo>
                    <a:pt x="565" y="64"/>
                  </a:lnTo>
                  <a:lnTo>
                    <a:pt x="568" y="64"/>
                  </a:lnTo>
                  <a:lnTo>
                    <a:pt x="570" y="64"/>
                  </a:lnTo>
                  <a:lnTo>
                    <a:pt x="573" y="65"/>
                  </a:lnTo>
                  <a:lnTo>
                    <a:pt x="575" y="65"/>
                  </a:lnTo>
                  <a:lnTo>
                    <a:pt x="578" y="66"/>
                  </a:lnTo>
                  <a:lnTo>
                    <a:pt x="580" y="66"/>
                  </a:lnTo>
                  <a:lnTo>
                    <a:pt x="583" y="67"/>
                  </a:lnTo>
                  <a:lnTo>
                    <a:pt x="585" y="67"/>
                  </a:lnTo>
                  <a:lnTo>
                    <a:pt x="588" y="67"/>
                  </a:lnTo>
                  <a:lnTo>
                    <a:pt x="590" y="68"/>
                  </a:lnTo>
                  <a:lnTo>
                    <a:pt x="593" y="68"/>
                  </a:lnTo>
                  <a:lnTo>
                    <a:pt x="595" y="69"/>
                  </a:lnTo>
                  <a:lnTo>
                    <a:pt x="598" y="69"/>
                  </a:lnTo>
                  <a:lnTo>
                    <a:pt x="600" y="70"/>
                  </a:lnTo>
                  <a:lnTo>
                    <a:pt x="603" y="70"/>
                  </a:lnTo>
                  <a:lnTo>
                    <a:pt x="605" y="71"/>
                  </a:lnTo>
                  <a:lnTo>
                    <a:pt x="608" y="71"/>
                  </a:lnTo>
                  <a:lnTo>
                    <a:pt x="610" y="71"/>
                  </a:lnTo>
                  <a:lnTo>
                    <a:pt x="613" y="72"/>
                  </a:lnTo>
                  <a:lnTo>
                    <a:pt x="615" y="72"/>
                  </a:lnTo>
                  <a:lnTo>
                    <a:pt x="618" y="73"/>
                  </a:lnTo>
                  <a:lnTo>
                    <a:pt x="620" y="73"/>
                  </a:lnTo>
                  <a:lnTo>
                    <a:pt x="623" y="74"/>
                  </a:lnTo>
                  <a:lnTo>
                    <a:pt x="625" y="74"/>
                  </a:lnTo>
                  <a:lnTo>
                    <a:pt x="628" y="75"/>
                  </a:lnTo>
                  <a:lnTo>
                    <a:pt x="630" y="75"/>
                  </a:lnTo>
                  <a:lnTo>
                    <a:pt x="633" y="76"/>
                  </a:lnTo>
                  <a:lnTo>
                    <a:pt x="635" y="76"/>
                  </a:lnTo>
                  <a:lnTo>
                    <a:pt x="638" y="77"/>
                  </a:lnTo>
                  <a:lnTo>
                    <a:pt x="640" y="77"/>
                  </a:lnTo>
                  <a:lnTo>
                    <a:pt x="643" y="77"/>
                  </a:lnTo>
                  <a:lnTo>
                    <a:pt x="645" y="78"/>
                  </a:lnTo>
                  <a:lnTo>
                    <a:pt x="648" y="78"/>
                  </a:lnTo>
                  <a:lnTo>
                    <a:pt x="650" y="79"/>
                  </a:lnTo>
                  <a:lnTo>
                    <a:pt x="653" y="79"/>
                  </a:lnTo>
                  <a:lnTo>
                    <a:pt x="655" y="80"/>
                  </a:lnTo>
                  <a:lnTo>
                    <a:pt x="658" y="80"/>
                  </a:lnTo>
                  <a:lnTo>
                    <a:pt x="660" y="81"/>
                  </a:lnTo>
                  <a:lnTo>
                    <a:pt x="663" y="81"/>
                  </a:lnTo>
                  <a:lnTo>
                    <a:pt x="665" y="82"/>
                  </a:lnTo>
                  <a:lnTo>
                    <a:pt x="668" y="82"/>
                  </a:lnTo>
                  <a:lnTo>
                    <a:pt x="670" y="83"/>
                  </a:lnTo>
                  <a:lnTo>
                    <a:pt x="673" y="83"/>
                  </a:lnTo>
                  <a:lnTo>
                    <a:pt x="675" y="84"/>
                  </a:lnTo>
                  <a:lnTo>
                    <a:pt x="678" y="84"/>
                  </a:lnTo>
                  <a:lnTo>
                    <a:pt x="680" y="85"/>
                  </a:lnTo>
                  <a:lnTo>
                    <a:pt x="683" y="85"/>
                  </a:lnTo>
                  <a:lnTo>
                    <a:pt x="685" y="86"/>
                  </a:lnTo>
                  <a:lnTo>
                    <a:pt x="688" y="86"/>
                  </a:lnTo>
                  <a:lnTo>
                    <a:pt x="690" y="87"/>
                  </a:lnTo>
                  <a:lnTo>
                    <a:pt x="693" y="87"/>
                  </a:lnTo>
                  <a:lnTo>
                    <a:pt x="695" y="88"/>
                  </a:lnTo>
                  <a:lnTo>
                    <a:pt x="698" y="88"/>
                  </a:lnTo>
                  <a:lnTo>
                    <a:pt x="700" y="89"/>
                  </a:lnTo>
                  <a:lnTo>
                    <a:pt x="703" y="89"/>
                  </a:lnTo>
                  <a:lnTo>
                    <a:pt x="705" y="90"/>
                  </a:lnTo>
                  <a:lnTo>
                    <a:pt x="708" y="90"/>
                  </a:lnTo>
                  <a:lnTo>
                    <a:pt x="710" y="91"/>
                  </a:lnTo>
                  <a:lnTo>
                    <a:pt x="713" y="91"/>
                  </a:lnTo>
                  <a:lnTo>
                    <a:pt x="715" y="92"/>
                  </a:lnTo>
                  <a:lnTo>
                    <a:pt x="718" y="92"/>
                  </a:lnTo>
                  <a:lnTo>
                    <a:pt x="720" y="93"/>
                  </a:lnTo>
                  <a:lnTo>
                    <a:pt x="723" y="94"/>
                  </a:lnTo>
                  <a:lnTo>
                    <a:pt x="725" y="94"/>
                  </a:lnTo>
                  <a:lnTo>
                    <a:pt x="728" y="95"/>
                  </a:lnTo>
                  <a:lnTo>
                    <a:pt x="730" y="95"/>
                  </a:lnTo>
                  <a:lnTo>
                    <a:pt x="733" y="96"/>
                  </a:lnTo>
                  <a:lnTo>
                    <a:pt x="735" y="96"/>
                  </a:lnTo>
                  <a:lnTo>
                    <a:pt x="738" y="97"/>
                  </a:lnTo>
                  <a:lnTo>
                    <a:pt x="740" y="97"/>
                  </a:lnTo>
                  <a:lnTo>
                    <a:pt x="743" y="98"/>
                  </a:lnTo>
                  <a:lnTo>
                    <a:pt x="745" y="99"/>
                  </a:lnTo>
                  <a:lnTo>
                    <a:pt x="748" y="99"/>
                  </a:lnTo>
                  <a:lnTo>
                    <a:pt x="750" y="100"/>
                  </a:lnTo>
                  <a:lnTo>
                    <a:pt x="753" y="100"/>
                  </a:lnTo>
                  <a:lnTo>
                    <a:pt x="755" y="101"/>
                  </a:lnTo>
                  <a:lnTo>
                    <a:pt x="757" y="101"/>
                  </a:lnTo>
                  <a:lnTo>
                    <a:pt x="760" y="102"/>
                  </a:lnTo>
                  <a:lnTo>
                    <a:pt x="763" y="102"/>
                  </a:lnTo>
                  <a:lnTo>
                    <a:pt x="765" y="103"/>
                  </a:lnTo>
                  <a:lnTo>
                    <a:pt x="768" y="104"/>
                  </a:lnTo>
                  <a:lnTo>
                    <a:pt x="770" y="104"/>
                  </a:lnTo>
                  <a:lnTo>
                    <a:pt x="773" y="105"/>
                  </a:lnTo>
                  <a:lnTo>
                    <a:pt x="775" y="105"/>
                  </a:lnTo>
                  <a:lnTo>
                    <a:pt x="777" y="106"/>
                  </a:lnTo>
                  <a:lnTo>
                    <a:pt x="780" y="106"/>
                  </a:lnTo>
                  <a:lnTo>
                    <a:pt x="783" y="107"/>
                  </a:lnTo>
                  <a:lnTo>
                    <a:pt x="785" y="107"/>
                  </a:lnTo>
                  <a:lnTo>
                    <a:pt x="788" y="108"/>
                  </a:lnTo>
                  <a:lnTo>
                    <a:pt x="790" y="109"/>
                  </a:lnTo>
                  <a:lnTo>
                    <a:pt x="793" y="109"/>
                  </a:lnTo>
                  <a:lnTo>
                    <a:pt x="795" y="110"/>
                  </a:lnTo>
                  <a:lnTo>
                    <a:pt x="797" y="110"/>
                  </a:lnTo>
                  <a:lnTo>
                    <a:pt x="800" y="111"/>
                  </a:lnTo>
                  <a:lnTo>
                    <a:pt x="803" y="112"/>
                  </a:lnTo>
                  <a:lnTo>
                    <a:pt x="805" y="112"/>
                  </a:lnTo>
                  <a:lnTo>
                    <a:pt x="808" y="113"/>
                  </a:lnTo>
                  <a:lnTo>
                    <a:pt x="810" y="114"/>
                  </a:lnTo>
                  <a:lnTo>
                    <a:pt x="813" y="114"/>
                  </a:lnTo>
                  <a:lnTo>
                    <a:pt x="815" y="115"/>
                  </a:lnTo>
                  <a:lnTo>
                    <a:pt x="818" y="115"/>
                  </a:lnTo>
                  <a:lnTo>
                    <a:pt x="820" y="116"/>
                  </a:lnTo>
                  <a:lnTo>
                    <a:pt x="823" y="117"/>
                  </a:lnTo>
                  <a:lnTo>
                    <a:pt x="825" y="117"/>
                  </a:lnTo>
                  <a:lnTo>
                    <a:pt x="828" y="118"/>
                  </a:lnTo>
                  <a:lnTo>
                    <a:pt x="830" y="119"/>
                  </a:lnTo>
                  <a:lnTo>
                    <a:pt x="833" y="119"/>
                  </a:lnTo>
                  <a:lnTo>
                    <a:pt x="835" y="120"/>
                  </a:lnTo>
                  <a:lnTo>
                    <a:pt x="838" y="121"/>
                  </a:lnTo>
                  <a:lnTo>
                    <a:pt x="840" y="121"/>
                  </a:lnTo>
                  <a:lnTo>
                    <a:pt x="843" y="122"/>
                  </a:lnTo>
                  <a:lnTo>
                    <a:pt x="845" y="122"/>
                  </a:lnTo>
                  <a:lnTo>
                    <a:pt x="848" y="123"/>
                  </a:lnTo>
                  <a:lnTo>
                    <a:pt x="850" y="123"/>
                  </a:lnTo>
                  <a:lnTo>
                    <a:pt x="853" y="124"/>
                  </a:lnTo>
                  <a:lnTo>
                    <a:pt x="855" y="124"/>
                  </a:lnTo>
                  <a:lnTo>
                    <a:pt x="858" y="124"/>
                  </a:lnTo>
                  <a:lnTo>
                    <a:pt x="860" y="125"/>
                  </a:lnTo>
                  <a:lnTo>
                    <a:pt x="863" y="125"/>
                  </a:lnTo>
                  <a:lnTo>
                    <a:pt x="865" y="125"/>
                  </a:lnTo>
                  <a:lnTo>
                    <a:pt x="868" y="125"/>
                  </a:lnTo>
                  <a:lnTo>
                    <a:pt x="870" y="125"/>
                  </a:lnTo>
                  <a:lnTo>
                    <a:pt x="873" y="125"/>
                  </a:lnTo>
                  <a:lnTo>
                    <a:pt x="875" y="125"/>
                  </a:lnTo>
                  <a:lnTo>
                    <a:pt x="878" y="125"/>
                  </a:lnTo>
                  <a:lnTo>
                    <a:pt x="880" y="125"/>
                  </a:lnTo>
                  <a:lnTo>
                    <a:pt x="883" y="125"/>
                  </a:lnTo>
                  <a:lnTo>
                    <a:pt x="885" y="124"/>
                  </a:lnTo>
                  <a:lnTo>
                    <a:pt x="888" y="124"/>
                  </a:lnTo>
                  <a:lnTo>
                    <a:pt x="890" y="123"/>
                  </a:lnTo>
                  <a:lnTo>
                    <a:pt x="893" y="123"/>
                  </a:lnTo>
                  <a:lnTo>
                    <a:pt x="895" y="122"/>
                  </a:lnTo>
                  <a:lnTo>
                    <a:pt x="898" y="122"/>
                  </a:lnTo>
                  <a:lnTo>
                    <a:pt x="900" y="121"/>
                  </a:lnTo>
                  <a:lnTo>
                    <a:pt x="903" y="121"/>
                  </a:lnTo>
                  <a:lnTo>
                    <a:pt x="905" y="120"/>
                  </a:lnTo>
                  <a:lnTo>
                    <a:pt x="908" y="119"/>
                  </a:lnTo>
                  <a:lnTo>
                    <a:pt x="910" y="119"/>
                  </a:lnTo>
                  <a:lnTo>
                    <a:pt x="913" y="118"/>
                  </a:lnTo>
                  <a:lnTo>
                    <a:pt x="915" y="117"/>
                  </a:lnTo>
                  <a:lnTo>
                    <a:pt x="918" y="117"/>
                  </a:lnTo>
                  <a:lnTo>
                    <a:pt x="920" y="116"/>
                  </a:lnTo>
                  <a:lnTo>
                    <a:pt x="923" y="116"/>
                  </a:lnTo>
                  <a:lnTo>
                    <a:pt x="925" y="115"/>
                  </a:lnTo>
                  <a:lnTo>
                    <a:pt x="928" y="114"/>
                  </a:lnTo>
                  <a:lnTo>
                    <a:pt x="930" y="114"/>
                  </a:lnTo>
                  <a:lnTo>
                    <a:pt x="933" y="113"/>
                  </a:lnTo>
                  <a:lnTo>
                    <a:pt x="935" y="113"/>
                  </a:lnTo>
                  <a:lnTo>
                    <a:pt x="938" y="112"/>
                  </a:lnTo>
                  <a:lnTo>
                    <a:pt x="940" y="112"/>
                  </a:lnTo>
                  <a:lnTo>
                    <a:pt x="943" y="112"/>
                  </a:lnTo>
                  <a:lnTo>
                    <a:pt x="945" y="112"/>
                  </a:lnTo>
                  <a:lnTo>
                    <a:pt x="948" y="112"/>
                  </a:lnTo>
                  <a:lnTo>
                    <a:pt x="950" y="111"/>
                  </a:lnTo>
                  <a:lnTo>
                    <a:pt x="953" y="111"/>
                  </a:lnTo>
                  <a:lnTo>
                    <a:pt x="955" y="111"/>
                  </a:lnTo>
                  <a:lnTo>
                    <a:pt x="958" y="111"/>
                  </a:lnTo>
                  <a:lnTo>
                    <a:pt x="960" y="111"/>
                  </a:lnTo>
                  <a:lnTo>
                    <a:pt x="963" y="111"/>
                  </a:lnTo>
                  <a:lnTo>
                    <a:pt x="965" y="111"/>
                  </a:lnTo>
                  <a:lnTo>
                    <a:pt x="968" y="111"/>
                  </a:lnTo>
                  <a:lnTo>
                    <a:pt x="970" y="111"/>
                  </a:lnTo>
                  <a:lnTo>
                    <a:pt x="973" y="112"/>
                  </a:lnTo>
                  <a:lnTo>
                    <a:pt x="975" y="112"/>
                  </a:lnTo>
                  <a:lnTo>
                    <a:pt x="978" y="112"/>
                  </a:lnTo>
                  <a:lnTo>
                    <a:pt x="980" y="112"/>
                  </a:lnTo>
                  <a:lnTo>
                    <a:pt x="983" y="112"/>
                  </a:lnTo>
                  <a:lnTo>
                    <a:pt x="985" y="113"/>
                  </a:lnTo>
                  <a:lnTo>
                    <a:pt x="988" y="113"/>
                  </a:lnTo>
                  <a:lnTo>
                    <a:pt x="990" y="113"/>
                  </a:lnTo>
                  <a:lnTo>
                    <a:pt x="993" y="114"/>
                  </a:lnTo>
                  <a:lnTo>
                    <a:pt x="995" y="114"/>
                  </a:lnTo>
                  <a:lnTo>
                    <a:pt x="998" y="114"/>
                  </a:lnTo>
                  <a:lnTo>
                    <a:pt x="1000" y="115"/>
                  </a:lnTo>
                  <a:lnTo>
                    <a:pt x="1003" y="115"/>
                  </a:lnTo>
                  <a:lnTo>
                    <a:pt x="1005" y="115"/>
                  </a:lnTo>
                  <a:lnTo>
                    <a:pt x="1008" y="116"/>
                  </a:lnTo>
                  <a:lnTo>
                    <a:pt x="1010" y="116"/>
                  </a:lnTo>
                  <a:lnTo>
                    <a:pt x="1013" y="116"/>
                  </a:lnTo>
                  <a:lnTo>
                    <a:pt x="1015" y="117"/>
                  </a:lnTo>
                  <a:lnTo>
                    <a:pt x="1018" y="117"/>
                  </a:lnTo>
                  <a:lnTo>
                    <a:pt x="1020" y="118"/>
                  </a:lnTo>
                  <a:lnTo>
                    <a:pt x="1023" y="118"/>
                  </a:lnTo>
                  <a:lnTo>
                    <a:pt x="1025" y="118"/>
                  </a:lnTo>
                  <a:lnTo>
                    <a:pt x="1028" y="119"/>
                  </a:lnTo>
                  <a:lnTo>
                    <a:pt x="1030" y="119"/>
                  </a:lnTo>
                  <a:lnTo>
                    <a:pt x="1033" y="120"/>
                  </a:lnTo>
                  <a:lnTo>
                    <a:pt x="1035" y="120"/>
                  </a:lnTo>
                  <a:lnTo>
                    <a:pt x="1038" y="121"/>
                  </a:lnTo>
                  <a:lnTo>
                    <a:pt x="1040" y="121"/>
                  </a:lnTo>
                  <a:lnTo>
                    <a:pt x="1043" y="122"/>
                  </a:lnTo>
                  <a:lnTo>
                    <a:pt x="1045" y="122"/>
                  </a:lnTo>
                  <a:lnTo>
                    <a:pt x="1048" y="123"/>
                  </a:lnTo>
                  <a:lnTo>
                    <a:pt x="1050" y="123"/>
                  </a:lnTo>
                  <a:lnTo>
                    <a:pt x="1053" y="124"/>
                  </a:lnTo>
                  <a:lnTo>
                    <a:pt x="1055" y="124"/>
                  </a:lnTo>
                  <a:lnTo>
                    <a:pt x="1058" y="125"/>
                  </a:lnTo>
                  <a:lnTo>
                    <a:pt x="1060" y="126"/>
                  </a:lnTo>
                  <a:lnTo>
                    <a:pt x="1063" y="126"/>
                  </a:lnTo>
                  <a:lnTo>
                    <a:pt x="1065" y="127"/>
                  </a:lnTo>
                  <a:lnTo>
                    <a:pt x="1068" y="127"/>
                  </a:lnTo>
                  <a:lnTo>
                    <a:pt x="1070" y="128"/>
                  </a:lnTo>
                  <a:lnTo>
                    <a:pt x="1073" y="129"/>
                  </a:lnTo>
                  <a:lnTo>
                    <a:pt x="1075" y="129"/>
                  </a:lnTo>
                  <a:lnTo>
                    <a:pt x="1078" y="130"/>
                  </a:lnTo>
                  <a:lnTo>
                    <a:pt x="1080" y="131"/>
                  </a:lnTo>
                  <a:lnTo>
                    <a:pt x="1083" y="131"/>
                  </a:lnTo>
                  <a:lnTo>
                    <a:pt x="1085" y="132"/>
                  </a:lnTo>
                  <a:lnTo>
                    <a:pt x="1088" y="133"/>
                  </a:lnTo>
                  <a:lnTo>
                    <a:pt x="1090" y="133"/>
                  </a:lnTo>
                  <a:lnTo>
                    <a:pt x="1093" y="134"/>
                  </a:lnTo>
                  <a:lnTo>
                    <a:pt x="1095" y="135"/>
                  </a:lnTo>
                  <a:lnTo>
                    <a:pt x="1098" y="135"/>
                  </a:lnTo>
                  <a:lnTo>
                    <a:pt x="1100" y="136"/>
                  </a:lnTo>
                  <a:lnTo>
                    <a:pt x="1103" y="136"/>
                  </a:lnTo>
                  <a:lnTo>
                    <a:pt x="1105" y="137"/>
                  </a:lnTo>
                  <a:lnTo>
                    <a:pt x="1108" y="138"/>
                  </a:lnTo>
                  <a:lnTo>
                    <a:pt x="1110" y="138"/>
                  </a:lnTo>
                  <a:lnTo>
                    <a:pt x="1113" y="139"/>
                  </a:lnTo>
                  <a:lnTo>
                    <a:pt x="1115" y="139"/>
                  </a:lnTo>
                  <a:lnTo>
                    <a:pt x="1118" y="140"/>
                  </a:lnTo>
                  <a:lnTo>
                    <a:pt x="1120" y="140"/>
                  </a:lnTo>
                  <a:lnTo>
                    <a:pt x="1123" y="141"/>
                  </a:lnTo>
                  <a:lnTo>
                    <a:pt x="1125" y="141"/>
                  </a:lnTo>
                  <a:lnTo>
                    <a:pt x="1128" y="142"/>
                  </a:lnTo>
                  <a:lnTo>
                    <a:pt x="1130" y="142"/>
                  </a:lnTo>
                  <a:lnTo>
                    <a:pt x="1133" y="142"/>
                  </a:lnTo>
                  <a:lnTo>
                    <a:pt x="1135" y="143"/>
                  </a:lnTo>
                  <a:lnTo>
                    <a:pt x="1138" y="143"/>
                  </a:lnTo>
                  <a:lnTo>
                    <a:pt x="1140" y="143"/>
                  </a:lnTo>
                  <a:lnTo>
                    <a:pt x="1143" y="144"/>
                  </a:lnTo>
                  <a:lnTo>
                    <a:pt x="1145" y="144"/>
                  </a:lnTo>
                  <a:lnTo>
                    <a:pt x="1148" y="144"/>
                  </a:lnTo>
                  <a:lnTo>
                    <a:pt x="1150" y="144"/>
                  </a:lnTo>
                  <a:lnTo>
                    <a:pt x="1153" y="145"/>
                  </a:lnTo>
                  <a:lnTo>
                    <a:pt x="1155" y="145"/>
                  </a:lnTo>
                  <a:lnTo>
                    <a:pt x="1158" y="145"/>
                  </a:lnTo>
                  <a:lnTo>
                    <a:pt x="1160" y="145"/>
                  </a:lnTo>
                  <a:lnTo>
                    <a:pt x="1163" y="145"/>
                  </a:lnTo>
                  <a:lnTo>
                    <a:pt x="1165" y="145"/>
                  </a:lnTo>
                  <a:lnTo>
                    <a:pt x="1168" y="146"/>
                  </a:lnTo>
                  <a:lnTo>
                    <a:pt x="1170" y="146"/>
                  </a:lnTo>
                  <a:lnTo>
                    <a:pt x="1173" y="146"/>
                  </a:lnTo>
                  <a:lnTo>
                    <a:pt x="1175" y="146"/>
                  </a:lnTo>
                  <a:lnTo>
                    <a:pt x="1178" y="146"/>
                  </a:lnTo>
                  <a:lnTo>
                    <a:pt x="1180" y="146"/>
                  </a:lnTo>
                  <a:lnTo>
                    <a:pt x="1183" y="146"/>
                  </a:lnTo>
                  <a:lnTo>
                    <a:pt x="1185" y="146"/>
                  </a:lnTo>
                  <a:lnTo>
                    <a:pt x="1188" y="146"/>
                  </a:lnTo>
                  <a:lnTo>
                    <a:pt x="1190" y="146"/>
                  </a:lnTo>
                  <a:lnTo>
                    <a:pt x="1193" y="146"/>
                  </a:lnTo>
                  <a:lnTo>
                    <a:pt x="1195" y="146"/>
                  </a:lnTo>
                  <a:lnTo>
                    <a:pt x="1198" y="146"/>
                  </a:lnTo>
                  <a:lnTo>
                    <a:pt x="1200" y="146"/>
                  </a:lnTo>
                  <a:lnTo>
                    <a:pt x="1203" y="146"/>
                  </a:lnTo>
                  <a:lnTo>
                    <a:pt x="1205" y="146"/>
                  </a:lnTo>
                  <a:lnTo>
                    <a:pt x="1208" y="146"/>
                  </a:lnTo>
                  <a:lnTo>
                    <a:pt x="1210" y="146"/>
                  </a:lnTo>
                  <a:lnTo>
                    <a:pt x="1213" y="146"/>
                  </a:lnTo>
                  <a:lnTo>
                    <a:pt x="1215" y="146"/>
                  </a:lnTo>
                  <a:lnTo>
                    <a:pt x="1218" y="146"/>
                  </a:lnTo>
                  <a:lnTo>
                    <a:pt x="1220" y="146"/>
                  </a:lnTo>
                  <a:lnTo>
                    <a:pt x="1223" y="146"/>
                  </a:lnTo>
                  <a:lnTo>
                    <a:pt x="1225" y="146"/>
                  </a:lnTo>
                  <a:lnTo>
                    <a:pt x="1228" y="146"/>
                  </a:lnTo>
                  <a:lnTo>
                    <a:pt x="1230" y="146"/>
                  </a:lnTo>
                  <a:lnTo>
                    <a:pt x="1233" y="146"/>
                  </a:lnTo>
                  <a:lnTo>
                    <a:pt x="1235" y="146"/>
                  </a:lnTo>
                  <a:lnTo>
                    <a:pt x="1238" y="146"/>
                  </a:lnTo>
                  <a:lnTo>
                    <a:pt x="1240" y="146"/>
                  </a:lnTo>
                  <a:lnTo>
                    <a:pt x="1243" y="146"/>
                  </a:lnTo>
                  <a:lnTo>
                    <a:pt x="1245" y="146"/>
                  </a:lnTo>
                  <a:lnTo>
                    <a:pt x="1248" y="146"/>
                  </a:lnTo>
                  <a:lnTo>
                    <a:pt x="1250" y="146"/>
                  </a:lnTo>
                  <a:lnTo>
                    <a:pt x="1253" y="146"/>
                  </a:lnTo>
                  <a:lnTo>
                    <a:pt x="1255" y="146"/>
                  </a:lnTo>
                  <a:lnTo>
                    <a:pt x="1258" y="146"/>
                  </a:lnTo>
                  <a:lnTo>
                    <a:pt x="1260" y="146"/>
                  </a:lnTo>
                  <a:lnTo>
                    <a:pt x="1263" y="146"/>
                  </a:lnTo>
                  <a:lnTo>
                    <a:pt x="1265" y="146"/>
                  </a:lnTo>
                  <a:lnTo>
                    <a:pt x="1268" y="146"/>
                  </a:lnTo>
                  <a:lnTo>
                    <a:pt x="1270" y="146"/>
                  </a:lnTo>
                  <a:lnTo>
                    <a:pt x="1273" y="145"/>
                  </a:lnTo>
                  <a:lnTo>
                    <a:pt x="1275" y="145"/>
                  </a:lnTo>
                  <a:lnTo>
                    <a:pt x="1278" y="145"/>
                  </a:lnTo>
                  <a:lnTo>
                    <a:pt x="1280" y="145"/>
                  </a:lnTo>
                  <a:lnTo>
                    <a:pt x="1283" y="145"/>
                  </a:lnTo>
                  <a:lnTo>
                    <a:pt x="1285" y="145"/>
                  </a:lnTo>
                  <a:lnTo>
                    <a:pt x="1288" y="145"/>
                  </a:lnTo>
                  <a:lnTo>
                    <a:pt x="1290" y="145"/>
                  </a:lnTo>
                  <a:lnTo>
                    <a:pt x="1293" y="145"/>
                  </a:lnTo>
                  <a:lnTo>
                    <a:pt x="1295" y="144"/>
                  </a:lnTo>
                  <a:lnTo>
                    <a:pt x="1298" y="144"/>
                  </a:lnTo>
                  <a:lnTo>
                    <a:pt x="1300" y="144"/>
                  </a:lnTo>
                  <a:lnTo>
                    <a:pt x="1303" y="144"/>
                  </a:lnTo>
                  <a:lnTo>
                    <a:pt x="1305" y="144"/>
                  </a:lnTo>
                  <a:lnTo>
                    <a:pt x="1308" y="144"/>
                  </a:lnTo>
                  <a:lnTo>
                    <a:pt x="1310" y="144"/>
                  </a:lnTo>
                  <a:lnTo>
                    <a:pt x="1313" y="143"/>
                  </a:lnTo>
                  <a:lnTo>
                    <a:pt x="1315" y="143"/>
                  </a:lnTo>
                  <a:lnTo>
                    <a:pt x="1318" y="143"/>
                  </a:lnTo>
                  <a:lnTo>
                    <a:pt x="1320" y="143"/>
                  </a:lnTo>
                  <a:lnTo>
                    <a:pt x="1323" y="143"/>
                  </a:lnTo>
                  <a:lnTo>
                    <a:pt x="1325" y="142"/>
                  </a:lnTo>
                  <a:lnTo>
                    <a:pt x="1328" y="142"/>
                  </a:lnTo>
                  <a:lnTo>
                    <a:pt x="1330" y="142"/>
                  </a:lnTo>
                  <a:lnTo>
                    <a:pt x="1333" y="142"/>
                  </a:lnTo>
                  <a:lnTo>
                    <a:pt x="1335" y="142"/>
                  </a:lnTo>
                  <a:lnTo>
                    <a:pt x="1338" y="141"/>
                  </a:lnTo>
                  <a:lnTo>
                    <a:pt x="1340" y="141"/>
                  </a:lnTo>
                  <a:lnTo>
                    <a:pt x="1343" y="141"/>
                  </a:lnTo>
                  <a:lnTo>
                    <a:pt x="1345" y="141"/>
                  </a:lnTo>
                  <a:lnTo>
                    <a:pt x="1348" y="140"/>
                  </a:lnTo>
                  <a:lnTo>
                    <a:pt x="1350" y="140"/>
                  </a:lnTo>
                  <a:lnTo>
                    <a:pt x="1353" y="140"/>
                  </a:lnTo>
                  <a:lnTo>
                    <a:pt x="1355" y="140"/>
                  </a:lnTo>
                  <a:lnTo>
                    <a:pt x="1358" y="139"/>
                  </a:lnTo>
                  <a:lnTo>
                    <a:pt x="1360" y="139"/>
                  </a:lnTo>
                  <a:lnTo>
                    <a:pt x="1363" y="139"/>
                  </a:lnTo>
                  <a:lnTo>
                    <a:pt x="1365" y="138"/>
                  </a:lnTo>
                  <a:lnTo>
                    <a:pt x="1368" y="138"/>
                  </a:lnTo>
                  <a:lnTo>
                    <a:pt x="1370" y="138"/>
                  </a:lnTo>
                  <a:lnTo>
                    <a:pt x="1373" y="138"/>
                  </a:lnTo>
                  <a:lnTo>
                    <a:pt x="1375" y="137"/>
                  </a:lnTo>
                  <a:lnTo>
                    <a:pt x="1378" y="137"/>
                  </a:lnTo>
                  <a:lnTo>
                    <a:pt x="1380" y="137"/>
                  </a:lnTo>
                  <a:lnTo>
                    <a:pt x="1383" y="136"/>
                  </a:lnTo>
                  <a:lnTo>
                    <a:pt x="1385" y="136"/>
                  </a:lnTo>
                  <a:lnTo>
                    <a:pt x="1388" y="135"/>
                  </a:lnTo>
                  <a:lnTo>
                    <a:pt x="1390" y="135"/>
                  </a:lnTo>
                  <a:lnTo>
                    <a:pt x="1393" y="135"/>
                  </a:lnTo>
                  <a:lnTo>
                    <a:pt x="1395" y="134"/>
                  </a:lnTo>
                  <a:lnTo>
                    <a:pt x="1398" y="134"/>
                  </a:lnTo>
                  <a:lnTo>
                    <a:pt x="1400" y="134"/>
                  </a:lnTo>
                  <a:lnTo>
                    <a:pt x="1403" y="133"/>
                  </a:lnTo>
                  <a:lnTo>
                    <a:pt x="1405" y="133"/>
                  </a:lnTo>
                  <a:lnTo>
                    <a:pt x="1408" y="133"/>
                  </a:lnTo>
                  <a:lnTo>
                    <a:pt x="1410" y="132"/>
                  </a:lnTo>
                  <a:lnTo>
                    <a:pt x="1413" y="132"/>
                  </a:lnTo>
                  <a:lnTo>
                    <a:pt x="1415" y="132"/>
                  </a:lnTo>
                  <a:lnTo>
                    <a:pt x="1418" y="131"/>
                  </a:lnTo>
                  <a:lnTo>
                    <a:pt x="1420" y="131"/>
                  </a:lnTo>
                  <a:lnTo>
                    <a:pt x="1423" y="131"/>
                  </a:lnTo>
                  <a:lnTo>
                    <a:pt x="1425" y="131"/>
                  </a:lnTo>
                  <a:lnTo>
                    <a:pt x="1428" y="130"/>
                  </a:lnTo>
                  <a:lnTo>
                    <a:pt x="1430" y="130"/>
                  </a:lnTo>
                  <a:lnTo>
                    <a:pt x="1433" y="130"/>
                  </a:lnTo>
                  <a:lnTo>
                    <a:pt x="1435" y="130"/>
                  </a:lnTo>
                  <a:lnTo>
                    <a:pt x="1438" y="129"/>
                  </a:lnTo>
                  <a:lnTo>
                    <a:pt x="1440" y="129"/>
                  </a:lnTo>
                  <a:lnTo>
                    <a:pt x="1443" y="129"/>
                  </a:lnTo>
                  <a:lnTo>
                    <a:pt x="1445" y="129"/>
                  </a:lnTo>
                  <a:lnTo>
                    <a:pt x="1448" y="129"/>
                  </a:lnTo>
                  <a:lnTo>
                    <a:pt x="1450" y="129"/>
                  </a:lnTo>
                  <a:lnTo>
                    <a:pt x="1453" y="129"/>
                  </a:lnTo>
                  <a:lnTo>
                    <a:pt x="1455" y="129"/>
                  </a:lnTo>
                  <a:lnTo>
                    <a:pt x="1458" y="129"/>
                  </a:lnTo>
                  <a:lnTo>
                    <a:pt x="1460" y="129"/>
                  </a:lnTo>
                  <a:lnTo>
                    <a:pt x="1463" y="129"/>
                  </a:lnTo>
                  <a:lnTo>
                    <a:pt x="1465" y="129"/>
                  </a:lnTo>
                  <a:lnTo>
                    <a:pt x="1468" y="129"/>
                  </a:lnTo>
                  <a:lnTo>
                    <a:pt x="1470" y="129"/>
                  </a:lnTo>
                  <a:lnTo>
                    <a:pt x="1473" y="129"/>
                  </a:lnTo>
                  <a:lnTo>
                    <a:pt x="1475" y="129"/>
                  </a:lnTo>
                  <a:lnTo>
                    <a:pt x="1478" y="129"/>
                  </a:lnTo>
                  <a:lnTo>
                    <a:pt x="1480" y="129"/>
                  </a:lnTo>
                  <a:lnTo>
                    <a:pt x="1483" y="129"/>
                  </a:lnTo>
                  <a:lnTo>
                    <a:pt x="1485" y="129"/>
                  </a:lnTo>
                  <a:lnTo>
                    <a:pt x="1488" y="129"/>
                  </a:lnTo>
                  <a:lnTo>
                    <a:pt x="1490" y="129"/>
                  </a:lnTo>
                  <a:lnTo>
                    <a:pt x="1493" y="129"/>
                  </a:lnTo>
                  <a:lnTo>
                    <a:pt x="1495" y="129"/>
                  </a:lnTo>
                  <a:lnTo>
                    <a:pt x="1498" y="129"/>
                  </a:lnTo>
                  <a:lnTo>
                    <a:pt x="1500" y="129"/>
                  </a:lnTo>
                  <a:lnTo>
                    <a:pt x="1503" y="129"/>
                  </a:lnTo>
                  <a:lnTo>
                    <a:pt x="1505" y="129"/>
                  </a:lnTo>
                  <a:lnTo>
                    <a:pt x="1508" y="129"/>
                  </a:lnTo>
                  <a:lnTo>
                    <a:pt x="1510" y="129"/>
                  </a:lnTo>
                  <a:lnTo>
                    <a:pt x="1513" y="129"/>
                  </a:lnTo>
                  <a:lnTo>
                    <a:pt x="1515" y="129"/>
                  </a:lnTo>
                  <a:lnTo>
                    <a:pt x="1518" y="129"/>
                  </a:lnTo>
                  <a:lnTo>
                    <a:pt x="1520" y="129"/>
                  </a:lnTo>
                  <a:lnTo>
                    <a:pt x="1523" y="129"/>
                  </a:lnTo>
                  <a:lnTo>
                    <a:pt x="1525" y="128"/>
                  </a:lnTo>
                  <a:lnTo>
                    <a:pt x="1528" y="128"/>
                  </a:lnTo>
                  <a:lnTo>
                    <a:pt x="1530" y="128"/>
                  </a:lnTo>
                  <a:lnTo>
                    <a:pt x="1533" y="128"/>
                  </a:lnTo>
                  <a:lnTo>
                    <a:pt x="1535" y="128"/>
                  </a:lnTo>
                  <a:lnTo>
                    <a:pt x="1538" y="128"/>
                  </a:lnTo>
                  <a:lnTo>
                    <a:pt x="1540" y="128"/>
                  </a:lnTo>
                  <a:lnTo>
                    <a:pt x="1543" y="128"/>
                  </a:lnTo>
                  <a:lnTo>
                    <a:pt x="1545" y="128"/>
                  </a:lnTo>
                  <a:lnTo>
                    <a:pt x="1548" y="128"/>
                  </a:lnTo>
                  <a:lnTo>
                    <a:pt x="1550" y="128"/>
                  </a:lnTo>
                  <a:lnTo>
                    <a:pt x="1553" y="128"/>
                  </a:lnTo>
                  <a:lnTo>
                    <a:pt x="1555" y="129"/>
                  </a:lnTo>
                  <a:lnTo>
                    <a:pt x="1558" y="129"/>
                  </a:lnTo>
                  <a:lnTo>
                    <a:pt x="1560" y="129"/>
                  </a:lnTo>
                  <a:lnTo>
                    <a:pt x="1563" y="129"/>
                  </a:lnTo>
                  <a:lnTo>
                    <a:pt x="1565" y="129"/>
                  </a:lnTo>
                  <a:lnTo>
                    <a:pt x="1568" y="130"/>
                  </a:lnTo>
                  <a:lnTo>
                    <a:pt x="1570" y="130"/>
                  </a:lnTo>
                  <a:lnTo>
                    <a:pt x="1573" y="130"/>
                  </a:lnTo>
                  <a:lnTo>
                    <a:pt x="1575" y="131"/>
                  </a:lnTo>
                  <a:lnTo>
                    <a:pt x="1578" y="131"/>
                  </a:lnTo>
                  <a:lnTo>
                    <a:pt x="1580" y="131"/>
                  </a:lnTo>
                  <a:lnTo>
                    <a:pt x="1583" y="132"/>
                  </a:lnTo>
                  <a:lnTo>
                    <a:pt x="1585" y="132"/>
                  </a:lnTo>
                  <a:lnTo>
                    <a:pt x="1588" y="133"/>
                  </a:lnTo>
                  <a:lnTo>
                    <a:pt x="1590" y="133"/>
                  </a:lnTo>
                  <a:lnTo>
                    <a:pt x="1593" y="134"/>
                  </a:lnTo>
                  <a:lnTo>
                    <a:pt x="1595" y="134"/>
                  </a:lnTo>
                  <a:lnTo>
                    <a:pt x="1598" y="135"/>
                  </a:lnTo>
                  <a:lnTo>
                    <a:pt x="1600" y="135"/>
                  </a:lnTo>
                  <a:lnTo>
                    <a:pt x="1603" y="136"/>
                  </a:lnTo>
                  <a:lnTo>
                    <a:pt x="1605" y="137"/>
                  </a:lnTo>
                  <a:lnTo>
                    <a:pt x="1608" y="137"/>
                  </a:lnTo>
                  <a:lnTo>
                    <a:pt x="1610" y="138"/>
                  </a:lnTo>
                  <a:lnTo>
                    <a:pt x="1613" y="138"/>
                  </a:lnTo>
                  <a:lnTo>
                    <a:pt x="1615" y="139"/>
                  </a:lnTo>
                  <a:lnTo>
                    <a:pt x="1618" y="140"/>
                  </a:lnTo>
                  <a:lnTo>
                    <a:pt x="1620" y="140"/>
                  </a:lnTo>
                  <a:lnTo>
                    <a:pt x="1623" y="141"/>
                  </a:lnTo>
                  <a:lnTo>
                    <a:pt x="1625" y="141"/>
                  </a:lnTo>
                  <a:lnTo>
                    <a:pt x="1628" y="142"/>
                  </a:lnTo>
                  <a:lnTo>
                    <a:pt x="1630" y="143"/>
                  </a:lnTo>
                  <a:lnTo>
                    <a:pt x="1633" y="143"/>
                  </a:lnTo>
                  <a:lnTo>
                    <a:pt x="1635" y="144"/>
                  </a:lnTo>
                  <a:lnTo>
                    <a:pt x="1638" y="145"/>
                  </a:lnTo>
                  <a:lnTo>
                    <a:pt x="1640" y="145"/>
                  </a:lnTo>
                  <a:lnTo>
                    <a:pt x="1643" y="146"/>
                  </a:lnTo>
                  <a:lnTo>
                    <a:pt x="1645" y="146"/>
                  </a:lnTo>
                  <a:lnTo>
                    <a:pt x="1648" y="147"/>
                  </a:lnTo>
                  <a:lnTo>
                    <a:pt x="1650" y="148"/>
                  </a:lnTo>
                  <a:lnTo>
                    <a:pt x="1653" y="148"/>
                  </a:lnTo>
                  <a:lnTo>
                    <a:pt x="1655" y="149"/>
                  </a:lnTo>
                  <a:lnTo>
                    <a:pt x="1658" y="150"/>
                  </a:lnTo>
                  <a:lnTo>
                    <a:pt x="1660" y="150"/>
                  </a:lnTo>
                  <a:lnTo>
                    <a:pt x="1663" y="151"/>
                  </a:lnTo>
                  <a:lnTo>
                    <a:pt x="1665" y="152"/>
                  </a:lnTo>
                  <a:lnTo>
                    <a:pt x="1668" y="152"/>
                  </a:lnTo>
                  <a:lnTo>
                    <a:pt x="1670" y="153"/>
                  </a:lnTo>
                  <a:lnTo>
                    <a:pt x="1673" y="153"/>
                  </a:lnTo>
                  <a:lnTo>
                    <a:pt x="1675" y="154"/>
                  </a:lnTo>
                  <a:lnTo>
                    <a:pt x="1678" y="155"/>
                  </a:lnTo>
                  <a:lnTo>
                    <a:pt x="1680" y="155"/>
                  </a:lnTo>
                  <a:lnTo>
                    <a:pt x="1683" y="156"/>
                  </a:lnTo>
                  <a:lnTo>
                    <a:pt x="1685" y="157"/>
                  </a:lnTo>
                  <a:lnTo>
                    <a:pt x="1688" y="157"/>
                  </a:lnTo>
                  <a:lnTo>
                    <a:pt x="1690" y="158"/>
                  </a:lnTo>
                  <a:lnTo>
                    <a:pt x="1693" y="159"/>
                  </a:lnTo>
                  <a:lnTo>
                    <a:pt x="1695" y="159"/>
                  </a:lnTo>
                  <a:lnTo>
                    <a:pt x="1698" y="160"/>
                  </a:lnTo>
                  <a:lnTo>
                    <a:pt x="1700" y="161"/>
                  </a:lnTo>
                  <a:lnTo>
                    <a:pt x="1702" y="162"/>
                  </a:lnTo>
                  <a:lnTo>
                    <a:pt x="1705" y="162"/>
                  </a:lnTo>
                  <a:lnTo>
                    <a:pt x="1708" y="163"/>
                  </a:lnTo>
                  <a:lnTo>
                    <a:pt x="1710" y="164"/>
                  </a:lnTo>
                  <a:lnTo>
                    <a:pt x="1713" y="164"/>
                  </a:lnTo>
                  <a:lnTo>
                    <a:pt x="1715" y="165"/>
                  </a:lnTo>
                  <a:lnTo>
                    <a:pt x="1718" y="166"/>
                  </a:lnTo>
                  <a:lnTo>
                    <a:pt x="1720" y="167"/>
                  </a:lnTo>
                  <a:lnTo>
                    <a:pt x="1723" y="167"/>
                  </a:lnTo>
                  <a:lnTo>
                    <a:pt x="1725" y="168"/>
                  </a:lnTo>
                  <a:lnTo>
                    <a:pt x="1728" y="169"/>
                  </a:lnTo>
                  <a:lnTo>
                    <a:pt x="1730" y="170"/>
                  </a:lnTo>
                  <a:lnTo>
                    <a:pt x="1733" y="170"/>
                  </a:lnTo>
                  <a:lnTo>
                    <a:pt x="1735" y="171"/>
                  </a:lnTo>
                  <a:lnTo>
                    <a:pt x="1738" y="172"/>
                  </a:lnTo>
                  <a:lnTo>
                    <a:pt x="1740" y="172"/>
                  </a:lnTo>
                  <a:lnTo>
                    <a:pt x="1742" y="173"/>
                  </a:lnTo>
                  <a:lnTo>
                    <a:pt x="1745" y="174"/>
                  </a:lnTo>
                  <a:lnTo>
                    <a:pt x="1748" y="175"/>
                  </a:lnTo>
                  <a:lnTo>
                    <a:pt x="1750" y="175"/>
                  </a:lnTo>
                  <a:lnTo>
                    <a:pt x="1753" y="176"/>
                  </a:lnTo>
                  <a:lnTo>
                    <a:pt x="1755" y="177"/>
                  </a:lnTo>
                  <a:lnTo>
                    <a:pt x="1758" y="178"/>
                  </a:lnTo>
                  <a:lnTo>
                    <a:pt x="1760" y="179"/>
                  </a:lnTo>
                  <a:lnTo>
                    <a:pt x="1763" y="179"/>
                  </a:lnTo>
                  <a:lnTo>
                    <a:pt x="1765" y="180"/>
                  </a:lnTo>
                  <a:lnTo>
                    <a:pt x="1768" y="181"/>
                  </a:lnTo>
                  <a:lnTo>
                    <a:pt x="1770" y="182"/>
                  </a:lnTo>
                  <a:lnTo>
                    <a:pt x="1773" y="183"/>
                  </a:lnTo>
                  <a:lnTo>
                    <a:pt x="1775" y="184"/>
                  </a:lnTo>
                  <a:lnTo>
                    <a:pt x="1778" y="184"/>
                  </a:lnTo>
                  <a:lnTo>
                    <a:pt x="1780" y="185"/>
                  </a:lnTo>
                  <a:lnTo>
                    <a:pt x="1782" y="186"/>
                  </a:lnTo>
                  <a:lnTo>
                    <a:pt x="1785" y="187"/>
                  </a:lnTo>
                  <a:lnTo>
                    <a:pt x="1788" y="188"/>
                  </a:lnTo>
                  <a:lnTo>
                    <a:pt x="1790" y="189"/>
                  </a:lnTo>
                  <a:lnTo>
                    <a:pt x="1793" y="189"/>
                  </a:lnTo>
                  <a:lnTo>
                    <a:pt x="1795" y="190"/>
                  </a:lnTo>
                  <a:lnTo>
                    <a:pt x="1798" y="191"/>
                  </a:lnTo>
                  <a:lnTo>
                    <a:pt x="1800" y="192"/>
                  </a:lnTo>
                  <a:lnTo>
                    <a:pt x="1803" y="193"/>
                  </a:lnTo>
                  <a:lnTo>
                    <a:pt x="1805" y="194"/>
                  </a:lnTo>
                  <a:lnTo>
                    <a:pt x="1808" y="194"/>
                  </a:lnTo>
                  <a:lnTo>
                    <a:pt x="1810" y="195"/>
                  </a:lnTo>
                  <a:lnTo>
                    <a:pt x="1813" y="196"/>
                  </a:lnTo>
                  <a:lnTo>
                    <a:pt x="1815" y="197"/>
                  </a:lnTo>
                  <a:lnTo>
                    <a:pt x="1818" y="198"/>
                  </a:lnTo>
                  <a:lnTo>
                    <a:pt x="1820" y="199"/>
                  </a:lnTo>
                  <a:lnTo>
                    <a:pt x="1822" y="199"/>
                  </a:lnTo>
                  <a:lnTo>
                    <a:pt x="1825" y="200"/>
                  </a:lnTo>
                  <a:lnTo>
                    <a:pt x="1827" y="201"/>
                  </a:lnTo>
                  <a:lnTo>
                    <a:pt x="1830" y="202"/>
                  </a:lnTo>
                  <a:lnTo>
                    <a:pt x="1833" y="203"/>
                  </a:lnTo>
                  <a:lnTo>
                    <a:pt x="1835" y="204"/>
                  </a:lnTo>
                  <a:lnTo>
                    <a:pt x="1838" y="204"/>
                  </a:lnTo>
                  <a:lnTo>
                    <a:pt x="1840" y="205"/>
                  </a:lnTo>
                  <a:lnTo>
                    <a:pt x="1843" y="206"/>
                  </a:lnTo>
                  <a:lnTo>
                    <a:pt x="1845" y="207"/>
                  </a:lnTo>
                  <a:lnTo>
                    <a:pt x="1848" y="208"/>
                  </a:lnTo>
                  <a:lnTo>
                    <a:pt x="1850" y="209"/>
                  </a:lnTo>
                  <a:lnTo>
                    <a:pt x="1853" y="210"/>
                  </a:lnTo>
                  <a:lnTo>
                    <a:pt x="1855" y="210"/>
                  </a:lnTo>
                  <a:lnTo>
                    <a:pt x="1858" y="211"/>
                  </a:lnTo>
                  <a:lnTo>
                    <a:pt x="1860" y="212"/>
                  </a:lnTo>
                  <a:lnTo>
                    <a:pt x="1862" y="213"/>
                  </a:lnTo>
                  <a:lnTo>
                    <a:pt x="1865" y="214"/>
                  </a:lnTo>
                  <a:lnTo>
                    <a:pt x="1867" y="215"/>
                  </a:lnTo>
                  <a:lnTo>
                    <a:pt x="1870" y="216"/>
                  </a:lnTo>
                  <a:lnTo>
                    <a:pt x="1873" y="217"/>
                  </a:lnTo>
                  <a:lnTo>
                    <a:pt x="1875" y="218"/>
                  </a:lnTo>
                  <a:lnTo>
                    <a:pt x="1878" y="219"/>
                  </a:lnTo>
                  <a:lnTo>
                    <a:pt x="1880" y="220"/>
                  </a:lnTo>
                  <a:lnTo>
                    <a:pt x="1883" y="221"/>
                  </a:lnTo>
                  <a:lnTo>
                    <a:pt x="1885" y="222"/>
                  </a:lnTo>
                  <a:lnTo>
                    <a:pt x="1888" y="223"/>
                  </a:lnTo>
                  <a:lnTo>
                    <a:pt x="1890" y="224"/>
                  </a:lnTo>
                  <a:lnTo>
                    <a:pt x="1893" y="225"/>
                  </a:lnTo>
                  <a:lnTo>
                    <a:pt x="1895" y="226"/>
                  </a:lnTo>
                  <a:lnTo>
                    <a:pt x="1898" y="227"/>
                  </a:lnTo>
                  <a:lnTo>
                    <a:pt x="1900" y="228"/>
                  </a:lnTo>
                  <a:lnTo>
                    <a:pt x="1902" y="230"/>
                  </a:lnTo>
                  <a:lnTo>
                    <a:pt x="1905" y="231"/>
                  </a:lnTo>
                  <a:lnTo>
                    <a:pt x="1907" y="232"/>
                  </a:lnTo>
                  <a:lnTo>
                    <a:pt x="1910" y="232"/>
                  </a:lnTo>
                  <a:lnTo>
                    <a:pt x="1913" y="233"/>
                  </a:lnTo>
                  <a:lnTo>
                    <a:pt x="1915" y="234"/>
                  </a:lnTo>
                  <a:lnTo>
                    <a:pt x="1918" y="235"/>
                  </a:lnTo>
                  <a:lnTo>
                    <a:pt x="1920" y="236"/>
                  </a:lnTo>
                  <a:lnTo>
                    <a:pt x="1923" y="237"/>
                  </a:lnTo>
                  <a:lnTo>
                    <a:pt x="1925" y="238"/>
                  </a:lnTo>
                  <a:lnTo>
                    <a:pt x="1928" y="238"/>
                  </a:lnTo>
                  <a:lnTo>
                    <a:pt x="1930" y="239"/>
                  </a:lnTo>
                  <a:lnTo>
                    <a:pt x="1933" y="240"/>
                  </a:lnTo>
                  <a:lnTo>
                    <a:pt x="1935" y="240"/>
                  </a:lnTo>
                  <a:lnTo>
                    <a:pt x="1938" y="241"/>
                  </a:lnTo>
                  <a:lnTo>
                    <a:pt x="1940" y="241"/>
                  </a:lnTo>
                  <a:lnTo>
                    <a:pt x="1943" y="242"/>
                  </a:lnTo>
                  <a:lnTo>
                    <a:pt x="1945" y="242"/>
                  </a:lnTo>
                  <a:lnTo>
                    <a:pt x="1948" y="242"/>
                  </a:lnTo>
                  <a:lnTo>
                    <a:pt x="1950" y="243"/>
                  </a:lnTo>
                  <a:lnTo>
                    <a:pt x="1953" y="243"/>
                  </a:lnTo>
                  <a:lnTo>
                    <a:pt x="1955" y="243"/>
                  </a:lnTo>
                  <a:lnTo>
                    <a:pt x="1958" y="243"/>
                  </a:lnTo>
                  <a:lnTo>
                    <a:pt x="1960" y="243"/>
                  </a:lnTo>
                  <a:lnTo>
                    <a:pt x="1963" y="244"/>
                  </a:lnTo>
                  <a:lnTo>
                    <a:pt x="1965" y="244"/>
                  </a:lnTo>
                  <a:lnTo>
                    <a:pt x="1968" y="244"/>
                  </a:lnTo>
                  <a:lnTo>
                    <a:pt x="1970" y="244"/>
                  </a:lnTo>
                  <a:lnTo>
                    <a:pt x="1973" y="244"/>
                  </a:lnTo>
                  <a:lnTo>
                    <a:pt x="1975" y="244"/>
                  </a:lnTo>
                  <a:lnTo>
                    <a:pt x="1978" y="244"/>
                  </a:lnTo>
                  <a:lnTo>
                    <a:pt x="1980" y="244"/>
                  </a:lnTo>
                  <a:lnTo>
                    <a:pt x="1983" y="245"/>
                  </a:lnTo>
                  <a:lnTo>
                    <a:pt x="1985" y="245"/>
                  </a:lnTo>
                  <a:lnTo>
                    <a:pt x="1988" y="245"/>
                  </a:lnTo>
                  <a:lnTo>
                    <a:pt x="1990" y="245"/>
                  </a:lnTo>
                  <a:lnTo>
                    <a:pt x="1993" y="246"/>
                  </a:lnTo>
                  <a:lnTo>
                    <a:pt x="1995" y="246"/>
                  </a:lnTo>
                  <a:lnTo>
                    <a:pt x="1998" y="246"/>
                  </a:lnTo>
                  <a:lnTo>
                    <a:pt x="2000" y="247"/>
                  </a:lnTo>
                  <a:lnTo>
                    <a:pt x="2003" y="247"/>
                  </a:lnTo>
                  <a:lnTo>
                    <a:pt x="2005" y="248"/>
                  </a:lnTo>
                  <a:lnTo>
                    <a:pt x="2008" y="249"/>
                  </a:lnTo>
                  <a:lnTo>
                    <a:pt x="2010" y="249"/>
                  </a:lnTo>
                  <a:lnTo>
                    <a:pt x="2013" y="250"/>
                  </a:lnTo>
                  <a:lnTo>
                    <a:pt x="2015" y="251"/>
                  </a:lnTo>
                  <a:lnTo>
                    <a:pt x="2018" y="252"/>
                  </a:lnTo>
                  <a:lnTo>
                    <a:pt x="2020" y="253"/>
                  </a:lnTo>
                  <a:lnTo>
                    <a:pt x="2023" y="253"/>
                  </a:lnTo>
                  <a:lnTo>
                    <a:pt x="2025" y="254"/>
                  </a:lnTo>
                  <a:lnTo>
                    <a:pt x="2028" y="255"/>
                  </a:lnTo>
                  <a:lnTo>
                    <a:pt x="2030" y="256"/>
                  </a:lnTo>
                  <a:lnTo>
                    <a:pt x="2033" y="257"/>
                  </a:lnTo>
                  <a:lnTo>
                    <a:pt x="2035" y="258"/>
                  </a:lnTo>
                  <a:lnTo>
                    <a:pt x="2038" y="259"/>
                  </a:lnTo>
                  <a:lnTo>
                    <a:pt x="2040" y="260"/>
                  </a:lnTo>
                  <a:lnTo>
                    <a:pt x="2043" y="261"/>
                  </a:lnTo>
                  <a:lnTo>
                    <a:pt x="2045" y="263"/>
                  </a:lnTo>
                  <a:lnTo>
                    <a:pt x="2048" y="264"/>
                  </a:lnTo>
                  <a:lnTo>
                    <a:pt x="2050" y="265"/>
                  </a:lnTo>
                  <a:lnTo>
                    <a:pt x="2053" y="266"/>
                  </a:lnTo>
                  <a:lnTo>
                    <a:pt x="2055" y="267"/>
                  </a:lnTo>
                  <a:lnTo>
                    <a:pt x="2058" y="268"/>
                  </a:lnTo>
                  <a:lnTo>
                    <a:pt x="2060" y="269"/>
                  </a:lnTo>
                  <a:lnTo>
                    <a:pt x="2063" y="270"/>
                  </a:lnTo>
                  <a:lnTo>
                    <a:pt x="2065" y="271"/>
                  </a:lnTo>
                  <a:lnTo>
                    <a:pt x="2068" y="272"/>
                  </a:lnTo>
                  <a:lnTo>
                    <a:pt x="2070" y="273"/>
                  </a:lnTo>
                  <a:lnTo>
                    <a:pt x="2073" y="274"/>
                  </a:lnTo>
                  <a:lnTo>
                    <a:pt x="2075" y="275"/>
                  </a:lnTo>
                  <a:lnTo>
                    <a:pt x="2078" y="276"/>
                  </a:lnTo>
                  <a:lnTo>
                    <a:pt x="2080" y="277"/>
                  </a:lnTo>
                  <a:lnTo>
                    <a:pt x="2083" y="278"/>
                  </a:lnTo>
                  <a:lnTo>
                    <a:pt x="2085" y="279"/>
                  </a:lnTo>
                  <a:lnTo>
                    <a:pt x="2088" y="280"/>
                  </a:lnTo>
                  <a:lnTo>
                    <a:pt x="2090" y="281"/>
                  </a:lnTo>
                  <a:lnTo>
                    <a:pt x="2093" y="282"/>
                  </a:lnTo>
                  <a:lnTo>
                    <a:pt x="2095" y="283"/>
                  </a:lnTo>
                  <a:lnTo>
                    <a:pt x="2098" y="284"/>
                  </a:lnTo>
                  <a:lnTo>
                    <a:pt x="2100" y="285"/>
                  </a:lnTo>
                  <a:lnTo>
                    <a:pt x="2103" y="286"/>
                  </a:lnTo>
                  <a:lnTo>
                    <a:pt x="2105" y="287"/>
                  </a:lnTo>
                  <a:lnTo>
                    <a:pt x="2108" y="288"/>
                  </a:lnTo>
                  <a:lnTo>
                    <a:pt x="2110" y="289"/>
                  </a:lnTo>
                  <a:lnTo>
                    <a:pt x="2113" y="290"/>
                  </a:lnTo>
                  <a:lnTo>
                    <a:pt x="2115" y="290"/>
                  </a:lnTo>
                  <a:lnTo>
                    <a:pt x="2118" y="291"/>
                  </a:lnTo>
                  <a:lnTo>
                    <a:pt x="2120" y="292"/>
                  </a:lnTo>
                  <a:lnTo>
                    <a:pt x="2123" y="293"/>
                  </a:lnTo>
                  <a:lnTo>
                    <a:pt x="2125" y="294"/>
                  </a:lnTo>
                  <a:lnTo>
                    <a:pt x="2128" y="295"/>
                  </a:lnTo>
                  <a:lnTo>
                    <a:pt x="2130" y="296"/>
                  </a:lnTo>
                  <a:lnTo>
                    <a:pt x="2133" y="297"/>
                  </a:lnTo>
                  <a:lnTo>
                    <a:pt x="2135" y="298"/>
                  </a:lnTo>
                  <a:lnTo>
                    <a:pt x="2138" y="299"/>
                  </a:lnTo>
                  <a:lnTo>
                    <a:pt x="2140" y="300"/>
                  </a:lnTo>
                  <a:lnTo>
                    <a:pt x="2143" y="301"/>
                  </a:lnTo>
                  <a:lnTo>
                    <a:pt x="2145" y="302"/>
                  </a:lnTo>
                  <a:lnTo>
                    <a:pt x="2148" y="303"/>
                  </a:lnTo>
                  <a:lnTo>
                    <a:pt x="2150" y="304"/>
                  </a:lnTo>
                  <a:lnTo>
                    <a:pt x="2153" y="305"/>
                  </a:lnTo>
                  <a:lnTo>
                    <a:pt x="2155" y="306"/>
                  </a:lnTo>
                  <a:lnTo>
                    <a:pt x="2158" y="307"/>
                  </a:lnTo>
                  <a:lnTo>
                    <a:pt x="2160" y="307"/>
                  </a:lnTo>
                  <a:lnTo>
                    <a:pt x="2163" y="308"/>
                  </a:lnTo>
                  <a:lnTo>
                    <a:pt x="2165" y="309"/>
                  </a:lnTo>
                  <a:lnTo>
                    <a:pt x="2168" y="310"/>
                  </a:lnTo>
                  <a:lnTo>
                    <a:pt x="2170" y="311"/>
                  </a:lnTo>
                  <a:lnTo>
                    <a:pt x="2173" y="312"/>
                  </a:lnTo>
                  <a:lnTo>
                    <a:pt x="2175" y="313"/>
                  </a:lnTo>
                  <a:lnTo>
                    <a:pt x="2178" y="314"/>
                  </a:lnTo>
                  <a:lnTo>
                    <a:pt x="2180" y="315"/>
                  </a:lnTo>
                  <a:lnTo>
                    <a:pt x="2183" y="316"/>
                  </a:lnTo>
                  <a:lnTo>
                    <a:pt x="2185" y="317"/>
                  </a:lnTo>
                  <a:lnTo>
                    <a:pt x="2188" y="318"/>
                  </a:lnTo>
                  <a:lnTo>
                    <a:pt x="2190" y="319"/>
                  </a:lnTo>
                  <a:lnTo>
                    <a:pt x="2193" y="320"/>
                  </a:lnTo>
                  <a:lnTo>
                    <a:pt x="2195" y="321"/>
                  </a:lnTo>
                  <a:lnTo>
                    <a:pt x="2198" y="322"/>
                  </a:lnTo>
                  <a:lnTo>
                    <a:pt x="2200" y="322"/>
                  </a:lnTo>
                  <a:lnTo>
                    <a:pt x="2203" y="323"/>
                  </a:lnTo>
                  <a:lnTo>
                    <a:pt x="2205" y="324"/>
                  </a:lnTo>
                  <a:lnTo>
                    <a:pt x="2208" y="325"/>
                  </a:lnTo>
                  <a:lnTo>
                    <a:pt x="2210" y="326"/>
                  </a:lnTo>
                  <a:lnTo>
                    <a:pt x="2213" y="327"/>
                  </a:lnTo>
                  <a:lnTo>
                    <a:pt x="2215" y="328"/>
                  </a:lnTo>
                  <a:lnTo>
                    <a:pt x="2218" y="329"/>
                  </a:lnTo>
                  <a:lnTo>
                    <a:pt x="2220" y="330"/>
                  </a:lnTo>
                  <a:lnTo>
                    <a:pt x="2223" y="331"/>
                  </a:lnTo>
                  <a:lnTo>
                    <a:pt x="2225" y="332"/>
                  </a:lnTo>
                  <a:lnTo>
                    <a:pt x="2228" y="333"/>
                  </a:lnTo>
                  <a:lnTo>
                    <a:pt x="2230" y="334"/>
                  </a:lnTo>
                  <a:lnTo>
                    <a:pt x="2233" y="335"/>
                  </a:lnTo>
                  <a:lnTo>
                    <a:pt x="2235" y="336"/>
                  </a:lnTo>
                  <a:lnTo>
                    <a:pt x="2238" y="337"/>
                  </a:lnTo>
                  <a:lnTo>
                    <a:pt x="2240" y="338"/>
                  </a:lnTo>
                  <a:lnTo>
                    <a:pt x="2243" y="339"/>
                  </a:lnTo>
                  <a:lnTo>
                    <a:pt x="2245" y="340"/>
                  </a:lnTo>
                  <a:lnTo>
                    <a:pt x="2248" y="341"/>
                  </a:lnTo>
                  <a:lnTo>
                    <a:pt x="2250" y="342"/>
                  </a:lnTo>
                  <a:lnTo>
                    <a:pt x="2253" y="343"/>
                  </a:lnTo>
                  <a:lnTo>
                    <a:pt x="2255" y="344"/>
                  </a:lnTo>
                  <a:lnTo>
                    <a:pt x="2258" y="345"/>
                  </a:lnTo>
                  <a:lnTo>
                    <a:pt x="2260" y="346"/>
                  </a:lnTo>
                  <a:lnTo>
                    <a:pt x="2263" y="347"/>
                  </a:lnTo>
                  <a:lnTo>
                    <a:pt x="2265" y="348"/>
                  </a:lnTo>
                  <a:lnTo>
                    <a:pt x="2268" y="350"/>
                  </a:lnTo>
                  <a:lnTo>
                    <a:pt x="2270" y="351"/>
                  </a:lnTo>
                  <a:lnTo>
                    <a:pt x="2273" y="352"/>
                  </a:lnTo>
                  <a:lnTo>
                    <a:pt x="2275" y="353"/>
                  </a:lnTo>
                  <a:lnTo>
                    <a:pt x="2278" y="354"/>
                  </a:lnTo>
                  <a:lnTo>
                    <a:pt x="2280" y="355"/>
                  </a:lnTo>
                  <a:lnTo>
                    <a:pt x="2283" y="356"/>
                  </a:lnTo>
                  <a:lnTo>
                    <a:pt x="2285" y="357"/>
                  </a:lnTo>
                  <a:lnTo>
                    <a:pt x="2288" y="358"/>
                  </a:lnTo>
                  <a:lnTo>
                    <a:pt x="2290" y="359"/>
                  </a:lnTo>
                  <a:lnTo>
                    <a:pt x="2293" y="360"/>
                  </a:lnTo>
                  <a:lnTo>
                    <a:pt x="2295" y="361"/>
                  </a:lnTo>
                  <a:lnTo>
                    <a:pt x="2298" y="362"/>
                  </a:lnTo>
                  <a:lnTo>
                    <a:pt x="2300" y="362"/>
                  </a:lnTo>
                  <a:lnTo>
                    <a:pt x="2303" y="363"/>
                  </a:lnTo>
                  <a:lnTo>
                    <a:pt x="2305" y="364"/>
                  </a:lnTo>
                  <a:lnTo>
                    <a:pt x="2308" y="365"/>
                  </a:lnTo>
                  <a:lnTo>
                    <a:pt x="2310" y="365"/>
                  </a:lnTo>
                  <a:lnTo>
                    <a:pt x="2313" y="366"/>
                  </a:lnTo>
                  <a:lnTo>
                    <a:pt x="2315" y="366"/>
                  </a:lnTo>
                  <a:lnTo>
                    <a:pt x="2318" y="366"/>
                  </a:lnTo>
                  <a:lnTo>
                    <a:pt x="2320" y="367"/>
                  </a:lnTo>
                  <a:lnTo>
                    <a:pt x="2322" y="367"/>
                  </a:lnTo>
                  <a:lnTo>
                    <a:pt x="2325" y="367"/>
                  </a:lnTo>
                  <a:lnTo>
                    <a:pt x="2328" y="367"/>
                  </a:lnTo>
                  <a:lnTo>
                    <a:pt x="2330" y="368"/>
                  </a:lnTo>
                  <a:lnTo>
                    <a:pt x="2333" y="368"/>
                  </a:lnTo>
                  <a:lnTo>
                    <a:pt x="2335" y="368"/>
                  </a:lnTo>
                  <a:lnTo>
                    <a:pt x="2338" y="368"/>
                  </a:lnTo>
                  <a:lnTo>
                    <a:pt x="2340" y="368"/>
                  </a:lnTo>
                  <a:lnTo>
                    <a:pt x="2342" y="368"/>
                  </a:lnTo>
                  <a:lnTo>
                    <a:pt x="2345" y="368"/>
                  </a:lnTo>
                  <a:lnTo>
                    <a:pt x="2348" y="368"/>
                  </a:lnTo>
                  <a:lnTo>
                    <a:pt x="2350" y="368"/>
                  </a:lnTo>
                  <a:lnTo>
                    <a:pt x="2353" y="368"/>
                  </a:lnTo>
                  <a:lnTo>
                    <a:pt x="2355" y="367"/>
                  </a:lnTo>
                  <a:lnTo>
                    <a:pt x="2358" y="367"/>
                  </a:lnTo>
                  <a:lnTo>
                    <a:pt x="2360" y="367"/>
                  </a:lnTo>
                  <a:lnTo>
                    <a:pt x="2362" y="367"/>
                  </a:lnTo>
                  <a:lnTo>
                    <a:pt x="2365" y="367"/>
                  </a:lnTo>
                  <a:lnTo>
                    <a:pt x="2368" y="367"/>
                  </a:lnTo>
                  <a:lnTo>
                    <a:pt x="2370" y="367"/>
                  </a:lnTo>
                  <a:lnTo>
                    <a:pt x="2373" y="367"/>
                  </a:lnTo>
                  <a:lnTo>
                    <a:pt x="2375" y="367"/>
                  </a:lnTo>
                  <a:lnTo>
                    <a:pt x="2378" y="367"/>
                  </a:lnTo>
                  <a:lnTo>
                    <a:pt x="2380" y="367"/>
                  </a:lnTo>
                  <a:lnTo>
                    <a:pt x="2382" y="367"/>
                  </a:lnTo>
                  <a:lnTo>
                    <a:pt x="2385" y="367"/>
                  </a:lnTo>
                  <a:lnTo>
                    <a:pt x="2388" y="367"/>
                  </a:lnTo>
                  <a:lnTo>
                    <a:pt x="2390" y="367"/>
                  </a:lnTo>
                  <a:lnTo>
                    <a:pt x="2393" y="367"/>
                  </a:lnTo>
                  <a:lnTo>
                    <a:pt x="2395" y="367"/>
                  </a:lnTo>
                  <a:lnTo>
                    <a:pt x="2398" y="368"/>
                  </a:lnTo>
                  <a:lnTo>
                    <a:pt x="2400" y="368"/>
                  </a:lnTo>
                  <a:lnTo>
                    <a:pt x="2402" y="368"/>
                  </a:lnTo>
                  <a:lnTo>
                    <a:pt x="2405" y="368"/>
                  </a:lnTo>
                  <a:lnTo>
                    <a:pt x="2408" y="368"/>
                  </a:lnTo>
                  <a:lnTo>
                    <a:pt x="2410" y="368"/>
                  </a:lnTo>
                  <a:lnTo>
                    <a:pt x="2413" y="368"/>
                  </a:lnTo>
                  <a:lnTo>
                    <a:pt x="2415" y="369"/>
                  </a:lnTo>
                  <a:lnTo>
                    <a:pt x="2418" y="369"/>
                  </a:lnTo>
                  <a:lnTo>
                    <a:pt x="2420" y="369"/>
                  </a:lnTo>
                  <a:lnTo>
                    <a:pt x="2422" y="369"/>
                  </a:lnTo>
                  <a:lnTo>
                    <a:pt x="2425" y="369"/>
                  </a:lnTo>
                  <a:lnTo>
                    <a:pt x="2428" y="370"/>
                  </a:lnTo>
                  <a:lnTo>
                    <a:pt x="2430" y="370"/>
                  </a:lnTo>
                  <a:lnTo>
                    <a:pt x="2433" y="370"/>
                  </a:lnTo>
                  <a:lnTo>
                    <a:pt x="2435" y="370"/>
                  </a:lnTo>
                  <a:lnTo>
                    <a:pt x="2438" y="370"/>
                  </a:lnTo>
                  <a:lnTo>
                    <a:pt x="2440" y="370"/>
                  </a:lnTo>
                  <a:lnTo>
                    <a:pt x="2442" y="370"/>
                  </a:lnTo>
                  <a:lnTo>
                    <a:pt x="2445" y="371"/>
                  </a:lnTo>
                  <a:lnTo>
                    <a:pt x="2447" y="371"/>
                  </a:lnTo>
                  <a:lnTo>
                    <a:pt x="2450" y="371"/>
                  </a:lnTo>
                  <a:lnTo>
                    <a:pt x="2453" y="371"/>
                  </a:lnTo>
                  <a:lnTo>
                    <a:pt x="2455" y="371"/>
                  </a:lnTo>
                  <a:lnTo>
                    <a:pt x="2458" y="371"/>
                  </a:lnTo>
                  <a:lnTo>
                    <a:pt x="2460" y="371"/>
                  </a:lnTo>
                  <a:lnTo>
                    <a:pt x="2462" y="371"/>
                  </a:lnTo>
                  <a:lnTo>
                    <a:pt x="2465" y="371"/>
                  </a:lnTo>
                  <a:lnTo>
                    <a:pt x="2467" y="371"/>
                  </a:lnTo>
                  <a:lnTo>
                    <a:pt x="2470" y="371"/>
                  </a:lnTo>
                  <a:lnTo>
                    <a:pt x="2473" y="371"/>
                  </a:lnTo>
                  <a:lnTo>
                    <a:pt x="2475" y="371"/>
                  </a:lnTo>
                  <a:lnTo>
                    <a:pt x="2478" y="371"/>
                  </a:lnTo>
                  <a:lnTo>
                    <a:pt x="2480" y="371"/>
                  </a:lnTo>
                  <a:lnTo>
                    <a:pt x="2482" y="371"/>
                  </a:lnTo>
                  <a:lnTo>
                    <a:pt x="2485" y="371"/>
                  </a:lnTo>
                  <a:lnTo>
                    <a:pt x="2487" y="371"/>
                  </a:lnTo>
                  <a:lnTo>
                    <a:pt x="2490" y="371"/>
                  </a:lnTo>
                  <a:lnTo>
                    <a:pt x="2493" y="371"/>
                  </a:lnTo>
                  <a:lnTo>
                    <a:pt x="2495" y="371"/>
                  </a:lnTo>
                  <a:lnTo>
                    <a:pt x="2498" y="371"/>
                  </a:lnTo>
                  <a:lnTo>
                    <a:pt x="2500" y="371"/>
                  </a:lnTo>
                  <a:lnTo>
                    <a:pt x="2502" y="372"/>
                  </a:lnTo>
                  <a:lnTo>
                    <a:pt x="2505" y="372"/>
                  </a:lnTo>
                  <a:lnTo>
                    <a:pt x="2507" y="372"/>
                  </a:lnTo>
                  <a:lnTo>
                    <a:pt x="2510" y="372"/>
                  </a:lnTo>
                  <a:lnTo>
                    <a:pt x="2513" y="372"/>
                  </a:lnTo>
                  <a:lnTo>
                    <a:pt x="2515" y="372"/>
                  </a:lnTo>
                  <a:lnTo>
                    <a:pt x="2518" y="372"/>
                  </a:lnTo>
                  <a:lnTo>
                    <a:pt x="2520" y="372"/>
                  </a:lnTo>
                  <a:lnTo>
                    <a:pt x="2522" y="372"/>
                  </a:lnTo>
                  <a:lnTo>
                    <a:pt x="2525" y="372"/>
                  </a:lnTo>
                  <a:lnTo>
                    <a:pt x="2527" y="372"/>
                  </a:lnTo>
                  <a:lnTo>
                    <a:pt x="2530" y="372"/>
                  </a:lnTo>
                  <a:lnTo>
                    <a:pt x="2533" y="372"/>
                  </a:lnTo>
                  <a:lnTo>
                    <a:pt x="2535" y="372"/>
                  </a:lnTo>
                  <a:lnTo>
                    <a:pt x="2538" y="372"/>
                  </a:lnTo>
                  <a:lnTo>
                    <a:pt x="2540" y="372"/>
                  </a:lnTo>
                  <a:lnTo>
                    <a:pt x="2542" y="372"/>
                  </a:lnTo>
                  <a:lnTo>
                    <a:pt x="2545" y="372"/>
                  </a:lnTo>
                  <a:lnTo>
                    <a:pt x="2547" y="372"/>
                  </a:lnTo>
                  <a:lnTo>
                    <a:pt x="2550" y="372"/>
                  </a:lnTo>
                  <a:lnTo>
                    <a:pt x="2553" y="372"/>
                  </a:lnTo>
                  <a:lnTo>
                    <a:pt x="2555" y="372"/>
                  </a:lnTo>
                  <a:lnTo>
                    <a:pt x="2558" y="372"/>
                  </a:lnTo>
                  <a:lnTo>
                    <a:pt x="2560" y="372"/>
                  </a:lnTo>
                  <a:lnTo>
                    <a:pt x="2563" y="372"/>
                  </a:lnTo>
                  <a:lnTo>
                    <a:pt x="2565" y="372"/>
                  </a:lnTo>
                  <a:lnTo>
                    <a:pt x="2568" y="372"/>
                  </a:lnTo>
                  <a:lnTo>
                    <a:pt x="2570" y="373"/>
                  </a:lnTo>
                  <a:lnTo>
                    <a:pt x="2573" y="373"/>
                  </a:lnTo>
                  <a:lnTo>
                    <a:pt x="2575" y="373"/>
                  </a:lnTo>
                  <a:lnTo>
                    <a:pt x="2578" y="373"/>
                  </a:lnTo>
                  <a:lnTo>
                    <a:pt x="2580" y="373"/>
                  </a:lnTo>
                  <a:lnTo>
                    <a:pt x="2583" y="374"/>
                  </a:lnTo>
                  <a:lnTo>
                    <a:pt x="2585" y="374"/>
                  </a:lnTo>
                  <a:lnTo>
                    <a:pt x="2588" y="374"/>
                  </a:lnTo>
                  <a:lnTo>
                    <a:pt x="2590" y="374"/>
                  </a:lnTo>
                  <a:lnTo>
                    <a:pt x="2593" y="374"/>
                  </a:lnTo>
                  <a:lnTo>
                    <a:pt x="2595" y="374"/>
                  </a:lnTo>
                  <a:lnTo>
                    <a:pt x="2598" y="374"/>
                  </a:lnTo>
                  <a:lnTo>
                    <a:pt x="2600" y="375"/>
                  </a:lnTo>
                  <a:lnTo>
                    <a:pt x="2603" y="375"/>
                  </a:lnTo>
                  <a:lnTo>
                    <a:pt x="2605" y="375"/>
                  </a:lnTo>
                  <a:lnTo>
                    <a:pt x="2608" y="375"/>
                  </a:lnTo>
                  <a:lnTo>
                    <a:pt x="2610" y="375"/>
                  </a:lnTo>
                  <a:lnTo>
                    <a:pt x="2613" y="375"/>
                  </a:lnTo>
                  <a:lnTo>
                    <a:pt x="2615" y="375"/>
                  </a:lnTo>
                  <a:lnTo>
                    <a:pt x="2618" y="374"/>
                  </a:lnTo>
                  <a:lnTo>
                    <a:pt x="2620" y="374"/>
                  </a:lnTo>
                  <a:lnTo>
                    <a:pt x="2623" y="374"/>
                  </a:lnTo>
                  <a:lnTo>
                    <a:pt x="2625" y="374"/>
                  </a:lnTo>
                  <a:lnTo>
                    <a:pt x="2628" y="374"/>
                  </a:lnTo>
                  <a:lnTo>
                    <a:pt x="2630" y="373"/>
                  </a:lnTo>
                  <a:lnTo>
                    <a:pt x="2633" y="373"/>
                  </a:lnTo>
                  <a:lnTo>
                    <a:pt x="2635" y="372"/>
                  </a:lnTo>
                  <a:lnTo>
                    <a:pt x="2638" y="372"/>
                  </a:lnTo>
                  <a:lnTo>
                    <a:pt x="2640" y="371"/>
                  </a:lnTo>
                  <a:lnTo>
                    <a:pt x="2643" y="371"/>
                  </a:lnTo>
                  <a:lnTo>
                    <a:pt x="2645" y="371"/>
                  </a:lnTo>
                  <a:lnTo>
                    <a:pt x="2648" y="370"/>
                  </a:lnTo>
                  <a:lnTo>
                    <a:pt x="2650" y="370"/>
                  </a:lnTo>
                  <a:lnTo>
                    <a:pt x="2653" y="370"/>
                  </a:lnTo>
                  <a:lnTo>
                    <a:pt x="2655" y="369"/>
                  </a:lnTo>
                  <a:lnTo>
                    <a:pt x="2658" y="369"/>
                  </a:lnTo>
                  <a:lnTo>
                    <a:pt x="2660" y="369"/>
                  </a:lnTo>
                  <a:lnTo>
                    <a:pt x="2663" y="369"/>
                  </a:lnTo>
                  <a:lnTo>
                    <a:pt x="2665" y="369"/>
                  </a:lnTo>
                  <a:lnTo>
                    <a:pt x="2668" y="370"/>
                  </a:lnTo>
                  <a:lnTo>
                    <a:pt x="2670" y="370"/>
                  </a:lnTo>
                  <a:lnTo>
                    <a:pt x="2673" y="370"/>
                  </a:lnTo>
                  <a:lnTo>
                    <a:pt x="2675" y="371"/>
                  </a:lnTo>
                  <a:lnTo>
                    <a:pt x="2678" y="372"/>
                  </a:lnTo>
                  <a:lnTo>
                    <a:pt x="2680" y="373"/>
                  </a:lnTo>
                  <a:lnTo>
                    <a:pt x="2683" y="374"/>
                  </a:lnTo>
                  <a:lnTo>
                    <a:pt x="2685" y="375"/>
                  </a:lnTo>
                  <a:lnTo>
                    <a:pt x="2688" y="376"/>
                  </a:lnTo>
                  <a:lnTo>
                    <a:pt x="2690" y="378"/>
                  </a:lnTo>
                  <a:lnTo>
                    <a:pt x="2693" y="380"/>
                  </a:lnTo>
                  <a:lnTo>
                    <a:pt x="2695" y="383"/>
                  </a:lnTo>
                  <a:lnTo>
                    <a:pt x="2698" y="385"/>
                  </a:lnTo>
                  <a:lnTo>
                    <a:pt x="2700" y="388"/>
                  </a:lnTo>
                  <a:lnTo>
                    <a:pt x="2703" y="390"/>
                  </a:lnTo>
                  <a:lnTo>
                    <a:pt x="2705" y="393"/>
                  </a:lnTo>
                  <a:lnTo>
                    <a:pt x="2708" y="396"/>
                  </a:lnTo>
                  <a:lnTo>
                    <a:pt x="2710" y="399"/>
                  </a:lnTo>
                  <a:lnTo>
                    <a:pt x="2713" y="402"/>
                  </a:lnTo>
                  <a:lnTo>
                    <a:pt x="2715" y="405"/>
                  </a:lnTo>
                  <a:lnTo>
                    <a:pt x="2718" y="408"/>
                  </a:lnTo>
                  <a:lnTo>
                    <a:pt x="2720" y="411"/>
                  </a:lnTo>
                  <a:lnTo>
                    <a:pt x="2723" y="414"/>
                  </a:lnTo>
                  <a:lnTo>
                    <a:pt x="2725" y="417"/>
                  </a:lnTo>
                  <a:lnTo>
                    <a:pt x="2728" y="420"/>
                  </a:lnTo>
                  <a:lnTo>
                    <a:pt x="2730" y="423"/>
                  </a:lnTo>
                  <a:lnTo>
                    <a:pt x="2733" y="426"/>
                  </a:lnTo>
                  <a:lnTo>
                    <a:pt x="2735" y="428"/>
                  </a:lnTo>
                  <a:lnTo>
                    <a:pt x="2738" y="431"/>
                  </a:lnTo>
                  <a:lnTo>
                    <a:pt x="2740" y="434"/>
                  </a:lnTo>
                  <a:lnTo>
                    <a:pt x="2743" y="436"/>
                  </a:lnTo>
                  <a:lnTo>
                    <a:pt x="2745" y="439"/>
                  </a:lnTo>
                  <a:lnTo>
                    <a:pt x="2748" y="441"/>
                  </a:lnTo>
                  <a:lnTo>
                    <a:pt x="2750" y="443"/>
                  </a:lnTo>
                  <a:lnTo>
                    <a:pt x="2753" y="444"/>
                  </a:lnTo>
                  <a:lnTo>
                    <a:pt x="2755" y="446"/>
                  </a:lnTo>
                  <a:lnTo>
                    <a:pt x="2758" y="447"/>
                  </a:lnTo>
                  <a:lnTo>
                    <a:pt x="2760" y="448"/>
                  </a:lnTo>
                  <a:lnTo>
                    <a:pt x="2763" y="449"/>
                  </a:lnTo>
                  <a:lnTo>
                    <a:pt x="2765" y="449"/>
                  </a:lnTo>
                  <a:lnTo>
                    <a:pt x="2768" y="450"/>
                  </a:lnTo>
                  <a:lnTo>
                    <a:pt x="2770" y="451"/>
                  </a:lnTo>
                  <a:lnTo>
                    <a:pt x="2773" y="451"/>
                  </a:lnTo>
                  <a:lnTo>
                    <a:pt x="2775" y="451"/>
                  </a:lnTo>
                  <a:lnTo>
                    <a:pt x="2778" y="451"/>
                  </a:lnTo>
                  <a:lnTo>
                    <a:pt x="2780" y="451"/>
                  </a:lnTo>
                  <a:lnTo>
                    <a:pt x="2783" y="451"/>
                  </a:lnTo>
                  <a:lnTo>
                    <a:pt x="2785" y="451"/>
                  </a:lnTo>
                  <a:lnTo>
                    <a:pt x="2788" y="451"/>
                  </a:lnTo>
                  <a:lnTo>
                    <a:pt x="2790" y="451"/>
                  </a:lnTo>
                  <a:lnTo>
                    <a:pt x="2793" y="451"/>
                  </a:lnTo>
                  <a:lnTo>
                    <a:pt x="2795" y="450"/>
                  </a:lnTo>
                  <a:lnTo>
                    <a:pt x="2798" y="450"/>
                  </a:lnTo>
                  <a:lnTo>
                    <a:pt x="2800" y="450"/>
                  </a:lnTo>
                  <a:lnTo>
                    <a:pt x="2803" y="449"/>
                  </a:lnTo>
                  <a:lnTo>
                    <a:pt x="2805" y="449"/>
                  </a:lnTo>
                  <a:lnTo>
                    <a:pt x="2808" y="448"/>
                  </a:lnTo>
                  <a:lnTo>
                    <a:pt x="2810" y="448"/>
                  </a:lnTo>
                  <a:lnTo>
                    <a:pt x="2813" y="448"/>
                  </a:lnTo>
                  <a:lnTo>
                    <a:pt x="2815" y="447"/>
                  </a:lnTo>
                  <a:lnTo>
                    <a:pt x="2818" y="447"/>
                  </a:lnTo>
                  <a:lnTo>
                    <a:pt x="2820" y="447"/>
                  </a:lnTo>
                  <a:lnTo>
                    <a:pt x="2823" y="447"/>
                  </a:lnTo>
                  <a:lnTo>
                    <a:pt x="2825" y="447"/>
                  </a:lnTo>
                  <a:lnTo>
                    <a:pt x="2828" y="446"/>
                  </a:lnTo>
                  <a:lnTo>
                    <a:pt x="2830" y="446"/>
                  </a:lnTo>
                  <a:lnTo>
                    <a:pt x="2833" y="446"/>
                  </a:lnTo>
                  <a:lnTo>
                    <a:pt x="2835" y="446"/>
                  </a:lnTo>
                  <a:lnTo>
                    <a:pt x="2838" y="446"/>
                  </a:lnTo>
                  <a:lnTo>
                    <a:pt x="2840" y="446"/>
                  </a:lnTo>
                  <a:lnTo>
                    <a:pt x="2843" y="446"/>
                  </a:lnTo>
                  <a:lnTo>
                    <a:pt x="2845" y="445"/>
                  </a:lnTo>
                  <a:lnTo>
                    <a:pt x="2848" y="445"/>
                  </a:lnTo>
                  <a:lnTo>
                    <a:pt x="2850" y="445"/>
                  </a:lnTo>
                  <a:lnTo>
                    <a:pt x="2853" y="445"/>
                  </a:lnTo>
                  <a:lnTo>
                    <a:pt x="2855" y="445"/>
                  </a:lnTo>
                  <a:lnTo>
                    <a:pt x="2858" y="445"/>
                  </a:lnTo>
                  <a:lnTo>
                    <a:pt x="2860" y="445"/>
                  </a:lnTo>
                  <a:lnTo>
                    <a:pt x="2863" y="444"/>
                  </a:lnTo>
                  <a:lnTo>
                    <a:pt x="2865" y="444"/>
                  </a:lnTo>
                  <a:lnTo>
                    <a:pt x="2868" y="444"/>
                  </a:lnTo>
                  <a:lnTo>
                    <a:pt x="2870" y="444"/>
                  </a:lnTo>
                  <a:lnTo>
                    <a:pt x="2873" y="443"/>
                  </a:lnTo>
                  <a:lnTo>
                    <a:pt x="2875" y="443"/>
                  </a:lnTo>
                  <a:lnTo>
                    <a:pt x="2878" y="443"/>
                  </a:lnTo>
                  <a:lnTo>
                    <a:pt x="2880" y="442"/>
                  </a:lnTo>
                  <a:lnTo>
                    <a:pt x="2883" y="441"/>
                  </a:lnTo>
                  <a:lnTo>
                    <a:pt x="2885" y="441"/>
                  </a:lnTo>
                  <a:lnTo>
                    <a:pt x="2888" y="440"/>
                  </a:lnTo>
                  <a:lnTo>
                    <a:pt x="2890" y="439"/>
                  </a:lnTo>
                  <a:lnTo>
                    <a:pt x="2893" y="439"/>
                  </a:lnTo>
                  <a:lnTo>
                    <a:pt x="2895" y="438"/>
                  </a:lnTo>
                  <a:lnTo>
                    <a:pt x="2898" y="437"/>
                  </a:lnTo>
                  <a:lnTo>
                    <a:pt x="2900" y="437"/>
                  </a:lnTo>
                  <a:lnTo>
                    <a:pt x="2903" y="436"/>
                  </a:lnTo>
                  <a:lnTo>
                    <a:pt x="2905" y="435"/>
                  </a:lnTo>
                  <a:lnTo>
                    <a:pt x="2908" y="434"/>
                  </a:lnTo>
                  <a:lnTo>
                    <a:pt x="2910" y="434"/>
                  </a:lnTo>
                  <a:lnTo>
                    <a:pt x="2913" y="433"/>
                  </a:lnTo>
                  <a:lnTo>
                    <a:pt x="2915" y="432"/>
                  </a:lnTo>
                  <a:lnTo>
                    <a:pt x="2918" y="432"/>
                  </a:lnTo>
                  <a:lnTo>
                    <a:pt x="2920" y="431"/>
                  </a:lnTo>
                  <a:lnTo>
                    <a:pt x="2923" y="430"/>
                  </a:lnTo>
                  <a:lnTo>
                    <a:pt x="2925" y="430"/>
                  </a:lnTo>
                  <a:lnTo>
                    <a:pt x="2928" y="429"/>
                  </a:lnTo>
                  <a:lnTo>
                    <a:pt x="2930" y="428"/>
                  </a:lnTo>
                  <a:lnTo>
                    <a:pt x="2933" y="428"/>
                  </a:lnTo>
                  <a:lnTo>
                    <a:pt x="2935" y="427"/>
                  </a:lnTo>
                  <a:lnTo>
                    <a:pt x="2938" y="426"/>
                  </a:lnTo>
                  <a:lnTo>
                    <a:pt x="2940" y="426"/>
                  </a:lnTo>
                  <a:lnTo>
                    <a:pt x="2943" y="425"/>
                  </a:lnTo>
                  <a:lnTo>
                    <a:pt x="2945" y="424"/>
                  </a:lnTo>
                  <a:lnTo>
                    <a:pt x="2948" y="424"/>
                  </a:lnTo>
                  <a:lnTo>
                    <a:pt x="2950" y="423"/>
                  </a:lnTo>
                  <a:lnTo>
                    <a:pt x="2953" y="423"/>
                  </a:lnTo>
                  <a:lnTo>
                    <a:pt x="2955" y="422"/>
                  </a:lnTo>
                  <a:lnTo>
                    <a:pt x="2958" y="422"/>
                  </a:lnTo>
                  <a:lnTo>
                    <a:pt x="2960" y="421"/>
                  </a:lnTo>
                  <a:lnTo>
                    <a:pt x="2963" y="421"/>
                  </a:lnTo>
                  <a:lnTo>
                    <a:pt x="2965" y="420"/>
                  </a:lnTo>
                  <a:lnTo>
                    <a:pt x="2968" y="420"/>
                  </a:lnTo>
                  <a:lnTo>
                    <a:pt x="2970" y="419"/>
                  </a:lnTo>
                  <a:lnTo>
                    <a:pt x="2973" y="418"/>
                  </a:lnTo>
                  <a:lnTo>
                    <a:pt x="2975" y="418"/>
                  </a:lnTo>
                  <a:lnTo>
                    <a:pt x="2978" y="417"/>
                  </a:lnTo>
                  <a:lnTo>
                    <a:pt x="2980" y="417"/>
                  </a:lnTo>
                  <a:lnTo>
                    <a:pt x="2983" y="416"/>
                  </a:lnTo>
                  <a:lnTo>
                    <a:pt x="2985" y="415"/>
                  </a:lnTo>
                  <a:lnTo>
                    <a:pt x="2988" y="415"/>
                  </a:lnTo>
                  <a:lnTo>
                    <a:pt x="2990" y="414"/>
                  </a:lnTo>
                  <a:lnTo>
                    <a:pt x="2993" y="413"/>
                  </a:lnTo>
                  <a:lnTo>
                    <a:pt x="2995" y="412"/>
                  </a:lnTo>
                  <a:lnTo>
                    <a:pt x="2998" y="411"/>
                  </a:lnTo>
                  <a:lnTo>
                    <a:pt x="3000" y="411"/>
                  </a:lnTo>
                  <a:lnTo>
                    <a:pt x="3003" y="410"/>
                  </a:lnTo>
                  <a:lnTo>
                    <a:pt x="3005" y="409"/>
                  </a:lnTo>
                  <a:lnTo>
                    <a:pt x="3008" y="407"/>
                  </a:lnTo>
                  <a:lnTo>
                    <a:pt x="3010" y="406"/>
                  </a:lnTo>
                  <a:lnTo>
                    <a:pt x="3013" y="405"/>
                  </a:lnTo>
                  <a:lnTo>
                    <a:pt x="3015" y="404"/>
                  </a:lnTo>
                  <a:lnTo>
                    <a:pt x="3018" y="403"/>
                  </a:lnTo>
                  <a:lnTo>
                    <a:pt x="3020" y="401"/>
                  </a:lnTo>
                  <a:lnTo>
                    <a:pt x="3023" y="400"/>
                  </a:lnTo>
                  <a:lnTo>
                    <a:pt x="3025" y="399"/>
                  </a:lnTo>
                  <a:lnTo>
                    <a:pt x="3028" y="397"/>
                  </a:lnTo>
                  <a:lnTo>
                    <a:pt x="3030" y="396"/>
                  </a:lnTo>
                  <a:lnTo>
                    <a:pt x="3033" y="395"/>
                  </a:lnTo>
                  <a:lnTo>
                    <a:pt x="3035" y="393"/>
                  </a:lnTo>
                  <a:lnTo>
                    <a:pt x="3038" y="392"/>
                  </a:lnTo>
                  <a:lnTo>
                    <a:pt x="3040" y="391"/>
                  </a:lnTo>
                  <a:lnTo>
                    <a:pt x="3043" y="389"/>
                  </a:lnTo>
                  <a:lnTo>
                    <a:pt x="3045" y="388"/>
                  </a:lnTo>
                  <a:lnTo>
                    <a:pt x="3048" y="386"/>
                  </a:lnTo>
                  <a:lnTo>
                    <a:pt x="3050" y="385"/>
                  </a:lnTo>
                  <a:lnTo>
                    <a:pt x="3053" y="383"/>
                  </a:lnTo>
                  <a:lnTo>
                    <a:pt x="3055" y="382"/>
                  </a:lnTo>
                  <a:lnTo>
                    <a:pt x="3058" y="381"/>
                  </a:lnTo>
                  <a:lnTo>
                    <a:pt x="3060" y="379"/>
                  </a:lnTo>
                  <a:lnTo>
                    <a:pt x="3063" y="378"/>
                  </a:lnTo>
                  <a:lnTo>
                    <a:pt x="3065" y="376"/>
                  </a:lnTo>
                  <a:lnTo>
                    <a:pt x="3068" y="375"/>
                  </a:lnTo>
                  <a:lnTo>
                    <a:pt x="3070" y="374"/>
                  </a:lnTo>
                  <a:lnTo>
                    <a:pt x="3073" y="372"/>
                  </a:lnTo>
                  <a:lnTo>
                    <a:pt x="3075" y="371"/>
                  </a:lnTo>
                  <a:lnTo>
                    <a:pt x="3078" y="369"/>
                  </a:lnTo>
                  <a:lnTo>
                    <a:pt x="3080" y="368"/>
                  </a:lnTo>
                  <a:lnTo>
                    <a:pt x="3083" y="367"/>
                  </a:lnTo>
                  <a:lnTo>
                    <a:pt x="3085" y="365"/>
                  </a:lnTo>
                  <a:lnTo>
                    <a:pt x="3088" y="364"/>
                  </a:lnTo>
                  <a:lnTo>
                    <a:pt x="3090" y="363"/>
                  </a:lnTo>
                  <a:lnTo>
                    <a:pt x="3093" y="361"/>
                  </a:lnTo>
                  <a:lnTo>
                    <a:pt x="3095" y="360"/>
                  </a:lnTo>
                  <a:lnTo>
                    <a:pt x="3098" y="359"/>
                  </a:lnTo>
                  <a:lnTo>
                    <a:pt x="3100" y="358"/>
                  </a:lnTo>
                  <a:lnTo>
                    <a:pt x="3103" y="356"/>
                  </a:lnTo>
                  <a:lnTo>
                    <a:pt x="3105" y="355"/>
                  </a:lnTo>
                  <a:lnTo>
                    <a:pt x="3108" y="354"/>
                  </a:lnTo>
                  <a:lnTo>
                    <a:pt x="3110" y="352"/>
                  </a:lnTo>
                  <a:lnTo>
                    <a:pt x="3113" y="351"/>
                  </a:lnTo>
                  <a:lnTo>
                    <a:pt x="3115" y="350"/>
                  </a:lnTo>
                  <a:lnTo>
                    <a:pt x="3118" y="349"/>
                  </a:lnTo>
                  <a:lnTo>
                    <a:pt x="3120" y="347"/>
                  </a:lnTo>
                  <a:lnTo>
                    <a:pt x="3123" y="346"/>
                  </a:lnTo>
                  <a:lnTo>
                    <a:pt x="3125" y="345"/>
                  </a:lnTo>
                  <a:lnTo>
                    <a:pt x="3128" y="344"/>
                  </a:lnTo>
                  <a:lnTo>
                    <a:pt x="3130" y="343"/>
                  </a:lnTo>
                  <a:lnTo>
                    <a:pt x="3133" y="341"/>
                  </a:lnTo>
                  <a:lnTo>
                    <a:pt x="3135" y="340"/>
                  </a:lnTo>
                  <a:lnTo>
                    <a:pt x="3138" y="339"/>
                  </a:lnTo>
                  <a:lnTo>
                    <a:pt x="3140" y="338"/>
                  </a:lnTo>
                  <a:lnTo>
                    <a:pt x="3143" y="337"/>
                  </a:lnTo>
                  <a:lnTo>
                    <a:pt x="3145" y="336"/>
                  </a:lnTo>
                  <a:lnTo>
                    <a:pt x="3148" y="335"/>
                  </a:lnTo>
                  <a:lnTo>
                    <a:pt x="3150" y="334"/>
                  </a:lnTo>
                  <a:lnTo>
                    <a:pt x="3153" y="332"/>
                  </a:lnTo>
                  <a:lnTo>
                    <a:pt x="3155" y="331"/>
                  </a:lnTo>
                  <a:lnTo>
                    <a:pt x="3158" y="330"/>
                  </a:lnTo>
                  <a:lnTo>
                    <a:pt x="3160" y="329"/>
                  </a:lnTo>
                  <a:lnTo>
                    <a:pt x="3163" y="328"/>
                  </a:lnTo>
                  <a:lnTo>
                    <a:pt x="3165" y="326"/>
                  </a:lnTo>
                  <a:lnTo>
                    <a:pt x="3168" y="325"/>
                  </a:lnTo>
                  <a:lnTo>
                    <a:pt x="3170" y="324"/>
                  </a:lnTo>
                  <a:lnTo>
                    <a:pt x="3173" y="322"/>
                  </a:lnTo>
                  <a:lnTo>
                    <a:pt x="3175" y="321"/>
                  </a:lnTo>
                  <a:lnTo>
                    <a:pt x="3178" y="320"/>
                  </a:lnTo>
                  <a:lnTo>
                    <a:pt x="3180" y="318"/>
                  </a:lnTo>
                  <a:lnTo>
                    <a:pt x="3183" y="317"/>
                  </a:lnTo>
                  <a:lnTo>
                    <a:pt x="3185" y="315"/>
                  </a:lnTo>
                  <a:lnTo>
                    <a:pt x="3188" y="314"/>
                  </a:lnTo>
                  <a:lnTo>
                    <a:pt x="3190" y="312"/>
                  </a:lnTo>
                  <a:lnTo>
                    <a:pt x="3193" y="311"/>
                  </a:lnTo>
                  <a:lnTo>
                    <a:pt x="3195" y="309"/>
                  </a:lnTo>
                  <a:lnTo>
                    <a:pt x="3198" y="307"/>
                  </a:lnTo>
                  <a:lnTo>
                    <a:pt x="3200" y="306"/>
                  </a:lnTo>
                  <a:lnTo>
                    <a:pt x="3203" y="304"/>
                  </a:lnTo>
                  <a:lnTo>
                    <a:pt x="3205" y="303"/>
                  </a:lnTo>
                  <a:lnTo>
                    <a:pt x="3208" y="301"/>
                  </a:lnTo>
                  <a:lnTo>
                    <a:pt x="3210" y="299"/>
                  </a:lnTo>
                  <a:lnTo>
                    <a:pt x="3213" y="298"/>
                  </a:lnTo>
                  <a:lnTo>
                    <a:pt x="3215" y="297"/>
                  </a:lnTo>
                  <a:lnTo>
                    <a:pt x="3218" y="295"/>
                  </a:lnTo>
                  <a:lnTo>
                    <a:pt x="3220" y="294"/>
                  </a:lnTo>
                  <a:lnTo>
                    <a:pt x="3223" y="293"/>
                  </a:lnTo>
                  <a:lnTo>
                    <a:pt x="3225" y="292"/>
                  </a:lnTo>
                  <a:lnTo>
                    <a:pt x="3228" y="291"/>
                  </a:lnTo>
                  <a:lnTo>
                    <a:pt x="3230" y="290"/>
                  </a:lnTo>
                  <a:lnTo>
                    <a:pt x="3233" y="290"/>
                  </a:lnTo>
                  <a:lnTo>
                    <a:pt x="3235" y="289"/>
                  </a:lnTo>
                  <a:lnTo>
                    <a:pt x="3238" y="289"/>
                  </a:lnTo>
                  <a:lnTo>
                    <a:pt x="3240" y="288"/>
                  </a:lnTo>
                  <a:lnTo>
                    <a:pt x="3243" y="288"/>
                  </a:lnTo>
                  <a:lnTo>
                    <a:pt x="3245" y="289"/>
                  </a:lnTo>
                  <a:lnTo>
                    <a:pt x="3248" y="289"/>
                  </a:lnTo>
                  <a:lnTo>
                    <a:pt x="3250" y="290"/>
                  </a:lnTo>
                  <a:lnTo>
                    <a:pt x="3253" y="291"/>
                  </a:lnTo>
                  <a:lnTo>
                    <a:pt x="3255" y="292"/>
                  </a:lnTo>
                  <a:lnTo>
                    <a:pt x="3258" y="294"/>
                  </a:lnTo>
                  <a:lnTo>
                    <a:pt x="3260" y="296"/>
                  </a:lnTo>
                  <a:lnTo>
                    <a:pt x="3263" y="298"/>
                  </a:lnTo>
                  <a:lnTo>
                    <a:pt x="3265" y="300"/>
                  </a:lnTo>
                  <a:lnTo>
                    <a:pt x="3268" y="302"/>
                  </a:lnTo>
                  <a:lnTo>
                    <a:pt x="3270" y="305"/>
                  </a:lnTo>
                  <a:lnTo>
                    <a:pt x="3273" y="307"/>
                  </a:lnTo>
                  <a:lnTo>
                    <a:pt x="3275" y="310"/>
                  </a:lnTo>
                  <a:lnTo>
                    <a:pt x="3278" y="312"/>
                  </a:lnTo>
                  <a:lnTo>
                    <a:pt x="3280" y="315"/>
                  </a:lnTo>
                  <a:lnTo>
                    <a:pt x="3283" y="318"/>
                  </a:lnTo>
                  <a:lnTo>
                    <a:pt x="3285" y="321"/>
                  </a:lnTo>
                  <a:lnTo>
                    <a:pt x="3288" y="323"/>
                  </a:lnTo>
                  <a:lnTo>
                    <a:pt x="3290" y="326"/>
                  </a:lnTo>
                  <a:lnTo>
                    <a:pt x="3293" y="329"/>
                  </a:lnTo>
                  <a:lnTo>
                    <a:pt x="3295" y="331"/>
                  </a:lnTo>
                  <a:lnTo>
                    <a:pt x="3298" y="334"/>
                  </a:lnTo>
                  <a:lnTo>
                    <a:pt x="3300" y="337"/>
                  </a:lnTo>
                  <a:lnTo>
                    <a:pt x="3303" y="339"/>
                  </a:lnTo>
                  <a:lnTo>
                    <a:pt x="3305" y="341"/>
                  </a:lnTo>
                  <a:lnTo>
                    <a:pt x="3308" y="344"/>
                  </a:lnTo>
                  <a:lnTo>
                    <a:pt x="3310" y="346"/>
                  </a:lnTo>
                  <a:lnTo>
                    <a:pt x="3313" y="348"/>
                  </a:lnTo>
                  <a:lnTo>
                    <a:pt x="3315" y="349"/>
                  </a:lnTo>
                  <a:lnTo>
                    <a:pt x="3318" y="351"/>
                  </a:lnTo>
                  <a:lnTo>
                    <a:pt x="3320" y="352"/>
                  </a:lnTo>
                  <a:lnTo>
                    <a:pt x="3323" y="353"/>
                  </a:lnTo>
                  <a:lnTo>
                    <a:pt x="3325" y="354"/>
                  </a:lnTo>
                  <a:lnTo>
                    <a:pt x="3328" y="355"/>
                  </a:lnTo>
                  <a:lnTo>
                    <a:pt x="3330" y="356"/>
                  </a:lnTo>
                  <a:lnTo>
                    <a:pt x="3333" y="357"/>
                  </a:lnTo>
                  <a:lnTo>
                    <a:pt x="3335" y="358"/>
                  </a:lnTo>
                  <a:lnTo>
                    <a:pt x="3338" y="359"/>
                  </a:lnTo>
                  <a:lnTo>
                    <a:pt x="3340" y="359"/>
                  </a:lnTo>
                  <a:lnTo>
                    <a:pt x="3343" y="360"/>
                  </a:lnTo>
                  <a:lnTo>
                    <a:pt x="3345" y="361"/>
                  </a:lnTo>
                  <a:lnTo>
                    <a:pt x="3348" y="361"/>
                  </a:lnTo>
                  <a:lnTo>
                    <a:pt x="3350" y="362"/>
                  </a:lnTo>
                  <a:lnTo>
                    <a:pt x="3353" y="362"/>
                  </a:lnTo>
                  <a:lnTo>
                    <a:pt x="3355" y="363"/>
                  </a:lnTo>
                  <a:lnTo>
                    <a:pt x="3358" y="364"/>
                  </a:lnTo>
                  <a:lnTo>
                    <a:pt x="3360" y="364"/>
                  </a:lnTo>
                  <a:lnTo>
                    <a:pt x="3363" y="365"/>
                  </a:lnTo>
                  <a:lnTo>
                    <a:pt x="3365" y="366"/>
                  </a:lnTo>
                  <a:lnTo>
                    <a:pt x="3368" y="367"/>
                  </a:lnTo>
                  <a:lnTo>
                    <a:pt x="3370" y="368"/>
                  </a:lnTo>
                  <a:lnTo>
                    <a:pt x="3373" y="369"/>
                  </a:lnTo>
                  <a:lnTo>
                    <a:pt x="3375" y="370"/>
                  </a:lnTo>
                  <a:lnTo>
                    <a:pt x="3378" y="372"/>
                  </a:lnTo>
                  <a:lnTo>
                    <a:pt x="3380" y="374"/>
                  </a:lnTo>
                  <a:lnTo>
                    <a:pt x="3383" y="376"/>
                  </a:lnTo>
                  <a:lnTo>
                    <a:pt x="3385" y="378"/>
                  </a:lnTo>
                  <a:lnTo>
                    <a:pt x="3388" y="380"/>
                  </a:lnTo>
                  <a:lnTo>
                    <a:pt x="3390" y="383"/>
                  </a:lnTo>
                  <a:lnTo>
                    <a:pt x="3393" y="385"/>
                  </a:lnTo>
                  <a:lnTo>
                    <a:pt x="3395" y="387"/>
                  </a:lnTo>
                  <a:lnTo>
                    <a:pt x="3398" y="390"/>
                  </a:lnTo>
                  <a:lnTo>
                    <a:pt x="3400" y="393"/>
                  </a:lnTo>
                  <a:lnTo>
                    <a:pt x="3403" y="395"/>
                  </a:lnTo>
                  <a:lnTo>
                    <a:pt x="3405" y="398"/>
                  </a:lnTo>
                  <a:lnTo>
                    <a:pt x="3408" y="401"/>
                  </a:lnTo>
                  <a:lnTo>
                    <a:pt x="3410" y="404"/>
                  </a:lnTo>
                  <a:lnTo>
                    <a:pt x="3413" y="407"/>
                  </a:lnTo>
                  <a:lnTo>
                    <a:pt x="3415" y="410"/>
                  </a:lnTo>
                  <a:lnTo>
                    <a:pt x="3418" y="413"/>
                  </a:lnTo>
                  <a:lnTo>
                    <a:pt x="3420" y="416"/>
                  </a:lnTo>
                  <a:lnTo>
                    <a:pt x="3423" y="419"/>
                  </a:lnTo>
                  <a:lnTo>
                    <a:pt x="3425" y="422"/>
                  </a:lnTo>
                  <a:lnTo>
                    <a:pt x="3428" y="425"/>
                  </a:lnTo>
                  <a:lnTo>
                    <a:pt x="3430" y="428"/>
                  </a:lnTo>
                  <a:lnTo>
                    <a:pt x="3433" y="431"/>
                  </a:lnTo>
                  <a:lnTo>
                    <a:pt x="3435" y="434"/>
                  </a:lnTo>
                  <a:lnTo>
                    <a:pt x="3438" y="437"/>
                  </a:lnTo>
                  <a:lnTo>
                    <a:pt x="3440" y="440"/>
                  </a:lnTo>
                  <a:lnTo>
                    <a:pt x="3443" y="443"/>
                  </a:lnTo>
                  <a:lnTo>
                    <a:pt x="3445" y="446"/>
                  </a:lnTo>
                  <a:lnTo>
                    <a:pt x="3448" y="448"/>
                  </a:lnTo>
                  <a:lnTo>
                    <a:pt x="3450" y="451"/>
                  </a:lnTo>
                  <a:lnTo>
                    <a:pt x="3453" y="454"/>
                  </a:lnTo>
                  <a:lnTo>
                    <a:pt x="3455" y="457"/>
                  </a:lnTo>
                  <a:lnTo>
                    <a:pt x="3458" y="460"/>
                  </a:lnTo>
                  <a:lnTo>
                    <a:pt x="3460" y="462"/>
                  </a:lnTo>
                  <a:lnTo>
                    <a:pt x="3463" y="465"/>
                  </a:lnTo>
                  <a:lnTo>
                    <a:pt x="3465" y="468"/>
                  </a:lnTo>
                  <a:lnTo>
                    <a:pt x="3468" y="471"/>
                  </a:lnTo>
                  <a:lnTo>
                    <a:pt x="3470" y="473"/>
                  </a:lnTo>
                  <a:lnTo>
                    <a:pt x="3473" y="476"/>
                  </a:lnTo>
                  <a:lnTo>
                    <a:pt x="3475" y="479"/>
                  </a:lnTo>
                  <a:lnTo>
                    <a:pt x="3478" y="481"/>
                  </a:lnTo>
                  <a:lnTo>
                    <a:pt x="3480" y="484"/>
                  </a:lnTo>
                  <a:lnTo>
                    <a:pt x="3483" y="487"/>
                  </a:lnTo>
                  <a:lnTo>
                    <a:pt x="3485" y="489"/>
                  </a:lnTo>
                  <a:lnTo>
                    <a:pt x="3488" y="492"/>
                  </a:lnTo>
                  <a:lnTo>
                    <a:pt x="3490" y="495"/>
                  </a:lnTo>
                  <a:lnTo>
                    <a:pt x="3493" y="497"/>
                  </a:lnTo>
                  <a:lnTo>
                    <a:pt x="3495" y="500"/>
                  </a:lnTo>
                  <a:lnTo>
                    <a:pt x="3498" y="503"/>
                  </a:lnTo>
                  <a:lnTo>
                    <a:pt x="3500" y="505"/>
                  </a:lnTo>
                  <a:lnTo>
                    <a:pt x="3503" y="508"/>
                  </a:lnTo>
                  <a:lnTo>
                    <a:pt x="3505" y="511"/>
                  </a:lnTo>
                  <a:lnTo>
                    <a:pt x="3508" y="514"/>
                  </a:lnTo>
                  <a:lnTo>
                    <a:pt x="3510" y="516"/>
                  </a:lnTo>
                  <a:lnTo>
                    <a:pt x="3513" y="519"/>
                  </a:lnTo>
                  <a:lnTo>
                    <a:pt x="3515" y="522"/>
                  </a:lnTo>
                  <a:lnTo>
                    <a:pt x="3518" y="524"/>
                  </a:lnTo>
                  <a:lnTo>
                    <a:pt x="3520" y="527"/>
                  </a:lnTo>
                  <a:lnTo>
                    <a:pt x="3523" y="530"/>
                  </a:lnTo>
                  <a:lnTo>
                    <a:pt x="3525" y="533"/>
                  </a:lnTo>
                  <a:lnTo>
                    <a:pt x="3528" y="535"/>
                  </a:lnTo>
                  <a:lnTo>
                    <a:pt x="3530" y="538"/>
                  </a:lnTo>
                  <a:lnTo>
                    <a:pt x="3533" y="541"/>
                  </a:lnTo>
                  <a:lnTo>
                    <a:pt x="3535" y="544"/>
                  </a:lnTo>
                  <a:lnTo>
                    <a:pt x="3538" y="546"/>
                  </a:lnTo>
                  <a:lnTo>
                    <a:pt x="3540" y="549"/>
                  </a:lnTo>
                  <a:lnTo>
                    <a:pt x="3543" y="552"/>
                  </a:lnTo>
                  <a:lnTo>
                    <a:pt x="3545" y="555"/>
                  </a:lnTo>
                  <a:lnTo>
                    <a:pt x="3548" y="557"/>
                  </a:lnTo>
                  <a:lnTo>
                    <a:pt x="3550" y="560"/>
                  </a:lnTo>
                  <a:lnTo>
                    <a:pt x="3553" y="563"/>
                  </a:lnTo>
                  <a:lnTo>
                    <a:pt x="3555" y="565"/>
                  </a:lnTo>
                  <a:lnTo>
                    <a:pt x="3558" y="568"/>
                  </a:lnTo>
                  <a:lnTo>
                    <a:pt x="3560" y="571"/>
                  </a:lnTo>
                  <a:lnTo>
                    <a:pt x="3563" y="574"/>
                  </a:lnTo>
                  <a:lnTo>
                    <a:pt x="3565" y="576"/>
                  </a:lnTo>
                  <a:lnTo>
                    <a:pt x="3568" y="579"/>
                  </a:lnTo>
                  <a:lnTo>
                    <a:pt x="3570" y="582"/>
                  </a:lnTo>
                  <a:lnTo>
                    <a:pt x="3573" y="584"/>
                  </a:lnTo>
                  <a:lnTo>
                    <a:pt x="3575" y="587"/>
                  </a:lnTo>
                  <a:lnTo>
                    <a:pt x="3578" y="590"/>
                  </a:lnTo>
                  <a:lnTo>
                    <a:pt x="3580" y="593"/>
                  </a:lnTo>
                  <a:lnTo>
                    <a:pt x="3583" y="595"/>
                  </a:lnTo>
                  <a:lnTo>
                    <a:pt x="3585" y="598"/>
                  </a:lnTo>
                  <a:lnTo>
                    <a:pt x="3588" y="601"/>
                  </a:lnTo>
                  <a:lnTo>
                    <a:pt x="3590" y="603"/>
                  </a:lnTo>
                  <a:lnTo>
                    <a:pt x="3593" y="606"/>
                  </a:lnTo>
                  <a:lnTo>
                    <a:pt x="3595" y="609"/>
                  </a:lnTo>
                  <a:lnTo>
                    <a:pt x="3598" y="611"/>
                  </a:lnTo>
                  <a:lnTo>
                    <a:pt x="3600" y="614"/>
                  </a:lnTo>
                  <a:lnTo>
                    <a:pt x="3603" y="617"/>
                  </a:lnTo>
                  <a:lnTo>
                    <a:pt x="3605" y="619"/>
                  </a:lnTo>
                  <a:lnTo>
                    <a:pt x="3608" y="622"/>
                  </a:lnTo>
                  <a:lnTo>
                    <a:pt x="3610" y="625"/>
                  </a:lnTo>
                  <a:lnTo>
                    <a:pt x="3613" y="627"/>
                  </a:lnTo>
                  <a:lnTo>
                    <a:pt x="3615" y="630"/>
                  </a:lnTo>
                  <a:lnTo>
                    <a:pt x="3618" y="633"/>
                  </a:lnTo>
                  <a:lnTo>
                    <a:pt x="3620" y="635"/>
                  </a:lnTo>
                  <a:lnTo>
                    <a:pt x="3623" y="638"/>
                  </a:lnTo>
                  <a:lnTo>
                    <a:pt x="3625" y="640"/>
                  </a:lnTo>
                  <a:lnTo>
                    <a:pt x="3628" y="643"/>
                  </a:lnTo>
                  <a:lnTo>
                    <a:pt x="3630" y="645"/>
                  </a:lnTo>
                  <a:lnTo>
                    <a:pt x="3633" y="648"/>
                  </a:lnTo>
                  <a:lnTo>
                    <a:pt x="3635" y="651"/>
                  </a:lnTo>
                  <a:lnTo>
                    <a:pt x="3638" y="653"/>
                  </a:lnTo>
                  <a:lnTo>
                    <a:pt x="3640" y="656"/>
                  </a:lnTo>
                  <a:lnTo>
                    <a:pt x="3643" y="658"/>
                  </a:lnTo>
                  <a:lnTo>
                    <a:pt x="3645" y="661"/>
                  </a:lnTo>
                  <a:lnTo>
                    <a:pt x="3648" y="663"/>
                  </a:lnTo>
                  <a:lnTo>
                    <a:pt x="3650" y="666"/>
                  </a:lnTo>
                  <a:lnTo>
                    <a:pt x="3653" y="668"/>
                  </a:lnTo>
                  <a:lnTo>
                    <a:pt x="3655" y="670"/>
                  </a:lnTo>
                  <a:lnTo>
                    <a:pt x="3658" y="673"/>
                  </a:lnTo>
                  <a:lnTo>
                    <a:pt x="3660" y="675"/>
                  </a:lnTo>
                  <a:lnTo>
                    <a:pt x="3663" y="678"/>
                  </a:lnTo>
                  <a:lnTo>
                    <a:pt x="3665" y="680"/>
                  </a:lnTo>
                  <a:lnTo>
                    <a:pt x="3668" y="683"/>
                  </a:lnTo>
                  <a:lnTo>
                    <a:pt x="3670" y="685"/>
                  </a:lnTo>
                  <a:lnTo>
                    <a:pt x="3673" y="687"/>
                  </a:lnTo>
                  <a:lnTo>
                    <a:pt x="3675" y="690"/>
                  </a:lnTo>
                  <a:lnTo>
                    <a:pt x="3678" y="692"/>
                  </a:lnTo>
                  <a:lnTo>
                    <a:pt x="3680" y="695"/>
                  </a:lnTo>
                  <a:lnTo>
                    <a:pt x="3683" y="697"/>
                  </a:lnTo>
                  <a:lnTo>
                    <a:pt x="3685" y="699"/>
                  </a:lnTo>
                  <a:lnTo>
                    <a:pt x="3688" y="702"/>
                  </a:lnTo>
                  <a:lnTo>
                    <a:pt x="3690" y="704"/>
                  </a:lnTo>
                  <a:lnTo>
                    <a:pt x="3693" y="706"/>
                  </a:lnTo>
                  <a:lnTo>
                    <a:pt x="3695" y="709"/>
                  </a:lnTo>
                  <a:lnTo>
                    <a:pt x="3698" y="711"/>
                  </a:lnTo>
                  <a:lnTo>
                    <a:pt x="3700" y="713"/>
                  </a:lnTo>
                  <a:lnTo>
                    <a:pt x="3703" y="715"/>
                  </a:lnTo>
                  <a:lnTo>
                    <a:pt x="3705" y="717"/>
                  </a:lnTo>
                  <a:lnTo>
                    <a:pt x="3708" y="720"/>
                  </a:lnTo>
                  <a:lnTo>
                    <a:pt x="3710" y="722"/>
                  </a:lnTo>
                  <a:lnTo>
                    <a:pt x="3713" y="724"/>
                  </a:lnTo>
                  <a:lnTo>
                    <a:pt x="3715" y="726"/>
                  </a:lnTo>
                  <a:lnTo>
                    <a:pt x="3717" y="728"/>
                  </a:lnTo>
                  <a:lnTo>
                    <a:pt x="3720" y="731"/>
                  </a:lnTo>
                  <a:lnTo>
                    <a:pt x="3723" y="733"/>
                  </a:lnTo>
                  <a:lnTo>
                    <a:pt x="3725" y="735"/>
                  </a:lnTo>
                  <a:lnTo>
                    <a:pt x="3728" y="737"/>
                  </a:lnTo>
                  <a:lnTo>
                    <a:pt x="3730" y="739"/>
                  </a:lnTo>
                  <a:lnTo>
                    <a:pt x="3733" y="741"/>
                  </a:lnTo>
                  <a:lnTo>
                    <a:pt x="3735" y="743"/>
                  </a:lnTo>
                  <a:lnTo>
                    <a:pt x="3738" y="745"/>
                  </a:lnTo>
                  <a:lnTo>
                    <a:pt x="3740" y="747"/>
                  </a:lnTo>
                  <a:lnTo>
                    <a:pt x="3743" y="750"/>
                  </a:lnTo>
                  <a:lnTo>
                    <a:pt x="3745" y="752"/>
                  </a:lnTo>
                  <a:lnTo>
                    <a:pt x="3748" y="754"/>
                  </a:lnTo>
                  <a:lnTo>
                    <a:pt x="3750" y="756"/>
                  </a:lnTo>
                  <a:lnTo>
                    <a:pt x="3753" y="758"/>
                  </a:lnTo>
                  <a:lnTo>
                    <a:pt x="3755" y="760"/>
                  </a:lnTo>
                  <a:lnTo>
                    <a:pt x="3758" y="761"/>
                  </a:lnTo>
                  <a:lnTo>
                    <a:pt x="3760" y="763"/>
                  </a:lnTo>
                  <a:lnTo>
                    <a:pt x="3763" y="765"/>
                  </a:lnTo>
                  <a:lnTo>
                    <a:pt x="3765" y="767"/>
                  </a:lnTo>
                  <a:lnTo>
                    <a:pt x="3768" y="769"/>
                  </a:lnTo>
                  <a:lnTo>
                    <a:pt x="3770" y="771"/>
                  </a:lnTo>
                  <a:lnTo>
                    <a:pt x="3773" y="773"/>
                  </a:lnTo>
                  <a:lnTo>
                    <a:pt x="3775" y="775"/>
                  </a:lnTo>
                  <a:lnTo>
                    <a:pt x="3778" y="776"/>
                  </a:lnTo>
                  <a:lnTo>
                    <a:pt x="3780" y="778"/>
                  </a:lnTo>
                  <a:lnTo>
                    <a:pt x="3783" y="780"/>
                  </a:lnTo>
                  <a:lnTo>
                    <a:pt x="3785" y="782"/>
                  </a:lnTo>
                  <a:lnTo>
                    <a:pt x="3788" y="784"/>
                  </a:lnTo>
                  <a:lnTo>
                    <a:pt x="3790" y="785"/>
                  </a:lnTo>
                  <a:lnTo>
                    <a:pt x="3793" y="787"/>
                  </a:lnTo>
                  <a:lnTo>
                    <a:pt x="3795" y="789"/>
                  </a:lnTo>
                  <a:lnTo>
                    <a:pt x="3797" y="791"/>
                  </a:lnTo>
                  <a:lnTo>
                    <a:pt x="3800" y="792"/>
                  </a:lnTo>
                  <a:lnTo>
                    <a:pt x="3803" y="794"/>
                  </a:lnTo>
                  <a:lnTo>
                    <a:pt x="3805" y="796"/>
                  </a:lnTo>
                  <a:lnTo>
                    <a:pt x="3808" y="797"/>
                  </a:lnTo>
                  <a:lnTo>
                    <a:pt x="3810" y="799"/>
                  </a:lnTo>
                  <a:lnTo>
                    <a:pt x="3813" y="801"/>
                  </a:lnTo>
                  <a:lnTo>
                    <a:pt x="3815" y="802"/>
                  </a:lnTo>
                  <a:lnTo>
                    <a:pt x="3818" y="804"/>
                  </a:lnTo>
                  <a:lnTo>
                    <a:pt x="3820" y="805"/>
                  </a:lnTo>
                  <a:lnTo>
                    <a:pt x="3823" y="807"/>
                  </a:lnTo>
                  <a:lnTo>
                    <a:pt x="3825" y="808"/>
                  </a:lnTo>
                  <a:lnTo>
                    <a:pt x="3828" y="809"/>
                  </a:lnTo>
                  <a:lnTo>
                    <a:pt x="3830" y="811"/>
                  </a:lnTo>
                  <a:lnTo>
                    <a:pt x="3833" y="812"/>
                  </a:lnTo>
                  <a:lnTo>
                    <a:pt x="3835" y="814"/>
                  </a:lnTo>
                  <a:lnTo>
                    <a:pt x="3838" y="815"/>
                  </a:lnTo>
                  <a:lnTo>
                    <a:pt x="3840" y="816"/>
                  </a:lnTo>
                  <a:lnTo>
                    <a:pt x="3842" y="818"/>
                  </a:lnTo>
                  <a:lnTo>
                    <a:pt x="3845" y="819"/>
                  </a:lnTo>
                  <a:lnTo>
                    <a:pt x="3848" y="821"/>
                  </a:lnTo>
                  <a:lnTo>
                    <a:pt x="3850" y="822"/>
                  </a:lnTo>
                  <a:lnTo>
                    <a:pt x="3853" y="823"/>
                  </a:lnTo>
                  <a:lnTo>
                    <a:pt x="3855" y="824"/>
                  </a:lnTo>
                  <a:lnTo>
                    <a:pt x="3858" y="826"/>
                  </a:lnTo>
                  <a:lnTo>
                    <a:pt x="3860" y="827"/>
                  </a:lnTo>
                  <a:lnTo>
                    <a:pt x="3863" y="828"/>
                  </a:lnTo>
                  <a:lnTo>
                    <a:pt x="3865" y="829"/>
                  </a:lnTo>
                  <a:lnTo>
                    <a:pt x="3868" y="831"/>
                  </a:lnTo>
                  <a:lnTo>
                    <a:pt x="3870" y="832"/>
                  </a:lnTo>
                  <a:lnTo>
                    <a:pt x="3873" y="833"/>
                  </a:lnTo>
                  <a:lnTo>
                    <a:pt x="3875" y="834"/>
                  </a:lnTo>
                  <a:lnTo>
                    <a:pt x="3877" y="835"/>
                  </a:lnTo>
                  <a:lnTo>
                    <a:pt x="3880" y="836"/>
                  </a:lnTo>
                  <a:lnTo>
                    <a:pt x="3883" y="837"/>
                  </a:lnTo>
                  <a:lnTo>
                    <a:pt x="3885" y="838"/>
                  </a:lnTo>
                  <a:lnTo>
                    <a:pt x="3888" y="839"/>
                  </a:lnTo>
                  <a:lnTo>
                    <a:pt x="3890" y="840"/>
                  </a:lnTo>
                  <a:lnTo>
                    <a:pt x="3893" y="841"/>
                  </a:lnTo>
                  <a:lnTo>
                    <a:pt x="3895" y="842"/>
                  </a:lnTo>
                  <a:lnTo>
                    <a:pt x="3898" y="843"/>
                  </a:lnTo>
                  <a:lnTo>
                    <a:pt x="3900" y="844"/>
                  </a:lnTo>
                  <a:lnTo>
                    <a:pt x="3903" y="845"/>
                  </a:lnTo>
                  <a:lnTo>
                    <a:pt x="3905" y="846"/>
                  </a:lnTo>
                  <a:lnTo>
                    <a:pt x="3908" y="847"/>
                  </a:lnTo>
                  <a:lnTo>
                    <a:pt x="3910" y="848"/>
                  </a:lnTo>
                  <a:lnTo>
                    <a:pt x="3913" y="849"/>
                  </a:lnTo>
                  <a:lnTo>
                    <a:pt x="3915" y="850"/>
                  </a:lnTo>
                  <a:lnTo>
                    <a:pt x="3918" y="850"/>
                  </a:lnTo>
                  <a:lnTo>
                    <a:pt x="3920" y="851"/>
                  </a:lnTo>
                  <a:lnTo>
                    <a:pt x="3922" y="852"/>
                  </a:lnTo>
                  <a:lnTo>
                    <a:pt x="3925" y="853"/>
                  </a:lnTo>
                  <a:lnTo>
                    <a:pt x="3928" y="854"/>
                  </a:lnTo>
                  <a:lnTo>
                    <a:pt x="3930" y="854"/>
                  </a:lnTo>
                  <a:lnTo>
                    <a:pt x="3933" y="855"/>
                  </a:lnTo>
                  <a:lnTo>
                    <a:pt x="3935" y="856"/>
                  </a:lnTo>
                  <a:lnTo>
                    <a:pt x="3938" y="857"/>
                  </a:lnTo>
                  <a:lnTo>
                    <a:pt x="3940" y="857"/>
                  </a:lnTo>
                  <a:lnTo>
                    <a:pt x="3943" y="858"/>
                  </a:lnTo>
                  <a:lnTo>
                    <a:pt x="3945" y="858"/>
                  </a:lnTo>
                  <a:lnTo>
                    <a:pt x="3948" y="859"/>
                  </a:lnTo>
                  <a:lnTo>
                    <a:pt x="3950" y="859"/>
                  </a:lnTo>
                  <a:lnTo>
                    <a:pt x="3953" y="860"/>
                  </a:lnTo>
                  <a:lnTo>
                    <a:pt x="3955" y="860"/>
                  </a:lnTo>
                  <a:lnTo>
                    <a:pt x="3957" y="860"/>
                  </a:lnTo>
                  <a:lnTo>
                    <a:pt x="3960" y="861"/>
                  </a:lnTo>
                  <a:lnTo>
                    <a:pt x="3963" y="861"/>
                  </a:lnTo>
                  <a:lnTo>
                    <a:pt x="3965" y="862"/>
                  </a:lnTo>
                  <a:lnTo>
                    <a:pt x="3967" y="862"/>
                  </a:lnTo>
                  <a:lnTo>
                    <a:pt x="3970" y="862"/>
                  </a:lnTo>
                  <a:lnTo>
                    <a:pt x="3973" y="863"/>
                  </a:lnTo>
                  <a:lnTo>
                    <a:pt x="3975" y="863"/>
                  </a:lnTo>
                  <a:lnTo>
                    <a:pt x="3978" y="863"/>
                  </a:lnTo>
                  <a:lnTo>
                    <a:pt x="3980" y="863"/>
                  </a:lnTo>
                  <a:lnTo>
                    <a:pt x="3983" y="864"/>
                  </a:lnTo>
                  <a:lnTo>
                    <a:pt x="3985" y="864"/>
                  </a:lnTo>
                  <a:lnTo>
                    <a:pt x="3988" y="864"/>
                  </a:lnTo>
                  <a:lnTo>
                    <a:pt x="3990" y="864"/>
                  </a:lnTo>
                  <a:lnTo>
                    <a:pt x="3993" y="864"/>
                  </a:lnTo>
                  <a:lnTo>
                    <a:pt x="3995" y="865"/>
                  </a:lnTo>
                  <a:lnTo>
                    <a:pt x="3998" y="865"/>
                  </a:lnTo>
                  <a:lnTo>
                    <a:pt x="4000" y="865"/>
                  </a:lnTo>
                  <a:lnTo>
                    <a:pt x="4003" y="865"/>
                  </a:lnTo>
                  <a:lnTo>
                    <a:pt x="4005" y="865"/>
                  </a:lnTo>
                  <a:lnTo>
                    <a:pt x="4008" y="864"/>
                  </a:lnTo>
                  <a:lnTo>
                    <a:pt x="4010" y="864"/>
                  </a:lnTo>
                  <a:lnTo>
                    <a:pt x="4013" y="864"/>
                  </a:lnTo>
                  <a:lnTo>
                    <a:pt x="4015" y="864"/>
                  </a:lnTo>
                  <a:lnTo>
                    <a:pt x="4018" y="864"/>
                  </a:lnTo>
                  <a:lnTo>
                    <a:pt x="4020" y="864"/>
                  </a:lnTo>
                  <a:lnTo>
                    <a:pt x="4023" y="863"/>
                  </a:lnTo>
                  <a:lnTo>
                    <a:pt x="4025" y="863"/>
                  </a:lnTo>
                  <a:lnTo>
                    <a:pt x="4028" y="863"/>
                  </a:lnTo>
                  <a:lnTo>
                    <a:pt x="4030" y="862"/>
                  </a:lnTo>
                  <a:lnTo>
                    <a:pt x="4033" y="862"/>
                  </a:lnTo>
                  <a:lnTo>
                    <a:pt x="4035" y="862"/>
                  </a:lnTo>
                  <a:lnTo>
                    <a:pt x="4037" y="861"/>
                  </a:lnTo>
                  <a:lnTo>
                    <a:pt x="4040" y="861"/>
                  </a:lnTo>
                  <a:lnTo>
                    <a:pt x="4043" y="861"/>
                  </a:lnTo>
                  <a:lnTo>
                    <a:pt x="4045" y="860"/>
                  </a:lnTo>
                  <a:lnTo>
                    <a:pt x="4048" y="860"/>
                  </a:lnTo>
                  <a:lnTo>
                    <a:pt x="4050" y="859"/>
                  </a:lnTo>
                  <a:lnTo>
                    <a:pt x="4053" y="859"/>
                  </a:lnTo>
                  <a:lnTo>
                    <a:pt x="4055" y="858"/>
                  </a:lnTo>
                  <a:lnTo>
                    <a:pt x="4058" y="858"/>
                  </a:lnTo>
                  <a:lnTo>
                    <a:pt x="4060" y="857"/>
                  </a:lnTo>
                  <a:lnTo>
                    <a:pt x="4063" y="857"/>
                  </a:lnTo>
                  <a:lnTo>
                    <a:pt x="4065" y="856"/>
                  </a:lnTo>
                  <a:lnTo>
                    <a:pt x="4068" y="855"/>
                  </a:lnTo>
                  <a:lnTo>
                    <a:pt x="4070" y="854"/>
                  </a:lnTo>
                  <a:lnTo>
                    <a:pt x="4073" y="853"/>
                  </a:lnTo>
                  <a:lnTo>
                    <a:pt x="4075" y="852"/>
                  </a:lnTo>
                  <a:lnTo>
                    <a:pt x="4077" y="851"/>
                  </a:lnTo>
                  <a:lnTo>
                    <a:pt x="4080" y="850"/>
                  </a:lnTo>
                  <a:lnTo>
                    <a:pt x="4082" y="849"/>
                  </a:lnTo>
                  <a:lnTo>
                    <a:pt x="4085" y="848"/>
                  </a:lnTo>
                  <a:lnTo>
                    <a:pt x="4088" y="847"/>
                  </a:lnTo>
                  <a:lnTo>
                    <a:pt x="4090" y="846"/>
                  </a:lnTo>
                  <a:lnTo>
                    <a:pt x="4093" y="845"/>
                  </a:lnTo>
                  <a:lnTo>
                    <a:pt x="4095" y="844"/>
                  </a:lnTo>
                  <a:lnTo>
                    <a:pt x="4098" y="843"/>
                  </a:lnTo>
                  <a:lnTo>
                    <a:pt x="4100" y="842"/>
                  </a:lnTo>
                  <a:lnTo>
                    <a:pt x="4103" y="841"/>
                  </a:lnTo>
                  <a:lnTo>
                    <a:pt x="4105" y="840"/>
                  </a:lnTo>
                  <a:lnTo>
                    <a:pt x="4108" y="838"/>
                  </a:lnTo>
                  <a:lnTo>
                    <a:pt x="4110" y="837"/>
                  </a:lnTo>
                  <a:lnTo>
                    <a:pt x="4113" y="836"/>
                  </a:lnTo>
                  <a:lnTo>
                    <a:pt x="4115" y="834"/>
                  </a:lnTo>
                  <a:lnTo>
                    <a:pt x="4117" y="833"/>
                  </a:lnTo>
                  <a:lnTo>
                    <a:pt x="4120" y="832"/>
                  </a:lnTo>
                  <a:lnTo>
                    <a:pt x="4122" y="830"/>
                  </a:lnTo>
                  <a:lnTo>
                    <a:pt x="4125" y="829"/>
                  </a:lnTo>
                  <a:lnTo>
                    <a:pt x="4128" y="827"/>
                  </a:lnTo>
                  <a:lnTo>
                    <a:pt x="4130" y="826"/>
                  </a:lnTo>
                  <a:lnTo>
                    <a:pt x="4133" y="824"/>
                  </a:lnTo>
                  <a:lnTo>
                    <a:pt x="4135" y="822"/>
                  </a:lnTo>
                  <a:lnTo>
                    <a:pt x="4138" y="821"/>
                  </a:lnTo>
                  <a:lnTo>
                    <a:pt x="4140" y="819"/>
                  </a:lnTo>
                  <a:lnTo>
                    <a:pt x="4143" y="817"/>
                  </a:lnTo>
                  <a:lnTo>
                    <a:pt x="4145" y="815"/>
                  </a:lnTo>
                  <a:lnTo>
                    <a:pt x="4148" y="813"/>
                  </a:lnTo>
                  <a:lnTo>
                    <a:pt x="4150" y="811"/>
                  </a:lnTo>
                  <a:lnTo>
                    <a:pt x="4153" y="809"/>
                  </a:lnTo>
                  <a:lnTo>
                    <a:pt x="4155" y="807"/>
                  </a:lnTo>
                  <a:lnTo>
                    <a:pt x="4157" y="805"/>
                  </a:lnTo>
                  <a:lnTo>
                    <a:pt x="4160" y="803"/>
                  </a:lnTo>
                  <a:lnTo>
                    <a:pt x="4162" y="801"/>
                  </a:lnTo>
                  <a:lnTo>
                    <a:pt x="4165" y="799"/>
                  </a:lnTo>
                  <a:lnTo>
                    <a:pt x="4168" y="797"/>
                  </a:lnTo>
                  <a:lnTo>
                    <a:pt x="4170" y="794"/>
                  </a:lnTo>
                  <a:lnTo>
                    <a:pt x="4173" y="792"/>
                  </a:lnTo>
                  <a:lnTo>
                    <a:pt x="4175" y="790"/>
                  </a:lnTo>
                  <a:lnTo>
                    <a:pt x="4178" y="787"/>
                  </a:lnTo>
                  <a:lnTo>
                    <a:pt x="4180" y="785"/>
                  </a:lnTo>
                  <a:lnTo>
                    <a:pt x="4183" y="782"/>
                  </a:lnTo>
                  <a:lnTo>
                    <a:pt x="4185" y="780"/>
                  </a:lnTo>
                  <a:lnTo>
                    <a:pt x="4188" y="777"/>
                  </a:lnTo>
                  <a:lnTo>
                    <a:pt x="4190" y="774"/>
                  </a:lnTo>
                  <a:lnTo>
                    <a:pt x="4193" y="771"/>
                  </a:lnTo>
                  <a:lnTo>
                    <a:pt x="4195" y="768"/>
                  </a:lnTo>
                  <a:lnTo>
                    <a:pt x="4198" y="765"/>
                  </a:lnTo>
                  <a:lnTo>
                    <a:pt x="4200" y="762"/>
                  </a:lnTo>
                  <a:lnTo>
                    <a:pt x="4203" y="759"/>
                  </a:lnTo>
                  <a:lnTo>
                    <a:pt x="4205" y="756"/>
                  </a:lnTo>
                  <a:lnTo>
                    <a:pt x="4208" y="753"/>
                  </a:lnTo>
                  <a:lnTo>
                    <a:pt x="4210" y="750"/>
                  </a:lnTo>
                  <a:lnTo>
                    <a:pt x="4213" y="747"/>
                  </a:lnTo>
                  <a:lnTo>
                    <a:pt x="4215" y="743"/>
                  </a:lnTo>
                  <a:lnTo>
                    <a:pt x="4218" y="740"/>
                  </a:lnTo>
                  <a:lnTo>
                    <a:pt x="4220" y="737"/>
                  </a:lnTo>
                  <a:lnTo>
                    <a:pt x="4223" y="733"/>
                  </a:lnTo>
                  <a:lnTo>
                    <a:pt x="4225" y="730"/>
                  </a:lnTo>
                  <a:lnTo>
                    <a:pt x="4228" y="727"/>
                  </a:lnTo>
                  <a:lnTo>
                    <a:pt x="4230" y="723"/>
                  </a:lnTo>
                  <a:lnTo>
                    <a:pt x="4233" y="720"/>
                  </a:lnTo>
                  <a:lnTo>
                    <a:pt x="4235" y="716"/>
                  </a:lnTo>
                  <a:lnTo>
                    <a:pt x="4238" y="713"/>
                  </a:lnTo>
                  <a:lnTo>
                    <a:pt x="4240" y="709"/>
                  </a:lnTo>
                  <a:lnTo>
                    <a:pt x="4243" y="706"/>
                  </a:lnTo>
                  <a:lnTo>
                    <a:pt x="4245" y="702"/>
                  </a:lnTo>
                  <a:lnTo>
                    <a:pt x="4248" y="699"/>
                  </a:lnTo>
                  <a:lnTo>
                    <a:pt x="4250" y="696"/>
                  </a:lnTo>
                  <a:lnTo>
                    <a:pt x="4253" y="692"/>
                  </a:lnTo>
                  <a:lnTo>
                    <a:pt x="4255" y="689"/>
                  </a:lnTo>
                  <a:lnTo>
                    <a:pt x="4258" y="685"/>
                  </a:lnTo>
                  <a:lnTo>
                    <a:pt x="4260" y="682"/>
                  </a:lnTo>
                  <a:lnTo>
                    <a:pt x="4263" y="678"/>
                  </a:lnTo>
                  <a:lnTo>
                    <a:pt x="4265" y="675"/>
                  </a:lnTo>
                  <a:lnTo>
                    <a:pt x="4268" y="671"/>
                  </a:lnTo>
                  <a:lnTo>
                    <a:pt x="4270" y="668"/>
                  </a:lnTo>
                  <a:lnTo>
                    <a:pt x="4273" y="664"/>
                  </a:lnTo>
                  <a:lnTo>
                    <a:pt x="4275" y="661"/>
                  </a:lnTo>
                  <a:lnTo>
                    <a:pt x="4278" y="658"/>
                  </a:lnTo>
                  <a:lnTo>
                    <a:pt x="4280" y="654"/>
                  </a:lnTo>
                  <a:lnTo>
                    <a:pt x="4283" y="651"/>
                  </a:lnTo>
                  <a:lnTo>
                    <a:pt x="4285" y="647"/>
                  </a:lnTo>
                  <a:lnTo>
                    <a:pt x="4288" y="644"/>
                  </a:lnTo>
                  <a:lnTo>
                    <a:pt x="4290" y="641"/>
                  </a:lnTo>
                  <a:lnTo>
                    <a:pt x="4293" y="638"/>
                  </a:lnTo>
                  <a:lnTo>
                    <a:pt x="4295" y="634"/>
                  </a:lnTo>
                  <a:lnTo>
                    <a:pt x="4298" y="631"/>
                  </a:lnTo>
                  <a:lnTo>
                    <a:pt x="4300" y="628"/>
                  </a:lnTo>
                  <a:lnTo>
                    <a:pt x="4303" y="625"/>
                  </a:lnTo>
                  <a:lnTo>
                    <a:pt x="4305" y="622"/>
                  </a:lnTo>
                  <a:lnTo>
                    <a:pt x="4308" y="618"/>
                  </a:lnTo>
                  <a:lnTo>
                    <a:pt x="4310" y="615"/>
                  </a:lnTo>
                  <a:lnTo>
                    <a:pt x="4313" y="612"/>
                  </a:lnTo>
                  <a:lnTo>
                    <a:pt x="4315" y="609"/>
                  </a:lnTo>
                  <a:lnTo>
                    <a:pt x="4318" y="606"/>
                  </a:lnTo>
                  <a:lnTo>
                    <a:pt x="4320" y="604"/>
                  </a:lnTo>
                  <a:lnTo>
                    <a:pt x="4323" y="601"/>
                  </a:lnTo>
                  <a:lnTo>
                    <a:pt x="4325" y="598"/>
                  </a:lnTo>
                  <a:lnTo>
                    <a:pt x="4328" y="595"/>
                  </a:lnTo>
                  <a:lnTo>
                    <a:pt x="4330" y="592"/>
                  </a:lnTo>
                  <a:lnTo>
                    <a:pt x="4333" y="589"/>
                  </a:lnTo>
                  <a:lnTo>
                    <a:pt x="4335" y="587"/>
                  </a:lnTo>
                  <a:lnTo>
                    <a:pt x="4338" y="584"/>
                  </a:lnTo>
                  <a:lnTo>
                    <a:pt x="4340" y="581"/>
                  </a:lnTo>
                  <a:lnTo>
                    <a:pt x="4343" y="579"/>
                  </a:lnTo>
                  <a:lnTo>
                    <a:pt x="4345" y="576"/>
                  </a:lnTo>
                  <a:lnTo>
                    <a:pt x="4348" y="573"/>
                  </a:lnTo>
                  <a:lnTo>
                    <a:pt x="4350" y="571"/>
                  </a:lnTo>
                  <a:lnTo>
                    <a:pt x="4353" y="568"/>
                  </a:lnTo>
                  <a:lnTo>
                    <a:pt x="4355" y="566"/>
                  </a:lnTo>
                  <a:lnTo>
                    <a:pt x="4358" y="563"/>
                  </a:lnTo>
                  <a:lnTo>
                    <a:pt x="4360" y="561"/>
                  </a:lnTo>
                  <a:lnTo>
                    <a:pt x="4363" y="558"/>
                  </a:lnTo>
                  <a:lnTo>
                    <a:pt x="4365" y="556"/>
                  </a:lnTo>
                  <a:lnTo>
                    <a:pt x="4368" y="554"/>
                  </a:lnTo>
                  <a:lnTo>
                    <a:pt x="4370" y="551"/>
                  </a:lnTo>
                  <a:lnTo>
                    <a:pt x="4373" y="549"/>
                  </a:lnTo>
                  <a:lnTo>
                    <a:pt x="4375" y="546"/>
                  </a:lnTo>
                  <a:lnTo>
                    <a:pt x="4378" y="544"/>
                  </a:lnTo>
                  <a:lnTo>
                    <a:pt x="4380" y="542"/>
                  </a:lnTo>
                  <a:lnTo>
                    <a:pt x="4383" y="540"/>
                  </a:lnTo>
                  <a:lnTo>
                    <a:pt x="4385" y="538"/>
                  </a:lnTo>
                  <a:lnTo>
                    <a:pt x="4388" y="535"/>
                  </a:lnTo>
                  <a:lnTo>
                    <a:pt x="4390" y="533"/>
                  </a:lnTo>
                  <a:lnTo>
                    <a:pt x="4393" y="531"/>
                  </a:lnTo>
                  <a:lnTo>
                    <a:pt x="4395" y="529"/>
                  </a:lnTo>
                  <a:lnTo>
                    <a:pt x="4398" y="527"/>
                  </a:lnTo>
                  <a:lnTo>
                    <a:pt x="4400" y="524"/>
                  </a:lnTo>
                  <a:lnTo>
                    <a:pt x="4403" y="522"/>
                  </a:lnTo>
                  <a:lnTo>
                    <a:pt x="4405" y="520"/>
                  </a:lnTo>
                  <a:lnTo>
                    <a:pt x="4408" y="518"/>
                  </a:lnTo>
                  <a:lnTo>
                    <a:pt x="4410" y="516"/>
                  </a:lnTo>
                  <a:lnTo>
                    <a:pt x="4413" y="514"/>
                  </a:lnTo>
                  <a:lnTo>
                    <a:pt x="4415" y="512"/>
                  </a:lnTo>
                  <a:lnTo>
                    <a:pt x="4418" y="510"/>
                  </a:lnTo>
                  <a:lnTo>
                    <a:pt x="4420" y="507"/>
                  </a:lnTo>
                  <a:lnTo>
                    <a:pt x="4423" y="505"/>
                  </a:lnTo>
                  <a:lnTo>
                    <a:pt x="4425" y="503"/>
                  </a:lnTo>
                  <a:lnTo>
                    <a:pt x="4428" y="501"/>
                  </a:lnTo>
                  <a:lnTo>
                    <a:pt x="4430" y="499"/>
                  </a:lnTo>
                  <a:lnTo>
                    <a:pt x="4433" y="497"/>
                  </a:lnTo>
                  <a:lnTo>
                    <a:pt x="4435" y="495"/>
                  </a:lnTo>
                  <a:lnTo>
                    <a:pt x="4438" y="493"/>
                  </a:lnTo>
                </a:path>
              </a:pathLst>
            </a:custGeom>
            <a:noFill/>
            <a:ln w="19080">
              <a:solidFill>
                <a:srgbClr val="00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050" name=""/>
            <p:cNvSpPr/>
            <p:nvPr/>
          </p:nvSpPr>
          <p:spPr>
            <a:xfrm flipV="1">
              <a:off x="1760040" y="5040720"/>
              <a:ext cx="6363000" cy="363960"/>
            </a:xfrm>
            <a:custGeom>
              <a:avLst/>
              <a:gdLst/>
              <a:ahLst/>
              <a:rect l="l" t="t" r="r" b="b"/>
              <a:pathLst>
                <a:path w="4438" h="404">
                  <a:moveTo>
                    <a:pt x="0" y="59"/>
                  </a:moveTo>
                  <a:lnTo>
                    <a:pt x="3" y="58"/>
                  </a:lnTo>
                  <a:lnTo>
                    <a:pt x="5" y="58"/>
                  </a:lnTo>
                  <a:lnTo>
                    <a:pt x="8" y="58"/>
                  </a:lnTo>
                  <a:lnTo>
                    <a:pt x="10" y="58"/>
                  </a:lnTo>
                  <a:lnTo>
                    <a:pt x="13" y="58"/>
                  </a:lnTo>
                  <a:lnTo>
                    <a:pt x="15" y="58"/>
                  </a:lnTo>
                  <a:lnTo>
                    <a:pt x="18" y="58"/>
                  </a:lnTo>
                  <a:lnTo>
                    <a:pt x="20" y="58"/>
                  </a:lnTo>
                  <a:lnTo>
                    <a:pt x="23" y="58"/>
                  </a:lnTo>
                  <a:lnTo>
                    <a:pt x="25" y="58"/>
                  </a:lnTo>
                  <a:lnTo>
                    <a:pt x="28" y="58"/>
                  </a:lnTo>
                  <a:lnTo>
                    <a:pt x="30" y="58"/>
                  </a:lnTo>
                  <a:lnTo>
                    <a:pt x="33" y="58"/>
                  </a:lnTo>
                  <a:lnTo>
                    <a:pt x="35" y="58"/>
                  </a:lnTo>
                  <a:lnTo>
                    <a:pt x="38" y="58"/>
                  </a:lnTo>
                  <a:lnTo>
                    <a:pt x="40" y="57"/>
                  </a:lnTo>
                  <a:lnTo>
                    <a:pt x="43" y="57"/>
                  </a:lnTo>
                  <a:lnTo>
                    <a:pt x="45" y="57"/>
                  </a:lnTo>
                  <a:lnTo>
                    <a:pt x="48" y="57"/>
                  </a:lnTo>
                  <a:lnTo>
                    <a:pt x="50" y="57"/>
                  </a:lnTo>
                  <a:lnTo>
                    <a:pt x="53" y="57"/>
                  </a:lnTo>
                  <a:lnTo>
                    <a:pt x="55" y="57"/>
                  </a:lnTo>
                  <a:lnTo>
                    <a:pt x="58" y="57"/>
                  </a:lnTo>
                  <a:lnTo>
                    <a:pt x="60" y="57"/>
                  </a:lnTo>
                  <a:lnTo>
                    <a:pt x="63" y="57"/>
                  </a:lnTo>
                  <a:lnTo>
                    <a:pt x="65" y="57"/>
                  </a:lnTo>
                  <a:lnTo>
                    <a:pt x="68" y="57"/>
                  </a:lnTo>
                  <a:lnTo>
                    <a:pt x="70" y="57"/>
                  </a:lnTo>
                  <a:lnTo>
                    <a:pt x="73" y="57"/>
                  </a:lnTo>
                  <a:lnTo>
                    <a:pt x="75" y="57"/>
                  </a:lnTo>
                  <a:lnTo>
                    <a:pt x="78" y="57"/>
                  </a:lnTo>
                  <a:lnTo>
                    <a:pt x="80" y="57"/>
                  </a:lnTo>
                  <a:lnTo>
                    <a:pt x="83" y="57"/>
                  </a:lnTo>
                  <a:lnTo>
                    <a:pt x="85" y="57"/>
                  </a:lnTo>
                  <a:lnTo>
                    <a:pt x="88" y="56"/>
                  </a:lnTo>
                  <a:lnTo>
                    <a:pt x="90" y="56"/>
                  </a:lnTo>
                  <a:lnTo>
                    <a:pt x="93" y="56"/>
                  </a:lnTo>
                  <a:lnTo>
                    <a:pt x="95" y="56"/>
                  </a:lnTo>
                  <a:lnTo>
                    <a:pt x="98" y="56"/>
                  </a:lnTo>
                  <a:lnTo>
                    <a:pt x="100" y="56"/>
                  </a:lnTo>
                  <a:lnTo>
                    <a:pt x="103" y="56"/>
                  </a:lnTo>
                  <a:lnTo>
                    <a:pt x="105" y="56"/>
                  </a:lnTo>
                  <a:lnTo>
                    <a:pt x="108" y="56"/>
                  </a:lnTo>
                  <a:lnTo>
                    <a:pt x="110" y="56"/>
                  </a:lnTo>
                  <a:lnTo>
                    <a:pt x="113" y="56"/>
                  </a:lnTo>
                  <a:lnTo>
                    <a:pt x="115" y="56"/>
                  </a:lnTo>
                  <a:lnTo>
                    <a:pt x="118" y="56"/>
                  </a:lnTo>
                  <a:lnTo>
                    <a:pt x="120" y="56"/>
                  </a:lnTo>
                  <a:lnTo>
                    <a:pt x="123" y="56"/>
                  </a:lnTo>
                  <a:lnTo>
                    <a:pt x="125" y="56"/>
                  </a:lnTo>
                  <a:lnTo>
                    <a:pt x="128" y="56"/>
                  </a:lnTo>
                  <a:lnTo>
                    <a:pt x="130" y="56"/>
                  </a:lnTo>
                  <a:lnTo>
                    <a:pt x="133" y="56"/>
                  </a:lnTo>
                  <a:lnTo>
                    <a:pt x="135" y="56"/>
                  </a:lnTo>
                  <a:lnTo>
                    <a:pt x="138" y="56"/>
                  </a:lnTo>
                  <a:lnTo>
                    <a:pt x="140" y="56"/>
                  </a:lnTo>
                  <a:lnTo>
                    <a:pt x="143" y="56"/>
                  </a:lnTo>
                  <a:lnTo>
                    <a:pt x="145" y="56"/>
                  </a:lnTo>
                  <a:lnTo>
                    <a:pt x="148" y="56"/>
                  </a:lnTo>
                  <a:lnTo>
                    <a:pt x="150" y="56"/>
                  </a:lnTo>
                  <a:lnTo>
                    <a:pt x="153" y="56"/>
                  </a:lnTo>
                  <a:lnTo>
                    <a:pt x="155" y="56"/>
                  </a:lnTo>
                  <a:lnTo>
                    <a:pt x="158" y="56"/>
                  </a:lnTo>
                  <a:lnTo>
                    <a:pt x="160" y="56"/>
                  </a:lnTo>
                  <a:lnTo>
                    <a:pt x="163" y="56"/>
                  </a:lnTo>
                  <a:lnTo>
                    <a:pt x="165" y="56"/>
                  </a:lnTo>
                  <a:lnTo>
                    <a:pt x="168" y="56"/>
                  </a:lnTo>
                  <a:lnTo>
                    <a:pt x="170" y="56"/>
                  </a:lnTo>
                  <a:lnTo>
                    <a:pt x="173" y="56"/>
                  </a:lnTo>
                  <a:lnTo>
                    <a:pt x="175" y="56"/>
                  </a:lnTo>
                  <a:lnTo>
                    <a:pt x="178" y="56"/>
                  </a:lnTo>
                  <a:lnTo>
                    <a:pt x="180" y="56"/>
                  </a:lnTo>
                  <a:lnTo>
                    <a:pt x="183" y="56"/>
                  </a:lnTo>
                  <a:lnTo>
                    <a:pt x="185" y="56"/>
                  </a:lnTo>
                  <a:lnTo>
                    <a:pt x="188" y="56"/>
                  </a:lnTo>
                  <a:lnTo>
                    <a:pt x="190" y="57"/>
                  </a:lnTo>
                  <a:lnTo>
                    <a:pt x="193" y="57"/>
                  </a:lnTo>
                  <a:lnTo>
                    <a:pt x="195" y="57"/>
                  </a:lnTo>
                  <a:lnTo>
                    <a:pt x="198" y="57"/>
                  </a:lnTo>
                  <a:lnTo>
                    <a:pt x="200" y="57"/>
                  </a:lnTo>
                  <a:lnTo>
                    <a:pt x="203" y="57"/>
                  </a:lnTo>
                  <a:lnTo>
                    <a:pt x="205" y="57"/>
                  </a:lnTo>
                  <a:lnTo>
                    <a:pt x="208" y="57"/>
                  </a:lnTo>
                  <a:lnTo>
                    <a:pt x="210" y="57"/>
                  </a:lnTo>
                  <a:lnTo>
                    <a:pt x="213" y="57"/>
                  </a:lnTo>
                  <a:lnTo>
                    <a:pt x="215" y="57"/>
                  </a:lnTo>
                  <a:lnTo>
                    <a:pt x="218" y="57"/>
                  </a:lnTo>
                  <a:lnTo>
                    <a:pt x="220" y="57"/>
                  </a:lnTo>
                  <a:lnTo>
                    <a:pt x="223" y="57"/>
                  </a:lnTo>
                  <a:lnTo>
                    <a:pt x="225" y="57"/>
                  </a:lnTo>
                  <a:lnTo>
                    <a:pt x="228" y="57"/>
                  </a:lnTo>
                  <a:lnTo>
                    <a:pt x="230" y="57"/>
                  </a:lnTo>
                  <a:lnTo>
                    <a:pt x="233" y="57"/>
                  </a:lnTo>
                  <a:lnTo>
                    <a:pt x="235" y="57"/>
                  </a:lnTo>
                  <a:lnTo>
                    <a:pt x="238" y="57"/>
                  </a:lnTo>
                  <a:lnTo>
                    <a:pt x="240" y="58"/>
                  </a:lnTo>
                  <a:lnTo>
                    <a:pt x="243" y="58"/>
                  </a:lnTo>
                  <a:lnTo>
                    <a:pt x="245" y="58"/>
                  </a:lnTo>
                  <a:lnTo>
                    <a:pt x="248" y="58"/>
                  </a:lnTo>
                  <a:lnTo>
                    <a:pt x="250" y="58"/>
                  </a:lnTo>
                  <a:lnTo>
                    <a:pt x="253" y="58"/>
                  </a:lnTo>
                  <a:lnTo>
                    <a:pt x="255" y="58"/>
                  </a:lnTo>
                  <a:lnTo>
                    <a:pt x="258" y="58"/>
                  </a:lnTo>
                  <a:lnTo>
                    <a:pt x="260" y="58"/>
                  </a:lnTo>
                  <a:lnTo>
                    <a:pt x="263" y="58"/>
                  </a:lnTo>
                  <a:lnTo>
                    <a:pt x="265" y="58"/>
                  </a:lnTo>
                  <a:lnTo>
                    <a:pt x="268" y="58"/>
                  </a:lnTo>
                  <a:lnTo>
                    <a:pt x="270" y="58"/>
                  </a:lnTo>
                  <a:lnTo>
                    <a:pt x="273" y="58"/>
                  </a:lnTo>
                  <a:lnTo>
                    <a:pt x="275" y="58"/>
                  </a:lnTo>
                  <a:lnTo>
                    <a:pt x="278" y="58"/>
                  </a:lnTo>
                  <a:lnTo>
                    <a:pt x="280" y="58"/>
                  </a:lnTo>
                  <a:lnTo>
                    <a:pt x="283" y="58"/>
                  </a:lnTo>
                  <a:lnTo>
                    <a:pt x="285" y="58"/>
                  </a:lnTo>
                  <a:lnTo>
                    <a:pt x="288" y="59"/>
                  </a:lnTo>
                  <a:lnTo>
                    <a:pt x="290" y="59"/>
                  </a:lnTo>
                  <a:lnTo>
                    <a:pt x="293" y="59"/>
                  </a:lnTo>
                  <a:lnTo>
                    <a:pt x="295" y="59"/>
                  </a:lnTo>
                  <a:lnTo>
                    <a:pt x="298" y="59"/>
                  </a:lnTo>
                  <a:lnTo>
                    <a:pt x="300" y="59"/>
                  </a:lnTo>
                  <a:lnTo>
                    <a:pt x="303" y="59"/>
                  </a:lnTo>
                  <a:lnTo>
                    <a:pt x="305" y="59"/>
                  </a:lnTo>
                  <a:lnTo>
                    <a:pt x="308" y="59"/>
                  </a:lnTo>
                  <a:lnTo>
                    <a:pt x="310" y="59"/>
                  </a:lnTo>
                  <a:lnTo>
                    <a:pt x="313" y="59"/>
                  </a:lnTo>
                  <a:lnTo>
                    <a:pt x="315" y="59"/>
                  </a:lnTo>
                  <a:lnTo>
                    <a:pt x="318" y="60"/>
                  </a:lnTo>
                  <a:lnTo>
                    <a:pt x="320" y="60"/>
                  </a:lnTo>
                  <a:lnTo>
                    <a:pt x="323" y="60"/>
                  </a:lnTo>
                  <a:lnTo>
                    <a:pt x="325" y="60"/>
                  </a:lnTo>
                  <a:lnTo>
                    <a:pt x="328" y="60"/>
                  </a:lnTo>
                  <a:lnTo>
                    <a:pt x="330" y="60"/>
                  </a:lnTo>
                  <a:lnTo>
                    <a:pt x="333" y="60"/>
                  </a:lnTo>
                  <a:lnTo>
                    <a:pt x="335" y="60"/>
                  </a:lnTo>
                  <a:lnTo>
                    <a:pt x="338" y="61"/>
                  </a:lnTo>
                  <a:lnTo>
                    <a:pt x="340" y="61"/>
                  </a:lnTo>
                  <a:lnTo>
                    <a:pt x="343" y="61"/>
                  </a:lnTo>
                  <a:lnTo>
                    <a:pt x="345" y="61"/>
                  </a:lnTo>
                  <a:lnTo>
                    <a:pt x="348" y="61"/>
                  </a:lnTo>
                  <a:lnTo>
                    <a:pt x="350" y="61"/>
                  </a:lnTo>
                  <a:lnTo>
                    <a:pt x="353" y="61"/>
                  </a:lnTo>
                  <a:lnTo>
                    <a:pt x="355" y="61"/>
                  </a:lnTo>
                  <a:lnTo>
                    <a:pt x="358" y="61"/>
                  </a:lnTo>
                  <a:lnTo>
                    <a:pt x="360" y="61"/>
                  </a:lnTo>
                  <a:lnTo>
                    <a:pt x="363" y="61"/>
                  </a:lnTo>
                  <a:lnTo>
                    <a:pt x="365" y="61"/>
                  </a:lnTo>
                  <a:lnTo>
                    <a:pt x="368" y="61"/>
                  </a:lnTo>
                  <a:lnTo>
                    <a:pt x="370" y="61"/>
                  </a:lnTo>
                  <a:lnTo>
                    <a:pt x="373" y="61"/>
                  </a:lnTo>
                  <a:lnTo>
                    <a:pt x="375" y="61"/>
                  </a:lnTo>
                  <a:lnTo>
                    <a:pt x="378" y="61"/>
                  </a:lnTo>
                  <a:lnTo>
                    <a:pt x="380" y="61"/>
                  </a:lnTo>
                  <a:lnTo>
                    <a:pt x="383" y="61"/>
                  </a:lnTo>
                  <a:lnTo>
                    <a:pt x="385" y="60"/>
                  </a:lnTo>
                  <a:lnTo>
                    <a:pt x="388" y="60"/>
                  </a:lnTo>
                  <a:lnTo>
                    <a:pt x="390" y="60"/>
                  </a:lnTo>
                  <a:lnTo>
                    <a:pt x="393" y="60"/>
                  </a:lnTo>
                  <a:lnTo>
                    <a:pt x="395" y="60"/>
                  </a:lnTo>
                  <a:lnTo>
                    <a:pt x="398" y="59"/>
                  </a:lnTo>
                  <a:lnTo>
                    <a:pt x="400" y="59"/>
                  </a:lnTo>
                  <a:lnTo>
                    <a:pt x="403" y="59"/>
                  </a:lnTo>
                  <a:lnTo>
                    <a:pt x="405" y="58"/>
                  </a:lnTo>
                  <a:lnTo>
                    <a:pt x="408" y="58"/>
                  </a:lnTo>
                  <a:lnTo>
                    <a:pt x="410" y="58"/>
                  </a:lnTo>
                  <a:lnTo>
                    <a:pt x="413" y="58"/>
                  </a:lnTo>
                  <a:lnTo>
                    <a:pt x="415" y="57"/>
                  </a:lnTo>
                  <a:lnTo>
                    <a:pt x="418" y="57"/>
                  </a:lnTo>
                  <a:lnTo>
                    <a:pt x="420" y="57"/>
                  </a:lnTo>
                  <a:lnTo>
                    <a:pt x="423" y="56"/>
                  </a:lnTo>
                  <a:lnTo>
                    <a:pt x="425" y="56"/>
                  </a:lnTo>
                  <a:lnTo>
                    <a:pt x="428" y="56"/>
                  </a:lnTo>
                  <a:lnTo>
                    <a:pt x="430" y="55"/>
                  </a:lnTo>
                  <a:lnTo>
                    <a:pt x="433" y="55"/>
                  </a:lnTo>
                  <a:lnTo>
                    <a:pt x="435" y="55"/>
                  </a:lnTo>
                  <a:lnTo>
                    <a:pt x="438" y="54"/>
                  </a:lnTo>
                  <a:lnTo>
                    <a:pt x="440" y="54"/>
                  </a:lnTo>
                  <a:lnTo>
                    <a:pt x="443" y="54"/>
                  </a:lnTo>
                  <a:lnTo>
                    <a:pt x="445" y="54"/>
                  </a:lnTo>
                  <a:lnTo>
                    <a:pt x="448" y="53"/>
                  </a:lnTo>
                  <a:lnTo>
                    <a:pt x="450" y="53"/>
                  </a:lnTo>
                  <a:lnTo>
                    <a:pt x="453" y="53"/>
                  </a:lnTo>
                  <a:lnTo>
                    <a:pt x="455" y="53"/>
                  </a:lnTo>
                  <a:lnTo>
                    <a:pt x="458" y="52"/>
                  </a:lnTo>
                  <a:lnTo>
                    <a:pt x="460" y="52"/>
                  </a:lnTo>
                  <a:lnTo>
                    <a:pt x="463" y="52"/>
                  </a:lnTo>
                  <a:lnTo>
                    <a:pt x="465" y="51"/>
                  </a:lnTo>
                  <a:lnTo>
                    <a:pt x="468" y="51"/>
                  </a:lnTo>
                  <a:lnTo>
                    <a:pt x="470" y="51"/>
                  </a:lnTo>
                  <a:lnTo>
                    <a:pt x="473" y="51"/>
                  </a:lnTo>
                  <a:lnTo>
                    <a:pt x="475" y="51"/>
                  </a:lnTo>
                  <a:lnTo>
                    <a:pt x="478" y="50"/>
                  </a:lnTo>
                  <a:lnTo>
                    <a:pt x="480" y="50"/>
                  </a:lnTo>
                  <a:lnTo>
                    <a:pt x="483" y="50"/>
                  </a:lnTo>
                  <a:lnTo>
                    <a:pt x="485" y="50"/>
                  </a:lnTo>
                  <a:lnTo>
                    <a:pt x="488" y="49"/>
                  </a:lnTo>
                  <a:lnTo>
                    <a:pt x="490" y="49"/>
                  </a:lnTo>
                  <a:lnTo>
                    <a:pt x="493" y="49"/>
                  </a:lnTo>
                  <a:lnTo>
                    <a:pt x="495" y="49"/>
                  </a:lnTo>
                  <a:lnTo>
                    <a:pt x="498" y="48"/>
                  </a:lnTo>
                  <a:lnTo>
                    <a:pt x="500" y="48"/>
                  </a:lnTo>
                  <a:lnTo>
                    <a:pt x="503" y="48"/>
                  </a:lnTo>
                  <a:lnTo>
                    <a:pt x="505" y="48"/>
                  </a:lnTo>
                  <a:lnTo>
                    <a:pt x="508" y="48"/>
                  </a:lnTo>
                  <a:lnTo>
                    <a:pt x="510" y="47"/>
                  </a:lnTo>
                  <a:lnTo>
                    <a:pt x="513" y="47"/>
                  </a:lnTo>
                  <a:lnTo>
                    <a:pt x="515" y="47"/>
                  </a:lnTo>
                  <a:lnTo>
                    <a:pt x="518" y="47"/>
                  </a:lnTo>
                  <a:lnTo>
                    <a:pt x="520" y="46"/>
                  </a:lnTo>
                  <a:lnTo>
                    <a:pt x="523" y="46"/>
                  </a:lnTo>
                  <a:lnTo>
                    <a:pt x="525" y="46"/>
                  </a:lnTo>
                  <a:lnTo>
                    <a:pt x="528" y="46"/>
                  </a:lnTo>
                  <a:lnTo>
                    <a:pt x="530" y="45"/>
                  </a:lnTo>
                  <a:lnTo>
                    <a:pt x="533" y="45"/>
                  </a:lnTo>
                  <a:lnTo>
                    <a:pt x="535" y="45"/>
                  </a:lnTo>
                  <a:lnTo>
                    <a:pt x="538" y="45"/>
                  </a:lnTo>
                  <a:lnTo>
                    <a:pt x="540" y="44"/>
                  </a:lnTo>
                  <a:lnTo>
                    <a:pt x="543" y="44"/>
                  </a:lnTo>
                  <a:lnTo>
                    <a:pt x="545" y="44"/>
                  </a:lnTo>
                  <a:lnTo>
                    <a:pt x="548" y="44"/>
                  </a:lnTo>
                  <a:lnTo>
                    <a:pt x="550" y="43"/>
                  </a:lnTo>
                  <a:lnTo>
                    <a:pt x="553" y="43"/>
                  </a:lnTo>
                  <a:lnTo>
                    <a:pt x="555" y="43"/>
                  </a:lnTo>
                  <a:lnTo>
                    <a:pt x="558" y="43"/>
                  </a:lnTo>
                  <a:lnTo>
                    <a:pt x="560" y="42"/>
                  </a:lnTo>
                  <a:lnTo>
                    <a:pt x="563" y="42"/>
                  </a:lnTo>
                  <a:lnTo>
                    <a:pt x="565" y="42"/>
                  </a:lnTo>
                  <a:lnTo>
                    <a:pt x="568" y="42"/>
                  </a:lnTo>
                  <a:lnTo>
                    <a:pt x="570" y="41"/>
                  </a:lnTo>
                  <a:lnTo>
                    <a:pt x="573" y="41"/>
                  </a:lnTo>
                  <a:lnTo>
                    <a:pt x="575" y="41"/>
                  </a:lnTo>
                  <a:lnTo>
                    <a:pt x="578" y="41"/>
                  </a:lnTo>
                  <a:lnTo>
                    <a:pt x="580" y="40"/>
                  </a:lnTo>
                  <a:lnTo>
                    <a:pt x="583" y="40"/>
                  </a:lnTo>
                  <a:lnTo>
                    <a:pt x="585" y="40"/>
                  </a:lnTo>
                  <a:lnTo>
                    <a:pt x="588" y="40"/>
                  </a:lnTo>
                  <a:lnTo>
                    <a:pt x="590" y="39"/>
                  </a:lnTo>
                  <a:lnTo>
                    <a:pt x="593" y="39"/>
                  </a:lnTo>
                  <a:lnTo>
                    <a:pt x="595" y="39"/>
                  </a:lnTo>
                  <a:lnTo>
                    <a:pt x="598" y="39"/>
                  </a:lnTo>
                  <a:lnTo>
                    <a:pt x="600" y="38"/>
                  </a:lnTo>
                  <a:lnTo>
                    <a:pt x="603" y="38"/>
                  </a:lnTo>
                  <a:lnTo>
                    <a:pt x="605" y="38"/>
                  </a:lnTo>
                  <a:lnTo>
                    <a:pt x="608" y="38"/>
                  </a:lnTo>
                  <a:lnTo>
                    <a:pt x="610" y="37"/>
                  </a:lnTo>
                  <a:lnTo>
                    <a:pt x="613" y="37"/>
                  </a:lnTo>
                  <a:lnTo>
                    <a:pt x="615" y="37"/>
                  </a:lnTo>
                  <a:lnTo>
                    <a:pt x="618" y="37"/>
                  </a:lnTo>
                  <a:lnTo>
                    <a:pt x="620" y="36"/>
                  </a:lnTo>
                  <a:lnTo>
                    <a:pt x="623" y="36"/>
                  </a:lnTo>
                  <a:lnTo>
                    <a:pt x="625" y="36"/>
                  </a:lnTo>
                  <a:lnTo>
                    <a:pt x="628" y="36"/>
                  </a:lnTo>
                  <a:lnTo>
                    <a:pt x="630" y="35"/>
                  </a:lnTo>
                  <a:lnTo>
                    <a:pt x="633" y="35"/>
                  </a:lnTo>
                  <a:lnTo>
                    <a:pt x="635" y="35"/>
                  </a:lnTo>
                  <a:lnTo>
                    <a:pt x="638" y="35"/>
                  </a:lnTo>
                  <a:lnTo>
                    <a:pt x="640" y="34"/>
                  </a:lnTo>
                  <a:lnTo>
                    <a:pt x="643" y="34"/>
                  </a:lnTo>
                  <a:lnTo>
                    <a:pt x="645" y="34"/>
                  </a:lnTo>
                  <a:lnTo>
                    <a:pt x="648" y="34"/>
                  </a:lnTo>
                  <a:lnTo>
                    <a:pt x="650" y="33"/>
                  </a:lnTo>
                  <a:lnTo>
                    <a:pt x="653" y="33"/>
                  </a:lnTo>
                  <a:lnTo>
                    <a:pt x="655" y="33"/>
                  </a:lnTo>
                  <a:lnTo>
                    <a:pt x="658" y="33"/>
                  </a:lnTo>
                  <a:lnTo>
                    <a:pt x="660" y="32"/>
                  </a:lnTo>
                  <a:lnTo>
                    <a:pt x="663" y="32"/>
                  </a:lnTo>
                  <a:lnTo>
                    <a:pt x="665" y="32"/>
                  </a:lnTo>
                  <a:lnTo>
                    <a:pt x="668" y="32"/>
                  </a:lnTo>
                  <a:lnTo>
                    <a:pt x="670" y="31"/>
                  </a:lnTo>
                  <a:lnTo>
                    <a:pt x="673" y="31"/>
                  </a:lnTo>
                  <a:lnTo>
                    <a:pt x="675" y="31"/>
                  </a:lnTo>
                  <a:lnTo>
                    <a:pt x="678" y="31"/>
                  </a:lnTo>
                  <a:lnTo>
                    <a:pt x="680" y="30"/>
                  </a:lnTo>
                  <a:lnTo>
                    <a:pt x="683" y="30"/>
                  </a:lnTo>
                  <a:lnTo>
                    <a:pt x="685" y="30"/>
                  </a:lnTo>
                  <a:lnTo>
                    <a:pt x="688" y="30"/>
                  </a:lnTo>
                  <a:lnTo>
                    <a:pt x="690" y="30"/>
                  </a:lnTo>
                  <a:lnTo>
                    <a:pt x="693" y="29"/>
                  </a:lnTo>
                  <a:lnTo>
                    <a:pt x="695" y="29"/>
                  </a:lnTo>
                  <a:lnTo>
                    <a:pt x="698" y="29"/>
                  </a:lnTo>
                  <a:lnTo>
                    <a:pt x="700" y="29"/>
                  </a:lnTo>
                  <a:lnTo>
                    <a:pt x="703" y="28"/>
                  </a:lnTo>
                  <a:lnTo>
                    <a:pt x="705" y="28"/>
                  </a:lnTo>
                  <a:lnTo>
                    <a:pt x="708" y="28"/>
                  </a:lnTo>
                  <a:lnTo>
                    <a:pt x="710" y="28"/>
                  </a:lnTo>
                  <a:lnTo>
                    <a:pt x="713" y="27"/>
                  </a:lnTo>
                  <a:lnTo>
                    <a:pt x="715" y="27"/>
                  </a:lnTo>
                  <a:lnTo>
                    <a:pt x="718" y="27"/>
                  </a:lnTo>
                  <a:lnTo>
                    <a:pt x="720" y="27"/>
                  </a:lnTo>
                  <a:lnTo>
                    <a:pt x="723" y="26"/>
                  </a:lnTo>
                  <a:lnTo>
                    <a:pt x="725" y="26"/>
                  </a:lnTo>
                  <a:lnTo>
                    <a:pt x="728" y="26"/>
                  </a:lnTo>
                  <a:lnTo>
                    <a:pt x="730" y="26"/>
                  </a:lnTo>
                  <a:lnTo>
                    <a:pt x="733" y="26"/>
                  </a:lnTo>
                  <a:lnTo>
                    <a:pt x="735" y="25"/>
                  </a:lnTo>
                  <a:lnTo>
                    <a:pt x="738" y="25"/>
                  </a:lnTo>
                  <a:lnTo>
                    <a:pt x="740" y="25"/>
                  </a:lnTo>
                  <a:lnTo>
                    <a:pt x="743" y="25"/>
                  </a:lnTo>
                  <a:lnTo>
                    <a:pt x="745" y="24"/>
                  </a:lnTo>
                  <a:lnTo>
                    <a:pt x="748" y="24"/>
                  </a:lnTo>
                  <a:lnTo>
                    <a:pt x="750" y="24"/>
                  </a:lnTo>
                  <a:lnTo>
                    <a:pt x="753" y="24"/>
                  </a:lnTo>
                  <a:lnTo>
                    <a:pt x="755" y="24"/>
                  </a:lnTo>
                  <a:lnTo>
                    <a:pt x="757" y="23"/>
                  </a:lnTo>
                  <a:lnTo>
                    <a:pt x="760" y="23"/>
                  </a:lnTo>
                  <a:lnTo>
                    <a:pt x="763" y="23"/>
                  </a:lnTo>
                  <a:lnTo>
                    <a:pt x="765" y="23"/>
                  </a:lnTo>
                  <a:lnTo>
                    <a:pt x="768" y="22"/>
                  </a:lnTo>
                  <a:lnTo>
                    <a:pt x="770" y="22"/>
                  </a:lnTo>
                  <a:lnTo>
                    <a:pt x="773" y="22"/>
                  </a:lnTo>
                  <a:lnTo>
                    <a:pt x="775" y="22"/>
                  </a:lnTo>
                  <a:lnTo>
                    <a:pt x="777" y="21"/>
                  </a:lnTo>
                  <a:lnTo>
                    <a:pt x="780" y="21"/>
                  </a:lnTo>
                  <a:lnTo>
                    <a:pt x="783" y="21"/>
                  </a:lnTo>
                  <a:lnTo>
                    <a:pt x="785" y="21"/>
                  </a:lnTo>
                  <a:lnTo>
                    <a:pt x="788" y="21"/>
                  </a:lnTo>
                  <a:lnTo>
                    <a:pt x="790" y="20"/>
                  </a:lnTo>
                  <a:lnTo>
                    <a:pt x="793" y="20"/>
                  </a:lnTo>
                  <a:lnTo>
                    <a:pt x="795" y="20"/>
                  </a:lnTo>
                  <a:lnTo>
                    <a:pt x="797" y="20"/>
                  </a:lnTo>
                  <a:lnTo>
                    <a:pt x="800" y="20"/>
                  </a:lnTo>
                  <a:lnTo>
                    <a:pt x="803" y="19"/>
                  </a:lnTo>
                  <a:lnTo>
                    <a:pt x="805" y="19"/>
                  </a:lnTo>
                  <a:lnTo>
                    <a:pt x="808" y="19"/>
                  </a:lnTo>
                  <a:lnTo>
                    <a:pt x="810" y="19"/>
                  </a:lnTo>
                  <a:lnTo>
                    <a:pt x="813" y="19"/>
                  </a:lnTo>
                  <a:lnTo>
                    <a:pt x="815" y="18"/>
                  </a:lnTo>
                  <a:lnTo>
                    <a:pt x="818" y="18"/>
                  </a:lnTo>
                  <a:lnTo>
                    <a:pt x="820" y="18"/>
                  </a:lnTo>
                  <a:lnTo>
                    <a:pt x="823" y="18"/>
                  </a:lnTo>
                  <a:lnTo>
                    <a:pt x="825" y="18"/>
                  </a:lnTo>
                  <a:lnTo>
                    <a:pt x="828" y="18"/>
                  </a:lnTo>
                  <a:lnTo>
                    <a:pt x="830" y="18"/>
                  </a:lnTo>
                  <a:lnTo>
                    <a:pt x="833" y="17"/>
                  </a:lnTo>
                  <a:lnTo>
                    <a:pt x="835" y="17"/>
                  </a:lnTo>
                  <a:lnTo>
                    <a:pt x="838" y="17"/>
                  </a:lnTo>
                  <a:lnTo>
                    <a:pt x="840" y="17"/>
                  </a:lnTo>
                  <a:lnTo>
                    <a:pt x="843" y="17"/>
                  </a:lnTo>
                  <a:lnTo>
                    <a:pt x="845" y="17"/>
                  </a:lnTo>
                  <a:lnTo>
                    <a:pt x="848" y="17"/>
                  </a:lnTo>
                  <a:lnTo>
                    <a:pt x="850" y="17"/>
                  </a:lnTo>
                  <a:lnTo>
                    <a:pt x="853" y="16"/>
                  </a:lnTo>
                  <a:lnTo>
                    <a:pt x="855" y="16"/>
                  </a:lnTo>
                  <a:lnTo>
                    <a:pt x="858" y="16"/>
                  </a:lnTo>
                  <a:lnTo>
                    <a:pt x="860" y="16"/>
                  </a:lnTo>
                  <a:lnTo>
                    <a:pt x="863" y="16"/>
                  </a:lnTo>
                  <a:lnTo>
                    <a:pt x="865" y="16"/>
                  </a:lnTo>
                  <a:lnTo>
                    <a:pt x="868" y="16"/>
                  </a:lnTo>
                  <a:lnTo>
                    <a:pt x="870" y="16"/>
                  </a:lnTo>
                  <a:lnTo>
                    <a:pt x="873" y="15"/>
                  </a:lnTo>
                  <a:lnTo>
                    <a:pt x="875" y="15"/>
                  </a:lnTo>
                  <a:lnTo>
                    <a:pt x="878" y="15"/>
                  </a:lnTo>
                  <a:lnTo>
                    <a:pt x="880" y="15"/>
                  </a:lnTo>
                  <a:lnTo>
                    <a:pt x="883" y="15"/>
                  </a:lnTo>
                  <a:lnTo>
                    <a:pt x="885" y="15"/>
                  </a:lnTo>
                  <a:lnTo>
                    <a:pt x="888" y="15"/>
                  </a:lnTo>
                  <a:lnTo>
                    <a:pt x="890" y="15"/>
                  </a:lnTo>
                  <a:lnTo>
                    <a:pt x="893" y="15"/>
                  </a:lnTo>
                  <a:lnTo>
                    <a:pt x="895" y="14"/>
                  </a:lnTo>
                  <a:lnTo>
                    <a:pt x="898" y="14"/>
                  </a:lnTo>
                  <a:lnTo>
                    <a:pt x="900" y="14"/>
                  </a:lnTo>
                  <a:lnTo>
                    <a:pt x="903" y="14"/>
                  </a:lnTo>
                  <a:lnTo>
                    <a:pt x="905" y="14"/>
                  </a:lnTo>
                  <a:lnTo>
                    <a:pt x="908" y="14"/>
                  </a:lnTo>
                  <a:lnTo>
                    <a:pt x="910" y="14"/>
                  </a:lnTo>
                  <a:lnTo>
                    <a:pt x="913" y="14"/>
                  </a:lnTo>
                  <a:lnTo>
                    <a:pt x="915" y="14"/>
                  </a:lnTo>
                  <a:lnTo>
                    <a:pt x="918" y="14"/>
                  </a:lnTo>
                  <a:lnTo>
                    <a:pt x="920" y="13"/>
                  </a:lnTo>
                  <a:lnTo>
                    <a:pt x="923" y="13"/>
                  </a:lnTo>
                  <a:lnTo>
                    <a:pt x="925" y="13"/>
                  </a:lnTo>
                  <a:lnTo>
                    <a:pt x="928" y="13"/>
                  </a:lnTo>
                  <a:lnTo>
                    <a:pt x="930" y="13"/>
                  </a:lnTo>
                  <a:lnTo>
                    <a:pt x="933" y="13"/>
                  </a:lnTo>
                  <a:lnTo>
                    <a:pt x="935" y="13"/>
                  </a:lnTo>
                  <a:lnTo>
                    <a:pt x="938" y="13"/>
                  </a:lnTo>
                  <a:lnTo>
                    <a:pt x="940" y="13"/>
                  </a:lnTo>
                  <a:lnTo>
                    <a:pt x="943" y="13"/>
                  </a:lnTo>
                  <a:lnTo>
                    <a:pt x="945" y="13"/>
                  </a:lnTo>
                  <a:lnTo>
                    <a:pt x="948" y="13"/>
                  </a:lnTo>
                  <a:lnTo>
                    <a:pt x="950" y="13"/>
                  </a:lnTo>
                  <a:lnTo>
                    <a:pt x="953" y="13"/>
                  </a:lnTo>
                  <a:lnTo>
                    <a:pt x="955" y="13"/>
                  </a:lnTo>
                  <a:lnTo>
                    <a:pt x="958" y="12"/>
                  </a:lnTo>
                  <a:lnTo>
                    <a:pt x="960" y="12"/>
                  </a:lnTo>
                  <a:lnTo>
                    <a:pt x="963" y="12"/>
                  </a:lnTo>
                  <a:lnTo>
                    <a:pt x="965" y="12"/>
                  </a:lnTo>
                  <a:lnTo>
                    <a:pt x="968" y="12"/>
                  </a:lnTo>
                  <a:lnTo>
                    <a:pt x="970" y="12"/>
                  </a:lnTo>
                  <a:lnTo>
                    <a:pt x="973" y="12"/>
                  </a:lnTo>
                  <a:lnTo>
                    <a:pt x="975" y="12"/>
                  </a:lnTo>
                  <a:lnTo>
                    <a:pt x="978" y="12"/>
                  </a:lnTo>
                  <a:lnTo>
                    <a:pt x="980" y="12"/>
                  </a:lnTo>
                  <a:lnTo>
                    <a:pt x="983" y="12"/>
                  </a:lnTo>
                  <a:lnTo>
                    <a:pt x="985" y="12"/>
                  </a:lnTo>
                  <a:lnTo>
                    <a:pt x="988" y="12"/>
                  </a:lnTo>
                  <a:lnTo>
                    <a:pt x="990" y="12"/>
                  </a:lnTo>
                  <a:lnTo>
                    <a:pt x="993" y="12"/>
                  </a:lnTo>
                  <a:lnTo>
                    <a:pt x="995" y="12"/>
                  </a:lnTo>
                  <a:lnTo>
                    <a:pt x="998" y="12"/>
                  </a:lnTo>
                  <a:lnTo>
                    <a:pt x="1000" y="12"/>
                  </a:lnTo>
                  <a:lnTo>
                    <a:pt x="1003" y="12"/>
                  </a:lnTo>
                  <a:lnTo>
                    <a:pt x="1005" y="12"/>
                  </a:lnTo>
                  <a:lnTo>
                    <a:pt x="1008" y="12"/>
                  </a:lnTo>
                  <a:lnTo>
                    <a:pt x="1010" y="12"/>
                  </a:lnTo>
                  <a:lnTo>
                    <a:pt x="1013" y="12"/>
                  </a:lnTo>
                  <a:lnTo>
                    <a:pt x="1015" y="12"/>
                  </a:lnTo>
                  <a:lnTo>
                    <a:pt x="1018" y="12"/>
                  </a:lnTo>
                  <a:lnTo>
                    <a:pt x="1020" y="12"/>
                  </a:lnTo>
                  <a:lnTo>
                    <a:pt x="1023" y="12"/>
                  </a:lnTo>
                  <a:lnTo>
                    <a:pt x="1025" y="12"/>
                  </a:lnTo>
                  <a:lnTo>
                    <a:pt x="1028" y="12"/>
                  </a:lnTo>
                  <a:lnTo>
                    <a:pt x="1030" y="12"/>
                  </a:lnTo>
                  <a:lnTo>
                    <a:pt x="1033" y="12"/>
                  </a:lnTo>
                  <a:lnTo>
                    <a:pt x="1035" y="12"/>
                  </a:lnTo>
                  <a:lnTo>
                    <a:pt x="1038" y="12"/>
                  </a:lnTo>
                  <a:lnTo>
                    <a:pt x="1040" y="12"/>
                  </a:lnTo>
                  <a:lnTo>
                    <a:pt x="1043" y="12"/>
                  </a:lnTo>
                  <a:lnTo>
                    <a:pt x="1045" y="12"/>
                  </a:lnTo>
                  <a:lnTo>
                    <a:pt x="1048" y="12"/>
                  </a:lnTo>
                  <a:lnTo>
                    <a:pt x="1050" y="12"/>
                  </a:lnTo>
                  <a:lnTo>
                    <a:pt x="1053" y="12"/>
                  </a:lnTo>
                  <a:lnTo>
                    <a:pt x="1055" y="12"/>
                  </a:lnTo>
                  <a:lnTo>
                    <a:pt x="1058" y="12"/>
                  </a:lnTo>
                  <a:lnTo>
                    <a:pt x="1060" y="12"/>
                  </a:lnTo>
                  <a:lnTo>
                    <a:pt x="1063" y="12"/>
                  </a:lnTo>
                  <a:lnTo>
                    <a:pt x="1065" y="12"/>
                  </a:lnTo>
                  <a:lnTo>
                    <a:pt x="1068" y="12"/>
                  </a:lnTo>
                  <a:lnTo>
                    <a:pt x="1070" y="12"/>
                  </a:lnTo>
                  <a:lnTo>
                    <a:pt x="1073" y="12"/>
                  </a:lnTo>
                  <a:lnTo>
                    <a:pt x="1075" y="12"/>
                  </a:lnTo>
                  <a:lnTo>
                    <a:pt x="1078" y="12"/>
                  </a:lnTo>
                  <a:lnTo>
                    <a:pt x="1080" y="12"/>
                  </a:lnTo>
                  <a:lnTo>
                    <a:pt x="1083" y="12"/>
                  </a:lnTo>
                  <a:lnTo>
                    <a:pt x="1085" y="12"/>
                  </a:lnTo>
                  <a:lnTo>
                    <a:pt x="1088" y="12"/>
                  </a:lnTo>
                  <a:lnTo>
                    <a:pt x="1090" y="12"/>
                  </a:lnTo>
                  <a:lnTo>
                    <a:pt x="1093" y="12"/>
                  </a:lnTo>
                  <a:lnTo>
                    <a:pt x="1095" y="12"/>
                  </a:lnTo>
                  <a:lnTo>
                    <a:pt x="1098" y="12"/>
                  </a:lnTo>
                  <a:lnTo>
                    <a:pt x="1100" y="12"/>
                  </a:lnTo>
                  <a:lnTo>
                    <a:pt x="1103" y="12"/>
                  </a:lnTo>
                  <a:lnTo>
                    <a:pt x="1105" y="12"/>
                  </a:lnTo>
                  <a:lnTo>
                    <a:pt x="1108" y="12"/>
                  </a:lnTo>
                  <a:lnTo>
                    <a:pt x="1110" y="12"/>
                  </a:lnTo>
                  <a:lnTo>
                    <a:pt x="1113" y="12"/>
                  </a:lnTo>
                  <a:lnTo>
                    <a:pt x="1115" y="12"/>
                  </a:lnTo>
                  <a:lnTo>
                    <a:pt x="1118" y="12"/>
                  </a:lnTo>
                  <a:lnTo>
                    <a:pt x="1120" y="12"/>
                  </a:lnTo>
                  <a:lnTo>
                    <a:pt x="1123" y="12"/>
                  </a:lnTo>
                  <a:lnTo>
                    <a:pt x="1125" y="12"/>
                  </a:lnTo>
                  <a:lnTo>
                    <a:pt x="1128" y="12"/>
                  </a:lnTo>
                  <a:lnTo>
                    <a:pt x="1130" y="13"/>
                  </a:lnTo>
                  <a:lnTo>
                    <a:pt x="1133" y="13"/>
                  </a:lnTo>
                  <a:lnTo>
                    <a:pt x="1135" y="13"/>
                  </a:lnTo>
                  <a:lnTo>
                    <a:pt x="1138" y="13"/>
                  </a:lnTo>
                  <a:lnTo>
                    <a:pt x="1140" y="13"/>
                  </a:lnTo>
                  <a:lnTo>
                    <a:pt x="1143" y="13"/>
                  </a:lnTo>
                  <a:lnTo>
                    <a:pt x="1145" y="13"/>
                  </a:lnTo>
                  <a:lnTo>
                    <a:pt x="1148" y="13"/>
                  </a:lnTo>
                  <a:lnTo>
                    <a:pt x="1150" y="13"/>
                  </a:lnTo>
                  <a:lnTo>
                    <a:pt x="1153" y="13"/>
                  </a:lnTo>
                  <a:lnTo>
                    <a:pt x="1155" y="13"/>
                  </a:lnTo>
                  <a:lnTo>
                    <a:pt x="1158" y="13"/>
                  </a:lnTo>
                  <a:lnTo>
                    <a:pt x="1160" y="13"/>
                  </a:lnTo>
                  <a:lnTo>
                    <a:pt x="1163" y="13"/>
                  </a:lnTo>
                  <a:lnTo>
                    <a:pt x="1165" y="13"/>
                  </a:lnTo>
                  <a:lnTo>
                    <a:pt x="1168" y="13"/>
                  </a:lnTo>
                  <a:lnTo>
                    <a:pt x="1170" y="13"/>
                  </a:lnTo>
                  <a:lnTo>
                    <a:pt x="1173" y="13"/>
                  </a:lnTo>
                  <a:lnTo>
                    <a:pt x="1175" y="13"/>
                  </a:lnTo>
                  <a:lnTo>
                    <a:pt x="1178" y="13"/>
                  </a:lnTo>
                  <a:lnTo>
                    <a:pt x="1180" y="13"/>
                  </a:lnTo>
                  <a:lnTo>
                    <a:pt x="1183" y="13"/>
                  </a:lnTo>
                  <a:lnTo>
                    <a:pt x="1185" y="13"/>
                  </a:lnTo>
                  <a:lnTo>
                    <a:pt x="1188" y="13"/>
                  </a:lnTo>
                  <a:lnTo>
                    <a:pt x="1190" y="13"/>
                  </a:lnTo>
                  <a:lnTo>
                    <a:pt x="1193" y="13"/>
                  </a:lnTo>
                  <a:lnTo>
                    <a:pt x="1195" y="13"/>
                  </a:lnTo>
                  <a:lnTo>
                    <a:pt x="1198" y="13"/>
                  </a:lnTo>
                  <a:lnTo>
                    <a:pt x="1200" y="13"/>
                  </a:lnTo>
                  <a:lnTo>
                    <a:pt x="1203" y="13"/>
                  </a:lnTo>
                  <a:lnTo>
                    <a:pt x="1205" y="13"/>
                  </a:lnTo>
                  <a:lnTo>
                    <a:pt x="1208" y="13"/>
                  </a:lnTo>
                  <a:lnTo>
                    <a:pt x="1210" y="13"/>
                  </a:lnTo>
                  <a:lnTo>
                    <a:pt x="1213" y="13"/>
                  </a:lnTo>
                  <a:lnTo>
                    <a:pt x="1215" y="13"/>
                  </a:lnTo>
                  <a:lnTo>
                    <a:pt x="1218" y="13"/>
                  </a:lnTo>
                  <a:lnTo>
                    <a:pt x="1220" y="13"/>
                  </a:lnTo>
                  <a:lnTo>
                    <a:pt x="1223" y="13"/>
                  </a:lnTo>
                  <a:lnTo>
                    <a:pt x="1225" y="13"/>
                  </a:lnTo>
                  <a:lnTo>
                    <a:pt x="1228" y="13"/>
                  </a:lnTo>
                  <a:lnTo>
                    <a:pt x="1230" y="13"/>
                  </a:lnTo>
                  <a:lnTo>
                    <a:pt x="1233" y="13"/>
                  </a:lnTo>
                  <a:lnTo>
                    <a:pt x="1235" y="13"/>
                  </a:lnTo>
                  <a:lnTo>
                    <a:pt x="1238" y="13"/>
                  </a:lnTo>
                  <a:lnTo>
                    <a:pt x="1240" y="13"/>
                  </a:lnTo>
                  <a:lnTo>
                    <a:pt x="1243" y="13"/>
                  </a:lnTo>
                  <a:lnTo>
                    <a:pt x="1245" y="13"/>
                  </a:lnTo>
                  <a:lnTo>
                    <a:pt x="1248" y="13"/>
                  </a:lnTo>
                  <a:lnTo>
                    <a:pt x="1250" y="13"/>
                  </a:lnTo>
                  <a:lnTo>
                    <a:pt x="1253" y="13"/>
                  </a:lnTo>
                  <a:lnTo>
                    <a:pt x="1255" y="13"/>
                  </a:lnTo>
                  <a:lnTo>
                    <a:pt x="1258" y="13"/>
                  </a:lnTo>
                  <a:lnTo>
                    <a:pt x="1260" y="13"/>
                  </a:lnTo>
                  <a:lnTo>
                    <a:pt x="1263" y="13"/>
                  </a:lnTo>
                  <a:lnTo>
                    <a:pt x="1265" y="13"/>
                  </a:lnTo>
                  <a:lnTo>
                    <a:pt x="1268" y="13"/>
                  </a:lnTo>
                  <a:lnTo>
                    <a:pt x="1270" y="13"/>
                  </a:lnTo>
                  <a:lnTo>
                    <a:pt x="1273" y="13"/>
                  </a:lnTo>
                  <a:lnTo>
                    <a:pt x="1275" y="14"/>
                  </a:lnTo>
                  <a:lnTo>
                    <a:pt x="1278" y="14"/>
                  </a:lnTo>
                  <a:lnTo>
                    <a:pt x="1280" y="14"/>
                  </a:lnTo>
                  <a:lnTo>
                    <a:pt x="1283" y="14"/>
                  </a:lnTo>
                  <a:lnTo>
                    <a:pt x="1285" y="14"/>
                  </a:lnTo>
                  <a:lnTo>
                    <a:pt x="1288" y="14"/>
                  </a:lnTo>
                  <a:lnTo>
                    <a:pt x="1290" y="14"/>
                  </a:lnTo>
                  <a:lnTo>
                    <a:pt x="1293" y="14"/>
                  </a:lnTo>
                  <a:lnTo>
                    <a:pt x="1295" y="14"/>
                  </a:lnTo>
                  <a:lnTo>
                    <a:pt x="1298" y="14"/>
                  </a:lnTo>
                  <a:lnTo>
                    <a:pt x="1300" y="14"/>
                  </a:lnTo>
                  <a:lnTo>
                    <a:pt x="1303" y="15"/>
                  </a:lnTo>
                  <a:lnTo>
                    <a:pt x="1305" y="15"/>
                  </a:lnTo>
                  <a:lnTo>
                    <a:pt x="1308" y="15"/>
                  </a:lnTo>
                  <a:lnTo>
                    <a:pt x="1310" y="15"/>
                  </a:lnTo>
                  <a:lnTo>
                    <a:pt x="1313" y="15"/>
                  </a:lnTo>
                  <a:lnTo>
                    <a:pt x="1315" y="15"/>
                  </a:lnTo>
                  <a:lnTo>
                    <a:pt x="1318" y="15"/>
                  </a:lnTo>
                  <a:lnTo>
                    <a:pt x="1320" y="15"/>
                  </a:lnTo>
                  <a:lnTo>
                    <a:pt x="1323" y="16"/>
                  </a:lnTo>
                  <a:lnTo>
                    <a:pt x="1325" y="16"/>
                  </a:lnTo>
                  <a:lnTo>
                    <a:pt x="1328" y="16"/>
                  </a:lnTo>
                  <a:lnTo>
                    <a:pt x="1330" y="16"/>
                  </a:lnTo>
                  <a:lnTo>
                    <a:pt x="1333" y="16"/>
                  </a:lnTo>
                  <a:lnTo>
                    <a:pt x="1335" y="16"/>
                  </a:lnTo>
                  <a:lnTo>
                    <a:pt x="1338" y="16"/>
                  </a:lnTo>
                  <a:lnTo>
                    <a:pt x="1340" y="17"/>
                  </a:lnTo>
                  <a:lnTo>
                    <a:pt x="1343" y="17"/>
                  </a:lnTo>
                  <a:lnTo>
                    <a:pt x="1345" y="17"/>
                  </a:lnTo>
                  <a:lnTo>
                    <a:pt x="1348" y="17"/>
                  </a:lnTo>
                  <a:lnTo>
                    <a:pt x="1350" y="17"/>
                  </a:lnTo>
                  <a:lnTo>
                    <a:pt x="1353" y="17"/>
                  </a:lnTo>
                  <a:lnTo>
                    <a:pt x="1355" y="17"/>
                  </a:lnTo>
                  <a:lnTo>
                    <a:pt x="1358" y="17"/>
                  </a:lnTo>
                  <a:lnTo>
                    <a:pt x="1360" y="17"/>
                  </a:lnTo>
                  <a:lnTo>
                    <a:pt x="1363" y="17"/>
                  </a:lnTo>
                  <a:lnTo>
                    <a:pt x="1365" y="17"/>
                  </a:lnTo>
                  <a:lnTo>
                    <a:pt x="1368" y="17"/>
                  </a:lnTo>
                  <a:lnTo>
                    <a:pt x="1370" y="17"/>
                  </a:lnTo>
                  <a:lnTo>
                    <a:pt x="1373" y="17"/>
                  </a:lnTo>
                  <a:lnTo>
                    <a:pt x="1375" y="17"/>
                  </a:lnTo>
                  <a:lnTo>
                    <a:pt x="1378" y="17"/>
                  </a:lnTo>
                  <a:lnTo>
                    <a:pt x="1380" y="17"/>
                  </a:lnTo>
                  <a:lnTo>
                    <a:pt x="1383" y="17"/>
                  </a:lnTo>
                  <a:lnTo>
                    <a:pt x="1385" y="16"/>
                  </a:lnTo>
                  <a:lnTo>
                    <a:pt x="1388" y="16"/>
                  </a:lnTo>
                  <a:lnTo>
                    <a:pt x="1390" y="16"/>
                  </a:lnTo>
                  <a:lnTo>
                    <a:pt x="1393" y="16"/>
                  </a:lnTo>
                  <a:lnTo>
                    <a:pt x="1395" y="16"/>
                  </a:lnTo>
                  <a:lnTo>
                    <a:pt x="1398" y="16"/>
                  </a:lnTo>
                  <a:lnTo>
                    <a:pt x="1400" y="16"/>
                  </a:lnTo>
                  <a:lnTo>
                    <a:pt x="1403" y="16"/>
                  </a:lnTo>
                  <a:lnTo>
                    <a:pt x="1405" y="16"/>
                  </a:lnTo>
                  <a:lnTo>
                    <a:pt x="1408" y="16"/>
                  </a:lnTo>
                  <a:lnTo>
                    <a:pt x="1410" y="16"/>
                  </a:lnTo>
                  <a:lnTo>
                    <a:pt x="1413" y="16"/>
                  </a:lnTo>
                  <a:lnTo>
                    <a:pt x="1415" y="16"/>
                  </a:lnTo>
                  <a:lnTo>
                    <a:pt x="1418" y="16"/>
                  </a:lnTo>
                  <a:lnTo>
                    <a:pt x="1420" y="16"/>
                  </a:lnTo>
                  <a:lnTo>
                    <a:pt x="1423" y="16"/>
                  </a:lnTo>
                  <a:lnTo>
                    <a:pt x="1425" y="17"/>
                  </a:lnTo>
                  <a:lnTo>
                    <a:pt x="1428" y="17"/>
                  </a:lnTo>
                  <a:lnTo>
                    <a:pt x="1430" y="18"/>
                  </a:lnTo>
                  <a:lnTo>
                    <a:pt x="1433" y="18"/>
                  </a:lnTo>
                  <a:lnTo>
                    <a:pt x="1435" y="19"/>
                  </a:lnTo>
                  <a:lnTo>
                    <a:pt x="1438" y="19"/>
                  </a:lnTo>
                  <a:lnTo>
                    <a:pt x="1440" y="20"/>
                  </a:lnTo>
                  <a:lnTo>
                    <a:pt x="1443" y="21"/>
                  </a:lnTo>
                  <a:lnTo>
                    <a:pt x="1445" y="22"/>
                  </a:lnTo>
                  <a:lnTo>
                    <a:pt x="1448" y="23"/>
                  </a:lnTo>
                  <a:lnTo>
                    <a:pt x="1450" y="24"/>
                  </a:lnTo>
                  <a:lnTo>
                    <a:pt x="1453" y="25"/>
                  </a:lnTo>
                  <a:lnTo>
                    <a:pt x="1455" y="27"/>
                  </a:lnTo>
                  <a:lnTo>
                    <a:pt x="1458" y="28"/>
                  </a:lnTo>
                  <a:lnTo>
                    <a:pt x="1460" y="29"/>
                  </a:lnTo>
                  <a:lnTo>
                    <a:pt x="1463" y="31"/>
                  </a:lnTo>
                  <a:lnTo>
                    <a:pt x="1465" y="32"/>
                  </a:lnTo>
                  <a:lnTo>
                    <a:pt x="1468" y="33"/>
                  </a:lnTo>
                  <a:lnTo>
                    <a:pt x="1470" y="35"/>
                  </a:lnTo>
                  <a:lnTo>
                    <a:pt x="1473" y="36"/>
                  </a:lnTo>
                  <a:lnTo>
                    <a:pt x="1475" y="38"/>
                  </a:lnTo>
                  <a:lnTo>
                    <a:pt x="1478" y="40"/>
                  </a:lnTo>
                  <a:lnTo>
                    <a:pt x="1480" y="41"/>
                  </a:lnTo>
                  <a:lnTo>
                    <a:pt x="1483" y="43"/>
                  </a:lnTo>
                  <a:lnTo>
                    <a:pt x="1485" y="44"/>
                  </a:lnTo>
                  <a:lnTo>
                    <a:pt x="1488" y="46"/>
                  </a:lnTo>
                  <a:lnTo>
                    <a:pt x="1490" y="48"/>
                  </a:lnTo>
                  <a:lnTo>
                    <a:pt x="1493" y="49"/>
                  </a:lnTo>
                  <a:lnTo>
                    <a:pt x="1495" y="51"/>
                  </a:lnTo>
                  <a:lnTo>
                    <a:pt x="1498" y="52"/>
                  </a:lnTo>
                  <a:lnTo>
                    <a:pt x="1500" y="54"/>
                  </a:lnTo>
                  <a:lnTo>
                    <a:pt x="1503" y="56"/>
                  </a:lnTo>
                  <a:lnTo>
                    <a:pt x="1505" y="57"/>
                  </a:lnTo>
                  <a:lnTo>
                    <a:pt x="1508" y="59"/>
                  </a:lnTo>
                  <a:lnTo>
                    <a:pt x="1510" y="60"/>
                  </a:lnTo>
                  <a:lnTo>
                    <a:pt x="1513" y="61"/>
                  </a:lnTo>
                  <a:lnTo>
                    <a:pt x="1515" y="63"/>
                  </a:lnTo>
                  <a:lnTo>
                    <a:pt x="1518" y="64"/>
                  </a:lnTo>
                  <a:lnTo>
                    <a:pt x="1520" y="65"/>
                  </a:lnTo>
                  <a:lnTo>
                    <a:pt x="1523" y="67"/>
                  </a:lnTo>
                  <a:lnTo>
                    <a:pt x="1525" y="68"/>
                  </a:lnTo>
                  <a:lnTo>
                    <a:pt x="1528" y="69"/>
                  </a:lnTo>
                  <a:lnTo>
                    <a:pt x="1530" y="70"/>
                  </a:lnTo>
                  <a:lnTo>
                    <a:pt x="1533" y="71"/>
                  </a:lnTo>
                  <a:lnTo>
                    <a:pt x="1535" y="72"/>
                  </a:lnTo>
                  <a:lnTo>
                    <a:pt x="1538" y="73"/>
                  </a:lnTo>
                  <a:lnTo>
                    <a:pt x="1540" y="74"/>
                  </a:lnTo>
                  <a:lnTo>
                    <a:pt x="1543" y="74"/>
                  </a:lnTo>
                  <a:lnTo>
                    <a:pt x="1545" y="75"/>
                  </a:lnTo>
                  <a:lnTo>
                    <a:pt x="1548" y="76"/>
                  </a:lnTo>
                  <a:lnTo>
                    <a:pt x="1550" y="76"/>
                  </a:lnTo>
                  <a:lnTo>
                    <a:pt x="1553" y="77"/>
                  </a:lnTo>
                  <a:lnTo>
                    <a:pt x="1555" y="77"/>
                  </a:lnTo>
                  <a:lnTo>
                    <a:pt x="1558" y="77"/>
                  </a:lnTo>
                  <a:lnTo>
                    <a:pt x="1560" y="77"/>
                  </a:lnTo>
                  <a:lnTo>
                    <a:pt x="1563" y="77"/>
                  </a:lnTo>
                  <a:lnTo>
                    <a:pt x="1565" y="77"/>
                  </a:lnTo>
                  <a:lnTo>
                    <a:pt x="1568" y="76"/>
                  </a:lnTo>
                  <a:lnTo>
                    <a:pt x="1570" y="76"/>
                  </a:lnTo>
                  <a:lnTo>
                    <a:pt x="1573" y="75"/>
                  </a:lnTo>
                  <a:lnTo>
                    <a:pt x="1575" y="75"/>
                  </a:lnTo>
                  <a:lnTo>
                    <a:pt x="1578" y="74"/>
                  </a:lnTo>
                  <a:lnTo>
                    <a:pt x="1580" y="73"/>
                  </a:lnTo>
                  <a:lnTo>
                    <a:pt x="1583" y="72"/>
                  </a:lnTo>
                  <a:lnTo>
                    <a:pt x="1585" y="71"/>
                  </a:lnTo>
                  <a:lnTo>
                    <a:pt x="1588" y="70"/>
                  </a:lnTo>
                  <a:lnTo>
                    <a:pt x="1590" y="69"/>
                  </a:lnTo>
                  <a:lnTo>
                    <a:pt x="1593" y="68"/>
                  </a:lnTo>
                  <a:lnTo>
                    <a:pt x="1595" y="67"/>
                  </a:lnTo>
                  <a:lnTo>
                    <a:pt x="1598" y="66"/>
                  </a:lnTo>
                  <a:lnTo>
                    <a:pt x="1600" y="64"/>
                  </a:lnTo>
                  <a:lnTo>
                    <a:pt x="1603" y="63"/>
                  </a:lnTo>
                  <a:lnTo>
                    <a:pt x="1605" y="62"/>
                  </a:lnTo>
                  <a:lnTo>
                    <a:pt x="1608" y="61"/>
                  </a:lnTo>
                  <a:lnTo>
                    <a:pt x="1610" y="59"/>
                  </a:lnTo>
                  <a:lnTo>
                    <a:pt x="1613" y="58"/>
                  </a:lnTo>
                  <a:lnTo>
                    <a:pt x="1615" y="57"/>
                  </a:lnTo>
                  <a:lnTo>
                    <a:pt x="1618" y="55"/>
                  </a:lnTo>
                  <a:lnTo>
                    <a:pt x="1620" y="54"/>
                  </a:lnTo>
                  <a:lnTo>
                    <a:pt x="1623" y="53"/>
                  </a:lnTo>
                  <a:lnTo>
                    <a:pt x="1625" y="52"/>
                  </a:lnTo>
                  <a:lnTo>
                    <a:pt x="1628" y="50"/>
                  </a:lnTo>
                  <a:lnTo>
                    <a:pt x="1630" y="49"/>
                  </a:lnTo>
                  <a:lnTo>
                    <a:pt x="1633" y="48"/>
                  </a:lnTo>
                  <a:lnTo>
                    <a:pt x="1635" y="47"/>
                  </a:lnTo>
                  <a:lnTo>
                    <a:pt x="1638" y="46"/>
                  </a:lnTo>
                  <a:lnTo>
                    <a:pt x="1640" y="45"/>
                  </a:lnTo>
                  <a:lnTo>
                    <a:pt x="1643" y="45"/>
                  </a:lnTo>
                  <a:lnTo>
                    <a:pt x="1645" y="44"/>
                  </a:lnTo>
                  <a:lnTo>
                    <a:pt x="1648" y="43"/>
                  </a:lnTo>
                  <a:lnTo>
                    <a:pt x="1650" y="42"/>
                  </a:lnTo>
                  <a:lnTo>
                    <a:pt x="1653" y="41"/>
                  </a:lnTo>
                  <a:lnTo>
                    <a:pt x="1655" y="40"/>
                  </a:lnTo>
                  <a:lnTo>
                    <a:pt x="1658" y="39"/>
                  </a:lnTo>
                  <a:lnTo>
                    <a:pt x="1660" y="38"/>
                  </a:lnTo>
                  <a:lnTo>
                    <a:pt x="1663" y="37"/>
                  </a:lnTo>
                  <a:lnTo>
                    <a:pt x="1665" y="36"/>
                  </a:lnTo>
                  <a:lnTo>
                    <a:pt x="1668" y="35"/>
                  </a:lnTo>
                  <a:lnTo>
                    <a:pt x="1670" y="34"/>
                  </a:lnTo>
                  <a:lnTo>
                    <a:pt x="1673" y="33"/>
                  </a:lnTo>
                  <a:lnTo>
                    <a:pt x="1675" y="32"/>
                  </a:lnTo>
                  <a:lnTo>
                    <a:pt x="1678" y="31"/>
                  </a:lnTo>
                  <a:lnTo>
                    <a:pt x="1680" y="29"/>
                  </a:lnTo>
                  <a:lnTo>
                    <a:pt x="1683" y="28"/>
                  </a:lnTo>
                  <a:lnTo>
                    <a:pt x="1685" y="27"/>
                  </a:lnTo>
                  <a:lnTo>
                    <a:pt x="1688" y="26"/>
                  </a:lnTo>
                  <a:lnTo>
                    <a:pt x="1690" y="24"/>
                  </a:lnTo>
                  <a:lnTo>
                    <a:pt x="1693" y="23"/>
                  </a:lnTo>
                  <a:lnTo>
                    <a:pt x="1695" y="21"/>
                  </a:lnTo>
                  <a:lnTo>
                    <a:pt x="1698" y="20"/>
                  </a:lnTo>
                  <a:lnTo>
                    <a:pt x="1700" y="18"/>
                  </a:lnTo>
                  <a:lnTo>
                    <a:pt x="1702" y="16"/>
                  </a:lnTo>
                  <a:lnTo>
                    <a:pt x="1705" y="15"/>
                  </a:lnTo>
                  <a:lnTo>
                    <a:pt x="1708" y="13"/>
                  </a:lnTo>
                  <a:lnTo>
                    <a:pt x="1710" y="12"/>
                  </a:lnTo>
                  <a:lnTo>
                    <a:pt x="1713" y="10"/>
                  </a:lnTo>
                  <a:lnTo>
                    <a:pt x="1715" y="9"/>
                  </a:lnTo>
                  <a:lnTo>
                    <a:pt x="1718" y="8"/>
                  </a:lnTo>
                  <a:lnTo>
                    <a:pt x="1720" y="7"/>
                  </a:lnTo>
                  <a:lnTo>
                    <a:pt x="1723" y="5"/>
                  </a:lnTo>
                  <a:lnTo>
                    <a:pt x="1725" y="4"/>
                  </a:lnTo>
                  <a:lnTo>
                    <a:pt x="1728" y="3"/>
                  </a:lnTo>
                  <a:lnTo>
                    <a:pt x="1730" y="2"/>
                  </a:lnTo>
                  <a:lnTo>
                    <a:pt x="1733" y="2"/>
                  </a:lnTo>
                  <a:lnTo>
                    <a:pt x="1735" y="1"/>
                  </a:lnTo>
                  <a:lnTo>
                    <a:pt x="1738" y="1"/>
                  </a:lnTo>
                  <a:lnTo>
                    <a:pt x="1740" y="0"/>
                  </a:lnTo>
                  <a:lnTo>
                    <a:pt x="1742" y="0"/>
                  </a:lnTo>
                  <a:lnTo>
                    <a:pt x="1745" y="0"/>
                  </a:lnTo>
                  <a:lnTo>
                    <a:pt x="1748" y="0"/>
                  </a:lnTo>
                  <a:lnTo>
                    <a:pt x="1750" y="0"/>
                  </a:lnTo>
                  <a:lnTo>
                    <a:pt x="1753" y="1"/>
                  </a:lnTo>
                  <a:lnTo>
                    <a:pt x="1755" y="3"/>
                  </a:lnTo>
                  <a:lnTo>
                    <a:pt x="1758" y="4"/>
                  </a:lnTo>
                  <a:lnTo>
                    <a:pt x="1760" y="5"/>
                  </a:lnTo>
                  <a:lnTo>
                    <a:pt x="1763" y="7"/>
                  </a:lnTo>
                  <a:lnTo>
                    <a:pt x="1765" y="9"/>
                  </a:lnTo>
                  <a:lnTo>
                    <a:pt x="1768" y="11"/>
                  </a:lnTo>
                  <a:lnTo>
                    <a:pt x="1770" y="13"/>
                  </a:lnTo>
                  <a:lnTo>
                    <a:pt x="1773" y="15"/>
                  </a:lnTo>
                  <a:lnTo>
                    <a:pt x="1775" y="17"/>
                  </a:lnTo>
                  <a:lnTo>
                    <a:pt x="1778" y="19"/>
                  </a:lnTo>
                  <a:lnTo>
                    <a:pt x="1780" y="22"/>
                  </a:lnTo>
                  <a:lnTo>
                    <a:pt x="1782" y="24"/>
                  </a:lnTo>
                  <a:lnTo>
                    <a:pt x="1785" y="27"/>
                  </a:lnTo>
                  <a:lnTo>
                    <a:pt x="1788" y="30"/>
                  </a:lnTo>
                  <a:lnTo>
                    <a:pt x="1790" y="32"/>
                  </a:lnTo>
                  <a:lnTo>
                    <a:pt x="1793" y="35"/>
                  </a:lnTo>
                  <a:lnTo>
                    <a:pt x="1795" y="38"/>
                  </a:lnTo>
                  <a:lnTo>
                    <a:pt x="1798" y="40"/>
                  </a:lnTo>
                  <a:lnTo>
                    <a:pt x="1800" y="43"/>
                  </a:lnTo>
                  <a:lnTo>
                    <a:pt x="1803" y="46"/>
                  </a:lnTo>
                  <a:lnTo>
                    <a:pt x="1805" y="48"/>
                  </a:lnTo>
                  <a:lnTo>
                    <a:pt x="1808" y="51"/>
                  </a:lnTo>
                  <a:lnTo>
                    <a:pt x="1810" y="54"/>
                  </a:lnTo>
                  <a:lnTo>
                    <a:pt x="1813" y="56"/>
                  </a:lnTo>
                  <a:lnTo>
                    <a:pt x="1815" y="58"/>
                  </a:lnTo>
                  <a:lnTo>
                    <a:pt x="1818" y="61"/>
                  </a:lnTo>
                  <a:lnTo>
                    <a:pt x="1820" y="63"/>
                  </a:lnTo>
                  <a:lnTo>
                    <a:pt x="1822" y="65"/>
                  </a:lnTo>
                  <a:lnTo>
                    <a:pt x="1825" y="67"/>
                  </a:lnTo>
                  <a:lnTo>
                    <a:pt x="1827" y="69"/>
                  </a:lnTo>
                  <a:lnTo>
                    <a:pt x="1830" y="71"/>
                  </a:lnTo>
                  <a:lnTo>
                    <a:pt x="1833" y="73"/>
                  </a:lnTo>
                  <a:lnTo>
                    <a:pt x="1835" y="75"/>
                  </a:lnTo>
                  <a:lnTo>
                    <a:pt x="1838" y="77"/>
                  </a:lnTo>
                  <a:lnTo>
                    <a:pt x="1840" y="79"/>
                  </a:lnTo>
                  <a:lnTo>
                    <a:pt x="1843" y="81"/>
                  </a:lnTo>
                  <a:lnTo>
                    <a:pt x="1845" y="83"/>
                  </a:lnTo>
                  <a:lnTo>
                    <a:pt x="1848" y="85"/>
                  </a:lnTo>
                  <a:lnTo>
                    <a:pt x="1850" y="86"/>
                  </a:lnTo>
                  <a:lnTo>
                    <a:pt x="1853" y="88"/>
                  </a:lnTo>
                  <a:lnTo>
                    <a:pt x="1855" y="90"/>
                  </a:lnTo>
                  <a:lnTo>
                    <a:pt x="1858" y="92"/>
                  </a:lnTo>
                  <a:lnTo>
                    <a:pt x="1860" y="93"/>
                  </a:lnTo>
                  <a:lnTo>
                    <a:pt x="1862" y="95"/>
                  </a:lnTo>
                  <a:lnTo>
                    <a:pt x="1865" y="97"/>
                  </a:lnTo>
                  <a:lnTo>
                    <a:pt x="1867" y="99"/>
                  </a:lnTo>
                  <a:lnTo>
                    <a:pt x="1870" y="100"/>
                  </a:lnTo>
                  <a:lnTo>
                    <a:pt x="1873" y="102"/>
                  </a:lnTo>
                  <a:lnTo>
                    <a:pt x="1875" y="104"/>
                  </a:lnTo>
                  <a:lnTo>
                    <a:pt x="1878" y="106"/>
                  </a:lnTo>
                  <a:lnTo>
                    <a:pt x="1880" y="108"/>
                  </a:lnTo>
                  <a:lnTo>
                    <a:pt x="1883" y="110"/>
                  </a:lnTo>
                  <a:lnTo>
                    <a:pt x="1885" y="112"/>
                  </a:lnTo>
                  <a:lnTo>
                    <a:pt x="1888" y="114"/>
                  </a:lnTo>
                  <a:lnTo>
                    <a:pt x="1890" y="116"/>
                  </a:lnTo>
                  <a:lnTo>
                    <a:pt x="1893" y="118"/>
                  </a:lnTo>
                  <a:lnTo>
                    <a:pt x="1895" y="120"/>
                  </a:lnTo>
                  <a:lnTo>
                    <a:pt x="1898" y="122"/>
                  </a:lnTo>
                  <a:lnTo>
                    <a:pt x="1900" y="124"/>
                  </a:lnTo>
                  <a:lnTo>
                    <a:pt x="1902" y="126"/>
                  </a:lnTo>
                  <a:lnTo>
                    <a:pt x="1905" y="128"/>
                  </a:lnTo>
                  <a:lnTo>
                    <a:pt x="1907" y="130"/>
                  </a:lnTo>
                  <a:lnTo>
                    <a:pt x="1910" y="132"/>
                  </a:lnTo>
                  <a:lnTo>
                    <a:pt x="1913" y="133"/>
                  </a:lnTo>
                  <a:lnTo>
                    <a:pt x="1915" y="135"/>
                  </a:lnTo>
                  <a:lnTo>
                    <a:pt x="1918" y="137"/>
                  </a:lnTo>
                  <a:lnTo>
                    <a:pt x="1920" y="138"/>
                  </a:lnTo>
                  <a:lnTo>
                    <a:pt x="1923" y="140"/>
                  </a:lnTo>
                  <a:lnTo>
                    <a:pt x="1925" y="141"/>
                  </a:lnTo>
                  <a:lnTo>
                    <a:pt x="1928" y="143"/>
                  </a:lnTo>
                  <a:lnTo>
                    <a:pt x="1930" y="144"/>
                  </a:lnTo>
                  <a:lnTo>
                    <a:pt x="1933" y="145"/>
                  </a:lnTo>
                  <a:lnTo>
                    <a:pt x="1935" y="146"/>
                  </a:lnTo>
                  <a:lnTo>
                    <a:pt x="1938" y="147"/>
                  </a:lnTo>
                  <a:lnTo>
                    <a:pt x="1940" y="148"/>
                  </a:lnTo>
                  <a:lnTo>
                    <a:pt x="1943" y="149"/>
                  </a:lnTo>
                  <a:lnTo>
                    <a:pt x="1945" y="150"/>
                  </a:lnTo>
                  <a:lnTo>
                    <a:pt x="1948" y="150"/>
                  </a:lnTo>
                  <a:lnTo>
                    <a:pt x="1950" y="151"/>
                  </a:lnTo>
                  <a:lnTo>
                    <a:pt x="1953" y="151"/>
                  </a:lnTo>
                  <a:lnTo>
                    <a:pt x="1955" y="151"/>
                  </a:lnTo>
                  <a:lnTo>
                    <a:pt x="1958" y="152"/>
                  </a:lnTo>
                  <a:lnTo>
                    <a:pt x="1960" y="152"/>
                  </a:lnTo>
                  <a:lnTo>
                    <a:pt x="1963" y="152"/>
                  </a:lnTo>
                  <a:lnTo>
                    <a:pt x="1965" y="152"/>
                  </a:lnTo>
                  <a:lnTo>
                    <a:pt x="1968" y="153"/>
                  </a:lnTo>
                  <a:lnTo>
                    <a:pt x="1970" y="153"/>
                  </a:lnTo>
                  <a:lnTo>
                    <a:pt x="1973" y="153"/>
                  </a:lnTo>
                  <a:lnTo>
                    <a:pt x="1975" y="153"/>
                  </a:lnTo>
                  <a:lnTo>
                    <a:pt x="1978" y="153"/>
                  </a:lnTo>
                  <a:lnTo>
                    <a:pt x="1980" y="154"/>
                  </a:lnTo>
                  <a:lnTo>
                    <a:pt x="1983" y="154"/>
                  </a:lnTo>
                  <a:lnTo>
                    <a:pt x="1985" y="154"/>
                  </a:lnTo>
                  <a:lnTo>
                    <a:pt x="1988" y="155"/>
                  </a:lnTo>
                  <a:lnTo>
                    <a:pt x="1990" y="155"/>
                  </a:lnTo>
                  <a:lnTo>
                    <a:pt x="1993" y="156"/>
                  </a:lnTo>
                  <a:lnTo>
                    <a:pt x="1995" y="156"/>
                  </a:lnTo>
                  <a:lnTo>
                    <a:pt x="1998" y="157"/>
                  </a:lnTo>
                  <a:lnTo>
                    <a:pt x="2000" y="157"/>
                  </a:lnTo>
                  <a:lnTo>
                    <a:pt x="2003" y="158"/>
                  </a:lnTo>
                  <a:lnTo>
                    <a:pt x="2005" y="159"/>
                  </a:lnTo>
                  <a:lnTo>
                    <a:pt x="2008" y="160"/>
                  </a:lnTo>
                  <a:lnTo>
                    <a:pt x="2010" y="161"/>
                  </a:lnTo>
                  <a:lnTo>
                    <a:pt x="2013" y="163"/>
                  </a:lnTo>
                  <a:lnTo>
                    <a:pt x="2015" y="164"/>
                  </a:lnTo>
                  <a:lnTo>
                    <a:pt x="2018" y="165"/>
                  </a:lnTo>
                  <a:lnTo>
                    <a:pt x="2020" y="166"/>
                  </a:lnTo>
                  <a:lnTo>
                    <a:pt x="2023" y="168"/>
                  </a:lnTo>
                  <a:lnTo>
                    <a:pt x="2025" y="169"/>
                  </a:lnTo>
                  <a:lnTo>
                    <a:pt x="2028" y="171"/>
                  </a:lnTo>
                  <a:lnTo>
                    <a:pt x="2030" y="172"/>
                  </a:lnTo>
                  <a:lnTo>
                    <a:pt x="2033" y="174"/>
                  </a:lnTo>
                  <a:lnTo>
                    <a:pt x="2035" y="176"/>
                  </a:lnTo>
                  <a:lnTo>
                    <a:pt x="2038" y="177"/>
                  </a:lnTo>
                  <a:lnTo>
                    <a:pt x="2040" y="179"/>
                  </a:lnTo>
                  <a:lnTo>
                    <a:pt x="2043" y="180"/>
                  </a:lnTo>
                  <a:lnTo>
                    <a:pt x="2045" y="182"/>
                  </a:lnTo>
                  <a:lnTo>
                    <a:pt x="2048" y="184"/>
                  </a:lnTo>
                  <a:lnTo>
                    <a:pt x="2050" y="185"/>
                  </a:lnTo>
                  <a:lnTo>
                    <a:pt x="2053" y="187"/>
                  </a:lnTo>
                  <a:lnTo>
                    <a:pt x="2055" y="189"/>
                  </a:lnTo>
                  <a:lnTo>
                    <a:pt x="2058" y="190"/>
                  </a:lnTo>
                  <a:lnTo>
                    <a:pt x="2060" y="192"/>
                  </a:lnTo>
                  <a:lnTo>
                    <a:pt x="2063" y="194"/>
                  </a:lnTo>
                  <a:lnTo>
                    <a:pt x="2065" y="195"/>
                  </a:lnTo>
                  <a:lnTo>
                    <a:pt x="2068" y="196"/>
                  </a:lnTo>
                  <a:lnTo>
                    <a:pt x="2070" y="198"/>
                  </a:lnTo>
                  <a:lnTo>
                    <a:pt x="2073" y="199"/>
                  </a:lnTo>
                  <a:lnTo>
                    <a:pt x="2075" y="201"/>
                  </a:lnTo>
                  <a:lnTo>
                    <a:pt x="2078" y="202"/>
                  </a:lnTo>
                  <a:lnTo>
                    <a:pt x="2080" y="203"/>
                  </a:lnTo>
                  <a:lnTo>
                    <a:pt x="2083" y="204"/>
                  </a:lnTo>
                  <a:lnTo>
                    <a:pt x="2085" y="206"/>
                  </a:lnTo>
                  <a:lnTo>
                    <a:pt x="2088" y="207"/>
                  </a:lnTo>
                  <a:lnTo>
                    <a:pt x="2090" y="208"/>
                  </a:lnTo>
                  <a:lnTo>
                    <a:pt x="2093" y="209"/>
                  </a:lnTo>
                  <a:lnTo>
                    <a:pt x="2095" y="210"/>
                  </a:lnTo>
                  <a:lnTo>
                    <a:pt x="2098" y="211"/>
                  </a:lnTo>
                  <a:lnTo>
                    <a:pt x="2100" y="213"/>
                  </a:lnTo>
                  <a:lnTo>
                    <a:pt x="2103" y="214"/>
                  </a:lnTo>
                  <a:lnTo>
                    <a:pt x="2105" y="215"/>
                  </a:lnTo>
                  <a:lnTo>
                    <a:pt x="2108" y="216"/>
                  </a:lnTo>
                  <a:lnTo>
                    <a:pt x="2110" y="217"/>
                  </a:lnTo>
                  <a:lnTo>
                    <a:pt x="2113" y="218"/>
                  </a:lnTo>
                  <a:lnTo>
                    <a:pt x="2115" y="219"/>
                  </a:lnTo>
                  <a:lnTo>
                    <a:pt x="2118" y="220"/>
                  </a:lnTo>
                  <a:lnTo>
                    <a:pt x="2120" y="221"/>
                  </a:lnTo>
                  <a:lnTo>
                    <a:pt x="2123" y="222"/>
                  </a:lnTo>
                  <a:lnTo>
                    <a:pt x="2125" y="223"/>
                  </a:lnTo>
                  <a:lnTo>
                    <a:pt x="2128" y="224"/>
                  </a:lnTo>
                  <a:lnTo>
                    <a:pt x="2130" y="225"/>
                  </a:lnTo>
                  <a:lnTo>
                    <a:pt x="2133" y="226"/>
                  </a:lnTo>
                  <a:lnTo>
                    <a:pt x="2135" y="227"/>
                  </a:lnTo>
                  <a:lnTo>
                    <a:pt x="2138" y="228"/>
                  </a:lnTo>
                  <a:lnTo>
                    <a:pt x="2140" y="229"/>
                  </a:lnTo>
                  <a:lnTo>
                    <a:pt x="2143" y="229"/>
                  </a:lnTo>
                  <a:lnTo>
                    <a:pt x="2145" y="230"/>
                  </a:lnTo>
                  <a:lnTo>
                    <a:pt x="2148" y="231"/>
                  </a:lnTo>
                  <a:lnTo>
                    <a:pt x="2150" y="232"/>
                  </a:lnTo>
                  <a:lnTo>
                    <a:pt x="2153" y="233"/>
                  </a:lnTo>
                  <a:lnTo>
                    <a:pt x="2155" y="234"/>
                  </a:lnTo>
                  <a:lnTo>
                    <a:pt x="2158" y="235"/>
                  </a:lnTo>
                  <a:lnTo>
                    <a:pt x="2160" y="236"/>
                  </a:lnTo>
                  <a:lnTo>
                    <a:pt x="2163" y="236"/>
                  </a:lnTo>
                  <a:lnTo>
                    <a:pt x="2165" y="237"/>
                  </a:lnTo>
                  <a:lnTo>
                    <a:pt x="2168" y="238"/>
                  </a:lnTo>
                  <a:lnTo>
                    <a:pt x="2170" y="239"/>
                  </a:lnTo>
                  <a:lnTo>
                    <a:pt x="2173" y="240"/>
                  </a:lnTo>
                  <a:lnTo>
                    <a:pt x="2175" y="240"/>
                  </a:lnTo>
                  <a:lnTo>
                    <a:pt x="2178" y="241"/>
                  </a:lnTo>
                  <a:lnTo>
                    <a:pt x="2180" y="242"/>
                  </a:lnTo>
                  <a:lnTo>
                    <a:pt x="2183" y="243"/>
                  </a:lnTo>
                  <a:lnTo>
                    <a:pt x="2185" y="244"/>
                  </a:lnTo>
                  <a:lnTo>
                    <a:pt x="2188" y="244"/>
                  </a:lnTo>
                  <a:lnTo>
                    <a:pt x="2190" y="245"/>
                  </a:lnTo>
                  <a:lnTo>
                    <a:pt x="2193" y="246"/>
                  </a:lnTo>
                  <a:lnTo>
                    <a:pt x="2195" y="246"/>
                  </a:lnTo>
                  <a:lnTo>
                    <a:pt x="2198" y="247"/>
                  </a:lnTo>
                  <a:lnTo>
                    <a:pt x="2200" y="247"/>
                  </a:lnTo>
                  <a:lnTo>
                    <a:pt x="2203" y="248"/>
                  </a:lnTo>
                  <a:lnTo>
                    <a:pt x="2205" y="249"/>
                  </a:lnTo>
                  <a:lnTo>
                    <a:pt x="2208" y="249"/>
                  </a:lnTo>
                  <a:lnTo>
                    <a:pt x="2210" y="250"/>
                  </a:lnTo>
                  <a:lnTo>
                    <a:pt x="2213" y="251"/>
                  </a:lnTo>
                  <a:lnTo>
                    <a:pt x="2215" y="251"/>
                  </a:lnTo>
                  <a:lnTo>
                    <a:pt x="2218" y="252"/>
                  </a:lnTo>
                  <a:lnTo>
                    <a:pt x="2220" y="252"/>
                  </a:lnTo>
                  <a:lnTo>
                    <a:pt x="2223" y="253"/>
                  </a:lnTo>
                  <a:lnTo>
                    <a:pt x="2225" y="253"/>
                  </a:lnTo>
                  <a:lnTo>
                    <a:pt x="2228" y="254"/>
                  </a:lnTo>
                  <a:lnTo>
                    <a:pt x="2230" y="254"/>
                  </a:lnTo>
                  <a:lnTo>
                    <a:pt x="2233" y="255"/>
                  </a:lnTo>
                  <a:lnTo>
                    <a:pt x="2235" y="255"/>
                  </a:lnTo>
                  <a:lnTo>
                    <a:pt x="2238" y="256"/>
                  </a:lnTo>
                  <a:lnTo>
                    <a:pt x="2240" y="256"/>
                  </a:lnTo>
                  <a:lnTo>
                    <a:pt x="2243" y="257"/>
                  </a:lnTo>
                  <a:lnTo>
                    <a:pt x="2245" y="257"/>
                  </a:lnTo>
                  <a:lnTo>
                    <a:pt x="2248" y="258"/>
                  </a:lnTo>
                  <a:lnTo>
                    <a:pt x="2250" y="258"/>
                  </a:lnTo>
                  <a:lnTo>
                    <a:pt x="2253" y="259"/>
                  </a:lnTo>
                  <a:lnTo>
                    <a:pt x="2255" y="259"/>
                  </a:lnTo>
                  <a:lnTo>
                    <a:pt x="2258" y="259"/>
                  </a:lnTo>
                  <a:lnTo>
                    <a:pt x="2260" y="260"/>
                  </a:lnTo>
                  <a:lnTo>
                    <a:pt x="2263" y="260"/>
                  </a:lnTo>
                  <a:lnTo>
                    <a:pt x="2265" y="260"/>
                  </a:lnTo>
                  <a:lnTo>
                    <a:pt x="2268" y="261"/>
                  </a:lnTo>
                  <a:lnTo>
                    <a:pt x="2270" y="261"/>
                  </a:lnTo>
                  <a:lnTo>
                    <a:pt x="2273" y="261"/>
                  </a:lnTo>
                  <a:lnTo>
                    <a:pt x="2275" y="262"/>
                  </a:lnTo>
                  <a:lnTo>
                    <a:pt x="2278" y="262"/>
                  </a:lnTo>
                  <a:lnTo>
                    <a:pt x="2280" y="262"/>
                  </a:lnTo>
                  <a:lnTo>
                    <a:pt x="2283" y="263"/>
                  </a:lnTo>
                  <a:lnTo>
                    <a:pt x="2285" y="263"/>
                  </a:lnTo>
                  <a:lnTo>
                    <a:pt x="2288" y="263"/>
                  </a:lnTo>
                  <a:lnTo>
                    <a:pt x="2290" y="263"/>
                  </a:lnTo>
                  <a:lnTo>
                    <a:pt x="2293" y="264"/>
                  </a:lnTo>
                  <a:lnTo>
                    <a:pt x="2295" y="264"/>
                  </a:lnTo>
                  <a:lnTo>
                    <a:pt x="2298" y="264"/>
                  </a:lnTo>
                  <a:lnTo>
                    <a:pt x="2300" y="264"/>
                  </a:lnTo>
                  <a:lnTo>
                    <a:pt x="2303" y="265"/>
                  </a:lnTo>
                  <a:lnTo>
                    <a:pt x="2305" y="265"/>
                  </a:lnTo>
                  <a:lnTo>
                    <a:pt x="2308" y="265"/>
                  </a:lnTo>
                  <a:lnTo>
                    <a:pt x="2310" y="265"/>
                  </a:lnTo>
                  <a:lnTo>
                    <a:pt x="2313" y="265"/>
                  </a:lnTo>
                  <a:lnTo>
                    <a:pt x="2315" y="265"/>
                  </a:lnTo>
                  <a:lnTo>
                    <a:pt x="2318" y="265"/>
                  </a:lnTo>
                  <a:lnTo>
                    <a:pt x="2320" y="266"/>
                  </a:lnTo>
                  <a:lnTo>
                    <a:pt x="2322" y="266"/>
                  </a:lnTo>
                  <a:lnTo>
                    <a:pt x="2325" y="266"/>
                  </a:lnTo>
                  <a:lnTo>
                    <a:pt x="2328" y="266"/>
                  </a:lnTo>
                  <a:lnTo>
                    <a:pt x="2330" y="266"/>
                  </a:lnTo>
                  <a:lnTo>
                    <a:pt x="2333" y="266"/>
                  </a:lnTo>
                  <a:lnTo>
                    <a:pt x="2335" y="266"/>
                  </a:lnTo>
                  <a:lnTo>
                    <a:pt x="2338" y="266"/>
                  </a:lnTo>
                  <a:lnTo>
                    <a:pt x="2340" y="266"/>
                  </a:lnTo>
                  <a:lnTo>
                    <a:pt x="2342" y="266"/>
                  </a:lnTo>
                  <a:lnTo>
                    <a:pt x="2345" y="266"/>
                  </a:lnTo>
                  <a:lnTo>
                    <a:pt x="2348" y="266"/>
                  </a:lnTo>
                  <a:lnTo>
                    <a:pt x="2350" y="266"/>
                  </a:lnTo>
                  <a:lnTo>
                    <a:pt x="2353" y="266"/>
                  </a:lnTo>
                  <a:lnTo>
                    <a:pt x="2355" y="266"/>
                  </a:lnTo>
                  <a:lnTo>
                    <a:pt x="2358" y="266"/>
                  </a:lnTo>
                  <a:lnTo>
                    <a:pt x="2360" y="266"/>
                  </a:lnTo>
                  <a:lnTo>
                    <a:pt x="2362" y="266"/>
                  </a:lnTo>
                  <a:lnTo>
                    <a:pt x="2365" y="266"/>
                  </a:lnTo>
                  <a:lnTo>
                    <a:pt x="2368" y="266"/>
                  </a:lnTo>
                  <a:lnTo>
                    <a:pt x="2370" y="266"/>
                  </a:lnTo>
                  <a:lnTo>
                    <a:pt x="2373" y="265"/>
                  </a:lnTo>
                  <a:lnTo>
                    <a:pt x="2375" y="265"/>
                  </a:lnTo>
                  <a:lnTo>
                    <a:pt x="2378" y="265"/>
                  </a:lnTo>
                  <a:lnTo>
                    <a:pt x="2380" y="265"/>
                  </a:lnTo>
                  <a:lnTo>
                    <a:pt x="2382" y="265"/>
                  </a:lnTo>
                  <a:lnTo>
                    <a:pt x="2385" y="265"/>
                  </a:lnTo>
                  <a:lnTo>
                    <a:pt x="2388" y="265"/>
                  </a:lnTo>
                  <a:lnTo>
                    <a:pt x="2390" y="265"/>
                  </a:lnTo>
                  <a:lnTo>
                    <a:pt x="2393" y="265"/>
                  </a:lnTo>
                  <a:lnTo>
                    <a:pt x="2395" y="265"/>
                  </a:lnTo>
                  <a:lnTo>
                    <a:pt x="2398" y="265"/>
                  </a:lnTo>
                  <a:lnTo>
                    <a:pt x="2400" y="265"/>
                  </a:lnTo>
                  <a:lnTo>
                    <a:pt x="2402" y="265"/>
                  </a:lnTo>
                  <a:lnTo>
                    <a:pt x="2405" y="265"/>
                  </a:lnTo>
                  <a:lnTo>
                    <a:pt x="2408" y="264"/>
                  </a:lnTo>
                  <a:lnTo>
                    <a:pt x="2410" y="264"/>
                  </a:lnTo>
                  <a:lnTo>
                    <a:pt x="2413" y="264"/>
                  </a:lnTo>
                  <a:lnTo>
                    <a:pt x="2415" y="264"/>
                  </a:lnTo>
                  <a:lnTo>
                    <a:pt x="2418" y="263"/>
                  </a:lnTo>
                  <a:lnTo>
                    <a:pt x="2420" y="263"/>
                  </a:lnTo>
                  <a:lnTo>
                    <a:pt x="2422" y="263"/>
                  </a:lnTo>
                  <a:lnTo>
                    <a:pt x="2425" y="262"/>
                  </a:lnTo>
                  <a:lnTo>
                    <a:pt x="2428" y="262"/>
                  </a:lnTo>
                  <a:lnTo>
                    <a:pt x="2430" y="261"/>
                  </a:lnTo>
                  <a:lnTo>
                    <a:pt x="2433" y="261"/>
                  </a:lnTo>
                  <a:lnTo>
                    <a:pt x="2435" y="260"/>
                  </a:lnTo>
                  <a:lnTo>
                    <a:pt x="2438" y="260"/>
                  </a:lnTo>
                  <a:lnTo>
                    <a:pt x="2440" y="259"/>
                  </a:lnTo>
                  <a:lnTo>
                    <a:pt x="2442" y="259"/>
                  </a:lnTo>
                  <a:lnTo>
                    <a:pt x="2445" y="258"/>
                  </a:lnTo>
                  <a:lnTo>
                    <a:pt x="2447" y="257"/>
                  </a:lnTo>
                  <a:lnTo>
                    <a:pt x="2450" y="256"/>
                  </a:lnTo>
                  <a:lnTo>
                    <a:pt x="2453" y="256"/>
                  </a:lnTo>
                  <a:lnTo>
                    <a:pt x="2455" y="255"/>
                  </a:lnTo>
                  <a:lnTo>
                    <a:pt x="2458" y="254"/>
                  </a:lnTo>
                  <a:lnTo>
                    <a:pt x="2460" y="254"/>
                  </a:lnTo>
                  <a:lnTo>
                    <a:pt x="2462" y="253"/>
                  </a:lnTo>
                  <a:lnTo>
                    <a:pt x="2465" y="253"/>
                  </a:lnTo>
                  <a:lnTo>
                    <a:pt x="2467" y="252"/>
                  </a:lnTo>
                  <a:lnTo>
                    <a:pt x="2470" y="252"/>
                  </a:lnTo>
                  <a:lnTo>
                    <a:pt x="2473" y="252"/>
                  </a:lnTo>
                  <a:lnTo>
                    <a:pt x="2475" y="252"/>
                  </a:lnTo>
                  <a:lnTo>
                    <a:pt x="2478" y="252"/>
                  </a:lnTo>
                  <a:lnTo>
                    <a:pt x="2480" y="252"/>
                  </a:lnTo>
                  <a:lnTo>
                    <a:pt x="2482" y="252"/>
                  </a:lnTo>
                  <a:lnTo>
                    <a:pt x="2485" y="252"/>
                  </a:lnTo>
                  <a:lnTo>
                    <a:pt x="2487" y="253"/>
                  </a:lnTo>
                  <a:lnTo>
                    <a:pt x="2490" y="254"/>
                  </a:lnTo>
                  <a:lnTo>
                    <a:pt x="2493" y="254"/>
                  </a:lnTo>
                  <a:lnTo>
                    <a:pt x="2495" y="256"/>
                  </a:lnTo>
                  <a:lnTo>
                    <a:pt x="2498" y="257"/>
                  </a:lnTo>
                  <a:lnTo>
                    <a:pt x="2500" y="258"/>
                  </a:lnTo>
                  <a:lnTo>
                    <a:pt x="2502" y="260"/>
                  </a:lnTo>
                  <a:lnTo>
                    <a:pt x="2505" y="262"/>
                  </a:lnTo>
                  <a:lnTo>
                    <a:pt x="2507" y="265"/>
                  </a:lnTo>
                  <a:lnTo>
                    <a:pt x="2510" y="267"/>
                  </a:lnTo>
                  <a:lnTo>
                    <a:pt x="2513" y="270"/>
                  </a:lnTo>
                  <a:lnTo>
                    <a:pt x="2515" y="273"/>
                  </a:lnTo>
                  <a:lnTo>
                    <a:pt x="2518" y="276"/>
                  </a:lnTo>
                  <a:lnTo>
                    <a:pt x="2520" y="279"/>
                  </a:lnTo>
                  <a:lnTo>
                    <a:pt x="2522" y="282"/>
                  </a:lnTo>
                  <a:lnTo>
                    <a:pt x="2525" y="286"/>
                  </a:lnTo>
                  <a:lnTo>
                    <a:pt x="2527" y="289"/>
                  </a:lnTo>
                  <a:lnTo>
                    <a:pt x="2530" y="292"/>
                  </a:lnTo>
                  <a:lnTo>
                    <a:pt x="2533" y="296"/>
                  </a:lnTo>
                  <a:lnTo>
                    <a:pt x="2535" y="300"/>
                  </a:lnTo>
                  <a:lnTo>
                    <a:pt x="2538" y="303"/>
                  </a:lnTo>
                  <a:lnTo>
                    <a:pt x="2540" y="307"/>
                  </a:lnTo>
                  <a:lnTo>
                    <a:pt x="2542" y="311"/>
                  </a:lnTo>
                  <a:lnTo>
                    <a:pt x="2545" y="314"/>
                  </a:lnTo>
                  <a:lnTo>
                    <a:pt x="2547" y="318"/>
                  </a:lnTo>
                  <a:lnTo>
                    <a:pt x="2550" y="321"/>
                  </a:lnTo>
                  <a:lnTo>
                    <a:pt x="2553" y="325"/>
                  </a:lnTo>
                  <a:lnTo>
                    <a:pt x="2555" y="329"/>
                  </a:lnTo>
                  <a:lnTo>
                    <a:pt x="2558" y="332"/>
                  </a:lnTo>
                  <a:lnTo>
                    <a:pt x="2560" y="335"/>
                  </a:lnTo>
                  <a:lnTo>
                    <a:pt x="2563" y="339"/>
                  </a:lnTo>
                  <a:lnTo>
                    <a:pt x="2565" y="341"/>
                  </a:lnTo>
                  <a:lnTo>
                    <a:pt x="2568" y="344"/>
                  </a:lnTo>
                  <a:lnTo>
                    <a:pt x="2570" y="346"/>
                  </a:lnTo>
                  <a:lnTo>
                    <a:pt x="2573" y="348"/>
                  </a:lnTo>
                  <a:lnTo>
                    <a:pt x="2575" y="350"/>
                  </a:lnTo>
                  <a:lnTo>
                    <a:pt x="2578" y="352"/>
                  </a:lnTo>
                  <a:lnTo>
                    <a:pt x="2580" y="354"/>
                  </a:lnTo>
                  <a:lnTo>
                    <a:pt x="2583" y="356"/>
                  </a:lnTo>
                  <a:lnTo>
                    <a:pt x="2585" y="358"/>
                  </a:lnTo>
                  <a:lnTo>
                    <a:pt x="2588" y="360"/>
                  </a:lnTo>
                  <a:lnTo>
                    <a:pt x="2590" y="362"/>
                  </a:lnTo>
                  <a:lnTo>
                    <a:pt x="2593" y="363"/>
                  </a:lnTo>
                  <a:lnTo>
                    <a:pt x="2595" y="365"/>
                  </a:lnTo>
                  <a:lnTo>
                    <a:pt x="2598" y="367"/>
                  </a:lnTo>
                  <a:lnTo>
                    <a:pt x="2600" y="368"/>
                  </a:lnTo>
                  <a:lnTo>
                    <a:pt x="2603" y="370"/>
                  </a:lnTo>
                  <a:lnTo>
                    <a:pt x="2605" y="371"/>
                  </a:lnTo>
                  <a:lnTo>
                    <a:pt x="2608" y="373"/>
                  </a:lnTo>
                  <a:lnTo>
                    <a:pt x="2610" y="374"/>
                  </a:lnTo>
                  <a:lnTo>
                    <a:pt x="2613" y="376"/>
                  </a:lnTo>
                  <a:lnTo>
                    <a:pt x="2615" y="377"/>
                  </a:lnTo>
                  <a:lnTo>
                    <a:pt x="2618" y="379"/>
                  </a:lnTo>
                  <a:lnTo>
                    <a:pt x="2620" y="380"/>
                  </a:lnTo>
                  <a:lnTo>
                    <a:pt x="2623" y="382"/>
                  </a:lnTo>
                  <a:lnTo>
                    <a:pt x="2625" y="383"/>
                  </a:lnTo>
                  <a:lnTo>
                    <a:pt x="2628" y="385"/>
                  </a:lnTo>
                  <a:lnTo>
                    <a:pt x="2630" y="387"/>
                  </a:lnTo>
                  <a:lnTo>
                    <a:pt x="2633" y="389"/>
                  </a:lnTo>
                  <a:lnTo>
                    <a:pt x="2635" y="391"/>
                  </a:lnTo>
                  <a:lnTo>
                    <a:pt x="2638" y="393"/>
                  </a:lnTo>
                  <a:lnTo>
                    <a:pt x="2640" y="395"/>
                  </a:lnTo>
                  <a:lnTo>
                    <a:pt x="2643" y="396"/>
                  </a:lnTo>
                  <a:lnTo>
                    <a:pt x="2645" y="398"/>
                  </a:lnTo>
                  <a:lnTo>
                    <a:pt x="2648" y="399"/>
                  </a:lnTo>
                  <a:lnTo>
                    <a:pt x="2650" y="401"/>
                  </a:lnTo>
                  <a:lnTo>
                    <a:pt x="2653" y="402"/>
                  </a:lnTo>
                  <a:lnTo>
                    <a:pt x="2655" y="402"/>
                  </a:lnTo>
                  <a:lnTo>
                    <a:pt x="2658" y="403"/>
                  </a:lnTo>
                  <a:lnTo>
                    <a:pt x="2660" y="403"/>
                  </a:lnTo>
                  <a:lnTo>
                    <a:pt x="2663" y="404"/>
                  </a:lnTo>
                  <a:lnTo>
                    <a:pt x="2665" y="403"/>
                  </a:lnTo>
                  <a:lnTo>
                    <a:pt x="2668" y="403"/>
                  </a:lnTo>
                  <a:lnTo>
                    <a:pt x="2670" y="402"/>
                  </a:lnTo>
                  <a:lnTo>
                    <a:pt x="2673" y="401"/>
                  </a:lnTo>
                  <a:lnTo>
                    <a:pt x="2675" y="399"/>
                  </a:lnTo>
                  <a:lnTo>
                    <a:pt x="2678" y="397"/>
                  </a:lnTo>
                  <a:lnTo>
                    <a:pt x="2680" y="395"/>
                  </a:lnTo>
                  <a:lnTo>
                    <a:pt x="2683" y="392"/>
                  </a:lnTo>
                  <a:lnTo>
                    <a:pt x="2685" y="389"/>
                  </a:lnTo>
                  <a:lnTo>
                    <a:pt x="2688" y="385"/>
                  </a:lnTo>
                  <a:lnTo>
                    <a:pt x="2690" y="380"/>
                  </a:lnTo>
                  <a:lnTo>
                    <a:pt x="2693" y="374"/>
                  </a:lnTo>
                  <a:lnTo>
                    <a:pt x="2695" y="368"/>
                  </a:lnTo>
                  <a:lnTo>
                    <a:pt x="2698" y="362"/>
                  </a:lnTo>
                  <a:lnTo>
                    <a:pt x="2700" y="355"/>
                  </a:lnTo>
                  <a:lnTo>
                    <a:pt x="2703" y="348"/>
                  </a:lnTo>
                  <a:lnTo>
                    <a:pt x="2705" y="341"/>
                  </a:lnTo>
                  <a:lnTo>
                    <a:pt x="2708" y="333"/>
                  </a:lnTo>
                  <a:lnTo>
                    <a:pt x="2710" y="326"/>
                  </a:lnTo>
                  <a:lnTo>
                    <a:pt x="2713" y="318"/>
                  </a:lnTo>
                  <a:lnTo>
                    <a:pt x="2715" y="310"/>
                  </a:lnTo>
                  <a:lnTo>
                    <a:pt x="2718" y="302"/>
                  </a:lnTo>
                  <a:lnTo>
                    <a:pt x="2720" y="294"/>
                  </a:lnTo>
                  <a:lnTo>
                    <a:pt x="2723" y="287"/>
                  </a:lnTo>
                  <a:lnTo>
                    <a:pt x="2725" y="279"/>
                  </a:lnTo>
                  <a:lnTo>
                    <a:pt x="2728" y="271"/>
                  </a:lnTo>
                  <a:lnTo>
                    <a:pt x="2730" y="264"/>
                  </a:lnTo>
                  <a:lnTo>
                    <a:pt x="2733" y="257"/>
                  </a:lnTo>
                  <a:lnTo>
                    <a:pt x="2735" y="250"/>
                  </a:lnTo>
                  <a:lnTo>
                    <a:pt x="2738" y="244"/>
                  </a:lnTo>
                  <a:lnTo>
                    <a:pt x="2740" y="238"/>
                  </a:lnTo>
                  <a:lnTo>
                    <a:pt x="2743" y="232"/>
                  </a:lnTo>
                  <a:lnTo>
                    <a:pt x="2745" y="227"/>
                  </a:lnTo>
                  <a:lnTo>
                    <a:pt x="2748" y="222"/>
                  </a:lnTo>
                  <a:lnTo>
                    <a:pt x="2750" y="218"/>
                  </a:lnTo>
                  <a:lnTo>
                    <a:pt x="2753" y="215"/>
                  </a:lnTo>
                  <a:lnTo>
                    <a:pt x="2755" y="213"/>
                  </a:lnTo>
                  <a:lnTo>
                    <a:pt x="2758" y="211"/>
                  </a:lnTo>
                  <a:lnTo>
                    <a:pt x="2760" y="210"/>
                  </a:lnTo>
                  <a:lnTo>
                    <a:pt x="2763" y="210"/>
                  </a:lnTo>
                  <a:lnTo>
                    <a:pt x="2765" y="209"/>
                  </a:lnTo>
                  <a:lnTo>
                    <a:pt x="2768" y="210"/>
                  </a:lnTo>
                  <a:lnTo>
                    <a:pt x="2770" y="210"/>
                  </a:lnTo>
                  <a:lnTo>
                    <a:pt x="2773" y="211"/>
                  </a:lnTo>
                  <a:lnTo>
                    <a:pt x="2775" y="212"/>
                  </a:lnTo>
                  <a:lnTo>
                    <a:pt x="2778" y="214"/>
                  </a:lnTo>
                  <a:lnTo>
                    <a:pt x="2780" y="216"/>
                  </a:lnTo>
                  <a:lnTo>
                    <a:pt x="2783" y="218"/>
                  </a:lnTo>
                  <a:lnTo>
                    <a:pt x="2785" y="220"/>
                  </a:lnTo>
                  <a:lnTo>
                    <a:pt x="2788" y="223"/>
                  </a:lnTo>
                  <a:lnTo>
                    <a:pt x="2790" y="225"/>
                  </a:lnTo>
                  <a:lnTo>
                    <a:pt x="2793" y="228"/>
                  </a:lnTo>
                  <a:lnTo>
                    <a:pt x="2795" y="231"/>
                  </a:lnTo>
                  <a:lnTo>
                    <a:pt x="2798" y="234"/>
                  </a:lnTo>
                  <a:lnTo>
                    <a:pt x="2800" y="237"/>
                  </a:lnTo>
                  <a:lnTo>
                    <a:pt x="2803" y="240"/>
                  </a:lnTo>
                  <a:lnTo>
                    <a:pt x="2805" y="243"/>
                  </a:lnTo>
                  <a:lnTo>
                    <a:pt x="2808" y="246"/>
                  </a:lnTo>
                  <a:lnTo>
                    <a:pt x="2810" y="249"/>
                  </a:lnTo>
                  <a:lnTo>
                    <a:pt x="2813" y="252"/>
                  </a:lnTo>
                  <a:lnTo>
                    <a:pt x="2815" y="254"/>
                  </a:lnTo>
                  <a:lnTo>
                    <a:pt x="2818" y="256"/>
                  </a:lnTo>
                  <a:lnTo>
                    <a:pt x="2820" y="259"/>
                  </a:lnTo>
                  <a:lnTo>
                    <a:pt x="2823" y="260"/>
                  </a:lnTo>
                  <a:lnTo>
                    <a:pt x="2825" y="262"/>
                  </a:lnTo>
                  <a:lnTo>
                    <a:pt x="2828" y="264"/>
                  </a:lnTo>
                  <a:lnTo>
                    <a:pt x="2830" y="266"/>
                  </a:lnTo>
                  <a:lnTo>
                    <a:pt x="2833" y="267"/>
                  </a:lnTo>
                  <a:lnTo>
                    <a:pt x="2835" y="269"/>
                  </a:lnTo>
                  <a:lnTo>
                    <a:pt x="2838" y="270"/>
                  </a:lnTo>
                  <a:lnTo>
                    <a:pt x="2840" y="271"/>
                  </a:lnTo>
                  <a:lnTo>
                    <a:pt x="2843" y="273"/>
                  </a:lnTo>
                  <a:lnTo>
                    <a:pt x="2845" y="274"/>
                  </a:lnTo>
                  <a:lnTo>
                    <a:pt x="2848" y="275"/>
                  </a:lnTo>
                  <a:lnTo>
                    <a:pt x="2850" y="276"/>
                  </a:lnTo>
                  <a:lnTo>
                    <a:pt x="2853" y="277"/>
                  </a:lnTo>
                  <a:lnTo>
                    <a:pt x="2855" y="278"/>
                  </a:lnTo>
                  <a:lnTo>
                    <a:pt x="2858" y="279"/>
                  </a:lnTo>
                  <a:lnTo>
                    <a:pt x="2860" y="280"/>
                  </a:lnTo>
                  <a:lnTo>
                    <a:pt x="2863" y="281"/>
                  </a:lnTo>
                  <a:lnTo>
                    <a:pt x="2865" y="281"/>
                  </a:lnTo>
                  <a:lnTo>
                    <a:pt x="2868" y="282"/>
                  </a:lnTo>
                  <a:lnTo>
                    <a:pt x="2870" y="283"/>
                  </a:lnTo>
                  <a:lnTo>
                    <a:pt x="2873" y="284"/>
                  </a:lnTo>
                  <a:lnTo>
                    <a:pt x="2875" y="285"/>
                  </a:lnTo>
                  <a:lnTo>
                    <a:pt x="2878" y="286"/>
                  </a:lnTo>
                  <a:lnTo>
                    <a:pt x="2880" y="287"/>
                  </a:lnTo>
                  <a:lnTo>
                    <a:pt x="2883" y="288"/>
                  </a:lnTo>
                  <a:lnTo>
                    <a:pt x="2885" y="289"/>
                  </a:lnTo>
                  <a:lnTo>
                    <a:pt x="2888" y="290"/>
                  </a:lnTo>
                  <a:lnTo>
                    <a:pt x="2890" y="291"/>
                  </a:lnTo>
                  <a:lnTo>
                    <a:pt x="2893" y="293"/>
                  </a:lnTo>
                  <a:lnTo>
                    <a:pt x="2895" y="294"/>
                  </a:lnTo>
                  <a:lnTo>
                    <a:pt x="2898" y="295"/>
                  </a:lnTo>
                  <a:lnTo>
                    <a:pt x="2900" y="296"/>
                  </a:lnTo>
                  <a:lnTo>
                    <a:pt x="2903" y="297"/>
                  </a:lnTo>
                  <a:lnTo>
                    <a:pt x="2905" y="298"/>
                  </a:lnTo>
                  <a:lnTo>
                    <a:pt x="2908" y="299"/>
                  </a:lnTo>
                  <a:lnTo>
                    <a:pt x="2910" y="300"/>
                  </a:lnTo>
                  <a:lnTo>
                    <a:pt x="2913" y="302"/>
                  </a:lnTo>
                  <a:lnTo>
                    <a:pt x="2915" y="303"/>
                  </a:lnTo>
                  <a:lnTo>
                    <a:pt x="2918" y="304"/>
                  </a:lnTo>
                  <a:lnTo>
                    <a:pt x="2920" y="305"/>
                  </a:lnTo>
                  <a:lnTo>
                    <a:pt x="2923" y="306"/>
                  </a:lnTo>
                  <a:lnTo>
                    <a:pt x="2925" y="307"/>
                  </a:lnTo>
                  <a:lnTo>
                    <a:pt x="2928" y="308"/>
                  </a:lnTo>
                  <a:lnTo>
                    <a:pt x="2930" y="309"/>
                  </a:lnTo>
                  <a:lnTo>
                    <a:pt x="2933" y="310"/>
                  </a:lnTo>
                  <a:lnTo>
                    <a:pt x="2935" y="312"/>
                  </a:lnTo>
                  <a:lnTo>
                    <a:pt x="2938" y="313"/>
                  </a:lnTo>
                  <a:lnTo>
                    <a:pt x="2940" y="314"/>
                  </a:lnTo>
                  <a:lnTo>
                    <a:pt x="2943" y="315"/>
                  </a:lnTo>
                  <a:lnTo>
                    <a:pt x="2945" y="316"/>
                  </a:lnTo>
                  <a:lnTo>
                    <a:pt x="2948" y="317"/>
                  </a:lnTo>
                  <a:lnTo>
                    <a:pt x="2950" y="318"/>
                  </a:lnTo>
                  <a:lnTo>
                    <a:pt x="2953" y="318"/>
                  </a:lnTo>
                  <a:lnTo>
                    <a:pt x="2955" y="319"/>
                  </a:lnTo>
                  <a:lnTo>
                    <a:pt x="2958" y="320"/>
                  </a:lnTo>
                  <a:lnTo>
                    <a:pt x="2960" y="321"/>
                  </a:lnTo>
                  <a:lnTo>
                    <a:pt x="2963" y="322"/>
                  </a:lnTo>
                  <a:lnTo>
                    <a:pt x="2965" y="323"/>
                  </a:lnTo>
                  <a:lnTo>
                    <a:pt x="2968" y="323"/>
                  </a:lnTo>
                  <a:lnTo>
                    <a:pt x="2970" y="324"/>
                  </a:lnTo>
                  <a:lnTo>
                    <a:pt x="2973" y="325"/>
                  </a:lnTo>
                  <a:lnTo>
                    <a:pt x="2975" y="325"/>
                  </a:lnTo>
                  <a:lnTo>
                    <a:pt x="2978" y="326"/>
                  </a:lnTo>
                  <a:lnTo>
                    <a:pt x="2980" y="326"/>
                  </a:lnTo>
                  <a:lnTo>
                    <a:pt x="2983" y="326"/>
                  </a:lnTo>
                  <a:lnTo>
                    <a:pt x="2985" y="327"/>
                  </a:lnTo>
                  <a:lnTo>
                    <a:pt x="2988" y="327"/>
                  </a:lnTo>
                  <a:lnTo>
                    <a:pt x="2990" y="327"/>
                  </a:lnTo>
                  <a:lnTo>
                    <a:pt x="2993" y="327"/>
                  </a:lnTo>
                  <a:lnTo>
                    <a:pt x="2995" y="327"/>
                  </a:lnTo>
                  <a:lnTo>
                    <a:pt x="2998" y="326"/>
                  </a:lnTo>
                  <a:lnTo>
                    <a:pt x="3000" y="326"/>
                  </a:lnTo>
                  <a:lnTo>
                    <a:pt x="3003" y="326"/>
                  </a:lnTo>
                  <a:lnTo>
                    <a:pt x="3005" y="325"/>
                  </a:lnTo>
                  <a:lnTo>
                    <a:pt x="3008" y="324"/>
                  </a:lnTo>
                  <a:lnTo>
                    <a:pt x="3010" y="323"/>
                  </a:lnTo>
                  <a:lnTo>
                    <a:pt x="3013" y="322"/>
                  </a:lnTo>
                  <a:lnTo>
                    <a:pt x="3015" y="321"/>
                  </a:lnTo>
                  <a:lnTo>
                    <a:pt x="3018" y="320"/>
                  </a:lnTo>
                  <a:lnTo>
                    <a:pt x="3020" y="319"/>
                  </a:lnTo>
                  <a:lnTo>
                    <a:pt x="3023" y="317"/>
                  </a:lnTo>
                  <a:lnTo>
                    <a:pt x="3025" y="316"/>
                  </a:lnTo>
                  <a:lnTo>
                    <a:pt x="3028" y="315"/>
                  </a:lnTo>
                  <a:lnTo>
                    <a:pt x="3030" y="313"/>
                  </a:lnTo>
                  <a:lnTo>
                    <a:pt x="3033" y="312"/>
                  </a:lnTo>
                  <a:lnTo>
                    <a:pt x="3035" y="310"/>
                  </a:lnTo>
                  <a:lnTo>
                    <a:pt x="3038" y="309"/>
                  </a:lnTo>
                  <a:lnTo>
                    <a:pt x="3040" y="307"/>
                  </a:lnTo>
                  <a:lnTo>
                    <a:pt x="3043" y="306"/>
                  </a:lnTo>
                  <a:lnTo>
                    <a:pt x="3045" y="304"/>
                  </a:lnTo>
                  <a:lnTo>
                    <a:pt x="3048" y="302"/>
                  </a:lnTo>
                  <a:lnTo>
                    <a:pt x="3050" y="301"/>
                  </a:lnTo>
                  <a:lnTo>
                    <a:pt x="3053" y="299"/>
                  </a:lnTo>
                  <a:lnTo>
                    <a:pt x="3055" y="298"/>
                  </a:lnTo>
                  <a:lnTo>
                    <a:pt x="3058" y="296"/>
                  </a:lnTo>
                  <a:lnTo>
                    <a:pt x="3060" y="294"/>
                  </a:lnTo>
                  <a:lnTo>
                    <a:pt x="3063" y="293"/>
                  </a:lnTo>
                  <a:lnTo>
                    <a:pt x="3065" y="291"/>
                  </a:lnTo>
                  <a:lnTo>
                    <a:pt x="3068" y="290"/>
                  </a:lnTo>
                  <a:lnTo>
                    <a:pt x="3070" y="288"/>
                  </a:lnTo>
                  <a:lnTo>
                    <a:pt x="3073" y="287"/>
                  </a:lnTo>
                  <a:lnTo>
                    <a:pt x="3075" y="285"/>
                  </a:lnTo>
                  <a:lnTo>
                    <a:pt x="3078" y="284"/>
                  </a:lnTo>
                  <a:lnTo>
                    <a:pt x="3080" y="282"/>
                  </a:lnTo>
                  <a:lnTo>
                    <a:pt x="3083" y="281"/>
                  </a:lnTo>
                  <a:lnTo>
                    <a:pt x="3085" y="280"/>
                  </a:lnTo>
                  <a:lnTo>
                    <a:pt x="3088" y="278"/>
                  </a:lnTo>
                  <a:lnTo>
                    <a:pt x="3090" y="277"/>
                  </a:lnTo>
                  <a:lnTo>
                    <a:pt x="3093" y="276"/>
                  </a:lnTo>
                  <a:lnTo>
                    <a:pt x="3095" y="274"/>
                  </a:lnTo>
                  <a:lnTo>
                    <a:pt x="3098" y="273"/>
                  </a:lnTo>
                  <a:lnTo>
                    <a:pt x="3100" y="272"/>
                  </a:lnTo>
                  <a:lnTo>
                    <a:pt x="3103" y="270"/>
                  </a:lnTo>
                  <a:lnTo>
                    <a:pt x="3105" y="269"/>
                  </a:lnTo>
                  <a:lnTo>
                    <a:pt x="3108" y="268"/>
                  </a:lnTo>
                  <a:lnTo>
                    <a:pt x="3110" y="267"/>
                  </a:lnTo>
                  <a:lnTo>
                    <a:pt x="3113" y="265"/>
                  </a:lnTo>
                  <a:lnTo>
                    <a:pt x="3115" y="264"/>
                  </a:lnTo>
                  <a:lnTo>
                    <a:pt x="3118" y="263"/>
                  </a:lnTo>
                  <a:lnTo>
                    <a:pt x="3120" y="262"/>
                  </a:lnTo>
                  <a:lnTo>
                    <a:pt x="3123" y="260"/>
                  </a:lnTo>
                  <a:lnTo>
                    <a:pt x="3125" y="259"/>
                  </a:lnTo>
                  <a:lnTo>
                    <a:pt x="3128" y="258"/>
                  </a:lnTo>
                  <a:lnTo>
                    <a:pt x="3130" y="256"/>
                  </a:lnTo>
                  <a:lnTo>
                    <a:pt x="3133" y="255"/>
                  </a:lnTo>
                  <a:lnTo>
                    <a:pt x="3135" y="254"/>
                  </a:lnTo>
                  <a:lnTo>
                    <a:pt x="3138" y="252"/>
                  </a:lnTo>
                  <a:lnTo>
                    <a:pt x="3140" y="251"/>
                  </a:lnTo>
                  <a:lnTo>
                    <a:pt x="3143" y="250"/>
                  </a:lnTo>
                  <a:lnTo>
                    <a:pt x="3145" y="248"/>
                  </a:lnTo>
                  <a:lnTo>
                    <a:pt x="3148" y="247"/>
                  </a:lnTo>
                  <a:lnTo>
                    <a:pt x="3150" y="246"/>
                  </a:lnTo>
                  <a:lnTo>
                    <a:pt x="3153" y="244"/>
                  </a:lnTo>
                  <a:lnTo>
                    <a:pt x="3155" y="243"/>
                  </a:lnTo>
                  <a:lnTo>
                    <a:pt x="3158" y="242"/>
                  </a:lnTo>
                  <a:lnTo>
                    <a:pt x="3160" y="240"/>
                  </a:lnTo>
                  <a:lnTo>
                    <a:pt x="3163" y="239"/>
                  </a:lnTo>
                  <a:lnTo>
                    <a:pt x="3165" y="237"/>
                  </a:lnTo>
                  <a:lnTo>
                    <a:pt x="3168" y="236"/>
                  </a:lnTo>
                  <a:lnTo>
                    <a:pt x="3170" y="235"/>
                  </a:lnTo>
                  <a:lnTo>
                    <a:pt x="3173" y="233"/>
                  </a:lnTo>
                  <a:lnTo>
                    <a:pt x="3175" y="232"/>
                  </a:lnTo>
                  <a:lnTo>
                    <a:pt x="3178" y="231"/>
                  </a:lnTo>
                  <a:lnTo>
                    <a:pt x="3180" y="229"/>
                  </a:lnTo>
                  <a:lnTo>
                    <a:pt x="3183" y="228"/>
                  </a:lnTo>
                  <a:lnTo>
                    <a:pt x="3185" y="227"/>
                  </a:lnTo>
                  <a:lnTo>
                    <a:pt x="3188" y="225"/>
                  </a:lnTo>
                  <a:lnTo>
                    <a:pt x="3190" y="224"/>
                  </a:lnTo>
                  <a:lnTo>
                    <a:pt x="3193" y="223"/>
                  </a:lnTo>
                  <a:lnTo>
                    <a:pt x="3195" y="221"/>
                  </a:lnTo>
                  <a:lnTo>
                    <a:pt x="3198" y="220"/>
                  </a:lnTo>
                  <a:lnTo>
                    <a:pt x="3200" y="219"/>
                  </a:lnTo>
                  <a:lnTo>
                    <a:pt x="3203" y="218"/>
                  </a:lnTo>
                  <a:lnTo>
                    <a:pt x="3205" y="216"/>
                  </a:lnTo>
                  <a:lnTo>
                    <a:pt x="3208" y="215"/>
                  </a:lnTo>
                  <a:lnTo>
                    <a:pt x="3210" y="214"/>
                  </a:lnTo>
                  <a:lnTo>
                    <a:pt x="3213" y="212"/>
                  </a:lnTo>
                  <a:lnTo>
                    <a:pt x="3215" y="211"/>
                  </a:lnTo>
                  <a:lnTo>
                    <a:pt x="3218" y="210"/>
                  </a:lnTo>
                  <a:lnTo>
                    <a:pt x="3220" y="208"/>
                  </a:lnTo>
                  <a:lnTo>
                    <a:pt x="3223" y="207"/>
                  </a:lnTo>
                  <a:lnTo>
                    <a:pt x="3225" y="206"/>
                  </a:lnTo>
                  <a:lnTo>
                    <a:pt x="3228" y="204"/>
                  </a:lnTo>
                  <a:lnTo>
                    <a:pt x="3230" y="203"/>
                  </a:lnTo>
                  <a:lnTo>
                    <a:pt x="3233" y="202"/>
                  </a:lnTo>
                  <a:lnTo>
                    <a:pt x="3235" y="200"/>
                  </a:lnTo>
                  <a:lnTo>
                    <a:pt x="3238" y="199"/>
                  </a:lnTo>
                  <a:lnTo>
                    <a:pt x="3240" y="198"/>
                  </a:lnTo>
                  <a:lnTo>
                    <a:pt x="3243" y="196"/>
                  </a:lnTo>
                  <a:lnTo>
                    <a:pt x="3245" y="195"/>
                  </a:lnTo>
                  <a:lnTo>
                    <a:pt x="3248" y="193"/>
                  </a:lnTo>
                  <a:lnTo>
                    <a:pt x="3250" y="192"/>
                  </a:lnTo>
                  <a:lnTo>
                    <a:pt x="3253" y="191"/>
                  </a:lnTo>
                  <a:lnTo>
                    <a:pt x="3255" y="189"/>
                  </a:lnTo>
                  <a:lnTo>
                    <a:pt x="3258" y="188"/>
                  </a:lnTo>
                  <a:lnTo>
                    <a:pt x="3260" y="186"/>
                  </a:lnTo>
                  <a:lnTo>
                    <a:pt x="3263" y="185"/>
                  </a:lnTo>
                  <a:lnTo>
                    <a:pt x="3265" y="183"/>
                  </a:lnTo>
                  <a:lnTo>
                    <a:pt x="3268" y="182"/>
                  </a:lnTo>
                  <a:lnTo>
                    <a:pt x="3270" y="181"/>
                  </a:lnTo>
                  <a:lnTo>
                    <a:pt x="3273" y="179"/>
                  </a:lnTo>
                  <a:lnTo>
                    <a:pt x="3275" y="178"/>
                  </a:lnTo>
                  <a:lnTo>
                    <a:pt x="3278" y="177"/>
                  </a:lnTo>
                  <a:lnTo>
                    <a:pt x="3280" y="175"/>
                  </a:lnTo>
                  <a:lnTo>
                    <a:pt x="3283" y="174"/>
                  </a:lnTo>
                  <a:lnTo>
                    <a:pt x="3285" y="173"/>
                  </a:lnTo>
                  <a:lnTo>
                    <a:pt x="3288" y="171"/>
                  </a:lnTo>
                  <a:lnTo>
                    <a:pt x="3290" y="170"/>
                  </a:lnTo>
                  <a:lnTo>
                    <a:pt x="3293" y="169"/>
                  </a:lnTo>
                  <a:lnTo>
                    <a:pt x="3295" y="168"/>
                  </a:lnTo>
                  <a:lnTo>
                    <a:pt x="3298" y="166"/>
                  </a:lnTo>
                  <a:lnTo>
                    <a:pt x="3300" y="165"/>
                  </a:lnTo>
                  <a:lnTo>
                    <a:pt x="3303" y="164"/>
                  </a:lnTo>
                  <a:lnTo>
                    <a:pt x="3305" y="163"/>
                  </a:lnTo>
                  <a:lnTo>
                    <a:pt x="3308" y="162"/>
                  </a:lnTo>
                  <a:lnTo>
                    <a:pt x="3310" y="161"/>
                  </a:lnTo>
                  <a:lnTo>
                    <a:pt x="3313" y="160"/>
                  </a:lnTo>
                  <a:lnTo>
                    <a:pt x="3315" y="160"/>
                  </a:lnTo>
                  <a:lnTo>
                    <a:pt x="3318" y="159"/>
                  </a:lnTo>
                  <a:lnTo>
                    <a:pt x="3320" y="158"/>
                  </a:lnTo>
                  <a:lnTo>
                    <a:pt x="3323" y="157"/>
                  </a:lnTo>
                  <a:lnTo>
                    <a:pt x="3325" y="157"/>
                  </a:lnTo>
                  <a:lnTo>
                    <a:pt x="3328" y="156"/>
                  </a:lnTo>
                  <a:lnTo>
                    <a:pt x="3330" y="156"/>
                  </a:lnTo>
                  <a:lnTo>
                    <a:pt x="3333" y="155"/>
                  </a:lnTo>
                  <a:lnTo>
                    <a:pt x="3335" y="155"/>
                  </a:lnTo>
                  <a:lnTo>
                    <a:pt x="3338" y="155"/>
                  </a:lnTo>
                  <a:lnTo>
                    <a:pt x="3340" y="154"/>
                  </a:lnTo>
                  <a:lnTo>
                    <a:pt x="3343" y="154"/>
                  </a:lnTo>
                  <a:lnTo>
                    <a:pt x="3345" y="153"/>
                  </a:lnTo>
                  <a:lnTo>
                    <a:pt x="3348" y="153"/>
                  </a:lnTo>
                  <a:lnTo>
                    <a:pt x="3350" y="153"/>
                  </a:lnTo>
                  <a:lnTo>
                    <a:pt x="3353" y="152"/>
                  </a:lnTo>
                  <a:lnTo>
                    <a:pt x="3355" y="152"/>
                  </a:lnTo>
                  <a:lnTo>
                    <a:pt x="3358" y="152"/>
                  </a:lnTo>
                  <a:lnTo>
                    <a:pt x="3360" y="152"/>
                  </a:lnTo>
                  <a:lnTo>
                    <a:pt x="3363" y="151"/>
                  </a:lnTo>
                  <a:lnTo>
                    <a:pt x="3365" y="151"/>
                  </a:lnTo>
                  <a:lnTo>
                    <a:pt x="3368" y="151"/>
                  </a:lnTo>
                  <a:lnTo>
                    <a:pt x="3370" y="151"/>
                  </a:lnTo>
                  <a:lnTo>
                    <a:pt x="3373" y="150"/>
                  </a:lnTo>
                  <a:lnTo>
                    <a:pt x="3375" y="150"/>
                  </a:lnTo>
                  <a:lnTo>
                    <a:pt x="3378" y="150"/>
                  </a:lnTo>
                  <a:lnTo>
                    <a:pt x="3380" y="149"/>
                  </a:lnTo>
                  <a:lnTo>
                    <a:pt x="3383" y="149"/>
                  </a:lnTo>
                  <a:lnTo>
                    <a:pt x="3385" y="149"/>
                  </a:lnTo>
                  <a:lnTo>
                    <a:pt x="3388" y="148"/>
                  </a:lnTo>
                  <a:lnTo>
                    <a:pt x="3390" y="148"/>
                  </a:lnTo>
                  <a:lnTo>
                    <a:pt x="3393" y="148"/>
                  </a:lnTo>
                  <a:lnTo>
                    <a:pt x="3395" y="147"/>
                  </a:lnTo>
                  <a:lnTo>
                    <a:pt x="3398" y="147"/>
                  </a:lnTo>
                  <a:lnTo>
                    <a:pt x="3400" y="147"/>
                  </a:lnTo>
                  <a:lnTo>
                    <a:pt x="3403" y="146"/>
                  </a:lnTo>
                  <a:lnTo>
                    <a:pt x="3405" y="146"/>
                  </a:lnTo>
                  <a:lnTo>
                    <a:pt x="3408" y="146"/>
                  </a:lnTo>
                  <a:lnTo>
                    <a:pt x="3410" y="145"/>
                  </a:lnTo>
                  <a:lnTo>
                    <a:pt x="3413" y="145"/>
                  </a:lnTo>
                  <a:lnTo>
                    <a:pt x="3415" y="145"/>
                  </a:lnTo>
                  <a:lnTo>
                    <a:pt x="3418" y="144"/>
                  </a:lnTo>
                  <a:lnTo>
                    <a:pt x="3420" y="144"/>
                  </a:lnTo>
                  <a:lnTo>
                    <a:pt x="3423" y="143"/>
                  </a:lnTo>
                  <a:lnTo>
                    <a:pt x="3425" y="143"/>
                  </a:lnTo>
                  <a:lnTo>
                    <a:pt x="3428" y="143"/>
                  </a:lnTo>
                  <a:lnTo>
                    <a:pt x="3430" y="142"/>
                  </a:lnTo>
                  <a:lnTo>
                    <a:pt x="3433" y="142"/>
                  </a:lnTo>
                  <a:lnTo>
                    <a:pt x="3435" y="141"/>
                  </a:lnTo>
                  <a:lnTo>
                    <a:pt x="3438" y="141"/>
                  </a:lnTo>
                  <a:lnTo>
                    <a:pt x="3440" y="141"/>
                  </a:lnTo>
                  <a:lnTo>
                    <a:pt x="3443" y="140"/>
                  </a:lnTo>
                  <a:lnTo>
                    <a:pt x="3445" y="140"/>
                  </a:lnTo>
                  <a:lnTo>
                    <a:pt x="3448" y="140"/>
                  </a:lnTo>
                  <a:lnTo>
                    <a:pt x="3450" y="139"/>
                  </a:lnTo>
                  <a:lnTo>
                    <a:pt x="3453" y="139"/>
                  </a:lnTo>
                  <a:lnTo>
                    <a:pt x="3455" y="138"/>
                  </a:lnTo>
                  <a:lnTo>
                    <a:pt x="3458" y="138"/>
                  </a:lnTo>
                  <a:lnTo>
                    <a:pt x="3460" y="138"/>
                  </a:lnTo>
                  <a:lnTo>
                    <a:pt x="3463" y="137"/>
                  </a:lnTo>
                  <a:lnTo>
                    <a:pt x="3465" y="137"/>
                  </a:lnTo>
                  <a:lnTo>
                    <a:pt x="3468" y="137"/>
                  </a:lnTo>
                  <a:lnTo>
                    <a:pt x="3470" y="136"/>
                  </a:lnTo>
                  <a:lnTo>
                    <a:pt x="3473" y="136"/>
                  </a:lnTo>
                  <a:lnTo>
                    <a:pt x="3475" y="136"/>
                  </a:lnTo>
                  <a:lnTo>
                    <a:pt x="3478" y="135"/>
                  </a:lnTo>
                  <a:lnTo>
                    <a:pt x="3480" y="135"/>
                  </a:lnTo>
                  <a:lnTo>
                    <a:pt x="3483" y="134"/>
                  </a:lnTo>
                  <a:lnTo>
                    <a:pt x="3485" y="134"/>
                  </a:lnTo>
                  <a:lnTo>
                    <a:pt x="3488" y="134"/>
                  </a:lnTo>
                  <a:lnTo>
                    <a:pt x="3490" y="133"/>
                  </a:lnTo>
                  <a:lnTo>
                    <a:pt x="3493" y="133"/>
                  </a:lnTo>
                  <a:lnTo>
                    <a:pt x="3495" y="133"/>
                  </a:lnTo>
                  <a:lnTo>
                    <a:pt x="3498" y="132"/>
                  </a:lnTo>
                  <a:lnTo>
                    <a:pt x="3500" y="132"/>
                  </a:lnTo>
                  <a:lnTo>
                    <a:pt x="3503" y="131"/>
                  </a:lnTo>
                  <a:lnTo>
                    <a:pt x="3505" y="131"/>
                  </a:lnTo>
                  <a:lnTo>
                    <a:pt x="3508" y="131"/>
                  </a:lnTo>
                  <a:lnTo>
                    <a:pt x="3510" y="130"/>
                  </a:lnTo>
                  <a:lnTo>
                    <a:pt x="3513" y="130"/>
                  </a:lnTo>
                  <a:lnTo>
                    <a:pt x="3515" y="130"/>
                  </a:lnTo>
                  <a:lnTo>
                    <a:pt x="3518" y="129"/>
                  </a:lnTo>
                  <a:lnTo>
                    <a:pt x="3520" y="129"/>
                  </a:lnTo>
                  <a:lnTo>
                    <a:pt x="3523" y="128"/>
                  </a:lnTo>
                  <a:lnTo>
                    <a:pt x="3525" y="128"/>
                  </a:lnTo>
                  <a:lnTo>
                    <a:pt x="3528" y="128"/>
                  </a:lnTo>
                  <a:lnTo>
                    <a:pt x="3530" y="127"/>
                  </a:lnTo>
                  <a:lnTo>
                    <a:pt x="3533" y="127"/>
                  </a:lnTo>
                  <a:lnTo>
                    <a:pt x="3535" y="126"/>
                  </a:lnTo>
                  <a:lnTo>
                    <a:pt x="3538" y="126"/>
                  </a:lnTo>
                  <a:lnTo>
                    <a:pt x="3540" y="126"/>
                  </a:lnTo>
                  <a:lnTo>
                    <a:pt x="3543" y="125"/>
                  </a:lnTo>
                  <a:lnTo>
                    <a:pt x="3545" y="125"/>
                  </a:lnTo>
                  <a:lnTo>
                    <a:pt x="3548" y="124"/>
                  </a:lnTo>
                  <a:lnTo>
                    <a:pt x="3550" y="124"/>
                  </a:lnTo>
                  <a:lnTo>
                    <a:pt x="3553" y="124"/>
                  </a:lnTo>
                  <a:lnTo>
                    <a:pt x="3555" y="123"/>
                  </a:lnTo>
                  <a:lnTo>
                    <a:pt x="3558" y="123"/>
                  </a:lnTo>
                  <a:lnTo>
                    <a:pt x="3560" y="122"/>
                  </a:lnTo>
                  <a:lnTo>
                    <a:pt x="3563" y="122"/>
                  </a:lnTo>
                  <a:lnTo>
                    <a:pt x="3565" y="122"/>
                  </a:lnTo>
                  <a:lnTo>
                    <a:pt x="3568" y="121"/>
                  </a:lnTo>
                  <a:lnTo>
                    <a:pt x="3570" y="121"/>
                  </a:lnTo>
                  <a:lnTo>
                    <a:pt x="3573" y="120"/>
                  </a:lnTo>
                  <a:lnTo>
                    <a:pt x="3575" y="120"/>
                  </a:lnTo>
                  <a:lnTo>
                    <a:pt x="3578" y="120"/>
                  </a:lnTo>
                  <a:lnTo>
                    <a:pt x="3580" y="119"/>
                  </a:lnTo>
                  <a:lnTo>
                    <a:pt x="3583" y="119"/>
                  </a:lnTo>
                  <a:lnTo>
                    <a:pt x="3585" y="118"/>
                  </a:lnTo>
                  <a:lnTo>
                    <a:pt x="3588" y="118"/>
                  </a:lnTo>
                  <a:lnTo>
                    <a:pt x="3590" y="118"/>
                  </a:lnTo>
                  <a:lnTo>
                    <a:pt x="3593" y="117"/>
                  </a:lnTo>
                  <a:lnTo>
                    <a:pt x="3595" y="117"/>
                  </a:lnTo>
                  <a:lnTo>
                    <a:pt x="3598" y="116"/>
                  </a:lnTo>
                  <a:lnTo>
                    <a:pt x="3600" y="116"/>
                  </a:lnTo>
                  <a:lnTo>
                    <a:pt x="3603" y="116"/>
                  </a:lnTo>
                  <a:lnTo>
                    <a:pt x="3605" y="115"/>
                  </a:lnTo>
                  <a:lnTo>
                    <a:pt x="3608" y="115"/>
                  </a:lnTo>
                  <a:lnTo>
                    <a:pt x="3610" y="114"/>
                  </a:lnTo>
                  <a:lnTo>
                    <a:pt x="3613" y="114"/>
                  </a:lnTo>
                  <a:lnTo>
                    <a:pt x="3615" y="114"/>
                  </a:lnTo>
                  <a:lnTo>
                    <a:pt x="3618" y="113"/>
                  </a:lnTo>
                  <a:lnTo>
                    <a:pt x="3620" y="113"/>
                  </a:lnTo>
                  <a:lnTo>
                    <a:pt x="3623" y="112"/>
                  </a:lnTo>
                  <a:lnTo>
                    <a:pt x="3625" y="112"/>
                  </a:lnTo>
                  <a:lnTo>
                    <a:pt x="3628" y="112"/>
                  </a:lnTo>
                  <a:lnTo>
                    <a:pt x="3630" y="111"/>
                  </a:lnTo>
                  <a:lnTo>
                    <a:pt x="3633" y="111"/>
                  </a:lnTo>
                  <a:lnTo>
                    <a:pt x="3635" y="110"/>
                  </a:lnTo>
                  <a:lnTo>
                    <a:pt x="3638" y="110"/>
                  </a:lnTo>
                  <a:lnTo>
                    <a:pt x="3640" y="110"/>
                  </a:lnTo>
                  <a:lnTo>
                    <a:pt x="3643" y="109"/>
                  </a:lnTo>
                  <a:lnTo>
                    <a:pt x="3645" y="109"/>
                  </a:lnTo>
                  <a:lnTo>
                    <a:pt x="3648" y="108"/>
                  </a:lnTo>
                  <a:lnTo>
                    <a:pt x="3650" y="108"/>
                  </a:lnTo>
                  <a:lnTo>
                    <a:pt x="3653" y="108"/>
                  </a:lnTo>
                  <a:lnTo>
                    <a:pt x="3655" y="107"/>
                  </a:lnTo>
                  <a:lnTo>
                    <a:pt x="3658" y="107"/>
                  </a:lnTo>
                  <a:lnTo>
                    <a:pt x="3660" y="106"/>
                  </a:lnTo>
                  <a:lnTo>
                    <a:pt x="3663" y="106"/>
                  </a:lnTo>
                  <a:lnTo>
                    <a:pt x="3665" y="106"/>
                  </a:lnTo>
                  <a:lnTo>
                    <a:pt x="3668" y="105"/>
                  </a:lnTo>
                  <a:lnTo>
                    <a:pt x="3670" y="105"/>
                  </a:lnTo>
                  <a:lnTo>
                    <a:pt x="3673" y="104"/>
                  </a:lnTo>
                  <a:lnTo>
                    <a:pt x="3675" y="104"/>
                  </a:lnTo>
                  <a:lnTo>
                    <a:pt x="3678" y="103"/>
                  </a:lnTo>
                  <a:lnTo>
                    <a:pt x="3680" y="103"/>
                  </a:lnTo>
                  <a:lnTo>
                    <a:pt x="3683" y="103"/>
                  </a:lnTo>
                  <a:lnTo>
                    <a:pt x="3685" y="102"/>
                  </a:lnTo>
                  <a:lnTo>
                    <a:pt x="3688" y="102"/>
                  </a:lnTo>
                  <a:lnTo>
                    <a:pt x="3690" y="101"/>
                  </a:lnTo>
                  <a:lnTo>
                    <a:pt x="3693" y="101"/>
                  </a:lnTo>
                  <a:lnTo>
                    <a:pt x="3695" y="101"/>
                  </a:lnTo>
                  <a:lnTo>
                    <a:pt x="3698" y="100"/>
                  </a:lnTo>
                  <a:lnTo>
                    <a:pt x="3700" y="100"/>
                  </a:lnTo>
                  <a:lnTo>
                    <a:pt x="3703" y="99"/>
                  </a:lnTo>
                  <a:lnTo>
                    <a:pt x="3705" y="99"/>
                  </a:lnTo>
                  <a:lnTo>
                    <a:pt x="3708" y="98"/>
                  </a:lnTo>
                  <a:lnTo>
                    <a:pt x="3710" y="98"/>
                  </a:lnTo>
                  <a:lnTo>
                    <a:pt x="3713" y="98"/>
                  </a:lnTo>
                  <a:lnTo>
                    <a:pt x="3715" y="97"/>
                  </a:lnTo>
                  <a:lnTo>
                    <a:pt x="3717" y="97"/>
                  </a:lnTo>
                  <a:lnTo>
                    <a:pt x="3720" y="96"/>
                  </a:lnTo>
                  <a:lnTo>
                    <a:pt x="3723" y="96"/>
                  </a:lnTo>
                  <a:lnTo>
                    <a:pt x="3725" y="96"/>
                  </a:lnTo>
                  <a:lnTo>
                    <a:pt x="3728" y="95"/>
                  </a:lnTo>
                  <a:lnTo>
                    <a:pt x="3730" y="95"/>
                  </a:lnTo>
                  <a:lnTo>
                    <a:pt x="3733" y="94"/>
                  </a:lnTo>
                  <a:lnTo>
                    <a:pt x="3735" y="94"/>
                  </a:lnTo>
                  <a:lnTo>
                    <a:pt x="3738" y="94"/>
                  </a:lnTo>
                  <a:lnTo>
                    <a:pt x="3740" y="93"/>
                  </a:lnTo>
                  <a:lnTo>
                    <a:pt x="3743" y="93"/>
                  </a:lnTo>
                  <a:lnTo>
                    <a:pt x="3745" y="92"/>
                  </a:lnTo>
                  <a:lnTo>
                    <a:pt x="3748" y="92"/>
                  </a:lnTo>
                  <a:lnTo>
                    <a:pt x="3750" y="91"/>
                  </a:lnTo>
                  <a:lnTo>
                    <a:pt x="3753" y="91"/>
                  </a:lnTo>
                  <a:lnTo>
                    <a:pt x="3755" y="91"/>
                  </a:lnTo>
                  <a:lnTo>
                    <a:pt x="3758" y="90"/>
                  </a:lnTo>
                  <a:lnTo>
                    <a:pt x="3760" y="90"/>
                  </a:lnTo>
                  <a:lnTo>
                    <a:pt x="3763" y="90"/>
                  </a:lnTo>
                  <a:lnTo>
                    <a:pt x="3765" y="89"/>
                  </a:lnTo>
                  <a:lnTo>
                    <a:pt x="3768" y="89"/>
                  </a:lnTo>
                  <a:lnTo>
                    <a:pt x="3770" y="88"/>
                  </a:lnTo>
                  <a:lnTo>
                    <a:pt x="3773" y="88"/>
                  </a:lnTo>
                  <a:lnTo>
                    <a:pt x="3775" y="88"/>
                  </a:lnTo>
                  <a:lnTo>
                    <a:pt x="3778" y="87"/>
                  </a:lnTo>
                  <a:lnTo>
                    <a:pt x="3780" y="87"/>
                  </a:lnTo>
                  <a:lnTo>
                    <a:pt x="3783" y="86"/>
                  </a:lnTo>
                  <a:lnTo>
                    <a:pt x="3785" y="86"/>
                  </a:lnTo>
                  <a:lnTo>
                    <a:pt x="3788" y="86"/>
                  </a:lnTo>
                  <a:lnTo>
                    <a:pt x="3790" y="85"/>
                  </a:lnTo>
                  <a:lnTo>
                    <a:pt x="3793" y="85"/>
                  </a:lnTo>
                  <a:lnTo>
                    <a:pt x="3795" y="84"/>
                  </a:lnTo>
                  <a:lnTo>
                    <a:pt x="3797" y="84"/>
                  </a:lnTo>
                  <a:lnTo>
                    <a:pt x="3800" y="84"/>
                  </a:lnTo>
                  <a:lnTo>
                    <a:pt x="3803" y="83"/>
                  </a:lnTo>
                  <a:lnTo>
                    <a:pt x="3805" y="83"/>
                  </a:lnTo>
                  <a:lnTo>
                    <a:pt x="3808" y="82"/>
                  </a:lnTo>
                  <a:lnTo>
                    <a:pt x="3810" y="82"/>
                  </a:lnTo>
                  <a:lnTo>
                    <a:pt x="3813" y="82"/>
                  </a:lnTo>
                  <a:lnTo>
                    <a:pt x="3815" y="81"/>
                  </a:lnTo>
                  <a:lnTo>
                    <a:pt x="3818" y="81"/>
                  </a:lnTo>
                  <a:lnTo>
                    <a:pt x="3820" y="80"/>
                  </a:lnTo>
                  <a:lnTo>
                    <a:pt x="3823" y="80"/>
                  </a:lnTo>
                  <a:lnTo>
                    <a:pt x="3825" y="80"/>
                  </a:lnTo>
                  <a:lnTo>
                    <a:pt x="3828" y="79"/>
                  </a:lnTo>
                  <a:lnTo>
                    <a:pt x="3830" y="79"/>
                  </a:lnTo>
                  <a:lnTo>
                    <a:pt x="3833" y="78"/>
                  </a:lnTo>
                  <a:lnTo>
                    <a:pt x="3835" y="78"/>
                  </a:lnTo>
                  <a:lnTo>
                    <a:pt x="3838" y="78"/>
                  </a:lnTo>
                  <a:lnTo>
                    <a:pt x="3840" y="77"/>
                  </a:lnTo>
                  <a:lnTo>
                    <a:pt x="3842" y="77"/>
                  </a:lnTo>
                  <a:lnTo>
                    <a:pt x="3845" y="76"/>
                  </a:lnTo>
                  <a:lnTo>
                    <a:pt x="3848" y="76"/>
                  </a:lnTo>
                  <a:lnTo>
                    <a:pt x="3850" y="76"/>
                  </a:lnTo>
                  <a:lnTo>
                    <a:pt x="3853" y="75"/>
                  </a:lnTo>
                  <a:lnTo>
                    <a:pt x="3855" y="75"/>
                  </a:lnTo>
                  <a:lnTo>
                    <a:pt x="3858" y="74"/>
                  </a:lnTo>
                  <a:lnTo>
                    <a:pt x="3860" y="74"/>
                  </a:lnTo>
                  <a:lnTo>
                    <a:pt x="3863" y="74"/>
                  </a:lnTo>
                  <a:lnTo>
                    <a:pt x="3865" y="73"/>
                  </a:lnTo>
                  <a:lnTo>
                    <a:pt x="3868" y="73"/>
                  </a:lnTo>
                  <a:lnTo>
                    <a:pt x="3870" y="73"/>
                  </a:lnTo>
                  <a:lnTo>
                    <a:pt x="3873" y="72"/>
                  </a:lnTo>
                  <a:lnTo>
                    <a:pt x="3875" y="72"/>
                  </a:lnTo>
                  <a:lnTo>
                    <a:pt x="3877" y="71"/>
                  </a:lnTo>
                  <a:lnTo>
                    <a:pt x="3880" y="71"/>
                  </a:lnTo>
                  <a:lnTo>
                    <a:pt x="3883" y="71"/>
                  </a:lnTo>
                  <a:lnTo>
                    <a:pt x="3885" y="70"/>
                  </a:lnTo>
                  <a:lnTo>
                    <a:pt x="3888" y="70"/>
                  </a:lnTo>
                  <a:lnTo>
                    <a:pt x="3890" y="69"/>
                  </a:lnTo>
                  <a:lnTo>
                    <a:pt x="3893" y="69"/>
                  </a:lnTo>
                  <a:lnTo>
                    <a:pt x="3895" y="69"/>
                  </a:lnTo>
                  <a:lnTo>
                    <a:pt x="3898" y="68"/>
                  </a:lnTo>
                  <a:lnTo>
                    <a:pt x="3900" y="68"/>
                  </a:lnTo>
                  <a:lnTo>
                    <a:pt x="3903" y="68"/>
                  </a:lnTo>
                  <a:lnTo>
                    <a:pt x="3905" y="67"/>
                  </a:lnTo>
                  <a:lnTo>
                    <a:pt x="3908" y="67"/>
                  </a:lnTo>
                  <a:lnTo>
                    <a:pt x="3910" y="66"/>
                  </a:lnTo>
                  <a:lnTo>
                    <a:pt x="3913" y="66"/>
                  </a:lnTo>
                  <a:lnTo>
                    <a:pt x="3915" y="66"/>
                  </a:lnTo>
                  <a:lnTo>
                    <a:pt x="3918" y="65"/>
                  </a:lnTo>
                  <a:lnTo>
                    <a:pt x="3920" y="65"/>
                  </a:lnTo>
                  <a:lnTo>
                    <a:pt x="3922" y="65"/>
                  </a:lnTo>
                  <a:lnTo>
                    <a:pt x="3925" y="64"/>
                  </a:lnTo>
                  <a:lnTo>
                    <a:pt x="3928" y="64"/>
                  </a:lnTo>
                  <a:lnTo>
                    <a:pt x="3930" y="63"/>
                  </a:lnTo>
                  <a:lnTo>
                    <a:pt x="3933" y="63"/>
                  </a:lnTo>
                  <a:lnTo>
                    <a:pt x="3935" y="63"/>
                  </a:lnTo>
                  <a:lnTo>
                    <a:pt x="3938" y="62"/>
                  </a:lnTo>
                  <a:lnTo>
                    <a:pt x="3940" y="62"/>
                  </a:lnTo>
                  <a:lnTo>
                    <a:pt x="3943" y="62"/>
                  </a:lnTo>
                  <a:lnTo>
                    <a:pt x="3945" y="61"/>
                  </a:lnTo>
                  <a:lnTo>
                    <a:pt x="3948" y="61"/>
                  </a:lnTo>
                  <a:lnTo>
                    <a:pt x="3950" y="60"/>
                  </a:lnTo>
                  <a:lnTo>
                    <a:pt x="3953" y="60"/>
                  </a:lnTo>
                  <a:lnTo>
                    <a:pt x="3955" y="60"/>
                  </a:lnTo>
                  <a:lnTo>
                    <a:pt x="3957" y="59"/>
                  </a:lnTo>
                  <a:lnTo>
                    <a:pt x="3960" y="59"/>
                  </a:lnTo>
                  <a:lnTo>
                    <a:pt x="3963" y="59"/>
                  </a:lnTo>
                  <a:lnTo>
                    <a:pt x="3965" y="58"/>
                  </a:lnTo>
                  <a:lnTo>
                    <a:pt x="3967" y="58"/>
                  </a:lnTo>
                  <a:lnTo>
                    <a:pt x="3970" y="57"/>
                  </a:lnTo>
                  <a:lnTo>
                    <a:pt x="3973" y="57"/>
                  </a:lnTo>
                  <a:lnTo>
                    <a:pt x="3975" y="57"/>
                  </a:lnTo>
                  <a:lnTo>
                    <a:pt x="3978" y="56"/>
                  </a:lnTo>
                  <a:lnTo>
                    <a:pt x="3980" y="56"/>
                  </a:lnTo>
                  <a:lnTo>
                    <a:pt x="3983" y="56"/>
                  </a:lnTo>
                  <a:lnTo>
                    <a:pt x="3985" y="55"/>
                  </a:lnTo>
                  <a:lnTo>
                    <a:pt x="3988" y="55"/>
                  </a:lnTo>
                  <a:lnTo>
                    <a:pt x="3990" y="55"/>
                  </a:lnTo>
                  <a:lnTo>
                    <a:pt x="3993" y="54"/>
                  </a:lnTo>
                  <a:lnTo>
                    <a:pt x="3995" y="54"/>
                  </a:lnTo>
                  <a:lnTo>
                    <a:pt x="3998" y="54"/>
                  </a:lnTo>
                  <a:lnTo>
                    <a:pt x="4000" y="53"/>
                  </a:lnTo>
                  <a:lnTo>
                    <a:pt x="4003" y="53"/>
                  </a:lnTo>
                  <a:lnTo>
                    <a:pt x="4005" y="53"/>
                  </a:lnTo>
                  <a:lnTo>
                    <a:pt x="4008" y="52"/>
                  </a:lnTo>
                  <a:lnTo>
                    <a:pt x="4010" y="52"/>
                  </a:lnTo>
                  <a:lnTo>
                    <a:pt x="4013" y="52"/>
                  </a:lnTo>
                  <a:lnTo>
                    <a:pt x="4015" y="51"/>
                  </a:lnTo>
                  <a:lnTo>
                    <a:pt x="4018" y="51"/>
                  </a:lnTo>
                  <a:lnTo>
                    <a:pt x="4020" y="51"/>
                  </a:lnTo>
                  <a:lnTo>
                    <a:pt x="4023" y="50"/>
                  </a:lnTo>
                  <a:lnTo>
                    <a:pt x="4025" y="50"/>
                  </a:lnTo>
                  <a:lnTo>
                    <a:pt x="4028" y="50"/>
                  </a:lnTo>
                  <a:lnTo>
                    <a:pt x="4030" y="49"/>
                  </a:lnTo>
                  <a:lnTo>
                    <a:pt x="4033" y="49"/>
                  </a:lnTo>
                  <a:lnTo>
                    <a:pt x="4035" y="49"/>
                  </a:lnTo>
                  <a:lnTo>
                    <a:pt x="4037" y="48"/>
                  </a:lnTo>
                  <a:lnTo>
                    <a:pt x="4040" y="48"/>
                  </a:lnTo>
                  <a:lnTo>
                    <a:pt x="4043" y="48"/>
                  </a:lnTo>
                  <a:lnTo>
                    <a:pt x="4045" y="47"/>
                  </a:lnTo>
                  <a:lnTo>
                    <a:pt x="4048" y="47"/>
                  </a:lnTo>
                  <a:lnTo>
                    <a:pt x="4050" y="47"/>
                  </a:lnTo>
                  <a:lnTo>
                    <a:pt x="4053" y="46"/>
                  </a:lnTo>
                  <a:lnTo>
                    <a:pt x="4055" y="46"/>
                  </a:lnTo>
                  <a:lnTo>
                    <a:pt x="4058" y="46"/>
                  </a:lnTo>
                  <a:lnTo>
                    <a:pt x="4060" y="45"/>
                  </a:lnTo>
                  <a:lnTo>
                    <a:pt x="4063" y="45"/>
                  </a:lnTo>
                  <a:lnTo>
                    <a:pt x="4065" y="45"/>
                  </a:lnTo>
                  <a:lnTo>
                    <a:pt x="4068" y="44"/>
                  </a:lnTo>
                  <a:lnTo>
                    <a:pt x="4070" y="44"/>
                  </a:lnTo>
                  <a:lnTo>
                    <a:pt x="4073" y="44"/>
                  </a:lnTo>
                  <a:lnTo>
                    <a:pt x="4075" y="43"/>
                  </a:lnTo>
                  <a:lnTo>
                    <a:pt x="4077" y="43"/>
                  </a:lnTo>
                  <a:lnTo>
                    <a:pt x="4080" y="43"/>
                  </a:lnTo>
                  <a:lnTo>
                    <a:pt x="4082" y="42"/>
                  </a:lnTo>
                  <a:lnTo>
                    <a:pt x="4085" y="42"/>
                  </a:lnTo>
                  <a:lnTo>
                    <a:pt x="4088" y="42"/>
                  </a:lnTo>
                  <a:lnTo>
                    <a:pt x="4090" y="41"/>
                  </a:lnTo>
                  <a:lnTo>
                    <a:pt x="4093" y="41"/>
                  </a:lnTo>
                  <a:lnTo>
                    <a:pt x="4095" y="41"/>
                  </a:lnTo>
                  <a:lnTo>
                    <a:pt x="4098" y="41"/>
                  </a:lnTo>
                  <a:lnTo>
                    <a:pt x="4100" y="40"/>
                  </a:lnTo>
                  <a:lnTo>
                    <a:pt x="4103" y="40"/>
                  </a:lnTo>
                  <a:lnTo>
                    <a:pt x="4105" y="40"/>
                  </a:lnTo>
                  <a:lnTo>
                    <a:pt x="4108" y="39"/>
                  </a:lnTo>
                  <a:lnTo>
                    <a:pt x="4110" y="39"/>
                  </a:lnTo>
                  <a:lnTo>
                    <a:pt x="4113" y="39"/>
                  </a:lnTo>
                  <a:lnTo>
                    <a:pt x="4115" y="38"/>
                  </a:lnTo>
                  <a:lnTo>
                    <a:pt x="4117" y="38"/>
                  </a:lnTo>
                  <a:lnTo>
                    <a:pt x="4120" y="38"/>
                  </a:lnTo>
                  <a:lnTo>
                    <a:pt x="4122" y="37"/>
                  </a:lnTo>
                  <a:lnTo>
                    <a:pt x="4125" y="37"/>
                  </a:lnTo>
                  <a:lnTo>
                    <a:pt x="4128" y="37"/>
                  </a:lnTo>
                  <a:lnTo>
                    <a:pt x="4130" y="37"/>
                  </a:lnTo>
                  <a:lnTo>
                    <a:pt x="4133" y="36"/>
                  </a:lnTo>
                  <a:lnTo>
                    <a:pt x="4135" y="36"/>
                  </a:lnTo>
                  <a:lnTo>
                    <a:pt x="4138" y="36"/>
                  </a:lnTo>
                  <a:lnTo>
                    <a:pt x="4140" y="35"/>
                  </a:lnTo>
                  <a:lnTo>
                    <a:pt x="4143" y="35"/>
                  </a:lnTo>
                  <a:lnTo>
                    <a:pt x="4145" y="35"/>
                  </a:lnTo>
                  <a:lnTo>
                    <a:pt x="4148" y="35"/>
                  </a:lnTo>
                  <a:lnTo>
                    <a:pt x="4150" y="34"/>
                  </a:lnTo>
                  <a:lnTo>
                    <a:pt x="4153" y="34"/>
                  </a:lnTo>
                  <a:lnTo>
                    <a:pt x="4155" y="34"/>
                  </a:lnTo>
                  <a:lnTo>
                    <a:pt x="4157" y="34"/>
                  </a:lnTo>
                  <a:lnTo>
                    <a:pt x="4160" y="33"/>
                  </a:lnTo>
                  <a:lnTo>
                    <a:pt x="4162" y="33"/>
                  </a:lnTo>
                  <a:lnTo>
                    <a:pt x="4165" y="33"/>
                  </a:lnTo>
                  <a:lnTo>
                    <a:pt x="4168" y="33"/>
                  </a:lnTo>
                  <a:lnTo>
                    <a:pt x="4170" y="32"/>
                  </a:lnTo>
                  <a:lnTo>
                    <a:pt x="4173" y="32"/>
                  </a:lnTo>
                  <a:lnTo>
                    <a:pt x="4175" y="32"/>
                  </a:lnTo>
                  <a:lnTo>
                    <a:pt x="4178" y="32"/>
                  </a:lnTo>
                  <a:lnTo>
                    <a:pt x="4180" y="31"/>
                  </a:lnTo>
                  <a:lnTo>
                    <a:pt x="4183" y="31"/>
                  </a:lnTo>
                  <a:lnTo>
                    <a:pt x="4185" y="31"/>
                  </a:lnTo>
                  <a:lnTo>
                    <a:pt x="4188" y="31"/>
                  </a:lnTo>
                  <a:lnTo>
                    <a:pt x="4190" y="30"/>
                  </a:lnTo>
                  <a:lnTo>
                    <a:pt x="4193" y="30"/>
                  </a:lnTo>
                  <a:lnTo>
                    <a:pt x="4195" y="30"/>
                  </a:lnTo>
                  <a:lnTo>
                    <a:pt x="4198" y="30"/>
                  </a:lnTo>
                  <a:lnTo>
                    <a:pt x="4200" y="29"/>
                  </a:lnTo>
                  <a:lnTo>
                    <a:pt x="4203" y="29"/>
                  </a:lnTo>
                  <a:lnTo>
                    <a:pt x="4205" y="29"/>
                  </a:lnTo>
                  <a:lnTo>
                    <a:pt x="4208" y="29"/>
                  </a:lnTo>
                  <a:lnTo>
                    <a:pt x="4210" y="28"/>
                  </a:lnTo>
                  <a:lnTo>
                    <a:pt x="4213" y="28"/>
                  </a:lnTo>
                  <a:lnTo>
                    <a:pt x="4215" y="28"/>
                  </a:lnTo>
                  <a:lnTo>
                    <a:pt x="4218" y="28"/>
                  </a:lnTo>
                  <a:lnTo>
                    <a:pt x="4220" y="28"/>
                  </a:lnTo>
                  <a:lnTo>
                    <a:pt x="4223" y="27"/>
                  </a:lnTo>
                  <a:lnTo>
                    <a:pt x="4225" y="27"/>
                  </a:lnTo>
                  <a:lnTo>
                    <a:pt x="4228" y="27"/>
                  </a:lnTo>
                  <a:lnTo>
                    <a:pt x="4230" y="27"/>
                  </a:lnTo>
                  <a:lnTo>
                    <a:pt x="4233" y="26"/>
                  </a:lnTo>
                  <a:lnTo>
                    <a:pt x="4235" y="26"/>
                  </a:lnTo>
                  <a:lnTo>
                    <a:pt x="4238" y="26"/>
                  </a:lnTo>
                  <a:lnTo>
                    <a:pt x="4240" y="26"/>
                  </a:lnTo>
                  <a:lnTo>
                    <a:pt x="4243" y="25"/>
                  </a:lnTo>
                  <a:lnTo>
                    <a:pt x="4245" y="25"/>
                  </a:lnTo>
                  <a:lnTo>
                    <a:pt x="4248" y="25"/>
                  </a:lnTo>
                  <a:lnTo>
                    <a:pt x="4250" y="25"/>
                  </a:lnTo>
                  <a:lnTo>
                    <a:pt x="4253" y="25"/>
                  </a:lnTo>
                  <a:lnTo>
                    <a:pt x="4255" y="24"/>
                  </a:lnTo>
                  <a:lnTo>
                    <a:pt x="4258" y="24"/>
                  </a:lnTo>
                  <a:lnTo>
                    <a:pt x="4260" y="24"/>
                  </a:lnTo>
                  <a:lnTo>
                    <a:pt x="4263" y="24"/>
                  </a:lnTo>
                  <a:lnTo>
                    <a:pt x="4265" y="23"/>
                  </a:lnTo>
                  <a:lnTo>
                    <a:pt x="4268" y="23"/>
                  </a:lnTo>
                  <a:lnTo>
                    <a:pt x="4270" y="23"/>
                  </a:lnTo>
                  <a:lnTo>
                    <a:pt x="4273" y="23"/>
                  </a:lnTo>
                  <a:lnTo>
                    <a:pt x="4275" y="23"/>
                  </a:lnTo>
                  <a:lnTo>
                    <a:pt x="4278" y="22"/>
                  </a:lnTo>
                  <a:lnTo>
                    <a:pt x="4280" y="22"/>
                  </a:lnTo>
                  <a:lnTo>
                    <a:pt x="4283" y="22"/>
                  </a:lnTo>
                  <a:lnTo>
                    <a:pt x="4285" y="22"/>
                  </a:lnTo>
                  <a:lnTo>
                    <a:pt x="4288" y="21"/>
                  </a:lnTo>
                  <a:lnTo>
                    <a:pt x="4290" y="21"/>
                  </a:lnTo>
                  <a:lnTo>
                    <a:pt x="4293" y="21"/>
                  </a:lnTo>
                  <a:lnTo>
                    <a:pt x="4295" y="21"/>
                  </a:lnTo>
                  <a:lnTo>
                    <a:pt x="4298" y="21"/>
                  </a:lnTo>
                  <a:lnTo>
                    <a:pt x="4300" y="20"/>
                  </a:lnTo>
                  <a:lnTo>
                    <a:pt x="4303" y="20"/>
                  </a:lnTo>
                  <a:lnTo>
                    <a:pt x="4305" y="20"/>
                  </a:lnTo>
                  <a:lnTo>
                    <a:pt x="4308" y="20"/>
                  </a:lnTo>
                  <a:lnTo>
                    <a:pt x="4310" y="20"/>
                  </a:lnTo>
                  <a:lnTo>
                    <a:pt x="4313" y="19"/>
                  </a:lnTo>
                  <a:lnTo>
                    <a:pt x="4315" y="19"/>
                  </a:lnTo>
                  <a:lnTo>
                    <a:pt x="4318" y="19"/>
                  </a:lnTo>
                  <a:lnTo>
                    <a:pt x="4320" y="19"/>
                  </a:lnTo>
                  <a:lnTo>
                    <a:pt x="4323" y="19"/>
                  </a:lnTo>
                  <a:lnTo>
                    <a:pt x="4325" y="19"/>
                  </a:lnTo>
                  <a:lnTo>
                    <a:pt x="4328" y="18"/>
                  </a:lnTo>
                  <a:lnTo>
                    <a:pt x="4330" y="18"/>
                  </a:lnTo>
                  <a:lnTo>
                    <a:pt x="4333" y="18"/>
                  </a:lnTo>
                  <a:lnTo>
                    <a:pt x="4335" y="18"/>
                  </a:lnTo>
                  <a:lnTo>
                    <a:pt x="4338" y="18"/>
                  </a:lnTo>
                  <a:lnTo>
                    <a:pt x="4340" y="18"/>
                  </a:lnTo>
                  <a:lnTo>
                    <a:pt x="4343" y="18"/>
                  </a:lnTo>
                  <a:lnTo>
                    <a:pt x="4345" y="17"/>
                  </a:lnTo>
                  <a:lnTo>
                    <a:pt x="4348" y="17"/>
                  </a:lnTo>
                  <a:lnTo>
                    <a:pt x="4350" y="17"/>
                  </a:lnTo>
                  <a:lnTo>
                    <a:pt x="4353" y="17"/>
                  </a:lnTo>
                  <a:lnTo>
                    <a:pt x="4355" y="17"/>
                  </a:lnTo>
                  <a:lnTo>
                    <a:pt x="4358" y="17"/>
                  </a:lnTo>
                  <a:lnTo>
                    <a:pt x="4360" y="17"/>
                  </a:lnTo>
                  <a:lnTo>
                    <a:pt x="4363" y="16"/>
                  </a:lnTo>
                  <a:lnTo>
                    <a:pt x="4365" y="16"/>
                  </a:lnTo>
                  <a:lnTo>
                    <a:pt x="4368" y="16"/>
                  </a:lnTo>
                  <a:lnTo>
                    <a:pt x="4370" y="16"/>
                  </a:lnTo>
                  <a:lnTo>
                    <a:pt x="4373" y="16"/>
                  </a:lnTo>
                  <a:lnTo>
                    <a:pt x="4375" y="16"/>
                  </a:lnTo>
                  <a:lnTo>
                    <a:pt x="4378" y="16"/>
                  </a:lnTo>
                  <a:lnTo>
                    <a:pt x="4380" y="15"/>
                  </a:lnTo>
                  <a:lnTo>
                    <a:pt x="4383" y="15"/>
                  </a:lnTo>
                  <a:lnTo>
                    <a:pt x="4385" y="15"/>
                  </a:lnTo>
                  <a:lnTo>
                    <a:pt x="4388" y="15"/>
                  </a:lnTo>
                  <a:lnTo>
                    <a:pt x="4390" y="15"/>
                  </a:lnTo>
                  <a:lnTo>
                    <a:pt x="4393" y="15"/>
                  </a:lnTo>
                  <a:lnTo>
                    <a:pt x="4395" y="15"/>
                  </a:lnTo>
                  <a:lnTo>
                    <a:pt x="4398" y="15"/>
                  </a:lnTo>
                  <a:lnTo>
                    <a:pt x="4400" y="14"/>
                  </a:lnTo>
                  <a:lnTo>
                    <a:pt x="4403" y="14"/>
                  </a:lnTo>
                  <a:lnTo>
                    <a:pt x="4405" y="14"/>
                  </a:lnTo>
                  <a:lnTo>
                    <a:pt x="4408" y="14"/>
                  </a:lnTo>
                  <a:lnTo>
                    <a:pt x="4410" y="14"/>
                  </a:lnTo>
                  <a:lnTo>
                    <a:pt x="4413" y="14"/>
                  </a:lnTo>
                  <a:lnTo>
                    <a:pt x="4415" y="14"/>
                  </a:lnTo>
                  <a:lnTo>
                    <a:pt x="4418" y="14"/>
                  </a:lnTo>
                  <a:lnTo>
                    <a:pt x="4420" y="13"/>
                  </a:lnTo>
                  <a:lnTo>
                    <a:pt x="4423" y="13"/>
                  </a:lnTo>
                  <a:lnTo>
                    <a:pt x="4425" y="13"/>
                  </a:lnTo>
                  <a:lnTo>
                    <a:pt x="4428" y="13"/>
                  </a:lnTo>
                  <a:lnTo>
                    <a:pt x="4430" y="13"/>
                  </a:lnTo>
                  <a:lnTo>
                    <a:pt x="4433" y="13"/>
                  </a:lnTo>
                  <a:lnTo>
                    <a:pt x="4435" y="13"/>
                  </a:lnTo>
                  <a:lnTo>
                    <a:pt x="4438" y="12"/>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051" name=""/>
          <p:cNvSpPr/>
          <p:nvPr/>
        </p:nvSpPr>
        <p:spPr>
          <a:xfrm>
            <a:off x="889200" y="526896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052" name=""/>
          <p:cNvSpPr/>
          <p:nvPr/>
        </p:nvSpPr>
        <p:spPr>
          <a:xfrm>
            <a:off x="905040" y="452268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Comic Sans MS"/>
            </a:endParaRPr>
          </a:p>
        </p:txBody>
      </p:sp>
      <p:sp>
        <p:nvSpPr>
          <p:cNvPr id="4053" name=""/>
          <p:cNvSpPr/>
          <p:nvPr/>
        </p:nvSpPr>
        <p:spPr>
          <a:xfrm>
            <a:off x="905040" y="377820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Comic Sans MS"/>
            </a:endParaRPr>
          </a:p>
        </p:txBody>
      </p:sp>
      <p:sp>
        <p:nvSpPr>
          <p:cNvPr id="4054" name=""/>
          <p:cNvSpPr/>
          <p:nvPr/>
        </p:nvSpPr>
        <p:spPr>
          <a:xfrm>
            <a:off x="905040" y="303228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Comic Sans MS"/>
            </a:endParaRPr>
          </a:p>
        </p:txBody>
      </p:sp>
      <p:sp>
        <p:nvSpPr>
          <p:cNvPr id="4055" name=""/>
          <p:cNvSpPr/>
          <p:nvPr/>
        </p:nvSpPr>
        <p:spPr>
          <a:xfrm>
            <a:off x="905040" y="228744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0" lang="en-US" sz="1800" spc="-1" strike="noStrike">
              <a:solidFill>
                <a:srgbClr val="000000"/>
              </a:solidFill>
              <a:latin typeface="Comic Sans MS"/>
            </a:endParaRPr>
          </a:p>
        </p:txBody>
      </p:sp>
      <p:sp>
        <p:nvSpPr>
          <p:cNvPr id="4056" name=""/>
          <p:cNvSpPr/>
          <p:nvPr/>
        </p:nvSpPr>
        <p:spPr>
          <a:xfrm>
            <a:off x="1602000" y="5672160"/>
            <a:ext cx="3124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057" name=""/>
          <p:cNvSpPr/>
          <p:nvPr/>
        </p:nvSpPr>
        <p:spPr>
          <a:xfrm>
            <a:off x="244368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058" name=""/>
          <p:cNvSpPr/>
          <p:nvPr/>
        </p:nvSpPr>
        <p:spPr>
          <a:xfrm>
            <a:off x="333432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4059" name=""/>
          <p:cNvSpPr/>
          <p:nvPr/>
        </p:nvSpPr>
        <p:spPr>
          <a:xfrm>
            <a:off x="419076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4060" name=""/>
          <p:cNvSpPr/>
          <p:nvPr/>
        </p:nvSpPr>
        <p:spPr>
          <a:xfrm>
            <a:off x="513072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4061" name=""/>
          <p:cNvSpPr/>
          <p:nvPr/>
        </p:nvSpPr>
        <p:spPr>
          <a:xfrm>
            <a:off x="5919840" y="5672160"/>
            <a:ext cx="574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Comic Sans MS"/>
            </a:endParaRPr>
          </a:p>
        </p:txBody>
      </p:sp>
      <p:sp>
        <p:nvSpPr>
          <p:cNvPr id="4062" name=""/>
          <p:cNvSpPr/>
          <p:nvPr/>
        </p:nvSpPr>
        <p:spPr>
          <a:xfrm>
            <a:off x="6821280" y="5692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a:t>
            </a:r>
            <a:endParaRPr b="0" lang="en-US" sz="1800" spc="-1" strike="noStrike">
              <a:solidFill>
                <a:srgbClr val="000000"/>
              </a:solidFill>
              <a:latin typeface="Comic Sans MS"/>
            </a:endParaRPr>
          </a:p>
        </p:txBody>
      </p:sp>
      <p:sp>
        <p:nvSpPr>
          <p:cNvPr id="4063" name=""/>
          <p:cNvSpPr/>
          <p:nvPr/>
        </p:nvSpPr>
        <p:spPr>
          <a:xfrm>
            <a:off x="7776720" y="5694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0</a:t>
            </a:r>
            <a:endParaRPr b="0" lang="en-US" sz="1800" spc="-1" strike="noStrike">
              <a:solidFill>
                <a:srgbClr val="000000"/>
              </a:solidFill>
              <a:latin typeface="Comic Sans MS"/>
            </a:endParaRPr>
          </a:p>
        </p:txBody>
      </p:sp>
      <p:sp>
        <p:nvSpPr>
          <p:cNvPr id="4064" name=""/>
          <p:cNvSpPr/>
          <p:nvPr/>
        </p:nvSpPr>
        <p:spPr>
          <a:xfrm>
            <a:off x="804960" y="228600"/>
            <a:ext cx="7778520" cy="80028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Comic Sans MS"/>
              </a:rPr>
              <a:t>Ofil1</a:t>
            </a:r>
            <a:r>
              <a:rPr b="0" lang="fr-FR" sz="3200" spc="-1" strike="noStrike">
                <a:solidFill>
                  <a:srgbClr val="ff3300"/>
                </a:solidFill>
                <a:latin typeface="Comic Sans MS"/>
              </a:rPr>
              <a:t> - Open Field Inner Locomotion</a:t>
            </a:r>
            <a:endParaRPr b="0" lang="en-US" sz="3200" spc="-1" strike="noStrike">
              <a:solidFill>
                <a:srgbClr val="000000"/>
              </a:solidFill>
              <a:latin typeface="Comic Sans MS"/>
            </a:endParaRPr>
          </a:p>
        </p:txBody>
      </p:sp>
      <p:sp>
        <p:nvSpPr>
          <p:cNvPr id="4065" name=""/>
          <p:cNvSpPr/>
          <p:nvPr/>
        </p:nvSpPr>
        <p:spPr>
          <a:xfrm>
            <a:off x="6877800" y="2627280"/>
            <a:ext cx="1415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00"/>
                </a:solidFill>
                <a:latin typeface="Comic Sans MS"/>
              </a:rPr>
              <a:t>females/LEW</a:t>
            </a:r>
            <a:endParaRPr b="0" lang="en-US" sz="1600" spc="-1" strike="noStrike">
              <a:solidFill>
                <a:srgbClr val="000000"/>
              </a:solidFill>
              <a:latin typeface="Comic Sans MS"/>
            </a:endParaRPr>
          </a:p>
        </p:txBody>
      </p:sp>
      <p:sp>
        <p:nvSpPr>
          <p:cNvPr id="4066" name=""/>
          <p:cNvSpPr/>
          <p:nvPr/>
        </p:nvSpPr>
        <p:spPr>
          <a:xfrm>
            <a:off x="6391440" y="2793960"/>
            <a:ext cx="39816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67" name=""/>
          <p:cNvSpPr/>
          <p:nvPr/>
        </p:nvSpPr>
        <p:spPr>
          <a:xfrm>
            <a:off x="6874200" y="2981160"/>
            <a:ext cx="1396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females/SHR</a:t>
            </a:r>
            <a:endParaRPr b="0" lang="en-US" sz="1600" spc="-1" strike="noStrike">
              <a:solidFill>
                <a:srgbClr val="000000"/>
              </a:solidFill>
              <a:latin typeface="Comic Sans MS"/>
            </a:endParaRPr>
          </a:p>
        </p:txBody>
      </p:sp>
      <p:sp>
        <p:nvSpPr>
          <p:cNvPr id="4068" name=""/>
          <p:cNvSpPr/>
          <p:nvPr/>
        </p:nvSpPr>
        <p:spPr>
          <a:xfrm>
            <a:off x="6862680" y="3336840"/>
            <a:ext cx="123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males/LEW</a:t>
            </a:r>
            <a:endParaRPr b="0" lang="en-US" sz="1600" spc="-1" strike="noStrike">
              <a:solidFill>
                <a:srgbClr val="000000"/>
              </a:solidFill>
              <a:latin typeface="Comic Sans MS"/>
            </a:endParaRPr>
          </a:p>
        </p:txBody>
      </p:sp>
      <p:sp>
        <p:nvSpPr>
          <p:cNvPr id="4069" name=""/>
          <p:cNvSpPr/>
          <p:nvPr/>
        </p:nvSpPr>
        <p:spPr>
          <a:xfrm>
            <a:off x="6391440" y="3517920"/>
            <a:ext cx="403200" cy="0"/>
          </a:xfrm>
          <a:prstGeom prst="line">
            <a:avLst/>
          </a:prstGeom>
          <a:ln w="2844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70" name=""/>
          <p:cNvSpPr/>
          <p:nvPr/>
        </p:nvSpPr>
        <p:spPr>
          <a:xfrm>
            <a:off x="6859080" y="3691080"/>
            <a:ext cx="1211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males/SHR</a:t>
            </a:r>
            <a:endParaRPr b="0" lang="en-US" sz="1600" spc="-1" strike="noStrike">
              <a:solidFill>
                <a:srgbClr val="000000"/>
              </a:solidFill>
              <a:latin typeface="Comic Sans MS"/>
            </a:endParaRPr>
          </a:p>
        </p:txBody>
      </p:sp>
      <p:sp>
        <p:nvSpPr>
          <p:cNvPr id="4071" name=""/>
          <p:cNvSpPr/>
          <p:nvPr/>
        </p:nvSpPr>
        <p:spPr>
          <a:xfrm>
            <a:off x="6148440" y="2590920"/>
            <a:ext cx="2227320" cy="1468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072" name=""/>
          <p:cNvSpPr/>
          <p:nvPr/>
        </p:nvSpPr>
        <p:spPr>
          <a:xfrm>
            <a:off x="6391440" y="3156120"/>
            <a:ext cx="3981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73" name=""/>
          <p:cNvSpPr/>
          <p:nvPr/>
        </p:nvSpPr>
        <p:spPr>
          <a:xfrm>
            <a:off x="6391440" y="3879720"/>
            <a:ext cx="39816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74" name=""/>
          <p:cNvSpPr/>
          <p:nvPr/>
        </p:nvSpPr>
        <p:spPr>
          <a:xfrm rot="16200000">
            <a:off x="4149000" y="2738880"/>
            <a:ext cx="81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ac1r</a:t>
            </a:r>
            <a:endParaRPr b="0" lang="en-US" sz="2000" spc="-1" strike="noStrike">
              <a:solidFill>
                <a:srgbClr val="000000"/>
              </a:solidFill>
              <a:latin typeface="Comic Sans MS"/>
            </a:endParaRPr>
          </a:p>
        </p:txBody>
      </p:sp>
      <p:sp>
        <p:nvSpPr>
          <p:cNvPr id="4075" name=""/>
          <p:cNvSpPr/>
          <p:nvPr/>
        </p:nvSpPr>
        <p:spPr>
          <a:xfrm rot="16200000">
            <a:off x="5220000" y="266364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Npy</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98C36213-799E-413E-A792-D390BD0C309C}" type="datetime1">
              <a:rPr lang="en-US"/>
              <a:t>07/30/26</a:t>
            </a:fld>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76" name=""/>
          <p:cNvSpPr/>
          <p:nvPr/>
        </p:nvSpPr>
        <p:spPr>
          <a:xfrm>
            <a:off x="1176480" y="266760"/>
            <a:ext cx="6899040" cy="76212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Comic Sans MS"/>
              </a:rPr>
              <a:t>Ofil1 / Ofil2 - </a:t>
            </a:r>
            <a:r>
              <a:rPr b="0" lang="fr-FR" sz="3200" spc="-1" strike="noStrike">
                <a:solidFill>
                  <a:srgbClr val="ff3300"/>
                </a:solidFill>
                <a:latin typeface="Comic Sans MS"/>
              </a:rPr>
              <a:t>phenotypic effect</a:t>
            </a:r>
            <a:endParaRPr b="0" lang="en-US" sz="3200" spc="-1" strike="noStrike">
              <a:solidFill>
                <a:srgbClr val="000000"/>
              </a:solidFill>
              <a:latin typeface="Comic Sans MS"/>
            </a:endParaRPr>
          </a:p>
        </p:txBody>
      </p:sp>
      <p:sp>
        <p:nvSpPr>
          <p:cNvPr id="4077" name=""/>
          <p:cNvSpPr/>
          <p:nvPr/>
        </p:nvSpPr>
        <p:spPr>
          <a:xfrm>
            <a:off x="221472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78" name=""/>
          <p:cNvSpPr/>
          <p:nvPr/>
        </p:nvSpPr>
        <p:spPr>
          <a:xfrm>
            <a:off x="221472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79" name=""/>
          <p:cNvSpPr/>
          <p:nvPr/>
        </p:nvSpPr>
        <p:spPr>
          <a:xfrm>
            <a:off x="221472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0" name=""/>
          <p:cNvSpPr/>
          <p:nvPr/>
        </p:nvSpPr>
        <p:spPr>
          <a:xfrm>
            <a:off x="221472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1" name=""/>
          <p:cNvSpPr/>
          <p:nvPr/>
        </p:nvSpPr>
        <p:spPr>
          <a:xfrm>
            <a:off x="5224320" y="4125960"/>
            <a:ext cx="14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2" name=""/>
          <p:cNvSpPr/>
          <p:nvPr/>
        </p:nvSpPr>
        <p:spPr>
          <a:xfrm>
            <a:off x="5297400" y="413856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3" name=""/>
          <p:cNvSpPr/>
          <p:nvPr/>
        </p:nvSpPr>
        <p:spPr>
          <a:xfrm>
            <a:off x="221472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4" name=""/>
          <p:cNvSpPr/>
          <p:nvPr/>
        </p:nvSpPr>
        <p:spPr>
          <a:xfrm>
            <a:off x="4538520" y="3889440"/>
            <a:ext cx="150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5" name=""/>
          <p:cNvSpPr/>
          <p:nvPr/>
        </p:nvSpPr>
        <p:spPr>
          <a:xfrm>
            <a:off x="4611600" y="3902040"/>
            <a:ext cx="0" cy="14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6" name=""/>
          <p:cNvSpPr/>
          <p:nvPr/>
        </p:nvSpPr>
        <p:spPr>
          <a:xfrm>
            <a:off x="221472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7" name=""/>
          <p:cNvSpPr/>
          <p:nvPr/>
        </p:nvSpPr>
        <p:spPr>
          <a:xfrm>
            <a:off x="3854520" y="2033640"/>
            <a:ext cx="149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8" name=""/>
          <p:cNvSpPr/>
          <p:nvPr/>
        </p:nvSpPr>
        <p:spPr>
          <a:xfrm>
            <a:off x="3927600" y="2046240"/>
            <a:ext cx="0" cy="22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89" name=""/>
          <p:cNvSpPr/>
          <p:nvPr/>
        </p:nvSpPr>
        <p:spPr>
          <a:xfrm>
            <a:off x="221472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0" name=""/>
          <p:cNvSpPr/>
          <p:nvPr/>
        </p:nvSpPr>
        <p:spPr>
          <a:xfrm>
            <a:off x="2825640" y="2787480"/>
            <a:ext cx="14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1" name=""/>
          <p:cNvSpPr/>
          <p:nvPr/>
        </p:nvSpPr>
        <p:spPr>
          <a:xfrm>
            <a:off x="2898720" y="2800440"/>
            <a:ext cx="0" cy="30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2" name=""/>
          <p:cNvSpPr/>
          <p:nvPr/>
        </p:nvSpPr>
        <p:spPr>
          <a:xfrm>
            <a:off x="2139840" y="4944960"/>
            <a:ext cx="150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3" name=""/>
          <p:cNvSpPr/>
          <p:nvPr/>
        </p:nvSpPr>
        <p:spPr>
          <a:xfrm>
            <a:off x="2214720" y="4957920"/>
            <a:ext cx="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4094" name=""/>
          <p:cNvSpPr/>
          <p:nvPr/>
        </p:nvSpPr>
        <p:spPr>
          <a:xfrm>
            <a:off x="1884240" y="5180040"/>
            <a:ext cx="617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5" name=""/>
          <p:cNvSpPr/>
          <p:nvPr/>
        </p:nvSpPr>
        <p:spPr>
          <a:xfrm flipV="1">
            <a:off x="1873080" y="2019240"/>
            <a:ext cx="0" cy="31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6" name=""/>
          <p:cNvSpPr/>
          <p:nvPr/>
        </p:nvSpPr>
        <p:spPr>
          <a:xfrm flipH="1">
            <a:off x="1789200" y="518004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7" name=""/>
          <p:cNvSpPr/>
          <p:nvPr/>
        </p:nvSpPr>
        <p:spPr>
          <a:xfrm>
            <a:off x="1387440" y="4998960"/>
            <a:ext cx="3276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p:txBody>
      </p:sp>
      <p:sp>
        <p:nvSpPr>
          <p:cNvPr id="4098" name=""/>
          <p:cNvSpPr/>
          <p:nvPr/>
        </p:nvSpPr>
        <p:spPr>
          <a:xfrm flipH="1">
            <a:off x="1789200" y="439416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99" name=""/>
          <p:cNvSpPr/>
          <p:nvPr/>
        </p:nvSpPr>
        <p:spPr>
          <a:xfrm>
            <a:off x="1387440" y="4210200"/>
            <a:ext cx="3276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p:txBody>
      </p:sp>
      <p:sp>
        <p:nvSpPr>
          <p:cNvPr id="4100" name=""/>
          <p:cNvSpPr/>
          <p:nvPr/>
        </p:nvSpPr>
        <p:spPr>
          <a:xfrm flipH="1">
            <a:off x="1789200" y="360684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01" name=""/>
          <p:cNvSpPr/>
          <p:nvPr/>
        </p:nvSpPr>
        <p:spPr>
          <a:xfrm>
            <a:off x="1263240" y="3424320"/>
            <a:ext cx="4741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a:t>
            </a:r>
            <a:endParaRPr b="0" lang="en-US" sz="2000" spc="-1" strike="noStrike">
              <a:solidFill>
                <a:srgbClr val="000000"/>
              </a:solidFill>
              <a:latin typeface="Comic Sans MS"/>
            </a:endParaRPr>
          </a:p>
        </p:txBody>
      </p:sp>
      <p:sp>
        <p:nvSpPr>
          <p:cNvPr id="4102" name=""/>
          <p:cNvSpPr/>
          <p:nvPr/>
        </p:nvSpPr>
        <p:spPr>
          <a:xfrm flipH="1">
            <a:off x="1789200" y="281952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03" name=""/>
          <p:cNvSpPr/>
          <p:nvPr/>
        </p:nvSpPr>
        <p:spPr>
          <a:xfrm>
            <a:off x="1263240" y="2637000"/>
            <a:ext cx="4741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a:t>
            </a:r>
            <a:endParaRPr b="0" lang="en-US" sz="2000" spc="-1" strike="noStrike">
              <a:solidFill>
                <a:srgbClr val="000000"/>
              </a:solidFill>
              <a:latin typeface="Comic Sans MS"/>
            </a:endParaRPr>
          </a:p>
        </p:txBody>
      </p:sp>
      <p:sp>
        <p:nvSpPr>
          <p:cNvPr id="4104" name=""/>
          <p:cNvSpPr/>
          <p:nvPr/>
        </p:nvSpPr>
        <p:spPr>
          <a:xfrm flipH="1">
            <a:off x="1789200" y="2033640"/>
            <a:ext cx="9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05" name=""/>
          <p:cNvSpPr/>
          <p:nvPr/>
        </p:nvSpPr>
        <p:spPr>
          <a:xfrm>
            <a:off x="1244880" y="1849320"/>
            <a:ext cx="4741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a:t>
            </a:r>
            <a:endParaRPr b="0" lang="en-US" sz="2000" spc="-1" strike="noStrike">
              <a:solidFill>
                <a:srgbClr val="000000"/>
              </a:solidFill>
              <a:latin typeface="Comic Sans MS"/>
            </a:endParaRPr>
          </a:p>
        </p:txBody>
      </p:sp>
      <p:sp>
        <p:nvSpPr>
          <p:cNvPr id="4106" name=""/>
          <p:cNvSpPr/>
          <p:nvPr/>
        </p:nvSpPr>
        <p:spPr>
          <a:xfrm flipV="1">
            <a:off x="3662280" y="1856880"/>
            <a:ext cx="0" cy="20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07" name=""/>
          <p:cNvSpPr/>
          <p:nvPr/>
        </p:nvSpPr>
        <p:spPr>
          <a:xfrm>
            <a:off x="3675240" y="1859040"/>
            <a:ext cx="193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08" name=""/>
          <p:cNvSpPr/>
          <p:nvPr/>
        </p:nvSpPr>
        <p:spPr>
          <a:xfrm flipV="1">
            <a:off x="5624640" y="1847880"/>
            <a:ext cx="0" cy="20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09" name=""/>
          <p:cNvSpPr/>
          <p:nvPr/>
        </p:nvSpPr>
        <p:spPr>
          <a:xfrm>
            <a:off x="3612240" y="1468440"/>
            <a:ext cx="212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21.9; P&lt;0.00001</a:t>
            </a:r>
            <a:endParaRPr b="0" lang="en-US" sz="1800" spc="-1" strike="noStrike">
              <a:solidFill>
                <a:srgbClr val="000000"/>
              </a:solidFill>
              <a:latin typeface="Comic Sans MS"/>
            </a:endParaRPr>
          </a:p>
        </p:txBody>
      </p:sp>
      <p:grpSp>
        <p:nvGrpSpPr>
          <p:cNvPr id="4110" name=""/>
          <p:cNvGrpSpPr/>
          <p:nvPr/>
        </p:nvGrpSpPr>
        <p:grpSpPr>
          <a:xfrm>
            <a:off x="3638520" y="5467320"/>
            <a:ext cx="4368600" cy="213480"/>
            <a:chOff x="3638520" y="5467320"/>
            <a:chExt cx="4368600" cy="213480"/>
          </a:xfrm>
        </p:grpSpPr>
        <p:grpSp>
          <p:nvGrpSpPr>
            <p:cNvPr id="4111" name=""/>
            <p:cNvGrpSpPr/>
            <p:nvPr/>
          </p:nvGrpSpPr>
          <p:grpSpPr>
            <a:xfrm>
              <a:off x="3638520" y="5467320"/>
              <a:ext cx="1962360" cy="213480"/>
              <a:chOff x="3638520" y="5467320"/>
              <a:chExt cx="1962360" cy="213480"/>
            </a:xfrm>
          </p:grpSpPr>
          <p:sp>
            <p:nvSpPr>
              <p:cNvPr id="4112" name=""/>
              <p:cNvSpPr/>
              <p:nvPr/>
            </p:nvSpPr>
            <p:spPr>
              <a:xfrm flipV="1">
                <a:off x="3638520" y="547524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13" name=""/>
              <p:cNvSpPr/>
              <p:nvPr/>
            </p:nvSpPr>
            <p:spPr>
              <a:xfrm>
                <a:off x="3658320" y="5666040"/>
                <a:ext cx="193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14" name=""/>
              <p:cNvSpPr/>
              <p:nvPr/>
            </p:nvSpPr>
            <p:spPr>
              <a:xfrm flipV="1">
                <a:off x="5600880" y="5467320"/>
                <a:ext cx="0" cy="20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nvGrpSpPr>
            <p:cNvPr id="4115" name=""/>
            <p:cNvGrpSpPr/>
            <p:nvPr/>
          </p:nvGrpSpPr>
          <p:grpSpPr>
            <a:xfrm>
              <a:off x="6044400" y="5467320"/>
              <a:ext cx="1962720" cy="213480"/>
              <a:chOff x="6044400" y="5467320"/>
              <a:chExt cx="1962720" cy="213480"/>
            </a:xfrm>
          </p:grpSpPr>
          <p:sp>
            <p:nvSpPr>
              <p:cNvPr id="4116" name=""/>
              <p:cNvSpPr/>
              <p:nvPr/>
            </p:nvSpPr>
            <p:spPr>
              <a:xfrm flipV="1">
                <a:off x="6044400" y="547524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17" name=""/>
              <p:cNvSpPr/>
              <p:nvPr/>
            </p:nvSpPr>
            <p:spPr>
              <a:xfrm>
                <a:off x="6065640" y="5666040"/>
                <a:ext cx="193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18" name=""/>
              <p:cNvSpPr/>
              <p:nvPr/>
            </p:nvSpPr>
            <p:spPr>
              <a:xfrm flipV="1">
                <a:off x="8007120" y="5467320"/>
                <a:ext cx="0" cy="20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sp>
        <p:nvSpPr>
          <p:cNvPr id="4119" name=""/>
          <p:cNvSpPr/>
          <p:nvPr/>
        </p:nvSpPr>
        <p:spPr>
          <a:xfrm>
            <a:off x="3679920" y="5624640"/>
            <a:ext cx="185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Ofil1 (RNO4)</a:t>
            </a:r>
            <a:endParaRPr b="0" lang="en-US" sz="2400" spc="-1" strike="noStrike">
              <a:solidFill>
                <a:srgbClr val="000000"/>
              </a:solidFill>
              <a:latin typeface="Comic Sans MS"/>
            </a:endParaRPr>
          </a:p>
        </p:txBody>
      </p:sp>
      <p:sp>
        <p:nvSpPr>
          <p:cNvPr id="4120" name=""/>
          <p:cNvSpPr/>
          <p:nvPr/>
        </p:nvSpPr>
        <p:spPr>
          <a:xfrm rot="16200000">
            <a:off x="-721440" y="3387600"/>
            <a:ext cx="3535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field inner locomotion</a:t>
            </a:r>
            <a:endParaRPr b="0" lang="en-US" sz="2000" spc="-1" strike="noStrike">
              <a:solidFill>
                <a:srgbClr val="000000"/>
              </a:solidFill>
              <a:latin typeface="Comic Sans MS"/>
            </a:endParaRPr>
          </a:p>
        </p:txBody>
      </p:sp>
      <p:sp>
        <p:nvSpPr>
          <p:cNvPr id="4121" name=""/>
          <p:cNvSpPr/>
          <p:nvPr/>
        </p:nvSpPr>
        <p:spPr>
          <a:xfrm>
            <a:off x="5943960" y="1233360"/>
            <a:ext cx="203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emales/LEW</a:t>
            </a:r>
            <a:endParaRPr b="0" lang="en-US" sz="2400" spc="-1" strike="noStrike">
              <a:solidFill>
                <a:srgbClr val="000000"/>
              </a:solidFill>
              <a:latin typeface="Comic Sans MS"/>
            </a:endParaRPr>
          </a:p>
        </p:txBody>
      </p:sp>
      <p:sp>
        <p:nvSpPr>
          <p:cNvPr id="4122" name=""/>
          <p:cNvSpPr/>
          <p:nvPr/>
        </p:nvSpPr>
        <p:spPr>
          <a:xfrm>
            <a:off x="2050920" y="4973760"/>
            <a:ext cx="335160" cy="2077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23" name=""/>
          <p:cNvSpPr/>
          <p:nvPr/>
        </p:nvSpPr>
        <p:spPr>
          <a:xfrm>
            <a:off x="2727360" y="3127320"/>
            <a:ext cx="342720" cy="2054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24" name=""/>
          <p:cNvSpPr/>
          <p:nvPr/>
        </p:nvSpPr>
        <p:spPr>
          <a:xfrm>
            <a:off x="3776760" y="2274840"/>
            <a:ext cx="317520" cy="29066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25" name=""/>
          <p:cNvSpPr/>
          <p:nvPr/>
        </p:nvSpPr>
        <p:spPr>
          <a:xfrm>
            <a:off x="4435560" y="4037040"/>
            <a:ext cx="347400" cy="1144440"/>
          </a:xfrm>
          <a:prstGeom prst="rect">
            <a:avLst/>
          </a:prstGeom>
          <a:solidFill>
            <a:srgbClr val="99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26" name=""/>
          <p:cNvSpPr/>
          <p:nvPr/>
        </p:nvSpPr>
        <p:spPr>
          <a:xfrm>
            <a:off x="5132520" y="4346640"/>
            <a:ext cx="339480" cy="83484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27" name=""/>
          <p:cNvSpPr/>
          <p:nvPr/>
        </p:nvSpPr>
        <p:spPr>
          <a:xfrm>
            <a:off x="390240" y="6114960"/>
            <a:ext cx="45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Molecular Psychiatry 4:453, 1999</a:t>
            </a:r>
            <a:endParaRPr b="0" lang="en-US" sz="1600" spc="-1" strike="noStrike">
              <a:solidFill>
                <a:srgbClr val="000000"/>
              </a:solidFill>
              <a:latin typeface="Comic Sans MS"/>
            </a:endParaRPr>
          </a:p>
        </p:txBody>
      </p:sp>
      <p:sp>
        <p:nvSpPr>
          <p:cNvPr id="4128" name=""/>
          <p:cNvSpPr/>
          <p:nvPr/>
        </p:nvSpPr>
        <p:spPr>
          <a:xfrm>
            <a:off x="351720" y="5465880"/>
            <a:ext cx="2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129" name=""/>
          <p:cNvSpPr/>
          <p:nvPr/>
        </p:nvSpPr>
        <p:spPr>
          <a:xfrm>
            <a:off x="1863360" y="52563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00"/>
                </a:solidFill>
                <a:latin typeface="Comic Sans MS"/>
              </a:rPr>
              <a:t>LEW</a:t>
            </a:r>
            <a:r>
              <a:rPr b="0" lang="fr-FR" sz="2000" spc="-1" strike="noStrike">
                <a:solidFill>
                  <a:srgbClr val="000000"/>
                </a:solidFill>
                <a:latin typeface="Comic Sans MS"/>
              </a:rPr>
              <a:t>   </a:t>
            </a:r>
            <a:r>
              <a:rPr b="0" lang="fr-FR" sz="2000" spc="-1" strike="noStrike">
                <a:solidFill>
                  <a:srgbClr val="00cc99"/>
                </a:solidFill>
                <a:latin typeface="Comic Sans MS"/>
              </a:rPr>
              <a:t>SHR</a:t>
            </a:r>
            <a:endParaRPr b="0" lang="en-US" sz="2000" spc="-1" strike="noStrike">
              <a:solidFill>
                <a:srgbClr val="000000"/>
              </a:solidFill>
              <a:latin typeface="Comic Sans MS"/>
            </a:endParaRPr>
          </a:p>
        </p:txBody>
      </p:sp>
      <p:sp>
        <p:nvSpPr>
          <p:cNvPr id="4130" name=""/>
          <p:cNvSpPr/>
          <p:nvPr/>
        </p:nvSpPr>
        <p:spPr>
          <a:xfrm>
            <a:off x="3652560" y="525636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00"/>
                </a:solidFill>
                <a:latin typeface="Comic Sans MS"/>
              </a:rPr>
              <a:t>L/L</a:t>
            </a:r>
            <a:r>
              <a:rPr b="0" lang="fr-FR" sz="2000" spc="-1" strike="noStrike">
                <a:solidFill>
                  <a:srgbClr val="000000"/>
                </a:solidFill>
                <a:latin typeface="Comic Sans MS"/>
              </a:rPr>
              <a:t>     L/S   </a:t>
            </a:r>
            <a:r>
              <a:rPr b="0" lang="fr-FR" sz="2000" spc="-1" strike="noStrike">
                <a:solidFill>
                  <a:srgbClr val="00dfca"/>
                </a:solidFill>
                <a:latin typeface="Comic Sans MS"/>
              </a:rPr>
              <a:t> </a:t>
            </a:r>
            <a:r>
              <a:rPr b="0" lang="fr-FR" sz="2000" spc="-1" strike="noStrike">
                <a:solidFill>
                  <a:srgbClr val="00cc99"/>
                </a:solidFill>
                <a:latin typeface="Comic Sans MS"/>
              </a:rPr>
              <a:t>S/S</a:t>
            </a:r>
            <a:endParaRPr b="0" lang="en-US" sz="2000" spc="-1" strike="noStrike">
              <a:solidFill>
                <a:srgbClr val="000000"/>
              </a:solidFill>
              <a:latin typeface="Comic Sans MS"/>
            </a:endParaRPr>
          </a:p>
        </p:txBody>
      </p:sp>
      <p:grpSp>
        <p:nvGrpSpPr>
          <p:cNvPr id="4131" name=""/>
          <p:cNvGrpSpPr/>
          <p:nvPr/>
        </p:nvGrpSpPr>
        <p:grpSpPr>
          <a:xfrm>
            <a:off x="5989680" y="2079720"/>
            <a:ext cx="1964160" cy="3999600"/>
            <a:chOff x="5989680" y="2079720"/>
            <a:chExt cx="1964160" cy="3999600"/>
          </a:xfrm>
        </p:grpSpPr>
        <p:grpSp>
          <p:nvGrpSpPr>
            <p:cNvPr id="4132" name=""/>
            <p:cNvGrpSpPr/>
            <p:nvPr/>
          </p:nvGrpSpPr>
          <p:grpSpPr>
            <a:xfrm>
              <a:off x="5989680" y="2079720"/>
              <a:ext cx="1964160" cy="3999600"/>
              <a:chOff x="5989680" y="2079720"/>
              <a:chExt cx="1964160" cy="3999600"/>
            </a:xfrm>
          </p:grpSpPr>
          <p:sp>
            <p:nvSpPr>
              <p:cNvPr id="4133" name=""/>
              <p:cNvSpPr/>
              <p:nvPr/>
            </p:nvSpPr>
            <p:spPr>
              <a:xfrm>
                <a:off x="7194600" y="518004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34" name=""/>
              <p:cNvSpPr/>
              <p:nvPr/>
            </p:nvSpPr>
            <p:spPr>
              <a:xfrm flipH="1">
                <a:off x="7173000" y="5180040"/>
                <a:ext cx="36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35" name=""/>
              <p:cNvSpPr/>
              <p:nvPr/>
            </p:nvSpPr>
            <p:spPr>
              <a:xfrm>
                <a:off x="7194600" y="518004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36" name=""/>
              <p:cNvSpPr/>
              <p:nvPr/>
            </p:nvSpPr>
            <p:spPr>
              <a:xfrm flipH="1">
                <a:off x="7173000" y="5180040"/>
                <a:ext cx="36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37" name=""/>
              <p:cNvSpPr/>
              <p:nvPr/>
            </p:nvSpPr>
            <p:spPr>
              <a:xfrm>
                <a:off x="7279200" y="5180040"/>
                <a:ext cx="14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38" name=""/>
              <p:cNvSpPr/>
              <p:nvPr/>
            </p:nvSpPr>
            <p:spPr>
              <a:xfrm>
                <a:off x="7621920" y="2546280"/>
                <a:ext cx="150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39" name=""/>
              <p:cNvSpPr/>
              <p:nvPr/>
            </p:nvSpPr>
            <p:spPr>
              <a:xfrm>
                <a:off x="7693920" y="2557440"/>
                <a:ext cx="0" cy="26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0" name=""/>
              <p:cNvSpPr/>
              <p:nvPr/>
            </p:nvSpPr>
            <p:spPr>
              <a:xfrm>
                <a:off x="6937920" y="3855960"/>
                <a:ext cx="1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1" name=""/>
              <p:cNvSpPr/>
              <p:nvPr/>
            </p:nvSpPr>
            <p:spPr>
              <a:xfrm>
                <a:off x="7009920" y="3868560"/>
                <a:ext cx="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2" name=""/>
              <p:cNvSpPr/>
              <p:nvPr/>
            </p:nvSpPr>
            <p:spPr>
              <a:xfrm>
                <a:off x="6251760" y="4319640"/>
                <a:ext cx="14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3" name=""/>
              <p:cNvSpPr/>
              <p:nvPr/>
            </p:nvSpPr>
            <p:spPr>
              <a:xfrm>
                <a:off x="6323760" y="433224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4" name=""/>
              <p:cNvSpPr/>
              <p:nvPr/>
            </p:nvSpPr>
            <p:spPr>
              <a:xfrm>
                <a:off x="6081480" y="5624640"/>
                <a:ext cx="185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Ofil2 (RNO7)</a:t>
                </a:r>
                <a:endParaRPr b="0" lang="en-US" sz="2400" spc="-1" strike="noStrike">
                  <a:solidFill>
                    <a:srgbClr val="000000"/>
                  </a:solidFill>
                  <a:latin typeface="Comic Sans MS"/>
                </a:endParaRPr>
              </a:p>
            </p:txBody>
          </p:sp>
          <p:sp>
            <p:nvSpPr>
              <p:cNvPr id="4145" name=""/>
              <p:cNvSpPr/>
              <p:nvPr/>
            </p:nvSpPr>
            <p:spPr>
              <a:xfrm flipV="1">
                <a:off x="5989680" y="2422080"/>
                <a:ext cx="0" cy="20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6" name=""/>
              <p:cNvSpPr/>
              <p:nvPr/>
            </p:nvSpPr>
            <p:spPr>
              <a:xfrm>
                <a:off x="6002280" y="2424240"/>
                <a:ext cx="1934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7" name=""/>
              <p:cNvSpPr/>
              <p:nvPr/>
            </p:nvSpPr>
            <p:spPr>
              <a:xfrm flipV="1">
                <a:off x="7953840" y="2413080"/>
                <a:ext cx="0" cy="20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8" name=""/>
              <p:cNvSpPr/>
              <p:nvPr/>
            </p:nvSpPr>
            <p:spPr>
              <a:xfrm>
                <a:off x="6083280" y="2079720"/>
                <a:ext cx="1860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9.4; P&lt;0.0004</a:t>
                </a:r>
                <a:endParaRPr b="0" lang="en-US" sz="1800" spc="-1" strike="noStrike">
                  <a:solidFill>
                    <a:srgbClr val="000000"/>
                  </a:solidFill>
                  <a:latin typeface="Comic Sans MS"/>
                </a:endParaRPr>
              </a:p>
            </p:txBody>
          </p:sp>
          <p:sp>
            <p:nvSpPr>
              <p:cNvPr id="4149" name=""/>
              <p:cNvSpPr/>
              <p:nvPr/>
            </p:nvSpPr>
            <p:spPr>
              <a:xfrm>
                <a:off x="6161760" y="4521240"/>
                <a:ext cx="333000" cy="6602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50" name=""/>
              <p:cNvSpPr/>
              <p:nvPr/>
            </p:nvSpPr>
            <p:spPr>
              <a:xfrm>
                <a:off x="6858720" y="4070520"/>
                <a:ext cx="332640" cy="1110960"/>
              </a:xfrm>
              <a:prstGeom prst="rect">
                <a:avLst/>
              </a:prstGeom>
              <a:solidFill>
                <a:srgbClr val="99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51" name=""/>
              <p:cNvSpPr/>
              <p:nvPr/>
            </p:nvSpPr>
            <p:spPr>
              <a:xfrm>
                <a:off x="7533360" y="2843280"/>
                <a:ext cx="325440" cy="2338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4152" name=""/>
            <p:cNvSpPr/>
            <p:nvPr/>
          </p:nvSpPr>
          <p:spPr>
            <a:xfrm>
              <a:off x="6039360" y="525636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00"/>
                  </a:solidFill>
                  <a:latin typeface="Comic Sans MS"/>
                </a:rPr>
                <a:t>L/L</a:t>
              </a:r>
              <a:r>
                <a:rPr b="0" lang="fr-FR" sz="2000" spc="-1" strike="noStrike">
                  <a:solidFill>
                    <a:srgbClr val="000000"/>
                  </a:solidFill>
                  <a:latin typeface="Comic Sans MS"/>
                </a:rPr>
                <a:t>     L/S   </a:t>
              </a:r>
              <a:r>
                <a:rPr b="0" lang="fr-FR" sz="2000" spc="-1" strike="noStrike">
                  <a:solidFill>
                    <a:srgbClr val="00dfca"/>
                  </a:solidFill>
                  <a:latin typeface="Comic Sans MS"/>
                </a:rPr>
                <a:t> </a:t>
              </a:r>
              <a:r>
                <a:rPr b="0" lang="fr-FR" sz="2000" spc="-1" strike="noStrike">
                  <a:solidFill>
                    <a:srgbClr val="00cc99"/>
                  </a:solidFill>
                  <a:latin typeface="Comic Sans MS"/>
                </a:rPr>
                <a:t>S/S</a:t>
              </a:r>
              <a:endParaRPr b="0" lang="en-US" sz="20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62F30906-7242-4150-A9B5-B3E0C1EC71EA}" type="datetime1">
              <a:rPr lang="en-US"/>
              <a:t>07/30/26</a:t>
            </a:fld>
          </a:p>
        </p:txBody>
      </p:sp>
    </p:spTree>
  </p:cSld>
  <p:transition spd="med">
    <p:wipe dir="r"/>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7" presetSubtype="4">
                                  <p:stCondLst>
                                    <p:cond delay="0"/>
                                  </p:stCondLst>
                                  <p:childTnLst>
                                    <p:set>
                                      <p:cBhvr>
                                        <p:cTn id="507" dur="1" fill="hold">
                                          <p:stCondLst>
                                            <p:cond delay="0"/>
                                          </p:stCondLst>
                                        </p:cTn>
                                        <p:tgtEl>
                                          <p:spTgt spid="4131"/>
                                        </p:tgtEl>
                                        <p:attrNameLst>
                                          <p:attrName>style.visibility</p:attrName>
                                        </p:attrNameLst>
                                      </p:cBhvr>
                                      <p:to>
                                        <p:strVal val="visible"/>
                                      </p:to>
                                    </p:set>
                                    <p:anim calcmode="lin" valueType="num">
                                      <p:cBhvr additive="repl">
                                        <p:cTn id="508" dur="500" fill="hold"/>
                                        <p:tgtEl>
                                          <p:spTgt spid="4131"/>
                                        </p:tgtEl>
                                        <p:attrNameLst>
                                          <p:attrName>ppt_x</p:attrName>
                                        </p:attrNameLst>
                                      </p:cBhvr>
                                      <p:tavLst>
                                        <p:tav tm="0">
                                          <p:val>
                                            <p:strVal val="#ppt_x"/>
                                          </p:val>
                                        </p:tav>
                                        <p:tav tm="100000">
                                          <p:val>
                                            <p:strVal val="#ppt_x"/>
                                          </p:val>
                                        </p:tav>
                                      </p:tavLst>
                                    </p:anim>
                                    <p:anim calcmode="lin" valueType="num">
                                      <p:cBhvr additive="repl">
                                        <p:cTn id="509" dur="500" fill="hold"/>
                                        <p:tgtEl>
                                          <p:spTgt spid="4131"/>
                                        </p:tgtEl>
                                        <p:attrNameLst>
                                          <p:attrName>ppt_y</p:attrName>
                                        </p:attrNameLst>
                                      </p:cBhvr>
                                      <p:tavLst>
                                        <p:tav tm="0">
                                          <p:val>
                                            <p:strVal val="#ppt_y+#ppt_h/2"/>
                                          </p:val>
                                        </p:tav>
                                        <p:tav tm="100000">
                                          <p:val>
                                            <p:strVal val="#ppt_y"/>
                                          </p:val>
                                        </p:tav>
                                      </p:tavLst>
                                    </p:anim>
                                    <p:anim calcmode="lin" valueType="num">
                                      <p:cBhvr additive="repl">
                                        <p:cTn id="510" dur="500" fill="hold"/>
                                        <p:tgtEl>
                                          <p:spTgt spid="4131"/>
                                        </p:tgtEl>
                                        <p:attrNameLst>
                                          <p:attrName>ppt_w</p:attrName>
                                        </p:attrNameLst>
                                      </p:cBhvr>
                                      <p:tavLst>
                                        <p:tav tm="0">
                                          <p:val>
                                            <p:strVal val="#ppt_w"/>
                                          </p:val>
                                        </p:tav>
                                        <p:tav tm="100000">
                                          <p:val>
                                            <p:strVal val="#ppt_w"/>
                                          </p:val>
                                        </p:tav>
                                      </p:tavLst>
                                    </p:anim>
                                    <p:anim calcmode="lin" valueType="num">
                                      <p:cBhvr additive="repl">
                                        <p:cTn id="511" dur="500" fill="hold"/>
                                        <p:tgtEl>
                                          <p:spTgt spid="4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53" name=""/>
          <p:cNvSpPr/>
          <p:nvPr/>
        </p:nvSpPr>
        <p:spPr>
          <a:xfrm>
            <a:off x="1949400" y="2352600"/>
            <a:ext cx="206280" cy="4011840"/>
          </a:xfrm>
          <a:prstGeom prst="downArrow">
            <a:avLst>
              <a:gd name="adj1" fmla="val 50000"/>
              <a:gd name="adj2" fmla="val 486213"/>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154" name="PlaceHolder 1"/>
          <p:cNvSpPr>
            <a:spLocks noGrp="1"/>
          </p:cNvSpPr>
          <p:nvPr>
            <p:ph type="title"/>
          </p:nvPr>
        </p:nvSpPr>
        <p:spPr>
          <a:xfrm>
            <a:off x="1734840" y="366840"/>
            <a:ext cx="5978520" cy="110304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a:t>
            </a:r>
            <a:br>
              <a:rPr sz="2800"/>
            </a:br>
            <a:r>
              <a:rPr b="0" i="1" lang="fr-FR" sz="2400" spc="-1" strike="noStrike">
                <a:solidFill>
                  <a:srgbClr val="000000"/>
                </a:solidFill>
                <a:latin typeface="Comic Sans MS"/>
              </a:rPr>
              <a:t>O</a:t>
            </a:r>
            <a:r>
              <a:rPr b="0" i="1" lang="fr-FR" sz="2400" spc="-1" strike="noStrike">
                <a:solidFill>
                  <a:srgbClr val="ff3300"/>
                </a:solidFill>
                <a:latin typeface="Comic Sans MS"/>
              </a:rPr>
              <a:t>pen </a:t>
            </a:r>
            <a:r>
              <a:rPr b="0" i="1" lang="fr-FR" sz="2400" spc="-1" strike="noStrike">
                <a:solidFill>
                  <a:srgbClr val="000000"/>
                </a:solidFill>
                <a:latin typeface="Comic Sans MS"/>
              </a:rPr>
              <a:t>f</a:t>
            </a:r>
            <a:r>
              <a:rPr b="0" i="1" lang="fr-FR" sz="2400" spc="-1" strike="noStrike">
                <a:solidFill>
                  <a:srgbClr val="ff3300"/>
                </a:solidFill>
                <a:latin typeface="Comic Sans MS"/>
              </a:rPr>
              <a:t>ield </a:t>
            </a:r>
            <a:r>
              <a:rPr b="0" i="1" lang="fr-FR" sz="2400" spc="-1" strike="noStrike">
                <a:solidFill>
                  <a:srgbClr val="000000"/>
                </a:solidFill>
                <a:latin typeface="Comic Sans MS"/>
              </a:rPr>
              <a:t>i</a:t>
            </a:r>
            <a:r>
              <a:rPr b="0" i="1" lang="fr-FR" sz="2400" spc="-1" strike="noStrike">
                <a:solidFill>
                  <a:srgbClr val="ff3300"/>
                </a:solidFill>
                <a:latin typeface="Comic Sans MS"/>
              </a:rPr>
              <a:t>nner </a:t>
            </a:r>
            <a:r>
              <a:rPr b="0" i="1" lang="fr-FR" sz="2400" spc="-1" strike="noStrike">
                <a:solidFill>
                  <a:srgbClr val="000000"/>
                </a:solidFill>
                <a:latin typeface="Comic Sans MS"/>
              </a:rPr>
              <a:t>l</a:t>
            </a:r>
            <a:r>
              <a:rPr b="0" i="1" lang="fr-FR" sz="2400" spc="-1" strike="noStrike">
                <a:solidFill>
                  <a:srgbClr val="ff3300"/>
                </a:solidFill>
                <a:latin typeface="Comic Sans MS"/>
              </a:rPr>
              <a:t>ocomotion</a:t>
            </a:r>
            <a:endParaRPr b="0" lang="en-US" sz="2400" spc="-1" strike="noStrike">
              <a:solidFill>
                <a:srgbClr val="ff3300"/>
              </a:solidFill>
              <a:latin typeface="Comic Sans MS"/>
            </a:endParaRPr>
          </a:p>
        </p:txBody>
      </p:sp>
      <p:sp>
        <p:nvSpPr>
          <p:cNvPr id="4155" name=""/>
          <p:cNvSpPr/>
          <p:nvPr/>
        </p:nvSpPr>
        <p:spPr>
          <a:xfrm>
            <a:off x="806040" y="1825560"/>
            <a:ext cx="240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HR</a:t>
            </a:r>
            <a:r>
              <a:rPr b="0" lang="en-US" sz="2400" spc="-1" strike="noStrike">
                <a:solidFill>
                  <a:srgbClr val="000000"/>
                </a:solidFill>
                <a:latin typeface="Comic Sans MS"/>
              </a:rPr>
              <a:t>      x     </a:t>
            </a:r>
            <a:r>
              <a:rPr b="0" lang="en-US" sz="2400" spc="-1" strike="noStrike">
                <a:solidFill>
                  <a:srgbClr val="00ff00"/>
                </a:solidFill>
                <a:latin typeface="Comic Sans MS"/>
              </a:rPr>
              <a:t>LEW</a:t>
            </a:r>
            <a:endParaRPr b="0" lang="en-US" sz="2400" spc="-1" strike="noStrike">
              <a:solidFill>
                <a:srgbClr val="000000"/>
              </a:solidFill>
              <a:latin typeface="Comic Sans MS"/>
            </a:endParaRPr>
          </a:p>
        </p:txBody>
      </p:sp>
      <p:sp>
        <p:nvSpPr>
          <p:cNvPr id="4156" name=""/>
          <p:cNvSpPr/>
          <p:nvPr/>
        </p:nvSpPr>
        <p:spPr>
          <a:xfrm>
            <a:off x="1798560" y="242892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1</a:t>
            </a:r>
            <a:endParaRPr b="0" lang="en-US" sz="2400" spc="-1" strike="noStrike">
              <a:solidFill>
                <a:srgbClr val="000000"/>
              </a:solidFill>
              <a:latin typeface="Comic Sans MS"/>
            </a:endParaRPr>
          </a:p>
        </p:txBody>
      </p:sp>
      <p:sp>
        <p:nvSpPr>
          <p:cNvPr id="4157" name=""/>
          <p:cNvSpPr/>
          <p:nvPr/>
        </p:nvSpPr>
        <p:spPr>
          <a:xfrm>
            <a:off x="1788120" y="299736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2</a:t>
            </a:r>
            <a:endParaRPr b="0" lang="en-US" sz="2400" spc="-1" strike="noStrike">
              <a:solidFill>
                <a:srgbClr val="000000"/>
              </a:solidFill>
              <a:latin typeface="Comic Sans MS"/>
            </a:endParaRPr>
          </a:p>
        </p:txBody>
      </p:sp>
      <p:sp>
        <p:nvSpPr>
          <p:cNvPr id="4158" name=""/>
          <p:cNvSpPr/>
          <p:nvPr/>
        </p:nvSpPr>
        <p:spPr>
          <a:xfrm>
            <a:off x="3284640" y="2739960"/>
            <a:ext cx="1433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 </a:t>
            </a:r>
            <a:r>
              <a:rPr b="0" lang="fr-FR" sz="2000" spc="-1" strike="noStrike">
                <a:solidFill>
                  <a:srgbClr val="3333cc"/>
                </a:solidFill>
                <a:latin typeface="Comic Sans MS"/>
              </a:rPr>
              <a:t>high ’ lin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3333cc"/>
                </a:solidFill>
                <a:latin typeface="Comic Sans MS"/>
              </a:rPr>
              <a:t>Ofil1</a:t>
            </a:r>
            <a:r>
              <a:rPr b="0" lang="fr-FR" sz="2000" spc="-1" strike="noStrike">
                <a:solidFill>
                  <a:srgbClr val="3333cc"/>
                </a:solidFill>
                <a:latin typeface="Comic Sans MS"/>
              </a:rPr>
              <a:t> L/L</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3333cc"/>
                </a:solidFill>
                <a:latin typeface="Comic Sans MS"/>
              </a:rPr>
              <a:t>Ofil2</a:t>
            </a:r>
            <a:r>
              <a:rPr b="0" lang="fr-FR" sz="2000" spc="-1" strike="noStrike">
                <a:solidFill>
                  <a:srgbClr val="3333cc"/>
                </a:solidFill>
                <a:latin typeface="Comic Sans MS"/>
              </a:rPr>
              <a:t> S/S</a:t>
            </a:r>
            <a:endParaRPr b="0" lang="en-US" sz="2000" spc="-1" strike="noStrike">
              <a:solidFill>
                <a:srgbClr val="000000"/>
              </a:solidFill>
              <a:latin typeface="Comic Sans MS"/>
            </a:endParaRPr>
          </a:p>
        </p:txBody>
      </p:sp>
      <p:sp>
        <p:nvSpPr>
          <p:cNvPr id="4159" name=""/>
          <p:cNvSpPr/>
          <p:nvPr/>
        </p:nvSpPr>
        <p:spPr>
          <a:xfrm>
            <a:off x="5294880" y="2741760"/>
            <a:ext cx="13161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omic Sans MS"/>
              </a:rPr>
              <a:t>‘ </a:t>
            </a:r>
            <a:r>
              <a:rPr b="0" lang="fr-FR" sz="2000" spc="-1" strike="noStrike">
                <a:solidFill>
                  <a:srgbClr val="006600"/>
                </a:solidFill>
                <a:latin typeface="Comic Sans MS"/>
              </a:rPr>
              <a:t>low ’ lin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6600"/>
                </a:solidFill>
                <a:latin typeface="Comic Sans MS"/>
              </a:rPr>
              <a:t>Ofil1</a:t>
            </a:r>
            <a:r>
              <a:rPr b="0" lang="fr-FR" sz="2000" spc="-1" strike="noStrike">
                <a:solidFill>
                  <a:srgbClr val="006600"/>
                </a:solidFill>
                <a:latin typeface="Comic Sans MS"/>
              </a:rPr>
              <a:t> S/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6600"/>
                </a:solidFill>
                <a:latin typeface="Comic Sans MS"/>
              </a:rPr>
              <a:t>Ofil2</a:t>
            </a:r>
            <a:r>
              <a:rPr b="0" lang="fr-FR" sz="2000" spc="-1" strike="noStrike">
                <a:solidFill>
                  <a:srgbClr val="006600"/>
                </a:solidFill>
                <a:latin typeface="Comic Sans MS"/>
              </a:rPr>
              <a:t> L/L</a:t>
            </a:r>
            <a:endParaRPr b="0" lang="en-US" sz="2000" spc="-1" strike="noStrike">
              <a:solidFill>
                <a:srgbClr val="000000"/>
              </a:solidFill>
              <a:latin typeface="Comic Sans MS"/>
            </a:endParaRPr>
          </a:p>
        </p:txBody>
      </p:sp>
      <p:sp>
        <p:nvSpPr>
          <p:cNvPr id="4160" name=""/>
          <p:cNvSpPr/>
          <p:nvPr/>
        </p:nvSpPr>
        <p:spPr>
          <a:xfrm>
            <a:off x="1788120" y="3976560"/>
            <a:ext cx="513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4</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5</a:t>
            </a:r>
            <a:endParaRPr b="0" lang="en-US" sz="2400" spc="-1" strike="noStrike">
              <a:solidFill>
                <a:srgbClr val="000000"/>
              </a:solidFill>
              <a:latin typeface="Comic Sans MS"/>
            </a:endParaRPr>
          </a:p>
        </p:txBody>
      </p:sp>
      <p:sp>
        <p:nvSpPr>
          <p:cNvPr id="4161" name=""/>
          <p:cNvSpPr/>
          <p:nvPr/>
        </p:nvSpPr>
        <p:spPr>
          <a:xfrm>
            <a:off x="3345120" y="4329000"/>
            <a:ext cx="126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4M, 15F</a:t>
            </a:r>
            <a:endParaRPr b="0" lang="en-US" sz="2000" spc="-1" strike="noStrike">
              <a:solidFill>
                <a:srgbClr val="000000"/>
              </a:solidFill>
              <a:latin typeface="Comic Sans MS"/>
            </a:endParaRPr>
          </a:p>
        </p:txBody>
      </p:sp>
      <p:sp>
        <p:nvSpPr>
          <p:cNvPr id="4162" name=""/>
          <p:cNvSpPr/>
          <p:nvPr/>
        </p:nvSpPr>
        <p:spPr>
          <a:xfrm>
            <a:off x="5296320" y="4329000"/>
            <a:ext cx="126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1M, 22F</a:t>
            </a:r>
            <a:endParaRPr b="0" lang="en-US" sz="2000" spc="-1" strike="noStrike">
              <a:solidFill>
                <a:srgbClr val="000000"/>
              </a:solidFill>
              <a:latin typeface="Comic Sans MS"/>
            </a:endParaRPr>
          </a:p>
        </p:txBody>
      </p:sp>
      <p:sp>
        <p:nvSpPr>
          <p:cNvPr id="4163" name=""/>
          <p:cNvSpPr/>
          <p:nvPr/>
        </p:nvSpPr>
        <p:spPr>
          <a:xfrm>
            <a:off x="6722280" y="4543560"/>
            <a:ext cx="20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ehavioral tests</a:t>
            </a:r>
            <a:endParaRPr b="0" lang="en-US" sz="2000" spc="-1" strike="noStrike">
              <a:solidFill>
                <a:srgbClr val="000000"/>
              </a:solidFill>
              <a:latin typeface="Comic Sans MS"/>
            </a:endParaRPr>
          </a:p>
        </p:txBody>
      </p:sp>
      <p:sp>
        <p:nvSpPr>
          <p:cNvPr id="4164" name=""/>
          <p:cNvSpPr/>
          <p:nvPr/>
        </p:nvSpPr>
        <p:spPr>
          <a:xfrm>
            <a:off x="3345120" y="4780080"/>
            <a:ext cx="126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M, 15F</a:t>
            </a:r>
            <a:endParaRPr b="0" lang="en-US" sz="2000" spc="-1" strike="noStrike">
              <a:solidFill>
                <a:srgbClr val="000000"/>
              </a:solidFill>
              <a:latin typeface="Comic Sans MS"/>
            </a:endParaRPr>
          </a:p>
        </p:txBody>
      </p:sp>
      <p:sp>
        <p:nvSpPr>
          <p:cNvPr id="4165" name=""/>
          <p:cNvSpPr/>
          <p:nvPr/>
        </p:nvSpPr>
        <p:spPr>
          <a:xfrm>
            <a:off x="5297760" y="4780080"/>
            <a:ext cx="126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2M, 12F</a:t>
            </a: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7E7D6C78-55FE-4EFB-A579-2B843C016D19}" type="datetime1">
              <a:rPr lang="en-US"/>
              <a:t>07/30/26</a:t>
            </a:fld>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6" name=""/>
          <p:cNvSpPr/>
          <p:nvPr/>
        </p:nvSpPr>
        <p:spPr>
          <a:xfrm>
            <a:off x="685800" y="457200"/>
            <a:ext cx="7772400" cy="80028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a:t>
            </a:r>
            <a:br>
              <a:rPr sz="2800"/>
            </a:br>
            <a:r>
              <a:rPr b="0" lang="fr-FR" sz="2800" spc="-1" strike="noStrike">
                <a:solidFill>
                  <a:srgbClr val="ff3300"/>
                </a:solidFill>
                <a:latin typeface="Comic Sans MS"/>
              </a:rPr>
              <a:t>open field (7 lux)</a:t>
            </a:r>
            <a:endParaRPr b="0" lang="en-US" sz="2800" spc="-1" strike="noStrike">
              <a:solidFill>
                <a:srgbClr val="000000"/>
              </a:solidFill>
              <a:latin typeface="Comic Sans MS"/>
            </a:endParaRPr>
          </a:p>
        </p:txBody>
      </p:sp>
      <p:sp>
        <p:nvSpPr>
          <p:cNvPr id="4167" name=""/>
          <p:cNvSpPr/>
          <p:nvPr/>
        </p:nvSpPr>
        <p:spPr>
          <a:xfrm>
            <a:off x="1414440" y="2071800"/>
            <a:ext cx="2382840" cy="334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68" name=""/>
          <p:cNvSpPr/>
          <p:nvPr/>
        </p:nvSpPr>
        <p:spPr>
          <a:xfrm>
            <a:off x="1360440" y="1566720"/>
            <a:ext cx="2487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uter locomotion</a:t>
            </a:r>
            <a:endParaRPr b="0" lang="en-US" sz="2400" spc="-1" strike="noStrike">
              <a:solidFill>
                <a:srgbClr val="000000"/>
              </a:solidFill>
              <a:latin typeface="Comic Sans MS"/>
            </a:endParaRPr>
          </a:p>
        </p:txBody>
      </p:sp>
      <p:sp>
        <p:nvSpPr>
          <p:cNvPr id="4169" name=""/>
          <p:cNvSpPr/>
          <p:nvPr/>
        </p:nvSpPr>
        <p:spPr>
          <a:xfrm>
            <a:off x="1414440" y="5415120"/>
            <a:ext cx="238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70" name=""/>
          <p:cNvSpPr/>
          <p:nvPr/>
        </p:nvSpPr>
        <p:spPr>
          <a:xfrm>
            <a:off x="1414440" y="2071800"/>
            <a:ext cx="238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71" name=""/>
          <p:cNvSpPr/>
          <p:nvPr/>
        </p:nvSpPr>
        <p:spPr>
          <a:xfrm flipV="1">
            <a:off x="1414440" y="2071440"/>
            <a:ext cx="1440" cy="334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72" name=""/>
          <p:cNvSpPr/>
          <p:nvPr/>
        </p:nvSpPr>
        <p:spPr>
          <a:xfrm>
            <a:off x="1365120" y="54151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73" name=""/>
          <p:cNvSpPr/>
          <p:nvPr/>
        </p:nvSpPr>
        <p:spPr>
          <a:xfrm>
            <a:off x="1365120" y="49388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74" name=""/>
          <p:cNvSpPr/>
          <p:nvPr/>
        </p:nvSpPr>
        <p:spPr>
          <a:xfrm>
            <a:off x="1365120" y="446076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175" name=""/>
          <p:cNvSpPr/>
          <p:nvPr/>
        </p:nvSpPr>
        <p:spPr>
          <a:xfrm>
            <a:off x="1365120" y="39830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76" name=""/>
          <p:cNvSpPr/>
          <p:nvPr/>
        </p:nvSpPr>
        <p:spPr>
          <a:xfrm>
            <a:off x="1365120" y="35053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77" name=""/>
          <p:cNvSpPr/>
          <p:nvPr/>
        </p:nvSpPr>
        <p:spPr>
          <a:xfrm>
            <a:off x="1365120" y="302724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178" name=""/>
          <p:cNvSpPr/>
          <p:nvPr/>
        </p:nvSpPr>
        <p:spPr>
          <a:xfrm>
            <a:off x="1365120" y="25495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79" name=""/>
          <p:cNvSpPr/>
          <p:nvPr/>
        </p:nvSpPr>
        <p:spPr>
          <a:xfrm>
            <a:off x="1365120" y="207180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80" name=""/>
          <p:cNvSpPr/>
          <p:nvPr/>
        </p:nvSpPr>
        <p:spPr>
          <a:xfrm>
            <a:off x="1097640" y="52704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181" name=""/>
          <p:cNvSpPr/>
          <p:nvPr/>
        </p:nvSpPr>
        <p:spPr>
          <a:xfrm>
            <a:off x="987840" y="4792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182" name=""/>
          <p:cNvSpPr/>
          <p:nvPr/>
        </p:nvSpPr>
        <p:spPr>
          <a:xfrm>
            <a:off x="987840" y="43149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4183" name=""/>
          <p:cNvSpPr/>
          <p:nvPr/>
        </p:nvSpPr>
        <p:spPr>
          <a:xfrm>
            <a:off x="987840" y="38368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4184" name=""/>
          <p:cNvSpPr/>
          <p:nvPr/>
        </p:nvSpPr>
        <p:spPr>
          <a:xfrm>
            <a:off x="987840" y="33591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4185" name=""/>
          <p:cNvSpPr/>
          <p:nvPr/>
        </p:nvSpPr>
        <p:spPr>
          <a:xfrm>
            <a:off x="887400" y="288144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Comic Sans MS"/>
            </a:endParaRPr>
          </a:p>
        </p:txBody>
      </p:sp>
      <p:sp>
        <p:nvSpPr>
          <p:cNvPr id="4186" name=""/>
          <p:cNvSpPr/>
          <p:nvPr/>
        </p:nvSpPr>
        <p:spPr>
          <a:xfrm>
            <a:off x="887400" y="240516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a:t>
            </a:r>
            <a:endParaRPr b="0" lang="en-US" sz="1800" spc="-1" strike="noStrike">
              <a:solidFill>
                <a:srgbClr val="000000"/>
              </a:solidFill>
              <a:latin typeface="Comic Sans MS"/>
            </a:endParaRPr>
          </a:p>
        </p:txBody>
      </p:sp>
      <p:sp>
        <p:nvSpPr>
          <p:cNvPr id="4187" name=""/>
          <p:cNvSpPr/>
          <p:nvPr/>
        </p:nvSpPr>
        <p:spPr>
          <a:xfrm>
            <a:off x="887400" y="192888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0</a:t>
            </a:r>
            <a:endParaRPr b="0" lang="en-US" sz="1800" spc="-1" strike="noStrike">
              <a:solidFill>
                <a:srgbClr val="000000"/>
              </a:solidFill>
              <a:latin typeface="Comic Sans MS"/>
            </a:endParaRPr>
          </a:p>
        </p:txBody>
      </p:sp>
      <p:sp>
        <p:nvSpPr>
          <p:cNvPr id="4188" name=""/>
          <p:cNvSpPr/>
          <p:nvPr/>
        </p:nvSpPr>
        <p:spPr>
          <a:xfrm flipV="1">
            <a:off x="3797280" y="2071440"/>
            <a:ext cx="1440" cy="334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89" name=""/>
          <p:cNvSpPr/>
          <p:nvPr/>
        </p:nvSpPr>
        <p:spPr>
          <a:xfrm>
            <a:off x="1611360" y="3232080"/>
            <a:ext cx="398520" cy="2179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90" name=""/>
          <p:cNvSpPr/>
          <p:nvPr/>
        </p:nvSpPr>
        <p:spPr>
          <a:xfrm flipV="1">
            <a:off x="1809720" y="3109680"/>
            <a:ext cx="144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91" name=""/>
          <p:cNvSpPr/>
          <p:nvPr/>
        </p:nvSpPr>
        <p:spPr>
          <a:xfrm>
            <a:off x="1762200" y="31100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92" name=""/>
          <p:cNvSpPr/>
          <p:nvPr/>
        </p:nvSpPr>
        <p:spPr>
          <a:xfrm>
            <a:off x="2139840" y="3595680"/>
            <a:ext cx="398520" cy="1816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93" name=""/>
          <p:cNvSpPr/>
          <p:nvPr/>
        </p:nvSpPr>
        <p:spPr>
          <a:xfrm flipV="1">
            <a:off x="2340000" y="3492000"/>
            <a:ext cx="1440" cy="10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94" name=""/>
          <p:cNvSpPr/>
          <p:nvPr/>
        </p:nvSpPr>
        <p:spPr>
          <a:xfrm>
            <a:off x="2292480" y="3492360"/>
            <a:ext cx="96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195" name=""/>
          <p:cNvSpPr/>
          <p:nvPr/>
        </p:nvSpPr>
        <p:spPr>
          <a:xfrm>
            <a:off x="2671920" y="2576520"/>
            <a:ext cx="396720" cy="28353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96" name=""/>
          <p:cNvSpPr/>
          <p:nvPr/>
        </p:nvSpPr>
        <p:spPr>
          <a:xfrm flipV="1">
            <a:off x="2870280" y="2451240"/>
            <a:ext cx="0" cy="125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97" name=""/>
          <p:cNvSpPr/>
          <p:nvPr/>
        </p:nvSpPr>
        <p:spPr>
          <a:xfrm>
            <a:off x="2822400" y="2451240"/>
            <a:ext cx="95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198" name=""/>
          <p:cNvSpPr/>
          <p:nvPr/>
        </p:nvSpPr>
        <p:spPr>
          <a:xfrm>
            <a:off x="3201840" y="2708280"/>
            <a:ext cx="397080" cy="2703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199" name=""/>
          <p:cNvSpPr/>
          <p:nvPr/>
        </p:nvSpPr>
        <p:spPr>
          <a:xfrm flipV="1">
            <a:off x="3400560" y="2619000"/>
            <a:ext cx="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Comic Sans MS"/>
            </a:endParaRPr>
          </a:p>
        </p:txBody>
      </p:sp>
      <p:sp>
        <p:nvSpPr>
          <p:cNvPr id="4200" name=""/>
          <p:cNvSpPr/>
          <p:nvPr/>
        </p:nvSpPr>
        <p:spPr>
          <a:xfrm>
            <a:off x="3351240" y="2619360"/>
            <a:ext cx="96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01" name=""/>
          <p:cNvSpPr/>
          <p:nvPr/>
        </p:nvSpPr>
        <p:spPr>
          <a:xfrm>
            <a:off x="1439640" y="546264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les   females</a:t>
            </a:r>
            <a:endParaRPr b="0" lang="en-US" sz="2400" spc="-1" strike="noStrike">
              <a:solidFill>
                <a:srgbClr val="000000"/>
              </a:solidFill>
              <a:latin typeface="Comic Sans MS"/>
            </a:endParaRPr>
          </a:p>
        </p:txBody>
      </p:sp>
      <p:sp>
        <p:nvSpPr>
          <p:cNvPr id="4202" name=""/>
          <p:cNvSpPr/>
          <p:nvPr/>
        </p:nvSpPr>
        <p:spPr>
          <a:xfrm>
            <a:off x="7284960" y="3141720"/>
            <a:ext cx="461880" cy="23976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03" name=""/>
          <p:cNvSpPr/>
          <p:nvPr/>
        </p:nvSpPr>
        <p:spPr>
          <a:xfrm>
            <a:off x="7318440" y="2516040"/>
            <a:ext cx="452520" cy="1033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04" name=""/>
          <p:cNvSpPr/>
          <p:nvPr/>
        </p:nvSpPr>
        <p:spPr>
          <a:xfrm>
            <a:off x="7284960" y="2381400"/>
            <a:ext cx="461880" cy="23652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05" name=""/>
          <p:cNvSpPr/>
          <p:nvPr/>
        </p:nvSpPr>
        <p:spPr>
          <a:xfrm>
            <a:off x="7145280" y="2068560"/>
            <a:ext cx="1298520" cy="166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206" name=""/>
          <p:cNvSpPr/>
          <p:nvPr/>
        </p:nvSpPr>
        <p:spPr>
          <a:xfrm>
            <a:off x="7713000" y="2139840"/>
            <a:ext cx="825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igh</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ine</a:t>
            </a:r>
            <a:endParaRPr b="0" lang="en-US" sz="2400" spc="-1" strike="noStrike">
              <a:solidFill>
                <a:srgbClr val="000000"/>
              </a:solidFill>
              <a:latin typeface="Comic Sans MS"/>
            </a:endParaRPr>
          </a:p>
        </p:txBody>
      </p:sp>
      <p:sp>
        <p:nvSpPr>
          <p:cNvPr id="4207" name=""/>
          <p:cNvSpPr/>
          <p:nvPr/>
        </p:nvSpPr>
        <p:spPr>
          <a:xfrm>
            <a:off x="7729200" y="2903400"/>
            <a:ext cx="700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ow</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ine</a:t>
            </a:r>
            <a:endParaRPr b="0" lang="en-US" sz="2400" spc="-1" strike="noStrike">
              <a:solidFill>
                <a:srgbClr val="000000"/>
              </a:solidFill>
              <a:latin typeface="Comic Sans MS"/>
            </a:endParaRPr>
          </a:p>
        </p:txBody>
      </p:sp>
      <p:sp>
        <p:nvSpPr>
          <p:cNvPr id="4208" name=""/>
          <p:cNvSpPr/>
          <p:nvPr/>
        </p:nvSpPr>
        <p:spPr>
          <a:xfrm>
            <a:off x="2151720" y="2954160"/>
            <a:ext cx="3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209" name=""/>
          <p:cNvGrpSpPr/>
          <p:nvPr/>
        </p:nvGrpSpPr>
        <p:grpSpPr>
          <a:xfrm>
            <a:off x="4092120" y="1566720"/>
            <a:ext cx="2832840" cy="4340160"/>
            <a:chOff x="4092120" y="1566720"/>
            <a:chExt cx="2832840" cy="4340160"/>
          </a:xfrm>
        </p:grpSpPr>
        <p:sp>
          <p:nvSpPr>
            <p:cNvPr id="4210" name=""/>
            <p:cNvSpPr/>
            <p:nvPr/>
          </p:nvSpPr>
          <p:spPr>
            <a:xfrm>
              <a:off x="4491360" y="2071800"/>
              <a:ext cx="2382480" cy="334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11" name=""/>
            <p:cNvSpPr/>
            <p:nvPr/>
          </p:nvSpPr>
          <p:spPr>
            <a:xfrm>
              <a:off x="4433400" y="1566720"/>
              <a:ext cx="2462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nner locomotion</a:t>
              </a:r>
              <a:endParaRPr b="0" lang="en-US" sz="2400" spc="-1" strike="noStrike">
                <a:solidFill>
                  <a:srgbClr val="000000"/>
                </a:solidFill>
                <a:latin typeface="Comic Sans MS"/>
              </a:endParaRPr>
            </a:p>
          </p:txBody>
        </p:sp>
        <p:sp>
          <p:nvSpPr>
            <p:cNvPr id="4212" name=""/>
            <p:cNvSpPr/>
            <p:nvPr/>
          </p:nvSpPr>
          <p:spPr>
            <a:xfrm>
              <a:off x="4491360" y="5413680"/>
              <a:ext cx="2382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13" name=""/>
            <p:cNvSpPr/>
            <p:nvPr/>
          </p:nvSpPr>
          <p:spPr>
            <a:xfrm>
              <a:off x="4491360" y="2071800"/>
              <a:ext cx="2382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14" name=""/>
            <p:cNvSpPr/>
            <p:nvPr/>
          </p:nvSpPr>
          <p:spPr>
            <a:xfrm flipV="1">
              <a:off x="4491360" y="2071440"/>
              <a:ext cx="1080" cy="3341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15" name=""/>
            <p:cNvSpPr/>
            <p:nvPr/>
          </p:nvSpPr>
          <p:spPr>
            <a:xfrm>
              <a:off x="4444560" y="5413680"/>
              <a:ext cx="46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16" name=""/>
            <p:cNvSpPr/>
            <p:nvPr/>
          </p:nvSpPr>
          <p:spPr>
            <a:xfrm>
              <a:off x="4444560" y="4937400"/>
              <a:ext cx="46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17" name=""/>
            <p:cNvSpPr/>
            <p:nvPr/>
          </p:nvSpPr>
          <p:spPr>
            <a:xfrm>
              <a:off x="4444560" y="4460040"/>
              <a:ext cx="46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18" name=""/>
            <p:cNvSpPr/>
            <p:nvPr/>
          </p:nvSpPr>
          <p:spPr>
            <a:xfrm>
              <a:off x="4444560" y="3982320"/>
              <a:ext cx="46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19" name=""/>
            <p:cNvSpPr/>
            <p:nvPr/>
          </p:nvSpPr>
          <p:spPr>
            <a:xfrm>
              <a:off x="4444560" y="3504600"/>
              <a:ext cx="46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20" name=""/>
            <p:cNvSpPr/>
            <p:nvPr/>
          </p:nvSpPr>
          <p:spPr>
            <a:xfrm>
              <a:off x="4444560" y="3027240"/>
              <a:ext cx="46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21" name=""/>
            <p:cNvSpPr/>
            <p:nvPr/>
          </p:nvSpPr>
          <p:spPr>
            <a:xfrm>
              <a:off x="4444560" y="2549520"/>
              <a:ext cx="46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22" name=""/>
            <p:cNvSpPr/>
            <p:nvPr/>
          </p:nvSpPr>
          <p:spPr>
            <a:xfrm>
              <a:off x="4444560" y="2071800"/>
              <a:ext cx="46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23" name=""/>
            <p:cNvSpPr/>
            <p:nvPr/>
          </p:nvSpPr>
          <p:spPr>
            <a:xfrm>
              <a:off x="4216680" y="527004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224" name=""/>
            <p:cNvSpPr/>
            <p:nvPr/>
          </p:nvSpPr>
          <p:spPr>
            <a:xfrm>
              <a:off x="4216680" y="47923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4225" name=""/>
            <p:cNvSpPr/>
            <p:nvPr/>
          </p:nvSpPr>
          <p:spPr>
            <a:xfrm>
              <a:off x="4108680" y="43146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4226" name=""/>
            <p:cNvSpPr/>
            <p:nvPr/>
          </p:nvSpPr>
          <p:spPr>
            <a:xfrm>
              <a:off x="4108680" y="3837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4227" name=""/>
            <p:cNvSpPr/>
            <p:nvPr/>
          </p:nvSpPr>
          <p:spPr>
            <a:xfrm>
              <a:off x="4092120" y="33591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228" name=""/>
            <p:cNvSpPr/>
            <p:nvPr/>
          </p:nvSpPr>
          <p:spPr>
            <a:xfrm>
              <a:off x="4092120" y="28828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a:t>
              </a:r>
              <a:endParaRPr b="0" lang="en-US" sz="1800" spc="-1" strike="noStrike">
                <a:solidFill>
                  <a:srgbClr val="000000"/>
                </a:solidFill>
                <a:latin typeface="Comic Sans MS"/>
              </a:endParaRPr>
            </a:p>
          </p:txBody>
        </p:sp>
        <p:sp>
          <p:nvSpPr>
            <p:cNvPr id="4229" name=""/>
            <p:cNvSpPr/>
            <p:nvPr/>
          </p:nvSpPr>
          <p:spPr>
            <a:xfrm>
              <a:off x="4092120" y="24040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4230" name=""/>
            <p:cNvSpPr/>
            <p:nvPr/>
          </p:nvSpPr>
          <p:spPr>
            <a:xfrm>
              <a:off x="4092120" y="1927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Comic Sans MS"/>
              </a:endParaRPr>
            </a:p>
          </p:txBody>
        </p:sp>
        <p:sp>
          <p:nvSpPr>
            <p:cNvPr id="4231" name=""/>
            <p:cNvSpPr/>
            <p:nvPr/>
          </p:nvSpPr>
          <p:spPr>
            <a:xfrm flipV="1">
              <a:off x="6874200" y="2071440"/>
              <a:ext cx="1080" cy="3341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32" name=""/>
            <p:cNvSpPr/>
            <p:nvPr/>
          </p:nvSpPr>
          <p:spPr>
            <a:xfrm>
              <a:off x="4689000" y="3446640"/>
              <a:ext cx="397800" cy="1964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33" name=""/>
            <p:cNvSpPr/>
            <p:nvPr/>
          </p:nvSpPr>
          <p:spPr>
            <a:xfrm flipV="1">
              <a:off x="4888080" y="3255480"/>
              <a:ext cx="1440" cy="19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34" name=""/>
            <p:cNvSpPr/>
            <p:nvPr/>
          </p:nvSpPr>
          <p:spPr>
            <a:xfrm>
              <a:off x="4839840" y="3255480"/>
              <a:ext cx="96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35" name=""/>
            <p:cNvSpPr/>
            <p:nvPr/>
          </p:nvSpPr>
          <p:spPr>
            <a:xfrm>
              <a:off x="5218200" y="4173480"/>
              <a:ext cx="397800" cy="1237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36" name=""/>
            <p:cNvSpPr/>
            <p:nvPr/>
          </p:nvSpPr>
          <p:spPr>
            <a:xfrm flipV="1">
              <a:off x="5417280" y="4019760"/>
              <a:ext cx="1440" cy="153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37" name=""/>
            <p:cNvSpPr/>
            <p:nvPr/>
          </p:nvSpPr>
          <p:spPr>
            <a:xfrm>
              <a:off x="5369040" y="4019760"/>
              <a:ext cx="968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38" name=""/>
            <p:cNvSpPr/>
            <p:nvPr/>
          </p:nvSpPr>
          <p:spPr>
            <a:xfrm>
              <a:off x="5749200" y="2673720"/>
              <a:ext cx="396360" cy="27370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39" name=""/>
            <p:cNvSpPr/>
            <p:nvPr/>
          </p:nvSpPr>
          <p:spPr>
            <a:xfrm flipV="1">
              <a:off x="5946840" y="2444040"/>
              <a:ext cx="1440" cy="229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40" name=""/>
            <p:cNvSpPr/>
            <p:nvPr/>
          </p:nvSpPr>
          <p:spPr>
            <a:xfrm>
              <a:off x="5899680" y="2444040"/>
              <a:ext cx="95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41" name=""/>
            <p:cNvSpPr/>
            <p:nvPr/>
          </p:nvSpPr>
          <p:spPr>
            <a:xfrm>
              <a:off x="6278400" y="3428640"/>
              <a:ext cx="396720" cy="1982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42" name=""/>
            <p:cNvSpPr/>
            <p:nvPr/>
          </p:nvSpPr>
          <p:spPr>
            <a:xfrm flipV="1">
              <a:off x="6477480" y="3284640"/>
              <a:ext cx="1440" cy="144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43" name=""/>
            <p:cNvSpPr/>
            <p:nvPr/>
          </p:nvSpPr>
          <p:spPr>
            <a:xfrm>
              <a:off x="6429240" y="3284640"/>
              <a:ext cx="96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44" name=""/>
            <p:cNvSpPr/>
            <p:nvPr/>
          </p:nvSpPr>
          <p:spPr>
            <a:xfrm>
              <a:off x="4522320" y="544716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les   females</a:t>
              </a:r>
              <a:endParaRPr b="0" lang="en-US" sz="2400" spc="-1" strike="noStrike">
                <a:solidFill>
                  <a:srgbClr val="000000"/>
                </a:solidFill>
                <a:latin typeface="Comic Sans MS"/>
              </a:endParaRPr>
            </a:p>
          </p:txBody>
        </p:sp>
        <p:sp>
          <p:nvSpPr>
            <p:cNvPr id="4245" name=""/>
            <p:cNvSpPr/>
            <p:nvPr/>
          </p:nvSpPr>
          <p:spPr>
            <a:xfrm>
              <a:off x="5124240" y="338544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246" name=""/>
            <p:cNvSpPr/>
            <p:nvPr/>
          </p:nvSpPr>
          <p:spPr>
            <a:xfrm>
              <a:off x="6202080" y="26712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247" name=""/>
            <p:cNvSpPr/>
            <p:nvPr/>
          </p:nvSpPr>
          <p:spPr>
            <a:xfrm>
              <a:off x="4627440" y="4973760"/>
              <a:ext cx="22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4    21     15    22</a:t>
              </a:r>
              <a:endParaRPr b="0" lang="en-US" sz="2000" spc="-1" strike="noStrike">
                <a:solidFill>
                  <a:srgbClr val="000000"/>
                </a:solidFill>
                <a:latin typeface="Comic Sans MS"/>
              </a:endParaRPr>
            </a:p>
          </p:txBody>
        </p:sp>
      </p:grpSp>
      <p:sp>
        <p:nvSpPr>
          <p:cNvPr id="4248" name=""/>
          <p:cNvSpPr/>
          <p:nvPr/>
        </p:nvSpPr>
        <p:spPr>
          <a:xfrm>
            <a:off x="24804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7B9BBF43-8F3C-4B3C-9406-C5BE1FCE2398}" type="datetime1">
              <a:rPr lang="en-US"/>
              <a:t>07/30/26</a:t>
            </a:fld>
          </a:p>
        </p:txBody>
      </p:sp>
    </p:spTree>
  </p:cSld>
  <p:transition spd="med">
    <p:wipe dir="r"/>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4209"/>
                                        </p:tgtEl>
                                        <p:attrNameLst>
                                          <p:attrName>style.visibility</p:attrName>
                                        </p:attrNameLst>
                                      </p:cBhvr>
                                      <p:to>
                                        <p:strVal val="visible"/>
                                      </p:to>
                                    </p:set>
                                    <p:animEffect filter="wipe(left)" transition="in">
                                      <p:cBhvr additive="repl">
                                        <p:cTn id="518" dur="500"/>
                                        <p:tgtEl>
                                          <p:spTgt spid="4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49" name=""/>
          <p:cNvSpPr/>
          <p:nvPr/>
        </p:nvSpPr>
        <p:spPr>
          <a:xfrm>
            <a:off x="457200" y="441360"/>
            <a:ext cx="5351400" cy="81900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a:t>
            </a:r>
            <a:endParaRPr b="0" lang="en-US" sz="2800" spc="-1" strike="noStrike">
              <a:solidFill>
                <a:srgbClr val="000000"/>
              </a:solidFill>
              <a:latin typeface="Comic Sans MS"/>
            </a:endParaRPr>
          </a:p>
        </p:txBody>
      </p:sp>
      <p:sp>
        <p:nvSpPr>
          <p:cNvPr id="4250" name=""/>
          <p:cNvSpPr/>
          <p:nvPr/>
        </p:nvSpPr>
        <p:spPr>
          <a:xfrm>
            <a:off x="1257840" y="1389240"/>
            <a:ext cx="190872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ctivity cages</a:t>
            </a:r>
            <a:endParaRPr b="0" lang="en-US" sz="2400" spc="-1" strike="noStrike">
              <a:solidFill>
                <a:srgbClr val="000000"/>
              </a:solidFill>
              <a:latin typeface="Comic Sans MS"/>
            </a:endParaRPr>
          </a:p>
        </p:txBody>
      </p:sp>
      <p:sp>
        <p:nvSpPr>
          <p:cNvPr id="4251" name=""/>
          <p:cNvSpPr/>
          <p:nvPr/>
        </p:nvSpPr>
        <p:spPr>
          <a:xfrm>
            <a:off x="1378800" y="5632560"/>
            <a:ext cx="196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ales  females</a:t>
            </a:r>
            <a:endParaRPr b="0" lang="en-US" sz="2000" spc="-1" strike="noStrike">
              <a:solidFill>
                <a:srgbClr val="000000"/>
              </a:solidFill>
              <a:latin typeface="Comic Sans MS"/>
            </a:endParaRPr>
          </a:p>
        </p:txBody>
      </p:sp>
      <p:grpSp>
        <p:nvGrpSpPr>
          <p:cNvPr id="4252" name=""/>
          <p:cNvGrpSpPr/>
          <p:nvPr/>
        </p:nvGrpSpPr>
        <p:grpSpPr>
          <a:xfrm>
            <a:off x="6665760" y="361800"/>
            <a:ext cx="1869840" cy="1226880"/>
            <a:chOff x="6665760" y="361800"/>
            <a:chExt cx="1869840" cy="1226880"/>
          </a:xfrm>
        </p:grpSpPr>
        <p:sp>
          <p:nvSpPr>
            <p:cNvPr id="4253" name=""/>
            <p:cNvSpPr/>
            <p:nvPr/>
          </p:nvSpPr>
          <p:spPr>
            <a:xfrm>
              <a:off x="6864120" y="915120"/>
              <a:ext cx="387360" cy="19008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54" name=""/>
            <p:cNvSpPr/>
            <p:nvPr/>
          </p:nvSpPr>
          <p:spPr>
            <a:xfrm>
              <a:off x="7571880" y="629280"/>
              <a:ext cx="380520" cy="817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Comic Sans MS"/>
              </a:endParaRPr>
            </a:p>
          </p:txBody>
        </p:sp>
        <p:sp>
          <p:nvSpPr>
            <p:cNvPr id="4255" name=""/>
            <p:cNvSpPr/>
            <p:nvPr/>
          </p:nvSpPr>
          <p:spPr>
            <a:xfrm>
              <a:off x="6864120" y="523800"/>
              <a:ext cx="387360" cy="18720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56" name=""/>
            <p:cNvSpPr/>
            <p:nvPr/>
          </p:nvSpPr>
          <p:spPr>
            <a:xfrm>
              <a:off x="6665760" y="361800"/>
              <a:ext cx="1820160" cy="9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257" name=""/>
            <p:cNvSpPr/>
            <p:nvPr/>
          </p:nvSpPr>
          <p:spPr>
            <a:xfrm>
              <a:off x="7243560" y="431640"/>
              <a:ext cx="1292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high line</a:t>
              </a:r>
              <a:endParaRPr b="0" lang="en-US" sz="2200" spc="-1" strike="noStrike">
                <a:solidFill>
                  <a:srgbClr val="000000"/>
                </a:solidFill>
                <a:latin typeface="Comic Sans MS"/>
              </a:endParaRPr>
            </a:p>
          </p:txBody>
        </p:sp>
        <p:sp>
          <p:nvSpPr>
            <p:cNvPr id="4258" name=""/>
            <p:cNvSpPr/>
            <p:nvPr/>
          </p:nvSpPr>
          <p:spPr>
            <a:xfrm>
              <a:off x="7309440" y="824400"/>
              <a:ext cx="1157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ow line</a:t>
              </a:r>
              <a:endParaRPr b="0" lang="en-US" sz="2200" spc="-1" strike="noStrike">
                <a:solidFill>
                  <a:srgbClr val="000000"/>
                </a:solidFill>
                <a:latin typeface="Comic Sans MS"/>
              </a:endParaRPr>
            </a:p>
          </p:txBody>
        </p:sp>
      </p:grpSp>
      <p:sp>
        <p:nvSpPr>
          <p:cNvPr id="4259" name=""/>
          <p:cNvSpPr/>
          <p:nvPr/>
        </p:nvSpPr>
        <p:spPr>
          <a:xfrm>
            <a:off x="1541520" y="1876320"/>
            <a:ext cx="16344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60" name=""/>
          <p:cNvSpPr/>
          <p:nvPr/>
        </p:nvSpPr>
        <p:spPr>
          <a:xfrm>
            <a:off x="1471680" y="1805040"/>
            <a:ext cx="153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omotion</a:t>
            </a:r>
            <a:endParaRPr b="0" lang="en-US" sz="2000" spc="-1" strike="noStrike">
              <a:solidFill>
                <a:srgbClr val="000000"/>
              </a:solidFill>
              <a:latin typeface="Comic Sans MS"/>
            </a:endParaRPr>
          </a:p>
        </p:txBody>
      </p:sp>
      <p:grpSp>
        <p:nvGrpSpPr>
          <p:cNvPr id="4261" name=""/>
          <p:cNvGrpSpPr/>
          <p:nvPr/>
        </p:nvGrpSpPr>
        <p:grpSpPr>
          <a:xfrm>
            <a:off x="3732480" y="1387440"/>
            <a:ext cx="4575600" cy="4643640"/>
            <a:chOff x="3732480" y="1387440"/>
            <a:chExt cx="4575600" cy="4643640"/>
          </a:xfrm>
        </p:grpSpPr>
        <p:sp>
          <p:nvSpPr>
            <p:cNvPr id="4262" name=""/>
            <p:cNvSpPr/>
            <p:nvPr/>
          </p:nvSpPr>
          <p:spPr>
            <a:xfrm>
              <a:off x="4611240" y="1387440"/>
              <a:ext cx="2849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levated- plus maze</a:t>
              </a:r>
              <a:endParaRPr b="0" lang="en-US" sz="2400" spc="-1" strike="noStrike">
                <a:solidFill>
                  <a:srgbClr val="000000"/>
                </a:solidFill>
                <a:latin typeface="Comic Sans MS"/>
              </a:endParaRPr>
            </a:p>
          </p:txBody>
        </p:sp>
        <p:sp>
          <p:nvSpPr>
            <p:cNvPr id="4263" name=""/>
            <p:cNvSpPr/>
            <p:nvPr/>
          </p:nvSpPr>
          <p:spPr>
            <a:xfrm>
              <a:off x="4282560" y="1847880"/>
              <a:ext cx="1439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otal entries</a:t>
              </a:r>
              <a:endParaRPr b="0" lang="en-US" sz="2000" spc="-1" strike="noStrike">
                <a:solidFill>
                  <a:srgbClr val="000000"/>
                </a:solidFill>
                <a:latin typeface="Comic Sans MS"/>
              </a:endParaRPr>
            </a:p>
          </p:txBody>
        </p:sp>
        <p:sp>
          <p:nvSpPr>
            <p:cNvPr id="4264" name=""/>
            <p:cNvSpPr/>
            <p:nvPr/>
          </p:nvSpPr>
          <p:spPr>
            <a:xfrm>
              <a:off x="4068720" y="2261160"/>
              <a:ext cx="1777320" cy="3253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65" name=""/>
            <p:cNvSpPr/>
            <p:nvPr/>
          </p:nvSpPr>
          <p:spPr>
            <a:xfrm>
              <a:off x="4033800" y="5514840"/>
              <a:ext cx="349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66" name=""/>
            <p:cNvSpPr/>
            <p:nvPr/>
          </p:nvSpPr>
          <p:spPr>
            <a:xfrm>
              <a:off x="4033800" y="4701960"/>
              <a:ext cx="349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67" name=""/>
            <p:cNvSpPr/>
            <p:nvPr/>
          </p:nvSpPr>
          <p:spPr>
            <a:xfrm>
              <a:off x="4033800" y="3887280"/>
              <a:ext cx="34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68" name=""/>
            <p:cNvSpPr/>
            <p:nvPr/>
          </p:nvSpPr>
          <p:spPr>
            <a:xfrm>
              <a:off x="4033800" y="3074040"/>
              <a:ext cx="34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69" name=""/>
            <p:cNvSpPr/>
            <p:nvPr/>
          </p:nvSpPr>
          <p:spPr>
            <a:xfrm>
              <a:off x="4033800" y="2261160"/>
              <a:ext cx="349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70" name=""/>
            <p:cNvSpPr/>
            <p:nvPr/>
          </p:nvSpPr>
          <p:spPr>
            <a:xfrm>
              <a:off x="4047120" y="535284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71" name=""/>
            <p:cNvSpPr/>
            <p:nvPr/>
          </p:nvSpPr>
          <p:spPr>
            <a:xfrm>
              <a:off x="4047120" y="5190840"/>
              <a:ext cx="2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72" name=""/>
            <p:cNvSpPr/>
            <p:nvPr/>
          </p:nvSpPr>
          <p:spPr>
            <a:xfrm>
              <a:off x="4047120" y="502740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73" name=""/>
            <p:cNvSpPr/>
            <p:nvPr/>
          </p:nvSpPr>
          <p:spPr>
            <a:xfrm>
              <a:off x="4047120" y="486540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74" name=""/>
            <p:cNvSpPr/>
            <p:nvPr/>
          </p:nvSpPr>
          <p:spPr>
            <a:xfrm>
              <a:off x="4047120" y="453852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75" name=""/>
            <p:cNvSpPr/>
            <p:nvPr/>
          </p:nvSpPr>
          <p:spPr>
            <a:xfrm>
              <a:off x="4047120" y="437616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76" name=""/>
            <p:cNvSpPr/>
            <p:nvPr/>
          </p:nvSpPr>
          <p:spPr>
            <a:xfrm>
              <a:off x="4047120" y="421416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77" name=""/>
            <p:cNvSpPr/>
            <p:nvPr/>
          </p:nvSpPr>
          <p:spPr>
            <a:xfrm>
              <a:off x="4047120" y="405072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78" name=""/>
            <p:cNvSpPr/>
            <p:nvPr/>
          </p:nvSpPr>
          <p:spPr>
            <a:xfrm>
              <a:off x="4047120" y="372528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79" name=""/>
            <p:cNvSpPr/>
            <p:nvPr/>
          </p:nvSpPr>
          <p:spPr>
            <a:xfrm>
              <a:off x="4047120" y="3563280"/>
              <a:ext cx="2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80" name=""/>
            <p:cNvSpPr/>
            <p:nvPr/>
          </p:nvSpPr>
          <p:spPr>
            <a:xfrm>
              <a:off x="4047120" y="339984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81" name=""/>
            <p:cNvSpPr/>
            <p:nvPr/>
          </p:nvSpPr>
          <p:spPr>
            <a:xfrm>
              <a:off x="4047120" y="323784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82" name=""/>
            <p:cNvSpPr/>
            <p:nvPr/>
          </p:nvSpPr>
          <p:spPr>
            <a:xfrm>
              <a:off x="4047120" y="291060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83" name=""/>
            <p:cNvSpPr/>
            <p:nvPr/>
          </p:nvSpPr>
          <p:spPr>
            <a:xfrm>
              <a:off x="4047120" y="274860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284" name=""/>
            <p:cNvSpPr/>
            <p:nvPr/>
          </p:nvSpPr>
          <p:spPr>
            <a:xfrm>
              <a:off x="4047120" y="258696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85" name=""/>
            <p:cNvSpPr/>
            <p:nvPr/>
          </p:nvSpPr>
          <p:spPr>
            <a:xfrm>
              <a:off x="4047120" y="242352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86" name=""/>
            <p:cNvSpPr/>
            <p:nvPr/>
          </p:nvSpPr>
          <p:spPr>
            <a:xfrm>
              <a:off x="3807000" y="53884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287" name=""/>
            <p:cNvSpPr/>
            <p:nvPr/>
          </p:nvSpPr>
          <p:spPr>
            <a:xfrm>
              <a:off x="3807000" y="45756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4288" name=""/>
            <p:cNvSpPr/>
            <p:nvPr/>
          </p:nvSpPr>
          <p:spPr>
            <a:xfrm>
              <a:off x="3732480" y="37623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4289" name=""/>
            <p:cNvSpPr/>
            <p:nvPr/>
          </p:nvSpPr>
          <p:spPr>
            <a:xfrm>
              <a:off x="3732480" y="2947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4290" name=""/>
            <p:cNvSpPr/>
            <p:nvPr/>
          </p:nvSpPr>
          <p:spPr>
            <a:xfrm>
              <a:off x="3748680" y="2134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291" name=""/>
            <p:cNvSpPr/>
            <p:nvPr/>
          </p:nvSpPr>
          <p:spPr>
            <a:xfrm flipV="1">
              <a:off x="5846400" y="2260800"/>
              <a:ext cx="1440" cy="325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92" name=""/>
            <p:cNvSpPr/>
            <p:nvPr/>
          </p:nvSpPr>
          <p:spPr>
            <a:xfrm>
              <a:off x="4217400" y="3156120"/>
              <a:ext cx="295560" cy="235548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93" name=""/>
            <p:cNvSpPr/>
            <p:nvPr/>
          </p:nvSpPr>
          <p:spPr>
            <a:xfrm flipV="1">
              <a:off x="4364280" y="3058200"/>
              <a:ext cx="1440" cy="9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94" name=""/>
            <p:cNvSpPr/>
            <p:nvPr/>
          </p:nvSpPr>
          <p:spPr>
            <a:xfrm>
              <a:off x="4329360" y="3058200"/>
              <a:ext cx="712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95" name=""/>
            <p:cNvSpPr/>
            <p:nvPr/>
          </p:nvSpPr>
          <p:spPr>
            <a:xfrm>
              <a:off x="4611240" y="3758040"/>
              <a:ext cx="295560" cy="175356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96" name=""/>
            <p:cNvSpPr/>
            <p:nvPr/>
          </p:nvSpPr>
          <p:spPr>
            <a:xfrm flipV="1">
              <a:off x="4758480" y="3610440"/>
              <a:ext cx="1440" cy="14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97" name=""/>
            <p:cNvSpPr/>
            <p:nvPr/>
          </p:nvSpPr>
          <p:spPr>
            <a:xfrm>
              <a:off x="4723200" y="3610800"/>
              <a:ext cx="712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298" name=""/>
            <p:cNvSpPr/>
            <p:nvPr/>
          </p:nvSpPr>
          <p:spPr>
            <a:xfrm>
              <a:off x="5007240" y="2635560"/>
              <a:ext cx="296640" cy="287604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299" name=""/>
            <p:cNvSpPr/>
            <p:nvPr/>
          </p:nvSpPr>
          <p:spPr>
            <a:xfrm flipV="1">
              <a:off x="5154120" y="2439360"/>
              <a:ext cx="1440" cy="19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00" name=""/>
            <p:cNvSpPr/>
            <p:nvPr/>
          </p:nvSpPr>
          <p:spPr>
            <a:xfrm>
              <a:off x="5119200" y="2439360"/>
              <a:ext cx="72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01" name=""/>
            <p:cNvSpPr/>
            <p:nvPr/>
          </p:nvSpPr>
          <p:spPr>
            <a:xfrm>
              <a:off x="5402520" y="2797920"/>
              <a:ext cx="294120" cy="271368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02" name=""/>
            <p:cNvSpPr/>
            <p:nvPr/>
          </p:nvSpPr>
          <p:spPr>
            <a:xfrm flipV="1">
              <a:off x="5551200" y="2667960"/>
              <a:ext cx="1080" cy="12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03" name=""/>
            <p:cNvSpPr/>
            <p:nvPr/>
          </p:nvSpPr>
          <p:spPr>
            <a:xfrm>
              <a:off x="5514840" y="2668320"/>
              <a:ext cx="71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04" name=""/>
            <p:cNvSpPr/>
            <p:nvPr/>
          </p:nvSpPr>
          <p:spPr>
            <a:xfrm>
              <a:off x="5813280" y="1847880"/>
              <a:ext cx="2486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arm entries (%)</a:t>
              </a:r>
              <a:endParaRPr b="0" lang="en-US" sz="2000" spc="-1" strike="noStrike">
                <a:solidFill>
                  <a:srgbClr val="000000"/>
                </a:solidFill>
                <a:latin typeface="Comic Sans MS"/>
              </a:endParaRPr>
            </a:p>
          </p:txBody>
        </p:sp>
        <p:sp>
          <p:nvSpPr>
            <p:cNvPr id="4305" name=""/>
            <p:cNvSpPr/>
            <p:nvPr/>
          </p:nvSpPr>
          <p:spPr>
            <a:xfrm>
              <a:off x="6157080" y="2264400"/>
              <a:ext cx="1777320" cy="3253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06" name=""/>
            <p:cNvSpPr/>
            <p:nvPr/>
          </p:nvSpPr>
          <p:spPr>
            <a:xfrm>
              <a:off x="6157080" y="5517720"/>
              <a:ext cx="17773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07" name=""/>
            <p:cNvSpPr/>
            <p:nvPr/>
          </p:nvSpPr>
          <p:spPr>
            <a:xfrm flipH="1">
              <a:off x="7934400" y="5517720"/>
              <a:ext cx="363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08" name=""/>
            <p:cNvSpPr/>
            <p:nvPr/>
          </p:nvSpPr>
          <p:spPr>
            <a:xfrm flipH="1">
              <a:off x="7934400" y="4868280"/>
              <a:ext cx="363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09" name=""/>
            <p:cNvSpPr/>
            <p:nvPr/>
          </p:nvSpPr>
          <p:spPr>
            <a:xfrm flipH="1">
              <a:off x="7934400" y="4217040"/>
              <a:ext cx="36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10" name=""/>
            <p:cNvSpPr/>
            <p:nvPr/>
          </p:nvSpPr>
          <p:spPr>
            <a:xfrm flipH="1">
              <a:off x="7934400" y="3566160"/>
              <a:ext cx="3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11" name=""/>
            <p:cNvSpPr/>
            <p:nvPr/>
          </p:nvSpPr>
          <p:spPr>
            <a:xfrm flipH="1">
              <a:off x="7934400" y="2913840"/>
              <a:ext cx="363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12" name=""/>
            <p:cNvSpPr/>
            <p:nvPr/>
          </p:nvSpPr>
          <p:spPr>
            <a:xfrm flipH="1">
              <a:off x="7934400" y="2264400"/>
              <a:ext cx="363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13" name=""/>
            <p:cNvSpPr/>
            <p:nvPr/>
          </p:nvSpPr>
          <p:spPr>
            <a:xfrm flipH="1">
              <a:off x="7934760" y="519372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14" name=""/>
            <p:cNvSpPr/>
            <p:nvPr/>
          </p:nvSpPr>
          <p:spPr>
            <a:xfrm flipH="1">
              <a:off x="7934760" y="454140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15" name=""/>
            <p:cNvSpPr/>
            <p:nvPr/>
          </p:nvSpPr>
          <p:spPr>
            <a:xfrm flipH="1">
              <a:off x="7934760" y="3890160"/>
              <a:ext cx="21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16" name=""/>
            <p:cNvSpPr/>
            <p:nvPr/>
          </p:nvSpPr>
          <p:spPr>
            <a:xfrm flipH="1">
              <a:off x="7934760" y="324072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17" name=""/>
            <p:cNvSpPr/>
            <p:nvPr/>
          </p:nvSpPr>
          <p:spPr>
            <a:xfrm flipH="1">
              <a:off x="7934760" y="2589840"/>
              <a:ext cx="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18" name=""/>
            <p:cNvSpPr/>
            <p:nvPr/>
          </p:nvSpPr>
          <p:spPr>
            <a:xfrm>
              <a:off x="8048880" y="54226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319" name=""/>
            <p:cNvSpPr/>
            <p:nvPr/>
          </p:nvSpPr>
          <p:spPr>
            <a:xfrm>
              <a:off x="8029080" y="47728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4320" name=""/>
            <p:cNvSpPr/>
            <p:nvPr/>
          </p:nvSpPr>
          <p:spPr>
            <a:xfrm>
              <a:off x="8045280" y="4125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321" name=""/>
            <p:cNvSpPr/>
            <p:nvPr/>
          </p:nvSpPr>
          <p:spPr>
            <a:xfrm>
              <a:off x="8045280" y="34725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4322" name=""/>
            <p:cNvSpPr/>
            <p:nvPr/>
          </p:nvSpPr>
          <p:spPr>
            <a:xfrm>
              <a:off x="8045280" y="2821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4323" name=""/>
            <p:cNvSpPr/>
            <p:nvPr/>
          </p:nvSpPr>
          <p:spPr>
            <a:xfrm>
              <a:off x="8043840" y="21704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Comic Sans MS"/>
              </a:endParaRPr>
            </a:p>
          </p:txBody>
        </p:sp>
        <p:sp>
          <p:nvSpPr>
            <p:cNvPr id="4324" name=""/>
            <p:cNvSpPr/>
            <p:nvPr/>
          </p:nvSpPr>
          <p:spPr>
            <a:xfrm>
              <a:off x="6305760" y="3219840"/>
              <a:ext cx="295200" cy="229464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25" name=""/>
            <p:cNvSpPr/>
            <p:nvPr/>
          </p:nvSpPr>
          <p:spPr>
            <a:xfrm flipV="1">
              <a:off x="6454080" y="310392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26" name=""/>
            <p:cNvSpPr/>
            <p:nvPr/>
          </p:nvSpPr>
          <p:spPr>
            <a:xfrm>
              <a:off x="6417720" y="310392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27" name=""/>
            <p:cNvSpPr/>
            <p:nvPr/>
          </p:nvSpPr>
          <p:spPr>
            <a:xfrm>
              <a:off x="6699600" y="3390840"/>
              <a:ext cx="296640" cy="212400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28" name=""/>
            <p:cNvSpPr/>
            <p:nvPr/>
          </p:nvSpPr>
          <p:spPr>
            <a:xfrm flipV="1">
              <a:off x="6846840" y="3175200"/>
              <a:ext cx="108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29" name=""/>
            <p:cNvSpPr/>
            <p:nvPr/>
          </p:nvSpPr>
          <p:spPr>
            <a:xfrm>
              <a:off x="6811920" y="3175200"/>
              <a:ext cx="727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30" name=""/>
            <p:cNvSpPr/>
            <p:nvPr/>
          </p:nvSpPr>
          <p:spPr>
            <a:xfrm>
              <a:off x="7095240" y="2913840"/>
              <a:ext cx="296640" cy="260100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31" name=""/>
            <p:cNvSpPr/>
            <p:nvPr/>
          </p:nvSpPr>
          <p:spPr>
            <a:xfrm flipV="1">
              <a:off x="7243560" y="2720520"/>
              <a:ext cx="1440" cy="19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32" name=""/>
            <p:cNvSpPr/>
            <p:nvPr/>
          </p:nvSpPr>
          <p:spPr>
            <a:xfrm>
              <a:off x="7208640" y="272052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33" name=""/>
            <p:cNvSpPr/>
            <p:nvPr/>
          </p:nvSpPr>
          <p:spPr>
            <a:xfrm>
              <a:off x="7490880" y="2928600"/>
              <a:ext cx="297000" cy="258588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34" name=""/>
            <p:cNvSpPr/>
            <p:nvPr/>
          </p:nvSpPr>
          <p:spPr>
            <a:xfrm flipV="1">
              <a:off x="7639200" y="2790000"/>
              <a:ext cx="14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35" name=""/>
            <p:cNvSpPr/>
            <p:nvPr/>
          </p:nvSpPr>
          <p:spPr>
            <a:xfrm>
              <a:off x="7602840" y="2790360"/>
              <a:ext cx="712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36" name=""/>
            <p:cNvSpPr/>
            <p:nvPr/>
          </p:nvSpPr>
          <p:spPr>
            <a:xfrm>
              <a:off x="4095360" y="5632200"/>
              <a:ext cx="189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ales females</a:t>
              </a:r>
              <a:endParaRPr b="0" lang="en-US" sz="2000" spc="-1" strike="noStrike">
                <a:solidFill>
                  <a:srgbClr val="000000"/>
                </a:solidFill>
                <a:latin typeface="Comic Sans MS"/>
              </a:endParaRPr>
            </a:p>
          </p:txBody>
        </p:sp>
        <p:sp>
          <p:nvSpPr>
            <p:cNvPr id="4337" name=""/>
            <p:cNvSpPr/>
            <p:nvPr/>
          </p:nvSpPr>
          <p:spPr>
            <a:xfrm>
              <a:off x="6219720" y="5632200"/>
              <a:ext cx="189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ales females</a:t>
              </a:r>
              <a:endParaRPr b="0" lang="en-US" sz="2000" spc="-1" strike="noStrike">
                <a:solidFill>
                  <a:srgbClr val="000000"/>
                </a:solidFill>
                <a:latin typeface="Comic Sans MS"/>
              </a:endParaRPr>
            </a:p>
          </p:txBody>
        </p:sp>
        <p:sp>
          <p:nvSpPr>
            <p:cNvPr id="4338" name=""/>
            <p:cNvSpPr/>
            <p:nvPr/>
          </p:nvSpPr>
          <p:spPr>
            <a:xfrm>
              <a:off x="4525200" y="295524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grpSp>
        <p:nvGrpSpPr>
          <p:cNvPr id="4339" name=""/>
          <p:cNvGrpSpPr/>
          <p:nvPr/>
        </p:nvGrpSpPr>
        <p:grpSpPr>
          <a:xfrm>
            <a:off x="892800" y="2120760"/>
            <a:ext cx="2470680" cy="3549240"/>
            <a:chOff x="892800" y="2120760"/>
            <a:chExt cx="2470680" cy="3549240"/>
          </a:xfrm>
        </p:grpSpPr>
        <p:sp>
          <p:nvSpPr>
            <p:cNvPr id="4340" name=""/>
            <p:cNvSpPr/>
            <p:nvPr/>
          </p:nvSpPr>
          <p:spPr>
            <a:xfrm>
              <a:off x="1238760" y="2245320"/>
              <a:ext cx="2124720" cy="327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41" name=""/>
            <p:cNvSpPr/>
            <p:nvPr/>
          </p:nvSpPr>
          <p:spPr>
            <a:xfrm>
              <a:off x="1187280" y="5520600"/>
              <a:ext cx="432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42" name=""/>
            <p:cNvSpPr/>
            <p:nvPr/>
          </p:nvSpPr>
          <p:spPr>
            <a:xfrm>
              <a:off x="1187280" y="4866120"/>
              <a:ext cx="43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43" name=""/>
            <p:cNvSpPr/>
            <p:nvPr/>
          </p:nvSpPr>
          <p:spPr>
            <a:xfrm>
              <a:off x="1187280" y="4210920"/>
              <a:ext cx="432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44" name=""/>
            <p:cNvSpPr/>
            <p:nvPr/>
          </p:nvSpPr>
          <p:spPr>
            <a:xfrm>
              <a:off x="1187280" y="3556440"/>
              <a:ext cx="43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45" name=""/>
            <p:cNvSpPr/>
            <p:nvPr/>
          </p:nvSpPr>
          <p:spPr>
            <a:xfrm>
              <a:off x="1187280" y="2900880"/>
              <a:ext cx="432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46" name=""/>
            <p:cNvSpPr/>
            <p:nvPr/>
          </p:nvSpPr>
          <p:spPr>
            <a:xfrm>
              <a:off x="1187280" y="2245320"/>
              <a:ext cx="432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47" name=""/>
            <p:cNvSpPr/>
            <p:nvPr/>
          </p:nvSpPr>
          <p:spPr>
            <a:xfrm>
              <a:off x="1204920" y="5193360"/>
              <a:ext cx="2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48" name=""/>
            <p:cNvSpPr/>
            <p:nvPr/>
          </p:nvSpPr>
          <p:spPr>
            <a:xfrm>
              <a:off x="1204920" y="4539240"/>
              <a:ext cx="2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49" name=""/>
            <p:cNvSpPr/>
            <p:nvPr/>
          </p:nvSpPr>
          <p:spPr>
            <a:xfrm>
              <a:off x="1204920" y="3883320"/>
              <a:ext cx="2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50" name=""/>
            <p:cNvSpPr/>
            <p:nvPr/>
          </p:nvSpPr>
          <p:spPr>
            <a:xfrm>
              <a:off x="1204920" y="3228120"/>
              <a:ext cx="255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51" name=""/>
            <p:cNvSpPr/>
            <p:nvPr/>
          </p:nvSpPr>
          <p:spPr>
            <a:xfrm>
              <a:off x="1204920" y="2573640"/>
              <a:ext cx="2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52" name=""/>
            <p:cNvSpPr/>
            <p:nvPr/>
          </p:nvSpPr>
          <p:spPr>
            <a:xfrm>
              <a:off x="1016280" y="53953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353" name=""/>
            <p:cNvSpPr/>
            <p:nvPr/>
          </p:nvSpPr>
          <p:spPr>
            <a:xfrm>
              <a:off x="907560" y="47415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4354" name=""/>
            <p:cNvSpPr/>
            <p:nvPr/>
          </p:nvSpPr>
          <p:spPr>
            <a:xfrm>
              <a:off x="892800" y="4085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355" name=""/>
            <p:cNvSpPr/>
            <p:nvPr/>
          </p:nvSpPr>
          <p:spPr>
            <a:xfrm>
              <a:off x="892800" y="34300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4356" name=""/>
            <p:cNvSpPr/>
            <p:nvPr/>
          </p:nvSpPr>
          <p:spPr>
            <a:xfrm>
              <a:off x="892800" y="2777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4357" name=""/>
            <p:cNvSpPr/>
            <p:nvPr/>
          </p:nvSpPr>
          <p:spPr>
            <a:xfrm>
              <a:off x="892800" y="2120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Comic Sans MS"/>
              </a:endParaRPr>
            </a:p>
          </p:txBody>
        </p:sp>
        <p:sp>
          <p:nvSpPr>
            <p:cNvPr id="4358" name=""/>
            <p:cNvSpPr/>
            <p:nvPr/>
          </p:nvSpPr>
          <p:spPr>
            <a:xfrm>
              <a:off x="1407240" y="3895560"/>
              <a:ext cx="354960" cy="162324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59" name=""/>
            <p:cNvSpPr/>
            <p:nvPr/>
          </p:nvSpPr>
          <p:spPr>
            <a:xfrm flipV="1">
              <a:off x="1584360" y="3797640"/>
              <a:ext cx="1080" cy="9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60" name=""/>
            <p:cNvSpPr/>
            <p:nvPr/>
          </p:nvSpPr>
          <p:spPr>
            <a:xfrm>
              <a:off x="1541160" y="3797640"/>
              <a:ext cx="860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61" name=""/>
            <p:cNvSpPr/>
            <p:nvPr/>
          </p:nvSpPr>
          <p:spPr>
            <a:xfrm>
              <a:off x="1878480" y="3522240"/>
              <a:ext cx="354960" cy="199620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62" name=""/>
            <p:cNvSpPr/>
            <p:nvPr/>
          </p:nvSpPr>
          <p:spPr>
            <a:xfrm flipV="1">
              <a:off x="2055600" y="3437280"/>
              <a:ext cx="1080" cy="846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Comic Sans MS"/>
              </a:endParaRPr>
            </a:p>
          </p:txBody>
        </p:sp>
        <p:sp>
          <p:nvSpPr>
            <p:cNvPr id="4363" name=""/>
            <p:cNvSpPr/>
            <p:nvPr/>
          </p:nvSpPr>
          <p:spPr>
            <a:xfrm>
              <a:off x="2013480" y="3437640"/>
              <a:ext cx="860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64" name=""/>
            <p:cNvSpPr/>
            <p:nvPr/>
          </p:nvSpPr>
          <p:spPr>
            <a:xfrm>
              <a:off x="2352600" y="3752640"/>
              <a:ext cx="353520" cy="176616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65" name=""/>
            <p:cNvSpPr/>
            <p:nvPr/>
          </p:nvSpPr>
          <p:spPr>
            <a:xfrm flipV="1">
              <a:off x="2529360" y="3674160"/>
              <a:ext cx="1080" cy="78480"/>
            </a:xfrm>
            <a:prstGeom prst="line">
              <a:avLst/>
            </a:prstGeom>
            <a:ln w="190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Comic Sans MS"/>
              </a:endParaRPr>
            </a:p>
          </p:txBody>
        </p:sp>
        <p:sp>
          <p:nvSpPr>
            <p:cNvPr id="4366" name=""/>
            <p:cNvSpPr/>
            <p:nvPr/>
          </p:nvSpPr>
          <p:spPr>
            <a:xfrm>
              <a:off x="2486160" y="3674160"/>
              <a:ext cx="8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367" name=""/>
            <p:cNvSpPr/>
            <p:nvPr/>
          </p:nvSpPr>
          <p:spPr>
            <a:xfrm>
              <a:off x="2824920" y="2906640"/>
              <a:ext cx="352080" cy="261180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68" name=""/>
            <p:cNvSpPr/>
            <p:nvPr/>
          </p:nvSpPr>
          <p:spPr>
            <a:xfrm flipV="1">
              <a:off x="3000600" y="2748960"/>
              <a:ext cx="10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69" name=""/>
            <p:cNvSpPr/>
            <p:nvPr/>
          </p:nvSpPr>
          <p:spPr>
            <a:xfrm>
              <a:off x="2957400" y="2749320"/>
              <a:ext cx="860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grpSp>
      <p:sp>
        <p:nvSpPr>
          <p:cNvPr id="4370" name=""/>
          <p:cNvSpPr/>
          <p:nvPr/>
        </p:nvSpPr>
        <p:spPr>
          <a:xfrm>
            <a:off x="1929240" y="2830680"/>
            <a:ext cx="3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71" name=""/>
          <p:cNvSpPr/>
          <p:nvPr/>
        </p:nvSpPr>
        <p:spPr>
          <a:xfrm>
            <a:off x="2668320" y="2257560"/>
            <a:ext cx="6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72" name=""/>
          <p:cNvSpPr/>
          <p:nvPr/>
        </p:nvSpPr>
        <p:spPr>
          <a:xfrm>
            <a:off x="24804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222D94F5-7FC6-45CD-BD1E-C2756EAF01A8}" type="datetime1">
              <a:rPr lang="en-US"/>
              <a:t>07/30/26</a:t>
            </a:fld>
          </a:p>
        </p:txBody>
      </p:sp>
    </p:spTree>
  </p:cSld>
  <p:transition spd="med">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4261"/>
                                        </p:tgtEl>
                                        <p:attrNameLst>
                                          <p:attrName>style.visibility</p:attrName>
                                        </p:attrNameLst>
                                      </p:cBhvr>
                                      <p:to>
                                        <p:strVal val="visible"/>
                                      </p:to>
                                    </p:set>
                                    <p:animEffect filter="wipe(left)" transition="in">
                                      <p:cBhvr additive="repl">
                                        <p:cTn id="525" dur="500"/>
                                        <p:tgtEl>
                                          <p:spTgt spid="4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73" name=""/>
          <p:cNvSpPr/>
          <p:nvPr/>
        </p:nvSpPr>
        <p:spPr>
          <a:xfrm>
            <a:off x="1328760" y="380880"/>
            <a:ext cx="6621480" cy="108612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 - F4</a:t>
            </a:r>
            <a:br>
              <a:rPr sz="2800"/>
            </a:br>
            <a:r>
              <a:rPr b="0" lang="fr-FR" sz="2800" spc="-1" strike="noStrike">
                <a:solidFill>
                  <a:srgbClr val="ff3300"/>
                </a:solidFill>
                <a:latin typeface="Comic Sans MS"/>
              </a:rPr>
              <a:t>open field - outer locomotion</a:t>
            </a:r>
            <a:endParaRPr b="0" lang="en-US" sz="2800" spc="-1" strike="noStrike">
              <a:solidFill>
                <a:srgbClr val="000000"/>
              </a:solidFill>
              <a:latin typeface="Comic Sans MS"/>
            </a:endParaRPr>
          </a:p>
        </p:txBody>
      </p:sp>
      <p:sp>
        <p:nvSpPr>
          <p:cNvPr id="4374" name=""/>
          <p:cNvSpPr/>
          <p:nvPr/>
        </p:nvSpPr>
        <p:spPr>
          <a:xfrm>
            <a:off x="1657440" y="1803240"/>
            <a:ext cx="4819680" cy="347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75" name=""/>
          <p:cNvSpPr/>
          <p:nvPr/>
        </p:nvSpPr>
        <p:spPr>
          <a:xfrm>
            <a:off x="1657440" y="5278320"/>
            <a:ext cx="4819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376" name=""/>
          <p:cNvSpPr/>
          <p:nvPr/>
        </p:nvSpPr>
        <p:spPr>
          <a:xfrm>
            <a:off x="1907640" y="5410080"/>
            <a:ext cx="82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HH</a:t>
            </a:r>
            <a:endParaRPr b="0" lang="en-US" sz="2400" spc="-1" strike="noStrike">
              <a:solidFill>
                <a:srgbClr val="000000"/>
              </a:solidFill>
              <a:latin typeface="Comic Sans MS"/>
            </a:endParaRPr>
          </a:p>
        </p:txBody>
      </p:sp>
      <p:sp>
        <p:nvSpPr>
          <p:cNvPr id="4377" name=""/>
          <p:cNvSpPr/>
          <p:nvPr/>
        </p:nvSpPr>
        <p:spPr>
          <a:xfrm>
            <a:off x="3143880" y="541008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M-LL</a:t>
            </a:r>
            <a:endParaRPr b="0" lang="en-US" sz="2400" spc="-1" strike="noStrike">
              <a:solidFill>
                <a:srgbClr val="000000"/>
              </a:solidFill>
              <a:latin typeface="Comic Sans MS"/>
            </a:endParaRPr>
          </a:p>
        </p:txBody>
      </p:sp>
      <p:sp>
        <p:nvSpPr>
          <p:cNvPr id="4378" name=""/>
          <p:cNvSpPr/>
          <p:nvPr/>
        </p:nvSpPr>
        <p:spPr>
          <a:xfrm>
            <a:off x="4354920" y="5410080"/>
            <a:ext cx="707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HH</a:t>
            </a:r>
            <a:endParaRPr b="0" lang="en-US" sz="2400" spc="-1" strike="noStrike">
              <a:solidFill>
                <a:srgbClr val="000000"/>
              </a:solidFill>
              <a:latin typeface="Comic Sans MS"/>
            </a:endParaRPr>
          </a:p>
        </p:txBody>
      </p:sp>
      <p:sp>
        <p:nvSpPr>
          <p:cNvPr id="4379" name=""/>
          <p:cNvSpPr/>
          <p:nvPr/>
        </p:nvSpPr>
        <p:spPr>
          <a:xfrm>
            <a:off x="5589360" y="5410080"/>
            <a:ext cx="576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LL</a:t>
            </a:r>
            <a:endParaRPr b="0" lang="en-US" sz="2400" spc="-1" strike="noStrike">
              <a:solidFill>
                <a:srgbClr val="000000"/>
              </a:solidFill>
              <a:latin typeface="Comic Sans MS"/>
            </a:endParaRPr>
          </a:p>
        </p:txBody>
      </p:sp>
      <p:sp>
        <p:nvSpPr>
          <p:cNvPr id="4380" name=""/>
          <p:cNvSpPr/>
          <p:nvPr/>
        </p:nvSpPr>
        <p:spPr>
          <a:xfrm>
            <a:off x="1657440" y="1803240"/>
            <a:ext cx="4819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381" name=""/>
          <p:cNvSpPr/>
          <p:nvPr/>
        </p:nvSpPr>
        <p:spPr>
          <a:xfrm flipV="1">
            <a:off x="1657440" y="1802880"/>
            <a:ext cx="1440" cy="34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82" name=""/>
          <p:cNvSpPr/>
          <p:nvPr/>
        </p:nvSpPr>
        <p:spPr>
          <a:xfrm>
            <a:off x="1609560" y="5278320"/>
            <a:ext cx="47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383" name=""/>
          <p:cNvSpPr/>
          <p:nvPr/>
        </p:nvSpPr>
        <p:spPr>
          <a:xfrm>
            <a:off x="1609560" y="4781520"/>
            <a:ext cx="47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84" name=""/>
          <p:cNvSpPr/>
          <p:nvPr/>
        </p:nvSpPr>
        <p:spPr>
          <a:xfrm>
            <a:off x="1609560" y="4284720"/>
            <a:ext cx="47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85" name=""/>
          <p:cNvSpPr/>
          <p:nvPr/>
        </p:nvSpPr>
        <p:spPr>
          <a:xfrm>
            <a:off x="1609560" y="3787920"/>
            <a:ext cx="47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86" name=""/>
          <p:cNvSpPr/>
          <p:nvPr/>
        </p:nvSpPr>
        <p:spPr>
          <a:xfrm>
            <a:off x="1609560" y="3292560"/>
            <a:ext cx="47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87" name=""/>
          <p:cNvSpPr/>
          <p:nvPr/>
        </p:nvSpPr>
        <p:spPr>
          <a:xfrm>
            <a:off x="1609560" y="2795760"/>
            <a:ext cx="47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388" name=""/>
          <p:cNvSpPr/>
          <p:nvPr/>
        </p:nvSpPr>
        <p:spPr>
          <a:xfrm>
            <a:off x="1609560" y="2298600"/>
            <a:ext cx="47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389" name=""/>
          <p:cNvSpPr/>
          <p:nvPr/>
        </p:nvSpPr>
        <p:spPr>
          <a:xfrm>
            <a:off x="1609560" y="1803240"/>
            <a:ext cx="47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390" name=""/>
          <p:cNvSpPr/>
          <p:nvPr/>
        </p:nvSpPr>
        <p:spPr>
          <a:xfrm>
            <a:off x="1361520" y="51595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p:txBody>
      </p:sp>
      <p:sp>
        <p:nvSpPr>
          <p:cNvPr id="4391" name=""/>
          <p:cNvSpPr/>
          <p:nvPr/>
        </p:nvSpPr>
        <p:spPr>
          <a:xfrm>
            <a:off x="1283040" y="466092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a:t>
            </a:r>
            <a:endParaRPr b="0" lang="en-US" sz="2000" spc="-1" strike="noStrike">
              <a:solidFill>
                <a:srgbClr val="000000"/>
              </a:solidFill>
              <a:latin typeface="Comic Sans MS"/>
            </a:endParaRPr>
          </a:p>
        </p:txBody>
      </p:sp>
      <p:sp>
        <p:nvSpPr>
          <p:cNvPr id="4392" name=""/>
          <p:cNvSpPr/>
          <p:nvPr/>
        </p:nvSpPr>
        <p:spPr>
          <a:xfrm>
            <a:off x="1283040" y="416412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Comic Sans MS"/>
            </a:endParaRPr>
          </a:p>
        </p:txBody>
      </p:sp>
      <p:sp>
        <p:nvSpPr>
          <p:cNvPr id="4393" name=""/>
          <p:cNvSpPr/>
          <p:nvPr/>
        </p:nvSpPr>
        <p:spPr>
          <a:xfrm>
            <a:off x="1283040" y="367020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0</a:t>
            </a:r>
            <a:endParaRPr b="0" lang="en-US" sz="2000" spc="-1" strike="noStrike">
              <a:solidFill>
                <a:srgbClr val="000000"/>
              </a:solidFill>
              <a:latin typeface="Comic Sans MS"/>
            </a:endParaRPr>
          </a:p>
        </p:txBody>
      </p:sp>
      <p:sp>
        <p:nvSpPr>
          <p:cNvPr id="4394" name=""/>
          <p:cNvSpPr/>
          <p:nvPr/>
        </p:nvSpPr>
        <p:spPr>
          <a:xfrm>
            <a:off x="1283040" y="317196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a:t>
            </a:r>
            <a:endParaRPr b="0" lang="en-US" sz="2000" spc="-1" strike="noStrike">
              <a:solidFill>
                <a:srgbClr val="000000"/>
              </a:solidFill>
              <a:latin typeface="Comic Sans MS"/>
            </a:endParaRPr>
          </a:p>
        </p:txBody>
      </p:sp>
      <p:sp>
        <p:nvSpPr>
          <p:cNvPr id="4395" name=""/>
          <p:cNvSpPr/>
          <p:nvPr/>
        </p:nvSpPr>
        <p:spPr>
          <a:xfrm>
            <a:off x="1185120" y="267660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a:t>
            </a:r>
            <a:endParaRPr b="0" lang="en-US" sz="2000" spc="-1" strike="noStrike">
              <a:solidFill>
                <a:srgbClr val="000000"/>
              </a:solidFill>
              <a:latin typeface="Comic Sans MS"/>
            </a:endParaRPr>
          </a:p>
        </p:txBody>
      </p:sp>
      <p:sp>
        <p:nvSpPr>
          <p:cNvPr id="4396" name=""/>
          <p:cNvSpPr/>
          <p:nvPr/>
        </p:nvSpPr>
        <p:spPr>
          <a:xfrm>
            <a:off x="1185120" y="217980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0</a:t>
            </a:r>
            <a:endParaRPr b="0" lang="en-US" sz="2000" spc="-1" strike="noStrike">
              <a:solidFill>
                <a:srgbClr val="000000"/>
              </a:solidFill>
              <a:latin typeface="Comic Sans MS"/>
            </a:endParaRPr>
          </a:p>
        </p:txBody>
      </p:sp>
      <p:sp>
        <p:nvSpPr>
          <p:cNvPr id="4397" name=""/>
          <p:cNvSpPr/>
          <p:nvPr/>
        </p:nvSpPr>
        <p:spPr>
          <a:xfrm>
            <a:off x="1185120" y="168264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40</a:t>
            </a:r>
            <a:endParaRPr b="0" lang="en-US" sz="2000" spc="-1" strike="noStrike">
              <a:solidFill>
                <a:srgbClr val="000000"/>
              </a:solidFill>
              <a:latin typeface="Comic Sans MS"/>
            </a:endParaRPr>
          </a:p>
        </p:txBody>
      </p:sp>
      <p:sp>
        <p:nvSpPr>
          <p:cNvPr id="4398" name=""/>
          <p:cNvSpPr/>
          <p:nvPr/>
        </p:nvSpPr>
        <p:spPr>
          <a:xfrm flipV="1">
            <a:off x="6477120" y="1802880"/>
            <a:ext cx="1440" cy="34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99" name=""/>
          <p:cNvSpPr/>
          <p:nvPr/>
        </p:nvSpPr>
        <p:spPr>
          <a:xfrm>
            <a:off x="1825560" y="3008160"/>
            <a:ext cx="387360" cy="2267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00" name=""/>
          <p:cNvSpPr/>
          <p:nvPr/>
        </p:nvSpPr>
        <p:spPr>
          <a:xfrm flipV="1">
            <a:off x="2019240" y="2881440"/>
            <a:ext cx="180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01" name=""/>
          <p:cNvSpPr/>
          <p:nvPr/>
        </p:nvSpPr>
        <p:spPr>
          <a:xfrm>
            <a:off x="1971720" y="2881440"/>
            <a:ext cx="95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402" name=""/>
          <p:cNvSpPr/>
          <p:nvPr/>
        </p:nvSpPr>
        <p:spPr>
          <a:xfrm>
            <a:off x="3030480" y="3387600"/>
            <a:ext cx="385920" cy="1887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03" name=""/>
          <p:cNvSpPr/>
          <p:nvPr/>
        </p:nvSpPr>
        <p:spPr>
          <a:xfrm flipV="1">
            <a:off x="3224160" y="3279600"/>
            <a:ext cx="1800" cy="108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04" name=""/>
          <p:cNvSpPr/>
          <p:nvPr/>
        </p:nvSpPr>
        <p:spPr>
          <a:xfrm>
            <a:off x="3174840" y="3279600"/>
            <a:ext cx="96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405" name=""/>
          <p:cNvSpPr/>
          <p:nvPr/>
        </p:nvSpPr>
        <p:spPr>
          <a:xfrm>
            <a:off x="4235400" y="2325600"/>
            <a:ext cx="385920" cy="2949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06" name=""/>
          <p:cNvSpPr/>
          <p:nvPr/>
        </p:nvSpPr>
        <p:spPr>
          <a:xfrm flipV="1">
            <a:off x="4427640" y="2196720"/>
            <a:ext cx="1440" cy="128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07" name=""/>
          <p:cNvSpPr/>
          <p:nvPr/>
        </p:nvSpPr>
        <p:spPr>
          <a:xfrm>
            <a:off x="4379760" y="21970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408" name=""/>
          <p:cNvSpPr/>
          <p:nvPr/>
        </p:nvSpPr>
        <p:spPr>
          <a:xfrm>
            <a:off x="5442120" y="2463840"/>
            <a:ext cx="384120" cy="2811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09" name=""/>
          <p:cNvSpPr/>
          <p:nvPr/>
        </p:nvSpPr>
        <p:spPr>
          <a:xfrm flipV="1">
            <a:off x="5632560" y="2370240"/>
            <a:ext cx="1440" cy="9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0" name=""/>
          <p:cNvSpPr/>
          <p:nvPr/>
        </p:nvSpPr>
        <p:spPr>
          <a:xfrm>
            <a:off x="5584680" y="237024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411" name=""/>
          <p:cNvSpPr/>
          <p:nvPr/>
        </p:nvSpPr>
        <p:spPr>
          <a:xfrm>
            <a:off x="2309760" y="2827440"/>
            <a:ext cx="384120" cy="2448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2" name=""/>
          <p:cNvSpPr/>
          <p:nvPr/>
        </p:nvSpPr>
        <p:spPr>
          <a:xfrm flipV="1">
            <a:off x="2500200" y="2723760"/>
            <a:ext cx="1800" cy="10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3" name=""/>
          <p:cNvSpPr/>
          <p:nvPr/>
        </p:nvSpPr>
        <p:spPr>
          <a:xfrm>
            <a:off x="2454120" y="2724120"/>
            <a:ext cx="968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4" name=""/>
          <p:cNvSpPr/>
          <p:nvPr/>
        </p:nvSpPr>
        <p:spPr>
          <a:xfrm>
            <a:off x="3511440" y="3673440"/>
            <a:ext cx="389160" cy="16020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5" name=""/>
          <p:cNvSpPr/>
          <p:nvPr/>
        </p:nvSpPr>
        <p:spPr>
          <a:xfrm flipV="1">
            <a:off x="3706920" y="3514320"/>
            <a:ext cx="1440" cy="1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6" name=""/>
          <p:cNvSpPr/>
          <p:nvPr/>
        </p:nvSpPr>
        <p:spPr>
          <a:xfrm>
            <a:off x="3657600" y="3514680"/>
            <a:ext cx="95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417" name=""/>
          <p:cNvSpPr/>
          <p:nvPr/>
        </p:nvSpPr>
        <p:spPr>
          <a:xfrm>
            <a:off x="4718160" y="2112840"/>
            <a:ext cx="385560" cy="31626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8" name=""/>
          <p:cNvSpPr/>
          <p:nvPr/>
        </p:nvSpPr>
        <p:spPr>
          <a:xfrm flipV="1">
            <a:off x="4910040" y="2004840"/>
            <a:ext cx="0" cy="108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19" name=""/>
          <p:cNvSpPr/>
          <p:nvPr/>
        </p:nvSpPr>
        <p:spPr>
          <a:xfrm>
            <a:off x="4861080" y="200484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420" name=""/>
          <p:cNvSpPr/>
          <p:nvPr/>
        </p:nvSpPr>
        <p:spPr>
          <a:xfrm>
            <a:off x="5923080" y="2577960"/>
            <a:ext cx="384120" cy="269748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21" name=""/>
          <p:cNvSpPr/>
          <p:nvPr/>
        </p:nvSpPr>
        <p:spPr>
          <a:xfrm flipV="1">
            <a:off x="6114960" y="2464920"/>
            <a:ext cx="0" cy="11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22" name=""/>
          <p:cNvSpPr/>
          <p:nvPr/>
        </p:nvSpPr>
        <p:spPr>
          <a:xfrm>
            <a:off x="6067440" y="2465280"/>
            <a:ext cx="96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423" name=""/>
          <p:cNvSpPr/>
          <p:nvPr/>
        </p:nvSpPr>
        <p:spPr>
          <a:xfrm>
            <a:off x="3555000" y="3030480"/>
            <a:ext cx="3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424" name=""/>
          <p:cNvSpPr/>
          <p:nvPr/>
        </p:nvSpPr>
        <p:spPr>
          <a:xfrm>
            <a:off x="6546960" y="1824120"/>
            <a:ext cx="1461960" cy="1563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25" name=""/>
          <p:cNvSpPr/>
          <p:nvPr/>
        </p:nvSpPr>
        <p:spPr>
          <a:xfrm>
            <a:off x="6727680" y="2048040"/>
            <a:ext cx="352440" cy="185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26" name=""/>
          <p:cNvSpPr/>
          <p:nvPr/>
        </p:nvSpPr>
        <p:spPr>
          <a:xfrm>
            <a:off x="6727680" y="2313000"/>
            <a:ext cx="352440" cy="185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27" name=""/>
          <p:cNvSpPr/>
          <p:nvPr/>
        </p:nvSpPr>
        <p:spPr>
          <a:xfrm>
            <a:off x="7147800" y="217008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lux</a:t>
            </a:r>
            <a:endParaRPr b="0" lang="en-US" sz="2000" spc="-1" strike="noStrike">
              <a:solidFill>
                <a:srgbClr val="000000"/>
              </a:solidFill>
              <a:latin typeface="Comic Sans MS"/>
            </a:endParaRPr>
          </a:p>
        </p:txBody>
      </p:sp>
      <p:sp>
        <p:nvSpPr>
          <p:cNvPr id="4428" name=""/>
          <p:cNvSpPr/>
          <p:nvPr/>
        </p:nvSpPr>
        <p:spPr>
          <a:xfrm>
            <a:off x="7112160" y="2833560"/>
            <a:ext cx="89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0 lux</a:t>
            </a:r>
            <a:endParaRPr b="0" lang="en-US" sz="2000" spc="-1" strike="noStrike">
              <a:solidFill>
                <a:srgbClr val="000000"/>
              </a:solidFill>
              <a:latin typeface="Comic Sans MS"/>
            </a:endParaRPr>
          </a:p>
        </p:txBody>
      </p:sp>
      <p:sp>
        <p:nvSpPr>
          <p:cNvPr id="4429" name=""/>
          <p:cNvSpPr/>
          <p:nvPr/>
        </p:nvSpPr>
        <p:spPr>
          <a:xfrm>
            <a:off x="6743880" y="2744640"/>
            <a:ext cx="352080" cy="187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30" name=""/>
          <p:cNvSpPr/>
          <p:nvPr/>
        </p:nvSpPr>
        <p:spPr>
          <a:xfrm>
            <a:off x="6743880" y="3009960"/>
            <a:ext cx="352080" cy="1872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31" name=""/>
          <p:cNvSpPr/>
          <p:nvPr/>
        </p:nvSpPr>
        <p:spPr>
          <a:xfrm>
            <a:off x="24804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ADAF4DD3-CC7A-4313-B933-398F17BEB0C8}" type="datetime1">
              <a:rPr lang="en-US"/>
              <a:t>07/30/26</a:t>
            </a:fld>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32" name=""/>
          <p:cNvSpPr/>
          <p:nvPr/>
        </p:nvSpPr>
        <p:spPr>
          <a:xfrm>
            <a:off x="1481040" y="552600"/>
            <a:ext cx="6299280" cy="91440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 - F4</a:t>
            </a:r>
            <a:br>
              <a:rPr sz="2800"/>
            </a:br>
            <a:r>
              <a:rPr b="0" lang="fr-FR" sz="2800" spc="-1" strike="noStrike">
                <a:solidFill>
                  <a:srgbClr val="ff3300"/>
                </a:solidFill>
                <a:latin typeface="Comic Sans MS"/>
              </a:rPr>
              <a:t>open field - inner locomotion</a:t>
            </a:r>
            <a:endParaRPr b="0" lang="en-US" sz="2800" spc="-1" strike="noStrike">
              <a:solidFill>
                <a:srgbClr val="000000"/>
              </a:solidFill>
              <a:latin typeface="Comic Sans MS"/>
            </a:endParaRPr>
          </a:p>
        </p:txBody>
      </p:sp>
      <p:grpSp>
        <p:nvGrpSpPr>
          <p:cNvPr id="4433" name=""/>
          <p:cNvGrpSpPr/>
          <p:nvPr/>
        </p:nvGrpSpPr>
        <p:grpSpPr>
          <a:xfrm>
            <a:off x="869760" y="1685880"/>
            <a:ext cx="5632200" cy="3817080"/>
            <a:chOff x="869760" y="1685880"/>
            <a:chExt cx="5632200" cy="3817080"/>
          </a:xfrm>
        </p:grpSpPr>
        <p:sp>
          <p:nvSpPr>
            <p:cNvPr id="4434" name=""/>
            <p:cNvSpPr/>
            <p:nvPr/>
          </p:nvSpPr>
          <p:spPr>
            <a:xfrm>
              <a:off x="1321200" y="1841400"/>
              <a:ext cx="5179680" cy="351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35" name=""/>
            <p:cNvSpPr/>
            <p:nvPr/>
          </p:nvSpPr>
          <p:spPr>
            <a:xfrm>
              <a:off x="1321200" y="5353200"/>
              <a:ext cx="5179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36" name=""/>
            <p:cNvSpPr/>
            <p:nvPr/>
          </p:nvSpPr>
          <p:spPr>
            <a:xfrm>
              <a:off x="1321200" y="1841400"/>
              <a:ext cx="5179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37" name=""/>
            <p:cNvSpPr/>
            <p:nvPr/>
          </p:nvSpPr>
          <p:spPr>
            <a:xfrm flipV="1">
              <a:off x="1321200" y="1841040"/>
              <a:ext cx="1440" cy="351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38" name=""/>
            <p:cNvSpPr/>
            <p:nvPr/>
          </p:nvSpPr>
          <p:spPr>
            <a:xfrm>
              <a:off x="1270080" y="5353200"/>
              <a:ext cx="50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39" name=""/>
            <p:cNvSpPr/>
            <p:nvPr/>
          </p:nvSpPr>
          <p:spPr>
            <a:xfrm>
              <a:off x="1270080" y="4851720"/>
              <a:ext cx="5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440" name=""/>
            <p:cNvSpPr/>
            <p:nvPr/>
          </p:nvSpPr>
          <p:spPr>
            <a:xfrm>
              <a:off x="1270080" y="4350240"/>
              <a:ext cx="50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41" name=""/>
            <p:cNvSpPr/>
            <p:nvPr/>
          </p:nvSpPr>
          <p:spPr>
            <a:xfrm>
              <a:off x="1270080" y="3847320"/>
              <a:ext cx="5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442" name=""/>
            <p:cNvSpPr/>
            <p:nvPr/>
          </p:nvSpPr>
          <p:spPr>
            <a:xfrm>
              <a:off x="1270080" y="3345840"/>
              <a:ext cx="50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43" name=""/>
            <p:cNvSpPr/>
            <p:nvPr/>
          </p:nvSpPr>
          <p:spPr>
            <a:xfrm>
              <a:off x="1270080" y="2844720"/>
              <a:ext cx="50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44" name=""/>
            <p:cNvSpPr/>
            <p:nvPr/>
          </p:nvSpPr>
          <p:spPr>
            <a:xfrm>
              <a:off x="1270080" y="2342880"/>
              <a:ext cx="5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445" name=""/>
            <p:cNvSpPr/>
            <p:nvPr/>
          </p:nvSpPr>
          <p:spPr>
            <a:xfrm>
              <a:off x="1270080" y="1841400"/>
              <a:ext cx="50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46" name=""/>
            <p:cNvSpPr/>
            <p:nvPr/>
          </p:nvSpPr>
          <p:spPr>
            <a:xfrm>
              <a:off x="972720" y="519768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p:txBody>
        </p:sp>
        <p:sp>
          <p:nvSpPr>
            <p:cNvPr id="4447" name=""/>
            <p:cNvSpPr/>
            <p:nvPr/>
          </p:nvSpPr>
          <p:spPr>
            <a:xfrm>
              <a:off x="972720" y="469620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p:txBody>
        </p:sp>
        <p:sp>
          <p:nvSpPr>
            <p:cNvPr id="4448" name=""/>
            <p:cNvSpPr/>
            <p:nvPr/>
          </p:nvSpPr>
          <p:spPr>
            <a:xfrm>
              <a:off x="869760" y="419436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a:t>
              </a:r>
              <a:endParaRPr b="0" lang="en-US" sz="2000" spc="-1" strike="noStrike">
                <a:solidFill>
                  <a:srgbClr val="000000"/>
                </a:solidFill>
                <a:latin typeface="Comic Sans MS"/>
              </a:endParaRPr>
            </a:p>
          </p:txBody>
        </p:sp>
        <p:sp>
          <p:nvSpPr>
            <p:cNvPr id="4449" name=""/>
            <p:cNvSpPr/>
            <p:nvPr/>
          </p:nvSpPr>
          <p:spPr>
            <a:xfrm>
              <a:off x="869760" y="369324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a:t>
              </a:r>
              <a:endParaRPr b="0" lang="en-US" sz="2000" spc="-1" strike="noStrike">
                <a:solidFill>
                  <a:srgbClr val="000000"/>
                </a:solidFill>
                <a:latin typeface="Comic Sans MS"/>
              </a:endParaRPr>
            </a:p>
          </p:txBody>
        </p:sp>
        <p:sp>
          <p:nvSpPr>
            <p:cNvPr id="4450" name=""/>
            <p:cNvSpPr/>
            <p:nvPr/>
          </p:nvSpPr>
          <p:spPr>
            <a:xfrm>
              <a:off x="888480" y="318996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a:t>
              </a:r>
              <a:endParaRPr b="0" lang="en-US" sz="2000" spc="-1" strike="noStrike">
                <a:solidFill>
                  <a:srgbClr val="000000"/>
                </a:solidFill>
                <a:latin typeface="Comic Sans MS"/>
              </a:endParaRPr>
            </a:p>
          </p:txBody>
        </p:sp>
        <p:sp>
          <p:nvSpPr>
            <p:cNvPr id="4451" name=""/>
            <p:cNvSpPr/>
            <p:nvPr/>
          </p:nvSpPr>
          <p:spPr>
            <a:xfrm>
              <a:off x="888480" y="268884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5</a:t>
              </a:r>
              <a:endParaRPr b="0" lang="en-US" sz="2000" spc="-1" strike="noStrike">
                <a:solidFill>
                  <a:srgbClr val="000000"/>
                </a:solidFill>
                <a:latin typeface="Comic Sans MS"/>
              </a:endParaRPr>
            </a:p>
          </p:txBody>
        </p:sp>
        <p:sp>
          <p:nvSpPr>
            <p:cNvPr id="4452" name=""/>
            <p:cNvSpPr/>
            <p:nvPr/>
          </p:nvSpPr>
          <p:spPr>
            <a:xfrm>
              <a:off x="888480" y="218700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a:t>
              </a:r>
              <a:endParaRPr b="0" lang="en-US" sz="2000" spc="-1" strike="noStrike">
                <a:solidFill>
                  <a:srgbClr val="000000"/>
                </a:solidFill>
                <a:latin typeface="Comic Sans MS"/>
              </a:endParaRPr>
            </a:p>
          </p:txBody>
        </p:sp>
        <p:sp>
          <p:nvSpPr>
            <p:cNvPr id="4453" name=""/>
            <p:cNvSpPr/>
            <p:nvPr/>
          </p:nvSpPr>
          <p:spPr>
            <a:xfrm>
              <a:off x="888480" y="168588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a:t>
              </a:r>
              <a:endParaRPr b="0" lang="en-US" sz="2000" spc="-1" strike="noStrike">
                <a:solidFill>
                  <a:srgbClr val="000000"/>
                </a:solidFill>
                <a:latin typeface="Comic Sans MS"/>
              </a:endParaRPr>
            </a:p>
          </p:txBody>
        </p:sp>
        <p:sp>
          <p:nvSpPr>
            <p:cNvPr id="4454" name=""/>
            <p:cNvSpPr/>
            <p:nvPr/>
          </p:nvSpPr>
          <p:spPr>
            <a:xfrm flipV="1">
              <a:off x="6500880" y="1841040"/>
              <a:ext cx="1080" cy="351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55" name=""/>
            <p:cNvSpPr/>
            <p:nvPr/>
          </p:nvSpPr>
          <p:spPr>
            <a:xfrm>
              <a:off x="1503000" y="3285720"/>
              <a:ext cx="413280" cy="2063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56" name=""/>
            <p:cNvSpPr/>
            <p:nvPr/>
          </p:nvSpPr>
          <p:spPr>
            <a:xfrm flipV="1">
              <a:off x="1710000" y="3084840"/>
              <a:ext cx="108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57" name=""/>
            <p:cNvSpPr/>
            <p:nvPr/>
          </p:nvSpPr>
          <p:spPr>
            <a:xfrm>
              <a:off x="1657440" y="3085200"/>
              <a:ext cx="104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58" name=""/>
            <p:cNvSpPr/>
            <p:nvPr/>
          </p:nvSpPr>
          <p:spPr>
            <a:xfrm>
              <a:off x="2797200" y="4048560"/>
              <a:ext cx="414720" cy="1300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59" name=""/>
            <p:cNvSpPr/>
            <p:nvPr/>
          </p:nvSpPr>
          <p:spPr>
            <a:xfrm flipV="1">
              <a:off x="3004200" y="3888720"/>
              <a:ext cx="108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60" name=""/>
            <p:cNvSpPr/>
            <p:nvPr/>
          </p:nvSpPr>
          <p:spPr>
            <a:xfrm>
              <a:off x="2953080" y="3888720"/>
              <a:ext cx="104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61" name=""/>
            <p:cNvSpPr/>
            <p:nvPr/>
          </p:nvSpPr>
          <p:spPr>
            <a:xfrm>
              <a:off x="4092840" y="2472840"/>
              <a:ext cx="413280" cy="2876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62" name=""/>
            <p:cNvSpPr/>
            <p:nvPr/>
          </p:nvSpPr>
          <p:spPr>
            <a:xfrm flipV="1">
              <a:off x="4299840" y="2232000"/>
              <a:ext cx="1080" cy="2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63" name=""/>
            <p:cNvSpPr/>
            <p:nvPr/>
          </p:nvSpPr>
          <p:spPr>
            <a:xfrm>
              <a:off x="4247280" y="2232360"/>
              <a:ext cx="104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64" name=""/>
            <p:cNvSpPr/>
            <p:nvPr/>
          </p:nvSpPr>
          <p:spPr>
            <a:xfrm>
              <a:off x="5387400" y="3265560"/>
              <a:ext cx="414720" cy="2083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65" name=""/>
            <p:cNvSpPr/>
            <p:nvPr/>
          </p:nvSpPr>
          <p:spPr>
            <a:xfrm flipV="1">
              <a:off x="5594040" y="3114720"/>
              <a:ext cx="144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66" name=""/>
            <p:cNvSpPr/>
            <p:nvPr/>
          </p:nvSpPr>
          <p:spPr>
            <a:xfrm>
              <a:off x="5542920" y="3115080"/>
              <a:ext cx="104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67" name=""/>
            <p:cNvSpPr/>
            <p:nvPr/>
          </p:nvSpPr>
          <p:spPr>
            <a:xfrm>
              <a:off x="2019960" y="4129200"/>
              <a:ext cx="414720" cy="12200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68" name=""/>
            <p:cNvSpPr/>
            <p:nvPr/>
          </p:nvSpPr>
          <p:spPr>
            <a:xfrm flipV="1">
              <a:off x="2228040" y="4008600"/>
              <a:ext cx="108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69" name=""/>
            <p:cNvSpPr/>
            <p:nvPr/>
          </p:nvSpPr>
          <p:spPr>
            <a:xfrm>
              <a:off x="2175480" y="4008960"/>
              <a:ext cx="104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70" name=""/>
            <p:cNvSpPr/>
            <p:nvPr/>
          </p:nvSpPr>
          <p:spPr>
            <a:xfrm>
              <a:off x="3315600" y="4765680"/>
              <a:ext cx="414720" cy="5832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71" name=""/>
            <p:cNvSpPr/>
            <p:nvPr/>
          </p:nvSpPr>
          <p:spPr>
            <a:xfrm flipV="1">
              <a:off x="3522600" y="4686480"/>
              <a:ext cx="10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Comic Sans MS"/>
              </a:endParaRPr>
            </a:p>
          </p:txBody>
        </p:sp>
        <p:sp>
          <p:nvSpPr>
            <p:cNvPr id="4472" name=""/>
            <p:cNvSpPr/>
            <p:nvPr/>
          </p:nvSpPr>
          <p:spPr>
            <a:xfrm>
              <a:off x="3471120" y="4686480"/>
              <a:ext cx="104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4473" name=""/>
            <p:cNvSpPr/>
            <p:nvPr/>
          </p:nvSpPr>
          <p:spPr>
            <a:xfrm>
              <a:off x="4609800" y="3124800"/>
              <a:ext cx="414720" cy="2224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74" name=""/>
            <p:cNvSpPr/>
            <p:nvPr/>
          </p:nvSpPr>
          <p:spPr>
            <a:xfrm flipV="1">
              <a:off x="4818240" y="2902680"/>
              <a:ext cx="1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75" name=""/>
            <p:cNvSpPr/>
            <p:nvPr/>
          </p:nvSpPr>
          <p:spPr>
            <a:xfrm>
              <a:off x="4765680" y="2903040"/>
              <a:ext cx="10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476" name=""/>
            <p:cNvSpPr/>
            <p:nvPr/>
          </p:nvSpPr>
          <p:spPr>
            <a:xfrm>
              <a:off x="5905440" y="4168800"/>
              <a:ext cx="413280" cy="118044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77" name=""/>
            <p:cNvSpPr/>
            <p:nvPr/>
          </p:nvSpPr>
          <p:spPr>
            <a:xfrm flipV="1">
              <a:off x="6112080" y="4038840"/>
              <a:ext cx="144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78" name=""/>
            <p:cNvSpPr/>
            <p:nvPr/>
          </p:nvSpPr>
          <p:spPr>
            <a:xfrm>
              <a:off x="6061320" y="4038840"/>
              <a:ext cx="104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grpSp>
      <p:sp>
        <p:nvSpPr>
          <p:cNvPr id="4479" name=""/>
          <p:cNvSpPr/>
          <p:nvPr/>
        </p:nvSpPr>
        <p:spPr>
          <a:xfrm>
            <a:off x="1644840" y="5450040"/>
            <a:ext cx="82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HH</a:t>
            </a:r>
            <a:endParaRPr b="0" lang="en-US" sz="2400" spc="-1" strike="noStrike">
              <a:solidFill>
                <a:srgbClr val="000000"/>
              </a:solidFill>
              <a:latin typeface="Comic Sans MS"/>
            </a:endParaRPr>
          </a:p>
        </p:txBody>
      </p:sp>
      <p:sp>
        <p:nvSpPr>
          <p:cNvPr id="4480" name=""/>
          <p:cNvSpPr/>
          <p:nvPr/>
        </p:nvSpPr>
        <p:spPr>
          <a:xfrm>
            <a:off x="2942280" y="545004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M-LL</a:t>
            </a:r>
            <a:endParaRPr b="0" lang="en-US" sz="2400" spc="-1" strike="noStrike">
              <a:solidFill>
                <a:srgbClr val="000000"/>
              </a:solidFill>
              <a:latin typeface="Comic Sans MS"/>
            </a:endParaRPr>
          </a:p>
        </p:txBody>
      </p:sp>
      <p:sp>
        <p:nvSpPr>
          <p:cNvPr id="4481" name=""/>
          <p:cNvSpPr/>
          <p:nvPr/>
        </p:nvSpPr>
        <p:spPr>
          <a:xfrm>
            <a:off x="4213440" y="5450040"/>
            <a:ext cx="707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HH</a:t>
            </a:r>
            <a:endParaRPr b="0" lang="en-US" sz="2400" spc="-1" strike="noStrike">
              <a:solidFill>
                <a:srgbClr val="000000"/>
              </a:solidFill>
              <a:latin typeface="Comic Sans MS"/>
            </a:endParaRPr>
          </a:p>
        </p:txBody>
      </p:sp>
      <p:sp>
        <p:nvSpPr>
          <p:cNvPr id="4482" name=""/>
          <p:cNvSpPr/>
          <p:nvPr/>
        </p:nvSpPr>
        <p:spPr>
          <a:xfrm>
            <a:off x="5510520" y="5450040"/>
            <a:ext cx="576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LL</a:t>
            </a:r>
            <a:endParaRPr b="0" lang="en-US" sz="2400" spc="-1" strike="noStrike">
              <a:solidFill>
                <a:srgbClr val="000000"/>
              </a:solidFill>
              <a:latin typeface="Comic Sans MS"/>
            </a:endParaRPr>
          </a:p>
        </p:txBody>
      </p:sp>
      <p:sp>
        <p:nvSpPr>
          <p:cNvPr id="4483" name=""/>
          <p:cNvSpPr/>
          <p:nvPr/>
        </p:nvSpPr>
        <p:spPr>
          <a:xfrm>
            <a:off x="6632640" y="1825560"/>
            <a:ext cx="1535040" cy="1581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84" name=""/>
          <p:cNvSpPr/>
          <p:nvPr/>
        </p:nvSpPr>
        <p:spPr>
          <a:xfrm>
            <a:off x="6823080" y="2052720"/>
            <a:ext cx="368280" cy="187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85" name=""/>
          <p:cNvSpPr/>
          <p:nvPr/>
        </p:nvSpPr>
        <p:spPr>
          <a:xfrm>
            <a:off x="6823080" y="2319480"/>
            <a:ext cx="368280" cy="188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86" name=""/>
          <p:cNvSpPr/>
          <p:nvPr/>
        </p:nvSpPr>
        <p:spPr>
          <a:xfrm>
            <a:off x="7263000" y="217476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lux</a:t>
            </a:r>
            <a:endParaRPr b="0" lang="en-US" sz="2000" spc="-1" strike="noStrike">
              <a:solidFill>
                <a:srgbClr val="000000"/>
              </a:solidFill>
              <a:latin typeface="Comic Sans MS"/>
            </a:endParaRPr>
          </a:p>
        </p:txBody>
      </p:sp>
      <p:sp>
        <p:nvSpPr>
          <p:cNvPr id="4487" name=""/>
          <p:cNvSpPr/>
          <p:nvPr/>
        </p:nvSpPr>
        <p:spPr>
          <a:xfrm>
            <a:off x="7226280" y="2846520"/>
            <a:ext cx="89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0 lux</a:t>
            </a:r>
            <a:endParaRPr b="0" lang="en-US" sz="2000" spc="-1" strike="noStrike">
              <a:solidFill>
                <a:srgbClr val="000000"/>
              </a:solidFill>
              <a:latin typeface="Comic Sans MS"/>
            </a:endParaRPr>
          </a:p>
        </p:txBody>
      </p:sp>
      <p:sp>
        <p:nvSpPr>
          <p:cNvPr id="4488" name=""/>
          <p:cNvSpPr/>
          <p:nvPr/>
        </p:nvSpPr>
        <p:spPr>
          <a:xfrm>
            <a:off x="6838920" y="2757600"/>
            <a:ext cx="368280" cy="1886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89" name=""/>
          <p:cNvSpPr/>
          <p:nvPr/>
        </p:nvSpPr>
        <p:spPr>
          <a:xfrm>
            <a:off x="6838920" y="3024360"/>
            <a:ext cx="368280" cy="18864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90" name=""/>
          <p:cNvSpPr/>
          <p:nvPr/>
        </p:nvSpPr>
        <p:spPr>
          <a:xfrm>
            <a:off x="2144880" y="3052800"/>
            <a:ext cx="1634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91" name=""/>
          <p:cNvSpPr/>
          <p:nvPr/>
        </p:nvSpPr>
        <p:spPr>
          <a:xfrm>
            <a:off x="2655720" y="3456000"/>
            <a:ext cx="6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492" name=""/>
          <p:cNvSpPr/>
          <p:nvPr/>
        </p:nvSpPr>
        <p:spPr>
          <a:xfrm>
            <a:off x="3263400" y="419256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493" name=""/>
          <p:cNvGrpSpPr/>
          <p:nvPr/>
        </p:nvGrpSpPr>
        <p:grpSpPr>
          <a:xfrm>
            <a:off x="1707840" y="2082960"/>
            <a:ext cx="624240" cy="586440"/>
            <a:chOff x="1707840" y="2082960"/>
            <a:chExt cx="624240" cy="586440"/>
          </a:xfrm>
        </p:grpSpPr>
        <p:sp>
          <p:nvSpPr>
            <p:cNvPr id="4494" name=""/>
            <p:cNvSpPr/>
            <p:nvPr/>
          </p:nvSpPr>
          <p:spPr>
            <a:xfrm rot="16200000">
              <a:off x="1897560" y="2307600"/>
              <a:ext cx="229320" cy="494280"/>
            </a:xfrm>
            <a:custGeom>
              <a:avLst/>
              <a:gdLst>
                <a:gd name="textAreaLeft" fmla="*/ 0 w 229320"/>
                <a:gd name="textAreaRight" fmla="*/ 160920 w 229320"/>
                <a:gd name="textAreaTop" fmla="*/ 20520 h 494280"/>
                <a:gd name="textAreaBottom" fmla="*/ 473760 h 494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495" name=""/>
            <p:cNvSpPr/>
            <p:nvPr/>
          </p:nvSpPr>
          <p:spPr>
            <a:xfrm>
              <a:off x="1707840" y="2082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grpSp>
      <p:grpSp>
        <p:nvGrpSpPr>
          <p:cNvPr id="4496" name=""/>
          <p:cNvGrpSpPr/>
          <p:nvPr/>
        </p:nvGrpSpPr>
        <p:grpSpPr>
          <a:xfrm>
            <a:off x="2965320" y="2082960"/>
            <a:ext cx="624240" cy="586440"/>
            <a:chOff x="2965320" y="2082960"/>
            <a:chExt cx="624240" cy="586440"/>
          </a:xfrm>
        </p:grpSpPr>
        <p:sp>
          <p:nvSpPr>
            <p:cNvPr id="4497" name=""/>
            <p:cNvSpPr/>
            <p:nvPr/>
          </p:nvSpPr>
          <p:spPr>
            <a:xfrm rot="16200000">
              <a:off x="3153960" y="2306880"/>
              <a:ext cx="229320" cy="495360"/>
            </a:xfrm>
            <a:custGeom>
              <a:avLst/>
              <a:gdLst>
                <a:gd name="textAreaLeft" fmla="*/ 0 w 229320"/>
                <a:gd name="textAreaRight" fmla="*/ 160920 w 229320"/>
                <a:gd name="textAreaTop" fmla="*/ 20520 h 495360"/>
                <a:gd name="textAreaBottom" fmla="*/ 474840 h 495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498" name=""/>
            <p:cNvSpPr/>
            <p:nvPr/>
          </p:nvSpPr>
          <p:spPr>
            <a:xfrm>
              <a:off x="2965320" y="2082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grpSp>
      <p:sp>
        <p:nvSpPr>
          <p:cNvPr id="4499" name=""/>
          <p:cNvSpPr/>
          <p:nvPr/>
        </p:nvSpPr>
        <p:spPr>
          <a:xfrm>
            <a:off x="5362560" y="260208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500" name=""/>
          <p:cNvSpPr/>
          <p:nvPr/>
        </p:nvSpPr>
        <p:spPr>
          <a:xfrm>
            <a:off x="5796360" y="3521160"/>
            <a:ext cx="6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501" name=""/>
          <p:cNvSpPr/>
          <p:nvPr/>
        </p:nvSpPr>
        <p:spPr>
          <a:xfrm>
            <a:off x="4309920" y="1951200"/>
            <a:ext cx="4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502" name=""/>
          <p:cNvSpPr/>
          <p:nvPr/>
        </p:nvSpPr>
        <p:spPr>
          <a:xfrm rot="16200000">
            <a:off x="5766480" y="2175120"/>
            <a:ext cx="230040" cy="495360"/>
          </a:xfrm>
          <a:custGeom>
            <a:avLst/>
            <a:gdLst>
              <a:gd name="textAreaLeft" fmla="*/ 0 w 230040"/>
              <a:gd name="textAreaRight" fmla="*/ 161280 w 230040"/>
              <a:gd name="textAreaTop" fmla="*/ 20520 h 495360"/>
              <a:gd name="textAreaBottom" fmla="*/ 474840 h 495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503" name=""/>
          <p:cNvSpPr/>
          <p:nvPr/>
        </p:nvSpPr>
        <p:spPr>
          <a:xfrm>
            <a:off x="5580000" y="19512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504" name=""/>
          <p:cNvSpPr/>
          <p:nvPr/>
        </p:nvSpPr>
        <p:spPr>
          <a:xfrm rot="16200000">
            <a:off x="4510080" y="2091960"/>
            <a:ext cx="65160" cy="497160"/>
          </a:xfrm>
          <a:custGeom>
            <a:avLst/>
            <a:gdLst>
              <a:gd name="textAreaLeft" fmla="*/ 0 w 65160"/>
              <a:gd name="textAreaRight" fmla="*/ 45720 w 65160"/>
              <a:gd name="textAreaTop" fmla="*/ 20520 h 497160"/>
              <a:gd name="textAreaBottom" fmla="*/ 476640 h 497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505" name=""/>
          <p:cNvSpPr/>
          <p:nvPr/>
        </p:nvSpPr>
        <p:spPr>
          <a:xfrm>
            <a:off x="24804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930A397E-5CB4-4A74-8145-6A557A7AA026}" type="datetime1">
              <a:rPr lang="en-US"/>
              <a:t>07/30/26</a:t>
            </a:fld>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6" name="PlaceHolder 1"/>
          <p:cNvSpPr>
            <a:spLocks noGrp="1"/>
          </p:cNvSpPr>
          <p:nvPr>
            <p:ph type="title"/>
          </p:nvPr>
        </p:nvSpPr>
        <p:spPr>
          <a:xfrm>
            <a:off x="1290240" y="304920"/>
            <a:ext cx="6689880" cy="76176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Comic Sans MS"/>
              </a:rPr>
              <a:t>inhibition index - (LL/HH)*100</a:t>
            </a:r>
            <a:endParaRPr b="0" lang="en-US" sz="3200" spc="-1" strike="noStrike">
              <a:solidFill>
                <a:srgbClr val="ff3300"/>
              </a:solidFill>
              <a:latin typeface="Comic Sans MS"/>
            </a:endParaRPr>
          </a:p>
        </p:txBody>
      </p:sp>
      <p:sp>
        <p:nvSpPr>
          <p:cNvPr id="4507" name=""/>
          <p:cNvSpPr/>
          <p:nvPr/>
        </p:nvSpPr>
        <p:spPr>
          <a:xfrm>
            <a:off x="2025720" y="1306440"/>
            <a:ext cx="5754600" cy="398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08" name=""/>
          <p:cNvSpPr/>
          <p:nvPr/>
        </p:nvSpPr>
        <p:spPr>
          <a:xfrm>
            <a:off x="2025720" y="5295960"/>
            <a:ext cx="575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509" name=""/>
          <p:cNvSpPr/>
          <p:nvPr/>
        </p:nvSpPr>
        <p:spPr>
          <a:xfrm flipV="1">
            <a:off x="274464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4510" name=""/>
          <p:cNvSpPr/>
          <p:nvPr/>
        </p:nvSpPr>
        <p:spPr>
          <a:xfrm flipV="1">
            <a:off x="3463920" y="529560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4511" name=""/>
          <p:cNvSpPr/>
          <p:nvPr/>
        </p:nvSpPr>
        <p:spPr>
          <a:xfrm flipV="1">
            <a:off x="4183200" y="529560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4512" name=""/>
          <p:cNvSpPr/>
          <p:nvPr/>
        </p:nvSpPr>
        <p:spPr>
          <a:xfrm flipV="1">
            <a:off x="490212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4513" name=""/>
          <p:cNvSpPr/>
          <p:nvPr/>
        </p:nvSpPr>
        <p:spPr>
          <a:xfrm flipV="1">
            <a:off x="5621400" y="529560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4514" name=""/>
          <p:cNvSpPr/>
          <p:nvPr/>
        </p:nvSpPr>
        <p:spPr>
          <a:xfrm flipV="1">
            <a:off x="6342120" y="529560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4515" name=""/>
          <p:cNvSpPr/>
          <p:nvPr/>
        </p:nvSpPr>
        <p:spPr>
          <a:xfrm flipV="1">
            <a:off x="706104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4516" name=""/>
          <p:cNvSpPr/>
          <p:nvPr/>
        </p:nvSpPr>
        <p:spPr>
          <a:xfrm>
            <a:off x="2482920" y="5481720"/>
            <a:ext cx="51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ct10</a:t>
            </a:r>
            <a:endParaRPr b="0" lang="en-US" sz="1600" spc="-1" strike="noStrike">
              <a:solidFill>
                <a:srgbClr val="000000"/>
              </a:solidFill>
              <a:latin typeface="Comic Sans MS"/>
            </a:endParaRPr>
          </a:p>
        </p:txBody>
      </p:sp>
      <p:sp>
        <p:nvSpPr>
          <p:cNvPr id="4517" name=""/>
          <p:cNvSpPr/>
          <p:nvPr/>
        </p:nvSpPr>
        <p:spPr>
          <a:xfrm>
            <a:off x="3218040" y="5481720"/>
            <a:ext cx="51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ct60</a:t>
            </a:r>
            <a:endParaRPr b="0" lang="en-US" sz="1600" spc="-1" strike="noStrike">
              <a:solidFill>
                <a:srgbClr val="000000"/>
              </a:solidFill>
              <a:latin typeface="Comic Sans MS"/>
            </a:endParaRPr>
          </a:p>
        </p:txBody>
      </p:sp>
      <p:sp>
        <p:nvSpPr>
          <p:cNvPr id="4518" name=""/>
          <p:cNvSpPr/>
          <p:nvPr/>
        </p:nvSpPr>
        <p:spPr>
          <a:xfrm>
            <a:off x="3983760" y="5481720"/>
            <a:ext cx="55692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p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tal)</a:t>
            </a:r>
            <a:endParaRPr b="0" lang="en-US" sz="1600" spc="-1" strike="noStrike">
              <a:solidFill>
                <a:srgbClr val="000000"/>
              </a:solidFill>
              <a:latin typeface="Comic Sans MS"/>
            </a:endParaRPr>
          </a:p>
        </p:txBody>
      </p:sp>
      <p:sp>
        <p:nvSpPr>
          <p:cNvPr id="4519" name=""/>
          <p:cNvSpPr/>
          <p:nvPr/>
        </p:nvSpPr>
        <p:spPr>
          <a:xfrm>
            <a:off x="4604040" y="5481720"/>
            <a:ext cx="628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of1out</a:t>
            </a:r>
            <a:endParaRPr b="0" lang="en-US" sz="1600" spc="-1" strike="noStrike">
              <a:solidFill>
                <a:srgbClr val="000000"/>
              </a:solidFill>
              <a:latin typeface="Comic Sans MS"/>
            </a:endParaRPr>
          </a:p>
        </p:txBody>
      </p:sp>
      <p:sp>
        <p:nvSpPr>
          <p:cNvPr id="4520" name=""/>
          <p:cNvSpPr/>
          <p:nvPr/>
        </p:nvSpPr>
        <p:spPr>
          <a:xfrm>
            <a:off x="5371560" y="5481720"/>
            <a:ext cx="48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of1in</a:t>
            </a:r>
            <a:endParaRPr b="0" lang="en-US" sz="1600" spc="-1" strike="noStrike">
              <a:solidFill>
                <a:srgbClr val="000000"/>
              </a:solidFill>
              <a:latin typeface="Comic Sans MS"/>
            </a:endParaRPr>
          </a:p>
        </p:txBody>
      </p:sp>
      <p:sp>
        <p:nvSpPr>
          <p:cNvPr id="4521" name=""/>
          <p:cNvSpPr/>
          <p:nvPr/>
        </p:nvSpPr>
        <p:spPr>
          <a:xfrm>
            <a:off x="6057720" y="5481720"/>
            <a:ext cx="628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of2out</a:t>
            </a:r>
            <a:endParaRPr b="0" lang="en-US" sz="1600" spc="-1" strike="noStrike">
              <a:solidFill>
                <a:srgbClr val="000000"/>
              </a:solidFill>
              <a:latin typeface="Comic Sans MS"/>
            </a:endParaRPr>
          </a:p>
        </p:txBody>
      </p:sp>
      <p:sp>
        <p:nvSpPr>
          <p:cNvPr id="4522" name=""/>
          <p:cNvSpPr/>
          <p:nvPr/>
        </p:nvSpPr>
        <p:spPr>
          <a:xfrm>
            <a:off x="6825600" y="5483160"/>
            <a:ext cx="48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of2in</a:t>
            </a:r>
            <a:endParaRPr b="0" lang="en-US" sz="1600" spc="-1" strike="noStrike">
              <a:solidFill>
                <a:srgbClr val="000000"/>
              </a:solidFill>
              <a:latin typeface="Comic Sans MS"/>
            </a:endParaRPr>
          </a:p>
        </p:txBody>
      </p:sp>
      <p:sp>
        <p:nvSpPr>
          <p:cNvPr id="4523" name=""/>
          <p:cNvSpPr/>
          <p:nvPr/>
        </p:nvSpPr>
        <p:spPr>
          <a:xfrm>
            <a:off x="2025720" y="1306440"/>
            <a:ext cx="5754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524" name=""/>
          <p:cNvSpPr/>
          <p:nvPr/>
        </p:nvSpPr>
        <p:spPr>
          <a:xfrm flipV="1">
            <a:off x="2025720" y="1306440"/>
            <a:ext cx="0" cy="398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25" name=""/>
          <p:cNvSpPr/>
          <p:nvPr/>
        </p:nvSpPr>
        <p:spPr>
          <a:xfrm>
            <a:off x="1967040" y="529596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526" name=""/>
          <p:cNvSpPr/>
          <p:nvPr/>
        </p:nvSpPr>
        <p:spPr>
          <a:xfrm>
            <a:off x="1967040" y="463068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527" name=""/>
          <p:cNvSpPr/>
          <p:nvPr/>
        </p:nvSpPr>
        <p:spPr>
          <a:xfrm>
            <a:off x="1967040" y="3967200"/>
            <a:ext cx="5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28" name=""/>
          <p:cNvSpPr/>
          <p:nvPr/>
        </p:nvSpPr>
        <p:spPr>
          <a:xfrm>
            <a:off x="1967040" y="330192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529" name=""/>
          <p:cNvSpPr/>
          <p:nvPr/>
        </p:nvSpPr>
        <p:spPr>
          <a:xfrm>
            <a:off x="1967040" y="263520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530" name=""/>
          <p:cNvSpPr/>
          <p:nvPr/>
        </p:nvSpPr>
        <p:spPr>
          <a:xfrm>
            <a:off x="1967040" y="197172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531" name=""/>
          <p:cNvSpPr/>
          <p:nvPr/>
        </p:nvSpPr>
        <p:spPr>
          <a:xfrm>
            <a:off x="1967040" y="130644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532" name=""/>
          <p:cNvSpPr/>
          <p:nvPr/>
        </p:nvSpPr>
        <p:spPr>
          <a:xfrm>
            <a:off x="1566360" y="518940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40</a:t>
            </a:r>
            <a:endParaRPr b="0" lang="en-US" sz="2000" spc="-1" strike="noStrike">
              <a:solidFill>
                <a:srgbClr val="000000"/>
              </a:solidFill>
              <a:latin typeface="Comic Sans MS"/>
            </a:endParaRPr>
          </a:p>
        </p:txBody>
      </p:sp>
      <p:sp>
        <p:nvSpPr>
          <p:cNvPr id="4533" name=""/>
          <p:cNvSpPr/>
          <p:nvPr/>
        </p:nvSpPr>
        <p:spPr>
          <a:xfrm>
            <a:off x="1566360" y="452592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60</a:t>
            </a:r>
            <a:endParaRPr b="0" lang="en-US" sz="2000" spc="-1" strike="noStrike">
              <a:solidFill>
                <a:srgbClr val="000000"/>
              </a:solidFill>
              <a:latin typeface="Comic Sans MS"/>
            </a:endParaRPr>
          </a:p>
        </p:txBody>
      </p:sp>
      <p:sp>
        <p:nvSpPr>
          <p:cNvPr id="4534" name=""/>
          <p:cNvSpPr/>
          <p:nvPr/>
        </p:nvSpPr>
        <p:spPr>
          <a:xfrm>
            <a:off x="1566360" y="386064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80</a:t>
            </a:r>
            <a:endParaRPr b="0" lang="en-US" sz="2000" spc="-1" strike="noStrike">
              <a:solidFill>
                <a:srgbClr val="000000"/>
              </a:solidFill>
              <a:latin typeface="Comic Sans MS"/>
            </a:endParaRPr>
          </a:p>
        </p:txBody>
      </p:sp>
      <p:sp>
        <p:nvSpPr>
          <p:cNvPr id="4535" name=""/>
          <p:cNvSpPr/>
          <p:nvPr/>
        </p:nvSpPr>
        <p:spPr>
          <a:xfrm>
            <a:off x="1456560" y="319572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a:t>
            </a:r>
            <a:endParaRPr b="0" lang="en-US" sz="2000" spc="-1" strike="noStrike">
              <a:solidFill>
                <a:srgbClr val="000000"/>
              </a:solidFill>
              <a:latin typeface="Comic Sans MS"/>
            </a:endParaRPr>
          </a:p>
        </p:txBody>
      </p:sp>
      <p:sp>
        <p:nvSpPr>
          <p:cNvPr id="4536" name=""/>
          <p:cNvSpPr/>
          <p:nvPr/>
        </p:nvSpPr>
        <p:spPr>
          <a:xfrm>
            <a:off x="1456560" y="253044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20</a:t>
            </a:r>
            <a:endParaRPr b="0" lang="en-US" sz="2000" spc="-1" strike="noStrike">
              <a:solidFill>
                <a:srgbClr val="000000"/>
              </a:solidFill>
              <a:latin typeface="Comic Sans MS"/>
            </a:endParaRPr>
          </a:p>
        </p:txBody>
      </p:sp>
      <p:sp>
        <p:nvSpPr>
          <p:cNvPr id="4537" name=""/>
          <p:cNvSpPr/>
          <p:nvPr/>
        </p:nvSpPr>
        <p:spPr>
          <a:xfrm>
            <a:off x="1456560" y="186516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40</a:t>
            </a:r>
            <a:endParaRPr b="0" lang="en-US" sz="2000" spc="-1" strike="noStrike">
              <a:solidFill>
                <a:srgbClr val="000000"/>
              </a:solidFill>
              <a:latin typeface="Comic Sans MS"/>
            </a:endParaRPr>
          </a:p>
        </p:txBody>
      </p:sp>
      <p:sp>
        <p:nvSpPr>
          <p:cNvPr id="4538" name=""/>
          <p:cNvSpPr/>
          <p:nvPr/>
        </p:nvSpPr>
        <p:spPr>
          <a:xfrm>
            <a:off x="1456560" y="120024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0</a:t>
            </a:r>
            <a:endParaRPr b="0" lang="en-US" sz="2000" spc="-1" strike="noStrike">
              <a:solidFill>
                <a:srgbClr val="000000"/>
              </a:solidFill>
              <a:latin typeface="Comic Sans MS"/>
            </a:endParaRPr>
          </a:p>
        </p:txBody>
      </p:sp>
      <p:sp>
        <p:nvSpPr>
          <p:cNvPr id="4539" name=""/>
          <p:cNvSpPr/>
          <p:nvPr/>
        </p:nvSpPr>
        <p:spPr>
          <a:xfrm flipV="1">
            <a:off x="7780320" y="1306440"/>
            <a:ext cx="1440" cy="398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40" name=""/>
          <p:cNvSpPr/>
          <p:nvPr/>
        </p:nvSpPr>
        <p:spPr>
          <a:xfrm flipV="1">
            <a:off x="2744640" y="2534760"/>
            <a:ext cx="4316400" cy="2494080"/>
          </a:xfrm>
          <a:custGeom>
            <a:avLst/>
            <a:gdLst/>
            <a:ahLst/>
            <a:rect l="l" t="t" r="r" b="b"/>
            <a:pathLst>
              <a:path w="3750" h="2187">
                <a:moveTo>
                  <a:pt x="0" y="2187"/>
                </a:moveTo>
                <a:lnTo>
                  <a:pt x="625" y="2071"/>
                </a:lnTo>
                <a:lnTo>
                  <a:pt x="1250" y="758"/>
                </a:lnTo>
                <a:lnTo>
                  <a:pt x="1875" y="1021"/>
                </a:lnTo>
                <a:lnTo>
                  <a:pt x="2500" y="437"/>
                </a:lnTo>
                <a:lnTo>
                  <a:pt x="3125" y="496"/>
                </a:lnTo>
                <a:lnTo>
                  <a:pt x="3750"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41" name=""/>
          <p:cNvSpPr/>
          <p:nvPr/>
        </p:nvSpPr>
        <p:spPr>
          <a:xfrm flipV="1">
            <a:off x="2744640" y="1738080"/>
            <a:ext cx="4316400" cy="3125520"/>
          </a:xfrm>
          <a:custGeom>
            <a:avLst/>
            <a:gdLst/>
            <a:ahLst/>
            <a:rect l="l" t="t" r="r" b="b"/>
            <a:pathLst>
              <a:path w="3750" h="2741">
                <a:moveTo>
                  <a:pt x="0" y="2741"/>
                </a:moveTo>
                <a:lnTo>
                  <a:pt x="625" y="2129"/>
                </a:lnTo>
                <a:lnTo>
                  <a:pt x="1250" y="1195"/>
                </a:lnTo>
                <a:lnTo>
                  <a:pt x="1875" y="1225"/>
                </a:lnTo>
                <a:lnTo>
                  <a:pt x="2500" y="554"/>
                </a:lnTo>
                <a:lnTo>
                  <a:pt x="3125" y="933"/>
                </a:lnTo>
                <a:lnTo>
                  <a:pt x="3750" y="0"/>
                </a:ln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42" name=""/>
          <p:cNvSpPr/>
          <p:nvPr/>
        </p:nvSpPr>
        <p:spPr>
          <a:xfrm>
            <a:off x="2697120" y="2487600"/>
            <a:ext cx="95400" cy="93600"/>
          </a:xfrm>
          <a:prstGeom prst="ellipse">
            <a:avLst/>
          </a:prstGeom>
          <a:solidFill>
            <a:srgbClr val="ff3300"/>
          </a:solidFill>
          <a:ln w="9360">
            <a:solidFill>
              <a:srgbClr val="ff33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Comic Sans MS"/>
            </a:endParaRPr>
          </a:p>
        </p:txBody>
      </p:sp>
      <p:sp>
        <p:nvSpPr>
          <p:cNvPr id="4543" name=""/>
          <p:cNvSpPr/>
          <p:nvPr/>
        </p:nvSpPr>
        <p:spPr>
          <a:xfrm>
            <a:off x="3414600" y="2619360"/>
            <a:ext cx="9684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44" name=""/>
          <p:cNvSpPr/>
          <p:nvPr/>
        </p:nvSpPr>
        <p:spPr>
          <a:xfrm>
            <a:off x="4133880" y="4116240"/>
            <a:ext cx="9684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45" name=""/>
          <p:cNvSpPr/>
          <p:nvPr/>
        </p:nvSpPr>
        <p:spPr>
          <a:xfrm>
            <a:off x="4854600" y="3816360"/>
            <a:ext cx="9540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46" name=""/>
          <p:cNvSpPr/>
          <p:nvPr/>
        </p:nvSpPr>
        <p:spPr>
          <a:xfrm>
            <a:off x="5573880" y="4481640"/>
            <a:ext cx="96840" cy="95040"/>
          </a:xfrm>
          <a:prstGeom prst="ellipse">
            <a:avLst/>
          </a:prstGeom>
          <a:solidFill>
            <a:srgbClr val="ff3300"/>
          </a:solidFill>
          <a:ln w="9360">
            <a:solidFill>
              <a:srgbClr val="ff33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4547" name=""/>
          <p:cNvSpPr/>
          <p:nvPr/>
        </p:nvSpPr>
        <p:spPr>
          <a:xfrm>
            <a:off x="6292800" y="4414680"/>
            <a:ext cx="9684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48" name=""/>
          <p:cNvSpPr/>
          <p:nvPr/>
        </p:nvSpPr>
        <p:spPr>
          <a:xfrm>
            <a:off x="7012080" y="4981680"/>
            <a:ext cx="95040" cy="93600"/>
          </a:xfrm>
          <a:prstGeom prst="ellipse">
            <a:avLst/>
          </a:prstGeom>
          <a:solidFill>
            <a:srgbClr val="ff3300"/>
          </a:solidFill>
          <a:ln w="9360">
            <a:solidFill>
              <a:srgbClr val="ff33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Comic Sans MS"/>
            </a:endParaRPr>
          </a:p>
        </p:txBody>
      </p:sp>
      <p:sp>
        <p:nvSpPr>
          <p:cNvPr id="4549" name=""/>
          <p:cNvSpPr/>
          <p:nvPr/>
        </p:nvSpPr>
        <p:spPr>
          <a:xfrm>
            <a:off x="2697120" y="1689120"/>
            <a:ext cx="9540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50" name=""/>
          <p:cNvSpPr/>
          <p:nvPr/>
        </p:nvSpPr>
        <p:spPr>
          <a:xfrm>
            <a:off x="3414600" y="2387520"/>
            <a:ext cx="9684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51" name=""/>
          <p:cNvSpPr/>
          <p:nvPr/>
        </p:nvSpPr>
        <p:spPr>
          <a:xfrm>
            <a:off x="4133880" y="3452760"/>
            <a:ext cx="9684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52" name=""/>
          <p:cNvSpPr/>
          <p:nvPr/>
        </p:nvSpPr>
        <p:spPr>
          <a:xfrm>
            <a:off x="4854600" y="3417840"/>
            <a:ext cx="9540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4553" name=""/>
          <p:cNvSpPr/>
          <p:nvPr/>
        </p:nvSpPr>
        <p:spPr>
          <a:xfrm>
            <a:off x="5573880" y="4183200"/>
            <a:ext cx="96840" cy="95040"/>
          </a:xfrm>
          <a:prstGeom prst="ellipse">
            <a:avLst/>
          </a:prstGeom>
          <a:solidFill>
            <a:srgbClr val="ffffff"/>
          </a:solidFill>
          <a:ln w="9360">
            <a:solidFill>
              <a:srgbClr val="3333cc"/>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4554" name=""/>
          <p:cNvSpPr/>
          <p:nvPr/>
        </p:nvSpPr>
        <p:spPr>
          <a:xfrm>
            <a:off x="6292800" y="3749760"/>
            <a:ext cx="96840" cy="95040"/>
          </a:xfrm>
          <a:prstGeom prst="ellipse">
            <a:avLst/>
          </a:prstGeom>
          <a:solidFill>
            <a:srgbClr val="ffffff"/>
          </a:solidFill>
          <a:ln w="9360">
            <a:solidFill>
              <a:srgbClr val="3333cc"/>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4555" name=""/>
          <p:cNvSpPr/>
          <p:nvPr/>
        </p:nvSpPr>
        <p:spPr>
          <a:xfrm>
            <a:off x="7012080" y="4815000"/>
            <a:ext cx="95040" cy="95040"/>
          </a:xfrm>
          <a:prstGeom prst="ellipse">
            <a:avLst/>
          </a:prstGeom>
          <a:solidFill>
            <a:srgbClr val="ffffff"/>
          </a:solidFill>
          <a:ln w="9360">
            <a:solidFill>
              <a:srgbClr val="3333cc"/>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4556" name=""/>
          <p:cNvSpPr/>
          <p:nvPr/>
        </p:nvSpPr>
        <p:spPr>
          <a:xfrm>
            <a:off x="5221440" y="1671480"/>
            <a:ext cx="237492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57" name=""/>
          <p:cNvSpPr/>
          <p:nvPr/>
        </p:nvSpPr>
        <p:spPr>
          <a:xfrm>
            <a:off x="5835600" y="1778040"/>
            <a:ext cx="149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rPr>
              <a:t>LL vs. HH males</a:t>
            </a:r>
            <a:endParaRPr b="0" lang="en-US" sz="1600" spc="-1" strike="noStrike">
              <a:solidFill>
                <a:srgbClr val="000000"/>
              </a:solidFill>
              <a:latin typeface="Comic Sans MS"/>
            </a:endParaRPr>
          </a:p>
        </p:txBody>
      </p:sp>
      <p:sp>
        <p:nvSpPr>
          <p:cNvPr id="4558" name=""/>
          <p:cNvSpPr/>
          <p:nvPr/>
        </p:nvSpPr>
        <p:spPr>
          <a:xfrm>
            <a:off x="5388120" y="1871640"/>
            <a:ext cx="360360" cy="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59" name=""/>
          <p:cNvSpPr/>
          <p:nvPr/>
        </p:nvSpPr>
        <p:spPr>
          <a:xfrm>
            <a:off x="5519880" y="1824120"/>
            <a:ext cx="98280" cy="95040"/>
          </a:xfrm>
          <a:prstGeom prst="ellipse">
            <a:avLst/>
          </a:prstGeom>
          <a:solidFill>
            <a:srgbClr val="ff3300"/>
          </a:solidFill>
          <a:ln w="9360">
            <a:solidFill>
              <a:srgbClr val="ff33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4560" name=""/>
          <p:cNvSpPr/>
          <p:nvPr/>
        </p:nvSpPr>
        <p:spPr>
          <a:xfrm>
            <a:off x="5850360" y="2022480"/>
            <a:ext cx="1683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LL vs. HH females</a:t>
            </a:r>
            <a:endParaRPr b="0" lang="en-US" sz="1600" spc="-1" strike="noStrike">
              <a:solidFill>
                <a:srgbClr val="000000"/>
              </a:solidFill>
              <a:latin typeface="Comic Sans MS"/>
            </a:endParaRPr>
          </a:p>
        </p:txBody>
      </p:sp>
      <p:sp>
        <p:nvSpPr>
          <p:cNvPr id="4561" name=""/>
          <p:cNvSpPr/>
          <p:nvPr/>
        </p:nvSpPr>
        <p:spPr>
          <a:xfrm>
            <a:off x="5388120" y="2128680"/>
            <a:ext cx="36036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562" name=""/>
          <p:cNvSpPr/>
          <p:nvPr/>
        </p:nvSpPr>
        <p:spPr>
          <a:xfrm>
            <a:off x="5519880" y="2081160"/>
            <a:ext cx="98280" cy="96840"/>
          </a:xfrm>
          <a:prstGeom prst="ellipse">
            <a:avLst/>
          </a:prstGeom>
          <a:solidFill>
            <a:srgbClr val="ffffff"/>
          </a:solidFill>
          <a:ln w="9360">
            <a:solidFill>
              <a:srgbClr val="3333cc"/>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Comic Sans MS"/>
            </a:endParaRPr>
          </a:p>
        </p:txBody>
      </p:sp>
      <p:sp>
        <p:nvSpPr>
          <p:cNvPr id="4563" name=""/>
          <p:cNvSpPr/>
          <p:nvPr/>
        </p:nvSpPr>
        <p:spPr>
          <a:xfrm>
            <a:off x="2276640" y="3295800"/>
            <a:ext cx="5265720" cy="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564" name=""/>
          <p:cNvSpPr/>
          <p:nvPr/>
        </p:nvSpPr>
        <p:spPr>
          <a:xfrm>
            <a:off x="4983840" y="574524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 lux</a:t>
            </a:r>
            <a:endParaRPr b="0" lang="en-US" sz="1600" spc="-1" strike="noStrike">
              <a:solidFill>
                <a:srgbClr val="000000"/>
              </a:solidFill>
              <a:latin typeface="Comic Sans MS"/>
            </a:endParaRPr>
          </a:p>
        </p:txBody>
      </p:sp>
      <p:sp>
        <p:nvSpPr>
          <p:cNvPr id="4565" name=""/>
          <p:cNvSpPr/>
          <p:nvPr/>
        </p:nvSpPr>
        <p:spPr>
          <a:xfrm>
            <a:off x="6383160" y="5745240"/>
            <a:ext cx="7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0 lux</a:t>
            </a:r>
            <a:endParaRPr b="0" lang="en-US" sz="1600" spc="-1" strike="noStrike">
              <a:solidFill>
                <a:srgbClr val="000000"/>
              </a:solidFill>
              <a:latin typeface="Comic Sans MS"/>
            </a:endParaRPr>
          </a:p>
        </p:txBody>
      </p:sp>
      <p:sp>
        <p:nvSpPr>
          <p:cNvPr id="4566" name=""/>
          <p:cNvSpPr/>
          <p:nvPr/>
        </p:nvSpPr>
        <p:spPr>
          <a:xfrm>
            <a:off x="24804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2F6DD3F4-AB4A-431E-A946-010BBADA2BBB}" type="datetime1">
              <a:rPr lang="en-US"/>
              <a:t>07/30/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2" name=""/>
          <p:cNvSpPr/>
          <p:nvPr/>
        </p:nvSpPr>
        <p:spPr>
          <a:xfrm>
            <a:off x="744480" y="871560"/>
            <a:ext cx="7736040" cy="4890960"/>
          </a:xfrm>
          <a:prstGeom prst="rect">
            <a:avLst/>
          </a:prstGeom>
          <a:solidFill>
            <a:srgbClr val="ccecff"/>
          </a:solidFill>
          <a:ln w="12600">
            <a:solidFill>
              <a:srgbClr val="ff0000"/>
            </a:solidFill>
            <a:miter/>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The term </a:t>
            </a:r>
            <a:r>
              <a:rPr b="0" i="1" lang="fr-FR" sz="2800" spc="-1" strike="noStrike">
                <a:solidFill>
                  <a:srgbClr val="3333cc"/>
                </a:solidFill>
                <a:latin typeface="Comic Sans MS"/>
              </a:rPr>
              <a:t>emotionality</a:t>
            </a:r>
            <a:r>
              <a:rPr b="0" i="1" lang="fr-FR" sz="2800" spc="-1" strike="noStrike">
                <a:solidFill>
                  <a:srgbClr val="006600"/>
                </a:solidFill>
                <a:latin typeface="Comic Sans MS"/>
              </a:rPr>
              <a:t> </a:t>
            </a:r>
            <a:r>
              <a:rPr b="0" lang="fr-FR" sz="2800" spc="-1" strike="noStrike">
                <a:solidFill>
                  <a:srgbClr val="006600"/>
                </a:solidFill>
                <a:latin typeface="Comic Sans MS"/>
              </a:rPr>
              <a:t>is defined as the state of being emotional. This state consists of a group of organic, experiential and expressive reactions and denotes a general upset or excited condition of the animal. </a:t>
            </a:r>
            <a:endParaRPr b="0" lang="en-US" sz="2800" spc="-1" strike="noStrike">
              <a:solidFill>
                <a:srgbClr val="0000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Emotionality can be thought of as a trait.</a:t>
            </a:r>
            <a:endParaRPr b="0" lang="en-US" sz="2800" spc="-1" strike="noStrike">
              <a:solidFill>
                <a:srgbClr val="0000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all, 1935</a:t>
            </a: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C000F79-78E6-48C8-8FD1-B941FB1F442F}" type="datetime1">
              <a:rPr lang="en-US"/>
              <a:t>07/30/26</a:t>
            </a:fld>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7" name=""/>
          <p:cNvSpPr/>
          <p:nvPr/>
        </p:nvSpPr>
        <p:spPr>
          <a:xfrm>
            <a:off x="1684440" y="399960"/>
            <a:ext cx="5486400" cy="74304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Comic Sans MS"/>
              </a:rPr>
              <a:t>prepulse inhibition</a:t>
            </a:r>
            <a:endParaRPr b="0" lang="en-US" sz="3200" spc="-1" strike="noStrike">
              <a:solidFill>
                <a:srgbClr val="000000"/>
              </a:solidFill>
              <a:latin typeface="Comic Sans MS"/>
            </a:endParaRPr>
          </a:p>
        </p:txBody>
      </p:sp>
      <p:sp>
        <p:nvSpPr>
          <p:cNvPr id="4568" name=""/>
          <p:cNvSpPr/>
          <p:nvPr/>
        </p:nvSpPr>
        <p:spPr>
          <a:xfrm>
            <a:off x="1270080" y="4130640"/>
            <a:ext cx="68990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569" name=""/>
          <p:cNvSpPr/>
          <p:nvPr/>
        </p:nvSpPr>
        <p:spPr>
          <a:xfrm>
            <a:off x="2733840" y="3152880"/>
            <a:ext cx="0" cy="97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570" name=""/>
          <p:cNvSpPr/>
          <p:nvPr/>
        </p:nvSpPr>
        <p:spPr>
          <a:xfrm>
            <a:off x="2746440" y="2894040"/>
            <a:ext cx="1155600" cy="1224000"/>
          </a:xfrm>
          <a:custGeom>
            <a:avLst/>
            <a:gdLst/>
            <a:ahLst/>
            <a:rect l="l" t="t" r="r" b="b"/>
            <a:pathLst>
              <a:path w="819" h="771">
                <a:moveTo>
                  <a:pt x="0" y="747"/>
                </a:moveTo>
                <a:cubicBezTo>
                  <a:pt x="30" y="744"/>
                  <a:pt x="61" y="749"/>
                  <a:pt x="89" y="739"/>
                </a:cubicBezTo>
                <a:cubicBezTo>
                  <a:pt x="97" y="736"/>
                  <a:pt x="92" y="721"/>
                  <a:pt x="97" y="714"/>
                </a:cubicBezTo>
                <a:cubicBezTo>
                  <a:pt x="103" y="706"/>
                  <a:pt x="114" y="704"/>
                  <a:pt x="121" y="698"/>
                </a:cubicBezTo>
                <a:cubicBezTo>
                  <a:pt x="144" y="679"/>
                  <a:pt x="158" y="655"/>
                  <a:pt x="178" y="633"/>
                </a:cubicBezTo>
                <a:cubicBezTo>
                  <a:pt x="183" y="617"/>
                  <a:pt x="189" y="601"/>
                  <a:pt x="194" y="585"/>
                </a:cubicBezTo>
                <a:cubicBezTo>
                  <a:pt x="197" y="577"/>
                  <a:pt x="199" y="568"/>
                  <a:pt x="202" y="560"/>
                </a:cubicBezTo>
                <a:cubicBezTo>
                  <a:pt x="205" y="552"/>
                  <a:pt x="204" y="542"/>
                  <a:pt x="210" y="536"/>
                </a:cubicBezTo>
                <a:cubicBezTo>
                  <a:pt x="234" y="513"/>
                  <a:pt x="223" y="526"/>
                  <a:pt x="243" y="496"/>
                </a:cubicBezTo>
                <a:cubicBezTo>
                  <a:pt x="265" y="428"/>
                  <a:pt x="274" y="363"/>
                  <a:pt x="291" y="293"/>
                </a:cubicBezTo>
                <a:cubicBezTo>
                  <a:pt x="294" y="266"/>
                  <a:pt x="296" y="239"/>
                  <a:pt x="300" y="212"/>
                </a:cubicBezTo>
                <a:cubicBezTo>
                  <a:pt x="302" y="201"/>
                  <a:pt x="306" y="190"/>
                  <a:pt x="308" y="179"/>
                </a:cubicBezTo>
                <a:cubicBezTo>
                  <a:pt x="319" y="103"/>
                  <a:pt x="313" y="29"/>
                  <a:pt x="397" y="1"/>
                </a:cubicBezTo>
                <a:cubicBezTo>
                  <a:pt x="480" y="13"/>
                  <a:pt x="446" y="0"/>
                  <a:pt x="478" y="58"/>
                </a:cubicBezTo>
                <a:cubicBezTo>
                  <a:pt x="487" y="75"/>
                  <a:pt x="499" y="90"/>
                  <a:pt x="510" y="106"/>
                </a:cubicBezTo>
                <a:cubicBezTo>
                  <a:pt x="516" y="114"/>
                  <a:pt x="527" y="131"/>
                  <a:pt x="527" y="131"/>
                </a:cubicBezTo>
                <a:cubicBezTo>
                  <a:pt x="532" y="147"/>
                  <a:pt x="538" y="163"/>
                  <a:pt x="543" y="179"/>
                </a:cubicBezTo>
                <a:cubicBezTo>
                  <a:pt x="546" y="187"/>
                  <a:pt x="551" y="204"/>
                  <a:pt x="551" y="204"/>
                </a:cubicBezTo>
                <a:cubicBezTo>
                  <a:pt x="563" y="367"/>
                  <a:pt x="582" y="539"/>
                  <a:pt x="681" y="674"/>
                </a:cubicBezTo>
                <a:cubicBezTo>
                  <a:pt x="714" y="719"/>
                  <a:pt x="760" y="771"/>
                  <a:pt x="819" y="77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571" name=""/>
          <p:cNvSpPr/>
          <p:nvPr/>
        </p:nvSpPr>
        <p:spPr>
          <a:xfrm>
            <a:off x="1593360" y="1866960"/>
            <a:ext cx="951840" cy="1189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ls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93 dB</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0 Hz</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0 ms</a:t>
            </a:r>
            <a:endParaRPr b="0" lang="en-US" sz="1600" spc="-1" strike="noStrike">
              <a:solidFill>
                <a:srgbClr val="000000"/>
              </a:solidFill>
              <a:latin typeface="Comic Sans MS"/>
            </a:endParaRPr>
          </a:p>
        </p:txBody>
      </p:sp>
      <p:sp>
        <p:nvSpPr>
          <p:cNvPr id="4572" name=""/>
          <p:cNvSpPr/>
          <p:nvPr/>
        </p:nvSpPr>
        <p:spPr>
          <a:xfrm>
            <a:off x="2652120" y="1866960"/>
            <a:ext cx="1284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tartl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sponse</a:t>
            </a:r>
            <a:endParaRPr b="0" lang="en-US" sz="2000" spc="-1" strike="noStrike">
              <a:solidFill>
                <a:srgbClr val="000000"/>
              </a:solidFill>
              <a:latin typeface="Comic Sans MS"/>
            </a:endParaRPr>
          </a:p>
        </p:txBody>
      </p:sp>
      <p:grpSp>
        <p:nvGrpSpPr>
          <p:cNvPr id="4573" name=""/>
          <p:cNvGrpSpPr/>
          <p:nvPr/>
        </p:nvGrpSpPr>
        <p:grpSpPr>
          <a:xfrm>
            <a:off x="4555080" y="1866960"/>
            <a:ext cx="2262600" cy="3683880"/>
            <a:chOff x="4555080" y="1866960"/>
            <a:chExt cx="2262600" cy="3683880"/>
          </a:xfrm>
        </p:grpSpPr>
        <p:sp>
          <p:nvSpPr>
            <p:cNvPr id="4574" name=""/>
            <p:cNvSpPr/>
            <p:nvPr/>
          </p:nvSpPr>
          <p:spPr>
            <a:xfrm>
              <a:off x="5614200" y="3151080"/>
              <a:ext cx="0" cy="97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575" name=""/>
            <p:cNvSpPr/>
            <p:nvPr/>
          </p:nvSpPr>
          <p:spPr>
            <a:xfrm>
              <a:off x="5626800" y="2892600"/>
              <a:ext cx="1156320" cy="1223640"/>
            </a:xfrm>
            <a:custGeom>
              <a:avLst/>
              <a:gdLst/>
              <a:ahLst/>
              <a:rect l="l" t="t" r="r" b="b"/>
              <a:pathLst>
                <a:path w="819" h="771">
                  <a:moveTo>
                    <a:pt x="0" y="747"/>
                  </a:moveTo>
                  <a:cubicBezTo>
                    <a:pt x="30" y="744"/>
                    <a:pt x="61" y="749"/>
                    <a:pt x="89" y="739"/>
                  </a:cubicBezTo>
                  <a:cubicBezTo>
                    <a:pt x="97" y="736"/>
                    <a:pt x="92" y="721"/>
                    <a:pt x="97" y="714"/>
                  </a:cubicBezTo>
                  <a:cubicBezTo>
                    <a:pt x="103" y="706"/>
                    <a:pt x="114" y="704"/>
                    <a:pt x="121" y="698"/>
                  </a:cubicBezTo>
                  <a:cubicBezTo>
                    <a:pt x="144" y="679"/>
                    <a:pt x="158" y="655"/>
                    <a:pt x="178" y="633"/>
                  </a:cubicBezTo>
                  <a:cubicBezTo>
                    <a:pt x="183" y="617"/>
                    <a:pt x="189" y="601"/>
                    <a:pt x="194" y="585"/>
                  </a:cubicBezTo>
                  <a:cubicBezTo>
                    <a:pt x="197" y="577"/>
                    <a:pt x="199" y="568"/>
                    <a:pt x="202" y="560"/>
                  </a:cubicBezTo>
                  <a:cubicBezTo>
                    <a:pt x="205" y="552"/>
                    <a:pt x="204" y="542"/>
                    <a:pt x="210" y="536"/>
                  </a:cubicBezTo>
                  <a:cubicBezTo>
                    <a:pt x="234" y="513"/>
                    <a:pt x="223" y="526"/>
                    <a:pt x="243" y="496"/>
                  </a:cubicBezTo>
                  <a:cubicBezTo>
                    <a:pt x="265" y="428"/>
                    <a:pt x="274" y="363"/>
                    <a:pt x="291" y="293"/>
                  </a:cubicBezTo>
                  <a:cubicBezTo>
                    <a:pt x="294" y="266"/>
                    <a:pt x="296" y="239"/>
                    <a:pt x="300" y="212"/>
                  </a:cubicBezTo>
                  <a:cubicBezTo>
                    <a:pt x="302" y="201"/>
                    <a:pt x="306" y="190"/>
                    <a:pt x="308" y="179"/>
                  </a:cubicBezTo>
                  <a:cubicBezTo>
                    <a:pt x="319" y="103"/>
                    <a:pt x="313" y="29"/>
                    <a:pt x="397" y="1"/>
                  </a:cubicBezTo>
                  <a:cubicBezTo>
                    <a:pt x="480" y="13"/>
                    <a:pt x="446" y="0"/>
                    <a:pt x="478" y="58"/>
                  </a:cubicBezTo>
                  <a:cubicBezTo>
                    <a:pt x="487" y="75"/>
                    <a:pt x="499" y="90"/>
                    <a:pt x="510" y="106"/>
                  </a:cubicBezTo>
                  <a:cubicBezTo>
                    <a:pt x="516" y="114"/>
                    <a:pt x="527" y="131"/>
                    <a:pt x="527" y="131"/>
                  </a:cubicBezTo>
                  <a:cubicBezTo>
                    <a:pt x="532" y="147"/>
                    <a:pt x="538" y="163"/>
                    <a:pt x="543" y="179"/>
                  </a:cubicBezTo>
                  <a:cubicBezTo>
                    <a:pt x="546" y="187"/>
                    <a:pt x="551" y="204"/>
                    <a:pt x="551" y="204"/>
                  </a:cubicBezTo>
                  <a:cubicBezTo>
                    <a:pt x="563" y="367"/>
                    <a:pt x="582" y="539"/>
                    <a:pt x="681" y="674"/>
                  </a:cubicBezTo>
                  <a:cubicBezTo>
                    <a:pt x="714" y="719"/>
                    <a:pt x="760" y="771"/>
                    <a:pt x="819" y="77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576" name=""/>
            <p:cNvSpPr/>
            <p:nvPr/>
          </p:nvSpPr>
          <p:spPr>
            <a:xfrm>
              <a:off x="5364360" y="3757680"/>
              <a:ext cx="0" cy="347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577" name=""/>
            <p:cNvSpPr/>
            <p:nvPr/>
          </p:nvSpPr>
          <p:spPr>
            <a:xfrm>
              <a:off x="5650920" y="3629160"/>
              <a:ext cx="1086840" cy="476280"/>
            </a:xfrm>
            <a:custGeom>
              <a:avLst/>
              <a:gdLst/>
              <a:ahLst/>
              <a:rect l="l" t="t" r="r" b="b"/>
              <a:pathLst>
                <a:path w="770" h="300">
                  <a:moveTo>
                    <a:pt x="0" y="284"/>
                  </a:moveTo>
                  <a:cubicBezTo>
                    <a:pt x="77" y="273"/>
                    <a:pt x="41" y="287"/>
                    <a:pt x="106" y="243"/>
                  </a:cubicBezTo>
                  <a:cubicBezTo>
                    <a:pt x="122" y="232"/>
                    <a:pt x="154" y="211"/>
                    <a:pt x="154" y="211"/>
                  </a:cubicBezTo>
                  <a:cubicBezTo>
                    <a:pt x="164" y="196"/>
                    <a:pt x="178" y="185"/>
                    <a:pt x="187" y="170"/>
                  </a:cubicBezTo>
                  <a:cubicBezTo>
                    <a:pt x="201" y="147"/>
                    <a:pt x="207" y="126"/>
                    <a:pt x="227" y="105"/>
                  </a:cubicBezTo>
                  <a:cubicBezTo>
                    <a:pt x="237" y="76"/>
                    <a:pt x="263" y="37"/>
                    <a:pt x="292" y="24"/>
                  </a:cubicBezTo>
                  <a:cubicBezTo>
                    <a:pt x="308" y="17"/>
                    <a:pt x="325" y="13"/>
                    <a:pt x="341" y="8"/>
                  </a:cubicBezTo>
                  <a:cubicBezTo>
                    <a:pt x="349" y="5"/>
                    <a:pt x="365" y="0"/>
                    <a:pt x="365" y="0"/>
                  </a:cubicBezTo>
                  <a:cubicBezTo>
                    <a:pt x="396" y="8"/>
                    <a:pt x="417" y="22"/>
                    <a:pt x="446" y="33"/>
                  </a:cubicBezTo>
                  <a:cubicBezTo>
                    <a:pt x="494" y="80"/>
                    <a:pt x="471" y="62"/>
                    <a:pt x="511" y="89"/>
                  </a:cubicBezTo>
                  <a:cubicBezTo>
                    <a:pt x="537" y="128"/>
                    <a:pt x="564" y="159"/>
                    <a:pt x="592" y="195"/>
                  </a:cubicBezTo>
                  <a:cubicBezTo>
                    <a:pt x="644" y="262"/>
                    <a:pt x="683" y="300"/>
                    <a:pt x="770" y="30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578" name=""/>
            <p:cNvSpPr/>
            <p:nvPr/>
          </p:nvSpPr>
          <p:spPr>
            <a:xfrm>
              <a:off x="4555080" y="4361040"/>
              <a:ext cx="1535400" cy="1189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Pre-puls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70-83 dB</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1000 Hz</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10 ms</a:t>
              </a:r>
              <a:endParaRPr b="0" lang="en-US" sz="1600" spc="-1" strike="noStrike">
                <a:solidFill>
                  <a:srgbClr val="000000"/>
                </a:solidFill>
                <a:latin typeface="Comic Sans MS"/>
              </a:endParaRPr>
            </a:p>
          </p:txBody>
        </p:sp>
        <p:sp>
          <p:nvSpPr>
            <p:cNvPr id="4579" name=""/>
            <p:cNvSpPr/>
            <p:nvPr/>
          </p:nvSpPr>
          <p:spPr>
            <a:xfrm>
              <a:off x="5116680" y="265284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lse</a:t>
              </a:r>
              <a:endParaRPr b="0" lang="en-US" sz="2400" spc="-1" strike="noStrike">
                <a:solidFill>
                  <a:srgbClr val="000000"/>
                </a:solidFill>
                <a:latin typeface="Comic Sans MS"/>
              </a:endParaRPr>
            </a:p>
          </p:txBody>
        </p:sp>
        <p:sp>
          <p:nvSpPr>
            <p:cNvPr id="4580" name=""/>
            <p:cNvSpPr/>
            <p:nvPr/>
          </p:nvSpPr>
          <p:spPr>
            <a:xfrm>
              <a:off x="5049720" y="414972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 ms</a:t>
              </a:r>
              <a:endParaRPr b="0" lang="en-US" sz="1600" spc="-1" strike="noStrike">
                <a:solidFill>
                  <a:srgbClr val="000000"/>
                </a:solidFill>
                <a:latin typeface="Comic Sans MS"/>
              </a:endParaRPr>
            </a:p>
          </p:txBody>
        </p:sp>
        <p:sp>
          <p:nvSpPr>
            <p:cNvPr id="4581" name=""/>
            <p:cNvSpPr/>
            <p:nvPr/>
          </p:nvSpPr>
          <p:spPr>
            <a:xfrm>
              <a:off x="5533560" y="1866960"/>
              <a:ext cx="1284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Startl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response</a:t>
              </a:r>
              <a:endParaRPr b="0" lang="en-US" sz="20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330C14E9-4DD3-4F0D-8241-1E21FDCF5A57}" type="datetime1">
              <a:rPr lang="en-US"/>
              <a:t>07/30/26</a:t>
            </a:fld>
          </a:p>
        </p:txBody>
      </p:sp>
    </p:spTree>
  </p:cSld>
  <p:transition spd="med">
    <p:wipe dir="r"/>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4573"/>
                                        </p:tgtEl>
                                        <p:attrNameLst>
                                          <p:attrName>style.visibility</p:attrName>
                                        </p:attrNameLst>
                                      </p:cBhvr>
                                      <p:to>
                                        <p:strVal val="visible"/>
                                      </p:to>
                                    </p:set>
                                    <p:animEffect filter="wipe(left)" transition="in">
                                      <p:cBhvr additive="repl">
                                        <p:cTn id="532" dur="500"/>
                                        <p:tgtEl>
                                          <p:spTgt spid="4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2" name="PlaceHolder 1"/>
          <p:cNvSpPr>
            <a:spLocks noGrp="1"/>
          </p:cNvSpPr>
          <p:nvPr>
            <p:ph type="title"/>
          </p:nvPr>
        </p:nvSpPr>
        <p:spPr>
          <a:xfrm>
            <a:off x="1684440" y="399960"/>
            <a:ext cx="5486400" cy="74304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Comic Sans MS"/>
              </a:rPr>
              <a:t>prepulse inhibition</a:t>
            </a:r>
            <a:endParaRPr b="0" lang="en-US" sz="3200" spc="-1" strike="noStrike">
              <a:solidFill>
                <a:srgbClr val="ff3300"/>
              </a:solidFill>
              <a:latin typeface="Comic Sans MS"/>
            </a:endParaRPr>
          </a:p>
        </p:txBody>
      </p:sp>
      <p:sp>
        <p:nvSpPr>
          <p:cNvPr id="4583" name=""/>
          <p:cNvSpPr/>
          <p:nvPr/>
        </p:nvSpPr>
        <p:spPr>
          <a:xfrm>
            <a:off x="1456200" y="5668920"/>
            <a:ext cx="488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uccessive blocks (prepulse intensity, dB)</a:t>
            </a:r>
            <a:endParaRPr b="0" lang="en-US" sz="2000" spc="-1" strike="noStrike">
              <a:solidFill>
                <a:srgbClr val="000000"/>
              </a:solidFill>
              <a:latin typeface="Comic Sans MS"/>
            </a:endParaRPr>
          </a:p>
        </p:txBody>
      </p:sp>
      <p:sp>
        <p:nvSpPr>
          <p:cNvPr id="4584" name=""/>
          <p:cNvSpPr/>
          <p:nvPr/>
        </p:nvSpPr>
        <p:spPr>
          <a:xfrm flipH="1" rot="16200000">
            <a:off x="-342360" y="2950920"/>
            <a:ext cx="23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hibition (per cent)</a:t>
            </a:r>
            <a:endParaRPr b="0" lang="en-US" sz="2000" spc="-1" strike="noStrike">
              <a:solidFill>
                <a:srgbClr val="000000"/>
              </a:solidFill>
              <a:latin typeface="Comic Sans MS"/>
            </a:endParaRPr>
          </a:p>
        </p:txBody>
      </p:sp>
      <p:sp>
        <p:nvSpPr>
          <p:cNvPr id="4585" name=""/>
          <p:cNvSpPr/>
          <p:nvPr/>
        </p:nvSpPr>
        <p:spPr>
          <a:xfrm>
            <a:off x="1530360" y="1424160"/>
            <a:ext cx="4805280" cy="373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86" name=""/>
          <p:cNvSpPr/>
          <p:nvPr/>
        </p:nvSpPr>
        <p:spPr>
          <a:xfrm>
            <a:off x="1530360" y="5156280"/>
            <a:ext cx="4805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87" name=""/>
          <p:cNvSpPr/>
          <p:nvPr/>
        </p:nvSpPr>
        <p:spPr>
          <a:xfrm flipV="1">
            <a:off x="1797120" y="5155920"/>
            <a:ext cx="144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88" name=""/>
          <p:cNvSpPr/>
          <p:nvPr/>
        </p:nvSpPr>
        <p:spPr>
          <a:xfrm flipV="1">
            <a:off x="2330280" y="5155920"/>
            <a:ext cx="180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89" name=""/>
          <p:cNvSpPr/>
          <p:nvPr/>
        </p:nvSpPr>
        <p:spPr>
          <a:xfrm flipV="1">
            <a:off x="2863800" y="5155920"/>
            <a:ext cx="180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90" name=""/>
          <p:cNvSpPr/>
          <p:nvPr/>
        </p:nvSpPr>
        <p:spPr>
          <a:xfrm flipV="1">
            <a:off x="3398760" y="5155920"/>
            <a:ext cx="180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91" name=""/>
          <p:cNvSpPr/>
          <p:nvPr/>
        </p:nvSpPr>
        <p:spPr>
          <a:xfrm flipV="1">
            <a:off x="3933720" y="5155920"/>
            <a:ext cx="180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92" name=""/>
          <p:cNvSpPr/>
          <p:nvPr/>
        </p:nvSpPr>
        <p:spPr>
          <a:xfrm flipV="1">
            <a:off x="4467240" y="5155920"/>
            <a:ext cx="144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93" name=""/>
          <p:cNvSpPr/>
          <p:nvPr/>
        </p:nvSpPr>
        <p:spPr>
          <a:xfrm flipV="1">
            <a:off x="5000760" y="5155920"/>
            <a:ext cx="144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94" name=""/>
          <p:cNvSpPr/>
          <p:nvPr/>
        </p:nvSpPr>
        <p:spPr>
          <a:xfrm flipV="1">
            <a:off x="5533920" y="5155920"/>
            <a:ext cx="180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95" name=""/>
          <p:cNvSpPr/>
          <p:nvPr/>
        </p:nvSpPr>
        <p:spPr>
          <a:xfrm flipV="1">
            <a:off x="6068880" y="5155920"/>
            <a:ext cx="1800" cy="522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Comic Sans MS"/>
            </a:endParaRPr>
          </a:p>
        </p:txBody>
      </p:sp>
      <p:sp>
        <p:nvSpPr>
          <p:cNvPr id="4596" name=""/>
          <p:cNvSpPr/>
          <p:nvPr/>
        </p:nvSpPr>
        <p:spPr>
          <a:xfrm>
            <a:off x="168156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3</a:t>
            </a:r>
            <a:endParaRPr b="0" lang="en-US" sz="1800" spc="-1" strike="noStrike">
              <a:solidFill>
                <a:srgbClr val="000000"/>
              </a:solidFill>
              <a:latin typeface="Comic Sans MS"/>
            </a:endParaRPr>
          </a:p>
        </p:txBody>
      </p:sp>
      <p:sp>
        <p:nvSpPr>
          <p:cNvPr id="4597" name=""/>
          <p:cNvSpPr/>
          <p:nvPr/>
        </p:nvSpPr>
        <p:spPr>
          <a:xfrm>
            <a:off x="221796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7</a:t>
            </a:r>
            <a:endParaRPr b="0" lang="en-US" sz="1800" spc="-1" strike="noStrike">
              <a:solidFill>
                <a:srgbClr val="000000"/>
              </a:solidFill>
              <a:latin typeface="Comic Sans MS"/>
            </a:endParaRPr>
          </a:p>
        </p:txBody>
      </p:sp>
      <p:sp>
        <p:nvSpPr>
          <p:cNvPr id="4598" name=""/>
          <p:cNvSpPr/>
          <p:nvPr/>
        </p:nvSpPr>
        <p:spPr>
          <a:xfrm>
            <a:off x="275148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4599" name=""/>
          <p:cNvSpPr/>
          <p:nvPr/>
        </p:nvSpPr>
        <p:spPr>
          <a:xfrm>
            <a:off x="328500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3</a:t>
            </a:r>
            <a:endParaRPr b="0" lang="en-US" sz="1800" spc="-1" strike="noStrike">
              <a:solidFill>
                <a:srgbClr val="000000"/>
              </a:solidFill>
              <a:latin typeface="Comic Sans MS"/>
            </a:endParaRPr>
          </a:p>
        </p:txBody>
      </p:sp>
      <p:sp>
        <p:nvSpPr>
          <p:cNvPr id="4600" name=""/>
          <p:cNvSpPr/>
          <p:nvPr/>
        </p:nvSpPr>
        <p:spPr>
          <a:xfrm>
            <a:off x="381816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3</a:t>
            </a:r>
            <a:endParaRPr b="0" lang="en-US" sz="1800" spc="-1" strike="noStrike">
              <a:solidFill>
                <a:srgbClr val="000000"/>
              </a:solidFill>
              <a:latin typeface="Comic Sans MS"/>
            </a:endParaRPr>
          </a:p>
        </p:txBody>
      </p:sp>
      <p:sp>
        <p:nvSpPr>
          <p:cNvPr id="4601" name=""/>
          <p:cNvSpPr/>
          <p:nvPr/>
        </p:nvSpPr>
        <p:spPr>
          <a:xfrm>
            <a:off x="435168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4602" name=""/>
          <p:cNvSpPr/>
          <p:nvPr/>
        </p:nvSpPr>
        <p:spPr>
          <a:xfrm>
            <a:off x="488808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7</a:t>
            </a:r>
            <a:endParaRPr b="0" lang="en-US" sz="1800" spc="-1" strike="noStrike">
              <a:solidFill>
                <a:srgbClr val="000000"/>
              </a:solidFill>
              <a:latin typeface="Comic Sans MS"/>
            </a:endParaRPr>
          </a:p>
        </p:txBody>
      </p:sp>
      <p:sp>
        <p:nvSpPr>
          <p:cNvPr id="4603" name=""/>
          <p:cNvSpPr/>
          <p:nvPr/>
        </p:nvSpPr>
        <p:spPr>
          <a:xfrm>
            <a:off x="542016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3</a:t>
            </a:r>
            <a:endParaRPr b="0" lang="en-US" sz="1800" spc="-1" strike="noStrike">
              <a:solidFill>
                <a:srgbClr val="000000"/>
              </a:solidFill>
              <a:latin typeface="Comic Sans MS"/>
            </a:endParaRPr>
          </a:p>
        </p:txBody>
      </p:sp>
      <p:sp>
        <p:nvSpPr>
          <p:cNvPr id="4604" name=""/>
          <p:cNvSpPr/>
          <p:nvPr/>
        </p:nvSpPr>
        <p:spPr>
          <a:xfrm>
            <a:off x="595512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0</a:t>
            </a:r>
            <a:endParaRPr b="0" lang="en-US" sz="1800" spc="-1" strike="noStrike">
              <a:solidFill>
                <a:srgbClr val="000000"/>
              </a:solidFill>
              <a:latin typeface="Comic Sans MS"/>
            </a:endParaRPr>
          </a:p>
        </p:txBody>
      </p:sp>
      <p:sp>
        <p:nvSpPr>
          <p:cNvPr id="4605" name=""/>
          <p:cNvSpPr/>
          <p:nvPr/>
        </p:nvSpPr>
        <p:spPr>
          <a:xfrm>
            <a:off x="1530360" y="1424160"/>
            <a:ext cx="4805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06" name=""/>
          <p:cNvSpPr/>
          <p:nvPr/>
        </p:nvSpPr>
        <p:spPr>
          <a:xfrm flipV="1">
            <a:off x="1530360" y="1423800"/>
            <a:ext cx="1440" cy="3732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07" name=""/>
          <p:cNvSpPr/>
          <p:nvPr/>
        </p:nvSpPr>
        <p:spPr>
          <a:xfrm>
            <a:off x="1482840" y="4816440"/>
            <a:ext cx="47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08" name=""/>
          <p:cNvSpPr/>
          <p:nvPr/>
        </p:nvSpPr>
        <p:spPr>
          <a:xfrm>
            <a:off x="1482840" y="4137120"/>
            <a:ext cx="47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09" name=""/>
          <p:cNvSpPr/>
          <p:nvPr/>
        </p:nvSpPr>
        <p:spPr>
          <a:xfrm>
            <a:off x="1482840" y="345924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10" name=""/>
          <p:cNvSpPr/>
          <p:nvPr/>
        </p:nvSpPr>
        <p:spPr>
          <a:xfrm>
            <a:off x="1482840" y="2779560"/>
            <a:ext cx="47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11" name=""/>
          <p:cNvSpPr/>
          <p:nvPr/>
        </p:nvSpPr>
        <p:spPr>
          <a:xfrm>
            <a:off x="1482840" y="2101680"/>
            <a:ext cx="47520" cy="1800"/>
          </a:xfrm>
          <a:prstGeom prst="line">
            <a:avLst/>
          </a:prstGeom>
          <a:ln w="7920">
            <a:solidFill>
              <a:srgbClr val="00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12" name=""/>
          <p:cNvSpPr/>
          <p:nvPr/>
        </p:nvSpPr>
        <p:spPr>
          <a:xfrm>
            <a:off x="1482840" y="1424160"/>
            <a:ext cx="4752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13" name=""/>
          <p:cNvSpPr/>
          <p:nvPr/>
        </p:nvSpPr>
        <p:spPr>
          <a:xfrm>
            <a:off x="1130760" y="4732200"/>
            <a:ext cx="335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614" name=""/>
          <p:cNvSpPr/>
          <p:nvPr/>
        </p:nvSpPr>
        <p:spPr>
          <a:xfrm>
            <a:off x="1232640" y="40561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4615" name=""/>
          <p:cNvSpPr/>
          <p:nvPr/>
        </p:nvSpPr>
        <p:spPr>
          <a:xfrm>
            <a:off x="1163880" y="3378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4616" name=""/>
          <p:cNvSpPr/>
          <p:nvPr/>
        </p:nvSpPr>
        <p:spPr>
          <a:xfrm>
            <a:off x="1163880" y="26989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4617" name=""/>
          <p:cNvSpPr/>
          <p:nvPr/>
        </p:nvSpPr>
        <p:spPr>
          <a:xfrm>
            <a:off x="1163880" y="20210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4618" name=""/>
          <p:cNvSpPr/>
          <p:nvPr/>
        </p:nvSpPr>
        <p:spPr>
          <a:xfrm>
            <a:off x="1163880" y="13431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4619" name=""/>
          <p:cNvSpPr/>
          <p:nvPr/>
        </p:nvSpPr>
        <p:spPr>
          <a:xfrm flipV="1">
            <a:off x="6335640" y="1423800"/>
            <a:ext cx="1800" cy="3732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20" name=""/>
          <p:cNvSpPr/>
          <p:nvPr/>
        </p:nvSpPr>
        <p:spPr>
          <a:xfrm flipV="1">
            <a:off x="1797120" y="2010960"/>
            <a:ext cx="4271760" cy="1023840"/>
          </a:xfrm>
          <a:custGeom>
            <a:avLst/>
            <a:gdLst/>
            <a:ahLst/>
            <a:rect l="l" t="t" r="r" b="b"/>
            <a:pathLst>
              <a:path w="4445" h="960">
                <a:moveTo>
                  <a:pt x="0" y="641"/>
                </a:moveTo>
                <a:lnTo>
                  <a:pt x="556" y="927"/>
                </a:lnTo>
                <a:lnTo>
                  <a:pt x="1111" y="960"/>
                </a:lnTo>
                <a:lnTo>
                  <a:pt x="1667" y="795"/>
                </a:lnTo>
                <a:lnTo>
                  <a:pt x="2223" y="229"/>
                </a:lnTo>
                <a:lnTo>
                  <a:pt x="2778" y="822"/>
                </a:lnTo>
                <a:lnTo>
                  <a:pt x="3334" y="342"/>
                </a:lnTo>
                <a:lnTo>
                  <a:pt x="3889" y="0"/>
                </a:lnTo>
                <a:lnTo>
                  <a:pt x="4445" y="402"/>
                </a:lnTo>
              </a:path>
            </a:pathLst>
          </a:custGeom>
          <a:noFill/>
          <a:ln w="2844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21" name=""/>
          <p:cNvSpPr/>
          <p:nvPr/>
        </p:nvSpPr>
        <p:spPr>
          <a:xfrm flipV="1">
            <a:off x="1797120" y="2097000"/>
            <a:ext cx="1440" cy="25416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22" name=""/>
          <p:cNvSpPr/>
          <p:nvPr/>
        </p:nvSpPr>
        <p:spPr>
          <a:xfrm>
            <a:off x="1765440" y="2097000"/>
            <a:ext cx="633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23" name=""/>
          <p:cNvSpPr/>
          <p:nvPr/>
        </p:nvSpPr>
        <p:spPr>
          <a:xfrm>
            <a:off x="1755720" y="2305080"/>
            <a:ext cx="82440" cy="92160"/>
          </a:xfrm>
          <a:prstGeom prst="ellipse">
            <a:avLst/>
          </a:prstGeom>
          <a:solidFill>
            <a:srgbClr val="ffffff"/>
          </a:solidFill>
          <a:ln w="7920">
            <a:solidFill>
              <a:srgbClr val="0066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Comic Sans MS"/>
            </a:endParaRPr>
          </a:p>
        </p:txBody>
      </p:sp>
      <p:sp>
        <p:nvSpPr>
          <p:cNvPr id="4624" name=""/>
          <p:cNvSpPr/>
          <p:nvPr/>
        </p:nvSpPr>
        <p:spPr>
          <a:xfrm flipV="1">
            <a:off x="2330280" y="1827000"/>
            <a:ext cx="1800" cy="22068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25" name=""/>
          <p:cNvSpPr/>
          <p:nvPr/>
        </p:nvSpPr>
        <p:spPr>
          <a:xfrm>
            <a:off x="2300400" y="1827360"/>
            <a:ext cx="6336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26" name=""/>
          <p:cNvSpPr/>
          <p:nvPr/>
        </p:nvSpPr>
        <p:spPr>
          <a:xfrm>
            <a:off x="2290680" y="2001960"/>
            <a:ext cx="8280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27" name=""/>
          <p:cNvSpPr/>
          <p:nvPr/>
        </p:nvSpPr>
        <p:spPr>
          <a:xfrm flipV="1">
            <a:off x="2863800" y="1855800"/>
            <a:ext cx="1800" cy="15552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28" name=""/>
          <p:cNvSpPr/>
          <p:nvPr/>
        </p:nvSpPr>
        <p:spPr>
          <a:xfrm>
            <a:off x="2833560" y="1855800"/>
            <a:ext cx="6372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29" name=""/>
          <p:cNvSpPr/>
          <p:nvPr/>
        </p:nvSpPr>
        <p:spPr>
          <a:xfrm>
            <a:off x="2824200" y="1965240"/>
            <a:ext cx="82440" cy="92160"/>
          </a:xfrm>
          <a:prstGeom prst="ellipse">
            <a:avLst/>
          </a:prstGeom>
          <a:solidFill>
            <a:srgbClr val="ffffff"/>
          </a:solidFill>
          <a:ln w="7920">
            <a:solidFill>
              <a:srgbClr val="0066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Comic Sans MS"/>
            </a:endParaRPr>
          </a:p>
        </p:txBody>
      </p:sp>
      <p:sp>
        <p:nvSpPr>
          <p:cNvPr id="4630" name=""/>
          <p:cNvSpPr/>
          <p:nvPr/>
        </p:nvSpPr>
        <p:spPr>
          <a:xfrm flipV="1">
            <a:off x="3398760" y="1991880"/>
            <a:ext cx="1800" cy="19692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31" name=""/>
          <p:cNvSpPr/>
          <p:nvPr/>
        </p:nvSpPr>
        <p:spPr>
          <a:xfrm>
            <a:off x="3367080" y="1992240"/>
            <a:ext cx="63360" cy="1800"/>
          </a:xfrm>
          <a:prstGeom prst="line">
            <a:avLst/>
          </a:prstGeom>
          <a:ln w="7920">
            <a:solidFill>
              <a:srgbClr val="00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32" name=""/>
          <p:cNvSpPr/>
          <p:nvPr/>
        </p:nvSpPr>
        <p:spPr>
          <a:xfrm>
            <a:off x="3359160" y="2143080"/>
            <a:ext cx="8100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33" name=""/>
          <p:cNvSpPr/>
          <p:nvPr/>
        </p:nvSpPr>
        <p:spPr>
          <a:xfrm flipV="1">
            <a:off x="3933720" y="2474640"/>
            <a:ext cx="1800" cy="31572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34" name=""/>
          <p:cNvSpPr/>
          <p:nvPr/>
        </p:nvSpPr>
        <p:spPr>
          <a:xfrm>
            <a:off x="3902040" y="2475000"/>
            <a:ext cx="6336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35" name=""/>
          <p:cNvSpPr/>
          <p:nvPr/>
        </p:nvSpPr>
        <p:spPr>
          <a:xfrm>
            <a:off x="3892680" y="2746440"/>
            <a:ext cx="82440" cy="88920"/>
          </a:xfrm>
          <a:prstGeom prst="ellipse">
            <a:avLst/>
          </a:prstGeom>
          <a:solidFill>
            <a:srgbClr val="ffffff"/>
          </a:solidFill>
          <a:ln w="7920">
            <a:solidFill>
              <a:srgbClr val="0066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Comic Sans MS"/>
            </a:endParaRPr>
          </a:p>
        </p:txBody>
      </p:sp>
      <p:sp>
        <p:nvSpPr>
          <p:cNvPr id="4636" name=""/>
          <p:cNvSpPr/>
          <p:nvPr/>
        </p:nvSpPr>
        <p:spPr>
          <a:xfrm flipV="1">
            <a:off x="4467240" y="2017440"/>
            <a:ext cx="1440" cy="14292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37" name=""/>
          <p:cNvSpPr/>
          <p:nvPr/>
        </p:nvSpPr>
        <p:spPr>
          <a:xfrm>
            <a:off x="4435560" y="2017800"/>
            <a:ext cx="6516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38" name=""/>
          <p:cNvSpPr/>
          <p:nvPr/>
        </p:nvSpPr>
        <p:spPr>
          <a:xfrm>
            <a:off x="4425840" y="2112840"/>
            <a:ext cx="82800" cy="90720"/>
          </a:xfrm>
          <a:prstGeom prst="ellipse">
            <a:avLst/>
          </a:prstGeom>
          <a:solidFill>
            <a:srgbClr val="ffffff"/>
          </a:solidFill>
          <a:ln w="7920">
            <a:solidFill>
              <a:srgbClr val="0066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Comic Sans MS"/>
            </a:endParaRPr>
          </a:p>
        </p:txBody>
      </p:sp>
      <p:sp>
        <p:nvSpPr>
          <p:cNvPr id="4639" name=""/>
          <p:cNvSpPr/>
          <p:nvPr/>
        </p:nvSpPr>
        <p:spPr>
          <a:xfrm flipV="1">
            <a:off x="5000760" y="2356920"/>
            <a:ext cx="1440" cy="31284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40" name=""/>
          <p:cNvSpPr/>
          <p:nvPr/>
        </p:nvSpPr>
        <p:spPr>
          <a:xfrm>
            <a:off x="4968720" y="2357280"/>
            <a:ext cx="65160" cy="1800"/>
          </a:xfrm>
          <a:prstGeom prst="line">
            <a:avLst/>
          </a:prstGeom>
          <a:ln w="7920">
            <a:solidFill>
              <a:srgbClr val="00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41" name=""/>
          <p:cNvSpPr/>
          <p:nvPr/>
        </p:nvSpPr>
        <p:spPr>
          <a:xfrm>
            <a:off x="4960800" y="2624040"/>
            <a:ext cx="81000" cy="92160"/>
          </a:xfrm>
          <a:prstGeom prst="ellipse">
            <a:avLst/>
          </a:prstGeom>
          <a:solidFill>
            <a:srgbClr val="ffffff"/>
          </a:solidFill>
          <a:ln w="7920">
            <a:solidFill>
              <a:srgbClr val="0066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Comic Sans MS"/>
            </a:endParaRPr>
          </a:p>
        </p:txBody>
      </p:sp>
      <p:sp>
        <p:nvSpPr>
          <p:cNvPr id="4642" name=""/>
          <p:cNvSpPr/>
          <p:nvPr/>
        </p:nvSpPr>
        <p:spPr>
          <a:xfrm flipV="1">
            <a:off x="5533920" y="2630520"/>
            <a:ext cx="1800" cy="40464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43" name=""/>
          <p:cNvSpPr/>
          <p:nvPr/>
        </p:nvSpPr>
        <p:spPr>
          <a:xfrm>
            <a:off x="5502240" y="2630520"/>
            <a:ext cx="6516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44" name=""/>
          <p:cNvSpPr/>
          <p:nvPr/>
        </p:nvSpPr>
        <p:spPr>
          <a:xfrm>
            <a:off x="5494320" y="2989440"/>
            <a:ext cx="81000" cy="9036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45" name=""/>
          <p:cNvSpPr/>
          <p:nvPr/>
        </p:nvSpPr>
        <p:spPr>
          <a:xfrm flipV="1">
            <a:off x="6068880" y="2403000"/>
            <a:ext cx="1800" cy="20340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46" name=""/>
          <p:cNvSpPr/>
          <p:nvPr/>
        </p:nvSpPr>
        <p:spPr>
          <a:xfrm>
            <a:off x="6037200" y="2403360"/>
            <a:ext cx="63720" cy="1800"/>
          </a:xfrm>
          <a:prstGeom prst="line">
            <a:avLst/>
          </a:prstGeom>
          <a:ln w="7920">
            <a:solidFill>
              <a:srgbClr val="00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47" name=""/>
          <p:cNvSpPr/>
          <p:nvPr/>
        </p:nvSpPr>
        <p:spPr>
          <a:xfrm>
            <a:off x="6027840" y="2560680"/>
            <a:ext cx="8244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48" name=""/>
          <p:cNvSpPr/>
          <p:nvPr/>
        </p:nvSpPr>
        <p:spPr>
          <a:xfrm flipV="1">
            <a:off x="1797120" y="2283480"/>
            <a:ext cx="4271760" cy="2006280"/>
          </a:xfrm>
          <a:custGeom>
            <a:avLst/>
            <a:gdLst/>
            <a:ahLst/>
            <a:rect l="l" t="t" r="r" b="b"/>
            <a:pathLst>
              <a:path w="4445" h="1882">
                <a:moveTo>
                  <a:pt x="0" y="580"/>
                </a:moveTo>
                <a:lnTo>
                  <a:pt x="556" y="1882"/>
                </a:lnTo>
                <a:lnTo>
                  <a:pt x="1111" y="1746"/>
                </a:lnTo>
                <a:lnTo>
                  <a:pt x="1667" y="1294"/>
                </a:lnTo>
                <a:lnTo>
                  <a:pt x="2223" y="1059"/>
                </a:lnTo>
                <a:lnTo>
                  <a:pt x="2778" y="1572"/>
                </a:lnTo>
                <a:lnTo>
                  <a:pt x="3334" y="0"/>
                </a:lnTo>
                <a:lnTo>
                  <a:pt x="3889" y="1160"/>
                </a:lnTo>
                <a:lnTo>
                  <a:pt x="4445" y="1213"/>
                </a:ln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49" name=""/>
          <p:cNvSpPr/>
          <p:nvPr/>
        </p:nvSpPr>
        <p:spPr>
          <a:xfrm>
            <a:off x="1797120" y="3673440"/>
            <a:ext cx="1440" cy="44784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50" name=""/>
          <p:cNvSpPr/>
          <p:nvPr/>
        </p:nvSpPr>
        <p:spPr>
          <a:xfrm>
            <a:off x="1765440" y="4121280"/>
            <a:ext cx="6336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51" name=""/>
          <p:cNvSpPr/>
          <p:nvPr/>
        </p:nvSpPr>
        <p:spPr>
          <a:xfrm>
            <a:off x="1755720" y="3625920"/>
            <a:ext cx="8244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52" name=""/>
          <p:cNvSpPr/>
          <p:nvPr/>
        </p:nvSpPr>
        <p:spPr>
          <a:xfrm>
            <a:off x="2330280" y="2284560"/>
            <a:ext cx="1800" cy="19368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53" name=""/>
          <p:cNvSpPr/>
          <p:nvPr/>
        </p:nvSpPr>
        <p:spPr>
          <a:xfrm>
            <a:off x="2300400" y="2478240"/>
            <a:ext cx="6336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54" name=""/>
          <p:cNvSpPr/>
          <p:nvPr/>
        </p:nvSpPr>
        <p:spPr>
          <a:xfrm>
            <a:off x="2290680" y="2238480"/>
            <a:ext cx="8280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55" name=""/>
          <p:cNvSpPr/>
          <p:nvPr/>
        </p:nvSpPr>
        <p:spPr>
          <a:xfrm>
            <a:off x="2863800" y="2430360"/>
            <a:ext cx="1800" cy="23652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56" name=""/>
          <p:cNvSpPr/>
          <p:nvPr/>
        </p:nvSpPr>
        <p:spPr>
          <a:xfrm>
            <a:off x="2833560" y="2666880"/>
            <a:ext cx="63720" cy="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57" name=""/>
          <p:cNvSpPr/>
          <p:nvPr/>
        </p:nvSpPr>
        <p:spPr>
          <a:xfrm>
            <a:off x="2824200" y="2384280"/>
            <a:ext cx="82440" cy="90720"/>
          </a:xfrm>
          <a:prstGeom prst="ellipse">
            <a:avLst/>
          </a:prstGeom>
          <a:solidFill>
            <a:srgbClr val="3333cc"/>
          </a:solidFill>
          <a:ln w="7920">
            <a:solidFill>
              <a:srgbClr val="3333cc"/>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Comic Sans MS"/>
            </a:endParaRPr>
          </a:p>
        </p:txBody>
      </p:sp>
      <p:sp>
        <p:nvSpPr>
          <p:cNvPr id="4658" name=""/>
          <p:cNvSpPr/>
          <p:nvPr/>
        </p:nvSpPr>
        <p:spPr>
          <a:xfrm>
            <a:off x="3398760" y="2913120"/>
            <a:ext cx="1800" cy="46332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59" name=""/>
          <p:cNvSpPr/>
          <p:nvPr/>
        </p:nvSpPr>
        <p:spPr>
          <a:xfrm>
            <a:off x="3367080" y="3376440"/>
            <a:ext cx="63360" cy="1800"/>
          </a:xfrm>
          <a:prstGeom prst="line">
            <a:avLst/>
          </a:prstGeom>
          <a:ln w="792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60" name=""/>
          <p:cNvSpPr/>
          <p:nvPr/>
        </p:nvSpPr>
        <p:spPr>
          <a:xfrm>
            <a:off x="3359160" y="2865600"/>
            <a:ext cx="81000" cy="91800"/>
          </a:xfrm>
          <a:prstGeom prst="ellipse">
            <a:avLst/>
          </a:prstGeom>
          <a:solidFill>
            <a:srgbClr val="3333cc"/>
          </a:solidFill>
          <a:ln w="7920">
            <a:solidFill>
              <a:srgbClr val="3333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Comic Sans MS"/>
            </a:endParaRPr>
          </a:p>
        </p:txBody>
      </p:sp>
      <p:sp>
        <p:nvSpPr>
          <p:cNvPr id="4661" name=""/>
          <p:cNvSpPr/>
          <p:nvPr/>
        </p:nvSpPr>
        <p:spPr>
          <a:xfrm>
            <a:off x="3933720" y="3164040"/>
            <a:ext cx="1800" cy="27432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62" name=""/>
          <p:cNvSpPr/>
          <p:nvPr/>
        </p:nvSpPr>
        <p:spPr>
          <a:xfrm>
            <a:off x="3902040" y="3438360"/>
            <a:ext cx="63360" cy="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63" name=""/>
          <p:cNvSpPr/>
          <p:nvPr/>
        </p:nvSpPr>
        <p:spPr>
          <a:xfrm>
            <a:off x="3892680" y="3116160"/>
            <a:ext cx="82440" cy="90720"/>
          </a:xfrm>
          <a:prstGeom prst="ellipse">
            <a:avLst/>
          </a:prstGeom>
          <a:solidFill>
            <a:srgbClr val="3333cc"/>
          </a:solidFill>
          <a:ln w="7920">
            <a:solidFill>
              <a:srgbClr val="3333cc"/>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Comic Sans MS"/>
            </a:endParaRPr>
          </a:p>
        </p:txBody>
      </p:sp>
      <p:sp>
        <p:nvSpPr>
          <p:cNvPr id="4664" name=""/>
          <p:cNvSpPr/>
          <p:nvPr/>
        </p:nvSpPr>
        <p:spPr>
          <a:xfrm>
            <a:off x="4467240" y="2614680"/>
            <a:ext cx="1440" cy="19692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65" name=""/>
          <p:cNvSpPr/>
          <p:nvPr/>
        </p:nvSpPr>
        <p:spPr>
          <a:xfrm>
            <a:off x="4435560" y="2811600"/>
            <a:ext cx="6516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66" name=""/>
          <p:cNvSpPr/>
          <p:nvPr/>
        </p:nvSpPr>
        <p:spPr>
          <a:xfrm>
            <a:off x="4425840" y="2570040"/>
            <a:ext cx="82800" cy="90720"/>
          </a:xfrm>
          <a:prstGeom prst="ellipse">
            <a:avLst/>
          </a:prstGeom>
          <a:solidFill>
            <a:srgbClr val="3333cc"/>
          </a:solidFill>
          <a:ln w="7920">
            <a:solidFill>
              <a:srgbClr val="3333cc"/>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Comic Sans MS"/>
            </a:endParaRPr>
          </a:p>
        </p:txBody>
      </p:sp>
      <p:sp>
        <p:nvSpPr>
          <p:cNvPr id="4667" name=""/>
          <p:cNvSpPr/>
          <p:nvPr/>
        </p:nvSpPr>
        <p:spPr>
          <a:xfrm>
            <a:off x="5000760" y="4290840"/>
            <a:ext cx="1440" cy="6066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68" name=""/>
          <p:cNvSpPr/>
          <p:nvPr/>
        </p:nvSpPr>
        <p:spPr>
          <a:xfrm>
            <a:off x="4968720" y="4897440"/>
            <a:ext cx="6516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4669" name=""/>
          <p:cNvSpPr/>
          <p:nvPr/>
        </p:nvSpPr>
        <p:spPr>
          <a:xfrm>
            <a:off x="4960800" y="4245120"/>
            <a:ext cx="8100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70" name=""/>
          <p:cNvSpPr/>
          <p:nvPr/>
        </p:nvSpPr>
        <p:spPr>
          <a:xfrm>
            <a:off x="5533920" y="3054240"/>
            <a:ext cx="1800" cy="2556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71" name=""/>
          <p:cNvSpPr/>
          <p:nvPr/>
        </p:nvSpPr>
        <p:spPr>
          <a:xfrm>
            <a:off x="5502240" y="3309840"/>
            <a:ext cx="65160" cy="1800"/>
          </a:xfrm>
          <a:prstGeom prst="line">
            <a:avLst/>
          </a:prstGeom>
          <a:ln w="792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72" name=""/>
          <p:cNvSpPr/>
          <p:nvPr/>
        </p:nvSpPr>
        <p:spPr>
          <a:xfrm>
            <a:off x="5494320" y="3008160"/>
            <a:ext cx="81000" cy="88920"/>
          </a:xfrm>
          <a:prstGeom prst="ellipse">
            <a:avLst/>
          </a:prstGeom>
          <a:solidFill>
            <a:srgbClr val="3333cc"/>
          </a:solidFill>
          <a:ln w="7920">
            <a:solidFill>
              <a:srgbClr val="3333cc"/>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Comic Sans MS"/>
            </a:endParaRPr>
          </a:p>
        </p:txBody>
      </p:sp>
      <p:sp>
        <p:nvSpPr>
          <p:cNvPr id="4673" name=""/>
          <p:cNvSpPr/>
          <p:nvPr/>
        </p:nvSpPr>
        <p:spPr>
          <a:xfrm>
            <a:off x="6068880" y="2997360"/>
            <a:ext cx="1800" cy="30924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74" name=""/>
          <p:cNvSpPr/>
          <p:nvPr/>
        </p:nvSpPr>
        <p:spPr>
          <a:xfrm>
            <a:off x="6037200" y="3306600"/>
            <a:ext cx="63720" cy="1800"/>
          </a:xfrm>
          <a:prstGeom prst="line">
            <a:avLst/>
          </a:prstGeom>
          <a:ln w="792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75" name=""/>
          <p:cNvSpPr/>
          <p:nvPr/>
        </p:nvSpPr>
        <p:spPr>
          <a:xfrm>
            <a:off x="6027840" y="2952720"/>
            <a:ext cx="8244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76" name=""/>
          <p:cNvSpPr/>
          <p:nvPr/>
        </p:nvSpPr>
        <p:spPr>
          <a:xfrm>
            <a:off x="2492280" y="4121280"/>
            <a:ext cx="1492200" cy="67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77" name=""/>
          <p:cNvSpPr/>
          <p:nvPr/>
        </p:nvSpPr>
        <p:spPr>
          <a:xfrm>
            <a:off x="2946600" y="4194000"/>
            <a:ext cx="82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Comic Sans MS"/>
              </a:rPr>
              <a:t>low line</a:t>
            </a:r>
            <a:endParaRPr b="0" lang="en-US" sz="1800" spc="-1" strike="noStrike">
              <a:solidFill>
                <a:srgbClr val="000000"/>
              </a:solidFill>
              <a:latin typeface="Comic Sans MS"/>
            </a:endParaRPr>
          </a:p>
        </p:txBody>
      </p:sp>
      <p:sp>
        <p:nvSpPr>
          <p:cNvPr id="4678" name=""/>
          <p:cNvSpPr/>
          <p:nvPr/>
        </p:nvSpPr>
        <p:spPr>
          <a:xfrm>
            <a:off x="2595600" y="4321080"/>
            <a:ext cx="298440" cy="1800"/>
          </a:xfrm>
          <a:prstGeom prst="line">
            <a:avLst/>
          </a:prstGeom>
          <a:ln w="11160">
            <a:solidFill>
              <a:srgbClr val="00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4679" name=""/>
          <p:cNvSpPr/>
          <p:nvPr/>
        </p:nvSpPr>
        <p:spPr>
          <a:xfrm>
            <a:off x="2705040" y="4276800"/>
            <a:ext cx="8244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80" name=""/>
          <p:cNvSpPr/>
          <p:nvPr/>
        </p:nvSpPr>
        <p:spPr>
          <a:xfrm>
            <a:off x="2940120" y="4443480"/>
            <a:ext cx="933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Comic Sans MS"/>
              </a:rPr>
              <a:t>high line</a:t>
            </a:r>
            <a:endParaRPr b="0" lang="en-US" sz="1800" spc="-1" strike="noStrike">
              <a:solidFill>
                <a:srgbClr val="000000"/>
              </a:solidFill>
              <a:latin typeface="Comic Sans MS"/>
            </a:endParaRPr>
          </a:p>
        </p:txBody>
      </p:sp>
      <p:sp>
        <p:nvSpPr>
          <p:cNvPr id="4681" name=""/>
          <p:cNvSpPr/>
          <p:nvPr/>
        </p:nvSpPr>
        <p:spPr>
          <a:xfrm>
            <a:off x="2587680" y="4570560"/>
            <a:ext cx="298440" cy="0"/>
          </a:xfrm>
          <a:prstGeom prst="line">
            <a:avLst/>
          </a:prstGeom>
          <a:ln w="11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82" name=""/>
          <p:cNvSpPr/>
          <p:nvPr/>
        </p:nvSpPr>
        <p:spPr>
          <a:xfrm>
            <a:off x="2697120" y="4524480"/>
            <a:ext cx="8244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4683" name=""/>
          <p:cNvSpPr/>
          <p:nvPr/>
        </p:nvSpPr>
        <p:spPr>
          <a:xfrm>
            <a:off x="24804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4684" name=""/>
          <p:cNvSpPr/>
          <p:nvPr/>
        </p:nvSpPr>
        <p:spPr>
          <a:xfrm>
            <a:off x="6523920" y="1471680"/>
            <a:ext cx="230508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tartle respons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high lin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  </a:t>
            </a:r>
            <a:r>
              <a:rPr b="0" lang="fr-FR" sz="1600" spc="-1" strike="noStrike">
                <a:solidFill>
                  <a:srgbClr val="3333cc"/>
                </a:solidFill>
                <a:latin typeface="Comic Sans MS"/>
              </a:rPr>
              <a:t>65.95 ± 4.66 g, n=216</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00"/>
                </a:solidFill>
                <a:latin typeface="Comic Sans MS"/>
              </a:rPr>
              <a:t>low line</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00"/>
                </a:solidFill>
                <a:latin typeface="Comic Sans MS"/>
              </a:rPr>
              <a:t>  </a:t>
            </a:r>
            <a:r>
              <a:rPr b="0" lang="fr-FR" sz="1600" spc="-1" strike="noStrike">
                <a:solidFill>
                  <a:srgbClr val="006600"/>
                </a:solidFill>
                <a:latin typeface="Comic Sans MS"/>
              </a:rPr>
              <a:t>80.76 ± 4.51 g, n=279</a:t>
            </a:r>
            <a:endParaRPr b="0" lang="en-US" sz="16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1107ED04-B817-4DBE-9CB0-BD815DB3A309}" type="datetime1">
              <a:rPr lang="en-US"/>
              <a:t>07/30/26</a:t>
            </a:fld>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685" name="" descr=""/>
          <p:cNvPicPr/>
          <p:nvPr/>
        </p:nvPicPr>
        <p:blipFill>
          <a:blip r:embed="rId1"/>
          <a:stretch/>
        </p:blipFill>
        <p:spPr>
          <a:xfrm>
            <a:off x="0" y="0"/>
            <a:ext cx="9144000" cy="6858000"/>
          </a:xfrm>
          <a:prstGeom prst="rect">
            <a:avLst/>
          </a:prstGeom>
          <a:ln w="0">
            <a:noFill/>
          </a:ln>
        </p:spPr>
      </p:pic>
      <p:sp>
        <p:nvSpPr>
          <p:cNvPr id="4686" name=""/>
          <p:cNvSpPr/>
          <p:nvPr/>
        </p:nvSpPr>
        <p:spPr>
          <a:xfrm>
            <a:off x="630360" y="2220840"/>
            <a:ext cx="7954920" cy="3579840"/>
          </a:xfrm>
          <a:prstGeom prst="rect">
            <a:avLst/>
          </a:prstGeom>
          <a:noFill/>
          <a:ln w="9360">
            <a:solidFill>
              <a:srgbClr val="ff3300"/>
            </a:solidFill>
            <a:miter/>
          </a:ln>
        </p:spPr>
        <p:style>
          <a:lnRef idx="0"/>
          <a:fillRef idx="0"/>
          <a:effectRef idx="0"/>
          <a:fontRef idx="minor"/>
        </p:style>
        <p:txBody>
          <a:bodyPr lIns="90000" rIns="90000" tIns="46800" bIns="46800" anchor="t">
            <a:normAutofit/>
          </a:bodyPr>
          <a:p>
            <a:pPr marL="343080" indent="-343080">
              <a:spcBef>
                <a:spcPts val="55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omic Sans MS"/>
              </a:rPr>
              <a:t>Stable dimensions of temperament can be defined in experimental animals, as psychologists do in humans.</a:t>
            </a:r>
            <a:endParaRPr b="0" lang="en-US" sz="2200" spc="-1" strike="noStrike">
              <a:solidFill>
                <a:srgbClr val="000000"/>
              </a:solidFill>
              <a:latin typeface="Comic Sans MS"/>
            </a:endParaRPr>
          </a:p>
          <a:p>
            <a:pPr marL="343080" indent="-343080">
              <a:spcBef>
                <a:spcPts val="55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omic Sans MS"/>
              </a:rPr>
              <a:t>There are genetic factors involved in the individual variations along dimensions of temperament. </a:t>
            </a:r>
            <a:endParaRPr b="0" lang="en-US" sz="2200" spc="-1" strike="noStrike">
              <a:solidFill>
                <a:srgbClr val="000000"/>
              </a:solidFill>
              <a:latin typeface="Comic Sans MS"/>
            </a:endParaRPr>
          </a:p>
          <a:p>
            <a:pPr marL="343080" indent="-343080">
              <a:spcBef>
                <a:spcPts val="55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omic Sans MS"/>
              </a:rPr>
              <a:t>Strategies to investigate the molecular bases of genetic variability in emotional behaviors.</a:t>
            </a:r>
            <a:endParaRPr b="0" lang="en-US" sz="2200" spc="-1" strike="noStrike">
              <a:solidFill>
                <a:srgbClr val="000000"/>
              </a:solidFill>
              <a:latin typeface="Comic Sans MS"/>
            </a:endParaRPr>
          </a:p>
          <a:p>
            <a:pPr marL="343080" indent="-343080">
              <a:spcBef>
                <a:spcPts val="55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omic Sans MS"/>
              </a:rPr>
              <a:t>The use of molecular genetics to analyze behavior and investigate the pathways involved in the individual variability of emotional reactivity.</a:t>
            </a:r>
            <a:endParaRPr b="0" lang="en-US" sz="2200" spc="-1" strike="noStrike">
              <a:solidFill>
                <a:srgbClr val="000000"/>
              </a:solidFill>
              <a:latin typeface="Comic Sans MS"/>
            </a:endParaRPr>
          </a:p>
          <a:p>
            <a:pPr marL="343080" indent="-343080">
              <a:spcBef>
                <a:spcPts val="55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687" name=""/>
          <p:cNvSpPr/>
          <p:nvPr/>
        </p:nvSpPr>
        <p:spPr>
          <a:xfrm>
            <a:off x="685800" y="584280"/>
            <a:ext cx="7772400" cy="91440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Molecular genetics of temperament</a:t>
            </a:r>
            <a:br>
              <a:rPr sz="2800"/>
            </a:br>
            <a:r>
              <a:rPr b="0" lang="en-US" sz="2800" spc="-1" strike="noStrike">
                <a:solidFill>
                  <a:srgbClr val="ff3300"/>
                </a:solidFill>
                <a:latin typeface="Comic Sans MS"/>
              </a:rPr>
              <a:t>in rats - research strategies</a:t>
            </a:r>
            <a:endParaRPr b="0" lang="en-US" sz="28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021F9187-3F9C-4DF1-A4D4-A174C9F9E6D7}" type="datetime1">
              <a:rPr lang="en-US"/>
              <a:t>07/30/26</a:t>
            </a:fld>
          </a:p>
        </p:txBody>
      </p:sp>
    </p:spTree>
  </p:cSld>
  <p:transition spd="med">
    <p:wipe dir="r"/>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6">
                                  <p:stCondLst>
                                    <p:cond delay="0"/>
                                  </p:stCondLst>
                                  <p:childTnLst>
                                    <p:set>
                                      <p:cBhvr>
                                        <p:cTn id="538" dur="1" fill="hold">
                                          <p:stCondLst>
                                            <p:cond delay="0"/>
                                          </p:stCondLst>
                                        </p:cTn>
                                        <p:tgtEl>
                                          <p:spTgt spid="4686">
                                            <p:txEl>
                                              <p:pRg st="0" end="0"/>
                                            </p:txEl>
                                          </p:spTgt>
                                        </p:tgtEl>
                                        <p:attrNameLst>
                                          <p:attrName>style.visibility</p:attrName>
                                        </p:attrNameLst>
                                      </p:cBhvr>
                                      <p:to>
                                        <p:strVal val="visible"/>
                                      </p:to>
                                    </p:set>
                                    <p:anim calcmode="lin" valueType="num">
                                      <p:cBhvr additive="base">
                                        <p:cTn id="539" dur="500" fill="hold"/>
                                        <p:tgtEl>
                                          <p:spTgt spid="4686">
                                            <p:txEl>
                                              <p:pRg st="0" end="0"/>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46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6">
                                  <p:stCondLst>
                                    <p:cond delay="0"/>
                                  </p:stCondLst>
                                  <p:childTnLst>
                                    <p:set>
                                      <p:cBhvr>
                                        <p:cTn id="544" dur="1" fill="hold">
                                          <p:stCondLst>
                                            <p:cond delay="0"/>
                                          </p:stCondLst>
                                        </p:cTn>
                                        <p:tgtEl>
                                          <p:spTgt spid="4686">
                                            <p:txEl>
                                              <p:pRg st="1" end="1"/>
                                            </p:txEl>
                                          </p:spTgt>
                                        </p:tgtEl>
                                        <p:attrNameLst>
                                          <p:attrName>style.visibility</p:attrName>
                                        </p:attrNameLst>
                                      </p:cBhvr>
                                      <p:to>
                                        <p:strVal val="visible"/>
                                      </p:to>
                                    </p:set>
                                    <p:anim calcmode="lin" valueType="num">
                                      <p:cBhvr additive="base">
                                        <p:cTn id="545" dur="500" fill="hold"/>
                                        <p:tgtEl>
                                          <p:spTgt spid="4686">
                                            <p:txEl>
                                              <p:pRg st="1" end="1"/>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46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6">
                                  <p:stCondLst>
                                    <p:cond delay="0"/>
                                  </p:stCondLst>
                                  <p:childTnLst>
                                    <p:set>
                                      <p:cBhvr>
                                        <p:cTn id="550" dur="1" fill="hold">
                                          <p:stCondLst>
                                            <p:cond delay="0"/>
                                          </p:stCondLst>
                                        </p:cTn>
                                        <p:tgtEl>
                                          <p:spTgt spid="4686">
                                            <p:txEl>
                                              <p:pRg st="2" end="2"/>
                                            </p:txEl>
                                          </p:spTgt>
                                        </p:tgtEl>
                                        <p:attrNameLst>
                                          <p:attrName>style.visibility</p:attrName>
                                        </p:attrNameLst>
                                      </p:cBhvr>
                                      <p:to>
                                        <p:strVal val="visible"/>
                                      </p:to>
                                    </p:set>
                                    <p:anim calcmode="lin" valueType="num">
                                      <p:cBhvr additive="base">
                                        <p:cTn id="551" dur="500" fill="hold"/>
                                        <p:tgtEl>
                                          <p:spTgt spid="4686">
                                            <p:txEl>
                                              <p:pRg st="2" end="2"/>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46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6">
                                  <p:stCondLst>
                                    <p:cond delay="0"/>
                                  </p:stCondLst>
                                  <p:childTnLst>
                                    <p:set>
                                      <p:cBhvr>
                                        <p:cTn id="556" dur="1" fill="hold">
                                          <p:stCondLst>
                                            <p:cond delay="0"/>
                                          </p:stCondLst>
                                        </p:cTn>
                                        <p:tgtEl>
                                          <p:spTgt spid="4686">
                                            <p:txEl>
                                              <p:pRg st="3" end="3"/>
                                            </p:txEl>
                                          </p:spTgt>
                                        </p:tgtEl>
                                        <p:attrNameLst>
                                          <p:attrName>style.visibility</p:attrName>
                                        </p:attrNameLst>
                                      </p:cBhvr>
                                      <p:to>
                                        <p:strVal val="visible"/>
                                      </p:to>
                                    </p:set>
                                    <p:anim calcmode="lin" valueType="num">
                                      <p:cBhvr additive="base">
                                        <p:cTn id="557" dur="500" fill="hold"/>
                                        <p:tgtEl>
                                          <p:spTgt spid="4686">
                                            <p:txEl>
                                              <p:pRg st="3" end="3"/>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46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3" name=""/>
          <p:cNvSpPr/>
          <p:nvPr/>
        </p:nvSpPr>
        <p:spPr>
          <a:xfrm>
            <a:off x="584280" y="1305000"/>
            <a:ext cx="8043840" cy="40273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emperament:</a:t>
            </a:r>
            <a:br>
              <a:rPr sz="2800"/>
            </a:br>
            <a:r>
              <a:rPr b="0" lang="en-US" sz="2800" spc="-1" strike="noStrike">
                <a:solidFill>
                  <a:srgbClr val="006600"/>
                </a:solidFill>
                <a:latin typeface="Comic Sans MS"/>
              </a:rPr>
              <a:t>	</a:t>
            </a:r>
            <a:r>
              <a:rPr b="0" lang="en-US" sz="2800" spc="-1" strike="noStrike">
                <a:solidFill>
                  <a:srgbClr val="006600"/>
                </a:solidFill>
                <a:latin typeface="Comic Sans MS"/>
              </a:rPr>
              <a:t>the automatic associative responses to emotional stimuli that determine habits and moods (heritable, developmentally stable, emotion-based, uninfluenced by sociocultural learning)</a:t>
            </a:r>
            <a:endParaRPr b="0" lang="en-US" sz="2800" spc="-1" strike="noStrike">
              <a:solidFill>
                <a:srgbClr val="000000"/>
              </a:solidFill>
              <a:latin typeface="Comic Sans MS"/>
            </a:endParaRPr>
          </a:p>
          <a:p>
            <a:pPr lvl="1" marL="743040" indent="-2858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ninger C.R.  Current Opinion in Neurobiology 4:266, 1994</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DB374282-E77D-4122-BE19-4742B3603738}" type="datetime1">
              <a:rPr lang="en-US"/>
              <a:t>07/30/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t>
            </a:r>
            <a:endParaRPr b="0" lang="en-US" sz="3200" spc="-1" strike="noStrike">
              <a:solidFill>
                <a:srgbClr val="ff3300"/>
              </a:solidFill>
              <a:latin typeface="Comic Sans MS"/>
            </a:endParaRPr>
          </a:p>
        </p:txBody>
      </p:sp>
      <p:sp>
        <p:nvSpPr>
          <p:cNvPr id="955" name="PlaceHolder 2"/>
          <p:cNvSpPr>
            <a:spLocks noGrp="1"/>
          </p:cNvSpPr>
          <p:nvPr>
            <p:ph/>
          </p:nvPr>
        </p:nvSpPr>
        <p:spPr>
          <a:xfrm>
            <a:off x="646200" y="1649160"/>
            <a:ext cx="7772400" cy="4249800"/>
          </a:xfrm>
          <a:prstGeom prst="rect">
            <a:avLst/>
          </a:prstGeom>
          <a:solidFill>
            <a:srgbClr val="ccecff"/>
          </a:solidFill>
          <a:ln w="1908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ne of the most curious and difficult question in psychology is </a:t>
            </a:r>
            <a:r>
              <a:rPr b="0" i="1" lang="en-US" sz="2400" spc="-1" strike="noStrike">
                <a:solidFill>
                  <a:srgbClr val="006600"/>
                </a:solidFill>
                <a:latin typeface="Comic Sans MS"/>
              </a:rPr>
              <a:t>“How can we tell if a person is in an emotional state?”.</a:t>
            </a:r>
            <a:r>
              <a:rPr b="0" lang="en-US" sz="2400" spc="-1" strike="noStrike">
                <a:solidFill>
                  <a:srgbClr val="006600"/>
                </a:solidFill>
                <a:latin typeface="Comic Sans MS"/>
              </a:rPr>
              <a:t> Are you in an emotional state when your heart beats fast, your palms sweat, and your stomach churns?  Or are you in an emotional state when you think about how much you are in love with someone? Or when your face grimaces or smiles? </a:t>
            </a:r>
            <a:endParaRPr b="1" lang="en-US" sz="2400" spc="-1" strike="noStrike">
              <a:solidFill>
                <a:srgbClr val="0066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Comic Sans MS"/>
              </a:rPr>
              <a:t>In: Santrock J.W. </a:t>
            </a:r>
            <a:r>
              <a:rPr b="0" i="1" lang="en-US" sz="2000" spc="-1" strike="noStrike">
                <a:solidFill>
                  <a:srgbClr val="663300"/>
                </a:solidFill>
                <a:latin typeface="Comic Sans MS"/>
              </a:rPr>
              <a:t>Psychology, the science of mind and behavior</a:t>
            </a:r>
            <a:r>
              <a:rPr b="0" lang="en-US" sz="2000" spc="-1" strike="noStrike">
                <a:solidFill>
                  <a:srgbClr val="663300"/>
                </a:solidFill>
                <a:latin typeface="Comic Sans MS"/>
              </a:rPr>
              <a:t>, 1986.</a:t>
            </a:r>
            <a:endParaRPr b="1" lang="en-US" sz="2000" spc="-1" strike="noStrike">
              <a:solidFill>
                <a:srgbClr val="006600"/>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04674957-8155-4EF8-873F-D0D4AA3277C7}"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361800"/>
            <a:ext cx="7831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Responses to environmental challenges</a:t>
            </a:r>
            <a:endParaRPr b="0" lang="en-US" sz="3200" spc="-1" strike="noStrike">
              <a:solidFill>
                <a:srgbClr val="ff3300"/>
              </a:solidFill>
              <a:latin typeface="Comic Sans MS"/>
            </a:endParaRPr>
          </a:p>
        </p:txBody>
      </p:sp>
      <p:sp>
        <p:nvSpPr>
          <p:cNvPr id="957" name="PlaceHolder 2"/>
          <p:cNvSpPr>
            <a:spLocks noGrp="1"/>
          </p:cNvSpPr>
          <p:nvPr>
            <p:ph/>
          </p:nvPr>
        </p:nvSpPr>
        <p:spPr>
          <a:xfrm>
            <a:off x="436320" y="1611000"/>
            <a:ext cx="8335800" cy="4089240"/>
          </a:xfrm>
          <a:prstGeom prst="rect">
            <a:avLst/>
          </a:prstGeom>
          <a:solidFill>
            <a:srgbClr val="ccecff"/>
          </a:solidFill>
          <a:ln w="9360">
            <a:solidFill>
              <a:srgbClr val="3333cc"/>
            </a:solidFill>
            <a:miter/>
          </a:ln>
        </p:spPr>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Psychological</a:t>
            </a:r>
            <a:endParaRPr b="1" lang="en-US" sz="2400" spc="-1" strike="noStrike">
              <a:solidFill>
                <a:srgbClr val="0066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motional and cognitive</a:t>
            </a:r>
            <a:br>
              <a:rPr sz="2000"/>
            </a:br>
            <a:r>
              <a:rPr b="0" i="1" lang="en-US" sz="2000" spc="-1" strike="noStrike">
                <a:solidFill>
                  <a:srgbClr val="3333cc"/>
                </a:solidFill>
                <a:latin typeface="Comic Sans MS"/>
              </a:rPr>
              <a:t>“when you think that you are in love with someone”</a:t>
            </a:r>
            <a:endParaRPr b="1" lang="en-US" sz="2000" spc="-1" strike="noStrike">
              <a:solidFill>
                <a:srgbClr val="000066"/>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ehavioral</a:t>
            </a:r>
            <a:endParaRPr b="1" lang="en-US" sz="2400" spc="-1" strike="noStrike">
              <a:solidFill>
                <a:srgbClr val="0066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acial expressions</a:t>
            </a:r>
            <a:br>
              <a:rPr sz="2000"/>
            </a:br>
            <a:r>
              <a:rPr b="0" lang="en-US" sz="2000" spc="-1" strike="noStrike">
                <a:solidFill>
                  <a:srgbClr val="000066"/>
                </a:solidFill>
                <a:latin typeface="Comic Sans MS"/>
              </a:rPr>
              <a:t> </a:t>
            </a:r>
            <a:r>
              <a:rPr b="0" i="1" lang="en-US" sz="2000" spc="-1" strike="noStrike">
                <a:solidFill>
                  <a:srgbClr val="3333cc"/>
                </a:solidFill>
                <a:latin typeface="Comic Sans MS"/>
              </a:rPr>
              <a:t>“when your face grimaces or smiles”</a:t>
            </a:r>
            <a:r>
              <a:rPr b="0" lang="en-US" sz="2000" spc="-1" strike="noStrike">
                <a:solidFill>
                  <a:srgbClr val="3333cc"/>
                </a:solidFill>
                <a:latin typeface="Comic Sans MS"/>
              </a:rPr>
              <a:t> </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ight and flight</a:t>
            </a:r>
            <a:endParaRPr b="1" lang="en-US" sz="2000" spc="-1" strike="noStrike">
              <a:solidFill>
                <a:srgbClr val="000066"/>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iological</a:t>
            </a:r>
            <a:endParaRPr b="1" lang="en-US" sz="2400" spc="-1" strike="noStrike">
              <a:solidFill>
                <a:srgbClr val="0066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nervous and neuroendocrine</a:t>
            </a:r>
            <a:br>
              <a:rPr sz="2000"/>
            </a:br>
            <a:r>
              <a:rPr b="0" i="1" lang="en-US" sz="2000" spc="-1" strike="noStrike">
                <a:solidFill>
                  <a:srgbClr val="3333cc"/>
                </a:solidFill>
                <a:latin typeface="Comic Sans MS"/>
              </a:rPr>
              <a:t>“when your heart beats fast, your palms sweat, and your stomach churns”</a:t>
            </a:r>
            <a:endParaRPr b="1" lang="en-US" sz="2000" spc="-1" strike="noStrike">
              <a:solidFill>
                <a:srgbClr val="000066"/>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5E071F86-0022-40B2-A4DE-0FDAF7E484CF}" type="datetime1">
              <a:rPr lang="en-US"/>
              <a:t>07/30/26</a:t>
            </a:fld>
          </a:p>
        </p:txBody>
      </p:sp>
    </p:spTree>
  </p:cSld>
  <p:transition spd="med">
    <p:wipe dir="r"/>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6">
                                  <p:stCondLst>
                                    <p:cond delay="0"/>
                                  </p:stCondLst>
                                  <p:childTnLst>
                                    <p:set>
                                      <p:cBhvr>
                                        <p:cTn id="65" dur="1" fill="hold">
                                          <p:stCondLst>
                                            <p:cond delay="0"/>
                                          </p:stCondLst>
                                        </p:cTn>
                                        <p:tgtEl>
                                          <p:spTgt spid="957">
                                            <p:txEl>
                                              <p:pRg st="0" end="0"/>
                                            </p:txEl>
                                          </p:spTgt>
                                        </p:tgtEl>
                                        <p:attrNameLst>
                                          <p:attrName>style.visibility</p:attrName>
                                        </p:attrNameLst>
                                      </p:cBhvr>
                                      <p:to>
                                        <p:strVal val="visible"/>
                                      </p:to>
                                    </p:set>
                                    <p:anim calcmode="lin" valueType="num">
                                      <p:cBhvr additive="base">
                                        <p:cTn id="66" dur="500" fill="hold"/>
                                        <p:tgtEl>
                                          <p:spTgt spid="957">
                                            <p:txEl>
                                              <p:pRg st="0" end="0"/>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957">
                                            <p:txEl>
                                              <p:pRg st="0" end="0"/>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6">
                                  <p:stCondLst>
                                    <p:cond delay="0"/>
                                  </p:stCondLst>
                                  <p:childTnLst>
                                    <p:set>
                                      <p:cBhvr>
                                        <p:cTn id="69" dur="1" fill="hold">
                                          <p:stCondLst>
                                            <p:cond delay="0"/>
                                          </p:stCondLst>
                                        </p:cTn>
                                        <p:tgtEl>
                                          <p:spTgt spid="957">
                                            <p:txEl>
                                              <p:pRg st="1" end="1"/>
                                            </p:txEl>
                                          </p:spTgt>
                                        </p:tgtEl>
                                        <p:attrNameLst>
                                          <p:attrName>style.visibility</p:attrName>
                                        </p:attrNameLst>
                                      </p:cBhvr>
                                      <p:to>
                                        <p:strVal val="visible"/>
                                      </p:to>
                                    </p:set>
                                    <p:anim calcmode="lin" valueType="num">
                                      <p:cBhvr additive="base">
                                        <p:cTn id="70" dur="500" fill="hold"/>
                                        <p:tgtEl>
                                          <p:spTgt spid="957">
                                            <p:txEl>
                                              <p:pRg st="1" end="1"/>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9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6">
                                  <p:stCondLst>
                                    <p:cond delay="0"/>
                                  </p:stCondLst>
                                  <p:childTnLst>
                                    <p:set>
                                      <p:cBhvr>
                                        <p:cTn id="75" dur="1" fill="hold">
                                          <p:stCondLst>
                                            <p:cond delay="0"/>
                                          </p:stCondLst>
                                        </p:cTn>
                                        <p:tgtEl>
                                          <p:spTgt spid="957">
                                            <p:txEl>
                                              <p:pRg st="2" end="2"/>
                                            </p:txEl>
                                          </p:spTgt>
                                        </p:tgtEl>
                                        <p:attrNameLst>
                                          <p:attrName>style.visibility</p:attrName>
                                        </p:attrNameLst>
                                      </p:cBhvr>
                                      <p:to>
                                        <p:strVal val="visible"/>
                                      </p:to>
                                    </p:set>
                                    <p:anim calcmode="lin" valueType="num">
                                      <p:cBhvr additive="base">
                                        <p:cTn id="76" dur="500" fill="hold"/>
                                        <p:tgtEl>
                                          <p:spTgt spid="957">
                                            <p:txEl>
                                              <p:pRg st="2" end="2"/>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957">
                                            <p:txEl>
                                              <p:pRg st="2" end="2"/>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6">
                                  <p:stCondLst>
                                    <p:cond delay="0"/>
                                  </p:stCondLst>
                                  <p:childTnLst>
                                    <p:set>
                                      <p:cBhvr>
                                        <p:cTn id="79" dur="1" fill="hold">
                                          <p:stCondLst>
                                            <p:cond delay="0"/>
                                          </p:stCondLst>
                                        </p:cTn>
                                        <p:tgtEl>
                                          <p:spTgt spid="957">
                                            <p:txEl>
                                              <p:pRg st="3" end="3"/>
                                            </p:txEl>
                                          </p:spTgt>
                                        </p:tgtEl>
                                        <p:attrNameLst>
                                          <p:attrName>style.visibility</p:attrName>
                                        </p:attrNameLst>
                                      </p:cBhvr>
                                      <p:to>
                                        <p:strVal val="visible"/>
                                      </p:to>
                                    </p:set>
                                    <p:anim calcmode="lin" valueType="num">
                                      <p:cBhvr additive="base">
                                        <p:cTn id="80" dur="500" fill="hold"/>
                                        <p:tgtEl>
                                          <p:spTgt spid="957">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957">
                                            <p:txEl>
                                              <p:pRg st="3" end="3"/>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6">
                                  <p:stCondLst>
                                    <p:cond delay="0"/>
                                  </p:stCondLst>
                                  <p:childTnLst>
                                    <p:set>
                                      <p:cBhvr>
                                        <p:cTn id="83" dur="1" fill="hold">
                                          <p:stCondLst>
                                            <p:cond delay="0"/>
                                          </p:stCondLst>
                                        </p:cTn>
                                        <p:tgtEl>
                                          <p:spTgt spid="957">
                                            <p:txEl>
                                              <p:pRg st="4" end="4"/>
                                            </p:txEl>
                                          </p:spTgt>
                                        </p:tgtEl>
                                        <p:attrNameLst>
                                          <p:attrName>style.visibility</p:attrName>
                                        </p:attrNameLst>
                                      </p:cBhvr>
                                      <p:to>
                                        <p:strVal val="visible"/>
                                      </p:to>
                                    </p:set>
                                    <p:anim calcmode="lin" valueType="num">
                                      <p:cBhvr additive="base">
                                        <p:cTn id="84" dur="500" fill="hold"/>
                                        <p:tgtEl>
                                          <p:spTgt spid="957">
                                            <p:txEl>
                                              <p:pRg st="4" end="4"/>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9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6">
                                  <p:stCondLst>
                                    <p:cond delay="0"/>
                                  </p:stCondLst>
                                  <p:childTnLst>
                                    <p:set>
                                      <p:cBhvr>
                                        <p:cTn id="89" dur="1" fill="hold">
                                          <p:stCondLst>
                                            <p:cond delay="0"/>
                                          </p:stCondLst>
                                        </p:cTn>
                                        <p:tgtEl>
                                          <p:spTgt spid="957">
                                            <p:txEl>
                                              <p:pRg st="5" end="5"/>
                                            </p:txEl>
                                          </p:spTgt>
                                        </p:tgtEl>
                                        <p:attrNameLst>
                                          <p:attrName>style.visibility</p:attrName>
                                        </p:attrNameLst>
                                      </p:cBhvr>
                                      <p:to>
                                        <p:strVal val="visible"/>
                                      </p:to>
                                    </p:set>
                                    <p:anim calcmode="lin" valueType="num">
                                      <p:cBhvr additive="base">
                                        <p:cTn id="90" dur="500" fill="hold"/>
                                        <p:tgtEl>
                                          <p:spTgt spid="957">
                                            <p:txEl>
                                              <p:pRg st="5" end="5"/>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957">
                                            <p:txEl>
                                              <p:pRg st="5" end="5"/>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6">
                                  <p:stCondLst>
                                    <p:cond delay="0"/>
                                  </p:stCondLst>
                                  <p:childTnLst>
                                    <p:set>
                                      <p:cBhvr>
                                        <p:cTn id="93" dur="1" fill="hold">
                                          <p:stCondLst>
                                            <p:cond delay="0"/>
                                          </p:stCondLst>
                                        </p:cTn>
                                        <p:tgtEl>
                                          <p:spTgt spid="957">
                                            <p:txEl>
                                              <p:pRg st="6" end="6"/>
                                            </p:txEl>
                                          </p:spTgt>
                                        </p:tgtEl>
                                        <p:attrNameLst>
                                          <p:attrName>style.visibility</p:attrName>
                                        </p:attrNameLst>
                                      </p:cBhvr>
                                      <p:to>
                                        <p:strVal val="visible"/>
                                      </p:to>
                                    </p:set>
                                    <p:anim calcmode="lin" valueType="num">
                                      <p:cBhvr additive="base">
                                        <p:cTn id="94" dur="500" fill="hold"/>
                                        <p:tgtEl>
                                          <p:spTgt spid="957">
                                            <p:txEl>
                                              <p:pRg st="6" end="6"/>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95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8" name=""/>
          <p:cNvSpPr/>
          <p:nvPr/>
        </p:nvSpPr>
        <p:spPr>
          <a:xfrm>
            <a:off x="579600" y="419040"/>
            <a:ext cx="80326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How can we measure emotions?</a:t>
            </a:r>
            <a:endParaRPr b="0" lang="en-US" sz="3200" spc="-1" strike="noStrike">
              <a:solidFill>
                <a:srgbClr val="000000"/>
              </a:solidFill>
              <a:latin typeface="Comic Sans MS"/>
            </a:endParaRPr>
          </a:p>
        </p:txBody>
      </p:sp>
      <p:sp>
        <p:nvSpPr>
          <p:cNvPr id="959" name=""/>
          <p:cNvSpPr/>
          <p:nvPr/>
        </p:nvSpPr>
        <p:spPr>
          <a:xfrm>
            <a:off x="738360" y="1638360"/>
            <a:ext cx="7772400" cy="3946320"/>
          </a:xfrm>
          <a:prstGeom prst="rect">
            <a:avLst/>
          </a:prstGeom>
          <a:solidFill>
            <a:srgbClr val="ccecff"/>
          </a:solid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Questionnaires and interview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Neuroendocrine responses</a:t>
            </a:r>
            <a:endParaRPr b="0" lang="en-US" sz="24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variation within the system </a:t>
            </a:r>
            <a:br>
              <a:rPr sz="2000"/>
            </a:br>
            <a:r>
              <a:rPr b="0" lang="en-US" sz="2000" spc="-1" strike="noStrike">
                <a:solidFill>
                  <a:srgbClr val="000066"/>
                </a:solidFill>
                <a:latin typeface="Comic Sans MS"/>
              </a:rPr>
              <a:t>(neuroendocrine activity / reactivity)</a:t>
            </a:r>
            <a:br>
              <a:rPr sz="2000"/>
            </a:br>
            <a:r>
              <a:rPr b="0" i="1" lang="en-US" sz="2000" spc="-1" strike="noStrike">
                <a:solidFill>
                  <a:srgbClr val="000066"/>
                </a:solidFill>
                <a:latin typeface="Comic Sans MS"/>
              </a:rPr>
              <a:t>vs.</a:t>
            </a:r>
            <a:r>
              <a:rPr b="0" lang="en-US" sz="2000" spc="-1" strike="noStrike">
                <a:solidFill>
                  <a:srgbClr val="000066"/>
                </a:solidFill>
                <a:latin typeface="Comic Sans MS"/>
              </a:rPr>
              <a:t> variation in the input to the system (psychoneuroendocrine reactivity)</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ctual difference of basic functioning</a:t>
            </a:r>
            <a:br>
              <a:rPr sz="2000"/>
            </a:br>
            <a:r>
              <a:rPr b="0" i="1" lang="en-US" sz="2000" spc="-1" strike="noStrike">
                <a:solidFill>
                  <a:srgbClr val="000066"/>
                </a:solidFill>
                <a:latin typeface="Comic Sans MS"/>
              </a:rPr>
              <a:t>vs</a:t>
            </a:r>
            <a:r>
              <a:rPr b="0" lang="en-US" sz="2000" spc="-1" strike="noStrike">
                <a:solidFill>
                  <a:srgbClr val="000066"/>
                </a:solidFill>
                <a:latin typeface="Comic Sans MS"/>
              </a:rPr>
              <a:t>. sequels of previous/chronic hyperstimulation</a:t>
            </a:r>
            <a:endParaRPr b="0" lang="en-US" sz="20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ehavioral changes</a:t>
            </a:r>
            <a:endParaRPr b="0" lang="en-US" sz="24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acial expressions</a:t>
            </a:r>
            <a:endParaRPr b="0" lang="en-US" sz="20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90272BAF-0BF0-42E0-A6C6-979B5B0D24E1}" type="datetime1">
              <a:rPr lang="en-US"/>
              <a:t>07/30/26</a:t>
            </a:fld>
          </a:p>
        </p:txBody>
      </p:sp>
    </p:spTree>
  </p:cSld>
  <p:transition spd="med">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6">
                                  <p:stCondLst>
                                    <p:cond delay="0"/>
                                  </p:stCondLst>
                                  <p:childTnLst>
                                    <p:set>
                                      <p:cBhvr>
                                        <p:cTn id="101" dur="1" fill="hold">
                                          <p:stCondLst>
                                            <p:cond delay="0"/>
                                          </p:stCondLst>
                                        </p:cTn>
                                        <p:tgtEl>
                                          <p:spTgt spid="959">
                                            <p:txEl>
                                              <p:pRg st="0" end="0"/>
                                            </p:txEl>
                                          </p:spTgt>
                                        </p:tgtEl>
                                        <p:attrNameLst>
                                          <p:attrName>style.visibility</p:attrName>
                                        </p:attrNameLst>
                                      </p:cBhvr>
                                      <p:to>
                                        <p:strVal val="visible"/>
                                      </p:to>
                                    </p:set>
                                    <p:anim calcmode="lin" valueType="num">
                                      <p:cBhvr additive="base">
                                        <p:cTn id="102" dur="500" fill="hold"/>
                                        <p:tgtEl>
                                          <p:spTgt spid="959">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9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6">
                                  <p:stCondLst>
                                    <p:cond delay="0"/>
                                  </p:stCondLst>
                                  <p:childTnLst>
                                    <p:set>
                                      <p:cBhvr>
                                        <p:cTn id="107" dur="1" fill="hold">
                                          <p:stCondLst>
                                            <p:cond delay="0"/>
                                          </p:stCondLst>
                                        </p:cTn>
                                        <p:tgtEl>
                                          <p:spTgt spid="959">
                                            <p:txEl>
                                              <p:pRg st="1" end="1"/>
                                            </p:txEl>
                                          </p:spTgt>
                                        </p:tgtEl>
                                        <p:attrNameLst>
                                          <p:attrName>style.visibility</p:attrName>
                                        </p:attrNameLst>
                                      </p:cBhvr>
                                      <p:to>
                                        <p:strVal val="visible"/>
                                      </p:to>
                                    </p:set>
                                    <p:anim calcmode="lin" valueType="num">
                                      <p:cBhvr additive="base">
                                        <p:cTn id="108" dur="500" fill="hold"/>
                                        <p:tgtEl>
                                          <p:spTgt spid="95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9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6">
                                  <p:stCondLst>
                                    <p:cond delay="0"/>
                                  </p:stCondLst>
                                  <p:childTnLst>
                                    <p:set>
                                      <p:cBhvr>
                                        <p:cTn id="113" dur="1" fill="hold">
                                          <p:stCondLst>
                                            <p:cond delay="0"/>
                                          </p:stCondLst>
                                        </p:cTn>
                                        <p:tgtEl>
                                          <p:spTgt spid="959">
                                            <p:txEl>
                                              <p:pRg st="2" end="2"/>
                                            </p:txEl>
                                          </p:spTgt>
                                        </p:tgtEl>
                                        <p:attrNameLst>
                                          <p:attrName>style.visibility</p:attrName>
                                        </p:attrNameLst>
                                      </p:cBhvr>
                                      <p:to>
                                        <p:strVal val="visible"/>
                                      </p:to>
                                    </p:set>
                                    <p:anim calcmode="lin" valueType="num">
                                      <p:cBhvr additive="base">
                                        <p:cTn id="114" dur="500" fill="hold"/>
                                        <p:tgtEl>
                                          <p:spTgt spid="95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9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6">
                                  <p:stCondLst>
                                    <p:cond delay="0"/>
                                  </p:stCondLst>
                                  <p:childTnLst>
                                    <p:set>
                                      <p:cBhvr>
                                        <p:cTn id="119" dur="1" fill="hold">
                                          <p:stCondLst>
                                            <p:cond delay="0"/>
                                          </p:stCondLst>
                                        </p:cTn>
                                        <p:tgtEl>
                                          <p:spTgt spid="959">
                                            <p:txEl>
                                              <p:pRg st="3" end="3"/>
                                            </p:txEl>
                                          </p:spTgt>
                                        </p:tgtEl>
                                        <p:attrNameLst>
                                          <p:attrName>style.visibility</p:attrName>
                                        </p:attrNameLst>
                                      </p:cBhvr>
                                      <p:to>
                                        <p:strVal val="visible"/>
                                      </p:to>
                                    </p:set>
                                    <p:anim calcmode="lin" valueType="num">
                                      <p:cBhvr additive="base">
                                        <p:cTn id="120" dur="500" fill="hold"/>
                                        <p:tgtEl>
                                          <p:spTgt spid="959">
                                            <p:txEl>
                                              <p:pRg st="3" end="3"/>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9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6">
                                  <p:stCondLst>
                                    <p:cond delay="0"/>
                                  </p:stCondLst>
                                  <p:childTnLst>
                                    <p:set>
                                      <p:cBhvr>
                                        <p:cTn id="125" dur="1" fill="hold">
                                          <p:stCondLst>
                                            <p:cond delay="0"/>
                                          </p:stCondLst>
                                        </p:cTn>
                                        <p:tgtEl>
                                          <p:spTgt spid="959">
                                            <p:txEl>
                                              <p:pRg st="3" end="3"/>
                                            </p:txEl>
                                          </p:spTgt>
                                        </p:tgtEl>
                                        <p:attrNameLst>
                                          <p:attrName>style.visibility</p:attrName>
                                        </p:attrNameLst>
                                      </p:cBhvr>
                                      <p:to>
                                        <p:strVal val="visible"/>
                                      </p:to>
                                    </p:set>
                                    <p:anim calcmode="lin" valueType="num">
                                      <p:cBhvr additive="base">
                                        <p:cTn id="126" dur="500" fill="hold"/>
                                        <p:tgtEl>
                                          <p:spTgt spid="959">
                                            <p:txEl>
                                              <p:pRg st="3" end="3"/>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9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6">
                                  <p:stCondLst>
                                    <p:cond delay="0"/>
                                  </p:stCondLst>
                                  <p:childTnLst>
                                    <p:set>
                                      <p:cBhvr>
                                        <p:cTn id="131" dur="1" fill="hold">
                                          <p:stCondLst>
                                            <p:cond delay="0"/>
                                          </p:stCondLst>
                                        </p:cTn>
                                        <p:tgtEl>
                                          <p:spTgt spid="959">
                                            <p:txEl>
                                              <p:pRg st="4" end="4"/>
                                            </p:txEl>
                                          </p:spTgt>
                                        </p:tgtEl>
                                        <p:attrNameLst>
                                          <p:attrName>style.visibility</p:attrName>
                                        </p:attrNameLst>
                                      </p:cBhvr>
                                      <p:to>
                                        <p:strVal val="visible"/>
                                      </p:to>
                                    </p:set>
                                    <p:anim calcmode="lin" valueType="num">
                                      <p:cBhvr additive="base">
                                        <p:cTn id="132" dur="500" fill="hold"/>
                                        <p:tgtEl>
                                          <p:spTgt spid="959">
                                            <p:txEl>
                                              <p:pRg st="4" end="4"/>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9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6">
                                  <p:stCondLst>
                                    <p:cond delay="0"/>
                                  </p:stCondLst>
                                  <p:childTnLst>
                                    <p:set>
                                      <p:cBhvr>
                                        <p:cTn id="137" dur="1" fill="hold">
                                          <p:stCondLst>
                                            <p:cond delay="0"/>
                                          </p:stCondLst>
                                        </p:cTn>
                                        <p:tgtEl>
                                          <p:spTgt spid="959">
                                            <p:txEl>
                                              <p:pRg st="5" end="5"/>
                                            </p:txEl>
                                          </p:spTgt>
                                        </p:tgtEl>
                                        <p:attrNameLst>
                                          <p:attrName>style.visibility</p:attrName>
                                        </p:attrNameLst>
                                      </p:cBhvr>
                                      <p:to>
                                        <p:strVal val="visible"/>
                                      </p:to>
                                    </p:set>
                                    <p:anim calcmode="lin" valueType="num">
                                      <p:cBhvr additive="base">
                                        <p:cTn id="138" dur="500" fill="hold"/>
                                        <p:tgtEl>
                                          <p:spTgt spid="959">
                                            <p:txEl>
                                              <p:pRg st="5" end="5"/>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9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1T12:03:18Z</dcterms:created>
  <dc:creator>Pierre Mormède</dc:creator>
  <dc:description/>
  <dc:language>en-US</dc:language>
  <cp:lastModifiedBy>Pierre Mormède</cp:lastModifiedBy>
  <cp:lastPrinted>2000-11-07T13:54:46Z</cp:lastPrinted>
  <dcterms:modified xsi:type="dcterms:W3CDTF">2004-08-11T15:20:46Z</dcterms:modified>
  <cp:revision>45</cp:revision>
  <dc:subject/>
  <dc:title>Aucun titre de diapositive</dc:title>
</cp:coreProperties>
</file>