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288588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D29-673F-46A9-8993-2C9F1AC6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8D3-F00F-4FA3-855B-BFD4037A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2BD4-2040-48B4-96BC-58131F4C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6732-4766-4BE4-AA22-6C8FC12D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DBB-81C5-47FA-8B6F-9A4AF3D6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0D6-66DE-4E75-9A8E-88CA1B3E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6786-011A-423F-A3D2-EB41B163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496-04A2-4528-BF79-DB7BD7C7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9683-DD97-4E79-9F1C-A8A38EB3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B368-BEC1-4473-8197-056DBA4D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488D-DF5C-4677-818C-3FE18280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860B-7F67-4D45-9945-3C3F1D04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DD5C-642A-4A13-8BC2-F0E1AA44957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0972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80504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19120" y="1182600"/>
            <a:ext cx="9248760" cy="5345280"/>
            <a:chOff x="519120" y="1182600"/>
            <a:chExt cx="9248760" cy="5345280"/>
          </a:xfrm>
        </p:grpSpPr>
        <p:graphicFrame>
          <p:nvGraphicFramePr>
            <p:cNvPr id="44" name=""/>
            <p:cNvGraphicFramePr/>
            <p:nvPr/>
          </p:nvGraphicFramePr>
          <p:xfrm>
            <a:off x="519120" y="1184400"/>
            <a:ext cx="4368960" cy="534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9120" y="1184400"/>
                      <a:ext cx="4368960" cy="534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" name=""/>
            <p:cNvGraphicFramePr/>
            <p:nvPr/>
          </p:nvGraphicFramePr>
          <p:xfrm>
            <a:off x="5407200" y="1182600"/>
            <a:ext cx="4360680" cy="5345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07200" y="1182600"/>
                      <a:ext cx="4360680" cy="534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8" name=""/>
          <p:cNvSpPr/>
          <p:nvPr/>
        </p:nvSpPr>
        <p:spPr>
          <a:xfrm>
            <a:off x="743040" y="33012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eft: C57BL/6J wt; Right: C57BL/6J Fmr1 knock-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771120" y="523800"/>
            <a:ext cx="87440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321840" y="2003400"/>
            <a:ext cx="964404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In the NOTURN situation nonspatial strategies may be used to solve the task, especially in the later stages of learning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ubjects do not use a different strategy if b/w markings are interchanged in the nonspatial task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71120" y="523800"/>
            <a:ext cx="87440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321840" y="2003400"/>
            <a:ext cx="964404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More than one type of nonspatial strategies exist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The WM/RM distinction appears to be less pertinent for mice in the radial maze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IIPMF covary exclusively with spatial strategie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3387600" y="558720"/>
            <a:ext cx="351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llabora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93640" y="2260440"/>
            <a:ext cx="9099720" cy="4038840"/>
            <a:chOff x="593640" y="2260440"/>
            <a:chExt cx="9099720" cy="4038840"/>
          </a:xfrm>
        </p:grpSpPr>
        <p:sp>
          <p:nvSpPr>
            <p:cNvPr id="868" name=""/>
            <p:cNvSpPr/>
            <p:nvPr/>
          </p:nvSpPr>
          <p:spPr>
            <a:xfrm>
              <a:off x="593640" y="2365200"/>
              <a:ext cx="4091040" cy="38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25800" indent="-32580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Worces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05600" indent="-271440"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ann Mineu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05600" indent="-271440"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an Praso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05600" indent="-271440"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heila Mihalic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05600" indent="-271440"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lair Hopligh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25800" indent="-32580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ours, Fran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05600" indent="-271440"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atherine Belzu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25800" indent="-32580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aris, Fran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05600" indent="-271440"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aure Jam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25800" indent="-32580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agdeburg, German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05600" indent="-271440"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erbert Schwegl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05600" indent="-271440"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281560" y="2260440"/>
              <a:ext cx="4411800" cy="40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Winnipeg, Manitoba, Canad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35480" indent="-282960"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ammy Ivanc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ondon, U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35480" indent="-282960"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rans Sluyter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Heidelberg, German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35480" indent="-282960"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ngrid Bru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Zurich, Switzerla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35480" indent="-282960"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ans-Peter Li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35480" indent="-282960"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avid Wolf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Rotterdam, The Netherland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35480" indent="-282960"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en Oos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230560"/>
            <a:ext cx="10287000" cy="3741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22400" y="885960"/>
            <a:ext cx="82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ild-type and mutant on FVB back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43080" y="330120"/>
          <a:ext cx="9601200" cy="61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330120"/>
                    <a:ext cx="960120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928960" y="1650960"/>
            <a:ext cx="1285920" cy="832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ho = 0.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 = 0.0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 = 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203480" y="601560"/>
            <a:ext cx="7807320" cy="5811840"/>
            <a:chOff x="1203480" y="601560"/>
            <a:chExt cx="7807320" cy="5811840"/>
          </a:xfrm>
        </p:grpSpPr>
        <p:sp>
          <p:nvSpPr>
            <p:cNvPr id="55" name=""/>
            <p:cNvSpPr/>
            <p:nvPr/>
          </p:nvSpPr>
          <p:spPr>
            <a:xfrm>
              <a:off x="1203480" y="601560"/>
              <a:ext cx="7807320" cy="5811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50960" y="1685880"/>
              <a:ext cx="6102360" cy="3481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50960" y="1685880"/>
              <a:ext cx="1800" cy="3481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70320" y="5167440"/>
              <a:ext cx="80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70320" y="4584600"/>
              <a:ext cx="806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70320" y="4002120"/>
              <a:ext cx="80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70320" y="3435480"/>
              <a:ext cx="80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70320" y="2852640"/>
              <a:ext cx="806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70320" y="2268360"/>
              <a:ext cx="806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70320" y="1685880"/>
              <a:ext cx="806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50960" y="5167440"/>
              <a:ext cx="6102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550960" y="5167080"/>
              <a:ext cx="1800" cy="81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4579920" y="5167080"/>
              <a:ext cx="1440" cy="81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624720" y="5167080"/>
              <a:ext cx="1440" cy="81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8653320" y="5167080"/>
              <a:ext cx="1800" cy="81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60920" y="3483000"/>
              <a:ext cx="21096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1880" y="3435480"/>
              <a:ext cx="1800" cy="112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97360" y="4389480"/>
              <a:ext cx="24444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141800" y="4341960"/>
              <a:ext cx="1440" cy="112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8920" y="4033800"/>
              <a:ext cx="211320" cy="1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0240" y="3984480"/>
              <a:ext cx="1440" cy="1144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6280" y="4503600"/>
              <a:ext cx="195120" cy="1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81400" y="4454640"/>
              <a:ext cx="1440" cy="1141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47920" y="4616280"/>
              <a:ext cx="244440" cy="1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92360" y="4568760"/>
              <a:ext cx="1800" cy="112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68840" y="4245120"/>
              <a:ext cx="29196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60800" y="4195800"/>
              <a:ext cx="1440" cy="112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1880" y="2463840"/>
              <a:ext cx="3240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95880" y="2414520"/>
              <a:ext cx="1440" cy="1144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54480" y="3984480"/>
              <a:ext cx="406440" cy="1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60920" y="3936960"/>
              <a:ext cx="1440" cy="112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32400" y="3548160"/>
              <a:ext cx="81144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43840" y="3500280"/>
              <a:ext cx="1440" cy="1130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660920" y="3369960"/>
              <a:ext cx="1440" cy="112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11600" y="3370320"/>
              <a:ext cx="11448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897360" y="4211640"/>
              <a:ext cx="1440" cy="1778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49840" y="4211640"/>
              <a:ext cx="11268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498920" y="3952440"/>
              <a:ext cx="1800" cy="81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49600" y="3952800"/>
              <a:ext cx="114480" cy="1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086280" y="4357440"/>
              <a:ext cx="1440" cy="145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36960" y="4357800"/>
              <a:ext cx="11412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247920" y="4584600"/>
              <a:ext cx="1800" cy="31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00400" y="4584600"/>
              <a:ext cx="112680" cy="1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768840" y="4146480"/>
              <a:ext cx="1440" cy="986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19520" y="4146480"/>
              <a:ext cx="112680" cy="1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871880" y="2268000"/>
              <a:ext cx="1800" cy="1954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22920" y="2268360"/>
              <a:ext cx="114120" cy="1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254480" y="3839760"/>
              <a:ext cx="1440" cy="1443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06960" y="3840120"/>
              <a:ext cx="112680" cy="1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332400" y="3370320"/>
              <a:ext cx="1800" cy="1778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83440" y="3370320"/>
              <a:ext cx="11412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465800" y="3483000"/>
              <a:ext cx="19512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65800" y="3435480"/>
              <a:ext cx="1440" cy="112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654000" y="4389480"/>
              <a:ext cx="2430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4360" y="4341960"/>
              <a:ext cx="1800" cy="112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303800" y="4033800"/>
              <a:ext cx="195120" cy="1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03800" y="3984480"/>
              <a:ext cx="1440" cy="1144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874600" y="4503600"/>
              <a:ext cx="211320" cy="1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74960" y="4454640"/>
              <a:ext cx="1440" cy="1141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005280" y="4616280"/>
              <a:ext cx="242640" cy="1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05280" y="4568760"/>
              <a:ext cx="1440" cy="112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492360" y="4245120"/>
              <a:ext cx="27648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92360" y="4195800"/>
              <a:ext cx="1800" cy="112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546440" y="2463840"/>
              <a:ext cx="32544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46440" y="2414520"/>
              <a:ext cx="1800" cy="1144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849840" y="3984480"/>
              <a:ext cx="404640" cy="1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49840" y="3936960"/>
              <a:ext cx="1440" cy="112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520960" y="3548160"/>
              <a:ext cx="81108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21320" y="3500280"/>
              <a:ext cx="1440" cy="1130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60920" y="3483000"/>
              <a:ext cx="1440" cy="1141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11600" y="3597120"/>
              <a:ext cx="114480" cy="1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97360" y="4389480"/>
              <a:ext cx="1440" cy="162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49840" y="4551480"/>
              <a:ext cx="11268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8920" y="4033800"/>
              <a:ext cx="1800" cy="968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49600" y="4130640"/>
              <a:ext cx="114480" cy="1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86280" y="4503600"/>
              <a:ext cx="1440" cy="1461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36960" y="4649760"/>
              <a:ext cx="11412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47920" y="4616280"/>
              <a:ext cx="1800" cy="334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4649760"/>
              <a:ext cx="11268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68840" y="4245120"/>
              <a:ext cx="1440" cy="806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19520" y="4325760"/>
              <a:ext cx="112680" cy="1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1880" y="2463840"/>
              <a:ext cx="1800" cy="209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920" y="2673360"/>
              <a:ext cx="11412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54480" y="3984480"/>
              <a:ext cx="1440" cy="1461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06960" y="4130640"/>
              <a:ext cx="112680" cy="1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32400" y="3548160"/>
              <a:ext cx="1800" cy="162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83440" y="3710160"/>
              <a:ext cx="11412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11600" y="3435480"/>
              <a:ext cx="81000" cy="81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49840" y="4341960"/>
              <a:ext cx="80640" cy="806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49600" y="3984480"/>
              <a:ext cx="81000" cy="81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36960" y="4454640"/>
              <a:ext cx="82440" cy="81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00400" y="4568760"/>
              <a:ext cx="81000" cy="81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19520" y="4195800"/>
              <a:ext cx="81000" cy="81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22920" y="2414520"/>
              <a:ext cx="81000" cy="81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06960" y="3936960"/>
              <a:ext cx="81000" cy="81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83440" y="3500280"/>
              <a:ext cx="82440" cy="79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31480" y="795240"/>
              <a:ext cx="6284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nfined Spatial WM: 4-arm vs 8-ar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52520" y="50212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08880" y="44388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08880" y="38559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08880" y="32893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08880" y="27068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64880" y="212400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64880" y="153972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44840" y="53942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3440" y="53942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39760" y="5394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568720" y="5394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26920" y="5830920"/>
              <a:ext cx="678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 ar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1257840" y="3199320"/>
              <a:ext cx="678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 ar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343080" y="330120"/>
          <a:ext cx="9601200" cy="61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330120"/>
                    <a:ext cx="960120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801360" y="439560"/>
            <a:ext cx="8374320" cy="5900760"/>
            <a:chOff x="801360" y="439560"/>
            <a:chExt cx="8374320" cy="5900760"/>
          </a:xfrm>
        </p:grpSpPr>
        <p:grpSp>
          <p:nvGrpSpPr>
            <p:cNvPr id="168" name=""/>
            <p:cNvGrpSpPr/>
            <p:nvPr/>
          </p:nvGrpSpPr>
          <p:grpSpPr>
            <a:xfrm>
              <a:off x="815040" y="439560"/>
              <a:ext cx="8360640" cy="2207520"/>
              <a:chOff x="815040" y="439560"/>
              <a:chExt cx="8360640" cy="2207520"/>
            </a:xfrm>
          </p:grpSpPr>
          <p:sp>
            <p:nvSpPr>
              <p:cNvPr id="169" name=""/>
              <p:cNvSpPr/>
              <p:nvPr/>
            </p:nvSpPr>
            <p:spPr>
              <a:xfrm>
                <a:off x="815040" y="439560"/>
                <a:ext cx="78202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Arial"/>
                  </a:rPr>
                  <a:t>Repeated Measures ANOVA: Working Memory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61960" y="973080"/>
                <a:ext cx="502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df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46320" y="973080"/>
                <a:ext cx="370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385400" y="973080"/>
                <a:ext cx="450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P &lt;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14480" y="958680"/>
                <a:ext cx="9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014480" y="95868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014480" y="95868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14480" y="958680"/>
                <a:ext cx="9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014480" y="95868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14480" y="95868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023840" y="958680"/>
                <a:ext cx="28767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23840" y="958680"/>
                <a:ext cx="2876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900600" y="958680"/>
                <a:ext cx="111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900600" y="958680"/>
                <a:ext cx="1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900600" y="95868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911760" y="958680"/>
                <a:ext cx="16063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911760" y="958680"/>
                <a:ext cx="1606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18080" y="958680"/>
                <a:ext cx="111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18080" y="958680"/>
                <a:ext cx="1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518080" y="958680"/>
                <a:ext cx="180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29240" y="958680"/>
                <a:ext cx="16099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529240" y="958680"/>
                <a:ext cx="1609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139160" y="958680"/>
                <a:ext cx="1080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139160" y="958680"/>
                <a:ext cx="10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139160" y="95868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149960" y="958680"/>
                <a:ext cx="2016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149960" y="958680"/>
                <a:ext cx="2016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9166320" y="958680"/>
                <a:ext cx="9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9166320" y="95868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9166320" y="95868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166320" y="958680"/>
                <a:ext cx="9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166320" y="95868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9166320" y="95868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014480" y="965160"/>
                <a:ext cx="93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14480" y="96516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900600" y="965160"/>
                <a:ext cx="111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900600" y="96516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518080" y="965160"/>
                <a:ext cx="111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518080" y="965160"/>
                <a:ext cx="180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139160" y="965160"/>
                <a:ext cx="1080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139160" y="96516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166320" y="965160"/>
                <a:ext cx="93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166320" y="96516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304640" y="1243080"/>
                <a:ext cx="6134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Strain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220640" y="1236600"/>
                <a:ext cx="648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 </a:t>
                </a: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8,79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38480" y="1236600"/>
                <a:ext cx="648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17.36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493040" y="1236600"/>
                <a:ext cx="777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0.0001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14480" y="1228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014480" y="122868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014480" y="122868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023840" y="1228680"/>
                <a:ext cx="28767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023840" y="1228680"/>
                <a:ext cx="2876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900600" y="1228680"/>
                <a:ext cx="11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900600" y="1228680"/>
                <a:ext cx="1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900600" y="122868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11760" y="1228680"/>
                <a:ext cx="1606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11760" y="1228680"/>
                <a:ext cx="1606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518080" y="1228680"/>
                <a:ext cx="11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518080" y="1228680"/>
                <a:ext cx="1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518080" y="122868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529240" y="1228680"/>
                <a:ext cx="1609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529240" y="1228680"/>
                <a:ext cx="1609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139160" y="1228680"/>
                <a:ext cx="108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139160" y="1228680"/>
                <a:ext cx="10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139160" y="122868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49960" y="1228680"/>
                <a:ext cx="2016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49960" y="1228680"/>
                <a:ext cx="2016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9166320" y="1228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9166320" y="122868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9166320" y="122868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014480" y="1236600"/>
                <a:ext cx="93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014480" y="123660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900600" y="1236600"/>
                <a:ext cx="111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900600" y="123660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518080" y="1236600"/>
                <a:ext cx="111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518080" y="1236600"/>
                <a:ext cx="180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39160" y="1236600"/>
                <a:ext cx="1080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139160" y="123660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166320" y="1236600"/>
                <a:ext cx="93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9166320" y="123660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69360" y="1514520"/>
                <a:ext cx="4824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Turn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220640" y="1506600"/>
                <a:ext cx="648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 </a:t>
                </a: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1,79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38480" y="1506600"/>
                <a:ext cx="648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92.69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493040" y="1506600"/>
                <a:ext cx="777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0.0001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014480" y="1500120"/>
                <a:ext cx="9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014480" y="150012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014480" y="150012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023840" y="1500120"/>
                <a:ext cx="28767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023840" y="1500120"/>
                <a:ext cx="2876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900600" y="1500120"/>
                <a:ext cx="111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900600" y="1500120"/>
                <a:ext cx="1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900600" y="150012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911760" y="1500120"/>
                <a:ext cx="16063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911760" y="1500120"/>
                <a:ext cx="1606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518080" y="1500120"/>
                <a:ext cx="111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518080" y="1500120"/>
                <a:ext cx="1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18080" y="1500120"/>
                <a:ext cx="180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529240" y="1500120"/>
                <a:ext cx="16099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529240" y="1500120"/>
                <a:ext cx="1609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139160" y="1500120"/>
                <a:ext cx="1080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139160" y="1500120"/>
                <a:ext cx="10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139160" y="150012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149960" y="1500120"/>
                <a:ext cx="2016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49960" y="1500120"/>
                <a:ext cx="2016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9166320" y="1500120"/>
                <a:ext cx="9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9166320" y="150012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9166320" y="150012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014480" y="1506600"/>
                <a:ext cx="93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014480" y="150660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900600" y="1506600"/>
                <a:ext cx="111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900600" y="150660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18080" y="1506600"/>
                <a:ext cx="111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518080" y="1506600"/>
                <a:ext cx="180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139160" y="1506600"/>
                <a:ext cx="1080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139160" y="150660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166320" y="1506600"/>
                <a:ext cx="93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9166320" y="150660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304640" y="1784520"/>
                <a:ext cx="6134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Strain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64960" y="1816200"/>
                <a:ext cx="84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*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720" y="1784520"/>
                <a:ext cx="4824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Turn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20640" y="1778040"/>
                <a:ext cx="648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 </a:t>
                </a: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8,79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838480" y="1778040"/>
                <a:ext cx="648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 </a:t>
                </a: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7.86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493040" y="1778040"/>
                <a:ext cx="777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0.0001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014480" y="1770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014480" y="177012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014480" y="177012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023840" y="1770120"/>
                <a:ext cx="28767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3840" y="1770120"/>
                <a:ext cx="2876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900600" y="1770120"/>
                <a:ext cx="11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900600" y="1770120"/>
                <a:ext cx="11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900600" y="177012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911760" y="1770120"/>
                <a:ext cx="1606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911760" y="1770120"/>
                <a:ext cx="1606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518080" y="1770120"/>
                <a:ext cx="11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518080" y="1770120"/>
                <a:ext cx="11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518080" y="177012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529240" y="1770120"/>
                <a:ext cx="1609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529240" y="1770120"/>
                <a:ext cx="1609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139160" y="1770120"/>
                <a:ext cx="108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139160" y="1770120"/>
                <a:ext cx="10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139160" y="177012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149960" y="1770120"/>
                <a:ext cx="2016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149960" y="1770120"/>
                <a:ext cx="2016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9166320" y="1770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9166320" y="177012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9166320" y="177012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014480" y="1778040"/>
                <a:ext cx="9360" cy="29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014480" y="1778040"/>
                <a:ext cx="1440" cy="29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900600" y="1778040"/>
                <a:ext cx="11160" cy="29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00600" y="1778040"/>
                <a:ext cx="1440" cy="29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518080" y="1778040"/>
                <a:ext cx="11160" cy="29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518080" y="1778040"/>
                <a:ext cx="1800" cy="29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139160" y="1778040"/>
                <a:ext cx="10800" cy="29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139160" y="1778040"/>
                <a:ext cx="1440" cy="29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9166320" y="1778040"/>
                <a:ext cx="9360" cy="29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9166320" y="1778040"/>
                <a:ext cx="1440" cy="29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278000" y="2085840"/>
                <a:ext cx="5187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Days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254480" y="2079720"/>
                <a:ext cx="777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 </a:t>
                </a: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7,553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838480" y="2079720"/>
                <a:ext cx="648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12.50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493040" y="2079720"/>
                <a:ext cx="777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0.0001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014480" y="2071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014480" y="207180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14480" y="207180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23840" y="2071800"/>
                <a:ext cx="28767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23840" y="2071800"/>
                <a:ext cx="2876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900600" y="2071800"/>
                <a:ext cx="11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900600" y="2071800"/>
                <a:ext cx="11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900600" y="207180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911760" y="2071800"/>
                <a:ext cx="1606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911760" y="2071800"/>
                <a:ext cx="1606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518080" y="2071800"/>
                <a:ext cx="11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18080" y="2071800"/>
                <a:ext cx="11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518080" y="207180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529240" y="2071800"/>
                <a:ext cx="1609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29240" y="2071800"/>
                <a:ext cx="1609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139160" y="2071800"/>
                <a:ext cx="108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139160" y="2071800"/>
                <a:ext cx="10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139160" y="207180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149960" y="2071800"/>
                <a:ext cx="2016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149960" y="2071800"/>
                <a:ext cx="2016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9166320" y="2071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9166320" y="207180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166320" y="207180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014480" y="2079720"/>
                <a:ext cx="93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014480" y="207972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900600" y="2079720"/>
                <a:ext cx="111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900600" y="207972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518080" y="2079720"/>
                <a:ext cx="111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518080" y="2079720"/>
                <a:ext cx="180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139160" y="2079720"/>
                <a:ext cx="1080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139160" y="207972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9166320" y="2079720"/>
                <a:ext cx="93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9166320" y="207972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278000" y="2357280"/>
                <a:ext cx="5187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Days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14120" y="2387520"/>
                <a:ext cx="84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*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171160" y="2357280"/>
                <a:ext cx="6134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Strain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254480" y="2349360"/>
                <a:ext cx="777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56,553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38480" y="2349360"/>
                <a:ext cx="648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 </a:t>
                </a: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1.33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493040" y="2349360"/>
                <a:ext cx="777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0.0596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014480" y="2343240"/>
                <a:ext cx="936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801360" y="2343240"/>
              <a:ext cx="8374320" cy="2245320"/>
              <a:chOff x="801360" y="2343240"/>
              <a:chExt cx="8374320" cy="2245320"/>
            </a:xfrm>
          </p:grpSpPr>
          <p:sp>
            <p:nvSpPr>
              <p:cNvPr id="370" name=""/>
              <p:cNvSpPr/>
              <p:nvPr/>
            </p:nvSpPr>
            <p:spPr>
              <a:xfrm>
                <a:off x="1014480" y="234324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014480" y="2343240"/>
                <a:ext cx="14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023840" y="2343240"/>
                <a:ext cx="287676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023840" y="2343240"/>
                <a:ext cx="2876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900600" y="2343240"/>
                <a:ext cx="1116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900600" y="2343240"/>
                <a:ext cx="11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900600" y="2343240"/>
                <a:ext cx="14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911760" y="2343240"/>
                <a:ext cx="16063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911760" y="2343240"/>
                <a:ext cx="1606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518080" y="2343240"/>
                <a:ext cx="1116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518080" y="2343240"/>
                <a:ext cx="11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518080" y="2343240"/>
                <a:ext cx="180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529240" y="2343240"/>
                <a:ext cx="16099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529240" y="2343240"/>
                <a:ext cx="1609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139160" y="2343240"/>
                <a:ext cx="1080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139160" y="2343240"/>
                <a:ext cx="10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39160" y="2343240"/>
                <a:ext cx="14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149960" y="2343240"/>
                <a:ext cx="201636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49960" y="2343240"/>
                <a:ext cx="2016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9166320" y="2343240"/>
                <a:ext cx="936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9166320" y="234324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9166320" y="2343240"/>
                <a:ext cx="14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014480" y="2349360"/>
                <a:ext cx="9360" cy="29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014480" y="2349360"/>
                <a:ext cx="1440" cy="29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900600" y="2349360"/>
                <a:ext cx="11160" cy="29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900600" y="2349360"/>
                <a:ext cx="1440" cy="29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518080" y="2349360"/>
                <a:ext cx="11160" cy="29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518080" y="2349360"/>
                <a:ext cx="1800" cy="29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139160" y="2349360"/>
                <a:ext cx="10800" cy="29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139160" y="2349360"/>
                <a:ext cx="1440" cy="29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9166320" y="2349360"/>
                <a:ext cx="9360" cy="29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9166320" y="2349360"/>
                <a:ext cx="1440" cy="29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278000" y="2658960"/>
                <a:ext cx="5187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Days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914120" y="2689200"/>
                <a:ext cx="84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*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135880" y="2658960"/>
                <a:ext cx="4824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Turn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54480" y="2651040"/>
                <a:ext cx="777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 </a:t>
                </a: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7,553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838480" y="2651040"/>
                <a:ext cx="648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 </a:t>
                </a: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0.49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493040" y="2651040"/>
                <a:ext cx="777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0.8412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014480" y="2644920"/>
                <a:ext cx="936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014480" y="264492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014480" y="2644920"/>
                <a:ext cx="14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023840" y="2644920"/>
                <a:ext cx="287676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023840" y="2644920"/>
                <a:ext cx="2876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900600" y="2644920"/>
                <a:ext cx="1116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00600" y="2644920"/>
                <a:ext cx="11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900600" y="2644920"/>
                <a:ext cx="14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911760" y="2644920"/>
                <a:ext cx="16063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911760" y="2644920"/>
                <a:ext cx="1606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518080" y="2644920"/>
                <a:ext cx="1116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518080" y="2644920"/>
                <a:ext cx="11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518080" y="2644920"/>
                <a:ext cx="180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529240" y="2644920"/>
                <a:ext cx="16099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529240" y="2644920"/>
                <a:ext cx="1609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139160" y="2644920"/>
                <a:ext cx="1080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139160" y="2644920"/>
                <a:ext cx="10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139160" y="2644920"/>
                <a:ext cx="14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149960" y="2644920"/>
                <a:ext cx="201636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149960" y="2644920"/>
                <a:ext cx="2016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9166320" y="2644920"/>
                <a:ext cx="936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9166320" y="264492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9166320" y="2644920"/>
                <a:ext cx="14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014480" y="2651040"/>
                <a:ext cx="9360" cy="29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014480" y="2651040"/>
                <a:ext cx="1440" cy="29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900600" y="2651040"/>
                <a:ext cx="11160" cy="29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900600" y="2651040"/>
                <a:ext cx="1440" cy="29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518080" y="2651040"/>
                <a:ext cx="11160" cy="29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518080" y="2651040"/>
                <a:ext cx="1800" cy="29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139160" y="2651040"/>
                <a:ext cx="10800" cy="29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139160" y="2651040"/>
                <a:ext cx="1440" cy="29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9166320" y="2651040"/>
                <a:ext cx="9360" cy="29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9166320" y="2651040"/>
                <a:ext cx="1440" cy="29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278000" y="2960640"/>
                <a:ext cx="5187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Days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914120" y="2990880"/>
                <a:ext cx="84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*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171160" y="2960640"/>
                <a:ext cx="6134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Strain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933280" y="2990880"/>
                <a:ext cx="84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*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153600" y="2960640"/>
                <a:ext cx="4824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Turn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254480" y="2952720"/>
                <a:ext cx="777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56,553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838480" y="2952720"/>
                <a:ext cx="648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 </a:t>
                </a: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0.98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493040" y="2952720"/>
                <a:ext cx="777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0.5275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014480" y="2946240"/>
                <a:ext cx="9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014480" y="294624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014480" y="294624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023840" y="2946240"/>
                <a:ext cx="28767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023840" y="2946240"/>
                <a:ext cx="2876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900600" y="2946240"/>
                <a:ext cx="111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900600" y="2946240"/>
                <a:ext cx="1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900600" y="294624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911760" y="2946240"/>
                <a:ext cx="16063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911760" y="2946240"/>
                <a:ext cx="1606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518080" y="2946240"/>
                <a:ext cx="111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8080" y="2946240"/>
                <a:ext cx="1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518080" y="2946240"/>
                <a:ext cx="180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529240" y="2946240"/>
                <a:ext cx="16099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529240" y="2946240"/>
                <a:ext cx="1609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139160" y="2946240"/>
                <a:ext cx="1080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139160" y="2946240"/>
                <a:ext cx="10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139160" y="294624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149960" y="2946240"/>
                <a:ext cx="2016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49960" y="2946240"/>
                <a:ext cx="2016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9166320" y="2946240"/>
                <a:ext cx="9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9166320" y="294624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9166320" y="294624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014480" y="2952720"/>
                <a:ext cx="9360" cy="29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014480" y="2952720"/>
                <a:ext cx="1440" cy="29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014480" y="3247920"/>
                <a:ext cx="9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014480" y="324792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014480" y="324792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014480" y="3247920"/>
                <a:ext cx="9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014480" y="324792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014480" y="324792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023840" y="3247920"/>
                <a:ext cx="28767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023840" y="3247920"/>
                <a:ext cx="2876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900600" y="2952720"/>
                <a:ext cx="11160" cy="29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900600" y="2952720"/>
                <a:ext cx="1440" cy="29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900600" y="3247920"/>
                <a:ext cx="111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900600" y="3247920"/>
                <a:ext cx="1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900600" y="324792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911760" y="3247920"/>
                <a:ext cx="16063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911760" y="3247920"/>
                <a:ext cx="1606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518080" y="2952720"/>
                <a:ext cx="11160" cy="29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518080" y="2952720"/>
                <a:ext cx="1800" cy="29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18080" y="3247920"/>
                <a:ext cx="111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518080" y="3247920"/>
                <a:ext cx="1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518080" y="3247920"/>
                <a:ext cx="180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529240" y="3247920"/>
                <a:ext cx="16099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529240" y="3247920"/>
                <a:ext cx="1609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139160" y="2952720"/>
                <a:ext cx="10800" cy="29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139160" y="2952720"/>
                <a:ext cx="1440" cy="29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139160" y="3247920"/>
                <a:ext cx="1080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139160" y="3247920"/>
                <a:ext cx="10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139160" y="324792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149960" y="3247920"/>
                <a:ext cx="2016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149960" y="3247920"/>
                <a:ext cx="2016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9166320" y="2952720"/>
                <a:ext cx="9360" cy="29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9166320" y="2952720"/>
                <a:ext cx="1440" cy="29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9166320" y="3247920"/>
                <a:ext cx="9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9166320" y="324792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9166320" y="324792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9166320" y="3247920"/>
                <a:ext cx="9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9166320" y="324792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9166320" y="324792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01360" y="3525840"/>
                <a:ext cx="81205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Arial"/>
                  </a:rPr>
                  <a:t>Repeated Measures ANOVA: Reference Memory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161960" y="4059360"/>
                <a:ext cx="502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df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746320" y="4059360"/>
                <a:ext cx="370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85400" y="4059360"/>
                <a:ext cx="450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P &lt;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014480" y="4044960"/>
                <a:ext cx="9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014480" y="404496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014480" y="404496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014480" y="4044960"/>
                <a:ext cx="9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014480" y="404496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014480" y="404496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023840" y="4044960"/>
                <a:ext cx="28767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023840" y="4044960"/>
                <a:ext cx="2876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900600" y="4044960"/>
                <a:ext cx="111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900600" y="4044960"/>
                <a:ext cx="11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900600" y="404496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911760" y="4044960"/>
                <a:ext cx="16063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911760" y="4044960"/>
                <a:ext cx="1606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518080" y="4044960"/>
                <a:ext cx="111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518080" y="4044960"/>
                <a:ext cx="11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518080" y="4044960"/>
                <a:ext cx="180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529240" y="4044960"/>
                <a:ext cx="16099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29240" y="4044960"/>
                <a:ext cx="1609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139160" y="4044960"/>
                <a:ext cx="1080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139160" y="4044960"/>
                <a:ext cx="10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139160" y="404496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149960" y="4044960"/>
                <a:ext cx="2016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149960" y="4044960"/>
                <a:ext cx="2016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9166320" y="4044960"/>
                <a:ext cx="9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9166320" y="404496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9166320" y="404496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9166320" y="4044960"/>
                <a:ext cx="9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166320" y="404496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9166320" y="404496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014480" y="4051440"/>
                <a:ext cx="93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014480" y="405144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900600" y="4051440"/>
                <a:ext cx="111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900600" y="405144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518080" y="4051440"/>
                <a:ext cx="111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518080" y="4051440"/>
                <a:ext cx="180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139160" y="4051440"/>
                <a:ext cx="1080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139160" y="405144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9166320" y="4051440"/>
                <a:ext cx="93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166320" y="405144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04640" y="4329000"/>
                <a:ext cx="6134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Strain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220640" y="4322880"/>
                <a:ext cx="648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 </a:t>
                </a: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8,79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838480" y="4322880"/>
                <a:ext cx="648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12.15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493040" y="4322880"/>
                <a:ext cx="777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0.0001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014480" y="4314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014480" y="431496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14480" y="431496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023840" y="4314960"/>
                <a:ext cx="28767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023840" y="4314960"/>
                <a:ext cx="2876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900600" y="4314960"/>
                <a:ext cx="11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900600" y="4314960"/>
                <a:ext cx="11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900600" y="431496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911760" y="4314960"/>
                <a:ext cx="1606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911760" y="4314960"/>
                <a:ext cx="1606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518080" y="4314960"/>
                <a:ext cx="11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518080" y="4314960"/>
                <a:ext cx="11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1014480" y="4314960"/>
              <a:ext cx="8161200" cy="1720080"/>
              <a:chOff x="1014480" y="4314960"/>
              <a:chExt cx="8161200" cy="1720080"/>
            </a:xfrm>
          </p:grpSpPr>
          <p:sp>
            <p:nvSpPr>
              <p:cNvPr id="571" name=""/>
              <p:cNvSpPr/>
              <p:nvPr/>
            </p:nvSpPr>
            <p:spPr>
              <a:xfrm>
                <a:off x="5518080" y="431496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529240" y="4314960"/>
                <a:ext cx="1609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529240" y="4314960"/>
                <a:ext cx="1609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139160" y="4314960"/>
                <a:ext cx="108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139160" y="4314960"/>
                <a:ext cx="10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139160" y="431496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149960" y="4314960"/>
                <a:ext cx="2016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149960" y="4314960"/>
                <a:ext cx="2016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9166320" y="4314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166320" y="431496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9166320" y="431496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014480" y="4322880"/>
                <a:ext cx="93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014480" y="432288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900600" y="4322880"/>
                <a:ext cx="111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900600" y="432288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518080" y="4322880"/>
                <a:ext cx="111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518080" y="4322880"/>
                <a:ext cx="180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139160" y="4322880"/>
                <a:ext cx="1080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139160" y="432288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9166320" y="4322880"/>
                <a:ext cx="93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9166320" y="432288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69360" y="4600440"/>
                <a:ext cx="4824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Turn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220640" y="4592520"/>
                <a:ext cx="648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 </a:t>
                </a: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1,79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838480" y="4592520"/>
                <a:ext cx="648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37.22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493040" y="4592520"/>
                <a:ext cx="777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0.0001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014480" y="4586400"/>
                <a:ext cx="936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014480" y="458640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014480" y="4586400"/>
                <a:ext cx="14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023840" y="4586400"/>
                <a:ext cx="287676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023840" y="4586400"/>
                <a:ext cx="2876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900600" y="4586400"/>
                <a:ext cx="1116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900600" y="4586400"/>
                <a:ext cx="11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900600" y="4586400"/>
                <a:ext cx="14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911760" y="4586400"/>
                <a:ext cx="16063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911760" y="4586400"/>
                <a:ext cx="1606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18080" y="4586400"/>
                <a:ext cx="1116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518080" y="4586400"/>
                <a:ext cx="11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518080" y="4586400"/>
                <a:ext cx="180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529240" y="4586400"/>
                <a:ext cx="16099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529240" y="4586400"/>
                <a:ext cx="1609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139160" y="4586400"/>
                <a:ext cx="1080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139160" y="4586400"/>
                <a:ext cx="10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139160" y="4586400"/>
                <a:ext cx="14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149960" y="4586400"/>
                <a:ext cx="201636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149960" y="4586400"/>
                <a:ext cx="2016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9166320" y="4586400"/>
                <a:ext cx="936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9166320" y="458640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9166320" y="4586400"/>
                <a:ext cx="14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014480" y="4592520"/>
                <a:ext cx="93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14480" y="459252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900600" y="4592520"/>
                <a:ext cx="111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900600" y="459252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518080" y="4592520"/>
                <a:ext cx="111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518080" y="4592520"/>
                <a:ext cx="180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139160" y="4592520"/>
                <a:ext cx="1080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139160" y="459252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9166320" y="4592520"/>
                <a:ext cx="93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9166320" y="459252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04640" y="4870440"/>
                <a:ext cx="6134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Strain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064960" y="4902120"/>
                <a:ext cx="84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*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286720" y="4870440"/>
                <a:ext cx="4824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Turn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220640" y="4863960"/>
                <a:ext cx="648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 </a:t>
                </a: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8,79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838480" y="4863960"/>
                <a:ext cx="648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 </a:t>
                </a: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4.87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493040" y="4863960"/>
                <a:ext cx="777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0.0001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014480" y="4856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014480" y="485604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014480" y="485604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023840" y="4856040"/>
                <a:ext cx="28767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023840" y="4856040"/>
                <a:ext cx="2876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900600" y="4856040"/>
                <a:ext cx="11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900600" y="4856040"/>
                <a:ext cx="1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900600" y="485604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911760" y="4856040"/>
                <a:ext cx="1606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911760" y="4856040"/>
                <a:ext cx="1606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518080" y="4856040"/>
                <a:ext cx="11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518080" y="4856040"/>
                <a:ext cx="1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518080" y="485604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29240" y="4856040"/>
                <a:ext cx="1609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529240" y="4856040"/>
                <a:ext cx="1609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39160" y="4856040"/>
                <a:ext cx="108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139160" y="4856040"/>
                <a:ext cx="10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139160" y="485604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149960" y="4856040"/>
                <a:ext cx="2016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149960" y="4856040"/>
                <a:ext cx="2016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166320" y="4856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9166320" y="485604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9166320" y="485604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014480" y="4863960"/>
                <a:ext cx="9360" cy="29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014480" y="4863960"/>
                <a:ext cx="1440" cy="29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900600" y="4863960"/>
                <a:ext cx="11160" cy="29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900600" y="4863960"/>
                <a:ext cx="1440" cy="29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518080" y="4863960"/>
                <a:ext cx="11160" cy="29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518080" y="4863960"/>
                <a:ext cx="1800" cy="29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139160" y="4863960"/>
                <a:ext cx="10800" cy="29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139160" y="4863960"/>
                <a:ext cx="1440" cy="29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9166320" y="4863960"/>
                <a:ext cx="9360" cy="29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9166320" y="4863960"/>
                <a:ext cx="1440" cy="29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278000" y="5172120"/>
                <a:ext cx="5187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Days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254480" y="5165640"/>
                <a:ext cx="777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 </a:t>
                </a: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7,553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838480" y="5165640"/>
                <a:ext cx="648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15.98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493040" y="5165640"/>
                <a:ext cx="777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0.0001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014480" y="51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014480" y="515772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014480" y="515772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023840" y="5157720"/>
                <a:ext cx="28767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023840" y="5157720"/>
                <a:ext cx="2876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900600" y="5157720"/>
                <a:ext cx="11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900600" y="5157720"/>
                <a:ext cx="1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900600" y="515772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911760" y="5157720"/>
                <a:ext cx="1606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911760" y="5157720"/>
                <a:ext cx="1606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18080" y="5157720"/>
                <a:ext cx="11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518080" y="5157720"/>
                <a:ext cx="1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518080" y="5157720"/>
                <a:ext cx="18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529240" y="5157720"/>
                <a:ext cx="1609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529240" y="5157720"/>
                <a:ext cx="1609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139160" y="5157720"/>
                <a:ext cx="108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139160" y="5157720"/>
                <a:ext cx="10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139160" y="515772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149960" y="5157720"/>
                <a:ext cx="2016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149960" y="5157720"/>
                <a:ext cx="2016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9166320" y="51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9166320" y="515772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9166320" y="5157720"/>
                <a:ext cx="14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014480" y="5165640"/>
                <a:ext cx="93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014480" y="516564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900600" y="5165640"/>
                <a:ext cx="111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900600" y="516564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518080" y="5165640"/>
                <a:ext cx="111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18080" y="5165640"/>
                <a:ext cx="180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139160" y="5165640"/>
                <a:ext cx="1080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139160" y="516564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9166320" y="5165640"/>
                <a:ext cx="9360" cy="26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9166320" y="516564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278000" y="5443560"/>
                <a:ext cx="5187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Days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914120" y="5473800"/>
                <a:ext cx="84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*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171160" y="5443560"/>
                <a:ext cx="6134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Strain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254480" y="5435640"/>
                <a:ext cx="777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56,553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838480" y="5435640"/>
                <a:ext cx="648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 </a:t>
                </a: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1.99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493040" y="5435640"/>
                <a:ext cx="777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0.0001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014480" y="5429160"/>
                <a:ext cx="9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14480" y="542916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014480" y="542916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023840" y="5429160"/>
                <a:ext cx="28767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023840" y="5429160"/>
                <a:ext cx="2876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900600" y="5429160"/>
                <a:ext cx="111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900600" y="5429160"/>
                <a:ext cx="1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900600" y="542916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911760" y="5429160"/>
                <a:ext cx="16063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11760" y="5429160"/>
                <a:ext cx="1606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518080" y="5429160"/>
                <a:ext cx="111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518080" y="5429160"/>
                <a:ext cx="1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518080" y="5429160"/>
                <a:ext cx="180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529240" y="5429160"/>
                <a:ext cx="16099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529240" y="5429160"/>
                <a:ext cx="1609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139160" y="5429160"/>
                <a:ext cx="1080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139160" y="5429160"/>
                <a:ext cx="10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39160" y="542916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149960" y="5429160"/>
                <a:ext cx="2016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149960" y="5429160"/>
                <a:ext cx="2016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9166320" y="5429160"/>
                <a:ext cx="9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166320" y="542916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9166320" y="542916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014480" y="5435640"/>
                <a:ext cx="9360" cy="29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014480" y="5435640"/>
                <a:ext cx="1440" cy="29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900600" y="5435640"/>
                <a:ext cx="11160" cy="29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900600" y="5435640"/>
                <a:ext cx="1440" cy="29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518080" y="5435640"/>
                <a:ext cx="11160" cy="29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518080" y="5435640"/>
                <a:ext cx="1800" cy="29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139160" y="5435640"/>
                <a:ext cx="10800" cy="29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139160" y="5435640"/>
                <a:ext cx="1440" cy="29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9166320" y="5435640"/>
                <a:ext cx="9360" cy="29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9166320" y="5435640"/>
                <a:ext cx="1440" cy="295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278000" y="5745240"/>
                <a:ext cx="5187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Days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914120" y="5775480"/>
                <a:ext cx="84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*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135880" y="5745240"/>
                <a:ext cx="4824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Turn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254480" y="5737320"/>
                <a:ext cx="777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 </a:t>
                </a: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7,553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838480" y="5737320"/>
                <a:ext cx="648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 </a:t>
                </a: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0.52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493040" y="5737320"/>
                <a:ext cx="777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Courier New"/>
                  </a:rPr>
                  <a:t>0.8174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014480" y="5730840"/>
                <a:ext cx="9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014480" y="573084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014480" y="573084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023840" y="5730840"/>
                <a:ext cx="28767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023840" y="5730840"/>
                <a:ext cx="2876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900600" y="5730840"/>
                <a:ext cx="111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900600" y="5730840"/>
                <a:ext cx="1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900600" y="573084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911760" y="5730840"/>
                <a:ext cx="16063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911760" y="5730840"/>
                <a:ext cx="1606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518080" y="5730840"/>
                <a:ext cx="111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518080" y="5730840"/>
                <a:ext cx="1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518080" y="5730840"/>
                <a:ext cx="180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529240" y="5730840"/>
                <a:ext cx="16099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529240" y="5730840"/>
                <a:ext cx="1609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139160" y="5730840"/>
                <a:ext cx="1080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139160" y="5730840"/>
                <a:ext cx="10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139160" y="573084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149960" y="5730840"/>
                <a:ext cx="2016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149960" y="5730840"/>
                <a:ext cx="2016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9166320" y="5730840"/>
                <a:ext cx="9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9166320" y="5730840"/>
              <a:ext cx="9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9166320" y="5730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14480" y="5737320"/>
              <a:ext cx="936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14480" y="5737320"/>
              <a:ext cx="1440" cy="29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900600" y="5737320"/>
              <a:ext cx="1116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900600" y="5737320"/>
              <a:ext cx="1440" cy="29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518080" y="5737320"/>
              <a:ext cx="1116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518080" y="5737320"/>
              <a:ext cx="1800" cy="29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139160" y="5737320"/>
              <a:ext cx="1080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139160" y="5737320"/>
              <a:ext cx="1440" cy="29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9166320" y="5737320"/>
              <a:ext cx="936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166320" y="5737320"/>
              <a:ext cx="1440" cy="29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278000" y="6046920"/>
              <a:ext cx="518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Days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914120" y="6076800"/>
              <a:ext cx="8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*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171160" y="604692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Strain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933280" y="6076800"/>
              <a:ext cx="8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*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153600" y="60469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Turn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54480" y="6039000"/>
              <a:ext cx="777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Courier New"/>
                </a:rPr>
                <a:t>56,553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838480" y="6039000"/>
              <a:ext cx="64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Courier New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Courier New"/>
                </a:rPr>
                <a:t>0.87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493040" y="6039000"/>
              <a:ext cx="777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Courier New"/>
                </a:rPr>
                <a:t>0.7324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014480" y="6032520"/>
              <a:ext cx="9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14480" y="603252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014480" y="603252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023840" y="6032520"/>
              <a:ext cx="2876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023840" y="6032520"/>
              <a:ext cx="287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900600" y="6032520"/>
              <a:ext cx="1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900600" y="6032520"/>
              <a:ext cx="11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900600" y="603252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911760" y="6032520"/>
              <a:ext cx="16063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911760" y="6032520"/>
              <a:ext cx="160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518080" y="6032520"/>
              <a:ext cx="1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18080" y="6032520"/>
              <a:ext cx="11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518080" y="603252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529240" y="6032520"/>
              <a:ext cx="1609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529240" y="6032520"/>
              <a:ext cx="1609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39160" y="6032520"/>
              <a:ext cx="108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139160" y="6032520"/>
              <a:ext cx="10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139160" y="603252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149960" y="6032520"/>
              <a:ext cx="2016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149960" y="6032520"/>
              <a:ext cx="201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9166320" y="6032520"/>
              <a:ext cx="9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166320" y="603252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9166320" y="603252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014480" y="6039000"/>
              <a:ext cx="936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14480" y="6039000"/>
              <a:ext cx="1440" cy="29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14480" y="6334200"/>
              <a:ext cx="93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14480" y="633420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014480" y="633420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014480" y="6334200"/>
              <a:ext cx="93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014480" y="633420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014480" y="633420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023840" y="6334200"/>
              <a:ext cx="28767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023840" y="6334200"/>
              <a:ext cx="287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900600" y="6039000"/>
              <a:ext cx="1116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900600" y="6039000"/>
              <a:ext cx="1440" cy="29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900600" y="6334200"/>
              <a:ext cx="111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900600" y="6334200"/>
              <a:ext cx="11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900600" y="633420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911760" y="6334200"/>
              <a:ext cx="16063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911760" y="6334200"/>
              <a:ext cx="160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518080" y="6039000"/>
              <a:ext cx="1116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518080" y="6039000"/>
              <a:ext cx="1800" cy="29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518080" y="6334200"/>
              <a:ext cx="111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518080" y="6334200"/>
              <a:ext cx="11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18080" y="6334200"/>
              <a:ext cx="180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29240" y="6334200"/>
              <a:ext cx="16099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529240" y="6334200"/>
              <a:ext cx="1609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139160" y="6039000"/>
              <a:ext cx="1080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139160" y="6039000"/>
              <a:ext cx="1440" cy="29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139160" y="6334200"/>
              <a:ext cx="1080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139160" y="6334200"/>
              <a:ext cx="10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139160" y="633420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149960" y="6334200"/>
              <a:ext cx="20163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149960" y="6334200"/>
              <a:ext cx="201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9166320" y="6039000"/>
              <a:ext cx="936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9166320" y="6039000"/>
              <a:ext cx="1440" cy="29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9166320" y="6334200"/>
              <a:ext cx="93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9166320" y="633420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9166320" y="633420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9166320" y="6334200"/>
              <a:ext cx="93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9166320" y="633420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9166320" y="633420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57360" y="1933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Arial"/>
              </a:rPr>
              <a:t>Spearman correlations (df = 7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1042920" y="1727280"/>
          <a:ext cx="9001080" cy="513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27280"/>
                    <a:ext cx="900108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71120" y="10440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Arial"/>
              </a:rPr>
              <a:t>Spearman correlations (df = 7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57" name=""/>
          <p:cNvGraphicFramePr/>
          <p:nvPr/>
        </p:nvGraphicFramePr>
        <p:xfrm>
          <a:off x="744480" y="1460520"/>
          <a:ext cx="12725280" cy="680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480" y="1460520"/>
                    <a:ext cx="12725280" cy="68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90240" y="369720"/>
            <a:ext cx="91249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Factor analysis (priors=max; Harris-Kaiser orthoblique rotation; 3 factors with Eigenvalue </a:t>
            </a:r>
            <a:r>
              <a:rPr b="1" lang="fr-FR" sz="2800" spc="-1" strike="noStrike" u="sng">
                <a:solidFill>
                  <a:srgbClr val="ffff00"/>
                </a:solidFill>
                <a:uFillTx/>
                <a:latin typeface="Arial"/>
              </a:rPr>
              <a:t>&gt;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 1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493560" y="1349280"/>
          <a:ext cx="9301320" cy="51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49280"/>
                    <a:ext cx="9301320" cy="51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2T13:36:28Z</dcterms:created>
  <dc:creator>Wim E. Crusio</dc:creator>
  <dc:description/>
  <dc:language>en-US</dc:language>
  <cp:lastModifiedBy>Wim E. Crusio</cp:lastModifiedBy>
  <dcterms:modified xsi:type="dcterms:W3CDTF">2004-08-08T02:48:57Z</dcterms:modified>
  <cp:revision>41</cp:revision>
  <dc:subject/>
  <dc:title>Hippocampal regulation of spatial and non-spatial strategies used by inbred mice to solve radial maze probl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36855839</vt:r8>
  </property>
  <property fmtid="{D5CDD505-2E9C-101B-9397-08002B2CF9AE}" pid="3" name="_AuthorEmail">
    <vt:lpwstr>Wim.Crusio@umassmed.edu</vt:lpwstr>
  </property>
  <property fmtid="{D5CDD505-2E9C-101B-9397-08002B2CF9AE}" pid="4" name="_AuthorEmailDisplayName">
    <vt:lpwstr>Crusio, Wim</vt:lpwstr>
  </property>
  <property fmtid="{D5CDD505-2E9C-101B-9397-08002B2CF9AE}" pid="5" name="_EmailSubject">
    <vt:lpwstr>The Tenth International Summer School on Behavioral Neurogenetics</vt:lpwstr>
  </property>
</Properties>
</file>